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636-DD3F-4B1B-81B1-CBD6927B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63F-6A1E-4984-80D4-DB28CD0B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6E0-53A2-41B0-A8A6-E29F7451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401-D833-41D9-8DB3-41EB3A88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B527-985F-4EED-8F48-B085CB21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8D24-B9A7-48AF-82FF-F39E0C4C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1CA-1F1E-4686-A153-60617E9D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981F-D4C0-4752-8963-636A3AF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A969-B450-4A80-8591-8617E864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1841-84AA-4980-9B4A-7E6933D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C6DD-FA1E-4D30-80C8-D814D400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2F7-97FD-40AB-AF05-0125034F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00DD-40FA-482B-A8A7-A2F8FCA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7E2-0EF1-401C-991B-17561CB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E5E6-E002-4ED0-9A91-0117F35A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1CA3-6DAA-4DC3-93BB-37274186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3AB0-614E-478D-B88C-D1C574DA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869A-67FA-458B-A7D0-350A1E2D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6A4E-8015-45CA-AF41-B75A970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B040-8EEE-4528-B63C-9902579E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361E-46B4-40F0-A91E-0FB0ADA6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D4CC-3753-4D03-9B67-E92C37B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91E-E6AB-49F0-8DF8-A4B524A3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76F3-BF5F-48FB-9B87-D0CBC35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8712-A658-4A78-993D-C50F562A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A018-C960-45C6-A0E1-8BC543C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401A-1C80-4ED6-BC85-3AC7993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3C75-39F2-4612-9B75-68CA9F08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CEF4-22DA-43E2-8E44-D2BB8D23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5397-D583-49EE-BD7C-161887E8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AE68-8927-46CC-8AA8-D871886B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D028-008A-429C-A7EE-5CF10981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22F5-814F-48B9-8BBB-E2253F2C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13F-06F8-47D0-9CDB-D63338ED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00A2-C9DB-431A-8D87-22F5181F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8DDE-396C-44BA-BF3E-48519CC8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D78F-5279-4E03-B147-94837F0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5B22-9594-40D7-9463-C98B6E0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40F2-3345-4D3C-A637-D95BDEA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BBD2-B491-4536-B5BB-A8C3660F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7BAB-C992-4C61-A972-3FCFB8A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5EA6-5A85-48F9-9FCF-E649C213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E9FF-B1E1-42F2-A68D-C6EA5F56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3725-BBD1-4699-A0E8-93E5C45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35C-0D22-4AB2-8547-2F96CDB3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FDB5C-E4B8-4D55-BD36-0741E202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8138-1C76-493A-AC4D-94C9BDE3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9C0B-A339-4335-933C-CD54190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27A7-99DA-49F5-8DB4-11C40886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2882-98CC-4180-B4C2-36BAB03B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43D8-42D4-41E8-A3A9-0765B23B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6B50-5017-41A5-8009-214515D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46B6-159B-453B-B105-908B659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6BC2-8E63-4FFF-8322-BA8B32A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4453-5D48-4254-9F6B-C835FD2E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0E1-AECA-4C96-82F5-FD566AB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80303-3897-4C11-9CC9-CAE17DC4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752-0DF8-4647-B6B4-0AA90E3A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D4C-EF7E-42D1-83F8-3669CB3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52C-0324-43CC-8816-773A444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D061-EA91-4B11-AEAB-5F7CD252BE8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8DBA-AE7B-45D8-B9E3-9D03A5BD22C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4B9-16C9-4B1C-ADC7-7CB1FA7301FC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DEF-EFD7-4B2D-B44A-ED8156922B1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B390-8405-4C23-BC1F-8A5782F90B3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عنوان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عنوان 4" descr=""/>
          <p:cNvPicPr/>
          <p:nvPr/>
        </p:nvPicPr>
        <p:blipFill>
          <a:blip r:embed="rId1"/>
          <a:stretch/>
        </p:blipFill>
        <p:spPr>
          <a:xfrm>
            <a:off x="249120" y="1579680"/>
            <a:ext cx="8566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نظر للتعزيز او الثواب على انه ذو فاعلية فى تقليل الاخطاء فى التعلم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هذا الاتجاه بحاجة الى طفل ايجابى لان التدعيم يجب ان يعطى على شىء قام به الطفل و من ثم فان الطفل السلبى يفرض مشكلة على اصحاب هذا الاتجاه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ركز على اسلوب التعلم اكثر من تركيزه على المحتوى , و يتطلب نوع من المحتوى محدد بدقة و محدد النتائج المرجوة منه و من ثم يمكن تجزئته الى اقسام صغير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لموضوعات غير المعروفة النتائج و غير المحددة لا يمكن تعلمها بهذه الطريق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8360" y="23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طلق على هذا الاتجاه لفظ التفاعلى لانه يتضمن وجهتى النظر السابقتين من ان الانسان ينمو جزئيا من الداخل كما ينمو كذلك من الخارج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رون ان النمو يأتى كنتيجة لتفاعل الوراثة و البيئة و لهذا ايضا سميت بالتفاعلي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ما كلمة البنائية فتأتى نتيجة لايمان اصحاب هذا الاتجاه بان المعرفة تبنى و لا تنقل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w Cen MT"/>
                <a:cs typeface="Arial"/>
              </a:rPr>
              <a:t>ركزت نظرية بياجية على الجانب المعرفى من النمو . و رات ان هناك </a:t>
            </a:r>
            <a:r>
              <a:rPr b="0" lang="ar-SA" sz="2400" spc="-1" strike="noStrike">
                <a:solidFill>
                  <a:srgbClr val="ffff00"/>
                </a:solidFill>
                <a:latin typeface="Tw Cen MT"/>
                <a:ea typeface="Arial"/>
              </a:rPr>
              <a:t>4</a:t>
            </a:r>
            <a:r>
              <a:rPr b="0" lang="ar-SA" sz="2400" spc="-1" strike="noStrike">
                <a:solidFill>
                  <a:srgbClr val="ffff00"/>
                </a:solidFill>
                <a:latin typeface="Tw Cen MT"/>
                <a:ea typeface="Arial"/>
              </a:rPr>
              <a:t> عوامل تؤثر على النمو المعرفى :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1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خبرات الطبيعية باستخدام الادوات و الاشياء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2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خبرات الاجتماعية مع الآخرين (حيث تساعد الطفل على الخروج من التمركز حول الذات 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3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نضج او النمو العصبى ( و هو الذى يجعل الانتقال من مرحلة الى اخرى ممكنا )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4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توازن و هو ميكانيزم داخلى , حيث يكون هناك توازن بين العوامل الثلاثة السابقة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لعديد من المناهج التى تطبق نظرية بياجية  تعتمد على عدة مبادىء اساسية 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تاحة فرص التناول اليدوى و التجريب امام الطفل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تاحة بيئة غنية بالفرص للتجريب و التعلم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وجود معلمة يمكنها ان تتفهم و تشخص طبيعة تعلم الطفل و يمكنها ان تتحدى قدراته دون ان تقحم نفسها فى نشاطه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لاخطاء التى يقع فيها الطفل تعتبر ذات اهمية فهى طريقه لاكتساب المعرف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رفض الشرح المباشر فالمعرفة الحقة هى ما يبنيها المتعلم بنفسه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للعب له مكان الصدارة فى تعلم الطفل وليست وظيفته ترفيهي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عنوان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8188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cs typeface="Arial"/>
              </a:rPr>
              <a:t>عرف "كامبل" الاتجاه تعريفا اجرائيا بانه (محصلة دائمة من الاستجابات المتماثلة نحو من المواقف الاجتماعية 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 الحالة الوجدانية القائمة وراء رأي الشخص واعتقاده فيما يتعلق بموضوع معين من حيث رفضه او قبوله ودرجة الرفض والقبول 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 وعرفت الاتجاهات الوالدية بأنها ( مايراه الابوان وما يتمسكان به من اساليب في معاملة الطفل في مواقف الحياة المختلفة 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عنوان 1" descr=""/>
          <p:cNvPicPr/>
          <p:nvPr/>
        </p:nvPicPr>
        <p:blipFill>
          <a:blip r:embed="rId1"/>
          <a:stretch/>
        </p:blipFill>
        <p:spPr>
          <a:xfrm>
            <a:off x="542880" y="32400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rial"/>
              </a:rPr>
              <a:t>فهم الاتجاهات الحديثة والمعاصرة في تربية الطفل في المجالات المختلفة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rial"/>
              </a:rPr>
              <a:t>مهمة في تأثيرها على السلوك التعليمي والتربوي لمعلمات رياض الاطفال والمربيات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rial"/>
              </a:rPr>
              <a:t>الاستفادة من تلك الاتجاهات في وضع برامج ومناهج رياض الاطفال وتجديدها لمواكبة المسيرة الحديثة في التربية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-85680" y="2127240"/>
            <a:ext cx="4902120" cy="18223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2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رى هذا الاتجاه ان نمو الاطفال يأتى من الداخل , اى ان العوامل الوراثية هى التى لها اليد الطولى فى تحديد هذا النمو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ن الطفل يمكنه ان ينمو من تلقاء نفسه اذا ما ترك و شأنه دون تدخل من احد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w Cen MT"/>
                <a:cs typeface="Arial"/>
              </a:rPr>
              <a:t>مثل من ؟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عنوان 3" descr=""/>
          <p:cNvPicPr/>
          <p:nvPr/>
        </p:nvPicPr>
        <p:blipFill>
          <a:blip r:embed="rId1"/>
          <a:stretch/>
        </p:blipFill>
        <p:spPr>
          <a:xfrm>
            <a:off x="542880" y="1195560"/>
            <a:ext cx="82296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عنصر نائب للمحتوى 7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449520" cy="3960720"/>
          </a:xfrm>
          <a:prstGeom prst="rect">
            <a:avLst/>
          </a:prstGeom>
          <a:ln w="0">
            <a:noFill/>
          </a:ln>
        </p:spPr>
      </p:pic>
      <p:pic>
        <p:nvPicPr>
          <p:cNvPr id="401" name="عنصر نائب للمحتوى 6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4825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لرسالة الواضحة التى توجهها هذا الاتجاه للمعلمات و المربين هو الانتظار ريثما يصل الطفل الى نقطة النضج او الاستعداد  و ان الطفل سوف يتعلم فقط حينما يكون مستعدا لذلك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فى هذه الحالة يتم تجميع الاطفال المتشابهين فى القدرات معا حتى تتمكن المعلمة من العمل معهم بنفس الكيفية و بشكل يتفق مع قدراتهم و استعداداتهم , او ان تعمل بصورة فردية مع كل منهم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نجم عن هذا الاتجاه احد امرين كاتاحة بيئة غنية و منظمة و مدعمة لعملية التعلم , و وجود معلمة تعاون الاطفال على الاختيار الحر للانشطة التعلم , او خلق مجموعات متجانسة على اساس القدرات او التحصيل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39640" y="2309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هذه النظرية تعتبر على النقيض من النظريات السبقة الخاصة بالنضج حيث ترى ان القوة الرئيسية وراء النمو تكمن اساسا خارج الطفل و تنبع من البيئة ومن هنا فان النمو و التعلم لا ينفصلان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9:27:11Z</dcterms:created>
  <dc:creator>user</dc:creator>
  <dc:description/>
  <dc:language>en-US</dc:language>
  <cp:lastModifiedBy>Areej Alhwaidi</cp:lastModifiedBy>
  <dcterms:modified xsi:type="dcterms:W3CDTF">2016-10-06T05:42:45Z</dcterms:modified>
  <cp:revision>12</cp:revision>
  <dc:subject/>
  <dc:title>الاتجاهات التربوية الرئيسية فى الطفولة المبكرة </dc:title>
</cp:coreProperties>
</file>