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1C71-9A45-4383-A5DD-A9BE81E9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C17-6E4B-49F1-994C-16E8585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AA1-88C7-44A4-8EF5-F619D17C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52A-2880-4B58-85EC-ECB2352A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B0A9-DCAA-4BF2-BDD2-3AE5F992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D80A-45A2-4BF0-884E-522DE83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5E08-192D-47DD-8679-886FBC3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9CE2-9232-47ED-A1F1-2CE87F49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43EE-0F17-474E-A816-4EC1097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7B69-7937-4DD7-B92E-E1C6E5C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B8DB-F139-473A-969D-E1C981B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0F4-9B0B-420C-8B0F-14DA1F3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4D9D-862E-4334-B4F9-0DBD1DB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9B1-9CFE-4D9E-BD3B-883DE0F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DBF-4899-4523-A2BB-0196F5A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109-F92B-45FB-8A8E-547840D0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6515-B52F-4A7B-85E6-D1B808DE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63E0-328F-490A-B28E-28CBAD4B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062E-FA29-460F-8AB8-774FF5EF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B91D-0459-4DC4-9B0C-50759637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10DF-4ACE-4090-AF1C-B9723D15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607D-C64E-4532-ADEB-55D5C80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1AC-B66E-4D67-A74F-390D8E9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F913-6D97-4ECC-BFE6-84BE56F3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FC5D0-A16F-4C5A-BF1E-A98EA28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A2C5-672D-4D13-B8AA-D2525F0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C011-5989-47FF-A998-9EE8BAC6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F3E6-8A13-4BB5-93C8-17CFD115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BFF3-A292-459B-80A9-8B0D28E4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840F-9C87-409E-A4F9-73B970B6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F52E-EA97-409C-85BE-F196C2C0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DA47-8336-4F3A-9FAB-1E4C451F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C9192-784C-486C-BE5A-EA5DF15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F58-3C2D-4275-9AA6-ED74871E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4FD7-325A-4674-A893-AF23982D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7097-CB53-4AE2-94F1-F617AA74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8E50-BAE2-4A80-82A5-04719EEF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D188-8A53-405D-B6D9-B21026C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D774-FA1F-4ADA-9A56-19567B0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D32F-9AAD-48CE-AD51-BD704E9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29143-5DC0-40FB-B865-1A9586C5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968A-9E20-40E4-AF36-725DD1A7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9B918-1031-4BA5-841E-FD76E456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B2013-3B8A-4782-8CE5-56BFCFB1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C3B-2216-4BE5-B8E3-A8C0CB01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A595-C3FD-4F95-BA82-3501D9F5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DC60-FD4B-4D01-9ED6-301EB825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1AEC-98B8-49A8-B40E-466323C7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1B01-B87A-40B3-BD60-54F0813A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5441-8D8E-49DD-ABE2-8667115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E464-5135-43B4-93F3-0CCBEAC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9EB8-36BD-4B33-AFB4-D97491B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85FBE-4B20-4F22-8395-18F58FA9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D3E0-57FB-4013-84F9-B3BF75C7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E31E-45F2-4F4F-BDE7-0E3DDBDC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C5E-607E-409B-817B-115A690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66605-BE9D-48CE-9878-80818BA2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DA7-724A-4987-AEB5-B3977416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0FB-F934-4AB7-9D69-64F68579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791-CC83-4831-BB8F-36F430E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816A-54E8-464D-B9A2-B45F0B9D46AF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1F49-E931-48C4-84EA-AED30B43B40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48E-C00C-4E62-AD68-2E41DCEDF398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0EBE-4F75-4683-B360-3E3FCA72BE7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DFB2-55B7-4569-A856-B1ED7C8AD02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عنوان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عنوان 4" descr=""/>
          <p:cNvPicPr/>
          <p:nvPr/>
        </p:nvPicPr>
        <p:blipFill>
          <a:blip r:embed="rId1"/>
          <a:stretch/>
        </p:blipFill>
        <p:spPr>
          <a:xfrm>
            <a:off x="249120" y="1579680"/>
            <a:ext cx="8566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نظر للتعزيز او الثواب على انه ذو فاعلية فى تقليل الاخطاء فى التعلم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هذا الاتجاه بحاجة الى طفل ايجابى لان التدعيم يجب ان يعطى على شىء قام به الطفل و من ثم فان الطفل السلبى يفرض مشكلة على اصحاب هذا الاتجاه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ركز على اسلوب التعلم اكثر من تركيزه على المحتوى , و يتطلب نوع من المحتوى محدد بدقة و محدد النتائج المرجوة منه و من ثم يمكن تجزئته الى اقسام صغير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لموضوعات غير المعروفة النتائج و غير المحددة لا يمكن تعلمها بهذه الطريق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68360" y="23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طلق على هذا الاتجاه لفظ التفاعلى لانه يتضمن وجهتى النظر السابقتين من ان الانسان ينمو جزئيا من الداخل كما ينمو كذلك من الخارج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رون ان النمو يأتى كنتيجة لتفاعل الوراثة و البيئة و لهذا ايضا سميت بالتفاعلي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8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ما كلمة البنائية فتأتى نتيجة لايمان اصحاب هذا الاتجاه بان المعرفة تبنى و لا تنقل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w Cen MT"/>
                <a:cs typeface="Arial"/>
              </a:rPr>
              <a:t>ركزت نظرية بياجية على الجانب المعرفى من النمو . و رات ان هناك </a:t>
            </a:r>
            <a:r>
              <a:rPr b="0" lang="ar-SA" sz="2400" spc="-1" strike="noStrike">
                <a:solidFill>
                  <a:srgbClr val="ffff00"/>
                </a:solidFill>
                <a:latin typeface="Tw Cen MT"/>
                <a:ea typeface="Arial"/>
              </a:rPr>
              <a:t>4</a:t>
            </a:r>
            <a:r>
              <a:rPr b="0" lang="ar-SA" sz="2400" spc="-1" strike="noStrike">
                <a:solidFill>
                  <a:srgbClr val="ffff00"/>
                </a:solidFill>
                <a:latin typeface="Tw Cen MT"/>
                <a:ea typeface="Arial"/>
              </a:rPr>
              <a:t> عوامل تؤثر على النمو المعرفى :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1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خبرات الطبيعية باستخدام الادوات و الاشياء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2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خبرات الاجتماعية مع الآخرين (حيث تساعد الطفل على الخروج من التمركز حول الذات 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3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نضج او النمو العصبى ( و هو الذى يجعل الانتقال من مرحلة الى اخرى ممكنا )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4</a:t>
            </a: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- التوازن و هو ميكانيزم داخلى , حيث يكون هناك توازن بين العوامل الثلاثة السابقة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لعديد من المناهج التى تطبق نظرية بياجية  تعتمد على عدة مبادىء اساسية :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تاحة فرص التناول اليدوى و التجريب امام الطفل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تاحة بيئة غنية بالفرص للتجريب و التعلم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وجود معلمة يمكنها ان تتفهم و تشخص طبيعة تعلم الطفل و يمكنها ان تتحدى قدراته دون ان تقحم نفسها فى نشاطه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لاخطاء التى يقع فيها الطفل تعتبر ذات اهمية فهى طريقه لاكتساب المعرف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رفض الشرح المباشر فالمعرفة الحقة هى ما يبنيها المتعلم بنفسه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34360" indent="-23436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w Cen MT"/>
                <a:cs typeface="Arial"/>
              </a:rPr>
              <a:t>اللعب له مكان الصدارة فى تعلم الطفل وليست وظيفته ترفيهية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عنوان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8188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cs typeface="Arial"/>
              </a:rPr>
              <a:t>عرف "كامبل" الاتجاه تعريفا اجرائيا بانه (محصلة دائمة من الاستجابات المتماثلة نحو من المواقف الاجتماعية 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 الحالة الوجدانية القائمة وراء رأي الشخص واعتقاده فيما يتعلق بموضوع معين من حيث رفضه او قبوله ودرجة الرفض والقبول 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fe6d0"/>
                </a:solidFill>
                <a:latin typeface="Tw Cen MT"/>
                <a:ea typeface="Arial"/>
              </a:rPr>
              <a:t> وعرفت الاتجاهات الوالدية بأنها ( مايراه الابوان وما يتمسكان به من اساليب في معاملة الطفل في مواقف الحياة المختلفة 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عنوان 1" descr=""/>
          <p:cNvPicPr/>
          <p:nvPr/>
        </p:nvPicPr>
        <p:blipFill>
          <a:blip r:embed="rId1"/>
          <a:stretch/>
        </p:blipFill>
        <p:spPr>
          <a:xfrm>
            <a:off x="542880" y="324000"/>
            <a:ext cx="8485200" cy="19126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rial"/>
              </a:rPr>
              <a:t>فهم الاتجاهات الحديثة والمعاصرة في تربية الطفل في المجالات المختلفة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rial"/>
              </a:rPr>
              <a:t>مهمة في تأثيرها على السلوك التعليمي والتربوي لمعلمات رياض الاطفال والمربيات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rial"/>
              </a:rPr>
              <a:t>الاستفادة من تلك الاتجاهات في وضع برامج ومناهج رياض الاطفال وتجديدها لمواكبة المسيرة الحديثة في التربية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-85680" y="2127240"/>
            <a:ext cx="4902120" cy="18223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2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رى هذا الاتجاه ان نمو الاطفال يأتى من الداخل , اى ان العوامل الوراثية هى التى لها اليد الطولى فى تحديد هذا النمو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ن الطفل يمكنه ان ينمو من تلقاء نفسه اذا ما ترك و شأنه دون تدخل من احد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ct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w Cen MT"/>
                <a:cs typeface="Arial"/>
              </a:rPr>
              <a:t>مثل من ؟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عنوان 3" descr=""/>
          <p:cNvPicPr/>
          <p:nvPr/>
        </p:nvPicPr>
        <p:blipFill>
          <a:blip r:embed="rId1"/>
          <a:stretch/>
        </p:blipFill>
        <p:spPr>
          <a:xfrm>
            <a:off x="542880" y="1195560"/>
            <a:ext cx="82296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عنصر نائب للمحتوى 7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449520" cy="3960720"/>
          </a:xfrm>
          <a:prstGeom prst="rect">
            <a:avLst/>
          </a:prstGeom>
          <a:ln w="0">
            <a:noFill/>
          </a:ln>
        </p:spPr>
      </p:pic>
      <p:pic>
        <p:nvPicPr>
          <p:cNvPr id="401" name="عنصر نائب للمحتوى 6" descr=""/>
          <p:cNvPicPr/>
          <p:nvPr/>
        </p:nvPicPr>
        <p:blipFill>
          <a:blip r:embed="rId2"/>
          <a:stretch/>
        </p:blipFill>
        <p:spPr>
          <a:xfrm>
            <a:off x="4067280" y="1125360"/>
            <a:ext cx="4825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الرسالة الواضحة التى توجهها هذا الاتجاه للمعلمات و المربين هو الانتظار ريثما يصل الطفل الى نقطة النضج او الاستعداد  و ان الطفل سوف يتعلم فقط حينما يكون مستعدا لذلك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فى هذه الحالة يتم تجميع الاطفال المتشابهين فى القدرات معا حتى تتمكن المعلمة من العمل معهم بنفس الكيفية و بشكل يتفق مع قدراتهم و استعداداتهم , او ان تعمل بصورة فردية مع كل منهم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ينجم عن هذا الاتجاه احد امرين كاتاحة بيئة غنية و منظمة و مدعمة لعملية التعلم , و وجود معلمة تعاون الاطفال على الاختيار الحر للانشطة التعلم , او خلق مجموعات متجانسة على اساس القدرات او التحصيل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39640" y="2309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fe6d0"/>
                </a:solidFill>
                <a:latin typeface="Tw Cen MT"/>
                <a:cs typeface="Arial"/>
              </a:rPr>
              <a:t>هذه النظرية تعتبر على النقيض من النظريات السبقة الخاصة بالنضج حيث ترى ان القوة الرئيسية وراء النمو تكمن اساسا خارج الطفل و تنبع من البيئة ومن هنا فان النمو و التعلم لا ينفصلان </a:t>
            </a:r>
            <a:endParaRPr b="0" lang="en-US" sz="28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9:27:11Z</dcterms:created>
  <dc:creator>user</dc:creator>
  <dc:description/>
  <dc:language>en-US</dc:language>
  <cp:lastModifiedBy>Areej Alhwaidi</cp:lastModifiedBy>
  <dcterms:modified xsi:type="dcterms:W3CDTF">2016-10-06T05:42:45Z</dcterms:modified>
  <cp:revision>12</cp:revision>
  <dc:subject/>
  <dc:title>الاتجاهات التربوية الرئيسية فى الطفولة المبكرة </dc:title>
</cp:coreProperties>
</file>