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4A4-EB09-4F12-8052-342867D2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D86-58A9-4FC5-B5AE-2C27F52E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91A4C-D09D-4149-9384-179D704A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8D58B-F6FC-468C-B9F8-76B29F43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EEC22-B250-41D7-A5D3-E41EE29D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346FD-6291-4355-A404-8DC02FF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280C6-99D0-44CC-BE22-CC370C2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4E97C-21F2-498D-BB8F-DFAAF29C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7F2D1-BBF6-4298-A48D-CC3CD2F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DEA5C-B9D7-49E9-A9CF-5102968E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2AED7-C836-4890-A5A7-15618A0A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55736-3AF9-4BC1-978D-E1C478DF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415-374B-4A08-80F8-50A6DC9F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5C177D-D328-413C-835C-7C678EC5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CFF1EC-18D1-41A1-977A-50D18751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EBF9D4-4A8F-4B00-BAB7-E69EDFD8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7C5668-1109-4703-94EF-EAFE4272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570023-2CC8-4073-B134-2407EFD0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C091DA-14AF-4592-9D22-89C8B81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A470BB-5EA1-4A34-B8F5-FE972FB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83FB0-32C8-42D4-B12E-5A82727E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5E6CBF-6251-482A-A0D4-A3CEFB8F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A91D1B-CE65-4E15-9BC1-1453A4FF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CA2-9D8A-49D2-BCB5-36E3822A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D55C27-6B79-4AF4-9F57-1BB092FE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FD0EC-3907-4BBB-9977-79399768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1B2D2-AF9C-4F0D-B1B3-F7C8E433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AF316-8BE1-4A66-8411-5E091CAF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228CC-1095-4751-84CC-FC1683A5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F1B2C-963F-46FD-82B7-F46BF8D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213C8-6D07-4733-BB89-1CEC5577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B997D-953D-48CD-B3EE-B558CE97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0149B-DDCF-46C3-A103-6B7BC73B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3F082-45CB-43B7-B6D3-2A117A79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9900-CDB7-4483-A88C-C23D1DCF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21CE4-A489-4A11-9865-3DDA5EE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6F06D-E440-49DA-A26D-84365CD6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69572-9042-478B-A962-543C7B82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622F3-094B-4C00-A633-3CE7F947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F884A-3CF8-4EFA-B1FE-D8A99135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8FF6F-FB3D-4D4D-8C50-24782545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8447A-0D49-4008-9EA6-52C5C919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159F1-2574-4F97-B19C-A6014F03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AC361-F8D8-4A72-ACE0-6CDB31D5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680FE-76A9-4683-9CA5-A16AE63E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2E03-76EE-4650-93B7-7668A31B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11F10-653F-481D-946A-8A52151F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2E705-3B83-4292-A40F-339285A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C4110-012C-4437-B40E-04DF5F63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B8C69-F5F1-44EB-B407-95F6512F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4E069-B499-4298-A792-1EBCD289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0770-445C-48BE-A94F-FC3F4CB8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D105-1E1A-4897-B244-1C608845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7E16-A07A-4D7F-9D01-FAAA9158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BEB4-C46A-4C0E-9A5E-0718A43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7531-936B-47A4-A864-D91D28E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0E6-3F7C-48D4-A164-F8B4A346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563F-3C47-49B9-8184-96C932FC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C3F1-F68F-41B3-B0F8-5FFAC7B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7F06-9053-4999-9DAD-90449052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1C2C-0F20-4DD0-8652-8BECDE12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680C-5E2B-45BF-8C84-512E2E3B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E96C-A666-49AF-8A5B-BA4F68DE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BFF3-07E4-4AE3-861D-D9C02568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9E77-DB85-4813-82FB-29D9F0A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23AD-555E-4B25-BE3C-1699C2EA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E35C0-5AA1-496A-B96E-0C20E24F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534-01A9-44B8-9CF1-68E7C1BE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9C45-0B15-48B2-90FB-56F3B174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1937-A186-4090-9776-31989E12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3A11-B0FD-4ADF-829F-03978FA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1D3E-E4E6-4B70-BEAC-96BD32F7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1178-F570-4436-80E5-7705AA0F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CD5C-FD14-4C14-8982-33910879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EDF1-521B-4141-9551-099687EF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1A22A-B765-463F-8999-0AECD5DA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CA6E2-CFFE-40F3-913D-1227FBFE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F647F-BA42-48A6-9CB7-628339E5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ACE-5C81-4321-A84F-A41EA7D4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62B0F-A709-4B58-8863-7349DF7B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0F070-F4FC-4BF2-9B40-54354A2D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C7705-C5F5-47FB-8CE0-A768C61B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7B99A9-4D95-472C-9F11-1A9562CC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3F0FD-FBE2-4594-B578-0A0914A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0689D-8169-44E0-BFC7-09F03E9C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F1C11-97CF-486D-AB2A-47DD5BE0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A82DD-7572-49D6-AD91-6E31875C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58A2D-468C-49E1-B81A-7CE3FBA1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4846A-7AC1-48DB-B283-35EFF831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B3F-2047-4628-8CFD-857D1FE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71B54-2460-4F0E-9276-CC9AB52F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4FE07-A297-46FC-95BB-6E72C45B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F8269-6C0E-4BBC-B124-CC94EEFE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ACD8C-E2F6-49B3-9C92-F7354560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6E1FF-0E16-4573-AA25-EF1D5F62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2ADAE-41AB-4C10-8ECB-89F7A6F6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5323E-52A7-4EE2-B425-B4597A4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956D3-53C4-4CFD-BC39-B3B7FDFC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64513-B49D-4CDF-B796-AC537488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AB6C4-6DAF-4206-BA02-39FB26E1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9EC-00E7-439F-8C97-DFF0F693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73BA0-0042-45FB-B773-EFFACE19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5427C-91FE-46C7-BA77-ACB01F81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69F6A-DEB8-4845-A046-6669B005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92A4B-80EE-417F-B9AA-338AD6B4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85C3B-0B65-4A07-A93A-0A2CFB72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2E11E-F044-4593-A182-30CED84B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F55D5-AB60-429C-A81D-85F7D044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F3303-0B9C-4FF1-B7A4-AACC8D6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30D85-8BAF-471A-BBFD-30726837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F12D1-FC87-4CC7-B6E4-1777EBC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C1A-B322-408F-AC0F-714620DE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8DEDB-68E0-4A88-B506-F911D586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C86FC-FA24-4B74-BFE8-23CE1AC5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CF4EC-8873-414D-A475-B809E93B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7383-B6AF-4D93-869B-5A7AFC5A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A4F61-3736-4349-973A-CF70754E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441BD-EA40-4975-95A6-75B8B4C8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40D9B-D51A-441C-B53A-5090E065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E9B4F-6A51-426D-B381-FF1D0F66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89B68-AE3E-4FC2-BCD3-C8E1843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249C9-51FE-4B46-9205-0E3F9EC6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776-3CEE-48ED-A9CB-5128F52D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04209-7276-4363-BE18-ED00BEF1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60ED4-4852-4585-9C47-1704361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27BCB-ACE7-4016-86AF-17B78807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27C0-BED0-4CF9-A57C-5F5B74D2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6194-6C75-47C8-8201-DFE74CFC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E6FED-0D08-4FBA-896E-645FDFF7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418FD-628F-462E-820C-8453F47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08A60-9D68-4020-A4CB-E712A52C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E2B68-59B3-40BF-B68F-7DEC437D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B594C-9F4E-40FD-B1C5-7C9E79AC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3A5-10D6-4B63-BCF0-FFEB04A5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07971-3523-42FC-B9BB-E2344698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9B26E-F018-4A20-8326-737C92B7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5501D-5155-4C81-9C78-C9E379C5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65139-E6B2-4776-8501-37ED53B1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40C2E-8C53-4423-BD53-A91F0BBF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7C9E4-19A8-4047-87D5-DFB49995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2DE4-07F1-40D4-8FC2-2D709C19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8C097-8973-492C-8F95-42AAA488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A7475-B7FC-477E-BE0F-FB4AD2A4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1D10F-C5E5-4BFE-84AC-EA70759F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5056-5567-4254-A438-8EBED20595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63B-CEFD-4D4F-9549-5B78778B0CC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DD6D-31E5-495B-B7D3-0672A3C621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235A-6BDD-44EA-8B18-32CB28909F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F990-626A-4FCE-87DA-D1A6F2A1640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AC5F-B579-43E4-9406-FA6438DA0B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5A28-095C-431D-A5A9-B7831F1C717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E69F-13F9-4879-80AC-6968A1B16E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0E3F-BC66-4C60-BCF2-582465CD9B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0C8A-101A-4755-AFE3-7DD5CD0C31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4146-EF2E-4A0E-B33B-4C21EBAF7EA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BBCB-09F1-4AA5-824F-0A86BD8882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4240" y="214308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Traditional Arabic"/>
                <a:cs typeface="AL-Mohanad"/>
              </a:rPr>
              <a:t>التعليم المبرمج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568" name="صورة 4" descr="12121.jpg"/>
          <p:cNvPicPr/>
          <p:nvPr/>
        </p:nvPicPr>
        <p:blipFill>
          <a:blip r:embed="rId1"/>
          <a:stretch/>
        </p:blipFill>
        <p:spPr>
          <a:xfrm>
            <a:off x="324000" y="260280"/>
            <a:ext cx="2234880" cy="1152720"/>
          </a:xfrm>
          <a:prstGeom prst="rect">
            <a:avLst/>
          </a:prstGeom>
          <a:ln w="0">
            <a:noFill/>
          </a:ln>
        </p:spPr>
      </p:pic>
      <p:pic>
        <p:nvPicPr>
          <p:cNvPr id="569" name="صورة 5" descr="imagesCA0WNU2D.jpg"/>
          <p:cNvPicPr/>
          <p:nvPr/>
        </p:nvPicPr>
        <p:blipFill>
          <a:blip r:embed="rId2"/>
          <a:stretch/>
        </p:blipFill>
        <p:spPr>
          <a:xfrm>
            <a:off x="6083280" y="3645000"/>
            <a:ext cx="3060720" cy="2376360"/>
          </a:xfrm>
          <a:prstGeom prst="rect">
            <a:avLst/>
          </a:prstGeom>
          <a:ln w="0">
            <a:noFill/>
          </a:ln>
        </p:spPr>
      </p:pic>
      <p:sp>
        <p:nvSpPr>
          <p:cNvPr id="570" name="مستطيل 6"/>
          <p:cNvSpPr/>
          <p:nvPr/>
        </p:nvSpPr>
        <p:spPr>
          <a:xfrm>
            <a:off x="6227640" y="260280"/>
            <a:ext cx="27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المملكة العربية السعودية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كلية الترب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مناهج وطرق التدري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صفات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قسم البرنامج إلى وحدات صغيرة تدعى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Traditional Arabic"/>
                <a:cs typeface="Traditional Arabic"/>
              </a:rPr>
              <a:t>إطارات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و لكل منها صفات عامة ه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7b3d17"/>
                </a:solidFill>
                <a:uFillTx/>
                <a:latin typeface="Traditional Arabic"/>
                <a:cs typeface="Traditional Arabic"/>
              </a:rPr>
              <a:t>الإطارات التعليمية</a:t>
            </a: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ea typeface="Traditional Arabic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عبارة عن إطارات تقدم معلومات جديدة للمتعلم و أسئلة عليها و الإجابة الصحيحة على تلك الأسئل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7b3d17"/>
                </a:solidFill>
                <a:uFillTx/>
                <a:latin typeface="Traditional Arabic"/>
                <a:cs typeface="Traditional Arabic"/>
              </a:rPr>
              <a:t>إطارات تقدم أسئلة</a:t>
            </a: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ea typeface="Traditional Arabic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ن أجل إظهار مدى فهم المتعلم للمعلومات التي أعطيت في نفس الإطار أو إطار سابق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7b3d17"/>
                </a:solidFill>
                <a:uFillTx/>
                <a:latin typeface="Traditional Arabic"/>
                <a:cs typeface="Traditional Arabic"/>
              </a:rPr>
              <a:t>إطارات تقدم الإجابة الصحيحة</a:t>
            </a: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ea typeface="Traditional Arab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لجعل المتعلم يتأكد من الإجابة الصحيحة، و قد تكون الإجابة أسفل الإطار تحت خط متقطع أو خلف الصفحة و ذلك لمنع المتعلم من رؤية الإجابة قبل تقديم إجابته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1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79280" y="1628280"/>
            <a:ext cx="8569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رسوم هي تلك التخطيطات اليدوية التي يقوم بها المتعلم لإنتاج نسخ أخرى للأصل قد تكون أكبر أو أصغر أو مساوية له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ضع علامة (</a:t>
            </a: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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) في المربع أمام الإجابة الصحيحة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خطيطات اليدوية التي يقوم بها المتعلم لإنتاج نسخ أخرى للأصل قد تكون أكبر أو أصغر أو مساوية له تسمى :-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صو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رسو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ألوان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كتابة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صو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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- الرسو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ألوان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كتابة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*تأكد من الإجابة الصحيحة.</a:t>
            </a:r>
            <a:r>
              <a:rPr b="0" lang="en-US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*انتقل إلى الإطار التالي.</a:t>
            </a:r>
            <a:r>
              <a:rPr b="0" lang="en-US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2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3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83534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4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425080" cy="4824360"/>
          </a:xfrm>
          <a:prstGeom prst="rect">
            <a:avLst/>
          </a:prstGeom>
          <a:ln w="0">
            <a:noFill/>
          </a:ln>
        </p:spPr>
      </p:pic>
      <p:sp>
        <p:nvSpPr>
          <p:cNvPr id="610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ثال لإطار يقدم أسئلة و إجابة صحيحة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5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704000" cy="4680000"/>
          </a:xfrm>
          <a:prstGeom prst="rect">
            <a:avLst/>
          </a:prstGeom>
          <a:ln w="0">
            <a:noFill/>
          </a:ln>
        </p:spPr>
      </p:pic>
      <p:sp>
        <p:nvSpPr>
          <p:cNvPr id="61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6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864072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7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99128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75f55"/>
                </a:solidFill>
                <a:latin typeface="Tw Cen MT"/>
              </a:rPr>
              <a:t>نموذج لمجموعة من الإطارات في البرنامج المتفرع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77564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15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75f55"/>
                </a:solidFill>
                <a:latin typeface="Tw Cen MT"/>
              </a:rPr>
              <a:t>نموذج لمجموعة من الإطارات في البرنامج المتفرع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27236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لمحة تاريخية عن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الجذور العلمية التي اعتمد عليها التعليم المبرمج ترجع إلى عصر أفلاطون الذي وضع مبادئ هامة مثل :الإجابة النشطة و الخطوات الصغيرة و الإجابة الفورية و التي أصبحت من أهم المبادئ التي يقوم عليها التعليم المبرمج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في العام </a:t>
            </a: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1925</a:t>
            </a: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م قام عالم النفس الأمريكي (سيدني بيرسي) باختراع آلة صغيرة لتصحيح الاختبارات ذاتياً و تحتوي على إجابات متعددة و تمكن المتعلم من خلالها أن يكتشف أخطاءه و يعمل على تصحيحها و تقويمها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استغل عالم النفس (سكنر) تلك الخطوات الصغيرة و استند إلى تقسيم المادة التعليمية إلى وحدات صغيرة و إلى ترابط هذه الوحدات و صياغتها و التدرج فيها من السهولة إلى الصعوبة، وبذلك وضع أسس المرحلة الثانية من تطور التعليم المبرمج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التعليم المبرمج لم يظهر بشكله المعروف إلا في الخمسينيات من القرن العشرين.</a:t>
            </a:r>
            <a:r>
              <a:rPr b="0" lang="en-US" sz="19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نواع برامج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95280" y="1413000"/>
            <a:ext cx="8229600" cy="73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- </a:t>
            </a: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البرنامج الخطي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هو البرنامج الذي يسير إلى الأمام أو إلى الخلف بتوالي و تتابع و عادة ما يكون ذلك بتتبع الأسهم أو إتباع التعليمات المعطا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24" name="Group 4"/>
          <p:cNvGrpSpPr/>
          <p:nvPr/>
        </p:nvGrpSpPr>
        <p:grpSpPr>
          <a:xfrm>
            <a:off x="324000" y="3357360"/>
            <a:ext cx="8495640" cy="2143080"/>
            <a:chOff x="324000" y="3357360"/>
            <a:chExt cx="8495640" cy="2143080"/>
          </a:xfrm>
        </p:grpSpPr>
        <p:grpSp>
          <p:nvGrpSpPr>
            <p:cNvPr id="625" name="Group 5"/>
            <p:cNvGrpSpPr/>
            <p:nvPr/>
          </p:nvGrpSpPr>
          <p:grpSpPr>
            <a:xfrm>
              <a:off x="324000" y="3949200"/>
              <a:ext cx="8495640" cy="971640"/>
              <a:chOff x="324000" y="3949200"/>
              <a:chExt cx="8495640" cy="971640"/>
            </a:xfrm>
          </p:grpSpPr>
          <p:sp>
            <p:nvSpPr>
              <p:cNvPr id="626" name="Rectangle 6"/>
              <p:cNvSpPr/>
              <p:nvPr/>
            </p:nvSpPr>
            <p:spPr>
              <a:xfrm>
                <a:off x="829692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7" name="AutoShape 7"/>
              <p:cNvCxnSpPr/>
              <p:nvPr/>
            </p:nvCxnSpPr>
            <p:spPr>
              <a:xfrm flipH="1">
                <a:off x="782244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8" name="Rectangle 8"/>
              <p:cNvSpPr/>
              <p:nvPr/>
            </p:nvSpPr>
            <p:spPr>
              <a:xfrm>
                <a:off x="730044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9" name="AutoShape 9"/>
              <p:cNvCxnSpPr/>
              <p:nvPr/>
            </p:nvCxnSpPr>
            <p:spPr>
              <a:xfrm flipH="1">
                <a:off x="682596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0" name="Rectangle 10"/>
              <p:cNvSpPr/>
              <p:nvPr/>
            </p:nvSpPr>
            <p:spPr>
              <a:xfrm>
                <a:off x="630360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1" name="AutoShape 11"/>
              <p:cNvCxnSpPr/>
              <p:nvPr/>
            </p:nvCxnSpPr>
            <p:spPr>
              <a:xfrm flipH="1">
                <a:off x="582948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2" name="Rectangle 12"/>
              <p:cNvSpPr/>
              <p:nvPr/>
            </p:nvSpPr>
            <p:spPr>
              <a:xfrm>
                <a:off x="530712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3" name="AutoShape 13"/>
              <p:cNvCxnSpPr/>
              <p:nvPr/>
            </p:nvCxnSpPr>
            <p:spPr>
              <a:xfrm flipH="1">
                <a:off x="483264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4" name="Rectangle 14"/>
              <p:cNvSpPr/>
              <p:nvPr/>
            </p:nvSpPr>
            <p:spPr>
              <a:xfrm>
                <a:off x="431028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5" name="AutoShape 15"/>
              <p:cNvCxnSpPr/>
              <p:nvPr/>
            </p:nvCxnSpPr>
            <p:spPr>
              <a:xfrm flipH="1">
                <a:off x="383616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6" name="Rectangle 16"/>
              <p:cNvSpPr/>
              <p:nvPr/>
            </p:nvSpPr>
            <p:spPr>
              <a:xfrm>
                <a:off x="331380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7" name="AutoShape 17"/>
              <p:cNvCxnSpPr/>
              <p:nvPr/>
            </p:nvCxnSpPr>
            <p:spPr>
              <a:xfrm flipH="1">
                <a:off x="283932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8" name="Rectangle 18"/>
              <p:cNvSpPr/>
              <p:nvPr/>
            </p:nvSpPr>
            <p:spPr>
              <a:xfrm>
                <a:off x="231696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9" name="AutoShape 19"/>
              <p:cNvCxnSpPr/>
              <p:nvPr/>
            </p:nvCxnSpPr>
            <p:spPr>
              <a:xfrm flipH="1">
                <a:off x="184284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40" name="Rectangle 20"/>
              <p:cNvSpPr/>
              <p:nvPr/>
            </p:nvSpPr>
            <p:spPr>
              <a:xfrm>
                <a:off x="1320480" y="405756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1" name="AutoShape 21"/>
              <p:cNvCxnSpPr/>
              <p:nvPr/>
            </p:nvCxnSpPr>
            <p:spPr>
              <a:xfrm flipH="1">
                <a:off x="846000" y="453384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42" name="Rectangle 22"/>
              <p:cNvSpPr/>
              <p:nvPr/>
            </p:nvSpPr>
            <p:spPr>
              <a:xfrm>
                <a:off x="324000" y="405756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23"/>
            <p:cNvGrpSpPr/>
            <p:nvPr/>
          </p:nvGrpSpPr>
          <p:grpSpPr>
            <a:xfrm>
              <a:off x="566280" y="3357360"/>
              <a:ext cx="7972920" cy="699840"/>
              <a:chOff x="566280" y="3357360"/>
              <a:chExt cx="7972920" cy="699840"/>
            </a:xfrm>
          </p:grpSpPr>
          <p:cxnSp>
            <p:nvCxnSpPr>
              <p:cNvPr id="644" name="AutoShape 24"/>
              <p:cNvCxnSpPr/>
              <p:nvPr/>
            </p:nvCxnSpPr>
            <p:spPr>
              <a:xfrm flipH="1" flipV="1">
                <a:off x="8529480" y="3359880"/>
                <a:ext cx="10080" cy="55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AutoShape 25"/>
              <p:cNvCxnSpPr/>
              <p:nvPr/>
            </p:nvCxnSpPr>
            <p:spPr>
              <a:xfrm rot="10800000">
                <a:off x="575280" y="3357000"/>
                <a:ext cx="7956360" cy="2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6" name="AutoShape 26"/>
              <p:cNvCxnSpPr/>
              <p:nvPr/>
            </p:nvCxnSpPr>
            <p:spPr>
              <a:xfrm>
                <a:off x="566280" y="3357360"/>
                <a:ext cx="1800" cy="70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47" name="Group 27"/>
            <p:cNvGrpSpPr/>
            <p:nvPr/>
          </p:nvGrpSpPr>
          <p:grpSpPr>
            <a:xfrm>
              <a:off x="585360" y="4800600"/>
              <a:ext cx="7972920" cy="699840"/>
              <a:chOff x="585360" y="4800600"/>
              <a:chExt cx="7972920" cy="699840"/>
            </a:xfrm>
          </p:grpSpPr>
          <p:cxnSp>
            <p:nvCxnSpPr>
              <p:cNvPr id="648" name="AutoShape 28"/>
              <p:cNvCxnSpPr/>
              <p:nvPr/>
            </p:nvCxnSpPr>
            <p:spPr>
              <a:xfrm>
                <a:off x="585360" y="4939200"/>
                <a:ext cx="10080" cy="55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9" name="AutoShape 29"/>
              <p:cNvCxnSpPr/>
              <p:nvPr/>
            </p:nvCxnSpPr>
            <p:spPr>
              <a:xfrm>
                <a:off x="593280" y="5497920"/>
                <a:ext cx="7956360" cy="2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0" name="AutoShape 30"/>
              <p:cNvCxnSpPr/>
              <p:nvPr/>
            </p:nvCxnSpPr>
            <p:spPr>
              <a:xfrm flipH="1" flipV="1">
                <a:off x="8556840" y="4800600"/>
                <a:ext cx="1800" cy="70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51" name="مستطيل 30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مستطيل 30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9"/>
          <p:cNvSpPr/>
          <p:nvPr/>
        </p:nvSpPr>
        <p:spPr>
          <a:xfrm>
            <a:off x="142920" y="49824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d4500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5d4500"/>
                </a:solidFill>
                <a:latin typeface="Traditional Arabic"/>
                <a:ea typeface="Traditional Arabic"/>
              </a:rPr>
              <a:t>- البرنامج المتفرع (</a:t>
            </a:r>
            <a:r>
              <a:rPr b="1" lang="en-US" sz="2400" spc="-1" strike="noStrike">
                <a:solidFill>
                  <a:srgbClr val="5d4500"/>
                </a:solidFill>
                <a:latin typeface="Traditional Arabic"/>
                <a:ea typeface="Traditional Arabic"/>
              </a:rPr>
              <a:t>Program Branching</a:t>
            </a:r>
            <a:r>
              <a:rPr b="1" lang="ar-SA" sz="2400" spc="-1" strike="noStrike">
                <a:solidFill>
                  <a:srgbClr val="5d4500"/>
                </a:solidFill>
                <a:latin typeface="Traditional Arabic"/>
                <a:ea typeface="Traditional Arabic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ختلف عن البرنامج الخطي في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توي الإطارات على معلومات أكبر من إطارات البرنامج الخط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ا تحتوي الإطارات على الإجابة الصحيحة بل بدلاً من ذلك إذا كانت الإجابة صحيحة يعطي معلومات جديدة في إطار جديد و إذا أخطأ المتعلم يرجع إلى الإطار السابق و هكذ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ا يهم الترتيب و التوالي في الانتقال من إطار إلى إطار آخ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تخدم هذا النوع على سبيل المثال في ماكينات التعلم و الحاسب الآلي وبرامج الألعاب ومثال على البرنامج المتفرع ما يلي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6"/>
          <p:cNvGrpSpPr/>
          <p:nvPr/>
        </p:nvGrpSpPr>
        <p:grpSpPr>
          <a:xfrm>
            <a:off x="395280" y="4643280"/>
            <a:ext cx="8497800" cy="1785600"/>
            <a:chOff x="395280" y="4643280"/>
            <a:chExt cx="8497800" cy="1785600"/>
          </a:xfrm>
        </p:grpSpPr>
        <p:sp>
          <p:nvSpPr>
            <p:cNvPr id="655" name="Rectangle 7"/>
            <p:cNvSpPr/>
            <p:nvPr/>
          </p:nvSpPr>
          <p:spPr>
            <a:xfrm>
              <a:off x="3723120" y="5275080"/>
              <a:ext cx="523080" cy="4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Group 8"/>
            <p:cNvGrpSpPr/>
            <p:nvPr/>
          </p:nvGrpSpPr>
          <p:grpSpPr>
            <a:xfrm>
              <a:off x="395280" y="4643280"/>
              <a:ext cx="8497800" cy="1785600"/>
              <a:chOff x="395280" y="4643280"/>
              <a:chExt cx="8497800" cy="1785600"/>
            </a:xfrm>
          </p:grpSpPr>
          <p:grpSp>
            <p:nvGrpSpPr>
              <p:cNvPr id="657" name="Group 9"/>
              <p:cNvGrpSpPr/>
              <p:nvPr/>
            </p:nvGrpSpPr>
            <p:grpSpPr>
              <a:xfrm>
                <a:off x="6385320" y="4643280"/>
                <a:ext cx="2507760" cy="1083600"/>
                <a:chOff x="6385320" y="4643280"/>
                <a:chExt cx="2507760" cy="1083600"/>
              </a:xfrm>
            </p:grpSpPr>
            <p:sp>
              <p:nvSpPr>
                <p:cNvPr id="658" name="Rectangle 10"/>
                <p:cNvSpPr/>
                <p:nvPr/>
              </p:nvSpPr>
              <p:spPr>
                <a:xfrm>
                  <a:off x="8370000" y="530712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59" name="AutoShape 11"/>
                <p:cNvCxnSpPr/>
                <p:nvPr/>
              </p:nvCxnSpPr>
              <p:spPr>
                <a:xfrm flipH="1">
                  <a:off x="6385320" y="5538240"/>
                  <a:ext cx="19846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60" name="AutoShape 12"/>
                <p:cNvCxnSpPr/>
                <p:nvPr/>
              </p:nvCxnSpPr>
              <p:spPr>
                <a:xfrm flipH="1" flipV="1">
                  <a:off x="7737120" y="4934160"/>
                  <a:ext cx="830160" cy="36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1" name="Rectangle 13"/>
                <p:cNvSpPr/>
                <p:nvPr/>
              </p:nvSpPr>
              <p:spPr>
                <a:xfrm>
                  <a:off x="7214400" y="464328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2" name="AutoShape 14"/>
                <p:cNvCxnSpPr/>
                <p:nvPr/>
              </p:nvCxnSpPr>
              <p:spPr>
                <a:xfrm>
                  <a:off x="7541280" y="5062680"/>
                  <a:ext cx="838800" cy="336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663" name="Group 15"/>
              <p:cNvGrpSpPr/>
              <p:nvPr/>
            </p:nvGrpSpPr>
            <p:grpSpPr>
              <a:xfrm>
                <a:off x="4221360" y="4683600"/>
                <a:ext cx="2992680" cy="1745280"/>
                <a:chOff x="4221360" y="4683600"/>
                <a:chExt cx="2992680" cy="1745280"/>
              </a:xfrm>
            </p:grpSpPr>
            <p:sp>
              <p:nvSpPr>
                <p:cNvPr id="664" name="Rectangle 16"/>
                <p:cNvSpPr/>
                <p:nvPr/>
              </p:nvSpPr>
              <p:spPr>
                <a:xfrm>
                  <a:off x="5862600" y="531504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Rectangle 17"/>
                <p:cNvSpPr/>
                <p:nvPr/>
              </p:nvSpPr>
              <p:spPr>
                <a:xfrm>
                  <a:off x="6690960" y="600912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6" name="AutoShape 18"/>
                <p:cNvCxnSpPr/>
                <p:nvPr/>
              </p:nvCxnSpPr>
              <p:spPr>
                <a:xfrm flipH="1">
                  <a:off x="4221360" y="5538600"/>
                  <a:ext cx="1641240" cy="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67" name="AutoShape 19"/>
                <p:cNvCxnSpPr/>
                <p:nvPr/>
              </p:nvCxnSpPr>
              <p:spPr>
                <a:xfrm flipH="1" flipV="1">
                  <a:off x="6384960" y="5727600"/>
                  <a:ext cx="474120" cy="27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8" name="Rectangle 20"/>
                <p:cNvSpPr/>
                <p:nvPr/>
              </p:nvSpPr>
              <p:spPr>
                <a:xfrm>
                  <a:off x="4764600" y="468360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9" name="AutoShape 21"/>
                <p:cNvCxnSpPr/>
                <p:nvPr/>
              </p:nvCxnSpPr>
              <p:spPr>
                <a:xfrm flipH="1" flipV="1">
                  <a:off x="5286960" y="4885200"/>
                  <a:ext cx="784440" cy="421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0" name="Rectangle 22"/>
                <p:cNvSpPr/>
                <p:nvPr/>
              </p:nvSpPr>
              <p:spPr>
                <a:xfrm>
                  <a:off x="4764600" y="599868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71" name="AutoShape 23"/>
                <p:cNvCxnSpPr/>
                <p:nvPr/>
              </p:nvCxnSpPr>
              <p:spPr>
                <a:xfrm>
                  <a:off x="5085360" y="5092560"/>
                  <a:ext cx="777600" cy="307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2" name="AutoShape 24"/>
                <p:cNvCxnSpPr/>
                <p:nvPr/>
              </p:nvCxnSpPr>
              <p:spPr>
                <a:xfrm>
                  <a:off x="6121080" y="5748480"/>
                  <a:ext cx="570240" cy="295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3" name="AutoShape 25"/>
                <p:cNvCxnSpPr/>
                <p:nvPr/>
              </p:nvCxnSpPr>
              <p:spPr>
                <a:xfrm flipV="1">
                  <a:off x="5287680" y="5747760"/>
                  <a:ext cx="636480" cy="457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4" name="AutoShape 26"/>
                <p:cNvCxnSpPr/>
                <p:nvPr/>
              </p:nvCxnSpPr>
              <p:spPr>
                <a:xfrm flipH="1">
                  <a:off x="5085000" y="5704200"/>
                  <a:ext cx="777600" cy="295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675" name="Group 27"/>
              <p:cNvGrpSpPr/>
              <p:nvPr/>
            </p:nvGrpSpPr>
            <p:grpSpPr>
              <a:xfrm>
                <a:off x="395280" y="4745520"/>
                <a:ext cx="3522960" cy="1673280"/>
                <a:chOff x="395280" y="4745520"/>
                <a:chExt cx="3522960" cy="1673280"/>
              </a:xfrm>
            </p:grpSpPr>
            <p:sp>
              <p:nvSpPr>
                <p:cNvPr id="676" name="Rectangle 28"/>
                <p:cNvSpPr/>
                <p:nvPr/>
              </p:nvSpPr>
              <p:spPr>
                <a:xfrm>
                  <a:off x="2014200" y="474552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77" name="AutoShape 29"/>
                <p:cNvCxnSpPr/>
                <p:nvPr/>
              </p:nvCxnSpPr>
              <p:spPr>
                <a:xfrm flipH="1" flipV="1">
                  <a:off x="2527560" y="4957560"/>
                  <a:ext cx="1171440" cy="3387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8" name="AutoShape 30"/>
                <p:cNvCxnSpPr/>
                <p:nvPr/>
              </p:nvCxnSpPr>
              <p:spPr>
                <a:xfrm flipH="1">
                  <a:off x="918000" y="5550120"/>
                  <a:ext cx="2780640" cy="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9" name="Rectangle 31"/>
                <p:cNvSpPr/>
                <p:nvPr/>
              </p:nvSpPr>
              <p:spPr>
                <a:xfrm>
                  <a:off x="395280" y="532764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Rectangle 32"/>
                <p:cNvSpPr/>
                <p:nvPr/>
              </p:nvSpPr>
              <p:spPr>
                <a:xfrm>
                  <a:off x="2770920" y="599904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1" name="AutoShape 33"/>
                <p:cNvCxnSpPr/>
                <p:nvPr/>
              </p:nvCxnSpPr>
              <p:spPr>
                <a:xfrm>
                  <a:off x="2537280" y="5099760"/>
                  <a:ext cx="1161720" cy="299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82" name="AutoShape 34"/>
                <p:cNvCxnSpPr/>
                <p:nvPr/>
              </p:nvCxnSpPr>
              <p:spPr>
                <a:xfrm flipH="1">
                  <a:off x="3293640" y="5715000"/>
                  <a:ext cx="624960" cy="390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83" name="AutoShape 35"/>
                <p:cNvCxnSpPr/>
                <p:nvPr/>
              </p:nvCxnSpPr>
              <p:spPr>
                <a:xfrm flipV="1">
                  <a:off x="3062520" y="5703120"/>
                  <a:ext cx="636480" cy="291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AutoShape 1"/>
          <p:cNvCxnSpPr/>
          <p:nvPr/>
        </p:nvCxnSpPr>
        <p:spPr>
          <a:xfrm flipH="1">
            <a:off x="6000480" y="3214440"/>
            <a:ext cx="419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AutoShape 2"/>
          <p:cNvCxnSpPr/>
          <p:nvPr/>
        </p:nvCxnSpPr>
        <p:spPr>
          <a:xfrm flipH="1">
            <a:off x="4357440" y="3214440"/>
            <a:ext cx="419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AutoShape 3"/>
          <p:cNvCxnSpPr/>
          <p:nvPr/>
        </p:nvCxnSpPr>
        <p:spPr>
          <a:xfrm flipH="1">
            <a:off x="2857320" y="3214440"/>
            <a:ext cx="419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642960" y="2642400"/>
            <a:ext cx="77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صح ينقل من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       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9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    إذا كانت كلها صحيح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d2336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خطأ في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ينقل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ثم يرجع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d2336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خطأ في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ينقل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7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،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4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،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8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 و من كل واحد يرجع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d2336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خطأ في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ينقل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6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،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10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 ثم يرجع من كل واحد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، ثم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9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و هكذ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مربع نص 8"/>
          <p:cNvSpPr/>
          <p:nvPr/>
        </p:nvSpPr>
        <p:spPr>
          <a:xfrm>
            <a:off x="2786040" y="1214280"/>
            <a:ext cx="3429000" cy="1557000"/>
          </a:xfrm>
          <a:prstGeom prst="rect">
            <a:avLst/>
          </a:prstGeom>
          <a:solidFill>
            <a:srgbClr val="7ba79d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مثال للإطار التفر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من خلال الورقة التي أمام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ميزات التعليم المبرمج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تتمثل مميزات التعليم المبرمج فيما يلي 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 على تلبية احتياجات التلاميذ 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راعي الفروق الفردية بين التلاميذ؛ حيث يسير كل تلميذ في التعلم وفقا لسرعته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وافق التعليم المبرمج مع كثير من نظريات التعلم ونماذجه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متعلم إيجابي نشط باستمرار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هم في مواجهة الأعداد المتزايدة للتلاميذ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كون لدى المتعلم القدرة على تحمل مسئولية اتخاذ قراراته التي تتصل بأسلوب تعلمه 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غير مقيد بالزمان أو المكان كما في التعليم التقليدي 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عيوب التعليم المبرمج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عتماد المواد المبرمجة على اللفظية لتوصيل المحتوى لذلك يتم وضع ثقة كبيرة في قدرة المتعلم على القراءة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تكون برامج الخطية من مئات الأطراف التي قد تكون مملة نوعا ما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أسئلة البرنامج غالبا تركز على المعلومات و تهمل الجوانب الأخرى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قلة التفاعل بين التلاميذ وبعضهم البعض 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طلب إعداد البرنامج جهداً ، و وقتا و تكاليفاً عالية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ا يصلح لتدريس مهارات مثل البحث العلمي ، والقدرة على حل المشكلات أو التفكير الابتكاري 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5f55"/>
                </a:solidFill>
                <a:latin typeface="Traditional Arabic"/>
              </a:rPr>
              <a:t>عمليات البرمجة في التعليم المبرمج  و المصادر المطلوبة لعمليات البرمجة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8" name="Line 157"/>
          <p:cNvSpPr/>
          <p:nvPr/>
        </p:nvSpPr>
        <p:spPr>
          <a:xfrm>
            <a:off x="7769160" y="10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61"/>
          <p:cNvSpPr/>
          <p:nvPr/>
        </p:nvSpPr>
        <p:spPr>
          <a:xfrm>
            <a:off x="8370720" y="10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80"/>
          <p:cNvSpPr/>
          <p:nvPr/>
        </p:nvSpPr>
        <p:spPr>
          <a:xfrm>
            <a:off x="7769160" y="10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81"/>
          <p:cNvSpPr/>
          <p:nvPr/>
        </p:nvSpPr>
        <p:spPr>
          <a:xfrm>
            <a:off x="7769160" y="15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84"/>
          <p:cNvSpPr/>
          <p:nvPr/>
        </p:nvSpPr>
        <p:spPr>
          <a:xfrm>
            <a:off x="8370720" y="10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5"/>
          <p:cNvSpPr/>
          <p:nvPr/>
        </p:nvSpPr>
        <p:spPr>
          <a:xfrm>
            <a:off x="8370720" y="15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00"/>
          <p:cNvSpPr/>
          <p:nvPr/>
        </p:nvSpPr>
        <p:spPr>
          <a:xfrm>
            <a:off x="7769160" y="15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4"/>
          <p:cNvSpPr/>
          <p:nvPr/>
        </p:nvSpPr>
        <p:spPr>
          <a:xfrm>
            <a:off x="8370720" y="15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Group 80" descr=""/>
          <p:cNvPicPr/>
          <p:nvPr/>
        </p:nvPicPr>
        <p:blipFill>
          <a:blip r:embed="rId1"/>
          <a:stretch/>
        </p:blipFill>
        <p:spPr>
          <a:xfrm>
            <a:off x="-73080" y="1481040"/>
            <a:ext cx="9290160" cy="5450040"/>
          </a:xfrm>
          <a:prstGeom prst="rect">
            <a:avLst/>
          </a:prstGeom>
          <a:ln w="0">
            <a:noFill/>
          </a:ln>
        </p:spPr>
      </p:pic>
      <p:sp>
        <p:nvSpPr>
          <p:cNvPr id="707" name="Line 269"/>
          <p:cNvSpPr/>
          <p:nvPr/>
        </p:nvSpPr>
        <p:spPr>
          <a:xfrm>
            <a:off x="776916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73"/>
          <p:cNvSpPr/>
          <p:nvPr/>
        </p:nvSpPr>
        <p:spPr>
          <a:xfrm>
            <a:off x="837072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87"/>
          <p:cNvSpPr/>
          <p:nvPr/>
        </p:nvSpPr>
        <p:spPr>
          <a:xfrm>
            <a:off x="776916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91"/>
          <p:cNvSpPr/>
          <p:nvPr/>
        </p:nvSpPr>
        <p:spPr>
          <a:xfrm>
            <a:off x="837072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عمليات البرمجة في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324000" y="1557000"/>
            <a:ext cx="8424720" cy="4824360"/>
            <a:chOff x="324000" y="1557000"/>
            <a:chExt cx="8424720" cy="4824360"/>
          </a:xfrm>
        </p:grpSpPr>
        <p:sp>
          <p:nvSpPr>
            <p:cNvPr id="713" name="Text Box 5"/>
            <p:cNvSpPr/>
            <p:nvPr/>
          </p:nvSpPr>
          <p:spPr>
            <a:xfrm>
              <a:off x="324000" y="1568520"/>
              <a:ext cx="8424720" cy="48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4" name="AutoShape 6"/>
            <p:cNvCxnSpPr/>
            <p:nvPr/>
          </p:nvCxnSpPr>
          <p:spPr>
            <a:xfrm flipH="1">
              <a:off x="623880" y="3655800"/>
              <a:ext cx="796032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15" name="Text Box 7"/>
            <p:cNvSpPr/>
            <p:nvPr/>
          </p:nvSpPr>
          <p:spPr>
            <a:xfrm>
              <a:off x="6306120" y="2255760"/>
              <a:ext cx="193788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حلي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8"/>
            <p:cNvSpPr/>
            <p:nvPr/>
          </p:nvSpPr>
          <p:spPr>
            <a:xfrm>
              <a:off x="6322320" y="3984480"/>
              <a:ext cx="19382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كتاب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9"/>
            <p:cNvSpPr/>
            <p:nvPr/>
          </p:nvSpPr>
          <p:spPr>
            <a:xfrm>
              <a:off x="6297480" y="5280120"/>
              <a:ext cx="19382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نقي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0"/>
            <p:cNvSpPr/>
            <p:nvPr/>
          </p:nvSpPr>
          <p:spPr>
            <a:xfrm>
              <a:off x="1373040" y="1823400"/>
              <a:ext cx="206388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تـحليل المتعل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1373040" y="2449440"/>
              <a:ext cx="2063880" cy="332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تحليل المادة العلم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12"/>
            <p:cNvSpPr/>
            <p:nvPr/>
          </p:nvSpPr>
          <p:spPr>
            <a:xfrm>
              <a:off x="1373040" y="3090240"/>
              <a:ext cx="206388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تـحليل المهار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13"/>
            <p:cNvSpPr/>
            <p:nvPr/>
          </p:nvSpPr>
          <p:spPr>
            <a:xfrm>
              <a:off x="1922760" y="3984480"/>
              <a:ext cx="231732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كتابة النسخة الأول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4"/>
            <p:cNvSpPr/>
            <p:nvPr/>
          </p:nvSpPr>
          <p:spPr>
            <a:xfrm>
              <a:off x="2907720" y="5131080"/>
              <a:ext cx="193788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تقويم المتخصص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15"/>
            <p:cNvSpPr/>
            <p:nvPr/>
          </p:nvSpPr>
          <p:spPr>
            <a:xfrm>
              <a:off x="2910960" y="5852160"/>
              <a:ext cx="19382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جري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6"/>
            <p:cNvSpPr/>
            <p:nvPr/>
          </p:nvSpPr>
          <p:spPr>
            <a:xfrm>
              <a:off x="1021680" y="5146560"/>
              <a:ext cx="11516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نقي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7"/>
            <p:cNvSpPr/>
            <p:nvPr/>
          </p:nvSpPr>
          <p:spPr>
            <a:xfrm>
              <a:off x="1053360" y="5875200"/>
              <a:ext cx="11516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نقي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6" name="AutoShape 18"/>
            <p:cNvCxnSpPr/>
            <p:nvPr/>
          </p:nvCxnSpPr>
          <p:spPr>
            <a:xfrm flipH="1">
              <a:off x="698400" y="4678560"/>
              <a:ext cx="796032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727" name="AutoShape 19"/>
            <p:cNvCxnSpPr/>
            <p:nvPr/>
          </p:nvCxnSpPr>
          <p:spPr>
            <a:xfrm>
              <a:off x="2377080" y="2136600"/>
              <a:ext cx="1080" cy="3132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8" name="AutoShape 20"/>
            <p:cNvCxnSpPr/>
            <p:nvPr/>
          </p:nvCxnSpPr>
          <p:spPr>
            <a:xfrm>
              <a:off x="2334240" y="2781720"/>
              <a:ext cx="1080" cy="3132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9" name="AutoShape 21"/>
            <p:cNvCxnSpPr/>
            <p:nvPr/>
          </p:nvCxnSpPr>
          <p:spPr>
            <a:xfrm>
              <a:off x="2359440" y="3423960"/>
              <a:ext cx="1080" cy="561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0" name="AutoShape 22"/>
            <p:cNvCxnSpPr/>
            <p:nvPr/>
          </p:nvCxnSpPr>
          <p:spPr>
            <a:xfrm>
              <a:off x="3736800" y="4298040"/>
              <a:ext cx="1440" cy="8337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1" name="AutoShape 23"/>
            <p:cNvCxnSpPr/>
            <p:nvPr/>
          </p:nvCxnSpPr>
          <p:spPr>
            <a:xfrm>
              <a:off x="3736800" y="5451840"/>
              <a:ext cx="1440" cy="4010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AutoShape 24"/>
            <p:cNvCxnSpPr/>
            <p:nvPr/>
          </p:nvCxnSpPr>
          <p:spPr>
            <a:xfrm>
              <a:off x="7210080" y="2568960"/>
              <a:ext cx="1080" cy="10875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AutoShape 25"/>
            <p:cNvCxnSpPr/>
            <p:nvPr/>
          </p:nvCxnSpPr>
          <p:spPr>
            <a:xfrm>
              <a:off x="7259760" y="5593320"/>
              <a:ext cx="1080" cy="777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4" name="AutoShape 26"/>
            <p:cNvCxnSpPr/>
            <p:nvPr/>
          </p:nvCxnSpPr>
          <p:spPr>
            <a:xfrm>
              <a:off x="7210080" y="4298040"/>
              <a:ext cx="1080" cy="381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AutoShape 27"/>
            <p:cNvCxnSpPr/>
            <p:nvPr/>
          </p:nvCxnSpPr>
          <p:spPr>
            <a:xfrm flipV="1">
              <a:off x="7209720" y="4678920"/>
              <a:ext cx="1440" cy="6012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6" name="AutoShape 28"/>
            <p:cNvCxnSpPr/>
            <p:nvPr/>
          </p:nvCxnSpPr>
          <p:spPr>
            <a:xfrm flipH="1" flipV="1">
              <a:off x="7209360" y="3655800"/>
              <a:ext cx="7920" cy="328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7" name="AutoShape 29"/>
            <p:cNvCxnSpPr/>
            <p:nvPr/>
          </p:nvCxnSpPr>
          <p:spPr>
            <a:xfrm flipV="1">
              <a:off x="7208280" y="1557000"/>
              <a:ext cx="1080" cy="6991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AutoShape 30"/>
            <p:cNvCxnSpPr/>
            <p:nvPr/>
          </p:nvCxnSpPr>
          <p:spPr>
            <a:xfrm flipV="1">
              <a:off x="1622520" y="4922280"/>
              <a:ext cx="2081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9" name="AutoShape 31"/>
            <p:cNvCxnSpPr/>
            <p:nvPr/>
          </p:nvCxnSpPr>
          <p:spPr>
            <a:xfrm flipV="1">
              <a:off x="1703880" y="5659560"/>
              <a:ext cx="2081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0" name="AutoShape 32"/>
            <p:cNvCxnSpPr/>
            <p:nvPr/>
          </p:nvCxnSpPr>
          <p:spPr>
            <a:xfrm flipH="1" flipV="1">
              <a:off x="2200320" y="5258520"/>
              <a:ext cx="7102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مستطيل 15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6"/>
          <p:cNvGrpSpPr/>
          <p:nvPr/>
        </p:nvGrpSpPr>
        <p:grpSpPr>
          <a:xfrm>
            <a:off x="2050560" y="4868640"/>
            <a:ext cx="1081080" cy="1152360"/>
            <a:chOff x="2050560" y="4868640"/>
            <a:chExt cx="1081080" cy="1152360"/>
          </a:xfrm>
        </p:grpSpPr>
        <p:cxnSp>
          <p:nvCxnSpPr>
            <p:cNvPr id="743" name="AutoShape 37"/>
            <p:cNvCxnSpPr/>
            <p:nvPr/>
          </p:nvCxnSpPr>
          <p:spPr>
            <a:xfrm flipH="1" flipV="1">
              <a:off x="2553120" y="6020280"/>
              <a:ext cx="578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4" name="AutoShape 38"/>
            <p:cNvCxnSpPr/>
            <p:nvPr/>
          </p:nvCxnSpPr>
          <p:spPr>
            <a:xfrm flipV="1">
              <a:off x="2050560" y="4868640"/>
              <a:ext cx="1080" cy="2311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45" name="AutoShape 39"/>
            <p:cNvCxnSpPr/>
            <p:nvPr/>
          </p:nvCxnSpPr>
          <p:spPr>
            <a:xfrm flipV="1">
              <a:off x="2050560" y="5636160"/>
              <a:ext cx="1080" cy="2041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ولاً: التحليل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50560" y="1599840"/>
            <a:ext cx="851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- </a:t>
            </a: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تحليل المتعلمين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وصف مجتمع المتعل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جميع معلومات عن احتياجات مجتمع المتعلم المختلف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عرفة ما لدى المتعلم من معلومات و مهارات سابق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أهمية تحليل المتعلم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571680" y="4071960"/>
            <a:ext cx="82152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نا في اختيار المادة العلمية المناسبة للمجت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نا على التعرف على الخبرات المتصلة بالمادة العلم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عرف على معرفة ما لدى المتعلم من معلومات ساب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عرف على ما لدى المتعلم من مهار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رتباط تحليل المتعلم بتحليل المادة العلمية إلى وحدات صغي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مستطيل 4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3964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كيف نقوم بتحليل المتعلم ؟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19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ن خلال تقديم استبيانات للخبراء للإجابة عليها بالإضافة إلى المقابلات مع قادة الرأي و المتعلمين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3851280" y="2060640"/>
          <a:ext cx="3241800" cy="4537080"/>
        </p:xfrm>
        <a:graphic>
          <a:graphicData uri="http://schemas.openxmlformats.org/drawingml/2006/table">
            <a:tbl>
              <a:tblPr/>
              <a:tblGrid>
                <a:gridCol w="3241800"/>
              </a:tblGrid>
              <a:tr h="4537080">
                <a:tc>
                  <a:txBody>
                    <a:bodyPr lIns="33840" rIns="33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ستبيان تقويم (( </a:t>
                      </a:r>
                      <a:r>
                        <a:rPr b="1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1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)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ادة العلمية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تشعر أن المادة العلمية للبرنامج تقدم مساعدة للمجتمع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– هل سيشعر المتعلم بأن المادة العلمية للبرنامج هامة له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يقدم البرنامج معلومات صحيحة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البرنامج سهل الفهم من المتعلم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المصطلحات المقدمة في البرنامج تم شرحها بعناية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يحتوي البرنامج على أسئلة كافية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الأمثلة ذات معنى يفهمه المتعلم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ن فضلك اكتب أي مقترحات تساعد في تطوير البرنامج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ما هي المعلومات المغلوطة أو غير الضرورية التي يجب شطبها من البرنامج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..............................................................................................................................................................................................................................................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ما هي المعلومات الهامة التي يجب إضافتها إلى البرنامج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.................................................................................................................................................................................................................................................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ما الأمثلة التي يجب إضافتها إلى البرنامج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................................................................................................................................................................................................................................................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كيف نجعل البرنامج أكثر تشويقاً للمتعلم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..................................................................................................................................................................................................................................................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280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c4545"/>
                </a:solidFill>
                <a:latin typeface="Traditional Arabic"/>
              </a:rPr>
              <a:t>ثانياً: تحليل المادة العلمية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42600" y="2142720"/>
            <a:ext cx="7643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أهمية تحليل المادة العل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عرف على الأنشطة التعليمية المختلف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حصول على قائمة للبرنامج مبتدئين بما يعرفه المتعلم و من ثم الوصول إلى مرحلة إتقان المهارات الجديد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حصول على مجموعة من الأهداف السلوكية ل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بناء الامتحانات النهائية من أجل قياس كفاءة البرنامج و التعرف على أوجه القصور في البرنامج و من ثم تنقيحه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تعريف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cs typeface="Traditional Arabic"/>
              </a:rPr>
              <a:t>هو الطريقة التي يمكن بموجبها أن نقوم بالتحكم في الخبرات التعليمية التي يحصل عليها المتعلم بكل عناية و تحديدها و ترتيب تتابعها بحيث تجعل الفرد يتعلم بنفسه و يكتشف أخطاءه و يصححها حتى يصل إلى الأداء المناسب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   ويعرفه (أحمد حامد منصور ، </a:t>
            </a:r>
            <a:r>
              <a:rPr b="0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1990</a:t>
            </a:r>
            <a:r>
              <a:rPr b="0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) بأنه: </a:t>
            </a: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cs typeface="Traditional Arabic"/>
              </a:rPr>
              <a:t>برنامج تعليمي أعدت فيه المادة التعليمية إعداداً خاصاً ، وتعرض في صور مختلفة (كتاب مبرمج – آلة تعليمية – أجهزة عرض) وذلك من أجل قيادة التلميذ وتوجيهه نحو السلوك المنشود </a:t>
            </a:r>
            <a:r>
              <a:rPr b="0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كلمة </a:t>
            </a:r>
            <a:r>
              <a:rPr b="1" i="1" lang="ar-SA" sz="2400" spc="-1" strike="noStrike" u="sng">
                <a:solidFill>
                  <a:srgbClr val="594740"/>
                </a:solidFill>
                <a:uFillTx/>
                <a:latin typeface="Traditional Arabic"/>
                <a:cs typeface="Traditional Arabic"/>
              </a:rPr>
              <a:t>المبرمج</a:t>
            </a:r>
            <a:r>
              <a:rPr b="1" i="1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 لها معنيان هما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31120" algn="r" rtl="1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المواد التعليمية المصاغة و المنظمة بعناية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31120" algn="r" rtl="1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تخطيط و إعداد المواد التعليمية بأسلوب منهجي منظم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ثانياً: تحليل المادة العلمية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أساليب تحليل المادة العل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  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لتحليل المادة العلمية لابد من القيام بالعمليات التالية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بالترتيب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، و ه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ويل موضوع المادة العلمية المختارة إلى غاية تعليمية يكون المتعلم قادراً على تنفيذها بعد الانتهاء من دراسة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SzPct val="60000"/>
              <a:buFont typeface="Traditional Arab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ليل الغاية التعلي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898560" indent="-5425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808000"/>
                </a:solidFill>
                <a:latin typeface="Traditional Arabic"/>
                <a:ea typeface="Traditional Arabic"/>
              </a:rPr>
              <a:t>   تقسيم الغاية التعليمية إلى مجموعة من الأنشطة التعليمية القصيرة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SzPct val="60000"/>
              <a:buFont typeface="Traditional Arab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أكد من صحة تحليل المادة التعلي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	</a:t>
            </a:r>
            <a:r>
              <a:rPr b="1" lang="ar-SA" sz="2600" spc="-1" strike="noStrike">
                <a:solidFill>
                  <a:srgbClr val="808000"/>
                </a:solidFill>
                <a:latin typeface="Traditional Arabic"/>
                <a:cs typeface="Traditional Arabic"/>
              </a:rPr>
              <a:t>إكمال جميع الأنشطة التعليمية و إلغاء الأنشطة المتكررة و الغير ضرورية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SzPct val="60000"/>
              <a:buFont typeface="Traditional Arab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رتيب تسلسل الأنشطة التعلي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8000"/>
                </a:solidFill>
                <a:latin typeface="Traditional Arabic"/>
                <a:ea typeface="Traditional Arabic"/>
              </a:rPr>
              <a:t>	</a:t>
            </a:r>
            <a:r>
              <a:rPr b="1" lang="ar-SA" sz="2600" spc="-1" strike="noStrike">
                <a:solidFill>
                  <a:srgbClr val="808000"/>
                </a:solidFill>
                <a:latin typeface="Traditional Arabic"/>
                <a:cs typeface="Traditional Arabic"/>
              </a:rPr>
              <a:t>ترتيب الأنشطة التعليمية ترتيباً متدرجاً من البسيط إلى المعقد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SzPct val="60000"/>
              <a:buFont typeface="Traditional Arab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بناء الاختبارات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8000"/>
                </a:solidFill>
                <a:latin typeface="Traditional Arabic"/>
                <a:ea typeface="Traditional Arabic"/>
              </a:rPr>
              <a:t>	</a:t>
            </a:r>
            <a:r>
              <a:rPr b="1" lang="ar-SA" sz="2600" spc="-1" strike="noStrike">
                <a:solidFill>
                  <a:srgbClr val="808000"/>
                </a:solidFill>
                <a:latin typeface="Traditional Arabic"/>
                <a:cs typeface="Traditional Arabic"/>
              </a:rPr>
              <a:t>بناء الاختبار لكل واحد من الأنشطة التعليمية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ثالثاً.تحليل المهارات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500040" y="121392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ن الصعوبة الفصل بين تعلم المادة العلمية و اكتساب المهارات في أي برنامج تعليمي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أهمية تحليل المهارات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أن من أهم أهداف برامج التعلم المبرمج هو تعلم المهارا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أن نوع المهارة المطلوبة يحدد نوع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 في تحديد نوعية الاختبارات المناسبة لمستوى المتعل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 في اختيار الموضوعات و الأساليب المناسبة أثناء تدريس المادة العلم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الخطوات العامة لتحليل المهارا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ديد الهدف العام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ديد الأهداف الخاصة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ديد و تحليل مهارات المتعلمين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كتابة النسخة الأولية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0" y="1196640"/>
            <a:ext cx="876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خطوات كتابة البرنامج الخط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إعداد قائمة التسلسل التعليمي للأنشطة التعليم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كتابة سؤال مقابل كل نشاط تعليمي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ظيم إطارات الأسئلة في قائمة البرنامج: بحيث يكون كل إطار سؤال بعد كل إطار تعليم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قيح و مراجعة إطارات الأسئل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كتابة مجموعة من الإطارات التعليم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قيح الإطارات التعلي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      يجب التأكد من أن كل إطار تعليمي يحتوي على ثلاثة أقسام:(</a:t>
            </a:r>
            <a:r>
              <a:rPr b="0" lang="ar-SA" sz="2400" spc="-1" strike="noStrike">
                <a:solidFill>
                  <a:srgbClr val="990000"/>
                </a:solidFill>
                <a:latin typeface="Traditional Arabic"/>
                <a:cs typeface="Traditional Arabic"/>
              </a:rPr>
              <a:t>تقديم معلومات جديدة, وضع أسئلة, إعطاء إجابات صحيحة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ظيم البرنامج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00"/>
                </a:solidFill>
                <a:latin typeface="Traditional Arabic"/>
                <a:ea typeface="Traditional Arabic"/>
              </a:rPr>
              <a:t>       كتابة البرنامج و وضعه في إطار خاص مستقل و مرن حيث يكون قابل للمراجعة و التنقيح أثناء مرحلة التجريب و المراجع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ثالثاً: تنقيح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خطوات تنقيح البرنامج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-</a:t>
            </a: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ea typeface="Traditional Arabic"/>
              </a:rPr>
              <a:t> تقويم المختصين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نحتاج إلى ثلاثة أنواع من المختصين و هم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ختصين في المادة العلم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ختصين في مجتمع المتعل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ختصين في مجال المهار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و للاستفادة التامة من المختصين يُقترح ما يل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ستخدام أكثر من مختص واحد لكي نستفيد أكثر من مقترحاته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كل مختص يعمل حسب تخصصه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شرح كيف يعمل البرنامج للمختصين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بدء بالمادة العلمية مع المختصين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خطوات تنقيح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التجريب مع المتعلم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عمليات التي نقوم بها أثناء التجريب مع المتعلم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لاحظة سلوك المتعلم بعنا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عرف على المشكلات في إجراء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قيح البرنامج على ضوء ما سبق.</a:t>
            </a:r>
            <a:r>
              <a:rPr b="0" lang="en-US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قسام عمليات تجريب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57200" y="119700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التجريب الفردي مع المتعلم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هدف منه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3333ff"/>
                </a:solidFill>
                <a:latin typeface="Traditional Arabic"/>
                <a:cs typeface="Traditional Arabic"/>
              </a:rPr>
              <a:t>اكتشاف المشكلات الرئيسية من أجل عمل معظم التنقيحات و يتم ذلك من خلال ما يل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قوم المبرمج باختبار البرنامج مع المتعلم و يتولى القيام بملاحظة المتعلم و الاستماع إلى ملاحظاته و تسجيلها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ابد أن يكون المتعلم الذي يتم اختباره قادر على اكتشاف أهم مشكلات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م طباعة البرنامج بعناية تامة أو كتابته بخط واضح تسهل قراءته من قبل المتعلم بحيث يكون كل إطار في صفحة مستقلة لسهولة تنقيحها و تعديلها أو حذفها بدون التأثير على الأجزاء الأخرى من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جب أن يكون الغرض من التجريب واضحاً للمتعلم، فليس الغرض امتحان المتعلم أو تدريسه، و لكن يجب أن يكون مفهوماً لديه أنه يقدم مساهمة فعالة ل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جب ألا يكون وقت التجريب طويلاً لئلا يمل المتعل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هذه التنقيحات تعد البرنامج للقسم التالي و هو التجريب الجماعي</a:t>
            </a:r>
            <a:r>
              <a:rPr b="0" lang="ar-SA" sz="2400" spc="-1" strike="noStrike">
                <a:solidFill>
                  <a:srgbClr val="006600"/>
                </a:solidFill>
                <a:latin typeface="Traditional Arabic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قسام عمليات تجريب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08000" y="1197000"/>
            <a:ext cx="8856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ea typeface="Traditional Arabic"/>
              </a:rPr>
              <a:t> التجريب الجماعي مع المتعلمين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هدف منه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3333ff"/>
                </a:solidFill>
                <a:latin typeface="Traditional Arabic"/>
                <a:cs typeface="Traditional Arabic"/>
              </a:rPr>
              <a:t>الحصول على معلومات أدق و أشمل من أجل المزيد من التنقيحات للبرنامج، و ذلك من خلال عمل ما يل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ختيار مجموعة من المتعلمين الذين يتمتعون بدقة الملاحظة و يكون عددهم ما بين عشرة إلى خمسة عشر فرداً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عمل العديد من نسخ البرنامج في شكلها النهائي، و في هذه المرحلة لا نحتاج إلى وضع كل إطار في صفحة مستقل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جب كتابة إرشادات عمل للمتعلم قبل التجريب لكي يستطيع التعامل مع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جب تسجيل الملاحظات حول سلوك المتعلمين أثناء التجريب و كذلك الوقت الذي استغرقه أثناء العمل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قد ينتهي بعض المتعلمين قبل غيرهم فمن المهم عدم دفع الآخرين للسرعة و التحدث مع من أنهى البرنامج عن خبراتهم حول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جمع كل النسخ من المتعلمين، لأن إجابتهم تقدم معلومات مفيدة جداً للتنقيح.</a:t>
            </a:r>
            <a:r>
              <a:rPr b="0" lang="en-US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قسام عمليات تجريب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50560" y="1125000"/>
            <a:ext cx="8467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التجريب في المجا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ff"/>
                </a:solidFill>
                <a:latin typeface="Traditional Arabic"/>
                <a:cs typeface="Traditional Arabic"/>
              </a:rPr>
              <a:t>أي القيام بتجريب البرنامج في مجال عمله مع المتعلمين أنفسهم، من خلال ما يل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ختيار المعلم الذي يسجل الملاحظات الدقيقة عن أثر البرنامج، و يتعامل مع المتعلم في نفس المجتمع المقصود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م إعداد البرنامج للطباعة، بحيث تكون أنيقة منظمة و إرفاق كتيبات الإرشادات عن كيفية استخدام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قيام بعملية التجريب و تسجيل الملاحظا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جمع كل النسخ من المتعلمين 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428760" y="507204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و هذه نهاية عملية التجريب و لكن عمليات التنقيح و المتابعة سوف تستمر مادام أن هناك برنامجاً يستخدم مع المتعلمي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مستطيل 5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مستطيل 6"/>
          <p:cNvSpPr/>
          <p:nvPr/>
        </p:nvSpPr>
        <p:spPr>
          <a:xfrm>
            <a:off x="7000920" y="6572160"/>
            <a:ext cx="214308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الخلاصة</a:t>
            </a:r>
            <a:br>
              <a:rPr sz="24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أن التعليم المبرمج يمر بعدة خطوات مرتبة و مدروسة حتى يتم الوصول إلى الشكل النهائي للبرنامج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عمليات البرمجة في التعليم المبرمج  تتم في ثلاثة خطوات رئيسية و هي: التحليل و الكتابة و التنقيح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كل عملية من عمليات البرمجة في التعليم المبرمج  تتم في عدد من الخطوات التي تتطلب الحصول و جمع المعلومات من عدة مصادر و من أهمها: الأفراد و المهارات و الوق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م الحصول على المعلومات لإكمال عمليات البرمجة في التعليم المبرمج من خلال مقابلات و مناقشات و توزيع الاستبيانات على الأفراد 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عمليات التنقيح و المتابعة ليس لها نهاية فسوف تستمر مادام أن هناك برنامجاً يستخدم مع المتعلمين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WordArt 5"/>
          <p:cNvSpPr txBox="1"/>
          <p:nvPr/>
        </p:nvSpPr>
        <p:spPr>
          <a:xfrm>
            <a:off x="1619280" y="119700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805b4c"/>
                  </a:solidFill>
                  <a:miter/>
                </a:ln>
                <a:solidFill>
                  <a:srgbClr val="f7e5c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شكراً على حسن الاستماع</a:t>
            </a:r>
            <a:endParaRPr b="1" lang="en-US" sz="1800" spc="1" strike="noStrike">
              <a:ln w="12600">
                <a:solidFill>
                  <a:srgbClr val="805b4c"/>
                </a:solidFill>
                <a:miter/>
              </a:ln>
              <a:solidFill>
                <a:srgbClr val="f7e5c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4" name="Text Box 4" descr=""/>
          <p:cNvPicPr/>
          <p:nvPr/>
        </p:nvPicPr>
        <p:blipFill>
          <a:blip r:embed="rId1"/>
          <a:stretch/>
        </p:blipFill>
        <p:spPr>
          <a:xfrm>
            <a:off x="2286000" y="3870360"/>
            <a:ext cx="483408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تعريف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1197000"/>
            <a:ext cx="8893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89880" indent="-389880" algn="r" rtl="1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aditional Arabic"/>
                <a:cs typeface="Traditional Arabic"/>
              </a:rPr>
              <a:t>وهناك العديد من التعريفات للتعليم المبرمج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89880" indent="-389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رسم تخطيطي 5" descr=""/>
          <p:cNvPicPr/>
          <p:nvPr/>
        </p:nvPicPr>
        <p:blipFill>
          <a:blip r:embed="rId1"/>
          <a:stretch/>
        </p:blipFill>
        <p:spPr>
          <a:xfrm>
            <a:off x="-6480" y="1616040"/>
            <a:ext cx="915696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108000" y="2743200"/>
            <a:ext cx="885672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75f55"/>
                </a:solidFill>
                <a:uFillTx/>
                <a:latin typeface="Tw Cen MT"/>
              </a:rPr>
              <a:t>المراجع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75f55"/>
                </a:solidFill>
                <a:latin typeface="Tw Cen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زيتون، أ.د.كمال عبدالحميد(</a:t>
            </a: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1425</a:t>
            </a: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هـ). </a:t>
            </a:r>
            <a:r>
              <a:rPr b="1" i="1" lang="ar-SA" sz="2800" spc="-1" strike="noStrike">
                <a:solidFill>
                  <a:srgbClr val="775f55"/>
                </a:solidFill>
                <a:latin typeface="Tw Cen MT"/>
                <a:cs typeface="AL-Mohanad"/>
              </a:rPr>
              <a:t>تكنولوجيا التعليم في عصر المعلومات والاتصالات</a:t>
            </a: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. الطبعة الثانية، القاهرة، عالم الكتب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75f55"/>
                </a:solidFill>
                <a:latin typeface="Tw Cen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موقع الدكتور/ محمد المشيقح.</a:t>
            </a:r>
            <a:r>
              <a:rPr b="1" lang="en-US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1700" spc="-1" strike="noStrike">
                <a:solidFill>
                  <a:srgbClr val="775f55"/>
                </a:solidFill>
                <a:latin typeface="Tw Cen MT"/>
              </a:rPr>
              <a:t>http://faculty.ksu.edu.sa/mshm/Pages/505%d9%88%d8%b3%d9%84.aspx</a:t>
            </a:r>
            <a:r>
              <a:rPr b="1" lang="ar-SA" sz="1700" spc="-1" strike="noStrike">
                <a:solidFill>
                  <a:srgbClr val="775f55"/>
                </a:solidFill>
                <a:latin typeface="Tw Cen MT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سس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50560" y="1628640"/>
            <a:ext cx="8785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أولاً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: حصول التعلم بخطوات صغيرة، لعدة أسباب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ثانياً: التعلم يتم بالنشاط الإيجاب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	</a:t>
            </a: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r>
              <a:rPr b="0" lang="ar-SA" sz="23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حيث يتم التعلم بالإجابة على الأسئلة و هذا أفضل من أسلوب القراءة و حفظ المعلومات، كما أن إجابة المتعلم تظهر مدى فهمه التام للمعلومات المقدمة في الإطار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رسم تخطيطي 5" descr=""/>
          <p:cNvPicPr/>
          <p:nvPr/>
        </p:nvPicPr>
        <p:blipFill>
          <a:blip r:embed="rId1"/>
          <a:stretch/>
        </p:blipFill>
        <p:spPr>
          <a:xfrm>
            <a:off x="347760" y="2120760"/>
            <a:ext cx="827244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سس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ثالثاً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: قيام المتعلم بالتأكد من إجابته حالاً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إذا كانت إجابة المتعلم صحيحة يتشجع و يكون أكثر حماس، و إذا كانت خاطئة فإن المتعلم يرى خطأه حالاً فيقوم بتصحيحه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رابعاً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: يحدث التعلم من البسيط إلى المعق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 المتعلم على فهم ما يقوم بتعلمه بيسر و سهول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خامساً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: يسير كل متعلم حسب سرعته في التعلم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فالمتعلم ليس مقيداً بوقت معين و بذلك يراعي البرنامج الفروق الفرد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هداف التعليم المبرمج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2720" y="1197000"/>
            <a:ext cx="81532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من الأهداف التي يسعى هذا النوع من التعليم إلى تحقيقها 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عليم الفرد كيفية مزاولة أو ممارسة الأنشطة التي تؤثر في إدراكه لجوانب الموقف التعليمي الذي يوجد فيه 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أكيد قدرة الدارس أو التلميذ على إدراك جوانب الموقف التعليمي الذي يوجد فيه 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ستخدام التلميذ لقدراته واستعداداته في سبيل الوصول إلى غايته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مارسة التلميذ وفقا لإمكانياته الدراسية و التحصيلية 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إكساب التلميذ الثقة في نفسه نتيجة تحمله مسئولية التعلم (عرفات سليمان ، </a:t>
            </a: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1979</a:t>
            </a: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) 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الخصائص الرئيسية للتعليم المبرمج 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تتمثل الخصائص الرئيسية للتعليم المبرمج في :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عمل كل تلميذ في التعليم المبرمج بمفرده ، لذا فهو تعليم ذاتي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علم كل تلميذ في التعليم المبرمج حسب سرعته الخاصة ؛ لذا فهو يواجه الفروق الفردية بين التلاميذ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قسم المادة التعليمية في التعليم المبرمج إلى إطارات وينتهي كل إطار بسؤال يطلب من المتعلم الإجابة عليه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مح التعليم المبرمج للتلميذ بمعرفة الإجابة الصحيحة بمجرد الانتهاء من إجابته على السؤال ، فيعزز ذلك عملية التعلم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وجه البرنامج التلميذ عندما يخطئ في الإجابة عن أحد الأسئلة على ما يجب عليه عمله قبل انتقاله إل الإطار التالي .</a:t>
            </a:r>
            <a:r>
              <a:rPr b="0" lang="en-US" sz="22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بادئ التعليم المبرمج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436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مبادئ التي يقوم عليها التعليم المبرمج ليست جديدة ، ويمكن صياغة هذه المبادئ كما يلي </a:t>
            </a: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رسم تخطيطي 5" descr=""/>
          <p:cNvPicPr/>
          <p:nvPr/>
        </p:nvPicPr>
        <p:blipFill>
          <a:blip r:embed="rId1"/>
          <a:stretch/>
        </p:blipFill>
        <p:spPr>
          <a:xfrm>
            <a:off x="165240" y="1828800"/>
            <a:ext cx="8723160" cy="464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8:06:25Z</dcterms:created>
  <dc:creator>2:21</dc:creator>
  <dc:description/>
  <dc:language>en-US</dc:language>
  <cp:lastModifiedBy>subaiet</cp:lastModifiedBy>
  <dcterms:modified xsi:type="dcterms:W3CDTF">2015-03-30T06:09:25Z</dcterms:modified>
  <cp:revision>156</cp:revision>
  <dc:subject/>
  <dc:title>لمحة تاريخية عن التعليم المبرمج:</dc:title>
</cp:coreProperties>
</file>