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468-7B5B-428C-9FB5-FB86FBD5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25B-4EB4-44E1-A429-83E33BF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62590-4AE1-460A-80EB-0876F886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810D6-6AF0-4C70-8AB7-4FFC97EA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CC9E4-6D3E-427A-B7CD-81F41B73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0807D-27C4-4DD6-8C6B-C1549B7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6A793-9FB5-4C26-AD23-22F862C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400D4-C918-4F31-9828-3E9F22D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DBEC9-2008-4D41-A4E6-8A91CCA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4299A-4FAE-41DD-A376-4796BA6E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7CB0D-76A9-4B13-8E57-609B45C2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A5782B-6774-4E39-8E14-7090F0DA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AD7-5FF7-480A-AD6E-F168BE59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CE99B-21A6-43BD-BF7A-B556A5C4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A3598E-A65D-4900-B4B7-0A727152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2885A-B5B3-4E28-B5AE-EE812FC7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8437E4-37C3-41D7-A5B0-7C653EB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3A0C09-FB27-437D-B886-DF795F44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3B46F-A947-4FD5-8071-5F43183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3342B-0A40-45DA-AABC-CA1D610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621350-6649-4EA9-8511-4993A00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02900D-A447-43E7-8C10-6697FAAA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97752-6FC8-43B7-A88F-B15A93B7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BD5-3B0B-48AB-9776-40D520BC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BBB5F3-9315-4608-A181-E48F6F83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6B269-C524-4E59-A549-6413A493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5A2B-039A-43A8-BD89-4B188452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716C6-E28C-4672-AB9D-6DACF1E4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85DAB-B1A1-4C0F-AC92-D96E11E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FADEC-3B75-4D8B-B604-213A5CC7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6B1D-B9D5-4874-B228-46D95A9B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71C4D-E024-476B-940E-8FAF902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B765-52CB-4A65-A64B-19AA196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DFD3-590F-4661-AF4C-AD490F4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EBD2-6168-4B29-8E5A-BD4B2315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0A177-53C3-4B97-8044-A2593D93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0F425-AE82-4289-9F89-BFBA446A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DA1ED-061A-4C8A-9594-744349C9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2E479-E192-479B-BF1D-99AE3558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68726-13E3-4110-92EB-D86A0D2A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BA5F6-7201-4F30-9205-4CA782CA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F8506-1D0F-427E-87F4-AB0F7A0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F284A-3B1A-4E0A-92C9-6C5CE0C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F2BA2-6B17-4250-AE76-82138696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58D83-4AC1-4C12-B068-2D6285B5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4AE9-A4EC-4FA0-BE48-FE9B55DE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A3991-A171-4AEC-BC36-AFB7ED42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3CB82-211E-4844-A663-D1EE000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226CB-23C6-452F-AFF5-BC72AD7F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628FB-45E1-4ADB-B5AC-DC71912E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FB242-C6AC-4B9C-91A8-94448F61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6AA-BF0C-4FEA-8809-8A1EFED4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85F-C029-48B9-87ED-DF27D9B4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E25-925A-4256-B81E-A56F6C63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8F32-D68B-4ABF-9E77-EFB11E1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C8FE-A379-44FB-A894-72E2851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39D-4510-4DAE-B579-44E337F3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F240-1118-4752-BD92-7FBE2F5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CC11-1E64-46B1-9566-F759554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4BEA-D62D-4F7C-B644-B50BD62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211-1ACC-4E02-A787-97619166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1C83-F682-4FE1-857B-BA22DFB5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B5AB-4D1E-48CE-A510-F5DFA9C0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CA9C-8D24-4567-9898-BE3EE510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4B68-EC00-41A2-96E3-AE9D9F17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2982-0108-44F7-BA6D-3DADB3D0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E2A4-42F7-4366-A76D-7176F12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8FF-6DFC-45A0-A8A2-A7080225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77BF-4BBD-40CD-8F38-E349C4F6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0AD7-64AF-4029-B251-B2F06F15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58FC-F90F-49A0-AF82-C54B50B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800F-2028-45DF-936B-BC9F65D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A3EA-896B-424C-BE59-B0E902E7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898ED-0538-47F1-9587-C149301B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327A-3FD3-42C3-9A36-1E8C7BFE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ADE6A-F36B-46DF-A98A-C703C18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76F58-8B7C-4E21-9BB6-732D82F8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B3A7D-CE83-4CB8-8719-39DE79D7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F8F-9F2C-40C1-AB11-CDC0DD2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25CC3-1DD8-47AF-8FFB-30434304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C4093-1BD5-49CF-B064-0BDC566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F7BD9-1424-471D-BCF7-8C7D1429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76D22-E75D-4E9B-BACB-A953A21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341F2-DA34-4211-A1DB-B5EC470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5FBA3-E4D7-4B31-9F46-B82838E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6D696-D4E6-4607-9962-3F952F9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C2F92-21F9-48A1-B1F8-CD2E3269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32F89-3020-477B-8279-3611B918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A2B9E-1B5F-4894-89C8-BDF1F11F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D56-10B9-472F-91D3-13069F6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9075F-440D-467E-B8D1-E34481F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808EF-31BC-48DC-9016-AAFBF0CC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85D23-1771-4BF0-A6C8-CEA8D04A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F63BF-08E9-4933-B71D-C58447F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FC3F1-C068-4A1B-BAE7-78E608C6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6124B-A712-452B-819D-7894DE8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79646-AE24-412A-ABE4-24C3561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87DAD-30D0-4538-BA3A-DC22752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B7FB9-8D2B-4158-BE67-4CA2DEB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B34D3-3940-4A8F-B341-97132277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E05-9F61-4D4B-96CA-B911965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84895-2EE6-4545-8A59-850E9C22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29E79-5083-4BF8-AA6E-1ACBD597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95536-B1D1-4B2D-922F-93E5877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CBA39-C831-4734-A504-8E367B1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3FD69-FE2A-4F2B-8E38-3AE6673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E2B7D-25D8-49DC-BE7A-E7D24553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51E96-A8E6-4888-B84E-76DA60F5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F507A-9D20-407A-9795-FF7646F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C9934-85F4-4786-BAB4-FE3D94B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5C95B-DC2C-4C50-B9C5-F19AA566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D3A-923E-4B9F-934E-2761F43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F4D3C-A7B9-4BAE-B824-CBE8A0F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D30F1-BA2C-403A-9DA7-89D8E6B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623A8-FA85-4C52-B7CC-26151D47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C95A8-A681-474E-8CB3-41EA1BF5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1F521-7938-46D6-BDBF-C48A95DF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09A9-2C43-48B2-AB28-4193A6CA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55C09-6511-4595-927A-185FD0A0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4DAB3-345E-4E49-9758-48DE4AD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38E48-6587-40BA-A832-6607DECB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E1D78-B2DF-4545-B1CB-BC3F426A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854-93AA-4B01-9E5F-544C266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A9975-B7AC-4BF0-A070-42743CC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1AB10-DE00-45DC-8C1B-9E86966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C169-9CEE-49CA-82BB-970DD879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91639-695A-4E5A-A376-8389B5DD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EB83-2BC8-4BBD-ACFC-A7C70E8A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7435F-DE69-4F5E-8CE8-F056D932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6857-2022-4810-86F1-A5968B9B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9376-943D-4870-B084-5A026E68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9EA9-6FD9-4D76-A406-C826C8F4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CE7CF-FA6B-4A0E-8458-9F6DA86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FE5-ECEA-4988-9BF8-FAF4F66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5F4EA-EE8F-4B56-A2E1-A00AB1DA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C107-6B91-43C9-9D22-313BD41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BC37C-1526-4978-A2F3-5979DFAF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FF6B-24AF-4FA1-B343-FEDE25C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8099-9006-46DC-BA74-F35C0259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BF5D3-53C8-41A6-BC27-843B6858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A4C2B-7371-44EF-93CA-18F73AD9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1A572-1F67-4747-9BB3-A14C3492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F2DFD-DD6B-4766-9BA1-36507C8E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C0359-FC1F-4310-A05E-2C967431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BB4-4D7E-44B0-B42B-F2D8505CDB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382E-F78F-4E55-A782-74CE5318019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6955-76F4-465B-B224-997DE6010D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B65D-22AD-4CC4-AF4C-CA626EEE0B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6029-3D30-4F35-8828-26F630DB337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DB56-6367-440C-962F-4E2318A5BC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1978-8CCB-48FD-A5B5-FCD88F21ED9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C298-8F1C-4D14-8C5E-E19FA768B1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9D6B-DC21-4986-8CEC-0BD9063879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AC21-F069-4805-A1BB-A242FDE0EB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FEE0-B8C3-4E07-8634-4EF7756D058A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DB5-7BED-455A-9D33-12F0CFAA1E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raditional Arabic"/>
                <a:cs typeface="AL-Mohanad"/>
              </a:rPr>
              <a:t>التعليم المبرمج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pic>
        <p:nvPicPr>
          <p:cNvPr id="568" name="صورة 4" descr="12121.jpg"/>
          <p:cNvPicPr/>
          <p:nvPr/>
        </p:nvPicPr>
        <p:blipFill>
          <a:blip r:embed="rId1"/>
          <a:stretch/>
        </p:blipFill>
        <p:spPr>
          <a:xfrm>
            <a:off x="324000" y="260280"/>
            <a:ext cx="2234880" cy="1152720"/>
          </a:xfrm>
          <a:prstGeom prst="rect">
            <a:avLst/>
          </a:prstGeom>
          <a:ln w="0">
            <a:noFill/>
          </a:ln>
        </p:spPr>
      </p:pic>
      <p:pic>
        <p:nvPicPr>
          <p:cNvPr id="569" name="صورة 5" descr="imagesCA0WNU2D.jpg"/>
          <p:cNvPicPr/>
          <p:nvPr/>
        </p:nvPicPr>
        <p:blipFill>
          <a:blip r:embed="rId2"/>
          <a:stretch/>
        </p:blipFill>
        <p:spPr>
          <a:xfrm>
            <a:off x="6083280" y="3645000"/>
            <a:ext cx="3060720" cy="2376360"/>
          </a:xfrm>
          <a:prstGeom prst="rect">
            <a:avLst/>
          </a:prstGeom>
          <a:ln w="0">
            <a:noFill/>
          </a:ln>
        </p:spPr>
      </p:pic>
      <p:sp>
        <p:nvSpPr>
          <p:cNvPr id="570" name="مستطيل 6"/>
          <p:cNvSpPr/>
          <p:nvPr/>
        </p:nvSpPr>
        <p:spPr>
          <a:xfrm>
            <a:off x="6227640" y="260280"/>
            <a:ext cx="27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المملكة العربية السعودية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كلية الترب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مناهج وطرق التدري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صفات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قسم البرنامج إلى وحدات صغيرة تدعى </a:t>
            </a:r>
            <a:r>
              <a:rPr b="0" lang="ar-SA" sz="2400" spc="-1" strike="noStrike" u="sng">
                <a:solidFill>
                  <a:srgbClr val="002060"/>
                </a:solidFill>
                <a:uFillTx/>
                <a:latin typeface="Traditional Arabic"/>
                <a:cs typeface="Traditional Arabic"/>
              </a:rPr>
              <a:t>إطارات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و لكل منها صفات عامة ه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7b3d17"/>
                </a:solidFill>
                <a:uFillTx/>
                <a:latin typeface="Traditional Arabic"/>
                <a:cs typeface="Traditional Arabic"/>
              </a:rPr>
              <a:t>الإطارات التعليمية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ea typeface="Traditional Arabic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بارة عن إطارات تقدم معلومات جديدة للمتعلم و أسئلة عليها و الإجابة الصحيحة على تلك الأسئ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7b3d17"/>
                </a:solidFill>
                <a:uFillTx/>
                <a:latin typeface="Traditional Arabic"/>
                <a:cs typeface="Traditional Arabic"/>
              </a:rPr>
              <a:t>إطارات تقدم أسئلة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ea typeface="Traditional Arabic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ن أجل إظهار مدى فهم المتعلم للمعلومات التي أعطيت في نفس الإطار أو إطار سابق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7b3d17"/>
                </a:solidFill>
                <a:uFillTx/>
                <a:latin typeface="Traditional Arabic"/>
                <a:cs typeface="Traditional Arabic"/>
              </a:rPr>
              <a:t>إطارات تقدم الإجابة الصحيحة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ea typeface="Traditional Arab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9680" indent="-4996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لجعل المتعلم يتأكد من الإجابة الصحيحة، و قد تكون الإجابة أسفل الإطار تحت خط متقطع أو خلف الصفحة و ذلك لمنع المتعلم من رؤية الإجابة قبل تقديم إجابت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79280" y="1628280"/>
            <a:ext cx="8569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رسوم هي تلك التخطيطات اليدوية التي يقوم بها المتعلم لإنتاج نسخ أخرى للأصل قد تكون أكبر أو أصغر أو مساوية له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ضع علامة (</a:t>
            </a: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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) في المربع أمام الإجابة الصحيحة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خطيطات اليدوية التي يقوم بها المتعلم لإنتاج نسخ أخرى للأصل قد تكون أكبر أو أصغر أو مساوية له تسمى :-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صو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رسو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ألوان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كتاب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صو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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- الرسو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ألوان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</a:t>
            </a: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- الكتاب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*تأكد من الإجابة الصحيحة.</a:t>
            </a:r>
            <a:r>
              <a:rPr b="0" lang="en-US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59200" indent="-259200" algn="r" rtl="1">
              <a:lnSpc>
                <a:spcPct val="6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*انتقل إلى الإطار التالي.</a:t>
            </a:r>
            <a:r>
              <a:rPr b="0" lang="en-US" sz="20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2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0728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3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8353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4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425080" cy="4824360"/>
          </a:xfrm>
          <a:prstGeom prst="rect">
            <a:avLst/>
          </a:prstGeom>
          <a:ln w="0">
            <a:noFill/>
          </a:ln>
        </p:spPr>
      </p:pic>
      <p:sp>
        <p:nvSpPr>
          <p:cNvPr id="610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ثال لإطار يقدم أسئلة و إجابة صحيحة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5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4680000"/>
          </a:xfrm>
          <a:prstGeom prst="rect">
            <a:avLst/>
          </a:prstGeom>
          <a:ln w="0">
            <a:noFill/>
          </a:ln>
        </p:spPr>
      </p:pic>
      <p:sp>
        <p:nvSpPr>
          <p:cNvPr id="61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6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64072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مثال للإطار التعليمي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7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-</a:t>
            </a:r>
            <a:r>
              <a:rPr b="1" lang="ar-SA" sz="4400" spc="-1" strike="noStrike">
                <a:solidFill>
                  <a:srgbClr val="775f55"/>
                </a:solidFill>
                <a:latin typeface="Traditional Arabic"/>
              </a:rPr>
              <a:t>1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99128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75f55"/>
                </a:solidFill>
                <a:latin typeface="Tw Cen MT"/>
              </a:rPr>
              <a:t>نموذج لمجموعة من الإطارات في البرنامج المتفرع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77564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15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75f55"/>
                </a:solidFill>
                <a:latin typeface="Tw Cen MT"/>
              </a:rPr>
              <a:t>نموذج لمجموعة من الإطارات في البرنامج المتفرع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727236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لمحة تاريخية عن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لجذور العلمية التي اعتمد عليها التعليم المبرمج ترجع إلى عصر أفلاطون الذي وضع مبادئ هامة مثل :الإجابة النشطة و الخطوات الصغيرة و الإجابة الفورية و التي أصبحت من أهم المبادئ التي يقوم عليها التعليم المبرمج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في العام </a:t>
            </a: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1925</a:t>
            </a: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م قام عالم النفس الأمريكي (سيدني بيرسي) باختراع آلة صغيرة لتصحيح الاختبارات ذاتياً و تحتوي على إجابات متعددة و تمكن المتعلم من خلالها أن يكتشف أخطاءه و يعمل على تصحيحها و تقويمها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ستغل عالم النفس (سكنر) تلك الخطوات الصغيرة و استند إلى تقسيم المادة التعليمية إلى وحدات صغيرة و إلى ترابط هذه الوحدات و صياغتها و التدرج فيها من السهولة إلى الصعوبة، وبذلك وضع أسس المرحلة الثانية من تطور التعليم المبرمج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04480" indent="-204480" algn="r" rtl="1">
              <a:lnSpc>
                <a:spcPts val="2999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لتعليم المبرمج لم يظهر بشكله المعروف إلا في الخمسينيات من القرن العشرين.</a:t>
            </a:r>
            <a:r>
              <a:rPr b="0" lang="en-US" sz="19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نواع برامج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95280" y="1413000"/>
            <a:ext cx="8229600" cy="73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- </a:t>
            </a: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برنامج الخطي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هو البرنامج الذي يسير إلى الأمام أو إلى الخلف بتوالي و تتابع و عادة ما يكون ذلك بتتبع الأسهم أو إتباع التعليمات المعطا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4" name="Group 4"/>
          <p:cNvGrpSpPr/>
          <p:nvPr/>
        </p:nvGrpSpPr>
        <p:grpSpPr>
          <a:xfrm>
            <a:off x="324000" y="3357360"/>
            <a:ext cx="8495640" cy="2143080"/>
            <a:chOff x="324000" y="3357360"/>
            <a:chExt cx="8495640" cy="2143080"/>
          </a:xfrm>
        </p:grpSpPr>
        <p:grpSp>
          <p:nvGrpSpPr>
            <p:cNvPr id="625" name="Group 5"/>
            <p:cNvGrpSpPr/>
            <p:nvPr/>
          </p:nvGrpSpPr>
          <p:grpSpPr>
            <a:xfrm>
              <a:off x="324000" y="3949200"/>
              <a:ext cx="8495640" cy="971640"/>
              <a:chOff x="324000" y="3949200"/>
              <a:chExt cx="8495640" cy="971640"/>
            </a:xfrm>
          </p:grpSpPr>
          <p:sp>
            <p:nvSpPr>
              <p:cNvPr id="626" name="Rectangle 6"/>
              <p:cNvSpPr/>
              <p:nvPr/>
            </p:nvSpPr>
            <p:spPr>
              <a:xfrm>
                <a:off x="829692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7" name="AutoShape 7"/>
              <p:cNvCxnSpPr/>
              <p:nvPr/>
            </p:nvCxnSpPr>
            <p:spPr>
              <a:xfrm flipH="1">
                <a:off x="782244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8" name="Rectangle 8"/>
              <p:cNvSpPr/>
              <p:nvPr/>
            </p:nvSpPr>
            <p:spPr>
              <a:xfrm>
                <a:off x="730044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9" name="AutoShape 9"/>
              <p:cNvCxnSpPr/>
              <p:nvPr/>
            </p:nvCxnSpPr>
            <p:spPr>
              <a:xfrm flipH="1">
                <a:off x="682596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0" name="Rectangle 10"/>
              <p:cNvSpPr/>
              <p:nvPr/>
            </p:nvSpPr>
            <p:spPr>
              <a:xfrm>
                <a:off x="630360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1" name="AutoShape 11"/>
              <p:cNvCxnSpPr/>
              <p:nvPr/>
            </p:nvCxnSpPr>
            <p:spPr>
              <a:xfrm flipH="1">
                <a:off x="582948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2" name="Rectangle 12"/>
              <p:cNvSpPr/>
              <p:nvPr/>
            </p:nvSpPr>
            <p:spPr>
              <a:xfrm>
                <a:off x="530712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3" name="AutoShape 13"/>
              <p:cNvCxnSpPr/>
              <p:nvPr/>
            </p:nvCxnSpPr>
            <p:spPr>
              <a:xfrm flipH="1">
                <a:off x="483264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4" name="Rectangle 14"/>
              <p:cNvSpPr/>
              <p:nvPr/>
            </p:nvSpPr>
            <p:spPr>
              <a:xfrm>
                <a:off x="431028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5" name="AutoShape 15"/>
              <p:cNvCxnSpPr/>
              <p:nvPr/>
            </p:nvCxnSpPr>
            <p:spPr>
              <a:xfrm flipH="1">
                <a:off x="383616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6" name="Rectangle 16"/>
              <p:cNvSpPr/>
              <p:nvPr/>
            </p:nvSpPr>
            <p:spPr>
              <a:xfrm>
                <a:off x="331380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7" name="AutoShape 17"/>
              <p:cNvCxnSpPr/>
              <p:nvPr/>
            </p:nvCxnSpPr>
            <p:spPr>
              <a:xfrm flipH="1">
                <a:off x="283932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8" name="Rectangle 18"/>
              <p:cNvSpPr/>
              <p:nvPr/>
            </p:nvSpPr>
            <p:spPr>
              <a:xfrm>
                <a:off x="2316960" y="394920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9" name="AutoShape 19"/>
              <p:cNvCxnSpPr/>
              <p:nvPr/>
            </p:nvCxnSpPr>
            <p:spPr>
              <a:xfrm flipH="1">
                <a:off x="1842840" y="442512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40" name="Rectangle 20"/>
              <p:cNvSpPr/>
              <p:nvPr/>
            </p:nvSpPr>
            <p:spPr>
              <a:xfrm>
                <a:off x="1320480" y="405756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1" name="AutoShape 21"/>
              <p:cNvCxnSpPr/>
              <p:nvPr/>
            </p:nvCxnSpPr>
            <p:spPr>
              <a:xfrm flipH="1">
                <a:off x="846000" y="4533840"/>
                <a:ext cx="474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42" name="Rectangle 22"/>
              <p:cNvSpPr/>
              <p:nvPr/>
            </p:nvSpPr>
            <p:spPr>
              <a:xfrm>
                <a:off x="324000" y="4057560"/>
                <a:ext cx="52272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23"/>
            <p:cNvGrpSpPr/>
            <p:nvPr/>
          </p:nvGrpSpPr>
          <p:grpSpPr>
            <a:xfrm>
              <a:off x="566280" y="3357360"/>
              <a:ext cx="7972920" cy="699840"/>
              <a:chOff x="566280" y="3357360"/>
              <a:chExt cx="7972920" cy="699840"/>
            </a:xfrm>
          </p:grpSpPr>
          <p:cxnSp>
            <p:nvCxnSpPr>
              <p:cNvPr id="644" name="AutoShape 24"/>
              <p:cNvCxnSpPr/>
              <p:nvPr/>
            </p:nvCxnSpPr>
            <p:spPr>
              <a:xfrm flipH="1" flipV="1">
                <a:off x="8529480" y="3359880"/>
                <a:ext cx="1008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AutoShape 25"/>
              <p:cNvCxnSpPr/>
              <p:nvPr/>
            </p:nvCxnSpPr>
            <p:spPr>
              <a:xfrm rot="10800000">
                <a:off x="575280" y="3357000"/>
                <a:ext cx="7956360" cy="2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6" name="AutoShape 26"/>
              <p:cNvCxnSpPr/>
              <p:nvPr/>
            </p:nvCxnSpPr>
            <p:spPr>
              <a:xfrm>
                <a:off x="566280" y="3357360"/>
                <a:ext cx="1800" cy="70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47" name="Group 27"/>
            <p:cNvGrpSpPr/>
            <p:nvPr/>
          </p:nvGrpSpPr>
          <p:grpSpPr>
            <a:xfrm>
              <a:off x="585360" y="4800600"/>
              <a:ext cx="7972920" cy="699840"/>
              <a:chOff x="585360" y="4800600"/>
              <a:chExt cx="7972920" cy="699840"/>
            </a:xfrm>
          </p:grpSpPr>
          <p:cxnSp>
            <p:nvCxnSpPr>
              <p:cNvPr id="648" name="AutoShape 28"/>
              <p:cNvCxnSpPr/>
              <p:nvPr/>
            </p:nvCxnSpPr>
            <p:spPr>
              <a:xfrm>
                <a:off x="585360" y="4939200"/>
                <a:ext cx="1008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9" name="AutoShape 29"/>
              <p:cNvCxnSpPr/>
              <p:nvPr/>
            </p:nvCxnSpPr>
            <p:spPr>
              <a:xfrm>
                <a:off x="593280" y="5497920"/>
                <a:ext cx="7956360" cy="2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0" name="AutoShape 30"/>
              <p:cNvCxnSpPr/>
              <p:nvPr/>
            </p:nvCxnSpPr>
            <p:spPr>
              <a:xfrm flipH="1" flipV="1">
                <a:off x="8556840" y="4800600"/>
                <a:ext cx="1800" cy="70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51" name="مستطيل 30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مستطيل 30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42920" y="49824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- البرنامج المتفرع (</a:t>
            </a:r>
            <a:r>
              <a:rPr b="1" lang="en-US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Program Branching</a:t>
            </a:r>
            <a:r>
              <a:rPr b="1" lang="ar-SA" sz="2400" spc="-1" strike="noStrike">
                <a:solidFill>
                  <a:srgbClr val="5d4500"/>
                </a:solidFill>
                <a:latin typeface="Traditional Arabic"/>
                <a:ea typeface="Traditional Arabic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ختلف عن البرنامج الخطي في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توي الإطارات على معلومات أكبر من إطارات البرنامج الخط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 تحتوي الإطارات على الإجابة الصحيحة بل بدلاً من ذلك إذا كانت الإجابة صحيحة يعطي معلومات جديدة في إطار جديد و إذا أخطأ المتعلم يرجع إلى الإطار السابق و هكذ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 يهم الترتيب و التوالي في الانتقال من إطار إلى إطار آخ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تخدم هذا النوع على سبيل المثال في ماكينات التعلم و الحاسب الآلي وبرامج الألعاب ومثال على البرنامج المتفرع ما يلي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6"/>
          <p:cNvGrpSpPr/>
          <p:nvPr/>
        </p:nvGrpSpPr>
        <p:grpSpPr>
          <a:xfrm>
            <a:off x="395280" y="4643280"/>
            <a:ext cx="8497800" cy="1785600"/>
            <a:chOff x="395280" y="4643280"/>
            <a:chExt cx="8497800" cy="1785600"/>
          </a:xfrm>
        </p:grpSpPr>
        <p:sp>
          <p:nvSpPr>
            <p:cNvPr id="655" name="Rectangle 7"/>
            <p:cNvSpPr/>
            <p:nvPr/>
          </p:nvSpPr>
          <p:spPr>
            <a:xfrm>
              <a:off x="3723120" y="5275080"/>
              <a:ext cx="52308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Group 8"/>
            <p:cNvGrpSpPr/>
            <p:nvPr/>
          </p:nvGrpSpPr>
          <p:grpSpPr>
            <a:xfrm>
              <a:off x="395280" y="4643280"/>
              <a:ext cx="8497800" cy="1785600"/>
              <a:chOff x="395280" y="4643280"/>
              <a:chExt cx="8497800" cy="1785600"/>
            </a:xfrm>
          </p:grpSpPr>
          <p:grpSp>
            <p:nvGrpSpPr>
              <p:cNvPr id="657" name="Group 9"/>
              <p:cNvGrpSpPr/>
              <p:nvPr/>
            </p:nvGrpSpPr>
            <p:grpSpPr>
              <a:xfrm>
                <a:off x="6385320" y="4643280"/>
                <a:ext cx="2507760" cy="1083600"/>
                <a:chOff x="6385320" y="4643280"/>
                <a:chExt cx="2507760" cy="1083600"/>
              </a:xfrm>
            </p:grpSpPr>
            <p:sp>
              <p:nvSpPr>
                <p:cNvPr id="658" name="Rectangle 10"/>
                <p:cNvSpPr/>
                <p:nvPr/>
              </p:nvSpPr>
              <p:spPr>
                <a:xfrm>
                  <a:off x="8370000" y="530712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59" name="AutoShape 11"/>
                <p:cNvCxnSpPr/>
                <p:nvPr/>
              </p:nvCxnSpPr>
              <p:spPr>
                <a:xfrm flipH="1">
                  <a:off x="6385320" y="5538240"/>
                  <a:ext cx="19846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0" name="AutoShape 12"/>
                <p:cNvCxnSpPr/>
                <p:nvPr/>
              </p:nvCxnSpPr>
              <p:spPr>
                <a:xfrm flipH="1" flipV="1">
                  <a:off x="7737120" y="4934160"/>
                  <a:ext cx="830160" cy="362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1" name="Rectangle 13"/>
                <p:cNvSpPr/>
                <p:nvPr/>
              </p:nvSpPr>
              <p:spPr>
                <a:xfrm>
                  <a:off x="7214400" y="464328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2" name="AutoShape 14"/>
                <p:cNvCxnSpPr/>
                <p:nvPr/>
              </p:nvCxnSpPr>
              <p:spPr>
                <a:xfrm>
                  <a:off x="7541280" y="5062680"/>
                  <a:ext cx="838800" cy="336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663" name="Group 15"/>
              <p:cNvGrpSpPr/>
              <p:nvPr/>
            </p:nvGrpSpPr>
            <p:grpSpPr>
              <a:xfrm>
                <a:off x="4221360" y="4683600"/>
                <a:ext cx="2992680" cy="1745280"/>
                <a:chOff x="4221360" y="4683600"/>
                <a:chExt cx="2992680" cy="1745280"/>
              </a:xfrm>
            </p:grpSpPr>
            <p:sp>
              <p:nvSpPr>
                <p:cNvPr id="664" name="Rectangle 16"/>
                <p:cNvSpPr/>
                <p:nvPr/>
              </p:nvSpPr>
              <p:spPr>
                <a:xfrm>
                  <a:off x="5862600" y="531504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Rectangle 17"/>
                <p:cNvSpPr/>
                <p:nvPr/>
              </p:nvSpPr>
              <p:spPr>
                <a:xfrm>
                  <a:off x="6690960" y="600912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6" name="AutoShape 18"/>
                <p:cNvCxnSpPr/>
                <p:nvPr/>
              </p:nvCxnSpPr>
              <p:spPr>
                <a:xfrm flipH="1">
                  <a:off x="4221360" y="5538600"/>
                  <a:ext cx="164124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7" name="AutoShape 19"/>
                <p:cNvCxnSpPr/>
                <p:nvPr/>
              </p:nvCxnSpPr>
              <p:spPr>
                <a:xfrm flipH="1" flipV="1">
                  <a:off x="6384960" y="5727600"/>
                  <a:ext cx="474120" cy="27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8" name="Rectangle 20"/>
                <p:cNvSpPr/>
                <p:nvPr/>
              </p:nvSpPr>
              <p:spPr>
                <a:xfrm>
                  <a:off x="4764600" y="468360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9" name="AutoShape 21"/>
                <p:cNvCxnSpPr/>
                <p:nvPr/>
              </p:nvCxnSpPr>
              <p:spPr>
                <a:xfrm flipH="1" flipV="1">
                  <a:off x="5286960" y="4885200"/>
                  <a:ext cx="784440" cy="421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0" name="Rectangle 22"/>
                <p:cNvSpPr/>
                <p:nvPr/>
              </p:nvSpPr>
              <p:spPr>
                <a:xfrm>
                  <a:off x="4764600" y="599868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1" name="AutoShape 23"/>
                <p:cNvCxnSpPr/>
                <p:nvPr/>
              </p:nvCxnSpPr>
              <p:spPr>
                <a:xfrm>
                  <a:off x="5085360" y="5092560"/>
                  <a:ext cx="777600" cy="307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2" name="AutoShape 24"/>
                <p:cNvCxnSpPr/>
                <p:nvPr/>
              </p:nvCxnSpPr>
              <p:spPr>
                <a:xfrm>
                  <a:off x="6121080" y="5748480"/>
                  <a:ext cx="570240" cy="29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3" name="AutoShape 25"/>
                <p:cNvCxnSpPr/>
                <p:nvPr/>
              </p:nvCxnSpPr>
              <p:spPr>
                <a:xfrm flipV="1">
                  <a:off x="5287680" y="5747760"/>
                  <a:ext cx="636480" cy="45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4" name="AutoShape 26"/>
                <p:cNvCxnSpPr/>
                <p:nvPr/>
              </p:nvCxnSpPr>
              <p:spPr>
                <a:xfrm flipH="1">
                  <a:off x="5085000" y="5704200"/>
                  <a:ext cx="777600" cy="2952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675" name="Group 27"/>
              <p:cNvGrpSpPr/>
              <p:nvPr/>
            </p:nvGrpSpPr>
            <p:grpSpPr>
              <a:xfrm>
                <a:off x="395280" y="4745520"/>
                <a:ext cx="3522960" cy="1673280"/>
                <a:chOff x="395280" y="4745520"/>
                <a:chExt cx="3522960" cy="1673280"/>
              </a:xfrm>
            </p:grpSpPr>
            <p:sp>
              <p:nvSpPr>
                <p:cNvPr id="676" name="Rectangle 28"/>
                <p:cNvSpPr/>
                <p:nvPr/>
              </p:nvSpPr>
              <p:spPr>
                <a:xfrm>
                  <a:off x="2014200" y="474552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77" name="AutoShape 29"/>
                <p:cNvCxnSpPr/>
                <p:nvPr/>
              </p:nvCxnSpPr>
              <p:spPr>
                <a:xfrm flipH="1" flipV="1">
                  <a:off x="2527560" y="4957560"/>
                  <a:ext cx="1171440" cy="338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8" name="AutoShape 30"/>
                <p:cNvCxnSpPr/>
                <p:nvPr/>
              </p:nvCxnSpPr>
              <p:spPr>
                <a:xfrm flipH="1">
                  <a:off x="918000" y="5550120"/>
                  <a:ext cx="278064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9" name="Rectangle 31"/>
                <p:cNvSpPr/>
                <p:nvPr/>
              </p:nvSpPr>
              <p:spPr>
                <a:xfrm>
                  <a:off x="395280" y="532764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32"/>
                <p:cNvSpPr/>
                <p:nvPr/>
              </p:nvSpPr>
              <p:spPr>
                <a:xfrm>
                  <a:off x="2770920" y="5999040"/>
                  <a:ext cx="523080" cy="419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1" name="AutoShape 33"/>
                <p:cNvCxnSpPr/>
                <p:nvPr/>
              </p:nvCxnSpPr>
              <p:spPr>
                <a:xfrm>
                  <a:off x="2537280" y="5099760"/>
                  <a:ext cx="1161720" cy="2991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82" name="AutoShape 34"/>
                <p:cNvCxnSpPr/>
                <p:nvPr/>
              </p:nvCxnSpPr>
              <p:spPr>
                <a:xfrm flipH="1">
                  <a:off x="3293640" y="5715000"/>
                  <a:ext cx="624960" cy="390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83" name="AutoShape 35"/>
                <p:cNvCxnSpPr/>
                <p:nvPr/>
              </p:nvCxnSpPr>
              <p:spPr>
                <a:xfrm flipV="1">
                  <a:off x="3062520" y="5703120"/>
                  <a:ext cx="636480" cy="291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AutoShape 1"/>
          <p:cNvCxnSpPr/>
          <p:nvPr/>
        </p:nvCxnSpPr>
        <p:spPr>
          <a:xfrm flipH="1">
            <a:off x="6000480" y="3214440"/>
            <a:ext cx="419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AutoShape 2"/>
          <p:cNvCxnSpPr/>
          <p:nvPr/>
        </p:nvCxnSpPr>
        <p:spPr>
          <a:xfrm flipH="1">
            <a:off x="4357440" y="3214440"/>
            <a:ext cx="419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AutoShape 3"/>
          <p:cNvCxnSpPr/>
          <p:nvPr/>
        </p:nvCxnSpPr>
        <p:spPr>
          <a:xfrm flipH="1">
            <a:off x="2857320" y="3214440"/>
            <a:ext cx="419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642960" y="26424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صح ينقل من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      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9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   إذا كانت كلها صحيح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d2336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خطأ في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ينقل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3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ثم يرجع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d2336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خطأ في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ينقل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7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4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8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و من كل واحد يرجع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2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d2336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خطأ في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ينقل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6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10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 ثم يرجع من كل واحد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cs typeface="Traditional Arabic"/>
              </a:rPr>
              <a:t>، ثم إلى 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9</a:t>
            </a:r>
            <a:r>
              <a:rPr b="1" lang="ar-SA" sz="2400" spc="-1" strike="noStrike">
                <a:solidFill>
                  <a:srgbClr val="0d2336"/>
                </a:solidFill>
                <a:latin typeface="Traditional Arabic"/>
                <a:ea typeface="Traditional Arabic"/>
              </a:rPr>
              <a:t> و هكذ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مربع نص 8"/>
          <p:cNvSpPr/>
          <p:nvPr/>
        </p:nvSpPr>
        <p:spPr>
          <a:xfrm>
            <a:off x="2786040" y="1214280"/>
            <a:ext cx="3429000" cy="1557000"/>
          </a:xfrm>
          <a:prstGeom prst="rect">
            <a:avLst/>
          </a:prstGeom>
          <a:solidFill>
            <a:srgbClr val="7ba79d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مثال للإطار التفر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من خلال الورقة التي أمام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ميزات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تتمثل مميزات التعليم المبرمج فيما يلي 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على تلبية احتياجات التلاميذ 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راعي الفروق الفردية بين التلاميذ؛ حيث يسير كل تلميذ في التعلم وفقا لسرعته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وافق التعليم المبرمج مع كثير من نظريات التعلم ونماذجه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متعلم إيجابي نشط باستمرار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هم في مواجهة الأعداد المتزايدة للتلاميذ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كون لدى المتعلم القدرة على تحمل مسئولية اتخاذ قراراته التي تتصل بأسلوب تعلمه 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7120" indent="-267120" algn="r" rtl="1">
              <a:lnSpc>
                <a:spcPct val="7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غير مقيد بالزمان أو المكان كما في التعليم التقليدي 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عيوب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عتماد المواد المبرمجة على اللفظية لتوصيل المحتوى لذلك يتم وضع ثقة كبيرة في قدرة المتعلم على القراءة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تكون برامج الخطية من مئات الأطراف التي قد تكون مملة نوعا ما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أسئلة البرنامج غالبا تركز على المعلومات و تهمل الجوانب الأخرى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قلة التفاعل بين التلاميذ وبعضهم البعض 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طلب إعداد البرنامج جهداً ، و وقتا و تكاليفاً عالية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8040" indent="-24804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 يصلح لتدريس مهارات مثل البحث العلمي ، والقدرة على حل المشكلات أو التفكير الابتكاري 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5f55"/>
                </a:solidFill>
                <a:latin typeface="Traditional Arabic"/>
              </a:rPr>
              <a:t>عمليات البرمجة في التعليم المبرمج  و المصادر المطلوبة لعمليات البرمجة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8" name="Line 157"/>
          <p:cNvSpPr/>
          <p:nvPr/>
        </p:nvSpPr>
        <p:spPr>
          <a:xfrm>
            <a:off x="776916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61"/>
          <p:cNvSpPr/>
          <p:nvPr/>
        </p:nvSpPr>
        <p:spPr>
          <a:xfrm>
            <a:off x="837072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80"/>
          <p:cNvSpPr/>
          <p:nvPr/>
        </p:nvSpPr>
        <p:spPr>
          <a:xfrm>
            <a:off x="776916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81"/>
          <p:cNvSpPr/>
          <p:nvPr/>
        </p:nvSpPr>
        <p:spPr>
          <a:xfrm>
            <a:off x="776916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84"/>
          <p:cNvSpPr/>
          <p:nvPr/>
        </p:nvSpPr>
        <p:spPr>
          <a:xfrm>
            <a:off x="8370720" y="10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5"/>
          <p:cNvSpPr/>
          <p:nvPr/>
        </p:nvSpPr>
        <p:spPr>
          <a:xfrm>
            <a:off x="837072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00"/>
          <p:cNvSpPr/>
          <p:nvPr/>
        </p:nvSpPr>
        <p:spPr>
          <a:xfrm>
            <a:off x="776916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4"/>
          <p:cNvSpPr/>
          <p:nvPr/>
        </p:nvSpPr>
        <p:spPr>
          <a:xfrm>
            <a:off x="8370720" y="15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Group 80" descr=""/>
          <p:cNvPicPr/>
          <p:nvPr/>
        </p:nvPicPr>
        <p:blipFill>
          <a:blip r:embed="rId1"/>
          <a:stretch/>
        </p:blipFill>
        <p:spPr>
          <a:xfrm>
            <a:off x="-73080" y="1481040"/>
            <a:ext cx="9290160" cy="5450040"/>
          </a:xfrm>
          <a:prstGeom prst="rect">
            <a:avLst/>
          </a:prstGeom>
          <a:ln w="0">
            <a:noFill/>
          </a:ln>
        </p:spPr>
      </p:pic>
      <p:sp>
        <p:nvSpPr>
          <p:cNvPr id="707" name="Line 269"/>
          <p:cNvSpPr/>
          <p:nvPr/>
        </p:nvSpPr>
        <p:spPr>
          <a:xfrm>
            <a:off x="776916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73"/>
          <p:cNvSpPr/>
          <p:nvPr/>
        </p:nvSpPr>
        <p:spPr>
          <a:xfrm>
            <a:off x="837072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87"/>
          <p:cNvSpPr/>
          <p:nvPr/>
        </p:nvSpPr>
        <p:spPr>
          <a:xfrm>
            <a:off x="776916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91"/>
          <p:cNvSpPr/>
          <p:nvPr/>
        </p:nvSpPr>
        <p:spPr>
          <a:xfrm>
            <a:off x="8370720" y="3156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عمليات البرمجة في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324000" y="1557000"/>
            <a:ext cx="8424720" cy="4824360"/>
            <a:chOff x="324000" y="1557000"/>
            <a:chExt cx="8424720" cy="4824360"/>
          </a:xfrm>
        </p:grpSpPr>
        <p:sp>
          <p:nvSpPr>
            <p:cNvPr id="713" name="Text Box 5"/>
            <p:cNvSpPr/>
            <p:nvPr/>
          </p:nvSpPr>
          <p:spPr>
            <a:xfrm>
              <a:off x="324000" y="1568520"/>
              <a:ext cx="8424720" cy="48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4" name="AutoShape 6"/>
            <p:cNvCxnSpPr/>
            <p:nvPr/>
          </p:nvCxnSpPr>
          <p:spPr>
            <a:xfrm flipH="1">
              <a:off x="623880" y="3655800"/>
              <a:ext cx="79603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15" name="Text Box 7"/>
            <p:cNvSpPr/>
            <p:nvPr/>
          </p:nvSpPr>
          <p:spPr>
            <a:xfrm>
              <a:off x="6306120" y="2255760"/>
              <a:ext cx="1937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حلي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8"/>
            <p:cNvSpPr/>
            <p:nvPr/>
          </p:nvSpPr>
          <p:spPr>
            <a:xfrm>
              <a:off x="6322320" y="3984480"/>
              <a:ext cx="19382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كتاب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9"/>
            <p:cNvSpPr/>
            <p:nvPr/>
          </p:nvSpPr>
          <p:spPr>
            <a:xfrm>
              <a:off x="6297480" y="5280120"/>
              <a:ext cx="19382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نقي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"/>
            <p:cNvSpPr/>
            <p:nvPr/>
          </p:nvSpPr>
          <p:spPr>
            <a:xfrm>
              <a:off x="1373040" y="1823400"/>
              <a:ext cx="2063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ـحليل المتعل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1373040" y="2449440"/>
              <a:ext cx="2063880" cy="332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حليل المادة العلم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12"/>
            <p:cNvSpPr/>
            <p:nvPr/>
          </p:nvSpPr>
          <p:spPr>
            <a:xfrm>
              <a:off x="1373040" y="3090240"/>
              <a:ext cx="2063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ـحليل المهار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13"/>
            <p:cNvSpPr/>
            <p:nvPr/>
          </p:nvSpPr>
          <p:spPr>
            <a:xfrm>
              <a:off x="1922760" y="3984480"/>
              <a:ext cx="231732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كتابة النسخة الأول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4"/>
            <p:cNvSpPr/>
            <p:nvPr/>
          </p:nvSpPr>
          <p:spPr>
            <a:xfrm>
              <a:off x="2907720" y="5131080"/>
              <a:ext cx="193788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تقويم المتخصص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15"/>
            <p:cNvSpPr/>
            <p:nvPr/>
          </p:nvSpPr>
          <p:spPr>
            <a:xfrm>
              <a:off x="2910960" y="5852160"/>
              <a:ext cx="19382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جري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6"/>
            <p:cNvSpPr/>
            <p:nvPr/>
          </p:nvSpPr>
          <p:spPr>
            <a:xfrm>
              <a:off x="1021680" y="5146560"/>
              <a:ext cx="11516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نقي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7"/>
            <p:cNvSpPr/>
            <p:nvPr/>
          </p:nvSpPr>
          <p:spPr>
            <a:xfrm>
              <a:off x="1053360" y="5875200"/>
              <a:ext cx="115164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raditional Arabic"/>
                </a:rPr>
                <a:t>التنقي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6" name="AutoShape 18"/>
            <p:cNvCxnSpPr/>
            <p:nvPr/>
          </p:nvCxnSpPr>
          <p:spPr>
            <a:xfrm flipH="1">
              <a:off x="698400" y="4678560"/>
              <a:ext cx="796032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27" name="AutoShape 19"/>
            <p:cNvCxnSpPr/>
            <p:nvPr/>
          </p:nvCxnSpPr>
          <p:spPr>
            <a:xfrm>
              <a:off x="2377080" y="2136600"/>
              <a:ext cx="1080" cy="3132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8" name="AutoShape 20"/>
            <p:cNvCxnSpPr/>
            <p:nvPr/>
          </p:nvCxnSpPr>
          <p:spPr>
            <a:xfrm>
              <a:off x="2334240" y="2781720"/>
              <a:ext cx="1080" cy="3132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9" name="AutoShape 21"/>
            <p:cNvCxnSpPr/>
            <p:nvPr/>
          </p:nvCxnSpPr>
          <p:spPr>
            <a:xfrm>
              <a:off x="2359440" y="3423960"/>
              <a:ext cx="1080" cy="561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0" name="AutoShape 22"/>
            <p:cNvCxnSpPr/>
            <p:nvPr/>
          </p:nvCxnSpPr>
          <p:spPr>
            <a:xfrm>
              <a:off x="3736800" y="4298040"/>
              <a:ext cx="1440" cy="8337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1" name="AutoShape 23"/>
            <p:cNvCxnSpPr/>
            <p:nvPr/>
          </p:nvCxnSpPr>
          <p:spPr>
            <a:xfrm>
              <a:off x="3736800" y="5451840"/>
              <a:ext cx="1440" cy="4010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AutoShape 24"/>
            <p:cNvCxnSpPr/>
            <p:nvPr/>
          </p:nvCxnSpPr>
          <p:spPr>
            <a:xfrm>
              <a:off x="7210080" y="2568960"/>
              <a:ext cx="1080" cy="10875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AutoShape 25"/>
            <p:cNvCxnSpPr/>
            <p:nvPr/>
          </p:nvCxnSpPr>
          <p:spPr>
            <a:xfrm>
              <a:off x="7259760" y="5593320"/>
              <a:ext cx="1080" cy="7772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4" name="AutoShape 26"/>
            <p:cNvCxnSpPr/>
            <p:nvPr/>
          </p:nvCxnSpPr>
          <p:spPr>
            <a:xfrm>
              <a:off x="7210080" y="4298040"/>
              <a:ext cx="1080" cy="381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AutoShape 27"/>
            <p:cNvCxnSpPr/>
            <p:nvPr/>
          </p:nvCxnSpPr>
          <p:spPr>
            <a:xfrm flipV="1">
              <a:off x="7209720" y="4678920"/>
              <a:ext cx="1440" cy="6012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6" name="AutoShape 28"/>
            <p:cNvCxnSpPr/>
            <p:nvPr/>
          </p:nvCxnSpPr>
          <p:spPr>
            <a:xfrm flipH="1" flipV="1">
              <a:off x="7209360" y="3655800"/>
              <a:ext cx="7920" cy="328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7" name="AutoShape 29"/>
            <p:cNvCxnSpPr/>
            <p:nvPr/>
          </p:nvCxnSpPr>
          <p:spPr>
            <a:xfrm flipV="1">
              <a:off x="7208280" y="1557000"/>
              <a:ext cx="1080" cy="699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AutoShape 30"/>
            <p:cNvCxnSpPr/>
            <p:nvPr/>
          </p:nvCxnSpPr>
          <p:spPr>
            <a:xfrm flipV="1">
              <a:off x="1622520" y="4922280"/>
              <a:ext cx="2081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9" name="AutoShape 31"/>
            <p:cNvCxnSpPr/>
            <p:nvPr/>
          </p:nvCxnSpPr>
          <p:spPr>
            <a:xfrm flipV="1">
              <a:off x="1703880" y="5659560"/>
              <a:ext cx="2081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0" name="AutoShape 32"/>
            <p:cNvCxnSpPr/>
            <p:nvPr/>
          </p:nvCxnSpPr>
          <p:spPr>
            <a:xfrm flipH="1" flipV="1">
              <a:off x="2200320" y="5258520"/>
              <a:ext cx="7102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مستطيل 15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6"/>
          <p:cNvGrpSpPr/>
          <p:nvPr/>
        </p:nvGrpSpPr>
        <p:grpSpPr>
          <a:xfrm>
            <a:off x="2050560" y="4868640"/>
            <a:ext cx="1081080" cy="1152360"/>
            <a:chOff x="2050560" y="4868640"/>
            <a:chExt cx="1081080" cy="1152360"/>
          </a:xfrm>
        </p:grpSpPr>
        <p:cxnSp>
          <p:nvCxnSpPr>
            <p:cNvPr id="743" name="AutoShape 37"/>
            <p:cNvCxnSpPr/>
            <p:nvPr/>
          </p:nvCxnSpPr>
          <p:spPr>
            <a:xfrm flipH="1" flipV="1">
              <a:off x="2553120" y="6020280"/>
              <a:ext cx="5788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4" name="AutoShape 38"/>
            <p:cNvCxnSpPr/>
            <p:nvPr/>
          </p:nvCxnSpPr>
          <p:spPr>
            <a:xfrm flipV="1">
              <a:off x="2050560" y="4868640"/>
              <a:ext cx="1080" cy="231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745" name="AutoShape 39"/>
            <p:cNvCxnSpPr/>
            <p:nvPr/>
          </p:nvCxnSpPr>
          <p:spPr>
            <a:xfrm flipV="1">
              <a:off x="2050560" y="5636160"/>
              <a:ext cx="1080" cy="2041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ولاً: التحليل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50560" y="1599840"/>
            <a:ext cx="851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- </a:t>
            </a: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تحليل المتعلمين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وصف مجتمع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جميع معلومات عن احتياجات مجتمع المتعلم المختلف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عرفة ما لدى المتعلم من معلومات و مهارات سابق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أهمية تحليل المتعلم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571680" y="4071960"/>
            <a:ext cx="82152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نا في اختيار المادة العلمية المناسبة للمجت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نا على التعرف على الخبرات المتصلة بالمادة العلم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معرفة ما لدى المتعلم من معلومات ساب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ما لدى المتعلم من مهار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f7b615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رتباط تحليل المتعلم بتحليل المادة العلمية إلى وحدات صغي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مستطيل 4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3964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كيف نقوم بتحليل المتعلم ؟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19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ن خلال تقديم استبيانات للخبراء للإجابة عليها بالإضافة إلى المقابلات مع قادة الرأي و المتعلمين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3851280" y="2060640"/>
          <a:ext cx="3241800" cy="4537080"/>
        </p:xfrm>
        <a:graphic>
          <a:graphicData uri="http://schemas.openxmlformats.org/drawingml/2006/table">
            <a:tbl>
              <a:tblPr/>
              <a:tblGrid>
                <a:gridCol w="3241800"/>
              </a:tblGrid>
              <a:tr h="4537080">
                <a:tc>
                  <a:txBody>
                    <a:bodyPr lIns="33840" rIns="3384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ستبيان تقويم (( </a:t>
                      </a: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)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ادة العلمية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تشعر أن المادة العلمية للبرنامج تقدم مساعدة للمجتمع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– هل سيشعر المتعلم بأن المادة العلمية للبرنامج هامة له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يقدم البرنامج معلومات صحيحة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البرنامج سهل الفهم من المتعلم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المصطلحات المقدمة في البرنامج تم شرحها بعناية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يحتوي البرنامج على أسئلة كافية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هل الأمثلة ذات معنى يفهمه المتعلم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نعم ____    لا _____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من فضلك اكتب أي مقترحات تساعد في تطوير البرنامج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ا هي المعلومات المغلوطة أو غير الضرورية التي يجب شطبها من البرنامج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ا هي المعلومات الهامة التي يجب إضافتها إلى البرنامج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ما الأمثلة التي يجب إضافتها إلى البرنامج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- كيف نجعل البرنامج أكثر تشويقاً للمتعلم ؟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...................................................................................................................................................................................................................................................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28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c4545"/>
                </a:solidFill>
                <a:latin typeface="Traditional Arabic"/>
              </a:rPr>
              <a:t>ثانياً: تحليل المادة العلمي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42600" y="2142720"/>
            <a:ext cx="7643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أهمية تحليل المادة العل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الأنشطة التعليمية المختلف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حصول على قائمة للبرنامج مبتدئين بما يعرفه المتعلم و من ثم الوصول إلى مرحلة إتقان المهارات الجديد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حصول على مجموعة من الأهداف السلوكية ل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3360" indent="-6033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بناء الامتحانات النهائية من أجل قياس كفاءة البرنامج و التعرف على أوجه القصور في البرنامج و من ثم تنقيح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تعريف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cs typeface="Traditional Arabic"/>
              </a:rPr>
              <a:t>هو الطريقة التي يمكن بموجبها أن نقوم بالتحكم في الخبرات التعليمية التي يحصل عليها المتعلم بكل عناية و تحديدها و ترتيب تتابعها بحيث تجعل الفرد يتعلم بنفسه و يكتشف أخطاءه و يصححها حتى يصل إلى الأداء المناسب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   ويعرفه (أحمد حامد منصور ، </a:t>
            </a: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1990</a:t>
            </a: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) بأنه: </a:t>
            </a:r>
            <a:r>
              <a:rPr b="0" lang="ar-SA" sz="2400" spc="-1" strike="noStrike">
                <a:solidFill>
                  <a:srgbClr val="7b3d17"/>
                </a:solidFill>
                <a:latin typeface="Traditional Arabic"/>
                <a:cs typeface="Traditional Arabic"/>
              </a:rPr>
              <a:t>برنامج تعليمي أعدت فيه المادة التعليمية إعداداً خاصاً ، وتعرض في صور مختلفة (كتاب مبرمج – آلة تعليمية – أجهزة عرض) وذلك من أجل قيادة التلميذ وتوجيهه نحو السلوك المنشود </a:t>
            </a:r>
            <a:r>
              <a:rPr b="0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6320" indent="-25632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كلمة </a:t>
            </a:r>
            <a:r>
              <a:rPr b="1" i="1" lang="ar-SA" sz="2400" spc="-1" strike="noStrike" u="sng">
                <a:solidFill>
                  <a:srgbClr val="594740"/>
                </a:solidFill>
                <a:uFillTx/>
                <a:latin typeface="Traditional Arabic"/>
                <a:cs typeface="Traditional Arabic"/>
              </a:rPr>
              <a:t>المبرمج</a:t>
            </a:r>
            <a:r>
              <a:rPr b="1" i="1" lang="ar-SA" sz="2400" spc="-1" strike="noStrike">
                <a:solidFill>
                  <a:srgbClr val="594740"/>
                </a:solidFill>
                <a:latin typeface="Traditional Arabic"/>
                <a:ea typeface="Traditional Arabic"/>
              </a:rPr>
              <a:t> لها معنيان هما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31120" algn="r" rtl="1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المواد التعليمية المصاغة و المنظمة بعناي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31120" algn="r" rtl="1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594740"/>
                </a:solidFill>
                <a:latin typeface="Traditional Arabic"/>
                <a:cs typeface="Traditional Arabic"/>
              </a:rPr>
              <a:t>تخطيط و إعداد المواد التعليمية بأسلوب منهجي منظم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6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ثانياً: تحليل المادة العلمية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أساليب تحليل المادة العل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  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لتحليل المادة العلمية لابد من القيام بالعمليات التالية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بالترتيب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، و ه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ويل موضوع المادة العلمية المختارة إلى غاية تعليمية يكون المتعلم قادراً على تنفيذها بعد الانتهاء من دراسة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ليل الغاية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98560" indent="-54252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ea typeface="Traditional Arabic"/>
              </a:rPr>
              <a:t>   تقسيم الغاية التعليمية إلى مجموعة من الأنشطة التعليمية القصير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أكد من صحة تحليل المادة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	</a:t>
            </a: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cs typeface="Traditional Arabic"/>
              </a:rPr>
              <a:t>إكمال جميع الأنشطة التعليمية و إلغاء الأنشطة المتكررة و الغير ضروري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رتيب تسلسل الأنشطة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00"/>
                </a:solidFill>
                <a:latin typeface="Traditional Arabic"/>
                <a:ea typeface="Traditional Arabic"/>
              </a:rPr>
              <a:t>	</a:t>
            </a: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cs typeface="Traditional Arabic"/>
              </a:rPr>
              <a:t>ترتيب الأنشطة التعليمية ترتيباً متدرجاً من البسيط إلى المعقد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SzPct val="60000"/>
              <a:buFont typeface="Traditional Arab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بناء الاختبارات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8000"/>
                </a:solidFill>
                <a:latin typeface="Traditional Arabic"/>
                <a:ea typeface="Traditional Arabic"/>
              </a:rPr>
              <a:t>	</a:t>
            </a:r>
            <a:r>
              <a:rPr b="1" lang="ar-SA" sz="2600" spc="-1" strike="noStrike">
                <a:solidFill>
                  <a:srgbClr val="808000"/>
                </a:solidFill>
                <a:latin typeface="Traditional Arabic"/>
                <a:cs typeface="Traditional Arabic"/>
              </a:rPr>
              <a:t>بناء الاختبار لكل واحد من الأنشطة التعليمية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2160" indent="-542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ثالثاً.تحليل المهارات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500040" y="121392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ن الصعوبة الفصل بين تعلم المادة العلمية و اكتساب المهارات في أي برنامج تعليمي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أهمية تحليل المهارات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أن من أهم أهداف برامج التعلم المبرمج هو تعلم المهارا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أن نوع المهارة المطلوبة يحدد نوع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في تحديد نوعية الاختبارات المناسبة لمستوى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في اختيار الموضوعات و الأساليب المناسبة أثناء تدريس المادة العل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الخطوات العامة لتحليل المهارا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ديد الهدف العام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ديد الأهداف الخاصة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حديد و تحليل مهارات المتعلمي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78880" indent="-578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كتابة النسخة الأولية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0" y="1196640"/>
            <a:ext cx="876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خطوات كتابة البرنامج الخط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إعداد قائمة التسلسل التعليمي للأنشطة التعلي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تابة سؤال مقابل كل نشاط تعليمي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ظيم إطارات الأسئلة في قائمة البرنامج: بحيث يكون كل إطار سؤال بعد كل إطار تعليم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قيح و مراجعة إطارات الأسئ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تابة مجموعة من الإطارات التعلي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قيح الإطارات التعليمية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      يجب التأكد من أن كل إطار تعليمي يحتوي على ثلاثة أقسام:(</a:t>
            </a:r>
            <a:r>
              <a:rPr b="0" lang="ar-SA" sz="2400" spc="-1" strike="noStrike">
                <a:solidFill>
                  <a:srgbClr val="990000"/>
                </a:solidFill>
                <a:latin typeface="Traditional Arabic"/>
                <a:cs typeface="Traditional Arabic"/>
              </a:rPr>
              <a:t>تقديم معلومات جديدة, وضع أسئلة, إعطاء إجابات صحيحة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ظيم البرنامج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00"/>
                </a:solidFill>
                <a:latin typeface="Traditional Arabic"/>
                <a:ea typeface="Traditional Arabic"/>
              </a:rPr>
              <a:t>       كتابة البرنامج و وضعه في إطار خاص مستقل و مرن حيث يكون قابل للمراجعة و التنقيح أثناء مرحلة التجريب و المراجع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ثالثاً: تنقيح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خطوات تنقيح البرنامج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1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-</a:t>
            </a: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ea typeface="Traditional Arabic"/>
              </a:rPr>
              <a:t> تقويم المختصين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نحتاج إلى ثلاثة أنواع من المختصين و ه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ختصين في المادة العلم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ختصين في مجتمع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ختصين في مجال المهار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و للاستفادة التامة من المختصين يُقترح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ستخدام أكثر من مختص واحد لكي نستفيد أكثر من مقترحاته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ل مختص يعمل حسب تخصص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شرح كيف يعمل البرنامج للمختصي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بدء بالمادة العلمية مع المختصي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خطوات تنقيح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تجريب مع المتعل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عمليات التي نقوم بها أثناء التجريب مع المتعل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لاحظة سلوك المتعلم بعنا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تعرف على المشكلات في إجراء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نقيح البرنامج على ضوء ما سبق.</a:t>
            </a:r>
            <a:r>
              <a:rPr b="0" lang="en-US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قسام عمليات تجريب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57200" y="119700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تجريب الفردي مع المتعلم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هدف منه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3333ff"/>
                </a:solidFill>
                <a:latin typeface="Traditional Arabic"/>
                <a:cs typeface="Traditional Arabic"/>
              </a:rPr>
              <a:t>اكتشاف المشكلات الرئيسية من أجل عمل معظم التنقيحات و يتم ذلك من خلال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قوم المبرمج باختبار البرنامج مع المتعلم و يتولى القيام بملاحظة المتعلم و الاستماع إلى ملاحظاته و تسجيلها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لابد أن يكون المتعلم الذي يتم اختباره قادر على اكتشاف أهم مشكلات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م طباعة البرنامج بعناية تامة أو كتابته بخط واضح تسهل قراءته من قبل المتعلم بحيث يكون كل إطار في صفحة مستقلة لسهولة تنقيحها و تعديلها أو حذفها بدون التأثير على الأجزاء الأخرى من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أن يكون الغرض من التجريب واضحاً للمتعلم، فليس الغرض امتحان المتعلم أو تدريسه، و لكن يجب أن يكون مفهوماً لديه أنه يقدم مساهمة فعالة ل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ألا يكون وقت التجريب طويلاً لئلا يمل المتعلم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6040" indent="-53604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هذه التنقيحات تعد البرنامج للقسم التالي و هو التجريب الجماعي</a:t>
            </a:r>
            <a:r>
              <a:rPr b="0" lang="ar-SA" sz="2400" spc="-1" strike="noStrike">
                <a:solidFill>
                  <a:srgbClr val="006600"/>
                </a:solidFill>
                <a:latin typeface="Traditional Arabic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قسام عمليات تجريب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08000" y="1197000"/>
            <a:ext cx="8856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ea typeface="Traditional Arabic"/>
              </a:rPr>
              <a:t> التجريب الجماعي مع المتعلمين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هدف منه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3333ff"/>
                </a:solidFill>
                <a:latin typeface="Traditional Arabic"/>
                <a:cs typeface="Traditional Arabic"/>
              </a:rPr>
              <a:t>الحصول على معلومات أدق و أشمل من أجل المزيد من التنقيحات للبرنامج، و ذلك من خلال عمل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ختيار مجموعة من المتعلمين الذين يتمتعون بدقة الملاحظة و يكون عددهم ما بين عشرة إلى خمسة عشر فرداً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مل العديد من نسخ البرنامج في شكلها النهائي، و في هذه المرحلة لا نحتاج إلى وضع كل إطار في صفحة مستق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كتابة إرشادات عمل للمتعلم قبل التجريب لكي يستطيع التعامل مع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جب تسجيل الملاحظات حول سلوك المتعلمين أثناء التجريب و كذلك الوقت الذي استغرقه أثناء العمل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قد ينتهي بعض المتعلمين قبل غيرهم فمن المهم عدم دفع الآخرين للسرعة و التحدث مع من أنهى البرنامج عن خبراتهم حول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جمع كل النسخ من المتعلمين، لأن إجابتهم تقدم معلومات مفيدة جداً للتنقيح.</a:t>
            </a:r>
            <a:r>
              <a:rPr b="0" lang="en-US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قسام عمليات تجريب البرنا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50560" y="1125000"/>
            <a:ext cx="8467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التجريب في المجا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ff"/>
                </a:solidFill>
                <a:latin typeface="Traditional Arabic"/>
                <a:cs typeface="Traditional Arabic"/>
              </a:rPr>
              <a:t>أي القيام بتجريب البرنامج في مجال عمله مع المتعلمين أنفسهم، من خلال ما يل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ختيار المعلم الذي يسجل الملاحظات الدقيقة عن أثر البرنامج، و يتعامل مع المتعلم في نفس المجتمع المقصود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م إعداد البرنامج للطباعة، بحيث تكون أنيقة منظمة و إرفاق كتيبات الإرشادات عن كيفية استخدام البرنامج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قيام بعملية التجريب و تسجيل الملاحظا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جمع كل النسخ من المتعلمين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428760" y="507204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و هذه نهاية عملية التجريب و لكن عمليات التنقيح و المتابعة سوف تستمر مادام أن هناك برنامجاً يستخدم مع المتعلمي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مستطيل 5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مستطيل 6"/>
          <p:cNvSpPr/>
          <p:nvPr/>
        </p:nvSpPr>
        <p:spPr>
          <a:xfrm>
            <a:off x="7000920" y="6572160"/>
            <a:ext cx="214308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الخلاصة</a:t>
            </a:r>
            <a:br>
              <a:rPr sz="24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أن التعليم المبرمج يمر بعدة خطوات مرتبة و مدروسة حتى يتم الوصول إلى الشكل النهائي للبرنامج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مليات البرمجة في التعليم المبرمج  تتم في ثلاثة خطوات رئيسية و هي: التحليل و الكتابة و التنقيح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كل عملية من عمليات البرمجة في التعليم المبرمج  تتم في عدد من الخطوات التي تتطلب الحصول و جمع المعلومات من عدة مصادر و من أهمها: الأفراد و المهارات و الوق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م الحصول على المعلومات لإكمال عمليات البرمجة في التعليم المبرمج من خلال مقابلات و مناقشات و توزيع الاستبيانات على الأفراد 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عمليات التنقيح و المتابعة ليس لها نهاية فسوف تستمر مادام أن هناك برنامجاً يستخدم مع المتعلمين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WordArt 5"/>
          <p:cNvSpPr txBox="1"/>
          <p:nvPr/>
        </p:nvSpPr>
        <p:spPr>
          <a:xfrm>
            <a:off x="1619280" y="119700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شكراً على حسن الاستماع</a:t>
            </a:r>
            <a:endParaRPr b="1" lang="en-US" sz="1800" spc="1" strike="noStrike">
              <a:ln w="12600">
                <a:solidFill>
                  <a:srgbClr val="805b4c"/>
                </a:solidFill>
                <a:miter/>
              </a:ln>
              <a:solidFill>
                <a:srgbClr val="f7e5c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4" name="Text Box 4" descr=""/>
          <p:cNvPicPr/>
          <p:nvPr/>
        </p:nvPicPr>
        <p:blipFill>
          <a:blip r:embed="rId1"/>
          <a:stretch/>
        </p:blipFill>
        <p:spPr>
          <a:xfrm>
            <a:off x="2286000" y="3870360"/>
            <a:ext cx="483408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تعريف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1197000"/>
            <a:ext cx="8893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89880" indent="-389880" algn="r" rtl="1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aditional Arabic"/>
                <a:cs typeface="Traditional Arabic"/>
              </a:rPr>
              <a:t>وهناك العديد من التعريفات للتعليم المبرمج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89880" indent="-3898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رسم تخطيطي 5" descr=""/>
          <p:cNvPicPr/>
          <p:nvPr/>
        </p:nvPicPr>
        <p:blipFill>
          <a:blip r:embed="rId1"/>
          <a:stretch/>
        </p:blipFill>
        <p:spPr>
          <a:xfrm>
            <a:off x="-6480" y="1616040"/>
            <a:ext cx="915696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08000" y="2743200"/>
            <a:ext cx="885672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75f55"/>
                </a:solidFill>
                <a:uFillTx/>
                <a:latin typeface="Tw Cen MT"/>
              </a:rPr>
              <a:t>المراجع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5f55"/>
                </a:solidFill>
                <a:latin typeface="Tw Cen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زيتون، أ.د.كمال عبدالحميد(</a:t>
            </a: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1425</a:t>
            </a: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هـ). </a:t>
            </a:r>
            <a:r>
              <a:rPr b="1" i="1" lang="ar-SA" sz="2800" spc="-1" strike="noStrike">
                <a:solidFill>
                  <a:srgbClr val="775f55"/>
                </a:solidFill>
                <a:latin typeface="Tw Cen MT"/>
                <a:cs typeface="AL-Mohanad"/>
              </a:rPr>
              <a:t>تكنولوجيا التعليم في عصر المعلومات والاتصالات</a:t>
            </a: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. الطبعة الثانية، القاهرة، عالم الكتب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5f55"/>
                </a:solidFill>
                <a:latin typeface="Tw Cen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5f55"/>
                </a:solidFill>
                <a:latin typeface="Tw Cen MT"/>
              </a:rPr>
              <a:t>موقع الدكتور/ محمد المشيقح.</a:t>
            </a:r>
            <a:r>
              <a:rPr b="1" lang="en-US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1" lang="en-US" sz="1700" spc="-1" strike="noStrike">
                <a:solidFill>
                  <a:srgbClr val="775f55"/>
                </a:solidFill>
                <a:latin typeface="Tw Cen MT"/>
              </a:rPr>
              <a:t>http://faculty.ksu.edu.sa/mshm/Pages/505%d9%88%d8%b3%d9%84.aspx</a:t>
            </a:r>
            <a:r>
              <a:rPr b="1" lang="ar-SA" sz="1700" spc="-1" strike="noStrike">
                <a:solidFill>
                  <a:srgbClr val="775f55"/>
                </a:solidFill>
                <a:latin typeface="Tw Cen MT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سس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50560" y="1628640"/>
            <a:ext cx="878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أولاً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: حصول التعلم بخطوات صغيرة، لعدة أسباب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Traditional Arabic"/>
              </a:rPr>
              <a:t>ثانياً: التعلم يتم بالنشاط الإيجابي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	</a:t>
            </a: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r>
              <a:rPr b="0" lang="ar-SA" sz="23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حيث يتم التعلم بالإجابة على الأسئلة و هذا أفضل من أسلوب القراءة و حفظ المعلومات، كما أن إجابة المتعلم تظهر مدى فهمه التام للمعلومات المقدمة في الإطار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رسم تخطيطي 5" descr=""/>
          <p:cNvPicPr/>
          <p:nvPr/>
        </p:nvPicPr>
        <p:blipFill>
          <a:blip r:embed="rId1"/>
          <a:stretch/>
        </p:blipFill>
        <p:spPr>
          <a:xfrm>
            <a:off x="347760" y="2120760"/>
            <a:ext cx="827244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سس التعليم المبرمج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ثالثاً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: قيام المتعلم بالتأكد من إجابته حالاً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إذا كانت إجابة المتعلم صحيحة يتشجع و يكون أكثر حماس، و إذا كانت خاطئة فإن المتعلم يرى خطأه حالاً فيقوم بتصحيحه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رابعاً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: يحدث التعلم من البسيط إلى المعق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اعد المتعلم على فهم ما يقوم بتعلمه بيسر و سهول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c4545"/>
                </a:solidFill>
                <a:uFillTx/>
                <a:latin typeface="Traditional Arabic"/>
                <a:cs typeface="Traditional Arabic"/>
              </a:rPr>
              <a:t>خامساً</a:t>
            </a: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: يسير كل متعلم حسب سرعته في التعلم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	</a:t>
            </a: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فالمتعلم ليس مقيداً بوقت معين و بذلك يراعي البرنامج الفروق الفردية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أهداف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2720" y="1197000"/>
            <a:ext cx="8153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c4545"/>
                </a:solidFill>
                <a:latin typeface="Traditional Arabic"/>
                <a:ea typeface="Traditional Arabic"/>
              </a:rPr>
              <a:t> </a:t>
            </a:r>
            <a:r>
              <a:rPr b="1" lang="ar-SA" sz="24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من الأهداف التي يسعى هذا النوع من التعليم إلى تحقيقها 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عليم الفرد كيفية مزاولة أو ممارسة الأنشطة التي تؤثر في إدراكه لجوانب الموقف التعليمي الذي يوجد فيه 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أكيد قدرة الدارس أو التلميذ على إدراك جوانب الموقف التعليمي الذي يوجد فيه 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ستخدام التلميذ لقدراته واستعداداته في سبيل الوصول إلى غايته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ممارسة التلميذ وفقا لإمكانياته الدراسية و التحصيلية 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48280" indent="-548280" algn="r" rtl="1">
              <a:lnSpc>
                <a:spcPct val="10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إكساب التلميذ الثقة في نفسه نتيجة تحمله مسئولية التعلم (عرفات سليمان ، </a:t>
            </a: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1979</a:t>
            </a:r>
            <a:r>
              <a:rPr b="1" lang="ar-SA" sz="24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) 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الخصائص الرئيسية للتعليم المبرمج 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c4545"/>
                </a:solidFill>
                <a:latin typeface="Traditional Arabic"/>
                <a:cs typeface="Traditional Arabic"/>
              </a:rPr>
              <a:t>تتمثل الخصائص الرئيسية للتعليم المبرمج في :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عمل كل تلميذ في التعليم المبرمج بمفرده ، لذا فهو تعليم ذاتي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تعلم كل تلميذ في التعليم المبرمج حسب سرعته الخاصة ؛ لذا فهو يواجه الفروق الفردية بين التلاميذ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تقسم المادة التعليمية في التعليم المبرمج إلى إطارات وينتهي كل إطار بسؤال يطلب من المتعلم الإجابة عليه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سمح التعليم المبرمج للتلميذ بمعرفة الإجابة الصحيحة بمجرد الانتهاء من إجابته على السؤال ، فيعزز ذلك عملية التعلم 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Traditional Arab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يوجه البرنامج التلميذ عندما يخطئ في الإجابة عن أحد الأسئلة على ما يجب عليه عمله قبل انتقاله إل الإطار التالي .</a:t>
            </a:r>
            <a:r>
              <a:rPr b="0" lang="en-US" sz="2200" spc="-1" strike="noStrike">
                <a:solidFill>
                  <a:srgbClr val="002060"/>
                </a:solidFill>
                <a:latin typeface="Traditional Arabic"/>
                <a:ea typeface="Traditional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raditional Arabic"/>
              </a:rPr>
              <a:t>مبادئ التعليم المبرمج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436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raditional Arabic"/>
                <a:cs typeface="Traditional Arabic"/>
              </a:rPr>
              <a:t>المبادئ التي يقوم عليها التعليم المبرمج ليست جديدة ، ويمكن صياغة هذه المبادئ كما يلي </a:t>
            </a: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6" name="مستطيل 3"/>
          <p:cNvSpPr/>
          <p:nvPr/>
        </p:nvSpPr>
        <p:spPr>
          <a:xfrm>
            <a:off x="6929280" y="6572160"/>
            <a:ext cx="2143440" cy="285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رسم تخطيطي 5" descr=""/>
          <p:cNvPicPr/>
          <p:nvPr/>
        </p:nvPicPr>
        <p:blipFill>
          <a:blip r:embed="rId1"/>
          <a:stretch/>
        </p:blipFill>
        <p:spPr>
          <a:xfrm>
            <a:off x="165240" y="1828800"/>
            <a:ext cx="8723160" cy="464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06:25Z</dcterms:created>
  <dc:creator>2:21</dc:creator>
  <dc:description/>
  <dc:language>en-US</dc:language>
  <cp:lastModifiedBy>subaiet</cp:lastModifiedBy>
  <dcterms:modified xsi:type="dcterms:W3CDTF">2015-03-30T06:09:25Z</dcterms:modified>
  <cp:revision>156</cp:revision>
  <dc:subject/>
  <dc:title>لمحة تاريخية عن التعليم المبرمج:</dc:title>
</cp:coreProperties>
</file>