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360B3-C55A-44EB-8FAC-9826C0039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1E621-FAE6-4716-9947-AD805941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0BBF45-94C0-43EA-9A00-0F2E14E547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E0D4D-35AA-4C8C-ABC9-FDC6E665AC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AFE45F-B90A-4DC6-B8B0-F864A18D1D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8A7DF-2B37-4E52-9483-BA8F357101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A3C01F-18A3-4D35-B084-CA9C0DCD9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DA50C-74E6-41F0-8160-9D2D782CCF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26E0C7-64FF-4A0F-A38A-D0F04084AA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E3C4D6-E5F2-4445-A5F0-FAFA00E412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1DC0B1-FB2F-4E8C-9476-7837E51BB0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6415A2-F318-4830-8B31-7E4B637231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E9D92-8EF0-42CD-83FC-1B49FC9B8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87BD48-F786-4FDF-BCE7-4E7BA92050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C6AABF-859F-4693-AF27-983AE482FA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A97343-2061-494C-9DD1-2E2A6241B5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AA399B-967F-4D99-86DF-9B62D28A64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FFF987-E1ED-4141-B8CF-A2A1BDA7DE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3F23B5-5B34-4860-88D7-CBE0C718E6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1B19CA-CF36-4FB3-92D1-7DD97842F5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727F26-72BE-42A0-AAA8-5812470F7A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DBA422-6B38-4329-B4A2-48A59EBE57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FFE000-5F1D-4880-8859-50418F52FD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CC082-C2CA-4410-BE8A-36B46C943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8322BB-14D2-4303-BA97-A1EEAC70BB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43D95F-19CA-4B63-8A18-D71E0BEBC6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97B697-BA94-4303-9028-3F3447C901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3BDE1A-13E9-487D-B97F-1E562057AF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06C75E-6CE3-4CC4-9EAB-14CA03F870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0C1650-B7A1-45CF-8E9C-C7E371EE10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839E6B-BE77-4E07-B939-536273FFE5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CD8C22-537B-4ECF-97C2-4AAC62FBB6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BBAA0A-BAFC-4734-8CCB-DC51813E2A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C82AB5-ACFE-44E7-89E9-4BE4A5FB8F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95BBE-77EA-4F27-A29E-DE474B8C8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454C1A-DDAD-4DAB-9339-B18CEDEB87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FC01F9-15A8-485F-B6C8-8B0BF99F8A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06C6A5-06FA-4504-A1FE-FCB1F95D2C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411788-58D6-4845-AD81-9D7EB123BD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F02A46-D16B-4ADA-BA36-2064800988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D45737-020A-4D80-AECC-FB35474A6B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8223EE-113C-4C9B-85B7-5A1C829578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0EDF90-90CB-4387-9D13-1BF454FAE6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867442-F9D1-41F7-80FE-A8BCE88383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AB3078-45F6-487E-BD7E-AD6C9D17E7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AC057-4324-4176-855E-5FB507C2C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66E83C-1BC1-48E5-B577-7AA2853F54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C52F56-81F3-4F8B-B8E3-9DC9B33795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628F6C-BCD0-4D3C-816C-E4D038928F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1537BB-4979-445D-BFB3-C4FFB45339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B07298-5181-43FC-9D5D-E7B222E1B9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55841DF-9456-4FCE-9ECA-CF6364BB5D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CF29AF-7A5C-40C3-B1B1-38EDE3CC4C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2989B9-43F6-4B4A-B7B4-6C945616A4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775077-967A-467F-8D9C-6DB65B3653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2C2481-A12F-44E4-B39D-0929A6841C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DC7C2-DB0E-46EF-B2D1-15727B8F2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93B9A8-9B74-4076-BA1F-EF134BDD61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8AF49C-522B-4E16-BADF-FCF964E410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1E4AE7-2215-41EE-B3BE-B0098FFFD8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DF4EC9-87C7-499A-9026-00E8C36E50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4FB00E-FB5B-4974-99AA-F335860C2B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86F8297-AB81-4405-8967-71BB9252599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4F453A-0ECC-4FEC-AF13-3C1BD0B57E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D6C6CB-FC4D-40E2-81BA-EA670DB7CC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C89575-AFC5-423C-9C50-030E6D26CF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7DCC6B-E7B7-4BE2-8D4E-CC32C57918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B8E7C-3CB6-4BA8-98DC-E6E70BE3E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89B600-A14B-434A-938B-67FF60A33A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778948-125F-4B44-A8F6-7FE7EC3286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8BEA92-C08F-4D30-A109-3EF46901B9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79B068-BA89-40A2-8C48-5EEDDF5F09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45223E-9FB5-4489-A3C2-811D09B069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2F7D69-F830-46BF-8B17-FABFA828AA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EFF6E4-F32A-4230-B6AD-14CD4AE1A6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5224BAE-EC76-43DF-8435-A4D3DA82B74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2E36524-02CA-4EB6-9A36-AACEC81F596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0AD04E0-0780-41CE-B569-2060E5B547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C6AEE-4FD0-496F-AEAF-0332786B2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E48D4F-F62C-40B0-B259-23F2436857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31B7CF-88DE-4897-9635-968EF389311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66EB0D-A6C4-4A94-81E2-8067873805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BB461B6-574E-484F-BF34-E879A65DC6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C4848A-8CFA-4CFD-BBCF-A4A3588AD7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A5FE26-D2BD-48AB-A390-B57079CE15A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36B59A-98E2-40F4-92C0-3A60FA3DCB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BC99B5-EE60-4A5A-AAF9-E85094F8E2B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7D824E-70A0-492D-8232-4355E37D37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6519D96-4ABF-4BA2-AA82-EE9FDB04B76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23A7E-3509-4BC3-BD96-736518B94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4FBD27D-7261-4D38-A89C-E1E329D1C99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3DC4280-289B-4B5B-9447-8B3F3A9AC8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1A0047F-5499-47EE-9A55-B180D16E8E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74FDE6-6338-4D24-A0D6-41A3C7816AF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69893A-B325-4558-8D8E-6018C41D3A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96B333-1D30-4B3F-A43D-00B7E3A49E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6C8AF78-D42B-424A-B2A3-C77E3F9B31B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E35336-A849-4001-9D86-3D664EB2D1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51E810-BF9E-4796-8105-833D257978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331CFA-C0AD-408E-889D-8BF7C5D009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0ABF9-3D1E-4414-846A-E4E5D31DA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E199533-E966-4501-B1A5-AF4041A9C4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0CA7E0D-1857-4CA0-961F-2281D6B3FE6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030A0B4-F8CE-418B-B901-4299D83D967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8242F12-DC19-4336-9BA0-32B14995CB7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E113F03-57D5-4D43-8291-9634231FACA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A0E994-4C8B-4582-9948-43420BD6E63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00A197E-CBEF-4210-99DB-11A437D8AE7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4ED209-59E7-4F5D-A229-79C66BFA53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C761837-59BC-483D-BFF9-FBBC08944C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C63F23-B36E-4603-A034-0B2A99975C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B8658-1915-4578-8DD5-05851FAC9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D3164-92D3-4DCC-BA79-CFA95E79E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A16C70B-3AB9-4DB5-AF51-29B0DF5E44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F31599-A7DE-4DA4-A3C8-A9B225002E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9540B0D-CE2B-42A5-93A4-F1D01177A9A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AF5B22D-27C1-4B00-8844-5380AF306C1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651AD3A-3D7C-4DE9-84C4-AD411F5375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26A55-D5C8-47E6-AC46-5066A6F88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80AE7-D00A-40DE-B895-5D8A08C06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14688-A074-4442-88A1-89CAAD65E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3B2FD-177D-4E0A-83D9-FC0FD17A5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43221D-4544-400E-B6C9-EB0841FE64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1FC8B-7110-499C-B1D5-B8DBEF2751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2C0DD-F4F9-4D02-B49F-618FCAD32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691FC-0E55-4754-934E-EDE5774DF8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CA980-A3B2-4F86-BF32-713C42470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383C4-2494-4C35-A48D-825986808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01161-CCE9-4B67-BD0F-8D3860175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40BD0-F55B-4E0E-83C8-AEECD1BA2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BE8AA-71A3-4924-AF2C-BE9AC349A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F30F7-3A90-4CBA-82BE-485479CE4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844B3-B2B9-4243-A566-10CCB408BB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55234F-A0ED-4D2D-83E3-9A3053B19E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D845AC-0BEF-43AD-8BB5-8F8E794A66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9B7DC4-BA8A-481F-8BA5-BED39911DA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218B9-3BFD-48AC-B7FB-E6FDA24BB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5F6A4-D6F1-4046-8981-0233D4FB0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44A6-B344-4D5B-9F4E-819DBD67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00510-43C2-4324-ADE5-A76E6D4BB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94DA80-1256-4DA0-95FC-046DFF390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53F1EE-457A-45DB-9474-859391FE6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CD7C0-7880-4324-89BC-53610C7ED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40330-0F18-422D-9944-627FB2EF4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EE2A7-6859-4033-A55E-92991D88B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D267E-B08F-48B1-A56F-F15A89E4A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723ED7-DFA0-4083-A19F-E07AE56F00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D91194-7A6F-4EBB-B7A6-B2F72E0A95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578306-4419-4D96-858F-345CD428FE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66B3-84E1-413A-9607-34EFFB651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F015D-B819-41F8-8E15-11C04482A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E8B95B-CAEE-402E-9260-9CEDC73788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B3CDD-C1F2-4DF6-B529-676AF2630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AC418C-D319-4E26-A5D0-1E69EAA63F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E8E703-0A69-4DA9-A881-CB0EBD668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83F00-6E56-4DF9-8D6E-E1855EAC2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86A27-593F-44A7-8C38-B088AA7E4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ADC62-0EEF-4154-8AD8-3BD7AE67C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3AC17-BCE1-4CD8-8564-B900B3B94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514224-AC2B-403B-9950-C81B40B1B2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81C34-C9D1-4012-88D6-098545407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B672C6-28A9-4FF7-9BC8-5853F109E7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F29658-5A83-40FE-B418-8D8DE733AA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C8BEF-01A3-4953-BEC9-545E845EA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AB2D7B-1B26-431D-924B-75C3A8D090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D2B3EE-12A1-43E9-AE4C-472B9495F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618963-1667-482B-B784-A7F1D0AE5F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5E379F-E0CD-4D6B-8FDB-4CA1077AC5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F01D9-1056-4564-9836-4EE5886E6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73949-DBEE-4DC0-A60C-A90B2D0FC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C3EDDD-A08D-4439-88A5-97984C435B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A1F26-AACD-4C0B-B2C9-E1FD82F6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F3DA9C-CB25-4909-A645-C94418D94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F87F81-90FA-42EA-AF95-AA6BDA88F8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F1CEE6-2F5B-4E45-B2C2-7D2E8ACECD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1B38F9-B484-4D8C-B946-AE7DB4F657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3C6788-68A1-408D-B630-DC5594978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7B5E17-0651-461E-97EB-17E85634CB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50477D-2AEF-418B-8EF2-A3F00F317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A3961-FF5D-4DE3-BCDA-5A36403F0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9D144-2B21-47A8-B00D-352E2CF4B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01095-FABE-4C36-BE37-8AD1CA171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3C3D4-9BDA-48FF-92F1-33DAE4087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BEFC68-7E9E-4F95-8646-BB0AA5DBD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A1728B-589C-422C-83BE-60CB6A639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9F0988-CDFA-4D15-9425-0B8B54172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90ED31-22D8-49E2-80A0-8CFD84ACA4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050C4B-98E5-432D-B6FE-E1C5DE653D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9D662F-817F-4CBD-A81F-17ED2CD72F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86F75A-7592-4D45-9E4E-A855949C0D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4EB56D-9224-4ACF-83BC-3E6A2BADA5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8F042-06DC-4E30-B3F2-445F953993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E5B5F4-5F5C-4707-A3DE-E2B59088E3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EDF4-16E6-484F-AAF7-09DAFF6F6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BCF15B-8CDC-482C-9D27-946AEABA8E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B45929-F3FC-42CC-BE84-AD61C0FB4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0F2353-7781-4C2E-8321-F4DB14629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99DF21-0EA1-4433-9842-843A465D9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9AC8C1-E356-4358-8062-E93DB2B89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A3600C-157A-47B6-8647-BC748936CA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F1AD2A-C916-4480-8F8C-18AFDDBE2D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DA36B4-72A1-4B9A-9FDD-9252B2BDD9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B490D0-D67F-482F-B25A-02543BF640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03926B-1F0A-42D9-B61C-5FD57101CD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D5373-37AF-448C-A71E-6B018620DBB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FF73D-0C66-4F93-9084-8D2C7463A4D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B2EE6-8C94-4526-99B9-E4770EC0CF0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C1C57-7C71-438F-83F8-CFFD67B8CF6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F5F44-1470-446B-9EC6-D6CD3326164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9A5F2-7193-4663-B7DD-6076570E651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C5C5F-BC61-42D8-ACCD-FE440E702E4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A6C7A-21B7-407F-822D-A41D4F68A78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45CE5-AB1D-40BD-970A-6CF22062A58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27B74-1749-4353-BFAD-7748792DFEB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17797-63DA-415A-B4DE-4A20991A2C2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08BF4-65D3-426C-A961-114C58BFB9E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A26F3-48BE-425E-B32C-145DA0688FC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16D6A-73CB-4908-9B71-E58805D8F8F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20C9B-037F-485F-A656-1ADE31E3473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3F3C3-BC4E-4D0F-B866-F985E8A44E7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CB6D2-8172-4C31-BA4B-CDD024E7B8EF}"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imgres?imgurl=http://www.scielo.br/img/revistas/bjm/v41n2/a35fig01.jpg&amp;imgrefurl=http://www.scielo.br/scielo.php%3Fpid%3DS1517-83822010000200035%26script%3Dsci_arttext&amp;usg=__RVM8B1e-UAU-OgMbj3oMRwKvcNU=&amp;h=388&amp;w=402&amp;sz=106&amp;hl=ar&amp;start=5&amp;zoom=0&amp;tbnid=xu7tCrTK_BxiMM:&amp;tbnh=120&amp;tbnw=124&amp;ei=XX5jTYi5GI_qOa26ybwJ&amp;prev=/images%3Fq%3Dgrowth%2Bof%2Bfungi%2Bpetri%2Bdish%26hl%3Dar%26safe%3Dactive%26sa%3DX%26gbv%3D2%26tbs%3Disch:1&amp;itbs=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332000" y="1341000"/>
            <a:ext cx="6480000" cy="258300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262626"/>
                </a:solidFill>
                <a:latin typeface="Century Gothic"/>
                <a:cs typeface="Akhbar MT"/>
              </a:rPr>
              <a:t>التقدير الكمي للنمو الفطري</a:t>
            </a:r>
            <a:br>
              <a:rPr sz="3200"/>
            </a:br>
            <a:r>
              <a:rPr b="0" lang="en-US" sz="3200" spc="-1" strike="noStrike">
                <a:solidFill>
                  <a:srgbClr val="262626"/>
                </a:solidFill>
                <a:latin typeface="Century Gothic"/>
                <a:ea typeface="Akhbar MT"/>
              </a:rPr>
              <a:t>Quantative measurment of fungal growth</a:t>
            </a:r>
            <a:endParaRPr b="0" lang="en-US" sz="32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250560" y="189000"/>
            <a:ext cx="8893080" cy="3527280"/>
          </a:xfrm>
          <a:prstGeom prst="rect">
            <a:avLst/>
          </a:prstGeom>
          <a:noFill/>
          <a:ln w="0">
            <a:noFill/>
          </a:ln>
        </p:spPr>
        <p:txBody>
          <a:bodyPr anchor="t">
            <a:normAutofit fontScale="78000"/>
          </a:bodyPr>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تعريف النمو الفطري:</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عتبر النمو الزيادة في عدد الأنوية وفي عدد الخلايا وحجمها أو في كمية الماد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بنائية الحي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أطوار النمو في الفطر:</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مر الفطر أثناء نموه بعدة أطوار هي:</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تمهيدي: وفيه تبدأ الخلايا في الاستعداد للانقسام. </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لوغارتمي: وفيه يكون معدل الانقسام أعلى ما يمكن.</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ثبات: وفيه يحدث توازن بين عدد الخلايا المنقسمة والخلايا التالفة.</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تحلل أو الموت: وفيه تبدأ الخلايا في التحلل التدريجي حتى الموت.</a:t>
            </a:r>
            <a:endParaRPr b="0" lang="en-US" sz="2800" spc="-1" strike="noStrike">
              <a:solidFill>
                <a:srgbClr val="404040"/>
              </a:solidFill>
              <a:latin typeface="Century Gothic"/>
            </a:endParaRPr>
          </a:p>
        </p:txBody>
      </p:sp>
      <p:pic>
        <p:nvPicPr>
          <p:cNvPr id="1178" name="صورة 2" descr=""/>
          <p:cNvPicPr/>
          <p:nvPr/>
        </p:nvPicPr>
        <p:blipFill>
          <a:blip r:embed="rId1"/>
          <a:stretch/>
        </p:blipFill>
        <p:spPr>
          <a:xfrm>
            <a:off x="1835280" y="4295880"/>
            <a:ext cx="705780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1258560" y="188640"/>
            <a:ext cx="746748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رق قياس النمو الفطري:</a:t>
            </a:r>
            <a:endParaRPr b="0" lang="en-US" sz="2800" spc="-1" strike="noStrike">
              <a:solidFill>
                <a:srgbClr val="262626"/>
              </a:solidFill>
              <a:latin typeface="Century Gothic"/>
            </a:endParaRPr>
          </a:p>
        </p:txBody>
      </p:sp>
      <p:sp>
        <p:nvSpPr>
          <p:cNvPr id="1180" name=""/>
          <p:cNvSpPr txBox="1"/>
          <p:nvPr/>
        </p:nvSpPr>
        <p:spPr>
          <a:xfrm>
            <a:off x="590400" y="404640"/>
            <a:ext cx="8229600" cy="4530960"/>
          </a:xfrm>
          <a:prstGeom prst="rect">
            <a:avLst/>
          </a:prstGeom>
          <a:noFill/>
          <a:ln w="0">
            <a:noFill/>
          </a:ln>
        </p:spPr>
        <p:txBody>
          <a:bodyPr anchor="t">
            <a:normAutofit/>
          </a:bodyPr>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تغير في عدد الخلايا وحجمها.</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قياس الخطي لقطر المستعمر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قياس كمية بعض المكونات الخلوية مثل كمية المواد الفينولي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800" spc="-1" strike="noStrike">
              <a:solidFill>
                <a:srgbClr val="404040"/>
              </a:solidFill>
              <a:latin typeface="Century Gothic"/>
            </a:endParaRPr>
          </a:p>
        </p:txBody>
      </p:sp>
      <p:sp>
        <p:nvSpPr>
          <p:cNvPr id="1181" name="Rectangle 4"/>
          <p:cNvSpPr/>
          <p:nvPr/>
        </p:nvSpPr>
        <p:spPr>
          <a:xfrm>
            <a:off x="-31680" y="5373720"/>
            <a:ext cx="85690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لقياس معدل النمو الفطري على البيئات الصلبة نستخدم قياس قطر المستعمرة</a:t>
            </a:r>
            <a:r>
              <a:rPr b="0" lang="ar-SA" sz="2800" spc="-1" strike="noStrike">
                <a:solidFill>
                  <a:srgbClr val="3333ff"/>
                </a:solidFill>
                <a:latin typeface="Century Gothic"/>
                <a:ea typeface="Akhbar MT"/>
              </a:rPr>
              <a:t>. </a:t>
            </a: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أما على البيئات السائلة نستخدم طريقة الوزن الجاف</a:t>
            </a: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a:t>
            </a:r>
            <a:endParaRPr b="0" lang="en-US" sz="2800" spc="-1" strike="noStrike">
              <a:solidFill>
                <a:srgbClr val="000000"/>
              </a:solidFill>
              <a:latin typeface="Century Gothic"/>
            </a:endParaRPr>
          </a:p>
        </p:txBody>
      </p:sp>
      <p:pic>
        <p:nvPicPr>
          <p:cNvPr id="1182" name="Picture 6" descr="stock photo : Fungus in a petri dish">
            <a:hlinkClick r:id="rId1"/>
          </p:cNvPr>
          <p:cNvPicPr/>
          <p:nvPr/>
        </p:nvPicPr>
        <p:blipFill>
          <a:blip r:embed="rId2"/>
          <a:stretch/>
        </p:blipFill>
        <p:spPr>
          <a:xfrm>
            <a:off x="900000" y="3284640"/>
            <a:ext cx="367200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700000" y="696600"/>
            <a:ext cx="482436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الطرق المعملية لقياس معدل النمو في الفطريات</a:t>
            </a:r>
            <a:br>
              <a:rPr sz="2800"/>
            </a:br>
            <a:endParaRPr b="0" lang="en-US" sz="2800" spc="-1" strike="noStrike">
              <a:solidFill>
                <a:srgbClr val="262626"/>
              </a:solidFill>
              <a:latin typeface="Century Gothic"/>
            </a:endParaRPr>
          </a:p>
        </p:txBody>
      </p:sp>
      <p:sp>
        <p:nvSpPr>
          <p:cNvPr id="1184" name=""/>
          <p:cNvSpPr txBox="1"/>
          <p:nvPr/>
        </p:nvSpPr>
        <p:spPr>
          <a:xfrm>
            <a:off x="1908000" y="2133360"/>
            <a:ext cx="659160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p:txBody>
      </p:sp>
      <p:sp>
        <p:nvSpPr>
          <p:cNvPr id="1185" name="Rectangle 4"/>
          <p:cNvSpPr/>
          <p:nvPr/>
        </p:nvSpPr>
        <p:spPr>
          <a:xfrm>
            <a:off x="2935440" y="580680"/>
            <a:ext cx="6100560" cy="6066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Arial"/>
                <a:cs typeface="Akhbar MT"/>
              </a:rPr>
              <a:t>طريقة قياس قطر المستعمرة</a:t>
            </a:r>
            <a:r>
              <a:rPr b="0" lang="ar-SA" sz="2800" spc="-1" strike="noStrike">
                <a:solidFill>
                  <a:srgbClr val="ff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800" spc="-1" strike="noStrike">
                <a:solidFill>
                  <a:srgbClr val="000000"/>
                </a:solidFill>
                <a:latin typeface="Arial"/>
                <a:ea typeface="Akhbar MT"/>
              </a:rPr>
              <a:t>7</a:t>
            </a:r>
            <a:r>
              <a:rPr b="0" lang="ar-SA" sz="2800" spc="-1" strike="noStrike">
                <a:solidFill>
                  <a:srgbClr val="000000"/>
                </a:solidFill>
                <a:latin typeface="Arial"/>
                <a:ea typeface="Akhbar MT"/>
              </a:rPr>
              <a:t>-</a:t>
            </a:r>
            <a:r>
              <a:rPr b="0" lang="ar-SA" sz="2800" spc="-1" strike="noStrike">
                <a:solidFill>
                  <a:srgbClr val="000000"/>
                </a:solidFill>
                <a:latin typeface="Arial"/>
                <a:ea typeface="Akhbar MT"/>
              </a:rPr>
              <a:t>14</a:t>
            </a:r>
            <a:r>
              <a:rPr b="0" lang="ar-SA" sz="2800" spc="-1" strike="noStrike">
                <a:solidFill>
                  <a:srgbClr val="000000"/>
                </a:solidFill>
                <a:latin typeface="Arial"/>
                <a:cs typeface="Akhbar MT"/>
              </a:rPr>
              <a:t>يوم) ثم تحضن في درجة حرارة </a:t>
            </a:r>
            <a:r>
              <a:rPr b="0" lang="ar-SA" sz="2800" spc="-1" strike="noStrike">
                <a:solidFill>
                  <a:srgbClr val="000000"/>
                </a:solidFill>
                <a:latin typeface="Arial"/>
                <a:ea typeface="Akhbar MT"/>
              </a:rPr>
              <a:t>25</a:t>
            </a:r>
            <a:r>
              <a:rPr b="0" lang="ar-SA" sz="2800" spc="-1" strike="noStrike">
                <a:solidFill>
                  <a:srgbClr val="000000"/>
                </a:solidFill>
                <a:latin typeface="Arial"/>
                <a:cs typeface="Akhbar MT"/>
              </a:rPr>
              <a:t>م أو في جو المعمل لمدة أسبوع</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مع مراعاة أخذ قياس قطر المستعمرة على فترات منتظمة وذلك بعمل خطين متعامدين على قاعدة الطبق وقياس كلاً منها وأخذ المتوسط ثم تمثل النتيجة بياني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pic>
        <p:nvPicPr>
          <p:cNvPr id="1186" name="Picture 143" descr="">
            <a:hlinkClick r:id="rId1"/>
          </p:cNvPr>
          <p:cNvPicPr/>
          <p:nvPr/>
        </p:nvPicPr>
        <p:blipFill>
          <a:blip r:embed="rId2"/>
          <a:stretch/>
        </p:blipFill>
        <p:spPr>
          <a:xfrm>
            <a:off x="530280" y="1806480"/>
            <a:ext cx="251928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708000" y="3284280"/>
            <a:ext cx="5203800" cy="2592360"/>
          </a:xfrm>
          <a:prstGeom prst="rect">
            <a:avLst/>
          </a:prstGeom>
          <a:noFill/>
          <a:ln w="0">
            <a:noFill/>
          </a:ln>
        </p:spPr>
        <p:txBody>
          <a:bodyPr anchor="t">
            <a:normAutofit fontScale="98000"/>
          </a:bodyPr>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0" lang="ar-SA" sz="2800" spc="-1" strike="noStrike">
                <a:solidFill>
                  <a:srgbClr val="3333ff"/>
                </a:solidFill>
                <a:latin typeface="Century Gothic"/>
                <a:cs typeface="Akhbar MT"/>
              </a:rPr>
              <a:t>سلبيات هذه الطريقة:</a:t>
            </a:r>
            <a:endParaRPr b="0" lang="en-US" sz="2800" spc="-1" strike="noStrike">
              <a:solidFill>
                <a:srgbClr val="404040"/>
              </a:solidFill>
              <a:latin typeface="Century Gothic"/>
            </a:endParaRPr>
          </a:p>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نها تهمل سمك الميسليوم النامي في الطبق فبعض الفطريات قد لا تتوسع في النمو بشكل أفقي بقدر توسعها فيه بشكل رأسي.</a:t>
            </a:r>
            <a:endParaRPr b="0" lang="en-US" sz="2800" spc="-1" strike="noStrike">
              <a:solidFill>
                <a:srgbClr val="404040"/>
              </a:solidFill>
              <a:latin typeface="Century Gothic"/>
            </a:endParaRPr>
          </a:p>
        </p:txBody>
      </p:sp>
      <p:sp>
        <p:nvSpPr>
          <p:cNvPr id="1188"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9"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aphicFrame>
        <p:nvGraphicFramePr>
          <p:cNvPr id="1190" name=""/>
          <p:cNvGraphicFramePr/>
          <p:nvPr/>
        </p:nvGraphicFramePr>
        <p:xfrm>
          <a:off x="1835280" y="666720"/>
          <a:ext cx="6615000" cy="1736640"/>
        </p:xfrm>
        <a:graphic>
          <a:graphicData uri="http://schemas.openxmlformats.org/drawingml/2006/table">
            <a:tbl>
              <a:tblPr/>
              <a:tblGrid>
                <a:gridCol w="1655640"/>
                <a:gridCol w="1652760"/>
                <a:gridCol w="1653840"/>
                <a:gridCol w="1652760"/>
              </a:tblGrid>
              <a:tr h="916920">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متوسط</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ترة التحضين (يوم)</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4</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1" name="Picture 36" descr=""/>
          <p:cNvPicPr/>
          <p:nvPr/>
        </p:nvPicPr>
        <p:blipFill>
          <a:blip r:embed="rId1"/>
          <a:stretch/>
        </p:blipFill>
        <p:spPr>
          <a:xfrm>
            <a:off x="574560" y="3056040"/>
            <a:ext cx="349272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79280" y="620640"/>
            <a:ext cx="6769080" cy="7192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Century Gothic"/>
                <a:ea typeface="Akhbar MT"/>
              </a:rPr>
              <a:t> طريقة الوزن الجاف</a:t>
            </a:r>
            <a:r>
              <a:rPr b="1" lang="en-US" sz="2800" spc="-1" strike="noStrike">
                <a:solidFill>
                  <a:srgbClr val="ff0000"/>
                </a:solidFill>
                <a:latin typeface="Century Gothic"/>
                <a:ea typeface="Akhbar MT"/>
              </a:rPr>
              <a:t> </a:t>
            </a:r>
            <a:r>
              <a:rPr b="1" lang="en-US" sz="2800" spc="-1" strike="noStrike">
                <a:solidFill>
                  <a:srgbClr val="ff0000"/>
                </a:solidFill>
                <a:latin typeface="Century Gothic"/>
                <a:ea typeface="Akhbar MT"/>
              </a:rPr>
              <a:t>Dry weight method</a:t>
            </a:r>
            <a:r>
              <a:rPr b="1" lang="en-US" sz="2800" spc="-1" strike="noStrike">
                <a:solidFill>
                  <a:srgbClr val="ff0000"/>
                </a:solidFill>
                <a:latin typeface="Century Gothic"/>
                <a:ea typeface="Akhbar MT"/>
              </a:rPr>
              <a:t> </a:t>
            </a:r>
            <a:r>
              <a:rPr b="1" lang="ar-SA" sz="2800" spc="-1" strike="noStrike">
                <a:solidFill>
                  <a:srgbClr val="ff0000"/>
                </a:solidFill>
                <a:latin typeface="Century Gothic"/>
                <a:ea typeface="Akhbar MT"/>
              </a:rPr>
              <a:t> </a:t>
            </a:r>
            <a:br>
              <a:rPr sz="2800"/>
            </a:br>
            <a:endParaRPr b="0" lang="en-US" sz="2800" spc="-1" strike="noStrike">
              <a:solidFill>
                <a:srgbClr val="262626"/>
              </a:solidFill>
              <a:latin typeface="Century Gothic"/>
            </a:endParaRPr>
          </a:p>
        </p:txBody>
      </p:sp>
      <p:sp>
        <p:nvSpPr>
          <p:cNvPr id="1193" name=""/>
          <p:cNvSpPr txBox="1"/>
          <p:nvPr/>
        </p:nvSpPr>
        <p:spPr>
          <a:xfrm>
            <a:off x="179280" y="1628640"/>
            <a:ext cx="8785440" cy="4608720"/>
          </a:xfrm>
          <a:prstGeom prst="rect">
            <a:avLst/>
          </a:prstGeom>
          <a:noFill/>
          <a:ln w="0">
            <a:noFill/>
          </a:ln>
        </p:spPr>
        <p:txBody>
          <a:bodyPr anchor="t">
            <a:normAutofit fontScale="80000"/>
          </a:bodyPr>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       تعتبر هذه الطريقة أكثر دقة وبها يترك الفطر لينمو لفترة محدودة حيث يقاس  خلالها الوزن الجاف للفطر على فترات منتظم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ff0000"/>
                </a:solidFill>
                <a:latin typeface="Century Gothic"/>
                <a:cs typeface="Akhbar MT"/>
              </a:rPr>
              <a:t>طريقة العمـــــل:</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تحضر عدد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فلاسكات لكل مجموعة تحتوي على بيئة تشابك دوكس سائل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تحضن الفلاسكات عند درجة حرارة </a:t>
            </a:r>
            <a:r>
              <a:rPr b="0" lang="ar-SA" sz="2800" spc="-1" strike="noStrike">
                <a:solidFill>
                  <a:srgbClr val="404040"/>
                </a:solidFill>
                <a:latin typeface="Century Gothic"/>
                <a:ea typeface="Akhbar MT"/>
              </a:rPr>
              <a:t>25</a:t>
            </a:r>
            <a:r>
              <a:rPr b="0" lang="ar-SA" sz="2800" spc="-1" strike="noStrike">
                <a:solidFill>
                  <a:srgbClr val="404040"/>
                </a:solidFill>
                <a:latin typeface="Century Gothic"/>
                <a:cs typeface="Akhbar MT"/>
              </a:rPr>
              <a:t>م.</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4</a:t>
            </a:r>
            <a:r>
              <a:rPr b="0" lang="ar-SA" sz="2800" spc="-1" strike="noStrike">
                <a:solidFill>
                  <a:srgbClr val="404040"/>
                </a:solidFill>
                <a:latin typeface="Century Gothic"/>
                <a:ea typeface="Akhbar MT"/>
              </a:rPr>
              <a:t>- بعد أسبوع يتم ترشيح الفلاسكة رقم (</a:t>
            </a: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بالكامل من خلال قمع ويؤخذ النمو الفطري بالكامل على ورقة ترشيح معلوم الوزن.</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5</a:t>
            </a:r>
            <a:r>
              <a:rPr b="0" lang="ar-SA" sz="2800" spc="-1" strike="noStrike">
                <a:solidFill>
                  <a:srgbClr val="404040"/>
                </a:solidFill>
                <a:latin typeface="Century Gothic"/>
                <a:ea typeface="Akhbar MT"/>
              </a:rPr>
              <a:t>- يوضع النمو الفطري في فرن درجة حرارته من (</a:t>
            </a:r>
            <a:r>
              <a:rPr b="0" lang="ar-SA" sz="2800" spc="-1" strike="noStrike">
                <a:solidFill>
                  <a:srgbClr val="404040"/>
                </a:solidFill>
                <a:latin typeface="Century Gothic"/>
                <a:ea typeface="Akhbar MT"/>
              </a:rPr>
              <a:t>50</a:t>
            </a:r>
            <a:r>
              <a:rPr b="0" lang="ar-SA"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60</a:t>
            </a:r>
            <a:r>
              <a:rPr b="0" lang="ar-SA" sz="2800" spc="-1" strike="noStrike">
                <a:solidFill>
                  <a:srgbClr val="404040"/>
                </a:solidFill>
                <a:latin typeface="Century Gothic"/>
                <a:ea typeface="Akhbar MT"/>
              </a:rPr>
              <a:t> م) لمدة </a:t>
            </a:r>
            <a:r>
              <a:rPr b="0" lang="ar-SA" sz="2800" spc="-1" strike="noStrike">
                <a:solidFill>
                  <a:srgbClr val="404040"/>
                </a:solidFill>
                <a:latin typeface="Century Gothic"/>
                <a:ea typeface="Akhbar MT"/>
              </a:rPr>
              <a:t>48</a:t>
            </a:r>
            <a:r>
              <a:rPr b="0" lang="ar-SA" sz="2800" spc="-1" strike="noStrike">
                <a:solidFill>
                  <a:srgbClr val="404040"/>
                </a:solidFill>
                <a:latin typeface="Century Gothic"/>
                <a:ea typeface="Akhbar MT"/>
              </a:rPr>
              <a:t> ساع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427640" y="2349360"/>
            <a:ext cx="4465440" cy="9367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Century Gothic"/>
                <a:cs typeface="Simplified Arabic"/>
              </a:rPr>
              <a:t>النتائج</a:t>
            </a:r>
            <a:endParaRPr b="0" lang="en-US" sz="3600" spc="-1" strike="noStrike">
              <a:solidFill>
                <a:srgbClr val="262626"/>
              </a:solidFill>
              <a:latin typeface="Century Gothic"/>
            </a:endParaRPr>
          </a:p>
        </p:txBody>
      </p:sp>
      <p:sp>
        <p:nvSpPr>
          <p:cNvPr id="1195" name=""/>
          <p:cNvSpPr txBox="1"/>
          <p:nvPr/>
        </p:nvSpPr>
        <p:spPr>
          <a:xfrm>
            <a:off x="250920" y="620640"/>
            <a:ext cx="8686800" cy="4530960"/>
          </a:xfrm>
          <a:prstGeom prst="rect">
            <a:avLst/>
          </a:prstGeom>
          <a:noFill/>
          <a:ln w="0">
            <a:noFill/>
          </a:ln>
        </p:spPr>
        <p:txBody>
          <a:bodyPr anchor="t">
            <a:normAutofit fontScale="98000"/>
          </a:bodyPr>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6</a:t>
            </a:r>
            <a:r>
              <a:rPr b="0" lang="ar-SA" sz="2800" spc="-1" strike="noStrike">
                <a:solidFill>
                  <a:srgbClr val="404040"/>
                </a:solidFill>
                <a:latin typeface="Century Gothic"/>
                <a:ea typeface="Akhbar MT"/>
              </a:rPr>
              <a:t>- بعد جفاف الفطر يتم حساب الوزن الجاف للفطر كالآتي:</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7</a:t>
            </a:r>
            <a:r>
              <a:rPr b="0" lang="ar-SA" sz="2800" spc="-1" strike="noStrike">
                <a:solidFill>
                  <a:srgbClr val="404040"/>
                </a:solidFill>
                <a:latin typeface="Century Gothic"/>
                <a:ea typeface="Akhbar MT"/>
              </a:rPr>
              <a:t>- الوزن الجاف للفطر=(وزن ورقة الترشيح+وزن الفطر) – وزن ورقة الترشيح.</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تكرر نفس الخطوات بالنسبة للفلاسكة رقم (</a:t>
            </a: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بعد أسبوعين و الفلاسكة رقم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بعد ثلاثة أسابيع من بدء التجربة. بعدها تسجل النتائج وتمثل بيانيا على منحنى النمو .ً</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Century Gothic"/>
                <a:cs typeface="Akhbar MT"/>
              </a:rPr>
              <a:t>ملاحظة: كلما زادت فترة التحضين زاد النمو الفطري إلى حد معين بعده يبدأ النمو في التدهور والانحلال.</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graphicFrame>
        <p:nvGraphicFramePr>
          <p:cNvPr id="1196" name=""/>
          <p:cNvGraphicFramePr/>
          <p:nvPr/>
        </p:nvGraphicFramePr>
        <p:xfrm>
          <a:off x="2268360" y="4437000"/>
          <a:ext cx="5135760" cy="2016360"/>
        </p:xfrm>
        <a:graphic>
          <a:graphicData uri="http://schemas.openxmlformats.org/drawingml/2006/table">
            <a:tbl>
              <a:tblPr/>
              <a:tblGrid>
                <a:gridCol w="2567160"/>
                <a:gridCol w="2568600"/>
              </a:tblGrid>
              <a:tr h="504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وزن الجاف</a:t>
                      </a:r>
                      <a:endParaRPr b="0" lang="en-US" sz="2000" spc="-1" strike="noStrike">
                        <a:solidFill>
                          <a:srgbClr val="000000"/>
                        </a:solidFill>
                        <a:latin typeface="Century Gothi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فترة التحض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ثلاثة أسابي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عبدالله العنزي</cp:lastModifiedBy>
  <dcterms:modified xsi:type="dcterms:W3CDTF">2017-10-11T14:22:00Z</dcterms:modified>
  <cp:revision>34</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