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0F457-E5EE-4F72-9BD6-B9DCA29C4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D2433-1487-4BEE-8BED-CB0B6865C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5AE154-0050-407F-BEB9-990859D8F4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C5C624-8369-492F-8629-546530ED29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CB6C3F-79FD-46B0-A0DB-44E28C8971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D91082-7B52-4B46-8691-768BC6A924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DCCF04-5F64-4E47-8C07-68AC5E447A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5A0E60-1630-4C05-B8E4-E27337C9A8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B1603C-D686-44CF-BF1B-E9CF938472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FD88E4-5854-4DBD-A622-899485B669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418C50-3B5C-43E3-AF24-2C97BCFC64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EB32C38-597B-4BCA-8C36-379FAFAD795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8330C-A0B3-426B-898F-D46157A8E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0EFC28-7A99-491E-A926-E14B3ED22E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B16DAE-C93A-49F7-9A7C-0483587A22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63CB48-B66D-41C0-B1D4-CEFC008353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A64EB6-AF3F-46AC-9E0A-265C04C069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B34593-7B7C-47A0-B959-95B8F63E53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7C619D-9108-48ED-B8CE-E4E45504E8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4688B2-D32E-4458-8317-FE6D2C292E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D3C3FD-F9AE-44CF-BE1C-2ACE783D23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006F02-8838-40D8-B360-64CE12C82C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3654FE4-6389-4AFB-BC5B-8600FC8B0D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102F5-642E-4B95-AFED-4087ABC65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E6DD14D-63F6-4039-8F58-0D62D11D328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4FCF4BE-5FD3-4327-927A-F72FABB54F7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1B207F-87CC-4634-9BBF-13387F686F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883ABC-2ACE-42D6-A421-D9B0097B75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FAFBA0-9E41-45D9-BE29-6CD284881D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6661B0-E048-4F60-B687-47D2D224C8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E2FD6B-BBD5-45AF-A545-B2BC2403FC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28EB1D-D2AC-4C07-AE2F-0573FB586F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0C96D1-2BAE-46C1-A36D-E0AD3A2D84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D35407-72FE-4B2E-A029-53F1CEFE49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4805EC-29A6-4545-850C-515750681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29B728-C5A2-46CD-802A-2B986321F1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07A105-CB0B-4A09-B472-D7B4AEE49F9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70EC132-821A-419B-B8DA-40EAC16F43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6C1E50-FC31-46E7-91D4-71BAA76D0D2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A6ED8D-8ED3-44AC-9BE9-9D7132C5AA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DEDC64-D75F-478E-9B36-2476B7BE47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23417B-F07E-495D-9680-F3C1C6B944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3D8775-FFB6-4B14-826A-C764B9295E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D56C6A-28E1-48C7-B85E-CC3C7A921B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AC47E8-2B18-4C59-AA1A-DB0732F520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CB69E-6318-4B9D-8A9F-EBCD6CA0A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A7A001-BD54-4C52-A758-643191C3B9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C94A4E-202D-4074-B904-77A363B043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B566A2-EC87-41BA-84B8-8C8E73E5B4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DAB8D80-5D10-4049-9A03-B5046A1046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B7A6F8-1FD4-4F09-8A23-4661A391407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F41BD5F-4D95-4242-875F-68D9824F408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3BCFFF0-B154-4B39-9C68-FF84B01DB2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2689AD-E7A7-4260-92DA-E92223CFC2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BFE2BD-ED48-490D-BA4A-DF25399D70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AB6E90-CD10-400F-9509-6AA89DE35E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0C3C6-82E4-41B8-819F-720F42EA7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628222-911F-4873-AB6A-7E2110829E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9D8B67-B2E9-48E5-AA5F-72A1297FD4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59992C-DF75-412B-A7C8-409F9C02E4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10E470-703A-42F7-B309-6F1C7F6E77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725167-DDDF-43CC-92BC-896CCF6A597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F732DE4-E0DD-4B2F-B0E3-20EA24B5CE6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4248934-C2E4-4A46-B0BE-2C008D1A35F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FBC8627-4EC2-495C-ABB3-005B787257A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4EC36F1-AF91-4EB1-B4AE-BFD2538139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1C09DB3-6185-40AD-B428-0803DFBB82F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00F21-BDF3-4765-8747-B8E6ED3AF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3F8BC57-5322-45A9-9187-BF5CA1BCED5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9730EA6-9DE1-4050-B6AB-FE2BABE62B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24585D9-DA82-4C4D-8FD5-B35872381EC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BF7297-4FA6-449C-903E-89B1D56ED0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A70629-899E-49AB-BA52-A6D474A3CF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684CCA-876F-4423-AF92-A5874C4579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6D3624C-EC31-4AC5-9C0A-A10B55CA68D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A66120E-446B-4CB5-95C3-C6A77382813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19F7DD7-810F-411C-9403-9DD903841A9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F67438E-F273-4032-86B4-64C511394CF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89E3B-9653-4FD3-B769-D3D74F7B3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BCB973-41AC-4662-BF02-257723BFEB5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AE231F3-002F-46C8-8C5C-3A54C84EDD9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0A9F8E4-CCE3-4303-929F-FCD410D1362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27C2F30-39B4-433B-A106-EF063730C08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0CCCE3F-F70A-43DF-A983-042C1E11B40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E60D27A-ACA7-4C8C-B0B7-DDEDA623632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E39745B-E0CE-4A85-AD14-B5E86FE2BA7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09E3FE-52EB-49D3-893C-0810C6A062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958F075-DF56-495B-AF61-378FA8AF36E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71AD66F-B60C-41F2-AB5C-D5D9C5BB7B7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F5098-4A0A-4D83-B023-B10819C2E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D838E03-BE7A-4052-BAF4-49BBE1190A4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B849BD7-0E6B-4CC5-9D30-582803F3629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9C3A2A8-ECD3-4E96-8A99-B3BEB576A87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CEE058D-7C88-4F98-BD38-F449B4CEF5E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2F8F026-6BDB-4F40-BF85-DC8F826CC1C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E489E74-948B-488E-8E3A-982657E0315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90ABACF-31F7-4893-86F5-51BCBD76265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F428344-6E4A-46AB-B0D8-80977163EA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FE6586F-220A-4F5C-A608-0730812AB43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EB7CD7E-A042-411D-88A9-26560F79660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BB711-E095-45B6-B2CA-446F62CD6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B3297E4-15BA-482D-AB9A-04514114807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4153738-8240-4962-AC77-80FF45AD280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D22A642-EC51-46B7-93FD-F84C4267E57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EA17CAB-6ABB-4613-B07E-1A39B20F23F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F22E6D8-5642-4C84-BE33-4E788C59899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E714A05-CD0A-4573-A44B-5702F8DC762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49C7CF0-E980-4857-B988-ECA774557A4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F0F3C67-9D4A-4F4F-ABFF-F74D592A812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3D99135-1711-41FB-A18C-A2225FE0778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498A2B-0850-469B-A5B1-D5E65508273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A9297-8A9A-40B9-B717-884FD0727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FD882-5B95-438F-9C3B-030444A4A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7261F14-120E-4953-9E5C-D9B8C13C8A2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088FBAE-A3EF-4942-860D-737D42B270F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D5B5387-BD36-4DC2-8053-55841A67AD0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FB3680A-4E47-42C1-9295-F80DC6AA372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B2474EC-2E0C-4A7D-997B-001D27D2B1F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F5D73-D8F3-4A6C-AF54-6A2DB8B7A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4C775-B800-4352-882B-BE6012C32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76431-9F3E-4795-967C-7082C6248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C46945-28DE-4369-9DA2-B6823A4109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7534A9-886A-41E1-AC76-FAAFD4881D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C7A4F9-85AB-4B53-9BDA-47521FCAD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ABCD4F-7752-446E-9BB3-98AD04530E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FFAE28-91FB-491B-BC68-0A59A543A3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1BCD21-48C2-4753-BFD7-28F00310C9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4C4AD-44AD-4CA3-8B8E-93373EDA5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8B50BD-4851-46FC-8C0E-66F225C0DB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FD646F-12E5-44B9-AB2E-7FBFCFB3C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26170-87F2-4F76-BE0C-22EBD20E2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F991F-3055-4D1A-B2FF-5641B7220A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D42190-2955-46B2-A06A-CD4F31587B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49301E-71DD-4119-AA15-BEBA4A5C97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56F555-E697-4B47-9906-C3C77836E1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A0EC3D-2AF6-44A1-94AA-40B81F9742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6BA931-A1FC-4CF6-8C9F-864D40E9C0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E28B17-245F-4907-BC53-CCD02E1126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4AFAC-C75B-4631-9C50-8CBC30FEA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81175E-0077-492B-8969-613F1BF9A6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03E8AC-A694-466A-9370-E930BF3C5A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F56175-C019-424E-A7E0-733CE3D8D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4CD63-0887-4C8B-AF45-69A00FA7EB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A4E62-D271-4210-93A7-9DCD7A54E1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B899E5-A2E0-4C2D-B621-32B01FD436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C1BFED-962F-4857-8C42-16E629DDAB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79319A-6DA5-45A1-A4B8-8B4FDFE05C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4C6B5F-8C60-4832-8BE1-E308D8E2BE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245B18-02A9-4D86-95C6-DE8BB8D60B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D0D8D-2B4E-4C8B-8DFF-8A1AB76F8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7798FD-FE9B-4116-A8DB-5ADAC136C4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73B11F-8470-4CC9-B595-8ADB5BBF77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EDA2A3-8D88-4971-9AE5-7DBA48D145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974733-9731-48E2-B3B2-A8754284A7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2793EB-2F70-4BEA-94B0-BFFB139F7E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581C34-F64E-4328-B2E1-3B0498679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4FBB18-7048-41E9-BBD4-5502CE9F6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BD3B0D-383F-48E8-9800-32E57CCF6C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050BAA-5BA3-4BA2-B8BA-F46406545D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4805BC-C87B-4D09-AB37-C3AAE8032A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4F7E1-1662-4A92-A497-0331E02A8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B83B04-7815-4BF0-AB44-BA08230B33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6C7E35-A890-4C98-B04F-49215EC3BD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D05A25-2FF5-40BD-9970-168C49761B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BADB17-110A-4892-99E7-D895285A4F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285011-9B69-4FC3-B631-7F677AB3B8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D31044-BF14-4C5A-83EE-24388F7F5A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1BFAAD-E18D-43E1-B46E-D13D4B3AE1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703396-B13C-4014-A347-1DC2F9E350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41C9F7-F9C0-4284-BC96-270C3560D3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36BB6B-D98B-46AB-A7E0-8455819E1F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2E04F-9D8C-48F7-BBE8-773B3DB3B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A97355-6FC1-4ADE-947B-1F15B06D21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573AA3-C857-4481-8CF0-D48E79CD44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3369C4-51D1-4D02-A881-3DF77DD66E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756C78-C656-4298-8DA6-64AAA1BDDD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0581B8-4883-4DC6-98B0-48B9848472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328ED7-B9DD-4439-BD94-E2F29B6204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8FC0FE-26F2-4ABD-A758-23B328A598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55179A-30D5-4E1E-BCE3-0037E9F1D2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EA5D0B-DA40-450A-A679-A97846A5B4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8F00A8-6F9E-4F0C-A4B0-0CA518970D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3DE60-FD4C-4C75-9403-FE7A246F5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9CD5CE-2E28-4DE7-8546-8E01AABCBB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BF8F21-C54C-4643-9378-6E61120285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EC441A-B145-4159-A6E5-6BB8BBC93A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DE8531-D7E1-4EFE-BDB0-8349F6E707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81DD8D-2D81-45D8-B269-26EE0F0D00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DDDE67-4497-464F-BE14-16BE650A7D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C22F72-C37A-449E-8409-85A29876BF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14D77B-FCEA-4519-921C-F5966A198A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9AF8B5-9B68-4A51-8AC8-75689EA952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E9C240-8210-4DBF-A70C-DA2C37D2DA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73881-BCBC-4391-8D14-802DA0D9D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336847-A4CD-4E8F-B9A4-03BA7F5A91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3783FB-E734-4A19-9952-DAC6A07DBB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65E965-5F96-499E-88CB-CE97300222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203EBC-6C76-44B6-B488-1B50CE6E0E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0B7595-522A-49C7-B902-A8260BCCB0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73D78F-9367-4DFC-8A68-D393B41594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F2BC13-9E40-4E77-B432-921DA0076F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5EC3C9-2191-43A3-AC2A-87209D19AD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6D3FB4-578F-4BF8-AC71-BB0BCF21DB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0B1B8E-6CD8-46D8-A6E4-85A083C18C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FEDCF-0683-4803-99B7-D9B27D609D9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A68815-C9BF-4A7F-A8BC-1E8B40DB41A9}"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FE80F-FFED-455B-A82B-24C3FAE8D21B}"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18C38-3688-497E-BCEF-2D00F5BA4079}"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ED271-5F74-4FC5-A492-BC25FCD657C5}"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CB852-3A22-46A0-A397-6F1D777A4A90}"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BE419-7E57-4BA3-8978-D811B9FD8540}"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BC133-F362-408D-BDAF-358D8B088357}"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B2DD8-4285-4647-8929-9185F62A5F21}"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A10A4-648E-40A8-BCD4-560F9615ACEE}"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B1C19-7934-4AE3-B51E-5004C80AB660}"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18D541-6B44-49A6-A0FB-4149B6661C37}"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62E28-293C-4823-9270-CE494BBC038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DBBF1-E653-4D82-B290-03DEC80F175C}"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B74B3-4166-476C-89BE-1009ABA6070B}"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240B25-6238-497F-A755-9AD01CE60AC3}"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3B8FC8-E2CD-4E7D-8666-8894D3C07C06}"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shutterstock.com/subscribe.mhtml"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google.com.sa/imgres?imgurl=http://www.scielo.br/img/revistas/bjm/v41n2/a35fig01.jpg&amp;imgrefurl=http://www.scielo.br/scielo.php%3Fpid%3DS1517-83822010000200035%26script%3Dsci_arttext&amp;usg=__RVM8B1e-UAU-OgMbj3oMRwKvcNU=&amp;h=388&amp;w=402&amp;sz=106&amp;hl=ar&amp;start=5&amp;zoom=0&amp;tbnid=xu7tCrTK_BxiMM:&amp;tbnh=120&amp;tbnw=124&amp;ei=XX5jTYi5GI_qOa26ybwJ&amp;prev=/images%3Fq%3Dgrowth%2Bof%2Bfungi%2Bpetri%2Bdish%26hl%3Dar%26safe%3Dactive%26sa%3DX%26gbv%3D2%26tbs%3Disch:1&amp;itbs=1"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332000" y="1341000"/>
            <a:ext cx="6480000" cy="258300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800" spc="-1" strike="noStrike">
                <a:solidFill>
                  <a:srgbClr val="262626"/>
                </a:solidFill>
                <a:latin typeface="Century Gothic"/>
                <a:cs typeface="Akhbar MT"/>
              </a:rPr>
              <a:t>التقدير الكمي للنمو الفطري</a:t>
            </a:r>
            <a:br>
              <a:rPr sz="3200"/>
            </a:br>
            <a:r>
              <a:rPr b="0" lang="en-US" sz="3200" spc="-1" strike="noStrike">
                <a:solidFill>
                  <a:srgbClr val="262626"/>
                </a:solidFill>
                <a:latin typeface="Century Gothic"/>
                <a:ea typeface="Akhbar MT"/>
              </a:rPr>
              <a:t>Quantative measurment of fungal growth</a:t>
            </a:r>
            <a:endParaRPr b="0" lang="en-US" sz="32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250560" y="189000"/>
            <a:ext cx="8893080" cy="3527280"/>
          </a:xfrm>
          <a:prstGeom prst="rect">
            <a:avLst/>
          </a:prstGeom>
          <a:noFill/>
          <a:ln w="0">
            <a:noFill/>
          </a:ln>
        </p:spPr>
        <p:txBody>
          <a:bodyPr anchor="t">
            <a:normAutofit fontScale="78000"/>
          </a:bodyPr>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Century Gothic"/>
                <a:cs typeface="Akhbar MT"/>
              </a:rPr>
              <a:t>تعريف النمو الفطري:</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يعتبر النمو الزيادة في عدد الأنوية وفي عدد الخلايا وحجمها أو في كمية المادة</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بنائية الحية.</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Century Gothic"/>
                <a:cs typeface="Akhbar MT"/>
              </a:rPr>
              <a:t>أطوار النمو في الفطر:</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يمر الفطر أثناء نموه بعدة أطوار هي:</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طور التمهيدي: وفيه تبدأ الخلايا في الاستعداد للانقسام. </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طور اللوغارتمي: وفيه يكون معدل الانقسام أعلى ما يمكن.</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طور الثبات: وفيه يحدث توازن بين عدد الخلايا المنقسمة والخلايا التالفة.</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طور التحلل أو الموت: وفيه تبدأ الخلايا في التحلل التدريجي حتى الموت.</a:t>
            </a:r>
            <a:endParaRPr b="0" lang="en-US" sz="2800" spc="-1" strike="noStrike">
              <a:solidFill>
                <a:srgbClr val="404040"/>
              </a:solidFill>
              <a:latin typeface="Century Gothic"/>
            </a:endParaRPr>
          </a:p>
        </p:txBody>
      </p:sp>
      <p:pic>
        <p:nvPicPr>
          <p:cNvPr id="1178" name="صورة 2" descr=""/>
          <p:cNvPicPr/>
          <p:nvPr/>
        </p:nvPicPr>
        <p:blipFill>
          <a:blip r:embed="rId1"/>
          <a:stretch/>
        </p:blipFill>
        <p:spPr>
          <a:xfrm>
            <a:off x="1835280" y="4295880"/>
            <a:ext cx="7057800" cy="25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1258560" y="188640"/>
            <a:ext cx="746748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طرق قياس النمو الفطري:</a:t>
            </a:r>
            <a:endParaRPr b="0" lang="en-US" sz="2800" spc="-1" strike="noStrike">
              <a:solidFill>
                <a:srgbClr val="262626"/>
              </a:solidFill>
              <a:latin typeface="Century Gothic"/>
            </a:endParaRPr>
          </a:p>
        </p:txBody>
      </p:sp>
      <p:sp>
        <p:nvSpPr>
          <p:cNvPr id="1180" name=""/>
          <p:cNvSpPr txBox="1"/>
          <p:nvPr/>
        </p:nvSpPr>
        <p:spPr>
          <a:xfrm>
            <a:off x="590400" y="404640"/>
            <a:ext cx="8229600" cy="4530960"/>
          </a:xfrm>
          <a:prstGeom prst="rect">
            <a:avLst/>
          </a:prstGeom>
          <a:noFill/>
          <a:ln w="0">
            <a:noFill/>
          </a:ln>
        </p:spPr>
        <p:txBody>
          <a:bodyPr anchor="t">
            <a:normAutofit/>
          </a:bodyPr>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التغير في عدد الخلايا وحجمها.</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القياس الخطي لقطر المستعمرة.</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قياس كمية بعض المكونات الخلوية مثل كمية المواد الفينولية.</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طريقة الوزن الجاف لكتلة الخلية وتعتبر أفضل الطرق لان طريقة قطر المستعمرة تهمل سمك الميسليوم النامي وطريقة العد لا تصلح لكل الفطريات ولكنها خاصة بالفطريات وحيدة الخلية مثل الخمائر.</a:t>
            </a:r>
            <a:endParaRPr b="0" lang="en-US" sz="2800" spc="-1" strike="noStrike">
              <a:solidFill>
                <a:srgbClr val="404040"/>
              </a:solidFill>
              <a:latin typeface="Century Gothic"/>
            </a:endParaRPr>
          </a:p>
        </p:txBody>
      </p:sp>
      <p:sp>
        <p:nvSpPr>
          <p:cNvPr id="1181" name="Rectangle 4"/>
          <p:cNvSpPr/>
          <p:nvPr/>
        </p:nvSpPr>
        <p:spPr>
          <a:xfrm>
            <a:off x="-31680" y="5373720"/>
            <a:ext cx="856908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3333ff"/>
                </a:solidFill>
                <a:latin typeface="Century Gothic"/>
                <a:ea typeface="Akhbar MT"/>
              </a:rPr>
              <a:t>* </a:t>
            </a:r>
            <a:r>
              <a:rPr b="0" lang="ar-SA" sz="2800" spc="-1" strike="noStrike">
                <a:solidFill>
                  <a:srgbClr val="3333ff"/>
                </a:solidFill>
                <a:latin typeface="Century Gothic"/>
                <a:cs typeface="Akhbar MT"/>
              </a:rPr>
              <a:t>لقياس معدل النمو الفطري على البيئات الصلبة نستخدم قياس قطر المستعمرة</a:t>
            </a:r>
            <a:r>
              <a:rPr b="0" lang="ar-SA" sz="2800" spc="-1" strike="noStrike">
                <a:solidFill>
                  <a:srgbClr val="3333ff"/>
                </a:solidFill>
                <a:latin typeface="Century Gothic"/>
                <a:ea typeface="Akhbar MT"/>
              </a:rPr>
              <a:t>. </a:t>
            </a:r>
            <a:endParaRPr b="0" lang="en-US" sz="2800" spc="-1" strike="noStrike">
              <a:solidFill>
                <a:srgbClr val="000000"/>
              </a:solidFill>
              <a:latin typeface="Century Gothic"/>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3333ff"/>
                </a:solidFill>
                <a:latin typeface="Century Gothic"/>
                <a:ea typeface="Akhbar MT"/>
              </a:rPr>
              <a:t> </a:t>
            </a:r>
            <a:r>
              <a:rPr b="0" lang="ar-SA" sz="2800" spc="-1" strike="noStrike">
                <a:solidFill>
                  <a:srgbClr val="3333ff"/>
                </a:solidFill>
                <a:latin typeface="Century Gothic"/>
                <a:ea typeface="Akhbar MT"/>
              </a:rPr>
              <a:t>* </a:t>
            </a:r>
            <a:r>
              <a:rPr b="0" lang="ar-SA" sz="2800" spc="-1" strike="noStrike">
                <a:solidFill>
                  <a:srgbClr val="3333ff"/>
                </a:solidFill>
                <a:latin typeface="Century Gothic"/>
                <a:cs typeface="Akhbar MT"/>
              </a:rPr>
              <a:t>أما على البيئات السائلة نستخدم طريقة الوزن الجاف</a:t>
            </a:r>
            <a:r>
              <a:rPr b="0" lang="ar-SA" sz="2800" spc="-1" strike="noStrike">
                <a:solidFill>
                  <a:srgbClr val="3333ff"/>
                </a:solidFill>
                <a:latin typeface="Century Gothic"/>
                <a:ea typeface="Akhbar MT"/>
              </a:rPr>
              <a:t> </a:t>
            </a:r>
            <a:r>
              <a:rPr b="0" lang="ar-SA" sz="2800" spc="-1" strike="noStrike">
                <a:solidFill>
                  <a:srgbClr val="3333ff"/>
                </a:solidFill>
                <a:latin typeface="Century Gothic"/>
                <a:ea typeface="Akhbar MT"/>
              </a:rPr>
              <a:t>.</a:t>
            </a:r>
            <a:endParaRPr b="0" lang="en-US" sz="2800" spc="-1" strike="noStrike">
              <a:solidFill>
                <a:srgbClr val="000000"/>
              </a:solidFill>
              <a:latin typeface="Century Gothic"/>
            </a:endParaRPr>
          </a:p>
        </p:txBody>
      </p:sp>
      <p:pic>
        <p:nvPicPr>
          <p:cNvPr id="1182" name="Picture 6" descr="stock photo : Fungus in a petri dish">
            <a:hlinkClick r:id="rId1"/>
          </p:cNvPr>
          <p:cNvPicPr/>
          <p:nvPr/>
        </p:nvPicPr>
        <p:blipFill>
          <a:blip r:embed="rId2"/>
          <a:stretch/>
        </p:blipFill>
        <p:spPr>
          <a:xfrm>
            <a:off x="900000" y="3284640"/>
            <a:ext cx="3672000" cy="201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700000" y="696600"/>
            <a:ext cx="482436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الطرق المعملية لقياس معدل النمو في الفطريات</a:t>
            </a:r>
            <a:br>
              <a:rPr sz="2800"/>
            </a:br>
            <a:endParaRPr b="0" lang="en-US" sz="2800" spc="-1" strike="noStrike">
              <a:solidFill>
                <a:srgbClr val="262626"/>
              </a:solidFill>
              <a:latin typeface="Century Gothic"/>
            </a:endParaRPr>
          </a:p>
        </p:txBody>
      </p:sp>
      <p:sp>
        <p:nvSpPr>
          <p:cNvPr id="1184" name=""/>
          <p:cNvSpPr txBox="1"/>
          <p:nvPr/>
        </p:nvSpPr>
        <p:spPr>
          <a:xfrm>
            <a:off x="1908000" y="2133360"/>
            <a:ext cx="6591600" cy="37782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a:t>
            </a:r>
            <a:endParaRPr b="0" lang="en-US" sz="1800" spc="-1" strike="noStrike">
              <a:solidFill>
                <a:srgbClr val="404040"/>
              </a:solidFill>
              <a:latin typeface="Century Gothic"/>
            </a:endParaRPr>
          </a:p>
        </p:txBody>
      </p:sp>
      <p:sp>
        <p:nvSpPr>
          <p:cNvPr id="1185" name="Rectangle 4"/>
          <p:cNvSpPr/>
          <p:nvPr/>
        </p:nvSpPr>
        <p:spPr>
          <a:xfrm>
            <a:off x="2935440" y="580680"/>
            <a:ext cx="6100560" cy="60663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Arial"/>
                <a:cs typeface="Akhbar MT"/>
              </a:rPr>
              <a:t>طريقة قياس قطر المستعمرة</a:t>
            </a:r>
            <a:r>
              <a:rPr b="0" lang="ar-SA" sz="2800" spc="-1" strike="noStrike">
                <a:solidFill>
                  <a:srgbClr val="ff0000"/>
                </a:solidFill>
                <a:latin typeface="Arial"/>
                <a:ea typeface="Akhbar MT"/>
              </a:rPr>
              <a:t>:</a:t>
            </a: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وهي من أكثر الطرق شيوعاً وتتم عن طريق تلقيح وسط الأطباق المحتوية على بيئة تشابك دوكس بواسطة أقراص منتظمة من مزرعة فطرية حديثة العمر يتراوح عمرها (</a:t>
            </a:r>
            <a:r>
              <a:rPr b="0" lang="ar-SA" sz="2800" spc="-1" strike="noStrike">
                <a:solidFill>
                  <a:srgbClr val="000000"/>
                </a:solidFill>
                <a:latin typeface="Arial"/>
                <a:ea typeface="Akhbar MT"/>
              </a:rPr>
              <a:t>7</a:t>
            </a:r>
            <a:r>
              <a:rPr b="0" lang="ar-SA" sz="2800" spc="-1" strike="noStrike">
                <a:solidFill>
                  <a:srgbClr val="000000"/>
                </a:solidFill>
                <a:latin typeface="Arial"/>
                <a:ea typeface="Akhbar MT"/>
              </a:rPr>
              <a:t>-</a:t>
            </a:r>
            <a:r>
              <a:rPr b="0" lang="ar-SA" sz="2800" spc="-1" strike="noStrike">
                <a:solidFill>
                  <a:srgbClr val="000000"/>
                </a:solidFill>
                <a:latin typeface="Arial"/>
                <a:ea typeface="Akhbar MT"/>
              </a:rPr>
              <a:t>14</a:t>
            </a:r>
            <a:r>
              <a:rPr b="0" lang="ar-SA" sz="2800" spc="-1" strike="noStrike">
                <a:solidFill>
                  <a:srgbClr val="000000"/>
                </a:solidFill>
                <a:latin typeface="Arial"/>
                <a:cs typeface="Akhbar MT"/>
              </a:rPr>
              <a:t>يوم) ثم تحضن في درجة حرارة </a:t>
            </a:r>
            <a:r>
              <a:rPr b="0" lang="ar-SA" sz="2800" spc="-1" strike="noStrike">
                <a:solidFill>
                  <a:srgbClr val="000000"/>
                </a:solidFill>
                <a:latin typeface="Arial"/>
                <a:ea typeface="Akhbar MT"/>
              </a:rPr>
              <a:t>25</a:t>
            </a:r>
            <a:r>
              <a:rPr b="0" lang="ar-SA" sz="2800" spc="-1" strike="noStrike">
                <a:solidFill>
                  <a:srgbClr val="000000"/>
                </a:solidFill>
                <a:latin typeface="Arial"/>
                <a:cs typeface="Akhbar MT"/>
              </a:rPr>
              <a:t>م أو في جو المعمل لمدة أسبوع</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مع مراعاة أخذ قياس قطر المستعمرة على فترات منتظمة وذلك بعمل خطين متعامدين على قاعدة الطبق وقياس كلاً منها وأخذ المتوسط ثم تمثل النتيجة بيانياً</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p:txBody>
      </p:sp>
      <p:pic>
        <p:nvPicPr>
          <p:cNvPr id="1186" name="Picture 143" descr="">
            <a:hlinkClick r:id="rId1"/>
          </p:cNvPr>
          <p:cNvPicPr/>
          <p:nvPr/>
        </p:nvPicPr>
        <p:blipFill>
          <a:blip r:embed="rId2"/>
          <a:stretch/>
        </p:blipFill>
        <p:spPr>
          <a:xfrm>
            <a:off x="530280" y="1806480"/>
            <a:ext cx="2519280" cy="331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txBox="1"/>
          <p:nvPr/>
        </p:nvSpPr>
        <p:spPr>
          <a:xfrm>
            <a:off x="3708000" y="3284280"/>
            <a:ext cx="5203800" cy="2592360"/>
          </a:xfrm>
          <a:prstGeom prst="rect">
            <a:avLst/>
          </a:prstGeom>
          <a:noFill/>
          <a:ln w="0">
            <a:noFill/>
          </a:ln>
        </p:spPr>
        <p:txBody>
          <a:bodyPr anchor="t">
            <a:normAutofit fontScale="98000"/>
          </a:bodyPr>
          <a:p>
            <a:pPr marL="335880" indent="-335880"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a:t>
            </a:r>
            <a:r>
              <a:rPr b="0" lang="ar-SA" sz="2800" spc="-1" strike="noStrike">
                <a:solidFill>
                  <a:srgbClr val="3333ff"/>
                </a:solidFill>
                <a:latin typeface="Century Gothic"/>
                <a:cs typeface="Akhbar MT"/>
              </a:rPr>
              <a:t>سلبيات هذه الطريقة:</a:t>
            </a:r>
            <a:endParaRPr b="0" lang="en-US" sz="2800" spc="-1" strike="noStrike">
              <a:solidFill>
                <a:srgbClr val="404040"/>
              </a:solidFill>
              <a:latin typeface="Century Gothic"/>
            </a:endParaRPr>
          </a:p>
          <a:p>
            <a:pPr marL="335880" indent="-335880"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أنها تهمل سمك الميسليوم النامي في الطبق فبعض الفطريات قد لا تتوسع في النمو بشكل أفقي بقدر توسعها فيه بشكل رأسي.</a:t>
            </a:r>
            <a:endParaRPr b="0" lang="en-US" sz="2800" spc="-1" strike="noStrike">
              <a:solidFill>
                <a:srgbClr val="404040"/>
              </a:solidFill>
              <a:latin typeface="Century Gothic"/>
            </a:endParaRPr>
          </a:p>
        </p:txBody>
      </p:sp>
      <p:sp>
        <p:nvSpPr>
          <p:cNvPr id="1188" name="Rectangle 6"/>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89" name="Rectangle 7"/>
          <p:cNvSpPr/>
          <p:nvPr/>
        </p:nvSpPr>
        <p:spPr>
          <a:xfrm>
            <a:off x="0" y="45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aphicFrame>
        <p:nvGraphicFramePr>
          <p:cNvPr id="1190" name=""/>
          <p:cNvGraphicFramePr/>
          <p:nvPr/>
        </p:nvGraphicFramePr>
        <p:xfrm>
          <a:off x="1835280" y="666720"/>
          <a:ext cx="6615000" cy="1736640"/>
        </p:xfrm>
        <a:graphic>
          <a:graphicData uri="http://schemas.openxmlformats.org/drawingml/2006/table">
            <a:tbl>
              <a:tblPr/>
              <a:tblGrid>
                <a:gridCol w="1655640"/>
                <a:gridCol w="1652760"/>
                <a:gridCol w="1653840"/>
                <a:gridCol w="1652760"/>
              </a:tblGrid>
              <a:tr h="916920">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متوسط</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طبق (</a:t>
                      </a:r>
                      <a:r>
                        <a:rPr b="1" lang="ar-SA"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طبق (</a:t>
                      </a: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ترة التحضين (يوم)</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4</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91" name="Picture 36" descr=""/>
          <p:cNvPicPr/>
          <p:nvPr/>
        </p:nvPicPr>
        <p:blipFill>
          <a:blip r:embed="rId1"/>
          <a:stretch/>
        </p:blipFill>
        <p:spPr>
          <a:xfrm>
            <a:off x="574560" y="3056040"/>
            <a:ext cx="3492720" cy="339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979280" y="620640"/>
            <a:ext cx="6769080" cy="71928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Century Gothic"/>
                <a:ea typeface="Akhbar MT"/>
              </a:rPr>
              <a:t> طريقة الوزن الجاف</a:t>
            </a:r>
            <a:r>
              <a:rPr b="1" lang="en-US" sz="2800" spc="-1" strike="noStrike">
                <a:solidFill>
                  <a:srgbClr val="ff0000"/>
                </a:solidFill>
                <a:latin typeface="Century Gothic"/>
                <a:ea typeface="Akhbar MT"/>
              </a:rPr>
              <a:t> </a:t>
            </a:r>
            <a:r>
              <a:rPr b="1" lang="en-US" sz="2800" spc="-1" strike="noStrike">
                <a:solidFill>
                  <a:srgbClr val="ff0000"/>
                </a:solidFill>
                <a:latin typeface="Century Gothic"/>
                <a:ea typeface="Akhbar MT"/>
              </a:rPr>
              <a:t>Dry weight method</a:t>
            </a:r>
            <a:r>
              <a:rPr b="1" lang="en-US" sz="2800" spc="-1" strike="noStrike">
                <a:solidFill>
                  <a:srgbClr val="ff0000"/>
                </a:solidFill>
                <a:latin typeface="Century Gothic"/>
                <a:ea typeface="Akhbar MT"/>
              </a:rPr>
              <a:t> </a:t>
            </a:r>
            <a:r>
              <a:rPr b="1" lang="ar-SA" sz="2800" spc="-1" strike="noStrike">
                <a:solidFill>
                  <a:srgbClr val="ff0000"/>
                </a:solidFill>
                <a:latin typeface="Century Gothic"/>
                <a:ea typeface="Akhbar MT"/>
              </a:rPr>
              <a:t> </a:t>
            </a:r>
            <a:br>
              <a:rPr sz="2800"/>
            </a:br>
            <a:endParaRPr b="0" lang="en-US" sz="2800" spc="-1" strike="noStrike">
              <a:solidFill>
                <a:srgbClr val="262626"/>
              </a:solidFill>
              <a:latin typeface="Century Gothic"/>
            </a:endParaRPr>
          </a:p>
        </p:txBody>
      </p:sp>
      <p:sp>
        <p:nvSpPr>
          <p:cNvPr id="1193" name=""/>
          <p:cNvSpPr txBox="1"/>
          <p:nvPr/>
        </p:nvSpPr>
        <p:spPr>
          <a:xfrm>
            <a:off x="179280" y="1628640"/>
            <a:ext cx="8785440" cy="4608720"/>
          </a:xfrm>
          <a:prstGeom prst="rect">
            <a:avLst/>
          </a:prstGeom>
          <a:noFill/>
          <a:ln w="0">
            <a:noFill/>
          </a:ln>
        </p:spPr>
        <p:txBody>
          <a:bodyPr anchor="t">
            <a:normAutofit fontScale="80000"/>
          </a:bodyPr>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       تعتبر هذه الطريقة أكثر دقة وبها يترك الفطر لينمو لفترة محدودة حيث يقاس  خلالها الوزن الجاف للفطر على فترات منتظم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800" spc="-1" strike="noStrike">
                <a:solidFill>
                  <a:srgbClr val="ff0000"/>
                </a:solidFill>
                <a:latin typeface="Century Gothic"/>
                <a:cs typeface="Akhbar MT"/>
              </a:rPr>
              <a:t>طريقة العمـــــل:</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1</a:t>
            </a:r>
            <a:r>
              <a:rPr b="0" lang="ar-SA" sz="2800" spc="-1" strike="noStrike">
                <a:solidFill>
                  <a:srgbClr val="404040"/>
                </a:solidFill>
                <a:latin typeface="Century Gothic"/>
                <a:ea typeface="Akhbar MT"/>
              </a:rPr>
              <a:t>- تحضر عدد </a:t>
            </a: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فلاسكات لكل مجموعة تحتوي على بيئة تشابك دوكس سائل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2</a:t>
            </a:r>
            <a:r>
              <a:rPr b="0" lang="ar-SA" sz="2800" spc="-1" strike="noStrike">
                <a:solidFill>
                  <a:srgbClr val="404040"/>
                </a:solidFill>
                <a:latin typeface="Century Gothic"/>
                <a:ea typeface="Akhbar MT"/>
              </a:rPr>
              <a:t>- تلقح الفلاسكات بواسطة قرصين من مزرعة فطرية نقية حديثة العمر مع مراعاة أن يتم التلقيح تحت ظروف التعقيم مع إمالة الفلاسكة وذلك لكي لا يسقط القرص في قاع الفلاسكة مع مراعاة عدم رج الفلاسك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تحضن الفلاسكات عند درجة حرارة </a:t>
            </a:r>
            <a:r>
              <a:rPr b="0" lang="ar-SA" sz="2800" spc="-1" strike="noStrike">
                <a:solidFill>
                  <a:srgbClr val="404040"/>
                </a:solidFill>
                <a:latin typeface="Century Gothic"/>
                <a:ea typeface="Akhbar MT"/>
              </a:rPr>
              <a:t>25</a:t>
            </a:r>
            <a:r>
              <a:rPr b="0" lang="ar-SA" sz="2800" spc="-1" strike="noStrike">
                <a:solidFill>
                  <a:srgbClr val="404040"/>
                </a:solidFill>
                <a:latin typeface="Century Gothic"/>
                <a:cs typeface="Akhbar MT"/>
              </a:rPr>
              <a:t>م.</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4</a:t>
            </a:r>
            <a:r>
              <a:rPr b="0" lang="ar-SA" sz="2800" spc="-1" strike="noStrike">
                <a:solidFill>
                  <a:srgbClr val="404040"/>
                </a:solidFill>
                <a:latin typeface="Century Gothic"/>
                <a:ea typeface="Akhbar MT"/>
              </a:rPr>
              <a:t>- بعد أسبوع يتم ترشيح الفلاسكة رقم (</a:t>
            </a:r>
            <a:r>
              <a:rPr b="0" lang="ar-SA" sz="2800" spc="-1" strike="noStrike">
                <a:solidFill>
                  <a:srgbClr val="404040"/>
                </a:solidFill>
                <a:latin typeface="Century Gothic"/>
                <a:ea typeface="Akhbar MT"/>
              </a:rPr>
              <a:t>1</a:t>
            </a:r>
            <a:r>
              <a:rPr b="0" lang="ar-SA" sz="2800" spc="-1" strike="noStrike">
                <a:solidFill>
                  <a:srgbClr val="404040"/>
                </a:solidFill>
                <a:latin typeface="Century Gothic"/>
                <a:ea typeface="Akhbar MT"/>
              </a:rPr>
              <a:t>) بالكامل من خلال قمع ويؤخذ النمو الفطري بالكامل على ورقة ترشيح معلوم الوزن.</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5</a:t>
            </a:r>
            <a:r>
              <a:rPr b="0" lang="ar-SA" sz="2800" spc="-1" strike="noStrike">
                <a:solidFill>
                  <a:srgbClr val="404040"/>
                </a:solidFill>
                <a:latin typeface="Century Gothic"/>
                <a:ea typeface="Akhbar MT"/>
              </a:rPr>
              <a:t>- يوضع النمو الفطري في فرن درجة حرارته من (</a:t>
            </a:r>
            <a:r>
              <a:rPr b="0" lang="ar-SA" sz="2800" spc="-1" strike="noStrike">
                <a:solidFill>
                  <a:srgbClr val="404040"/>
                </a:solidFill>
                <a:latin typeface="Century Gothic"/>
                <a:ea typeface="Akhbar MT"/>
              </a:rPr>
              <a:t>50</a:t>
            </a:r>
            <a:r>
              <a:rPr b="0" lang="ar-SA" sz="2800" spc="-1" strike="noStrike">
                <a:solidFill>
                  <a:srgbClr val="404040"/>
                </a:solidFill>
                <a:latin typeface="Century Gothic"/>
                <a:ea typeface="Akhbar MT"/>
              </a:rPr>
              <a:t>-</a:t>
            </a:r>
            <a:r>
              <a:rPr b="0" lang="ar-SA" sz="2800" spc="-1" strike="noStrike">
                <a:solidFill>
                  <a:srgbClr val="404040"/>
                </a:solidFill>
                <a:latin typeface="Century Gothic"/>
                <a:ea typeface="Akhbar MT"/>
              </a:rPr>
              <a:t>60</a:t>
            </a:r>
            <a:r>
              <a:rPr b="0" lang="ar-SA" sz="2800" spc="-1" strike="noStrike">
                <a:solidFill>
                  <a:srgbClr val="404040"/>
                </a:solidFill>
                <a:latin typeface="Century Gothic"/>
                <a:ea typeface="Akhbar MT"/>
              </a:rPr>
              <a:t> م) لمدة </a:t>
            </a:r>
            <a:r>
              <a:rPr b="0" lang="ar-SA" sz="2800" spc="-1" strike="noStrike">
                <a:solidFill>
                  <a:srgbClr val="404040"/>
                </a:solidFill>
                <a:latin typeface="Century Gothic"/>
                <a:ea typeface="Akhbar MT"/>
              </a:rPr>
              <a:t>48</a:t>
            </a:r>
            <a:r>
              <a:rPr b="0" lang="ar-SA" sz="2800" spc="-1" strike="noStrike">
                <a:solidFill>
                  <a:srgbClr val="404040"/>
                </a:solidFill>
                <a:latin typeface="Century Gothic"/>
                <a:ea typeface="Akhbar MT"/>
              </a:rPr>
              <a:t> ساع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427640" y="2349360"/>
            <a:ext cx="4465440" cy="93672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0000"/>
                </a:solidFill>
                <a:latin typeface="Century Gothic"/>
                <a:cs typeface="Simplified Arabic"/>
              </a:rPr>
              <a:t>النتائج</a:t>
            </a:r>
            <a:endParaRPr b="0" lang="en-US" sz="3600" spc="-1" strike="noStrike">
              <a:solidFill>
                <a:srgbClr val="262626"/>
              </a:solidFill>
              <a:latin typeface="Century Gothic"/>
            </a:endParaRPr>
          </a:p>
        </p:txBody>
      </p:sp>
      <p:sp>
        <p:nvSpPr>
          <p:cNvPr id="1195" name=""/>
          <p:cNvSpPr txBox="1"/>
          <p:nvPr/>
        </p:nvSpPr>
        <p:spPr>
          <a:xfrm>
            <a:off x="250920" y="620640"/>
            <a:ext cx="8686800" cy="4530960"/>
          </a:xfrm>
          <a:prstGeom prst="rect">
            <a:avLst/>
          </a:prstGeom>
          <a:noFill/>
          <a:ln w="0">
            <a:noFill/>
          </a:ln>
        </p:spPr>
        <p:txBody>
          <a:bodyPr anchor="t">
            <a:normAutofit fontScale="98000"/>
          </a:bodyPr>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6</a:t>
            </a:r>
            <a:r>
              <a:rPr b="0" lang="ar-SA" sz="2800" spc="-1" strike="noStrike">
                <a:solidFill>
                  <a:srgbClr val="404040"/>
                </a:solidFill>
                <a:latin typeface="Century Gothic"/>
                <a:ea typeface="Akhbar MT"/>
              </a:rPr>
              <a:t>- بعد جفاف الفطر يتم حساب الوزن الجاف للفطر كالآتي:</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7</a:t>
            </a:r>
            <a:r>
              <a:rPr b="0" lang="ar-SA" sz="2800" spc="-1" strike="noStrike">
                <a:solidFill>
                  <a:srgbClr val="404040"/>
                </a:solidFill>
                <a:latin typeface="Century Gothic"/>
                <a:ea typeface="Akhbar MT"/>
              </a:rPr>
              <a:t>- الوزن الجاف للفطر=(وزن ورقة الترشيح+وزن الفطر) – وزن ورقة الترشيح.</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8</a:t>
            </a:r>
            <a:r>
              <a:rPr b="0" lang="ar-SA" sz="2800" spc="-1" strike="noStrike">
                <a:solidFill>
                  <a:srgbClr val="404040"/>
                </a:solidFill>
                <a:latin typeface="Century Gothic"/>
                <a:ea typeface="Akhbar MT"/>
              </a:rPr>
              <a:t>- تكرر نفس الخطوات بالنسبة للفلاسكة رقم (</a:t>
            </a:r>
            <a:r>
              <a:rPr b="0" lang="ar-SA" sz="2800" spc="-1" strike="noStrike">
                <a:solidFill>
                  <a:srgbClr val="404040"/>
                </a:solidFill>
                <a:latin typeface="Century Gothic"/>
                <a:ea typeface="Akhbar MT"/>
              </a:rPr>
              <a:t>2</a:t>
            </a:r>
            <a:r>
              <a:rPr b="0" lang="ar-SA" sz="2800" spc="-1" strike="noStrike">
                <a:solidFill>
                  <a:srgbClr val="404040"/>
                </a:solidFill>
                <a:latin typeface="Century Gothic"/>
                <a:ea typeface="Akhbar MT"/>
              </a:rPr>
              <a:t>) بعد أسبوعين و الفلاسكة رقم (</a:t>
            </a: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بعد ثلاثة أسابيع من بدء التجربة. بعدها تسجل النتائج وتمثل بيانيا على منحنى النمو .ً</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ff0000"/>
                </a:solidFill>
                <a:latin typeface="Century Gothic"/>
                <a:cs typeface="Akhbar MT"/>
              </a:rPr>
              <a:t>ملاحظة: كلما زادت فترة التحضين زاد النمو الفطري إلى حد معين بعده يبدأ النمو في التدهور والانحلال.</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graphicFrame>
        <p:nvGraphicFramePr>
          <p:cNvPr id="1196" name=""/>
          <p:cNvGraphicFramePr/>
          <p:nvPr/>
        </p:nvGraphicFramePr>
        <p:xfrm>
          <a:off x="2268360" y="4437000"/>
          <a:ext cx="5135760" cy="2016360"/>
        </p:xfrm>
        <a:graphic>
          <a:graphicData uri="http://schemas.openxmlformats.org/drawingml/2006/table">
            <a:tbl>
              <a:tblPr/>
              <a:tblGrid>
                <a:gridCol w="2567160"/>
                <a:gridCol w="2568600"/>
              </a:tblGrid>
              <a:tr h="5047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الوزن الجاف</a:t>
                      </a:r>
                      <a:endParaRPr b="0" lang="en-US" sz="2000" spc="-1" strike="noStrike">
                        <a:solidFill>
                          <a:srgbClr val="000000"/>
                        </a:solidFill>
                        <a:latin typeface="Century Gothic"/>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فترة التحضين</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بوع</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بوعين</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ثلاثة أسابيع</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19:35:34Z</dcterms:created>
  <dc:creator>Om fahad</dc:creator>
  <dc:description/>
  <dc:language>en-US</dc:language>
  <cp:lastModifiedBy>عبدالله العنزي</cp:lastModifiedBy>
  <dcterms:modified xsi:type="dcterms:W3CDTF">2017-10-11T14:22:00Z</dcterms:modified>
  <cp:revision>34</cp:revision>
  <dc:subject/>
  <dc:title>تعريف فسيولوجيا الأحياء الدقيقة:  هو العلم الذي يختص بدراسة العمليات الحيوية في الكائنات الدقيقة من نمو وتكاثر , تنفس, تخمر , عمليات الهدم والبناء (الايض) إلى اخره من العمليات الحيوية بالإضافة إلى العوامل الفيزيائية والكيميائية التي تؤثر على هذه العمليات.</dc:title>
</cp:coreProperties>
</file>