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E0A4D-8243-4A7A-B893-72F1FF959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FFE29-700D-42EC-97CA-8D622A95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4E3CC7-10E9-4D66-8118-E1D42227B5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AEB4FA-DA09-4EA0-966D-C2EEAFAF8D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D0E00-5CBA-41C6-BC1A-6541A6244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69A92-52B9-4CBB-B9EA-EA3F7081DA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3E56D-70C5-4697-A267-330AFB9FC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F1A894-27D3-4E50-9CD0-BF80867C7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A63C50-0D5F-4ED0-AD01-1CDF344B25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8136AD-CCE3-4600-A062-D7FE4EBFBB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218428-09B1-47AA-AFC1-9F2C50D73B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DC299A-55E4-42DB-A4D0-71CAE16C90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D1931-459A-4A68-8DC4-727B583B2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AFD4DA-045F-4091-8623-7DFEC045D8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74EBC3-C2B3-44AA-AB6B-846F6FFA7C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5E9EBE-3078-44FC-91B5-74CA69824B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F7D8CB-6714-4D6A-B375-332C3671E2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0AE5BF-3091-4C8F-9CBC-00B27DDABF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1BE62A-86A4-4257-9EF5-EF2E84A33F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4F29A1-8969-4B66-A680-939AB05F8F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753B03-AA9C-42C5-AFDB-43699C3CA2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B8D1EE-1452-489D-AE07-36F17F74C4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8D52B6-F5D6-4A1B-BD70-2C39D41E08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1FC31-623D-40EC-AB0C-0AA05C509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92BA7B-EDB0-46D7-BD1A-3E106C4307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7AAEC2-955B-4567-8A48-47797FF8D8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7F7ECA-F785-4876-92DD-0AD7977169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889D1E-F527-4A4B-959E-8D9A3B8132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A8F4FC-344F-4E78-A3AE-9C9609C1BF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BC035C-EF12-449B-8494-1F50E42974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C0DF61-F5BC-455E-8D67-DA0FC7020A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DD2A0B-6AB7-4DA4-8C92-A687AEBA7F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09C21C-1BC9-4071-9ED0-1CFE7527C9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00DD49-94D2-4497-B8CA-0B0843A08D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1DADA-FB3D-405C-B128-B9D5197A1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38FDD1-1C6A-4F36-8DDB-3088BC4080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2B7736-443D-45CF-8658-404A4D3F96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F6D888-5E3B-410E-BD62-374A4BB7D0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24EE46-E502-40DC-ADC7-D88761B4FB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B8C43B-4EFE-41AB-AC0B-DA23CC4B0E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755333-58E3-49F8-99E9-91FD889AC1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07B905-9EA2-4AD4-ABC1-E5AB3ACED9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F8262F-DB6C-45F0-B70B-7D3F6B5243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75F24F-8092-49DD-B571-77E0740700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78425E-CCF4-46D3-821B-B7C33AC2AA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1AD0F-7006-48CC-AE3D-956F7DFED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169A48-0BBA-400B-AE03-F2EC5505A8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7D8D25-7720-4C5D-ADB3-15ED2792EC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AE4838-A191-498A-97A4-EB15A68035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A62FE63-BAEF-4DB8-8495-28FFFC86F5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5029DB-FA7B-4C85-A82D-8EE073B07D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1A749E-0D01-4C74-8F56-D286234555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0D0143-D9A3-46F8-96F5-7CACE0D709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A2B366-CE3F-4C33-B149-7D05ABCEB2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40525C-00B0-4093-865E-FBE6701620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519D19-7D59-4635-B3E4-6C303A6BDA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BE71E-CB3B-4739-955D-501049967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B40AD3-A494-421C-9F7B-281F5FB019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8BC3AC-1830-4A36-8904-79F2E26640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D54396-7249-4A87-885F-2896F773C3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638E00-C452-46C2-A439-E8100A1C61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853536-2F25-47BE-A546-C2B03E605B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5E4716-0DD3-477C-8128-CD91D7D1B0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37FEB87-A2C7-4021-A6FD-0606BFE3CD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ABB3F3-577E-4BAB-9227-75581D3B67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A12F33-570F-483F-916B-5BE7B75CEA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70FDFF-4315-4A67-8E28-FEE523B927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FA40D-1AA2-4E50-95F6-C27126AC2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653B61-20EE-49BB-A34F-4FE56C7468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C28540-51C2-4D33-9C37-D965DB0F3D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0E045C-5B93-4D4F-8124-4D91B7FA04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C3A556-BA15-4D87-A6AF-9E9FCAE970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AD97D0-DDBC-4B2F-AB40-B52D175000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504302-163F-4753-92F3-7D60817886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45DCB4-CF0A-4692-A881-34D607FC0B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62FA68-70E8-4E5C-B210-E670F5D02B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AEFE36-7A65-4854-904D-35C51AAA00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B237020-2954-4B98-A0DF-4F81962B4EA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FB27D-A20F-4A9F-A237-824BDA4B9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30222CE-C5F6-4F0D-9BD7-EBA8FA7FF5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959E73-61BF-422A-ACFD-AF16B440EE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E3CBF5-523D-4550-B931-C18C8320DC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88F989-AB39-4910-8341-63565152B2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1FA0097-5041-4152-A6AC-0117C8BC18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AAFAF0-FB95-4C39-89B4-9729BF3B68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A738A9-AE5E-480F-84AE-ECB3B285F2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61E225-1645-4A77-B958-ABD382C08C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4CE6EF-3305-4965-9668-25D1E9574B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AB4DDC-F754-47AE-8C8E-76C14303ED8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BDD4B-2968-4F5E-A502-DE1746535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0B8F379-FAB6-41BB-A22F-A45F365DA07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AFBDAF8-8DFF-43F5-9B53-98F9C92D6E4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ACC7C1-117C-4FCE-85E5-5614455012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5E67B7-3D93-4E15-BECA-BDADEF68FF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10755C0-9339-4B61-9C3C-1AB257A9965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DC4E27-D900-4B52-A205-BA11710DEA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3D7673-C444-4E77-B299-33212D6C319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AB4F89-2B00-45BE-99A7-4CBBCA88A7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A1872D-96A1-4AE7-A4EA-7A3B20A0AF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CF4AC4-E585-4BE4-9CA5-E060DC87A7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FCD48-28BB-4B89-B322-7E8D94187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5D17BD2-1AE8-43A0-9FBD-A3D6DC0407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E94A6AE-D293-4A81-A293-9CA3E02FC5F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7B5A15B-1150-4733-A052-0ABD43E284C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3E46340-9BBA-4347-B4C6-A2AA851AD96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5248E5-2D74-4422-A19E-2086549FCC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F367F8F-A05B-4B33-8320-B999619596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31C315-4C6D-4C14-926B-4ED80EF4D9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C5D4D7-4A82-4587-8780-FD0EE26219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54D683-2C67-4771-A307-AF3F16405D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2E7DAA7-3E85-467A-9A6E-8D88A3C6D5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117F9-D549-4207-B0EB-3D9745035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E1C21-703C-4E16-8F76-E2A515CFD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5467A7-86BF-4FA7-AD4A-8FEA507751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ECD0F8-F432-448D-8F35-C9F5572BBD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BD543B-7720-4CD9-B119-B878A3C68D3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8535548-08F0-46AB-8F7B-7FAF5085367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3E6ABC6-3379-43C1-88CC-8C04F096687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B2004-9D31-4F9E-8DE0-B057B10C4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5A5EE-DA5A-4E87-AD04-DEE397BD8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A013B-670A-41B3-9124-B165FE973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A27E1-23AD-4989-BF79-A988D66B8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31F7DA-1B80-4B66-8DD2-BC9EE20DCA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F9CFA-9DA9-4FBB-BF78-743384FF0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0A39D-3202-4524-B8CB-4358C9560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08CD8-A2F4-4426-B9A1-4105FE1EF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F7443-8EFF-4A3B-ACB1-22E56BCE6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79060-8C9B-4838-8AB6-5C0376A9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86CB3-70B6-4AF2-ACBD-EE75A1BE4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100DF-9177-4767-89FD-659BC1AAD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CC466-A929-47EF-86AF-44490E40B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3E7F4-F690-482D-86BD-500F1E782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19A5B-751F-4D9A-A508-51C394CB1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FC691-F52E-41B6-9D16-1A1BA9E23E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3AC9AF-B599-429D-9B72-21F6BC35CF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429083-5E3C-4149-AB6C-07C4F9412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37E29-2444-4D6A-9193-788521F9A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BA5CF-5922-4130-95BC-2657807FE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C2EE5-BA37-4017-AF4E-7A0A9FE06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7CBE2-BB1A-45A0-86A6-83B72F809D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EE03E-4BC5-48AB-B117-6602E435B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9BB26-CEAE-42C0-835E-41BAABE885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87AE4-5C0A-449C-86B4-F68440775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6EA1D-CBAB-402E-ACA2-23F029487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96073-9558-43F9-836D-D60ABA8C9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49A6FF-670A-45DD-932A-4F29FB848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2076DD-60D1-4ED2-AEDC-B4D395851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7F3AE-C5A4-4B47-A887-F81BA7E88E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0368E3-026A-46E0-98AF-DD0B24408D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A1DC1-A4EC-4FD3-A909-5B3911CF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44252D-E4AF-423D-A902-913BF0D6B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16AE1-776C-49E3-991C-F9B47FCF81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9D572A-9037-43E0-9F78-39464B3102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5B510-61CB-431B-B9E5-FA7DB6B56A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D3CD7-B799-491B-A521-431E497F6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EA6AA-5556-4305-A7D6-303C7A910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068EE-435C-4B63-BABC-A9CFF890C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D0214-6E88-4E84-89D5-D5A800A80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C8F5E0-BD30-4FB5-9CDD-8798CBA5F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BCDC93-8F8B-484B-9DAE-FAF6B7A51C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1FC6-E470-4303-A127-F104D532B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895F0A-E504-4D6D-8992-E2E9CDCE9D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908A65-E21D-4626-8D1C-35CBAF4A25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5E1267-52B5-43D1-A44B-ED3C484083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949ABD-F188-416A-9E61-1EBCB4C28B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CD0FD-DB48-4188-A8BB-0821254B9C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18AFA-28C7-4E46-AF6D-1F0B90C114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D81E63-EACD-42AF-97EB-5677B83904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11DBE-C3C5-46F9-A89C-6B2F2AA4E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10480-50D7-46E7-BC95-91F7D1F88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F50E3-EB73-4B88-A06C-FB53396E0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1E7E-0AEF-4F4F-B1FE-E06A5AC8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4C4004-8175-482F-AD84-B56EAACCC4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BA4A8-E22D-4B30-BA9A-9095AE46C0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D3F1A1-4FF8-42D0-9CAC-6B81922B0A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5298F7-2878-45C8-A29B-3EB8DFAD0A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F42F4-3A2E-481F-9AA5-2F0FF354D7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96BC2-5A48-4F1F-A6D0-08CD86222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82422-7210-4AAD-8C41-F6FC6FCCD2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331CB-8C74-415F-BEC1-BC2A896497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9BB982-634F-4CA3-AACC-C595A94E1B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F69F6-FD61-4835-884D-ED49CFB0D6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6F527-EEE1-4869-8E08-5F7DC2252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D885D-4340-4D1E-AF08-71ACA87CEF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B4C2F-B737-41F7-86F6-FBE63651A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ED2B5B-23DB-4964-B6D7-73D24FA58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EDC6BA-3AA5-4313-A6D3-6BD3EFA2E1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24DF17-9CB5-45CB-B88B-AF62BE1A6C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DE4394-8BBE-4D7E-A72B-E8219BC442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62958-A12C-415F-A274-6E6FEEE7FB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994AEE-FB64-4890-899D-180C190D45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B1F615-774D-412D-95E3-62FDDC3FC7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31D95-02CB-4442-8E90-5B60985605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99616-93CF-4625-A4DC-A51C2E10F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8291F6-E666-40ED-B217-54E3ABB90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C745A-7804-4CC5-A0A4-B77E548A8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E4CBA-9506-46B5-B25F-6CD860FF3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BD7BBC-9815-42E3-8187-586D3C067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B02BA-613F-428F-ABE2-161BE4B23A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72CBBF-5941-432D-BB5A-887E31E8AD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7DD7E4-9865-4626-B35B-B4947C1F75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DEC3D2-0B07-4B94-8E2C-8CE56A0DC1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6F33D6-3C79-45EB-8535-9DBC694DC2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EE0860-31E3-42B4-B4A1-26095DEFBF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B36DA-5CE3-4896-9A3F-6AC1A6398F9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D6291-C897-4D88-A664-48B7067AE46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C4193-D40F-42C5-B9A8-E6AB3D6E87B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F4E59-3119-4CA5-8938-982906B7437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CD3F6-E615-4920-8A40-078DDE13B08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79025-AC91-4FE5-932C-83B18BFEFB1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E394D-B618-4C19-88EF-B68E4E93876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582A8-8DD1-493B-8688-8C6CF2010A2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74427-4CB8-4CAE-B748-E0B0CDFC91A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707BD-3422-4D38-9F28-FB79331642E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D8B2A-E558-45E3-8CB0-57C1B414868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672C0-A5A8-4E79-9405-573B2DBDC49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54095-732B-41B8-8DA0-2C1F64A7D22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29E55-D888-494F-AD88-1C76124FDC0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372A7-3823-43BB-B496-4B02A95DDC0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A5EB7-AACC-44F6-93AC-EDE8BD91239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E5AA0-2C3B-442C-B5F7-589FC72B275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i="1" lang="ar-SA"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
        <p:nvSpPr>
          <p:cNvPr id="1177" name="عنوان فرعي 2"/>
          <p:cNvSpPr/>
          <p:nvPr/>
        </p:nvSpPr>
        <p:spPr>
          <a:xfrm>
            <a:off x="0" y="4365720"/>
            <a:ext cx="8915400" cy="1614240"/>
          </a:xfrm>
          <a:prstGeom prst="rect">
            <a:avLst/>
          </a:prstGeom>
          <a:noFill/>
          <a:ln w="0">
            <a:noFill/>
          </a:ln>
        </p:spPr>
        <p:style>
          <a:lnRef idx="0"/>
          <a:fillRef idx="0"/>
          <a:effectRef idx="0"/>
          <a:fontRef idx="minor"/>
        </p:style>
        <p:txBody>
          <a:bodyPr lIns="90000" rIns="90000" tIns="46800" bIns="46800" anchor="t">
            <a:normAutofit fontScale="99000"/>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95959"/>
                </a:solidFill>
                <a:latin typeface="Century Gothic"/>
                <a:cs typeface="Akhbar MT"/>
              </a:rPr>
              <a:t>علم فسيولوجيا الأحياء الدقيقة</a:t>
            </a:r>
            <a:endParaRPr b="0" lang="en-US" sz="2800" spc="-1" strike="noStrike">
              <a:solidFill>
                <a:srgbClr val="000000"/>
              </a:solidFill>
              <a:latin typeface="Century Gothic"/>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595959"/>
                </a:solidFill>
                <a:latin typeface="Century Gothic"/>
                <a:ea typeface="Akhbar MT"/>
              </a:rPr>
              <a:t>330mic</a:t>
            </a:r>
            <a:endParaRPr b="0" lang="en-US" sz="2800" spc="-1" strike="noStrike">
              <a:solidFill>
                <a:srgbClr val="000000"/>
              </a:solidFill>
              <a:latin typeface="Century Gothic"/>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95959"/>
                </a:solidFill>
                <a:latin typeface="Century Gothic"/>
                <a:cs typeface="Akhbar MT"/>
              </a:rPr>
              <a:t>ا. مديحه العنزي</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9"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1"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2"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3"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5"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6"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7"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9"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0"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1" name=""/>
          <p:cNvGraphicFramePr/>
          <p:nvPr/>
        </p:nvGraphicFramePr>
        <p:xfrm>
          <a:off x="1835280" y="666720"/>
          <a:ext cx="6615000" cy="1736640"/>
        </p:xfrm>
        <a:graphic>
          <a:graphicData uri="http://schemas.openxmlformats.org/drawingml/2006/table">
            <a:tbl>
              <a:tblPr/>
              <a:tblGrid>
                <a:gridCol w="1654200"/>
                <a:gridCol w="1654200"/>
                <a:gridCol w="1653840"/>
                <a:gridCol w="1652760"/>
              </a:tblGrid>
              <a:tr h="914760">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2"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4"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6"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7" name=""/>
          <p:cNvGraphicFramePr/>
          <p:nvPr/>
        </p:nvGraphicFramePr>
        <p:xfrm>
          <a:off x="2268360" y="4437000"/>
          <a:ext cx="5135760" cy="2016360"/>
        </p:xfrm>
        <a:graphic>
          <a:graphicData uri="http://schemas.openxmlformats.org/drawingml/2006/table">
            <a:tbl>
              <a:tblPr/>
              <a:tblGrid>
                <a:gridCol w="2568600"/>
                <a:gridCol w="2567160"/>
              </a:tblGrid>
              <a:tr h="50472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1-15T11:24:14Z</dcterms:modified>
  <cp:revision>35</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