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FE231-A840-4A96-AE62-D587BDBB3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37C1-A86B-4800-98D1-A8F91FD2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755E21-D398-4EAF-B64A-B0D27B146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3B991-92FF-49C2-890C-570643006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787B97-1D04-42E3-A939-AFCEFACB4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6E1F59-3782-40F4-BE53-AA095A957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CEEBB-C94F-4A47-8BE9-0EE6B8C2D9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71204-3192-491F-8229-731374F0B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FA8653-D822-4763-A831-FCD2FB34C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E19E6B-0EC0-4887-98FA-8D4C00A37D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A1E007-DD1A-47E4-A6CC-303439B4B7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A05B10-585D-4ED5-9746-94C1BC3532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C7069-95BC-46FC-AAA4-A815E48E7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BED7AC-7481-4518-98CC-030D96DC3B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BA8D5B-C0EB-4AB4-B243-E269F96331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BFA667-A238-4496-B965-595FE52F5B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E02554-F63F-45C7-9611-9DDCA11640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73D49-4697-4CFE-99A7-DBE6954EF2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A2E079-F549-45DC-93BD-63FB9C92C4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BB9D9C-EDF5-49B2-A135-EF973FD4CE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711C0B-0A44-4186-9C42-FCC5D1EE3A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4B8167-5B91-45D1-81A1-14B2A54D42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16B1D2-28C2-43D2-AB39-2A9E665FDE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02221-7C13-4A4A-A3B4-6A3D24CBA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E7DE78-859D-473C-84FE-BE3163F0DA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9B77CF-722D-4875-A0AA-6DF1D62C82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7356E8-A8F7-4A52-ADC6-20B1513FA2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C6DD13-E91B-45CC-A6E0-EFDF2D2165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C83796-2673-4071-BE2E-2577B3D198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B76EF8-D1DA-49A6-9AF1-98EB22822B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2FE38C-3C10-4D0E-B1D4-16C34C94B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DEB5BC-9BCB-41D3-8FA5-F01E1A2373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8FA588-C36E-4E05-9B78-CD038F7FE6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B0052F-7870-434B-AA72-CDD305449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3938E-DD15-4A7F-88B6-E3AD41F2D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7E550A-EB57-41CB-AB8E-FCF5D5198E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D86BDF-CDEE-4AB6-A45E-EEF86ED06F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D02124-79BA-440A-A477-91614FA8E6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840324-314D-41A0-8478-8186D6DDD3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D38005-088C-4A8C-8A55-63F53FC935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243E62-E8B9-41BA-A5BC-F96FF0BDA9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1F4FDD-2DA5-4268-B417-7A2C23E334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BFB844-31EC-4CBF-8070-99A084E2ED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2FF06C-2D7E-4000-B60C-1C7F641B19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1FE83C-2ED7-44B4-AAB7-E1E857461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2B220-C517-4DE8-880D-24BD71C69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D731EE-23C7-4F71-A05D-56534B7E8D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4D0667-C730-4413-806D-7A519ABDED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E1DCF2-414B-4EF6-8F90-D1ACFE7665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6FB091-5D6E-44BE-A50F-04A7CE43D2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8287F3-6F62-4E58-BCC8-831B342E94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C76CA6-A3FD-41BD-BCA6-5EFE5A3311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CBA823-454D-4910-858A-38DFEE8F9E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A22B5E-BF33-4DED-B306-FDD7848621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8F4A89-D08A-4633-A7FE-3170BFBC64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30C5B4-AD3B-4CD2-9F50-566ADC4666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50A8E-257B-48DF-9B49-9DD19ABA6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232325-F3E8-485B-A792-0F29742550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4A70CA-5EF8-4B1D-8899-9BADC1D342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002B7B-62C1-4DDA-94F2-B822C89572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6DDD4D-2225-47CC-9B35-C120342355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CF729C-C29D-4EF4-A981-8FE204673F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226908-4861-4892-B649-83AEB33A57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31DD08-77E1-43D3-8958-EDB3C08F24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2C9F6A-949F-42E5-B5EE-93FD4B67CF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669E9D-6D2A-42DC-83E5-558AF59606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ED2533-8C60-4E97-AA4C-E4C8B69BB1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F7447-F8B1-40AF-B75D-23CF74EB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BE173E-D127-40B0-B550-D07BFE9752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74B6F9-7608-43D9-98CD-942EA73124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1999F9-35D5-4D8D-A07E-F902893A54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658C0A-05E1-4EEB-9638-D0BD201A45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ECC615-0C0C-454E-ADBE-C9E9FE8438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F48E1A-99B1-4EF3-ACAD-B98AE5C8B5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F21A4F-5EDD-4542-8025-36BEC1B050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B1CBE52-B6CD-4452-A359-6DF5DE8BE59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C7CF32-13B2-499F-993E-E31FDBB6606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C6663C-AFD2-44BF-876E-B831D640F2C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A5376-40B0-4D58-A1D4-C6843C6AD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8C2437-2B8C-4517-8734-3C972DB58F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590320-E863-41B2-B3E0-FD8B872722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9CEEF4-AD01-4EF9-8097-67A302DFCE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D8B44C-71A4-4C55-A71E-E0EF87DE65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3CEFC0-B564-4067-9F42-103A2B3C0F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5F5642-B3D6-4DF0-A832-0A8EC9FA02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C3035F-33FA-4090-94CE-50C9855986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0842DE-D3AC-45F0-BF9C-791E67D602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5E36AB-9C7A-46FF-806E-03CABF0F8A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257D26-02ED-481B-BFAF-6C3FE5B756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60196-692B-4010-A98E-2AE81199E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7D61F6-8A51-43EA-B69E-E4354D7DF2E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29E48C1-A185-49E3-9813-B89E96B592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2D2C7A-5E4F-460A-8ACB-0584E26534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6294F53-2070-4FBE-BB17-5866D83B90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45A606-1C8A-4BF9-98DD-BF6072E048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6DD458-35D7-4D54-9B02-99012CA5D0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2C18D1-838C-491F-BCB3-44DEB93D8E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95E8A8-BB6D-4975-B441-D26858E1B0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F0D76E-0539-4893-9EB0-E8D753B2C4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E44D72-6F48-4198-B638-8117543882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C9700-FC98-4A47-B5CB-215287A4B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A2CB3B-6224-4CF8-85E5-CF997F93C7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043069-0CAE-4E4F-B1CB-33233E06B90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374B08E-B54C-4A6E-B7AE-41A7940F73E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9F403E-AD18-4724-AD7C-1A17EDB79E1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8F7C22-E4D5-4A78-AF89-3807408138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F18702-1570-419E-BFB7-5E66BB9006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87D9AF-4EA0-4929-84EF-F11AAD66EF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3A2835-C289-4ED2-92D3-79D409DD24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CD56B5-16A8-4EFF-8AE7-1138EAF7A3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4AAAF2-26AA-4765-B426-8DEF238D4D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9286-1564-437F-8AD2-55B5700C5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BA034-5934-4B33-99FB-1B2B2B27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A2B4D9-0491-457F-9433-B601D3E6A6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16C830-0AA1-4CDA-80CA-22283D97F1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3723F9-D2E7-4F36-9851-C33DBEB24ED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91E076-8666-49F6-951E-0A87AD5E8E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9F0349D-C716-4511-A22D-94801CB1BA5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9CE3-B822-4F3E-B0FB-BDBDC0433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8DEED-E461-42C3-81D5-34D28BD13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CAF01-73A8-4F76-9B2D-4A16193BB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3029A-4A5B-453B-BD64-5A49508BD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8D951-95DD-4991-BAE1-44807EDE14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1782E-33B7-49B5-917B-9972EE238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D3FCE-0ECF-48DB-A16E-D6355D457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7DEAA-F3DF-4D16-9885-639F49247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1DE47-65E7-4CD4-81F1-9BEA3B418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EE2F-684F-43AF-8D34-84A6BB15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CD189-CE2F-48D0-8A51-453E6495C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B1F72-77DD-49C2-BF57-36056AECE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C3153-7126-49B5-99BF-16F15E480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BDE93-5312-47F6-B883-F989FBE2A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B48B8-5A0D-4C0D-9480-1E397D9FB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E145B-31D3-4514-9679-854AEB1B0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CC1693-5B01-4891-9B4D-40741BEF40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3D5C23-D541-4C36-900F-662747BED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B356F-D53D-4E68-8C45-46CE93352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94890-4535-4D6C-81E3-8F829858B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B807-91E8-4E3A-8E73-81F9C3FC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5CD0D-81AC-47B6-9F27-0C54299D3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2167A-F53F-405B-991C-26AD1E37F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CBC05-6ACD-4C4B-A953-1B44AEBE5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99FB5-3A67-447D-B9F3-20DAEC636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DC9BE-2613-455F-A005-E8328DD2E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284CA-2124-4347-B8BC-D147464AB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FF3A0-297E-4B2B-A48B-EC67BDE1C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63423-28F3-4EDE-910A-CA58339DC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34549-59EB-4BE8-9E37-854C62D1BB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84E8F-3EF7-47AB-A191-10BCD5216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353D-11C2-423F-92D4-6B9DE3C6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94E53-20D9-47BA-BA4B-E6370767E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F1799-472C-472F-9AF4-98C5D8E44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9AB43-1B36-4F3E-9951-FC10874BD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AFA26-505D-4646-8E21-5678F2E3F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123CC-90AB-4B52-80E3-E18F4C949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41166-BEE4-427A-B921-766EC1D55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BF907-D7EC-4690-8158-235DEB52B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4517A-CFE5-48CD-A6C7-B86BEF825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69EC3-2162-4744-B163-308B5F804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9B51D1-1338-4C2E-B995-E3018D1EB3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0A58-AE3D-404B-9178-41F6A4EA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6E818F-51AC-418E-8F3E-FC2CA248AE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4C77B4-6F69-4D2C-8FA2-DBA432BDCC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92CC3-5B1B-4098-B3AA-03C5A57DB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0A071-5A71-47DD-9ADD-1B6EE1D18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C0DBF-1BB8-4F15-BBF7-DDA7EA5F9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2B69BA-B2C7-47CB-B57C-0F99D244C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052ED-E1D6-4A88-9275-87676CA628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C4463-AED9-4993-885C-D974F1D22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2B46B-7BFE-4C8F-8AD5-0656202D5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73A29-B190-40FC-A5EA-EB15E4BDB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37D1-F813-4BAF-BF1E-29065284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226BB-EBA7-41CF-81B9-600C4AFD4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7FC71E-9652-45DC-AEA3-D3B633612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D802FE-C441-4CAB-BD18-97781346CF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4BC192-981F-4071-B954-D22773EF7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FF8353-3CF9-4184-890B-AC5DA6E10F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D91A0-C127-4273-B3BA-0A4493D77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E3439-3EA7-476B-A7C2-ED497A2CDC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3D4E9-A062-47D4-B82C-832A7CD3C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85B60-0315-41AB-B0E2-D134512F3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B1BC8-5B12-448D-9FC1-22BB8FE58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8509-55E8-4D6A-B8B1-E5D421C47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22DC5-753C-4172-B3CC-AEFDDC7F6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AB4C6-19D5-414C-9885-848941CFE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A9524E-077E-4791-8623-232378C40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2E709-391C-46DC-AA09-67FBCA647F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C26FD3-54B5-4E47-87F5-D505695003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A284D-7076-49D1-82CF-6126778063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2C042-4B75-42CB-90B2-080255A3D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EF9CBF-6D4E-47D4-8813-42C86E9C4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ABC5F-0BA1-4632-8E1D-63FAB0CEB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1BB62-AC62-437D-A82E-3E5733C8C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AD07-54CF-4D6F-A487-FE8572BB3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B3BF1-0526-42EF-AF38-4479A85DB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69F32-0329-4D28-9F0B-18FB941E6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65E92-A8D3-491D-8992-C4496AC82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35016-F42B-4E13-9306-C0A2097C9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8359F-CF5B-4719-919C-CEB5CE1A3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7F79B4-6638-4DB2-9CC9-118BD898FA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D008BD-9674-461E-940C-7227A8865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5E5D5D-8297-4FC2-B819-3FB976A1E5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CB3E4-E4D1-4D31-ACBE-1544F2FADE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C9E690-B2F3-430D-A063-F7783B1BCB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B128E-71D9-4ADA-A0EF-B2B77D310F5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9BEC3-432C-4374-B76A-FA2BFDA1DEA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4E900-EF8C-4618-916D-3E2C6940273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0CD1E-86C1-49EA-9D68-D8BEBDF86FB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50675-70F2-471A-94A0-C8C42FBE9B0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3BB62-87F3-40EA-A593-18085AF7459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AB77F-6642-4A50-B71E-563A36FE9FB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8ED76-BC85-4129-8103-6198182F631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32579-89BA-4441-A2F0-0442019281C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254FB-272B-4C6B-AC85-752CF307425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1DC97-FFDB-4CCC-ACCF-8F29BA6D208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E499D-4D0D-4626-A323-73B3E67B0BFF}"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56C0E-8D9C-4D0C-87A4-EC94D0B20B9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85096-84ED-423C-8E07-A7B2EF7C7C2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4D62A-CF11-4D73-8FB7-C23C2618A16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E4C51-1ADB-48E6-85B4-943EA3C5C4D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BF876-2F01-4F04-BFFA-37B066F333B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lang="en-US"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8"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0"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1"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2"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4"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5"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6"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0" name=""/>
          <p:cNvGraphicFramePr/>
          <p:nvPr/>
        </p:nvGraphicFramePr>
        <p:xfrm>
          <a:off x="1835280" y="666720"/>
          <a:ext cx="6615000" cy="1736640"/>
        </p:xfrm>
        <a:graphic>
          <a:graphicData uri="http://schemas.openxmlformats.org/drawingml/2006/table">
            <a:tbl>
              <a:tblPr/>
              <a:tblGrid>
                <a:gridCol w="1655640"/>
                <a:gridCol w="1652760"/>
                <a:gridCol w="1653840"/>
                <a:gridCol w="165276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1"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3"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5"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6" name=""/>
          <p:cNvGraphicFramePr/>
          <p:nvPr/>
        </p:nvGraphicFramePr>
        <p:xfrm>
          <a:off x="2268360" y="4437000"/>
          <a:ext cx="5135760" cy="2016360"/>
        </p:xfrm>
        <a:graphic>
          <a:graphicData uri="http://schemas.openxmlformats.org/drawingml/2006/table">
            <a:tbl>
              <a:tblPr/>
              <a:tblGrid>
                <a:gridCol w="2567160"/>
                <a:gridCol w="2568600"/>
              </a:tblGrid>
              <a:tr h="504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0-11T14:22:00Z</dcterms:modified>
  <cp:revision>34</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