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89F-0755-48BE-AAED-842A0717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18B-EB26-488C-A596-B192C841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CA7-4902-45FD-9BF5-A82F0CFC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CEA-FFA3-41E5-8570-8D5E4DB0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729E-C7C1-4401-AA7E-01ABE54C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E5B3-99FF-4321-BEEC-FA91EF7E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0078-3BFF-4E31-8001-B0103142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2A14-C907-4BCC-9346-D3EEAD4D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71D8-CD38-44B0-8BFC-ACDF20B2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8D06-1B4F-4786-B2D3-081E9B21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76EC-7607-4866-9FB1-2634B2F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CD9-42A0-4091-B17D-4EB52F13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7DA8-D244-4E6B-A9B8-CDD499D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D99C-23BA-41BF-BD26-E02C7A4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188C-51B0-4BD3-BD1D-3551DD2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C469-5CA6-4C2C-B98E-46A6EB83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6301-6FFE-4A7D-A571-293BE4BD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840-F334-43F6-A43B-4B44D7F1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CA1-360B-49E1-82A3-F7E47996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E98-8E9B-4978-902C-5B77531A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8C9-F436-4E3A-9263-68B46078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E0F-359C-414B-B20A-0E4A082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53E-92E0-4995-9D58-B47B2761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5BF-4383-4521-BA2D-7AFE4ABF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2E76-8CA9-4678-B2BE-01C5DC0C72D0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BB00-9FA3-4FFF-B03C-F58C7F1E1722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33cc"/>
                </a:solidFill>
                <a:latin typeface="Palatino Linotype"/>
              </a:rPr>
              <a:t>حشرة الدروسوفيلا</a:t>
            </a:r>
            <a:br>
              <a:rPr sz="5400"/>
            </a:br>
            <a:r>
              <a:rPr b="0" i="1" lang="en-US" sz="5400" spc="-1" strike="noStrike">
                <a:solidFill>
                  <a:srgbClr val="ff33cc"/>
                </a:solidFill>
                <a:latin typeface="Palatino Linotype"/>
              </a:rPr>
              <a:t>Drosophila melanogaster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Content Placeholder 3" descr="fig1"/>
          <p:cNvPicPr/>
          <p:nvPr/>
        </p:nvPicPr>
        <p:blipFill>
          <a:blip r:embed="rId1"/>
          <a:stretch/>
        </p:blipFill>
        <p:spPr>
          <a:xfrm>
            <a:off x="266688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ff33cc"/>
                </a:solidFill>
                <a:latin typeface="Palatino Linotype"/>
              </a:rPr>
              <a:t>البيئات المستخدمة في تربية الحشرات 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Content Placeholder 3" descr="drosophilamedia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2502000"/>
          </a:xfrm>
          <a:prstGeom prst="rect">
            <a:avLst/>
          </a:prstGeom>
          <a:ln w="0">
            <a:noFill/>
          </a:ln>
        </p:spPr>
      </p:pic>
      <p:pic>
        <p:nvPicPr>
          <p:cNvPr id="116" name="صورة 4" descr="MorefliesApr172006_100a.jpg"/>
          <p:cNvPicPr/>
          <p:nvPr/>
        </p:nvPicPr>
        <p:blipFill>
          <a:blip r:embed="rId2"/>
          <a:stretch/>
        </p:blipFill>
        <p:spPr>
          <a:xfrm>
            <a:off x="539640" y="2997360"/>
            <a:ext cx="3568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6920" y="191592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cc"/>
                </a:solidFill>
                <a:uFillTx/>
                <a:latin typeface="Century Gothic"/>
              </a:rPr>
              <a:t>البيئات الغذائية الصناعية  المستخدمة  للذبابة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تربى الذبابة  في المختبرات في أنابيب من البلاست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تحوي بيئة غذائية  تفي بمتطلبات الحياة لهذه الحشر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cc"/>
                </a:solidFill>
                <a:uFillTx/>
                <a:latin typeface="Century Gothic"/>
              </a:rPr>
              <a:t>تتكون هذه البيئة من 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اء + أجار + دقيق ذرة +عسل أو دبس الكارو+ خميرة+ مبيد فطري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cc"/>
                </a:solidFill>
                <a:uFillTx/>
                <a:latin typeface="Century Gothic"/>
              </a:rPr>
              <a:t>المواد المستخدمة في دراسة الذبابة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بيئة+ أنابيب تربية + اغطية اسفنجية + كحول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70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%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cc"/>
                </a:solidFill>
                <a:uFillTx/>
                <a:latin typeface="Century Gothic"/>
              </a:rPr>
              <a:t>ادوات الفحص</a:t>
            </a:r>
            <a:r>
              <a:rPr b="1" lang="ar-SA" sz="2400" spc="-1" strike="noStrike">
                <a:solidFill>
                  <a:srgbClr val="ff33cc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مجهر+ قمع التخدير+ مادة مخدرة (إيثر) + فرشاة ناعمة ودقيقة + شرائح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2" descr="drosophila"/>
          <p:cNvPicPr/>
          <p:nvPr/>
        </p:nvPicPr>
        <p:blipFill>
          <a:blip r:embed="rId1"/>
          <a:stretch/>
        </p:blipFill>
        <p:spPr>
          <a:xfrm>
            <a:off x="297000" y="182736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119" name="صورة 4" descr="MorefliesApr172006_100a.jpg"/>
          <p:cNvPicPr/>
          <p:nvPr/>
        </p:nvPicPr>
        <p:blipFill>
          <a:blip r:embed="rId2"/>
          <a:stretch/>
        </p:blipFill>
        <p:spPr>
          <a:xfrm>
            <a:off x="5219640" y="384120"/>
            <a:ext cx="3568680" cy="124164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3" descr="drosophilamedia"/>
          <p:cNvPicPr/>
          <p:nvPr/>
        </p:nvPicPr>
        <p:blipFill>
          <a:blip r:embed="rId3"/>
          <a:stretch/>
        </p:blipFill>
        <p:spPr>
          <a:xfrm>
            <a:off x="900000" y="384120"/>
            <a:ext cx="3816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مستطيل 3" descr=""/>
          <p:cNvPicPr/>
          <p:nvPr/>
        </p:nvPicPr>
        <p:blipFill>
          <a:blip r:embed="rId1"/>
          <a:stretch/>
        </p:blipFill>
        <p:spPr>
          <a:xfrm>
            <a:off x="298440" y="1047600"/>
            <a:ext cx="8669520" cy="4341960"/>
          </a:xfrm>
          <a:prstGeom prst="rect">
            <a:avLst/>
          </a:prstGeom>
          <a:ln w="0">
            <a:noFill/>
          </a:ln>
        </p:spPr>
      </p:pic>
      <p:sp>
        <p:nvSpPr>
          <p:cNvPr id="92" name="مستطيل 1"/>
          <p:cNvSpPr/>
          <p:nvPr/>
        </p:nvSpPr>
        <p:spPr>
          <a:xfrm>
            <a:off x="2050920" y="252360"/>
            <a:ext cx="5959440" cy="10688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Palatino Linotype"/>
                <a:cs typeface="Times New Roman"/>
              </a:rPr>
              <a:t>التعرف على حشرة الدروسفي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مستطيل 3"/>
          <p:cNvSpPr/>
          <p:nvPr/>
        </p:nvSpPr>
        <p:spPr>
          <a:xfrm>
            <a:off x="755640" y="1773360"/>
            <a:ext cx="7993080" cy="1556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Palatino Linotype"/>
                <a:cs typeface="Tahoma"/>
              </a:rPr>
              <a:t>أهمية الحشره وأسباب استخدامها وراثيا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60" y="259920"/>
            <a:ext cx="9056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cc"/>
                </a:solidFill>
                <a:latin typeface="Century Gothic"/>
              </a:rPr>
              <a:t>1</a:t>
            </a:r>
            <a:r>
              <a:rPr b="1" lang="ar-SA" sz="24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1800" spc="-1" strike="noStrike">
                <a:solidFill>
                  <a:srgbClr val="92d050"/>
                </a:solidFill>
                <a:latin typeface="Century Gothic"/>
              </a:rPr>
              <a:t>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سهولة الحصول عليها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2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وقلة تكلفة تربيتها في المعامل حيث يربى الذباب البالغ واليرقات على بيئات صناعية 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3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تشغل حيز صغير في داخل المعامل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4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قصر فترة الجيل.(بيضه – يرقه - عذراء - حشرة كاملة) حيث تستغرق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10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أيام في درجة حرارة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25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مْ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5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سهولة التحكم في الظروف البيئية من الحرارة والتغذية وخلافه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6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الحصول على نسل وفير من زوج واحد من الذباب ، ويتوقف ذلك على درجة الحرارة.  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7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قلة عدد الكروموسومات 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8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كروموسومات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8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احتواء خلايا الغدد اللعابية في اليرقات على الكروموسومات العملاقة, حيث ساعد ذلك على فهم الكثير من النظريات الوراثية و السيتولوجية الخاصة بالتغيرات والشذوذ الكروموسومي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9</a:t>
            </a:r>
            <a:r>
              <a:rPr b="1" lang="ar-SA" sz="2500" spc="-1" strike="noStrike">
                <a:solidFill>
                  <a:srgbClr val="ff33cc"/>
                </a:solidFill>
                <a:latin typeface="Century Gothic"/>
              </a:rPr>
              <a:t>-</a:t>
            </a:r>
            <a:r>
              <a:rPr b="1" lang="ar-SA" sz="2500" spc="-1" strike="noStrike">
                <a:solidFill>
                  <a:srgbClr val="92d050"/>
                </a:solidFill>
                <a:latin typeface="Century Gothic"/>
              </a:rPr>
              <a:t> تظهر صفات وراثية عديدة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1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1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1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-171720"/>
            <a:ext cx="5111640" cy="177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Palatino Linotype"/>
              </a:rPr>
              <a:t>دورة حياة الذبابة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240" y="1052280"/>
            <a:ext cx="8950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601"/>
              </a:spcBef>
              <a:buClr>
                <a:srgbClr val="f0b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يبلغ طول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الذبابة  التامة النمو حوالي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3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-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4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ملم .</a:t>
            </a: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ووزنها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مابين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1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-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1,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لغم عند درجة الحرارة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2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ْ. لكن اذا انخفضت الدرجة  يزداد طول ووزن الحشرة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</a:t>
            </a: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تضع الانثى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التامة النمو في يوم الثاني  من عمرها بيضا صغير الحجم (ملغم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0,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) ابيض اللون,وتضع  هذا البيض سواء تم تلقيحه او لم يتم ذلك. وبزيادة عمرها يزداد الانتاج للبيض حتى اليوم العاشر ثم يقل تدريجيا إلى اليوم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26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حيث لا تضع بيضا على الاطلا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f0b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يفقس البيض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بعد مرور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1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ساعة تحت درجة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2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ْ وتخرج اليرقات التي تتغذى على المواد المختمرة وتمر بثلاث فترات انسلاخ, تأخذ اليرقة في التشرنق بعد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أيام من ظهورها وتتحول إلى عذراء ويستمر دور العذراء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أيام اخرى ومن ثم تتحول إلى حشرة كامل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f0b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عمر الذبابة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شهر ونصف تقريبا ,والأنثى اطول عمرا من الذكر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f0b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النسبه الجنسية بين الذكور والإناث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هي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1:1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عند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25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مْ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5280" indent="-305280" algn="r" rtl="1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cc"/>
                </a:solidFill>
                <a:latin typeface="Palatino Linotype"/>
              </a:rPr>
              <a:t>دورة حياة الذبابة</a:t>
            </a:r>
            <a:br>
              <a:rPr sz="3600"/>
            </a:b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8" name="Content Placeholder 3" descr="000659130"/>
          <p:cNvPicPr/>
          <p:nvPr/>
        </p:nvPicPr>
        <p:blipFill>
          <a:blip r:embed="rId1"/>
          <a:stretch/>
        </p:blipFill>
        <p:spPr>
          <a:xfrm>
            <a:off x="1258920" y="907920"/>
            <a:ext cx="67150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cc"/>
                </a:solidFill>
                <a:latin typeface="Arial Black"/>
              </a:rPr>
              <a:t>صفات الطراز البري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Wild types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71640" y="2205000"/>
            <a:ext cx="5770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601"/>
              </a:spcBef>
              <a:buClr>
                <a:srgbClr val="f0b57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لون الجسم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رمادي او بني فاتح اللون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 algn="r" rtl="1">
              <a:spcBef>
                <a:spcPts val="601"/>
              </a:spcBef>
              <a:buClr>
                <a:srgbClr val="f0b57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الاجنحة 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طويلة وتمتد إلى مؤخرة البطن وتتجاوزه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 algn="r" rtl="1">
              <a:spcBef>
                <a:spcPts val="601"/>
              </a:spcBef>
              <a:buClr>
                <a:srgbClr val="f0b57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0b57a"/>
                </a:solidFill>
                <a:latin typeface="Century Gothic"/>
              </a:rPr>
              <a:t>العيون</a:t>
            </a:r>
            <a:r>
              <a:rPr b="1" lang="ar-SA" sz="2400" spc="-1" strike="noStrike">
                <a:solidFill>
                  <a:srgbClr val="92d050"/>
                </a:solidFill>
                <a:latin typeface="Century Gothic"/>
              </a:rPr>
              <a:t> حمراء اللون (قرمزي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1" name="Picture 4" descr="fig1"/>
          <p:cNvPicPr/>
          <p:nvPr/>
        </p:nvPicPr>
        <p:blipFill>
          <a:blip r:embed="rId1"/>
          <a:stretch/>
        </p:blipFill>
        <p:spPr>
          <a:xfrm>
            <a:off x="395280" y="1413000"/>
            <a:ext cx="24987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Palatino Linotype"/>
              </a:rPr>
              <a:t>الصفات المميزة للجنس في الذبابة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1880" y="3949560"/>
            <a:ext cx="3065400" cy="2686320"/>
          </a:xfrm>
          <a:prstGeom prst="rect">
            <a:avLst/>
          </a:prstGeom>
          <a:solidFill>
            <a:srgbClr val="dfe4f0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2d050"/>
                </a:solidFill>
                <a:latin typeface="Century Gothic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اكبر </a:t>
            </a:r>
            <a:r>
              <a:rPr b="0" lang="ar-SA" sz="2600" spc="-1" strike="noStrike">
                <a:solidFill>
                  <a:srgbClr val="000000"/>
                </a:solidFill>
                <a:latin typeface="Century Gothic"/>
              </a:rPr>
              <a:t>حجما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entury Gothic"/>
              </a:rPr>
              <a:t>مدببة لوجود الة البيض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entury Gothic"/>
              </a:rPr>
              <a:t>يوجد ست خطوط سوداء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entury Gothic"/>
              </a:rPr>
              <a:t>اكثر امتلاء لوجود البيض</a:t>
            </a: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صورة 3" descr="s.jpg"/>
          <p:cNvPicPr/>
          <p:nvPr/>
        </p:nvPicPr>
        <p:blipFill>
          <a:blip r:embed="rId1"/>
          <a:stretch/>
        </p:blipFill>
        <p:spPr>
          <a:xfrm>
            <a:off x="6227640" y="981000"/>
            <a:ext cx="2662200" cy="2354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4427640" y="3949560"/>
            <a:ext cx="2428920" cy="2727360"/>
          </a:xfrm>
          <a:prstGeom prst="rect">
            <a:avLst/>
          </a:prstGeom>
          <a:solidFill>
            <a:srgbClr val="e3f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2d050"/>
                </a:solidFill>
                <a:latin typeface="Calibri"/>
                <a:ea typeface="Arial"/>
              </a:rPr>
              <a:t>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قل حج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 مستدي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سوداء اللون ذ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خطان اسود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    اقل امتل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856560" y="3952800"/>
            <a:ext cx="1643040" cy="2727360"/>
          </a:xfrm>
          <a:prstGeom prst="rect">
            <a:avLst/>
          </a:prstGeom>
          <a:solidFill>
            <a:srgbClr val="abd9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cc"/>
                </a:solidFill>
                <a:latin typeface="Palatino Linotype"/>
                <a:cs typeface="Times New Roman"/>
              </a:rPr>
              <a:t>الحجم</a:t>
            </a: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cc"/>
                </a:solidFill>
                <a:latin typeface="Palatino Linotype"/>
                <a:ea typeface="Times New Roman"/>
              </a:rPr>
              <a:t>  المؤخرة </a:t>
            </a: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cc"/>
                </a:solidFill>
                <a:latin typeface="Palatino Linotype"/>
                <a:cs typeface="Times New Roman"/>
              </a:rPr>
              <a:t>الخطو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cc"/>
                </a:solidFill>
                <a:latin typeface="Palatino Linotype"/>
                <a:cs typeface="Times New Roman"/>
              </a:rPr>
              <a:t>البطن</a:t>
            </a:r>
            <a:r>
              <a:rPr b="0" lang="ar-SA" sz="2400" spc="-1" strike="noStrike">
                <a:solidFill>
                  <a:srgbClr val="92d050"/>
                </a:solidFill>
                <a:latin typeface="Palatino Linotype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صورة 7" descr="imagesدروسفيلا.jpg"/>
          <p:cNvPicPr/>
          <p:nvPr/>
        </p:nvPicPr>
        <p:blipFill>
          <a:blip r:embed="rId2"/>
          <a:stretch/>
        </p:blipFill>
        <p:spPr>
          <a:xfrm>
            <a:off x="3492360" y="981000"/>
            <a:ext cx="2735280" cy="2354400"/>
          </a:xfrm>
          <a:prstGeom prst="rect">
            <a:avLst/>
          </a:prstGeom>
          <a:ln w="0">
            <a:noFill/>
          </a:ln>
        </p:spPr>
      </p:pic>
      <p:pic>
        <p:nvPicPr>
          <p:cNvPr id="108" name="عنصر نائب للمحتوى 9" descr="180px-55542main_maflies_med.jpg"/>
          <p:cNvPicPr/>
          <p:nvPr/>
        </p:nvPicPr>
        <p:blipFill>
          <a:blip r:embed="rId3"/>
          <a:stretch/>
        </p:blipFill>
        <p:spPr>
          <a:xfrm>
            <a:off x="539640" y="981000"/>
            <a:ext cx="2729160" cy="2232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9"/>
          <p:cNvSpPr/>
          <p:nvPr/>
        </p:nvSpPr>
        <p:spPr>
          <a:xfrm>
            <a:off x="5408640" y="3368520"/>
            <a:ext cx="4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10"/>
          <p:cNvSpPr/>
          <p:nvPr/>
        </p:nvSpPr>
        <p:spPr>
          <a:xfrm>
            <a:off x="2779920" y="3335400"/>
            <a:ext cx="4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عنصر نائب للمحتوى 3" descr="fly_wildtype_320.jpg"/>
          <p:cNvPicPr/>
          <p:nvPr/>
        </p:nvPicPr>
        <p:blipFill>
          <a:blip r:embed="rId1"/>
          <a:stretch/>
        </p:blipFill>
        <p:spPr>
          <a:xfrm>
            <a:off x="1857240" y="71424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113" name="مستطيل 4"/>
          <p:cNvSpPr/>
          <p:nvPr/>
        </p:nvSpPr>
        <p:spPr>
          <a:xfrm>
            <a:off x="1877760" y="500076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Calibri"/>
                <a:ea typeface="Arial"/>
              </a:rPr>
              <a:t>Female (left) and male (right) </a:t>
            </a:r>
            <a:r>
              <a:rPr b="0" i="1" lang="en-US" sz="2400" spc="-1" strike="noStrike">
                <a:solidFill>
                  <a:srgbClr val="92d050"/>
                </a:solidFill>
                <a:latin typeface="Calibri"/>
                <a:ea typeface="Arial"/>
              </a:rPr>
              <a:t>Drosoph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6:52:59Z</dcterms:created>
  <dc:creator>VAIO</dc:creator>
  <dc:description/>
  <dc:language>en-US</dc:language>
  <cp:lastModifiedBy>pc</cp:lastModifiedBy>
  <dcterms:modified xsi:type="dcterms:W3CDTF">2016-10-23T12:19:36Z</dcterms:modified>
  <cp:revision>49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3C3C230B3FDA447BB56E07F9DB0AD7C</vt:lpwstr>
  </property>
</Properties>
</file>