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AC4-8082-4043-A609-6467E5F7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1FB5-1DF3-4A4C-88E2-5CAA3AAB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029-D888-41D4-8DCC-55E89BB8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15B-79BA-42AA-9BD8-A2D95BB7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8C2B-91B9-47D4-BB01-F3BCDA5B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6F8F-A0C6-4496-8F46-55E34E41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9BA0-F8CB-4F39-B406-42144F52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C16D-D7C9-4CCE-B8DC-F6E64481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F028-B23D-43DD-9133-8F063095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527C-EC6A-4B4B-A6FE-37F918F8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696A-12AC-41F1-90F6-EDF8E059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3B1-AA5B-44E0-AF06-0AF74957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505A-6148-416A-A272-8F99EFAD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7178-0816-4F77-B4DE-08A5B078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6BB4-9376-4145-B1E8-1C7940B2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3E04-A45D-4C1B-84F0-5DA2E187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5EB8-0279-457B-9E72-9B3C9A1A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1F2-700C-4AA0-AAA7-532603EA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DAF-437B-4F1A-BACE-86279CD6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78E-826B-47E0-AD5A-990FF3E6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7110-DC73-4A67-A425-1056ECCF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61BB-2B58-41B2-924D-F8A0789D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179-0BBB-4509-A364-D706A96A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A78D-7E67-43D1-857C-5BB45633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BA8B-8438-4D27-9F83-17C07687371B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3590-79C0-4F64-B2EF-A634C61A6322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33cc"/>
                </a:solidFill>
                <a:latin typeface="Palatino Linotype"/>
              </a:rPr>
              <a:t>حشرة الدروسوفيلا</a:t>
            </a:r>
            <a:br>
              <a:rPr sz="5400"/>
            </a:br>
            <a:r>
              <a:rPr b="0" i="1" lang="en-US" sz="5400" spc="-1" strike="noStrike">
                <a:solidFill>
                  <a:srgbClr val="ff33cc"/>
                </a:solidFill>
                <a:latin typeface="Palatino Linotype"/>
              </a:rPr>
              <a:t>Drosophila melanogaster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0" name="Content Placeholder 3" descr="fig1"/>
          <p:cNvPicPr/>
          <p:nvPr/>
        </p:nvPicPr>
        <p:blipFill>
          <a:blip r:embed="rId1"/>
          <a:stretch/>
        </p:blipFill>
        <p:spPr>
          <a:xfrm>
            <a:off x="266688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ff33cc"/>
                </a:solidFill>
                <a:latin typeface="Palatino Linotype"/>
              </a:rPr>
              <a:t>البيئات المستخدمة في تربية الحشرات </a:t>
            </a:r>
            <a:br>
              <a:rPr sz="3200"/>
            </a:b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5" name="Content Placeholder 3" descr="drosophilamedia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2502000"/>
          </a:xfrm>
          <a:prstGeom prst="rect">
            <a:avLst/>
          </a:prstGeom>
          <a:ln w="0">
            <a:noFill/>
          </a:ln>
        </p:spPr>
      </p:pic>
      <p:pic>
        <p:nvPicPr>
          <p:cNvPr id="116" name="صورة 4" descr="MorefliesApr172006_100a.jpg"/>
          <p:cNvPicPr/>
          <p:nvPr/>
        </p:nvPicPr>
        <p:blipFill>
          <a:blip r:embed="rId2"/>
          <a:stretch/>
        </p:blipFill>
        <p:spPr>
          <a:xfrm>
            <a:off x="539640" y="2997360"/>
            <a:ext cx="35686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26920" y="191592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33cc"/>
                </a:solidFill>
                <a:uFillTx/>
                <a:latin typeface="Century Gothic"/>
              </a:rPr>
              <a:t>البيئات الغذائية الصناعية  المستخدمة  للذبابة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تربى الذبابة  في المختبرات في أنابيب من البلاستك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تحوي بيئة غذائية  تفي بمتطلبات الحياة لهذه الحشر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33cc"/>
                </a:solidFill>
                <a:uFillTx/>
                <a:latin typeface="Century Gothic"/>
              </a:rPr>
              <a:t>تتكون هذه البيئة من 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ماء + أجار + دقيق ذرة +عسل أو دبس الكارو+ خميرة+ مبيد فطري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33cc"/>
                </a:solidFill>
                <a:uFillTx/>
                <a:latin typeface="Century Gothic"/>
              </a:rPr>
              <a:t>المواد المستخدمة في دراسة الذبابة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بيئة+ أنابيب تربية + اغطية اسفنجية + كحول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70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%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33cc"/>
                </a:solidFill>
                <a:uFillTx/>
                <a:latin typeface="Century Gothic"/>
              </a:rPr>
              <a:t>ادوات الفحص</a:t>
            </a:r>
            <a:r>
              <a:rPr b="1" lang="ar-SA" sz="2400" spc="-1" strike="noStrike">
                <a:solidFill>
                  <a:srgbClr val="ff33cc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 مجهر+ قمع التخدير+ مادة مخدرة (إيثر) + فرشاة ناعمة ودقيقة + شرائح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8" name="Picture 2" descr="drosophila"/>
          <p:cNvPicPr/>
          <p:nvPr/>
        </p:nvPicPr>
        <p:blipFill>
          <a:blip r:embed="rId1"/>
          <a:stretch/>
        </p:blipFill>
        <p:spPr>
          <a:xfrm>
            <a:off x="297000" y="1827360"/>
            <a:ext cx="2232000" cy="1728720"/>
          </a:xfrm>
          <a:prstGeom prst="rect">
            <a:avLst/>
          </a:prstGeom>
          <a:ln w="0">
            <a:noFill/>
          </a:ln>
        </p:spPr>
      </p:pic>
      <p:pic>
        <p:nvPicPr>
          <p:cNvPr id="119" name="صورة 4" descr="MorefliesApr172006_100a.jpg"/>
          <p:cNvPicPr/>
          <p:nvPr/>
        </p:nvPicPr>
        <p:blipFill>
          <a:blip r:embed="rId2"/>
          <a:stretch/>
        </p:blipFill>
        <p:spPr>
          <a:xfrm>
            <a:off x="5219640" y="384120"/>
            <a:ext cx="3568680" cy="1241640"/>
          </a:xfrm>
          <a:prstGeom prst="rect">
            <a:avLst/>
          </a:prstGeom>
          <a:ln w="0">
            <a:noFill/>
          </a:ln>
        </p:spPr>
      </p:pic>
      <p:pic>
        <p:nvPicPr>
          <p:cNvPr id="120" name="Content Placeholder 3" descr="drosophilamedia"/>
          <p:cNvPicPr/>
          <p:nvPr/>
        </p:nvPicPr>
        <p:blipFill>
          <a:blip r:embed="rId3"/>
          <a:stretch/>
        </p:blipFill>
        <p:spPr>
          <a:xfrm>
            <a:off x="900000" y="384120"/>
            <a:ext cx="38163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مستطيل 3" descr=""/>
          <p:cNvPicPr/>
          <p:nvPr/>
        </p:nvPicPr>
        <p:blipFill>
          <a:blip r:embed="rId1"/>
          <a:stretch/>
        </p:blipFill>
        <p:spPr>
          <a:xfrm>
            <a:off x="298440" y="1047600"/>
            <a:ext cx="8669520" cy="4341960"/>
          </a:xfrm>
          <a:prstGeom prst="rect">
            <a:avLst/>
          </a:prstGeom>
          <a:ln w="0">
            <a:noFill/>
          </a:ln>
        </p:spPr>
      </p:pic>
      <p:sp>
        <p:nvSpPr>
          <p:cNvPr id="92" name="مستطيل 1"/>
          <p:cNvSpPr/>
          <p:nvPr/>
        </p:nvSpPr>
        <p:spPr>
          <a:xfrm>
            <a:off x="2050920" y="252360"/>
            <a:ext cx="5959440" cy="10688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cc"/>
                </a:solidFill>
                <a:latin typeface="Palatino Linotype"/>
                <a:cs typeface="Times New Roman"/>
              </a:rPr>
              <a:t>التعرف على حشرة الدروسفي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مستطيل 3"/>
          <p:cNvSpPr/>
          <p:nvPr/>
        </p:nvSpPr>
        <p:spPr>
          <a:xfrm>
            <a:off x="755640" y="1773360"/>
            <a:ext cx="7993080" cy="1556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cc"/>
                </a:solidFill>
                <a:latin typeface="Palatino Linotype"/>
                <a:cs typeface="Tahoma"/>
              </a:rPr>
              <a:t>أهمية الحشره وأسباب استخدامها وراثيا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360" y="259920"/>
            <a:ext cx="90565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cc"/>
                </a:solidFill>
                <a:latin typeface="Century Gothic"/>
              </a:rPr>
              <a:t>1</a:t>
            </a:r>
            <a:r>
              <a:rPr b="1" lang="ar-SA" sz="2400" spc="-1" strike="noStrike">
                <a:solidFill>
                  <a:srgbClr val="ff33cc"/>
                </a:solidFill>
                <a:latin typeface="Century Gothic"/>
              </a:rPr>
              <a:t>-</a:t>
            </a:r>
            <a:r>
              <a:rPr b="1" lang="ar-SA" sz="1800" spc="-1" strike="noStrike">
                <a:solidFill>
                  <a:srgbClr val="92d050"/>
                </a:solidFill>
                <a:latin typeface="Century Gothic"/>
              </a:rPr>
              <a:t> 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سهولة الحصول عليها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2</a:t>
            </a: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-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 وقلة تكلفة تربيتها في المعامل حيث يربى الذباب البالغ واليرقات على بيئات صناعية  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3</a:t>
            </a: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-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 تشغل حيز صغير في داخل المعامل.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4</a:t>
            </a: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-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 قصر فترة الجيل.(بيضه – يرقه - عذراء - حشرة كاملة) حيث تستغرق 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10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 أيام في درجة حرارة 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25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مْ.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5</a:t>
            </a: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- 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 سهولة التحكم في الظروف البيئية من الحرارة والتغذية وخلافه.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6</a:t>
            </a: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-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 الحصول على نسل وفير من زوج واحد من الذباب ، ويتوقف ذلك على درجة الحرارة.   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7</a:t>
            </a: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-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 قلة عدد الكروموسومات 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8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 كروموسومات.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8</a:t>
            </a: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-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 احتواء خلايا الغدد اللعابية في اليرقات على الكروموسومات العملاقة, حيث ساعد ذلك على فهم الكثير من النظريات الوراثية و السيتولوجية الخاصة بالتغيرات والشذوذ الكروموسومي.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9</a:t>
            </a: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-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 تظهر صفات وراثية عديدة.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1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1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1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1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1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1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1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9640" y="-171720"/>
            <a:ext cx="5111640" cy="177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cc"/>
                </a:solidFill>
                <a:latin typeface="Palatino Linotype"/>
              </a:rPr>
              <a:t>دورة حياة الذبابة</a:t>
            </a:r>
            <a:br>
              <a:rPr sz="3200"/>
            </a:b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240" y="1052280"/>
            <a:ext cx="8950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601"/>
              </a:spcBef>
              <a:buClr>
                <a:srgbClr val="f0b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0b57a"/>
                </a:solidFill>
                <a:latin typeface="Century Gothic"/>
              </a:rPr>
              <a:t>يبلغ طول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الذبابة  التامة النمو حوالي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3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-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4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 ملم .</a:t>
            </a:r>
            <a:r>
              <a:rPr b="1" lang="ar-SA" sz="2400" spc="-1" strike="noStrike">
                <a:solidFill>
                  <a:srgbClr val="f0b57a"/>
                </a:solidFill>
                <a:latin typeface="Century Gothic"/>
              </a:rPr>
              <a:t>ووزنها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 مابين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1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-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1,5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ملغم عند درجة الحرارة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25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مْ. لكن اذا انخفضت الدرجة  يزداد طول ووزن الحشرة 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-305280" algn="r" rtl="1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 </a:t>
            </a:r>
            <a:r>
              <a:rPr b="1" lang="ar-SA" sz="2400" spc="-1" strike="noStrike">
                <a:solidFill>
                  <a:srgbClr val="f0b57a"/>
                </a:solidFill>
                <a:latin typeface="Century Gothic"/>
              </a:rPr>
              <a:t>تضع الانثى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التامة النمو في يوم الثاني  من عمرها بيضا صغير الحجم (ملغم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0,5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) ابيض اللون,وتضع  هذا البيض سواء تم تلقيحه او لم يتم ذلك. وبزيادة عمرها يزداد الانتاج للبيض حتى اليوم العاشر ثم يقل تدريجيا إلى اليوم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26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 حيث لا تضع بيضا على الاطلا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-305280" algn="r" rtl="1">
              <a:spcBef>
                <a:spcPts val="601"/>
              </a:spcBef>
              <a:buClr>
                <a:srgbClr val="f0b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0b57a"/>
                </a:solidFill>
                <a:latin typeface="Century Gothic"/>
              </a:rPr>
              <a:t>يفقس البيض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بعد مرور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15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 ساعة تحت درجة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25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مْ وتخرج اليرقات التي تتغذى على المواد المختمرة وتمر بثلاث فترات انسلاخ, تأخذ اليرقة في التشرنق بعد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5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 أيام من ظهورها وتتحول إلى عذراء ويستمر دور العذراء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5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 أيام اخرى ومن ثم تتحول إلى حشرة كامل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-305280" algn="r" rtl="1">
              <a:spcBef>
                <a:spcPts val="601"/>
              </a:spcBef>
              <a:buClr>
                <a:srgbClr val="f0b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0b57a"/>
                </a:solidFill>
                <a:latin typeface="Century Gothic"/>
              </a:rPr>
              <a:t>عمر الذبابة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شهر ونصف تقريبا ,والأنثى اطول عمرا من الذكر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-305280" algn="r" rtl="1">
              <a:spcBef>
                <a:spcPts val="601"/>
              </a:spcBef>
              <a:buClr>
                <a:srgbClr val="f0b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0b57a"/>
                </a:solidFill>
                <a:latin typeface="Century Gothic"/>
              </a:rPr>
              <a:t>النسبه الجنسية بين الذكور والإناث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هي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1:1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عند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25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مْ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-3052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-305280" algn="r" rtl="1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-305280" algn="r" rtl="1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cc"/>
                </a:solidFill>
                <a:latin typeface="Palatino Linotype"/>
              </a:rPr>
              <a:t>دورة حياة الذبابة</a:t>
            </a:r>
            <a:br>
              <a:rPr sz="3600"/>
            </a:b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8" name="Content Placeholder 3" descr="000659130"/>
          <p:cNvPicPr/>
          <p:nvPr/>
        </p:nvPicPr>
        <p:blipFill>
          <a:blip r:embed="rId1"/>
          <a:stretch/>
        </p:blipFill>
        <p:spPr>
          <a:xfrm>
            <a:off x="1258920" y="907920"/>
            <a:ext cx="671508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cc"/>
                </a:solidFill>
                <a:latin typeface="Arial Black"/>
              </a:rPr>
              <a:t>صفات الطراز البري </a:t>
            </a:r>
            <a:r>
              <a:rPr b="0" lang="en-US" sz="3200" spc="-1" strike="noStrike">
                <a:solidFill>
                  <a:srgbClr val="ff33cc"/>
                </a:solidFill>
                <a:latin typeface="Arial Black"/>
              </a:rPr>
              <a:t>Wild types</a:t>
            </a:r>
            <a:br>
              <a:rPr sz="3200"/>
            </a:b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771640" y="2205000"/>
            <a:ext cx="5770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601"/>
              </a:spcBef>
              <a:buClr>
                <a:srgbClr val="f0b57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0b57a"/>
                </a:solidFill>
                <a:latin typeface="Century Gothic"/>
              </a:rPr>
              <a:t>لون الجسم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رمادي او بني فاتح اللون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 algn="r" rtl="1">
              <a:spcBef>
                <a:spcPts val="601"/>
              </a:spcBef>
              <a:buClr>
                <a:srgbClr val="f0b57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0b57a"/>
                </a:solidFill>
                <a:latin typeface="Century Gothic"/>
              </a:rPr>
              <a:t>الاجنحة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طويلة وتمتد إلى مؤخرة البطن وتتجاوزه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 algn="r" rtl="1">
              <a:spcBef>
                <a:spcPts val="601"/>
              </a:spcBef>
              <a:buClr>
                <a:srgbClr val="f0b57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0b57a"/>
                </a:solidFill>
                <a:latin typeface="Century Gothic"/>
              </a:rPr>
              <a:t>العيون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 حمراء اللون (قرمزي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1" name="Picture 4" descr="fig1"/>
          <p:cNvPicPr/>
          <p:nvPr/>
        </p:nvPicPr>
        <p:blipFill>
          <a:blip r:embed="rId1"/>
          <a:stretch/>
        </p:blipFill>
        <p:spPr>
          <a:xfrm>
            <a:off x="395280" y="1413000"/>
            <a:ext cx="249876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cc"/>
                </a:solidFill>
                <a:latin typeface="Palatino Linotype"/>
              </a:rPr>
              <a:t>الصفات المميزة للجنس في الذبابة</a:t>
            </a:r>
            <a:br>
              <a:rPr sz="3200"/>
            </a:b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1880" y="3949560"/>
            <a:ext cx="3065400" cy="2686320"/>
          </a:xfrm>
          <a:prstGeom prst="rect">
            <a:avLst/>
          </a:prstGeom>
          <a:solidFill>
            <a:srgbClr val="dfe4f0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2d050"/>
                </a:solidFill>
                <a:latin typeface="Century Gothic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اكبر </a:t>
            </a:r>
            <a:r>
              <a:rPr b="0" lang="ar-SA" sz="2600" spc="-1" strike="noStrike">
                <a:solidFill>
                  <a:srgbClr val="000000"/>
                </a:solidFill>
                <a:latin typeface="Century Gothic"/>
              </a:rPr>
              <a:t>حجما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08520" indent="-3085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entury Gothic"/>
              </a:rPr>
              <a:t>مدببة لوجود الة البيض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08520" indent="-3085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entury Gothic"/>
              </a:rPr>
              <a:t>يوجد ست خطوط سوداء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08520" indent="-3085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08520" indent="-3085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entury Gothic"/>
              </a:rPr>
              <a:t>اكثر امتلاء لوجود البيض</a:t>
            </a: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صورة 3" descr="s.jpg"/>
          <p:cNvPicPr/>
          <p:nvPr/>
        </p:nvPicPr>
        <p:blipFill>
          <a:blip r:embed="rId1"/>
          <a:stretch/>
        </p:blipFill>
        <p:spPr>
          <a:xfrm>
            <a:off x="6227640" y="981000"/>
            <a:ext cx="2662200" cy="23544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4427640" y="3949560"/>
            <a:ext cx="2428920" cy="2727360"/>
          </a:xfrm>
          <a:prstGeom prst="rect">
            <a:avLst/>
          </a:prstGeom>
          <a:solidFill>
            <a:srgbClr val="e3f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2d050"/>
                </a:solidFill>
                <a:latin typeface="Calibri"/>
                <a:ea typeface="Arial"/>
              </a:rPr>
              <a:t>  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قل حجم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  مستدير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سوداء اللون ذ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خطان اسود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    اقل امتلا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6856560" y="3952800"/>
            <a:ext cx="1643040" cy="2727360"/>
          </a:xfrm>
          <a:prstGeom prst="rect">
            <a:avLst/>
          </a:prstGeom>
          <a:solidFill>
            <a:srgbClr val="abd9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cc"/>
                </a:solidFill>
                <a:latin typeface="Palatino Linotype"/>
                <a:cs typeface="Times New Roman"/>
              </a:rPr>
              <a:t>الحجم</a:t>
            </a:r>
            <a:r>
              <a:rPr b="0" lang="ar-SA" sz="2400" spc="-1" strike="noStrike">
                <a:solidFill>
                  <a:srgbClr val="92d050"/>
                </a:solidFill>
                <a:latin typeface="Palatino Linotyp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2d050"/>
                </a:solidFill>
                <a:latin typeface="Palatino Linotype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cc"/>
                </a:solidFill>
                <a:latin typeface="Palatino Linotype"/>
                <a:ea typeface="Times New Roman"/>
              </a:rPr>
              <a:t>  المؤخرة </a:t>
            </a:r>
            <a:r>
              <a:rPr b="0" lang="ar-SA" sz="2400" spc="-1" strike="noStrike">
                <a:solidFill>
                  <a:srgbClr val="92d050"/>
                </a:solidFill>
                <a:latin typeface="Palatino Linotype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cc"/>
                </a:solidFill>
                <a:latin typeface="Palatino Linotype"/>
                <a:cs typeface="Times New Roman"/>
              </a:rPr>
              <a:t>الخطو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2d050"/>
                </a:solidFill>
                <a:latin typeface="Palatino Linotyp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cc"/>
                </a:solidFill>
                <a:latin typeface="Palatino Linotype"/>
                <a:cs typeface="Times New Roman"/>
              </a:rPr>
              <a:t>البطن</a:t>
            </a:r>
            <a:r>
              <a:rPr b="0" lang="ar-SA" sz="2400" spc="-1" strike="noStrike">
                <a:solidFill>
                  <a:srgbClr val="92d050"/>
                </a:solidFill>
                <a:latin typeface="Palatino Linotype"/>
                <a:ea typeface="Times New Roman"/>
              </a:rPr>
              <a:t>      </a:t>
            </a:r>
            <a:r>
              <a:rPr b="0" lang="ar-SA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صورة 7" descr="imagesدروسفيلا.jpg"/>
          <p:cNvPicPr/>
          <p:nvPr/>
        </p:nvPicPr>
        <p:blipFill>
          <a:blip r:embed="rId2"/>
          <a:stretch/>
        </p:blipFill>
        <p:spPr>
          <a:xfrm>
            <a:off x="3492360" y="981000"/>
            <a:ext cx="2735280" cy="2354400"/>
          </a:xfrm>
          <a:prstGeom prst="rect">
            <a:avLst/>
          </a:prstGeom>
          <a:ln w="0">
            <a:noFill/>
          </a:ln>
        </p:spPr>
      </p:pic>
      <p:pic>
        <p:nvPicPr>
          <p:cNvPr id="108" name="عنصر نائب للمحتوى 9" descr="180px-55542main_maflies_med.jpg"/>
          <p:cNvPicPr/>
          <p:nvPr/>
        </p:nvPicPr>
        <p:blipFill>
          <a:blip r:embed="rId3"/>
          <a:stretch/>
        </p:blipFill>
        <p:spPr>
          <a:xfrm>
            <a:off x="539640" y="981000"/>
            <a:ext cx="2729160" cy="2232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0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ستطيل 9"/>
          <p:cNvSpPr/>
          <p:nvPr/>
        </p:nvSpPr>
        <p:spPr>
          <a:xfrm>
            <a:off x="5408640" y="3368520"/>
            <a:ext cx="4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Arial"/>
              </a:rPr>
              <a:t>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10"/>
          <p:cNvSpPr/>
          <p:nvPr/>
        </p:nvSpPr>
        <p:spPr>
          <a:xfrm>
            <a:off x="2779920" y="3335400"/>
            <a:ext cx="4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Arial"/>
              </a:rPr>
              <a:t>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عنصر نائب للمحتوى 3" descr="fly_wildtype_320.jpg"/>
          <p:cNvPicPr/>
          <p:nvPr/>
        </p:nvPicPr>
        <p:blipFill>
          <a:blip r:embed="rId1"/>
          <a:stretch/>
        </p:blipFill>
        <p:spPr>
          <a:xfrm>
            <a:off x="1857240" y="714240"/>
            <a:ext cx="5143680" cy="3857760"/>
          </a:xfrm>
          <a:prstGeom prst="rect">
            <a:avLst/>
          </a:prstGeom>
          <a:ln w="0">
            <a:noFill/>
          </a:ln>
        </p:spPr>
      </p:pic>
      <p:sp>
        <p:nvSpPr>
          <p:cNvPr id="113" name="مستطيل 4"/>
          <p:cNvSpPr/>
          <p:nvPr/>
        </p:nvSpPr>
        <p:spPr>
          <a:xfrm>
            <a:off x="1877760" y="500076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Calibri"/>
                <a:ea typeface="Arial"/>
              </a:rPr>
              <a:t>Female (left) and male (right) </a:t>
            </a:r>
            <a:r>
              <a:rPr b="0" i="1" lang="en-US" sz="2400" spc="-1" strike="noStrike">
                <a:solidFill>
                  <a:srgbClr val="92d050"/>
                </a:solidFill>
                <a:latin typeface="Calibri"/>
                <a:ea typeface="Arial"/>
              </a:rPr>
              <a:t>Drosoph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6:52:59Z</dcterms:created>
  <dc:creator>VAIO</dc:creator>
  <dc:description/>
  <dc:language>en-US</dc:language>
  <cp:lastModifiedBy>pc</cp:lastModifiedBy>
  <dcterms:modified xsi:type="dcterms:W3CDTF">2016-10-23T12:19:36Z</dcterms:modified>
  <cp:revision>49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3C3C230B3FDA447BB56E07F9DB0AD7C</vt:lpwstr>
  </property>
</Properties>
</file>