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444AD-4816-466D-ABEB-707C0C97E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27A5-DC7D-4A6D-A45D-B68B7B80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4"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6858C-DB9E-42DD-9AD5-CD644E972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6"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7"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8"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9"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0"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1"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C6F18-D868-45CB-9D86-7CC72B871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93C92-32DD-4620-9A0C-FD2CFF87C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9D3AF-05E1-421C-8E46-A39E66E6E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A9B08-44D6-4D94-A8DD-92ECFEB66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0DBD9-5C78-4AE2-BF14-4FC054145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9F95A-2882-472E-943D-C761BF83A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A7849-F745-44F4-BA59-2FC992A01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32EE6-D982-45D7-97C3-F3A799EC1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AB3E-45D0-4EF2-869B-5D271343D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4BC1D-F3B6-4DD4-A160-CA3D3C357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73AB5-0F0D-4DF3-9958-773EF457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4E750-8550-46B3-92FF-5E411BD90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FB4D1-B2CC-4335-A426-9BE036F11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88F7D-0494-4AE2-8310-0C61D15B6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21F031-37F4-4B58-9339-37BD7AE37B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3F47E-38EF-4620-9784-933A91C7D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91599-B896-4058-A3F9-58AF18DC5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FC3DC-6DC8-4AA4-865C-2E579BB0C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8CDD9-69DD-4D6A-A87E-202B68FB2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5E63-2C69-49A7-BEC1-7CDBC24EA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C042FA-4601-4220-BBB1-5A43FE9D2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A81A0-B004-4EF6-BE90-38B94B9CC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4E68E-847D-4511-A78E-2B25FFCB2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89916-22D5-4ED6-83D6-B20B978E0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AF01D-AE7F-4E14-ABFC-35713D667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F446F-6A2F-46C2-9B60-0A43B90588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2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10D70-0713-4772-B498-94F9EE96A6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B860CD-1F5A-45FE-BA8D-722B307737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4"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6E491-E160-4F16-9EF1-ADE1B61646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6"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A3D28-2643-44A3-9ADE-A8511B196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2FFF0-B6AC-461A-BFAD-1A35171DD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8"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39"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3F05C-74FB-4482-B081-3DC6DF74B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BE3A9-8273-4CEC-A875-7E41F0ADE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C8167B-EA80-4350-982F-89A5C2EE06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3"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4"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5"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5C35A-CC9A-4ACF-B072-8CE1E8941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7"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9"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0DF1F-9153-4095-94A7-75CA8DA5E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3"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42A5D-CD3D-4826-8721-5F7E0B2A7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5"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6"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6CB653-9D02-4998-BC18-E0D3AEAE6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8"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9"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0"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1"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463EC7-B580-426F-A3AB-7E5824DE0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3"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4"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5"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6"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7"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8"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7E5F3-85A6-4945-B64A-25BC510892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1BA0DE-853A-4AE8-A058-1BA1CE549C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B336-1E8D-4104-BB8A-DD9AAB8BE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78"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FAC78-E757-4055-8C4A-0592A5094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0"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7A3CA-740C-403C-A670-C9ADB3BB9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2"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3"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B0E77-59D0-4D5E-AC02-4079490C8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7308B-8650-47F4-9197-8758E195B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19556-47B7-4D44-9C4D-1321FB372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8"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9"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E7C02C-68AB-48A4-8BC6-19154A629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3"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2260C-E967-4ECE-AAD8-B4E5FA874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5"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7"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EF907-0028-4D8E-814C-2E1EF06C1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9"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0"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F2888-F3B6-4E41-AE45-E0E54C65F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2"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3"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4"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5"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AEF63D-0067-4DBB-A06E-52DCAA9FF8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9306-9E09-4A09-B647-EE56C4C8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7"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8"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9"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0"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1"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2"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879246-2EDB-4F54-A3B6-383BB4BC58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59356B-710A-4CAF-B410-9CC727EAF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B368D-98D3-4214-B7B0-DA9100F02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B81F81-D9D7-43CC-BE62-1F78245D6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54027-FD9A-46A9-BA49-2C66D5FC2B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EA1812-2E20-46DF-971B-B99708B20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EA680-6B20-4482-8535-728CAA813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18D1C-FCF6-463D-828F-D61044E81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F5336-77A2-4E83-B034-D8C513082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0286C-57BE-4335-B2FE-BF7113581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81B1-5271-434E-8C6A-DCDD2EEE0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6441A-6E7A-4943-A28E-FFF550994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CAA1D1-D364-4550-B41F-A779EABE1B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9CB783-A596-4170-AF0E-808046E603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78BE84-31B8-4BB2-8347-1A51C1AD32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5D20A-9FD7-41C9-934B-69E82057A4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778EC1-345E-48C4-A242-BD516F426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E4A33-94CC-41D3-9D14-E30C85855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BCDC8-DC38-4B19-9D98-6EFC777F8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71538-7B5C-4613-8D0D-0F5074C3BB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E82E5-60CE-4B1C-82F1-5F9F5BC51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8A087-5B36-413E-A732-F79EABF20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4DC0A-AEC7-47B6-B91F-F2F605D26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D4520-AE6F-4690-AED5-7CF262F07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567A9-CF96-450C-807B-ED20C4D02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6061BE-37C3-4DB6-814B-564B4599B8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9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23B9F0-D9DF-41A6-B907-8D57D1B0D3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1F3B-BFD7-4B04-8465-310D59143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3-HD-TOP.png"/>
          <p:cNvPicPr/>
          <p:nvPr/>
        </p:nvPicPr>
        <p:blipFill>
          <a:blip r:embed="rId2"/>
          <a:stretch/>
        </p:blipFill>
        <p:spPr>
          <a:xfrm>
            <a:off x="0" y="0"/>
            <a:ext cx="12192120" cy="1441440"/>
          </a:xfrm>
          <a:prstGeom prst="rect">
            <a:avLst/>
          </a:prstGeom>
          <a:ln w="0">
            <a:noFill/>
          </a:ln>
        </p:spPr>
      </p:pic>
      <p:sp>
        <p:nvSpPr>
          <p:cNvPr id="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3" name="PlaceHolder 3"/>
          <p:cNvSpPr>
            <a:spLocks noGrp="1"/>
          </p:cNvSpPr>
          <p:nvPr>
            <p:ph type="dt" idx="1"/>
          </p:nvPr>
        </p:nvSpPr>
        <p:spPr>
          <a:xfrm>
            <a:off x="8594640" y="6356520"/>
            <a:ext cx="2911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800" y="6356520"/>
            <a:ext cx="7772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 name="PlaceHolder 5"/>
          <p:cNvSpPr>
            <a:spLocks noGrp="1"/>
          </p:cNvSpPr>
          <p:nvPr>
            <p:ph type="sldNum" idx="3"/>
          </p:nvPr>
        </p:nvSpPr>
        <p:spPr>
          <a:xfrm>
            <a:off x="8763120" y="38052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02792-6031-43AF-8640-68A4A6DDF99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3-HD-TOP.png"/>
          <p:cNvPicPr/>
          <p:nvPr/>
        </p:nvPicPr>
        <p:blipFill>
          <a:blip r:embed="rId2"/>
          <a:stretch/>
        </p:blipFill>
        <p:spPr>
          <a:xfrm>
            <a:off x="0" y="0"/>
            <a:ext cx="12192120" cy="1441440"/>
          </a:xfrm>
          <a:prstGeom prst="rect">
            <a:avLst/>
          </a:prstGeom>
          <a:ln w="0">
            <a:noFill/>
          </a:ln>
        </p:spPr>
      </p:pic>
      <p:pic>
        <p:nvPicPr>
          <p:cNvPr id="43" name="Picture 7" descr="C3-HD-BTM.png"/>
          <p:cNvPicPr/>
          <p:nvPr/>
        </p:nvPicPr>
        <p:blipFill>
          <a:blip r:embed="rId3"/>
          <a:stretch/>
        </p:blipFill>
        <p:spPr>
          <a:xfrm>
            <a:off x="0" y="4375080"/>
            <a:ext cx="12192120" cy="2482920"/>
          </a:xfrm>
          <a:prstGeom prst="rect">
            <a:avLst/>
          </a:prstGeom>
          <a:ln w="0">
            <a:noFill/>
          </a:ln>
        </p:spPr>
      </p:pic>
      <p:sp>
        <p:nvSpPr>
          <p:cNvPr id="4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4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46" name="PlaceHolder 3"/>
          <p:cNvSpPr>
            <a:spLocks noGrp="1"/>
          </p:cNvSpPr>
          <p:nvPr>
            <p:ph type="dt" idx="4"/>
          </p:nvPr>
        </p:nvSpPr>
        <p:spPr>
          <a:xfrm>
            <a:off x="7908840" y="4314960"/>
            <a:ext cx="2911680" cy="374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1371600" y="4324320"/>
            <a:ext cx="640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 name="PlaceHolder 5"/>
          <p:cNvSpPr>
            <a:spLocks noGrp="1"/>
          </p:cNvSpPr>
          <p:nvPr>
            <p:ph type="sldNum" idx="6"/>
          </p:nvPr>
        </p:nvSpPr>
        <p:spPr>
          <a:xfrm>
            <a:off x="8077320" y="14302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ACF07-54CB-4768-A71E-F7F47EC1225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3-HD-BTM.png"/>
          <p:cNvPicPr/>
          <p:nvPr/>
        </p:nvPicPr>
        <p:blipFill>
          <a:blip r:embed="rId2"/>
          <a:stretch/>
        </p:blipFill>
        <p:spPr>
          <a:xfrm>
            <a:off x="0" y="4375080"/>
            <a:ext cx="12192120" cy="2482920"/>
          </a:xfrm>
          <a:prstGeom prst="rect">
            <a:avLst/>
          </a:prstGeom>
          <a:ln w="0">
            <a:noFill/>
          </a:ln>
        </p:spPr>
      </p:pic>
      <p:sp>
        <p:nvSpPr>
          <p:cNvPr id="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8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88" name="PlaceHolder 3"/>
          <p:cNvSpPr>
            <a:spLocks noGrp="1"/>
          </p:cNvSpPr>
          <p:nvPr>
            <p:ph type="dt" idx="7"/>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685800" y="380880"/>
            <a:ext cx="6991200" cy="363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 name="PlaceHolder 5"/>
          <p:cNvSpPr>
            <a:spLocks noGrp="1"/>
          </p:cNvSpPr>
          <p:nvPr>
            <p:ph type="sldNum" idx="9"/>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E410E-6817-4195-AB8F-99871422B62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8" descr="C3-HD-BTM.png"/>
          <p:cNvPicPr/>
          <p:nvPr/>
        </p:nvPicPr>
        <p:blipFill>
          <a:blip r:embed="rId2"/>
          <a:stretch/>
        </p:blipFill>
        <p:spPr>
          <a:xfrm>
            <a:off x="0" y="4375080"/>
            <a:ext cx="12192120" cy="2482920"/>
          </a:xfrm>
          <a:prstGeom prst="rect">
            <a:avLst/>
          </a:prstGeom>
          <a:ln w="0">
            <a:noFill/>
          </a:ln>
        </p:spPr>
      </p:pic>
      <p:sp>
        <p:nvSpPr>
          <p:cNvPr id="1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29"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30" name="PlaceHolder 3"/>
          <p:cNvSpPr>
            <a:spLocks noGrp="1"/>
          </p:cNvSpPr>
          <p:nvPr>
            <p:ph type="dt" idx="10"/>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2" name="PlaceHolder 5"/>
          <p:cNvSpPr>
            <a:spLocks noGrp="1"/>
          </p:cNvSpPr>
          <p:nvPr>
            <p:ph type="sldNum" idx="12"/>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A8162-8722-4CAB-920B-1EC24E53752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0" descr="C3-HD-BTM.png"/>
          <p:cNvPicPr/>
          <p:nvPr/>
        </p:nvPicPr>
        <p:blipFill>
          <a:blip r:embed="rId2"/>
          <a:stretch/>
        </p:blipFill>
        <p:spPr>
          <a:xfrm>
            <a:off x="0" y="4375080"/>
            <a:ext cx="12192120" cy="2482920"/>
          </a:xfrm>
          <a:prstGeom prst="rect">
            <a:avLst/>
          </a:prstGeom>
          <a:ln w="0">
            <a:noFill/>
          </a:ln>
        </p:spPr>
      </p:pic>
      <p:sp>
        <p:nvSpPr>
          <p:cNvPr id="170" name="TextBox 8"/>
          <p:cNvSpPr/>
          <p:nvPr/>
        </p:nvSpPr>
        <p:spPr>
          <a:xfrm>
            <a:off x="476280" y="93348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1" name="TextBox 9"/>
          <p:cNvSpPr/>
          <p:nvPr/>
        </p:nvSpPr>
        <p:spPr>
          <a:xfrm>
            <a:off x="10983960" y="270180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73"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74" name="PlaceHolder 3"/>
          <p:cNvSpPr>
            <a:spLocks noGrp="1"/>
          </p:cNvSpPr>
          <p:nvPr>
            <p:ph type="dt" idx="13"/>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76" name="PlaceHolder 5"/>
          <p:cNvSpPr>
            <a:spLocks noGrp="1"/>
          </p:cNvSpPr>
          <p:nvPr>
            <p:ph type="sldNum" idx="15"/>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68489-E189-4222-9E61-D997AEA8EE0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3-HD-BTM.png"/>
          <p:cNvPicPr/>
          <p:nvPr/>
        </p:nvPicPr>
        <p:blipFill>
          <a:blip r:embed="rId2"/>
          <a:stretch/>
        </p:blipFill>
        <p:spPr>
          <a:xfrm>
            <a:off x="0" y="4375080"/>
            <a:ext cx="12192120" cy="2482920"/>
          </a:xfrm>
          <a:prstGeom prst="rect">
            <a:avLst/>
          </a:prstGeom>
          <a:ln w="0">
            <a:noFill/>
          </a:ln>
        </p:spPr>
      </p:pic>
      <p:sp>
        <p:nvSpPr>
          <p:cNvPr id="21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1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16" name="PlaceHolder 3"/>
          <p:cNvSpPr>
            <a:spLocks noGrp="1"/>
          </p:cNvSpPr>
          <p:nvPr>
            <p:ph type="dt" idx="16"/>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8" name="PlaceHolder 5"/>
          <p:cNvSpPr>
            <a:spLocks noGrp="1"/>
          </p:cNvSpPr>
          <p:nvPr>
            <p:ph type="sldNum" idx="18"/>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7A2E3-9276-407A-8C9F-FAB95840AA01}"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C3-HD-BTM.png"/>
          <p:cNvPicPr/>
          <p:nvPr/>
        </p:nvPicPr>
        <p:blipFill>
          <a:blip r:embed="rId2"/>
          <a:stretch/>
        </p:blipFill>
        <p:spPr>
          <a:xfrm>
            <a:off x="0" y="4375080"/>
            <a:ext cx="12192120" cy="2482920"/>
          </a:xfrm>
          <a:prstGeom prst="rect">
            <a:avLst/>
          </a:prstGeom>
          <a:ln w="0">
            <a:noFill/>
          </a:ln>
        </p:spPr>
      </p:pic>
      <p:sp>
        <p:nvSpPr>
          <p:cNvPr id="2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5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58" name="PlaceHolder 3"/>
          <p:cNvSpPr>
            <a:spLocks noGrp="1"/>
          </p:cNvSpPr>
          <p:nvPr>
            <p:ph type="dt" idx="19"/>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685800" y="380520"/>
            <a:ext cx="69912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60" name="PlaceHolder 5"/>
          <p:cNvSpPr>
            <a:spLocks noGrp="1"/>
          </p:cNvSpPr>
          <p:nvPr>
            <p:ph type="sldNum" idx="21"/>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ECBAE-CEF9-4406-81A9-76FB2B67A0D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240" y="1803240"/>
            <a:ext cx="9448920" cy="18259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entury Gothic"/>
                <a:cs typeface="Times New Roman"/>
              </a:rPr>
              <a:t>التعريب (المحاضرة </a:t>
            </a:r>
            <a:r>
              <a:rPr b="0" lang="ar-SA" sz="6000" spc="-1" strike="noStrike">
                <a:solidFill>
                  <a:srgbClr val="000000"/>
                </a:solidFill>
                <a:latin typeface="Century Gothic"/>
                <a:ea typeface="Times New Roman"/>
              </a:rPr>
              <a:t>11</a:t>
            </a:r>
            <a:r>
              <a:rPr b="0" lang="ar-SA" sz="6000" spc="-1" strike="noStrike">
                <a:solidFill>
                  <a:srgbClr val="000000"/>
                </a:solidFill>
                <a:latin typeface="Century Gothic"/>
                <a:ea typeface="Times New Roman"/>
              </a:rPr>
              <a:t>)</a:t>
            </a:r>
            <a:endParaRPr b="0" lang="en-US" sz="6000" spc="-1" strike="noStrike">
              <a:solidFill>
                <a:srgbClr val="000000"/>
              </a:solidFill>
              <a:latin typeface="Century Gothic"/>
            </a:endParaRPr>
          </a:p>
        </p:txBody>
      </p:sp>
      <p:sp>
        <p:nvSpPr>
          <p:cNvPr id="298" name="PlaceHolder 2"/>
          <p:cNvSpPr>
            <a:spLocks noGrp="1"/>
          </p:cNvSpPr>
          <p:nvPr>
            <p:ph type="subTitle"/>
          </p:nvPr>
        </p:nvSpPr>
        <p:spPr>
          <a:xfrm>
            <a:off x="1371240" y="3631680"/>
            <a:ext cx="9448920" cy="685800"/>
          </a:xfrm>
          <a:prstGeom prst="rect">
            <a:avLst/>
          </a:prstGeom>
          <a:noFill/>
          <a:ln w="0">
            <a:noFill/>
          </a:ln>
        </p:spPr>
        <p:txBody>
          <a:bodyPr anchor="t">
            <a:noAutofit/>
          </a:bodyPr>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د. ريم سالم السالم</a:t>
            </a:r>
            <a:endParaRPr b="0" lang="en-US" sz="1900" spc="-1" strike="noStrike">
              <a:solidFill>
                <a:srgbClr val="000000"/>
              </a:solidFill>
              <a:latin typeface="Century Gothic"/>
            </a:endParaRPr>
          </a:p>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أستاذ مساعد في قسم اللغة الإنجليزية والترجمة، كلية اللغات والترجمة</a:t>
            </a:r>
            <a:endParaRPr b="0" lang="en-US" sz="1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إيقاع الصرفي العربي</a:t>
            </a:r>
            <a:endParaRPr b="0" lang="en-US" sz="4000" spc="-1" strike="noStrike">
              <a:solidFill>
                <a:srgbClr val="000000"/>
              </a:solidFill>
              <a:latin typeface="Century Gothic"/>
            </a:endParaRPr>
          </a:p>
        </p:txBody>
      </p:sp>
      <p:sp>
        <p:nvSpPr>
          <p:cNvPr id="316" name=""/>
          <p:cNvSpPr txBox="1"/>
          <p:nvPr/>
        </p:nvSpPr>
        <p:spPr>
          <a:xfrm>
            <a:off x="685440" y="2193480"/>
            <a:ext cx="10820520" cy="4024440"/>
          </a:xfrm>
          <a:prstGeom prst="rect">
            <a:avLst/>
          </a:prstGeom>
          <a:noFill/>
          <a:ln w="0">
            <a:noFill/>
          </a:ln>
        </p:spPr>
        <p:txBody>
          <a:bodyPr anchor="t">
            <a:normAutofit fontScale="87000"/>
          </a:bodyPr>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ختلف المعربون المحدثون لم يشترطوا الوزن العربي للمعرب، ولكنهم يستحسنون ذلك إذا جاء بسهولة.</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ذلك استعملوا (نيروز) بدلا من (نوروز) لأن الأولى شبيهة بقيصوم وعيثوم.</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كلمات الأعجمية لا توزن، لأن الوزن وسيلة العربية لتمييز الحروف الزائدة من الأصيلة، بينما حروف المعرب كلها أصول. </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إذن من الخطأ استعمال مصطلح الوزن الصرفي العربي  عند الحديث عن المعربات، وإنما نتحدث عن الإيقاع الصرفي العربي للكلمة المعربة. والإيقاع الصرفي للكلمة معناه «نسق تتابع حروفها الساكنة والممدودة وفق نظائرها في العربية»</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ا الفرق بين الوزن الصرفي والإيقاع الصرفي؟</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فعال، فعلال، تفعال على أوزان مختلفة ولكن لها الإيقاع نفسه.</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يضبط إيقاع الكلمة المعربة باعتبار حروفها كلها أصولا، تقابل الحروف الثلاثة الأولى الفاء والعين واللام، وللحرف الزائد تكرر اللام، وتترك أحرف المد على حالها، وكذلك الأحرف الزائدة كتاء التأنيث وياء النسب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بنية الصوتية العربية</a:t>
            </a:r>
            <a:endParaRPr b="0" lang="en-US" sz="4000" spc="-1" strike="noStrike">
              <a:solidFill>
                <a:srgbClr val="000000"/>
              </a:solidFill>
              <a:latin typeface="Century Gothic"/>
            </a:endParaRPr>
          </a:p>
        </p:txBody>
      </p:sp>
      <p:sp>
        <p:nvSpPr>
          <p:cNvPr id="318" name=""/>
          <p:cNvSpPr txBox="1"/>
          <p:nvPr/>
        </p:nvSpPr>
        <p:spPr>
          <a:xfrm>
            <a:off x="685440" y="2193480"/>
            <a:ext cx="10820520" cy="40244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نعني بها مجموعة الخصائص النطقية الفطرية للغة العربية التي تقوم على الاستثقال والاستخفاف. ويمكن حصرها في خمسة عناصر:</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عدد حروف الكلمة العربية</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ئتلاف حروف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ئتلاف حركات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عدم جواز التقاء ساكنين في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بدؤها بحرف متحرك</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عدد الحروف في الكلمة العربية</a:t>
            </a:r>
            <a:endParaRPr b="0" lang="en-US" sz="4000" spc="-1" strike="noStrike">
              <a:solidFill>
                <a:srgbClr val="000000"/>
              </a:solidFill>
              <a:latin typeface="Century Gothic"/>
            </a:endParaRPr>
          </a:p>
        </p:txBody>
      </p:sp>
      <p:sp>
        <p:nvSpPr>
          <p:cNvPr id="320"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أكثر ما يكون كلام العرب على خمسة حروف، واستثنى ابن خالويه اسم (قبَعْثَرى) وهو الجمل الضخم.</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يمكن أن يبلغ مع الزوائد </a:t>
            </a:r>
            <a:r>
              <a:rPr b="0" lang="ar-SA" sz="2200" spc="-1" strike="noStrike">
                <a:solidFill>
                  <a:srgbClr val="000000"/>
                </a:solidFill>
                <a:latin typeface="Century Gothic"/>
              </a:rPr>
              <a:t>8</a:t>
            </a:r>
            <a:r>
              <a:rPr b="0" lang="ar-SA" sz="2200" spc="-1" strike="noStrike">
                <a:solidFill>
                  <a:srgbClr val="000000"/>
                </a:solidFill>
                <a:latin typeface="Century Gothic"/>
              </a:rPr>
              <a:t> أحرف، مثل (عقبّجية) أي حماقة.</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قد كره العرب ذوات الخمسة، وهناك تناسب عكسي بين عدد حروف الكلمة وعدد تصريفاتها، ويجب الانتباه لذلك عند التعريب.</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 إذا قلت حروف الكلمة الأعجمية عن </a:t>
            </a:r>
            <a:r>
              <a:rPr b="0" lang="ar-SA" sz="2200" spc="-1" strike="noStrike">
                <a:solidFill>
                  <a:srgbClr val="000000"/>
                </a:solidFill>
                <a:latin typeface="Century Gothic"/>
              </a:rPr>
              <a:t>3</a:t>
            </a:r>
            <a:r>
              <a:rPr b="0" lang="ar-SA" sz="2200" spc="-1" strike="noStrike">
                <a:solidFill>
                  <a:srgbClr val="000000"/>
                </a:solidFill>
                <a:latin typeface="Century Gothic"/>
              </a:rPr>
              <a:t> وجب زيادتها بالتضعيف، ومثال ذلك تعريب (صك) الفارسية. وإن زادت عن </a:t>
            </a:r>
            <a:r>
              <a:rPr b="0" lang="ar-SA" sz="2200" spc="-1" strike="noStrike">
                <a:solidFill>
                  <a:srgbClr val="000000"/>
                </a:solidFill>
                <a:latin typeface="Century Gothic"/>
              </a:rPr>
              <a:t>7</a:t>
            </a:r>
            <a:r>
              <a:rPr b="0" lang="ar-SA" sz="2200" spc="-1" strike="noStrike">
                <a:solidFill>
                  <a:srgbClr val="000000"/>
                </a:solidFill>
                <a:latin typeface="Century Gothic"/>
              </a:rPr>
              <a:t> وجب حذف بعض حروفها.</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ئتلاف الحروف</a:t>
            </a:r>
            <a:endParaRPr b="0" lang="en-US" sz="4000" spc="-1" strike="noStrike">
              <a:solidFill>
                <a:srgbClr val="000000"/>
              </a:solidFill>
              <a:latin typeface="Century Gothic"/>
            </a:endParaRPr>
          </a:p>
        </p:txBody>
      </p:sp>
      <p:sp>
        <p:nvSpPr>
          <p:cNvPr id="322"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عني خلو الكلمة من الحروف المتنافرة كالغين مع الخاء،  وكالقاف مع الكاف، والواو الساكنة مع الكسرة قبلها، والياء الساكنة مع الضمة قبلها.</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أهم أسباب تنافرالحروف هو تقارب مخارج الحروف في الكلمة، حيث أنها كلما تقاربت كان نطقها أصعب.</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من أسباب التنافرأيضا الانتقال من الحروف المستعلية (خ – غ – ق – ض – ص – ط – ظ ) إلى الحروف المنخفضة ولهذا أبدلوا التاء إلى طاء في (اصتنع) لتصبح (اصطنع)</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عموما لا شيء يمنع من تبديل أحد الحرفين المتنافرين أو حذف أحدهما، لأن المعرب غير ملزم بنقل جميع حروف الكلمة الأجنبي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ئتلاف الحركات</a:t>
            </a:r>
            <a:endParaRPr b="0" lang="en-US" sz="4000" spc="-1" strike="noStrike">
              <a:solidFill>
                <a:srgbClr val="000000"/>
              </a:solidFill>
              <a:latin typeface="Century Gothic"/>
            </a:endParaRPr>
          </a:p>
        </p:txBody>
      </p:sp>
      <p:sp>
        <p:nvSpPr>
          <p:cNvPr id="324" name=""/>
          <p:cNvSpPr txBox="1"/>
          <p:nvPr/>
        </p:nvSpPr>
        <p:spPr>
          <a:xfrm>
            <a:off x="685440" y="2193480"/>
            <a:ext cx="10820520" cy="4024440"/>
          </a:xfrm>
          <a:prstGeom prst="rect">
            <a:avLst/>
          </a:prstGeom>
          <a:noFill/>
          <a:ln w="0">
            <a:noFill/>
          </a:ln>
        </p:spPr>
        <p:txBody>
          <a:bodyPr anchor="t">
            <a:normAutofit fontScale="99000"/>
          </a:bodyPr>
          <a:p>
            <a:pPr marL="226080" indent="-22608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حركة لها فائدتان: تعبيرية (للتفريق بين المعاني) وصوتية لتسهيل النطق بالأحرف الساكنة. وإذا تنافرت الحركات أصبحت ثقيلة وتعين تغييرها. وفيما يلي حالات التنافر في الحركات:</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ضمة قبل الواو في نهاية الاسم مثل الربُو (الربا)</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حركتان المتضادتان (الكسرة والضمة): الانتقال من الكسر إلى الضم ثقيل جدا مثل (زِئبُر)، أما الانتقال من الضم إلى الكسر فهو على ثقله أخف.</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واو الساكنة المكسور ما قبلها، والياء الساكنة المضموم ما قبلها، ولهذا غير العرب (مُيسر إلى موسر)</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جتماع أربعة متحركات مثل (عُلَبِط) وهنا لابد من وجود حرف محذوف وأصلها (علابط) أي قطيع الغنم</a:t>
            </a:r>
            <a:endParaRPr b="0" lang="en-US" sz="2200" spc="-1" strike="noStrike">
              <a:solidFill>
                <a:srgbClr val="000000"/>
              </a:solidFill>
              <a:latin typeface="Century Gothic"/>
            </a:endParaRPr>
          </a:p>
          <a:p>
            <a:pPr marL="226080" indent="-22608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عموما توالي الحركات ثقيل عند العرب، فإذا توالت الضمتان جاز أن نخفف (رُسُل – رُسْل) (أومُر – مُر)</a:t>
            </a:r>
            <a:endParaRPr b="0" lang="en-US" sz="2200" spc="-1" strike="noStrike">
              <a:solidFill>
                <a:srgbClr val="000000"/>
              </a:solidFill>
              <a:latin typeface="Century Gothic"/>
            </a:endParaRPr>
          </a:p>
          <a:p>
            <a:pPr marL="226080" indent="-22608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منع التقاء الساكنين في الكلمة</a:t>
            </a:r>
            <a:endParaRPr b="0" lang="en-US" sz="4000" spc="-1" strike="noStrike">
              <a:solidFill>
                <a:srgbClr val="000000"/>
              </a:solidFill>
              <a:latin typeface="Century Gothic"/>
            </a:endParaRPr>
          </a:p>
        </p:txBody>
      </p:sp>
      <p:sp>
        <p:nvSpPr>
          <p:cNvPr id="326"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لتخلص من التقاء الساكنين يحرك أحدهما كما في (قمِ الليل)</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ستثنى من كراهة التقاء الساكنين نهايات الكلمات مثل (بكْرْ)</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نبغي تجنب التقاء الساكنين عند التعريب لأنه يخرج الكلمة عن الإيقاع العربي</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مكن عند تعريب لالاند وأكسفورد حذف حرف العلة الممدود وإبداله بحركة  للتخلص من أحد الساكنين</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بدء بمتحرك</a:t>
            </a:r>
            <a:endParaRPr b="0" lang="en-US" sz="4000" spc="-1" strike="noStrike">
              <a:solidFill>
                <a:srgbClr val="000000"/>
              </a:solidFill>
              <a:latin typeface="Century Gothic"/>
            </a:endParaRPr>
          </a:p>
        </p:txBody>
      </p:sp>
      <p:sp>
        <p:nvSpPr>
          <p:cNvPr id="328"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ن القواعد الصوتية للعربية عدم البدء بالساكن، ولتجنب البدء بالساكن عند التعريب تضاف همزة في أول الكلمة الأجنبية أو تحريك الحرف الأول منها.</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eek</a:t>
            </a:r>
            <a:r>
              <a:rPr b="0" lang="ar-SA" sz="2200" spc="-1" strike="noStrike">
                <a:solidFill>
                  <a:srgbClr val="000000"/>
                </a:solidFill>
                <a:latin typeface="Century Gothic"/>
              </a:rPr>
              <a:t> إغريق</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pain</a:t>
            </a:r>
            <a:r>
              <a:rPr b="0" lang="ar-SA" sz="2200" spc="-1" strike="noStrike">
                <a:solidFill>
                  <a:srgbClr val="000000"/>
                </a:solidFill>
                <a:latin typeface="Century Gothic"/>
              </a:rPr>
              <a:t> إسبانيا</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anada</a:t>
            </a:r>
            <a:r>
              <a:rPr b="0" lang="ar-SA" sz="2200" spc="-1" strike="noStrike">
                <a:solidFill>
                  <a:srgbClr val="000000"/>
                </a:solidFill>
                <a:latin typeface="Century Gothic"/>
              </a:rPr>
              <a:t> غرناطة</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razil</a:t>
            </a:r>
            <a:r>
              <a:rPr b="0" lang="ar-SA" sz="2200" spc="-1" strike="noStrike">
                <a:solidFill>
                  <a:srgbClr val="000000"/>
                </a:solidFill>
                <a:latin typeface="Century Gothic"/>
              </a:rPr>
              <a:t> برازيل</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مرجع</a:t>
            </a:r>
            <a:endParaRPr b="0" lang="en-US" sz="4000" spc="-1" strike="noStrike">
              <a:solidFill>
                <a:srgbClr val="000000"/>
              </a:solidFill>
              <a:latin typeface="Century Gothic"/>
            </a:endParaRPr>
          </a:p>
        </p:txBody>
      </p:sp>
      <p:sp>
        <p:nvSpPr>
          <p:cNvPr id="330"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د. ممدوح خسارة (</a:t>
            </a:r>
            <a:r>
              <a:rPr b="0" lang="ar-SA" sz="2200" spc="-1" strike="noStrike">
                <a:solidFill>
                  <a:srgbClr val="000000"/>
                </a:solidFill>
                <a:latin typeface="Century Gothic"/>
              </a:rPr>
              <a:t>1998</a:t>
            </a:r>
            <a:r>
              <a:rPr b="0" lang="ar-SA" sz="2200" spc="-1" strike="noStrike">
                <a:solidFill>
                  <a:srgbClr val="000000"/>
                </a:solidFill>
                <a:latin typeface="Century Gothic"/>
              </a:rPr>
              <a:t>) </a:t>
            </a:r>
            <a:r>
              <a:rPr b="0" lang="ar-SA" sz="2200" spc="-1" strike="noStrike" u="sng">
                <a:solidFill>
                  <a:srgbClr val="000000"/>
                </a:solidFill>
                <a:uFillTx/>
                <a:latin typeface="Century Gothic"/>
              </a:rPr>
              <a:t>منهجية تعريب الألفاظ في القديم والحديث</a:t>
            </a:r>
            <a:r>
              <a:rPr b="0" lang="ar-SA" sz="2200" spc="-1" strike="noStrike">
                <a:solidFill>
                  <a:srgbClr val="000000"/>
                </a:solidFill>
                <a:latin typeface="Century Gothic"/>
              </a:rPr>
              <a:t>. بيروت: مؤسسة الرسال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895120" y="507960"/>
            <a:ext cx="8610840" cy="13464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entury Gothic"/>
                <a:cs typeface="Times New Roman"/>
              </a:rPr>
              <a:t>منهجية التعريب اللفظي</a:t>
            </a:r>
            <a:endParaRPr b="0" lang="en-US" sz="4000" spc="-1" strike="noStrike">
              <a:solidFill>
                <a:srgbClr val="000000"/>
              </a:solidFill>
              <a:latin typeface="Century Gothic"/>
            </a:endParaRPr>
          </a:p>
        </p:txBody>
      </p:sp>
      <p:sp>
        <p:nvSpPr>
          <p:cNvPr id="300" name=""/>
          <p:cNvSpPr txBox="1"/>
          <p:nvPr/>
        </p:nvSpPr>
        <p:spPr>
          <a:xfrm>
            <a:off x="685440" y="1765080"/>
            <a:ext cx="10820520" cy="4452840"/>
          </a:xfrm>
          <a:prstGeom prst="rect">
            <a:avLst/>
          </a:prstGeom>
          <a:noFill/>
          <a:ln w="0">
            <a:noFill/>
          </a:ln>
        </p:spPr>
        <p:txBody>
          <a:bodyPr anchor="t">
            <a:normAutofit fontScale="97000"/>
          </a:bodyPr>
          <a:p>
            <a:pPr marL="221400" indent="-2214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rPr>
              <a:t>التعريب في قرون الاحتجاج (العصر الجاهلي والإسلامي الأول):</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قام به عرب خُلّص عربوا الكلمات الأعجمية تعريبا دمجها في اللسان العربي حتى أنه صعب على كثير من الباحثين تمييز المعرب من العربي فيه.</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من أمثلة تعريب ذلك العصر:</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إبريق – سندس – كوز – جرة (من الفارسية)</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فلفل – شطرنج – صندل (من الهندية)</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أُطُم (البناء الضخم) – قلم – سجيل – درهم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2" name=""/>
          <p:cNvSpPr txBox="1"/>
          <p:nvPr/>
        </p:nvSpPr>
        <p:spPr>
          <a:xfrm>
            <a:off x="685440" y="1079640"/>
            <a:ext cx="10820520" cy="51386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rPr>
              <a:t>تعريب العصرين العباسي والمملوكي:</a:t>
            </a:r>
            <a:endParaRPr b="0" lang="en-US" sz="24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ان أقرب إلى التدخيل منه إلى التعريب. وكانوا مولعين بالإغراب الشديد فيما عربوا.</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أمثل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araxocor</a:t>
            </a:r>
            <a:r>
              <a:rPr b="0" lang="en-US" sz="2200" spc="-1" strike="noStrike">
                <a:solidFill>
                  <a:srgbClr val="000000"/>
                </a:solidFill>
                <a:latin typeface="Century Gothic"/>
              </a:rPr>
              <a:t> </a:t>
            </a:r>
            <a:r>
              <a:rPr b="0" lang="ar-SA" sz="2200" spc="-1" strike="noStrike">
                <a:solidFill>
                  <a:srgbClr val="000000"/>
                </a:solidFill>
                <a:latin typeface="Century Gothic"/>
              </a:rPr>
              <a:t> (نبات اليعضيد) عربت أكثر من </a:t>
            </a:r>
            <a:r>
              <a:rPr b="0" lang="ar-SA" sz="2200" spc="-1" strike="noStrike">
                <a:solidFill>
                  <a:srgbClr val="000000"/>
                </a:solidFill>
                <a:latin typeface="Century Gothic"/>
              </a:rPr>
              <a:t>30</a:t>
            </a:r>
            <a:r>
              <a:rPr b="0" lang="ar-SA" sz="2200" spc="-1" strike="noStrike">
                <a:solidFill>
                  <a:srgbClr val="000000"/>
                </a:solidFill>
                <a:latin typeface="Century Gothic"/>
              </a:rPr>
              <a:t> تعريبا تتبارى في الثقل والإغراب منها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طرخشون – تلخشكوك – تلحسكوك – طليخم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بوطيقي (الشعر)</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ريطوريقي (الخطاب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قاطيفوري (المقولات)</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حكمدار (منصب إداري)</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cs typeface="Times New Roman"/>
              </a:rPr>
              <a:t>ضوابط طريقة القدماء في التعريب</a:t>
            </a:r>
            <a:endParaRPr b="0" lang="en-US" sz="4000" spc="-1" strike="noStrike">
              <a:solidFill>
                <a:srgbClr val="000000"/>
              </a:solidFill>
              <a:latin typeface="Century Gothic"/>
            </a:endParaRPr>
          </a:p>
        </p:txBody>
      </p:sp>
      <p:sp>
        <p:nvSpPr>
          <p:cNvPr id="304" name=""/>
          <p:cNvSpPr txBox="1"/>
          <p:nvPr/>
        </p:nvSpPr>
        <p:spPr>
          <a:xfrm>
            <a:off x="685440" y="2193480"/>
            <a:ext cx="10820520" cy="4024440"/>
          </a:xfrm>
          <a:prstGeom prst="rect">
            <a:avLst/>
          </a:prstGeom>
          <a:noFill/>
          <a:ln w="0">
            <a:noFill/>
          </a:ln>
        </p:spPr>
        <p:txBody>
          <a:bodyPr anchor="t">
            <a:normAutofit fontScale="99000"/>
          </a:bodyPr>
          <a:p>
            <a:pPr marL="452520" indent="-45252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ان القدماء حريصين على ألا يدخلوا في حروف العربية ما ليس منها، إلا أنهم اختلفوا في طريقة إبدال هذه الحروف، فمثلا نقلوا الحرف الفارسي (ك) والذي يلفظ مثل الجيم المصرية إلى الجيم أو الكاف أو القاف </a:t>
            </a:r>
            <a:endParaRPr b="0" lang="en-US" sz="2200" spc="-1" strike="noStrike">
              <a:solidFill>
                <a:srgbClr val="000000"/>
              </a:solidFill>
              <a:latin typeface="Century Gothic"/>
            </a:endParaRPr>
          </a:p>
          <a:p>
            <a:pPr marL="452520" indent="-45252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       فنقلوا كُربك إلى (كُربج، قُربق، كُربك)</a:t>
            </a:r>
            <a:endParaRPr b="0" lang="en-US" sz="2200" spc="-1" strike="noStrike">
              <a:solidFill>
                <a:srgbClr val="000000"/>
              </a:solidFill>
              <a:latin typeface="Century Gothic"/>
            </a:endParaRPr>
          </a:p>
          <a:p>
            <a:pPr marL="452520" indent="-45252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كان المعربون ينقلون الحرف الواحد إلى العربية بأكثر من حرف، فمثلا الحرف اللاتيني </a:t>
            </a:r>
            <a:r>
              <a:rPr b="0" lang="en-US" sz="2200" spc="-1" strike="noStrike">
                <a:solidFill>
                  <a:srgbClr val="000000"/>
                </a:solidFill>
                <a:latin typeface="Century Gothic"/>
              </a:rPr>
              <a:t>Y</a:t>
            </a:r>
            <a:r>
              <a:rPr b="0" lang="ar-SA" sz="2200" spc="-1" strike="noStrike">
                <a:solidFill>
                  <a:srgbClr val="000000"/>
                </a:solidFill>
                <a:latin typeface="Century Gothic"/>
              </a:rPr>
              <a:t> نقل إلى تسعة أحرف. ومن أسباب عدم الثبات في إبدال الحروف:</a:t>
            </a:r>
            <a:endParaRPr b="0" lang="en-US" sz="2200" spc="-1" strike="noStrike">
              <a:solidFill>
                <a:srgbClr val="000000"/>
              </a:solidFill>
              <a:latin typeface="Century Gothic"/>
            </a:endParaRPr>
          </a:p>
          <a:p>
            <a:pPr marL="452520" indent="-45252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تعدد اللغات التي أخذت منها العربية واختلاف خصائصها</a:t>
            </a:r>
            <a:endParaRPr b="0" lang="en-US" sz="2200" spc="-1" strike="noStrike">
              <a:solidFill>
                <a:srgbClr val="000000"/>
              </a:solidFill>
              <a:latin typeface="Century Gothic"/>
            </a:endParaRPr>
          </a:p>
          <a:p>
            <a:pPr marL="452520" indent="-45252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أمن اللبس، مثال بادية (بمعنى وعاء من الفارسية) تلتبس مع بادية (بمعنى صحراء في العربية) لذا قد يغيرها المعرب إلى باطية لئلا يلتبس المعنيان</a:t>
            </a:r>
            <a:endParaRPr b="0" lang="en-US" sz="2200" spc="-1" strike="noStrike">
              <a:solidFill>
                <a:srgbClr val="000000"/>
              </a:solidFill>
              <a:latin typeface="Century Gothic"/>
            </a:endParaRPr>
          </a:p>
          <a:p>
            <a:pPr marL="452520" indent="-45252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تجنب التنافر بين حروف الكلمة المعربة، ولهذا عربت (كاك) إلى (كعك)، و (دشت) إلى (دست) لأن تردد السين في عين الجذر الثلاثي أكبر من تردد الشين في الموقع نفسه.</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6" name=""/>
          <p:cNvSpPr txBox="1"/>
          <p:nvPr/>
        </p:nvSpPr>
        <p:spPr>
          <a:xfrm>
            <a:off x="685440" y="1346040"/>
            <a:ext cx="10820520" cy="48722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2</a:t>
            </a:r>
            <a:r>
              <a:rPr b="0" lang="ar-SA" sz="2200" spc="-1" strike="noStrike">
                <a:solidFill>
                  <a:srgbClr val="000000"/>
                </a:solidFill>
                <a:latin typeface="Century Gothic"/>
              </a:rPr>
              <a:t>. عدم اشتراط الوزن العربي في الكلمة المعربة. ولهم في الكلمات الأعجمية ثلاث طرق: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لمات غيروها وألحقوها بأبنيتهم مثل درهم ألحقوه بهجرع، وبهرج ألحقوه بسهلب، ودينار ألحقوه بديماس</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كلمات غيروها ولم يلحقوها بأبنيتهم مثل أجرّ وسِفسير</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كلمات تركوها على حالها مثل خراسان وخرّم وكركم</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3</a:t>
            </a:r>
            <a:r>
              <a:rPr b="0" lang="ar-SA" sz="2200" spc="-1" strike="noStrike">
                <a:solidFill>
                  <a:srgbClr val="000000"/>
                </a:solidFill>
                <a:latin typeface="Century Gothic"/>
              </a:rPr>
              <a:t>. الاكتفاء بتعريب جزء من الكلمة أحيانا للتخفيف، مثل:</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لمة (ناي) أصلها فارسي هو (ناي نرم)</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نشأ) أصلها (نشاست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4</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a:t>
            </a:r>
            <a:endParaRPr b="0" lang="en-US" sz="4000" spc="-1" strike="noStrike">
              <a:solidFill>
                <a:srgbClr val="000000"/>
              </a:solidFill>
              <a:latin typeface="Century Gothic"/>
            </a:endParaRPr>
          </a:p>
        </p:txBody>
      </p:sp>
      <p:sp>
        <p:nvSpPr>
          <p:cNvPr id="308" name=""/>
          <p:cNvSpPr txBox="1"/>
          <p:nvPr/>
        </p:nvSpPr>
        <p:spPr>
          <a:xfrm>
            <a:off x="685440" y="1257480"/>
            <a:ext cx="10820520" cy="496080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4</a:t>
            </a:r>
            <a:r>
              <a:rPr b="0" lang="ar-SA" sz="2200" spc="-1" strike="noStrike">
                <a:solidFill>
                  <a:srgbClr val="000000"/>
                </a:solidFill>
                <a:latin typeface="Century Gothic"/>
              </a:rPr>
              <a:t>.  تعريب كلمتين أعجميتين بكلمة واحدة، مثل:</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سجيل) أصلها فارسي هو (سنك وكل) بمعنى (حجر وطين) وقيل (صلب شديد)</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جاموس) معربة من (كاوميش) كاو تعني بقرة و ميش تعني نعج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5</a:t>
            </a:r>
            <a:r>
              <a:rPr b="0" lang="ar-SA" sz="2200" spc="-1" strike="noStrike">
                <a:solidFill>
                  <a:srgbClr val="000000"/>
                </a:solidFill>
                <a:latin typeface="Century Gothic"/>
              </a:rPr>
              <a:t>. مراعاة القواعد الصوتية العربية ومن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ا يجوز البدء بساكن أو التقاء ساكنين. فمثلا (كمانْ كر) فيها ساكنان فتخلص المعرب من الألف فعربها إلى (قمنجر) وألحقها بالوزن العربي (فعلّل)</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لكن لم يلتزم المعربون هذه الضوابط في كل الأحوال، وأحيانا يصعب فهم سبب التغييرات التي أحدثت في الكلمة المعربة، ومن أمثلة ذلك: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سفسير </a:t>
            </a:r>
            <a:r>
              <a:rPr b="0" lang="ar-SA" sz="2200" spc="-1" strike="noStrike">
                <a:solidFill>
                  <a:srgbClr val="000000"/>
                </a:solidFill>
                <a:latin typeface="Times New Roman"/>
                <a:ea typeface="Times New Roman"/>
              </a:rPr>
              <a:t>← سمسار</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أرزيز ← رصاص</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طريقة المحدثين في التعريب اللفظي</a:t>
            </a:r>
            <a:endParaRPr b="0" lang="en-US" sz="4000" spc="-1" strike="noStrike">
              <a:solidFill>
                <a:srgbClr val="000000"/>
              </a:solidFill>
              <a:latin typeface="Century Gothic"/>
            </a:endParaRPr>
          </a:p>
        </p:txBody>
      </p:sp>
      <p:sp>
        <p:nvSpPr>
          <p:cNvPr id="310" name=""/>
          <p:cNvSpPr txBox="1"/>
          <p:nvPr/>
        </p:nvSpPr>
        <p:spPr>
          <a:xfrm>
            <a:off x="685440" y="2057400"/>
            <a:ext cx="10820520" cy="4160880"/>
          </a:xfrm>
          <a:prstGeom prst="rect">
            <a:avLst/>
          </a:prstGeom>
          <a:noFill/>
          <a:ln w="0">
            <a:noFill/>
          </a:ln>
        </p:spPr>
        <p:txBody>
          <a:bodyPr anchor="t">
            <a:normAutofit/>
          </a:bodyPr>
          <a:p>
            <a:pPr marL="457200" indent="-45720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تزام النظام الصوتي العربي</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راعاة المبادئ العامة في التعريب اللفظي</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457200" indent="-4572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نظام الصوتي العربي فيه </a:t>
            </a:r>
            <a:r>
              <a:rPr b="0" lang="ar-SA" sz="2200" spc="-1" strike="noStrike">
                <a:solidFill>
                  <a:srgbClr val="000000"/>
                </a:solidFill>
                <a:latin typeface="Century Gothic"/>
              </a:rPr>
              <a:t>3</a:t>
            </a:r>
            <a:r>
              <a:rPr b="0" lang="ar-SA" sz="2200" spc="-1" strike="noStrike">
                <a:solidFill>
                  <a:srgbClr val="000000"/>
                </a:solidFill>
                <a:latin typeface="Century Gothic"/>
              </a:rPr>
              <a:t> ثوابت:</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حروف والأصوات العربية</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إيقاع الصرفي العربي</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بنية الصوتية العربي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أولا: نقل الحروف والأصوات إلى العربية</a:t>
            </a:r>
            <a:endParaRPr b="0" lang="en-US" sz="4000" spc="-1" strike="noStrike">
              <a:solidFill>
                <a:srgbClr val="000000"/>
              </a:solidFill>
              <a:latin typeface="Century Gothic"/>
            </a:endParaRPr>
          </a:p>
        </p:txBody>
      </p:sp>
      <p:sp>
        <p:nvSpPr>
          <p:cNvPr id="312" name=""/>
          <p:cNvSpPr txBox="1"/>
          <p:nvPr/>
        </p:nvSpPr>
        <p:spPr>
          <a:xfrm>
            <a:off x="685440" y="2193480"/>
            <a:ext cx="10820520" cy="402444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شغل المعربون المحدثون بمسألة نقل الحروف والأصوات</a:t>
            </a:r>
            <a:endParaRPr b="0" lang="en-US" sz="22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فترة طغت فكرة أن اللفظ الأعجمي المعرب يجب أن ينطق كما ينطق به أهل لغته، وكتابة الحروف الغريبة بزيادة رموز تدخل على الحروف العربية.</a:t>
            </a:r>
            <a:endParaRPr b="0" lang="en-US" sz="22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كن هذه الفكرة أخذت بالتراجع بسبب الوعي اللغوي ولمنافاة هذه الطريقة لطبيعة اللسان العربي.</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a:t>
            </a:r>
            <a:endParaRPr b="0" lang="en-US" sz="4000" spc="-1" strike="noStrike">
              <a:solidFill>
                <a:srgbClr val="000000"/>
              </a:solidFill>
              <a:latin typeface="Century Gothic"/>
            </a:endParaRPr>
          </a:p>
        </p:txBody>
      </p:sp>
      <p:sp>
        <p:nvSpPr>
          <p:cNvPr id="314" name=""/>
          <p:cNvSpPr txBox="1"/>
          <p:nvPr/>
        </p:nvSpPr>
        <p:spPr>
          <a:xfrm>
            <a:off x="685440" y="1269720"/>
            <a:ext cx="10820520" cy="494820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Gothic"/>
              </a:rPr>
              <a:t>وقد نبه اللغويون إلى خطرين يجب دفعهما:</a:t>
            </a:r>
            <a:endParaRPr b="0" lang="en-US" sz="22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أول: إدخال حروف جديدة إلى العربية مثل الباء بثلاث نقط والفاء بثلاث نقط حرصا على الحفاظ على النطق الأعجمي. فالأعاجم لم يحرصوا على نطق كلماتنا العربية كما ننطقها نحن العرب. (صلاح الدين ) تغيرت إلى </a:t>
            </a:r>
            <a:r>
              <a:rPr b="0" lang="en-US" sz="2200" spc="-1" strike="noStrike">
                <a:solidFill>
                  <a:srgbClr val="000000"/>
                </a:solidFill>
                <a:latin typeface="Century Gothic"/>
              </a:rPr>
              <a:t>Saladin</a:t>
            </a:r>
            <a:r>
              <a:rPr b="0" lang="en-US" sz="2200" spc="-1" strike="noStrike">
                <a:solidFill>
                  <a:srgbClr val="000000"/>
                </a:solidFill>
                <a:latin typeface="Century Gothic"/>
              </a:rPr>
              <a:t>   </a:t>
            </a:r>
            <a:r>
              <a:rPr b="0" lang="ar-SA" sz="2200" spc="-1" strike="noStrike">
                <a:solidFill>
                  <a:srgbClr val="000000"/>
                </a:solidFill>
                <a:latin typeface="Century Gothic"/>
              </a:rPr>
              <a:t>(جبل طارق) تغيرت إلى </a:t>
            </a:r>
            <a:r>
              <a:rPr b="0" lang="en-US" sz="2200" spc="-1" strike="noStrike">
                <a:solidFill>
                  <a:srgbClr val="000000"/>
                </a:solidFill>
                <a:latin typeface="Century Gothic"/>
              </a:rPr>
              <a:t>Gibraltar</a:t>
            </a:r>
            <a:endParaRPr b="0" lang="en-US" sz="22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ثم أن إدخال حروف جديدة من كل لغة نعرب منها سيجعل أبجديتنا خليطا من حروف شتى</a:t>
            </a:r>
            <a:endParaRPr b="0" lang="en-US" sz="22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ثاني: إدخال حركات أو أصوات جديدة إلى اللغة العربية، كأن يرمز إلى الإمالة بألف صغيرة فوق الياء أو الواو كما هو متبع في رسم المصاحف. ولكن الرسم القرآني يحفظ ولا يقاس عليه.</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1T16:18:05Z</dcterms:created>
  <dc:creator>Reem Alsalem</dc:creator>
  <dc:description/>
  <dc:language>en-US</dc:language>
  <cp:lastModifiedBy>Nahla Abdulaziz Alsheikh</cp:lastModifiedBy>
  <dcterms:modified xsi:type="dcterms:W3CDTF">2016-04-27T04:18:49Z</dcterms:modified>
  <cp:revision>31</cp:revision>
  <dc:subject/>
  <dc:title>التعريب (المحاضرة 11)</dc:title>
</cp:coreProperties>
</file>