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B512D-C214-4119-80D1-803C3539C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F65D-D57A-44E7-9A32-D47F8902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BA21D-A5FD-4F66-B7C5-3BCA276EE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7B4C6-9551-4AA1-8F96-AFC42778A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399A3-661E-4F6C-BA24-0D3FB455C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CC40F-1DD9-4B2E-B4C5-0288849BC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6B34F-B06D-43DB-838C-03F94F5D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075CB-09B9-4E5B-BF82-99D7A0740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EF907-7DC2-4FC5-A011-9A011E43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6BBF4-DC98-495B-B9EB-31677ECDF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AF41-34A2-4BC0-B790-78B4EAC7B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22E1-0A14-4E7D-BF1F-6AFFDDE6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8AD3-4282-40C5-B70F-9BFE3B476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53E3C-7ABA-4674-BE50-963415E8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C7BE7-9579-4625-9CA2-FC45C183C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40FE8-337B-464B-8880-2695C78FE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AC236-2124-489D-8639-D47E653A3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A9A78-196B-4FD3-9CA3-D7EA363AD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96D04-F1EC-4DC6-86E4-43FF5E778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12EDB-A3D1-40AE-8536-7D744E53B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7DCDF-31F4-4AB3-B7D2-8E8BE1DA1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73487-4B47-4EDD-853B-986E91246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6D96C-D344-42A0-BDD8-F9C1A5678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D45C6-F35B-4469-B1E7-41BC7FB25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51F88-8A93-418F-BE67-3C5C0D529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6D9BA-599D-4BB4-9245-C519BD010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DA9C8-23C9-4D4F-9C72-98BBC6D14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94ACF-9A45-4238-98F3-F668055FD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2EDD7-4010-4607-A2A1-3AFDA1F40A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22F469-EB34-48F8-986C-E9DCC16F1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2D194D-19D0-4B26-98F4-E607207CFE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384C5-858A-4E7E-973E-DD277F5C8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15BB4-F785-4290-AF87-7F100EA5A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C727E-A0C0-45F5-B32D-B800ADB16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700E3-46F9-4A1F-BEE2-275C2CCF9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AD989-245A-46D6-B1CC-F517FC664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66D79-F33C-471C-873E-AE3634C86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910A1-1ADC-4697-8D5D-711294BC4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34786-A831-42A5-AC50-A357786FB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103DE-4BCB-423E-8D18-96D5CBE01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7C28D-8DF0-4ED0-AC08-0EF7E4971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E401D-F5E8-4EA9-A8D6-F67EAAAC6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85DFDF-4D95-4EE5-997B-DFB2F9893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8C57E6-0A76-4594-ABAD-8354EBDA4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2D261-39A2-4D74-82D2-27EBBC53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88908-5415-4E43-BFA4-1E17CED497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C4478-0E99-4C36-9315-C1041E76E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F271C7-98D7-49BA-9017-730D2B314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2250C-5902-4E5F-85A3-23140FA81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74D44E-45D9-4CB1-AB8A-5348E54EA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7B616-8732-4E3D-9115-C1D7E5EC4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F6B82-7F16-4AEF-88FB-1E6B92AAB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20CFC-38B3-4283-99F5-1AED2B0D3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D6793-7DB7-4CC0-AD96-336AF4772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722238-0465-4220-93B9-62D585B59A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B588D-61C4-4758-8229-126A9288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FBD892-7562-409C-993E-2EA0FDD72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E059B5-9541-47A3-9750-87064AF382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4621E-9081-462E-857F-375EA34C21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F6B85-4297-4AA9-A620-1BD8679CF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27319-1467-4E95-AD87-58C5296BB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0C81CE-437C-4015-864E-022FED101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2DF5A1-AA82-4FD2-9A3E-2A5D03150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1344A-DAE3-4A73-90B0-EDA254419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5826A-ECF2-4184-9D97-D86AD0390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182AF-E0D6-46D4-AACE-24589BA0E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1BD4-837D-4937-9CB5-1D61F1B6E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AF4CF3-3BD9-4D03-A905-451D0D5E8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72C58A-1A9A-47B0-ABB0-519D187B6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DE760A-7086-45CF-8D60-D78EC4BB86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04EAB0-67C6-4C8A-9ADE-290697F3C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F0669-D8D2-4DE3-B8B0-0C1F11656C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D4426-7B9C-42EC-85F1-60F4DDB0F6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43DB7-6599-4455-9474-1D1FCB2DA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B4F86-0DF8-43E1-9F99-9E8BBD9DE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EE0445-A864-4CDA-A563-AC12DE6ACC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4AB80-9842-4E18-BB16-73A262E0B5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CECB9-3509-43F1-B337-EF727615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9E028-66ED-4E05-A3B1-32A3D1F75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AF973-1CC7-4FD0-9758-EC1FAA9A3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821588-B059-44F0-802B-42E07498B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08191-A717-4FCB-9A41-ED481944C4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761ED8-FA18-4C06-9688-9EEEF7AC32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DF42C-591C-4B00-9B53-57A83B121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BC484-9A0A-4442-AE50-C6696647AA4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28DDA-075A-4DD0-9B6F-83C23A53161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99192-E43F-4A93-A258-2035895DF8D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3924D-F09D-4255-8DD6-E24E7258363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504FE-2102-4B50-86EB-F0A0F93D9566}"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9D25D-F1F3-4965-9753-69E18690DA7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AE256-AE03-43AB-A907-63324E5A315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التعريب (المحاضرة </a:t>
            </a:r>
            <a:r>
              <a:rPr b="0" lang="ar-SA" sz="8000" spc="-1" strike="noStrike">
                <a:solidFill>
                  <a:srgbClr val="262626"/>
                </a:solidFill>
                <a:latin typeface="Calibri Light"/>
                <a:ea typeface="Times New Roman"/>
              </a:rPr>
              <a:t>3</a:t>
            </a:r>
            <a:r>
              <a:rPr b="0" lang="ar-SA" sz="8000" spc="-1" strike="noStrike">
                <a:solidFill>
                  <a:srgbClr val="262626"/>
                </a:solidFill>
                <a:latin typeface="Calibri Light"/>
                <a:ea typeface="Times New Roman"/>
              </a:rPr>
              <a:t>)</a:t>
            </a:r>
            <a:br>
              <a:rPr sz="8000"/>
            </a:b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37052"/>
                </a:solidFill>
                <a:latin typeface="Calibri Light"/>
              </a:rPr>
              <a:t>د. ريم سالم السالم</a:t>
            </a:r>
            <a:endParaRPr b="0" lang="en-US" sz="2400" spc="-1" strike="noStrike">
              <a:solidFill>
                <a:srgbClr val="404040"/>
              </a:solidFill>
              <a:latin typeface="Calibri"/>
            </a:endParaRPr>
          </a:p>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37052"/>
                </a:solidFill>
                <a:latin typeface="Calibri Light"/>
              </a:rPr>
              <a:t>أستاذ مساعد في قسم اللغة الإنجليزية والترجمة، كلية اللغات والترجم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262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3" name=""/>
          <p:cNvSpPr txBox="1"/>
          <p:nvPr/>
        </p:nvSpPr>
        <p:spPr>
          <a:xfrm>
            <a:off x="1096920" y="1752120"/>
            <a:ext cx="10058400" cy="411660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دول عربية للغة العربية وجود كامل فيها على المستوى الشعبي والرسمي ولكن اللغة الأجنبية هي لغة التعليم العالي في الكليات العلمية والفنية ومراكز البحث العلم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تعريب هنا يستلزم خطة لتعريب التعليم تعنى بالمصطلح الموحد والكتاب الجامعي والمدرس العرب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ويستثنى من الدول العربية المصنفة أعلاه سوريا التي بدأ التعليم العالي فيها معربا بعد الحرب العالمية الأولى إلى الآن.</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جالات التعريب</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مجال التعليم النظام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مجال التعليم غير النظام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مجال الثقافة الجماهيري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4</a:t>
            </a:r>
            <a:r>
              <a:rPr b="0" lang="ar-SA" sz="2000" spc="-1" strike="noStrike">
                <a:solidFill>
                  <a:srgbClr val="404040"/>
                </a:solidFill>
                <a:latin typeface="Calibri"/>
              </a:rPr>
              <a:t>. مجال النشاط الفكر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5</a:t>
            </a:r>
            <a:r>
              <a:rPr b="0" lang="ar-SA" sz="2000" spc="-1" strike="noStrike">
                <a:solidFill>
                  <a:srgbClr val="404040"/>
                </a:solidFill>
                <a:latin typeface="Calibri"/>
              </a:rPr>
              <a:t>. مجال الإدارة والعمل</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سائل التعريب</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800" spc="-1" strike="noStrike">
                <a:solidFill>
                  <a:srgbClr val="404040"/>
                </a:solidFill>
                <a:latin typeface="Calibri"/>
              </a:rPr>
              <a:t>. القوى البشر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rPr>
              <a:t>2</a:t>
            </a:r>
            <a:r>
              <a:rPr b="0" lang="ar-SA" sz="2800" spc="-1" strike="noStrike">
                <a:solidFill>
                  <a:srgbClr val="404040"/>
                </a:solidFill>
                <a:latin typeface="Calibri"/>
              </a:rPr>
              <a:t>. الإمكانات الماد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rPr>
              <a:t>3</a:t>
            </a:r>
            <a:r>
              <a:rPr b="0" lang="ar-SA" sz="2800" spc="-1" strike="noStrike">
                <a:solidFill>
                  <a:srgbClr val="404040"/>
                </a:solidFill>
                <a:latin typeface="Calibri"/>
              </a:rPr>
              <a:t>. التشريع والتنظيم</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فوائد التعريب</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fontScale="89000"/>
          </a:bodyPr>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400" spc="-1" strike="noStrike">
                <a:solidFill>
                  <a:srgbClr val="404040"/>
                </a:solidFill>
                <a:latin typeface="Calibri"/>
              </a:rPr>
              <a:t>. تعميق وعي الإنسان بتراثه وقوميته ورفع ثقته بنفسه ليصبح عاملا رئيسا في تنمية بلاده.</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2</a:t>
            </a:r>
            <a:r>
              <a:rPr b="0" lang="ar-SA" sz="2400" spc="-1" strike="noStrike">
                <a:solidFill>
                  <a:srgbClr val="404040"/>
                </a:solidFill>
                <a:latin typeface="Calibri"/>
              </a:rPr>
              <a:t>. تحقيق استيعاب أفضل للمعارف وبالتالي إمكانية الإبداع في جميع المجالات</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3</a:t>
            </a:r>
            <a:r>
              <a:rPr b="0" lang="ar-SA" sz="2400" spc="-1" strike="noStrike">
                <a:solidFill>
                  <a:srgbClr val="404040"/>
                </a:solidFill>
                <a:latin typeface="Calibri"/>
              </a:rPr>
              <a:t>. الانفتاح على الحضارة العالمية ولكن ليس باعتبارنا مستهلكين وإنما متفاعلين ومنتجين مبدعين</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4</a:t>
            </a:r>
            <a:r>
              <a:rPr b="0" lang="ar-SA" sz="2400" spc="-1" strike="noStrike">
                <a:solidFill>
                  <a:srgbClr val="404040"/>
                </a:solidFill>
                <a:latin typeface="Calibri"/>
              </a:rPr>
              <a:t>. يوطد الوحدة الوطنية بين أبناء الشعب الواحد</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5</a:t>
            </a:r>
            <a:r>
              <a:rPr b="0" lang="ar-SA" sz="2400" spc="-1" strike="noStrike">
                <a:solidFill>
                  <a:srgbClr val="404040"/>
                </a:solidFill>
                <a:latin typeface="Calibri"/>
              </a:rPr>
              <a:t>. يقوي الرابطة بين أبناء الأمة العرب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جع</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خوري، شحادة (</a:t>
            </a:r>
            <a:r>
              <a:rPr b="0" lang="ar-SA" sz="2000" spc="-1" strike="noStrike">
                <a:solidFill>
                  <a:srgbClr val="ff0000"/>
                </a:solidFill>
                <a:latin typeface="Calibri"/>
              </a:rPr>
              <a:t>1992</a:t>
            </a:r>
            <a:r>
              <a:rPr b="0" lang="ar-SA" sz="2000" spc="-1" strike="noStrike">
                <a:solidFill>
                  <a:srgbClr val="ff0000"/>
                </a:solidFill>
                <a:latin typeface="Calibri"/>
              </a:rPr>
              <a:t>) دراسات في الترجمة والمصطلح والتعريب. بيروت: دار طلاس للدراسات والترجمة النشر</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0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اللحن في الأصوات:</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يذكر عن عبيدالله بن زياد والي العراق وصهيب الرومي رضي الله عنه أنهما يقلبان الحاء هاء.</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نسب العبدري (ت </a:t>
            </a:r>
            <a:r>
              <a:rPr b="0" lang="ar-SA" sz="2000" spc="-1" strike="noStrike">
                <a:solidFill>
                  <a:srgbClr val="404040"/>
                </a:solidFill>
                <a:latin typeface="Calibri"/>
              </a:rPr>
              <a:t>688</a:t>
            </a:r>
            <a:r>
              <a:rPr b="0" lang="ar-SA" sz="2000" spc="-1" strike="noStrike">
                <a:solidFill>
                  <a:srgbClr val="404040"/>
                </a:solidFill>
                <a:latin typeface="Calibri"/>
              </a:rPr>
              <a:t> هـ) إلى أهل القاهرة قلب القاف همز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اللحن في بناء الكلمات:</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قال رجل بلدي لأعرابي: كيف أهلِك؟ فرد الأعرابي: صلباً</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0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اللحن في تركيب الجمل:</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لام الحجاج تاجر دواب خراساني كان يبيع دواب معيبة للجيش.</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فقال التاجر: شريكاننا في هوازها، وشريكاننا في مداينها، وكما تجي تكون.</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فلم يفهم الحجاج، فشرح له رجل قول التاجر: شركاؤنا بالأهواز وبالمدائن يبعثون إلينا بهذه الدواب فنحن نبيعها على وجوهها.</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4</a:t>
            </a:r>
            <a:r>
              <a:rPr b="0" lang="ar-SA" sz="2000" spc="-1" strike="noStrike">
                <a:solidFill>
                  <a:srgbClr val="404040"/>
                </a:solidFill>
                <a:latin typeface="Calibri"/>
              </a:rPr>
              <a:t>. اللحن في الإعراب: شائع جدا</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1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5</a:t>
            </a:r>
            <a:r>
              <a:rPr b="0" lang="ar-SA" sz="2000" spc="-1" strike="noStrike">
                <a:solidFill>
                  <a:srgbClr val="404040"/>
                </a:solidFill>
                <a:latin typeface="Calibri"/>
              </a:rPr>
              <a:t>. الانحراف في المعان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ستخدام اللفظ لغير معناه ثم شيوع ذلك الاستخدام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a:t>
            </a:r>
            <a:r>
              <a:rPr b="0" lang="ar-SA" sz="2000" spc="-1" strike="noStrike">
                <a:solidFill>
                  <a:srgbClr val="404040"/>
                </a:solidFill>
                <a:latin typeface="Calibri"/>
              </a:rPr>
              <a:t>6</a:t>
            </a:r>
            <a:r>
              <a:rPr b="0" lang="ar-SA" sz="2000" spc="-1" strike="noStrike">
                <a:solidFill>
                  <a:srgbClr val="404040"/>
                </a:solidFill>
                <a:latin typeface="Calibri"/>
              </a:rPr>
              <a:t>. خلط الألفاظ العربية والأجنبية في الحديث</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7</a:t>
            </a:r>
            <a:r>
              <a:rPr b="0" lang="ar-SA" sz="2000" spc="-1" strike="noStrike">
                <a:solidFill>
                  <a:srgbClr val="404040"/>
                </a:solidFill>
                <a:latin typeface="Calibri"/>
              </a:rPr>
              <a:t>. . كتابة العربية بحروف وأرقام لاتينية </a:t>
            </a:r>
            <a:r>
              <a:rPr b="0" lang="en-US" sz="2000" spc="-1" strike="noStrike">
                <a:solidFill>
                  <a:srgbClr val="404040"/>
                </a:solidFill>
                <a:latin typeface="Calibri"/>
              </a:rPr>
              <a:t>Arabizi</a:t>
            </a:r>
            <a:r>
              <a:rPr b="0" lang="en-US" sz="2000" spc="-1" strike="noStrike">
                <a:solidFill>
                  <a:srgbClr val="404040"/>
                </a:solidFill>
                <a:latin typeface="Calibri"/>
              </a:rPr>
              <a:t> </a:t>
            </a:r>
            <a:r>
              <a:rPr b="0" lang="ar-SA" sz="2000" spc="-1" strike="noStrike">
                <a:solidFill>
                  <a:srgbClr val="404040"/>
                </a:solidFill>
                <a:latin typeface="Calibri"/>
              </a:rPr>
              <a:t> أو </a:t>
            </a:r>
            <a:r>
              <a:rPr b="0" lang="en-US" sz="2000" spc="-1" strike="noStrike">
                <a:solidFill>
                  <a:srgbClr val="404040"/>
                </a:solidFill>
                <a:latin typeface="Calibri"/>
              </a:rPr>
              <a:t>Franco Arabic</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نتشرت هذه الطريقة في الكتابة لدرجة أن شبابا في مصر أسسوا مجلة ربع سنوية بطريقة فرانكو أراب واسمها </a:t>
            </a:r>
            <a:r>
              <a:rPr b="0" lang="en-US" sz="2000" spc="-1" strike="noStrike">
                <a:solidFill>
                  <a:srgbClr val="404040"/>
                </a:solidFill>
                <a:latin typeface="Calibri"/>
              </a:rPr>
              <a:t>What’s up</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أسباب شدة تأثر اللغة العربية باللغات الأجنبية في العصر الحاضر:</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نجاح تعليم اللغات الأجنبية والفشل في تعليم اللغة العربية السليمة</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تأثير الثقافة الغربية على الشباب</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تقصير أساتذة اللغة العربية ومراكز البحوث في معالجة الظاهرة في بداياتها</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4</a:t>
            </a:r>
            <a:r>
              <a:rPr b="0" lang="ar-SA" sz="2000" spc="-1" strike="noStrike">
                <a:solidFill>
                  <a:srgbClr val="404040"/>
                </a:solidFill>
                <a:latin typeface="Calibri"/>
              </a:rPr>
              <a:t>. التقصير في زرع الاعتزاز بالهوية لدى الناشئة</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5</a:t>
            </a:r>
            <a:r>
              <a:rPr b="0" lang="ar-SA" sz="2000" spc="-1" strike="noStrike">
                <a:solidFill>
                  <a:srgbClr val="404040"/>
                </a:solidFill>
                <a:latin typeface="Calibri"/>
              </a:rPr>
              <a:t>. تطور وسائل الاتصال الحديثة</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تطور اللغوي والتلوث اللغوي</a:t>
            </a:r>
            <a:endParaRPr b="0" lang="en-US" sz="48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تطور اللغو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نسيابي وبطيء</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سمة طبيعية في كل اللغات</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دليل على حيوية اللغة</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ينتج عنه تعدد المستويات اللغوية (الفصحى والعامية) وظواهر مثل الترادف وتعدد المعاني والتشابه اللفظي والاستعارة والكناية</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ليس قاصرا على فئة من المجتمع وبالتالي لا يحدث حواجز دون التواصل بين أفراد المجتمع</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تطور اللغوي والتلوث اللغوي</a:t>
            </a:r>
            <a:endParaRPr b="0" lang="en-US" sz="4800" spc="-1" strike="noStrike">
              <a:solidFill>
                <a:srgbClr val="404040"/>
              </a:solidFill>
              <a:latin typeface="Calibri Light"/>
            </a:endParaRPr>
          </a:p>
        </p:txBody>
      </p:sp>
      <p:sp>
        <p:nvSpPr>
          <p:cNvPr id="31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تلوث اللغو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كان موجودا منذ القدم تحفظه كتب لحن العام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موجود في العصر الحاضر ونتجت منه اللغة الهجين</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قتصر على فئة الشباب فاحتاج الكبار إلى من يترجم لهم، وهذا يعيق التواصل ويخلخل القيم</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من التلوث اللغوي الكتابة «بالعربيز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ظهور كلمات لا يفهمها إلا الشباب مثل: درباوي – فكك – قروشة – يقردن – قروي – يتزيدن – سحب عليه – يمدين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ظهور استخدامات جديدة للألفاظ، فما «كان يعد سبابا قبيحا أصبح مزاحا مليحا»</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جع</a:t>
            </a:r>
            <a:endParaRPr b="0" lang="en-US" sz="48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حميد، عبدالعزيز (</a:t>
            </a:r>
            <a:r>
              <a:rPr b="0" lang="ar-SA" sz="2000" spc="-1" strike="noStrike">
                <a:solidFill>
                  <a:srgbClr val="404040"/>
                </a:solidFill>
                <a:latin typeface="Calibri"/>
              </a:rPr>
              <a:t>2013</a:t>
            </a:r>
            <a:r>
              <a:rPr b="0" lang="ar-SA" sz="2000" spc="-1" strike="noStrike">
                <a:solidFill>
                  <a:srgbClr val="404040"/>
                </a:solidFill>
                <a:latin typeface="Calibri"/>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 الدولي لخدمة اللغة العربية، المجلد </a:t>
            </a:r>
            <a:r>
              <a:rPr b="0" lang="ar-SA" sz="2000" spc="-1" strike="noStrike">
                <a:solidFill>
                  <a:srgbClr val="404040"/>
                </a:solidFill>
                <a:latin typeface="Calibri"/>
              </a:rPr>
              <a:t>1</a:t>
            </a:r>
            <a:r>
              <a:rPr b="0" lang="ar-SA" sz="2000" spc="-1" strike="noStrike">
                <a:solidFill>
                  <a:srgbClr val="404040"/>
                </a:solidFill>
                <a:latin typeface="Calibri"/>
              </a:rPr>
              <a:t>، ص. </a:t>
            </a:r>
            <a:r>
              <a:rPr b="0" lang="ar-SA" sz="2000" spc="-1" strike="noStrike">
                <a:solidFill>
                  <a:srgbClr val="404040"/>
                </a:solidFill>
                <a:latin typeface="Calibri"/>
              </a:rPr>
              <a:t>220</a:t>
            </a:r>
            <a:r>
              <a:rPr b="0" lang="ar-SA" sz="2000" spc="-1" strike="noStrike">
                <a:solidFill>
                  <a:srgbClr val="404040"/>
                </a:solidFill>
                <a:latin typeface="Calibri"/>
              </a:rPr>
              <a:t>-</a:t>
            </a:r>
            <a:r>
              <a:rPr b="0" lang="ar-SA" sz="2000" spc="-1" strike="noStrike">
                <a:solidFill>
                  <a:srgbClr val="404040"/>
                </a:solidFill>
                <a:latin typeface="Calibri"/>
              </a:rPr>
              <a:t>227</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منصور، وسمية (</a:t>
            </a:r>
            <a:r>
              <a:rPr b="0" lang="ar-SA" sz="2000" spc="-1" strike="noStrike">
                <a:solidFill>
                  <a:srgbClr val="404040"/>
                </a:solidFill>
                <a:latin typeface="Calibri"/>
              </a:rPr>
              <a:t>2013</a:t>
            </a:r>
            <a:r>
              <a:rPr b="0" lang="ar-SA" sz="2000" spc="-1" strike="noStrike">
                <a:solidFill>
                  <a:srgbClr val="404040"/>
                </a:solidFill>
                <a:latin typeface="Calibri"/>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 الدولي لخدمة اللغة العربية، المجلد </a:t>
            </a:r>
            <a:r>
              <a:rPr b="0" lang="ar-SA" sz="2000" spc="-1" strike="noStrike">
                <a:solidFill>
                  <a:srgbClr val="404040"/>
                </a:solidFill>
                <a:latin typeface="Calibri"/>
              </a:rPr>
              <a:t>1</a:t>
            </a:r>
            <a:r>
              <a:rPr b="0" lang="ar-SA" sz="2000" spc="-1" strike="noStrike">
                <a:solidFill>
                  <a:srgbClr val="404040"/>
                </a:solidFill>
                <a:latin typeface="Calibri"/>
              </a:rPr>
              <a:t>، ص. </a:t>
            </a:r>
            <a:r>
              <a:rPr b="0" lang="ar-SA" sz="2000" spc="-1" strike="noStrike">
                <a:solidFill>
                  <a:srgbClr val="404040"/>
                </a:solidFill>
                <a:latin typeface="Calibri"/>
              </a:rPr>
              <a:t>228</a:t>
            </a:r>
            <a:r>
              <a:rPr b="0" lang="ar-SA" sz="2000" spc="-1" strike="noStrike">
                <a:solidFill>
                  <a:srgbClr val="404040"/>
                </a:solidFill>
                <a:latin typeface="Calibri"/>
              </a:rPr>
              <a:t>-</a:t>
            </a:r>
            <a:r>
              <a:rPr b="0" lang="ar-SA" sz="2000" spc="-1" strike="noStrike">
                <a:solidFill>
                  <a:srgbClr val="404040"/>
                </a:solidFill>
                <a:latin typeface="Calibri"/>
              </a:rPr>
              <a:t>236</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اقع التعريب</a:t>
            </a:r>
            <a:endParaRPr b="0" lang="en-US" sz="48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دول العربية </a:t>
            </a:r>
            <a:r>
              <a:rPr b="0" lang="ar-SA" sz="2000" spc="-1" strike="noStrike">
                <a:solidFill>
                  <a:srgbClr val="ff0000"/>
                </a:solidFill>
                <a:latin typeface="Calibri"/>
              </a:rPr>
              <a:t>3</a:t>
            </a:r>
            <a:r>
              <a:rPr b="0" lang="ar-SA" sz="2000" spc="-1" strike="noStrike">
                <a:solidFill>
                  <a:srgbClr val="ff0000"/>
                </a:solidFill>
                <a:latin typeface="Calibri"/>
              </a:rPr>
              <a:t> أصناف:</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دول وجود اللغة العربية فيها ضعيف ولكن يدعمه خلفية دينية وتراثية قوية.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تعريب فيها يحتاج إلى حشد جميع الجهود والطاقات الممكنة. والتعريب هنا لا يعني القضاء على اللهجات المحلية أو اللغة الأجنبية وإنما تكون اللغة الأجنبية معينة لا أساسي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دول للعربية فيها وجود كامل وواضح في الخطاب السياسي والاجتماعي والإعلام، ولكن في التعليم بجميع مراحله يكون للغة الأجنبية مكان الصدارة وتدرس بها التخصصات العلمية والفنية كالطب والهندسة والصيدلة وتستخدم في الاقتصاد والمال والمصارف.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والتعريب هنا يعني إلغاء الازدواجية بجعل اللغة العربية لغة العلم والمجتمع وتكون اللغة الأجنبية مجرد معينة في التواصل مع الثقافات الأخرى.</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3T05:24:13Z</dcterms:created>
  <dc:creator>Reem Alsalem</dc:creator>
  <dc:description/>
  <dc:language>en-US</dc:language>
  <cp:lastModifiedBy>Nahla Abdulaziz Alsheikh</cp:lastModifiedBy>
  <dcterms:modified xsi:type="dcterms:W3CDTF">2016-02-09T10:02:58Z</dcterms:modified>
  <cp:revision>16</cp:revision>
  <dc:subject/>
  <dc:title>التعريب (المحاضرة 3)</dc:title>
</cp:coreProperties>
</file>