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9A0-8CF7-4210-AD03-5093BB3E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6CF-E2D5-4856-889C-74C7FD61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84709-7A81-479D-9BDD-FE484C98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72DA9-9C97-41C4-A3EA-07814D6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5AEE2-E4F6-48D1-A3A7-8AF862FE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BE8B-5670-422E-AFAC-5A2DA61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73AEA-9ADC-485B-AE1B-BF77B58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2E51E-1EE5-4999-8EDC-A1E5179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3406C-33C4-47DB-A586-B38A1E37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6A46A-90A4-48C1-8476-3F831070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C01E5-669F-418A-8422-9847248A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F85F7-CDCA-4BC9-BBFC-CCE6A71B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E4A-8AA2-41BC-8B8E-ECCB1AC4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18A2D-B715-4DDA-84DB-BBC2D8F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6A81E-23E0-492A-918D-8D09229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146C9-CE75-41EF-ABF1-80C4D25A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64B71-BC6C-4AD7-801E-A083ACC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C5C05-CF42-4D16-B409-C72BE448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2D3A9-5BAC-472B-BA75-EC370D3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D3888-1B35-43A2-BD41-51EE32D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3BA4F-E209-452B-92C8-529CC78D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0877F-C1C9-4231-A54B-32A9C3FA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B3BDE-7F82-46CC-BDFD-74362B87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C65-2B05-465C-9E67-B8F6ED5E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E977-FEBC-4D64-88A6-3387E75B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AA7EF-4738-436C-931C-B95D0783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747E-6F85-4633-8847-DE985C0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81490-A824-467F-AE5E-CD5F78D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BBC5-CBDF-40A9-9DA0-4C6D2631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A7CBE-7FB4-45A4-829D-C48A534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28A4-9E5A-40EA-8C3C-D3C09A17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F599D-86B3-4318-8F0E-95C695C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E1B5A-82B3-471C-BBA9-60BC1F0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3ECC1-4AB3-4DC4-91C0-769FFA4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F4E4-929D-412D-8F60-1B50325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A8FFE-44C1-4067-87C4-02760C4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6EBBE-8BB2-4CA7-9304-E09285B1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24BA-48E9-4715-B08D-4387DFD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8DCA4-AE4A-4982-BCB5-8C379B4A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96F3-A76B-43C7-8687-4250876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93749-ED1D-472C-9AB1-BE1229F6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91C61-EE1F-4E36-8C2A-5489555A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AEB51-AA1B-43BA-AFE3-2037A357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CB9F-8D27-4ECC-9916-CE30C40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BA036-6408-46FE-9C58-F873A1A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E98-CB94-4565-BCF2-CF5FC1E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21C83-D2C2-4056-913D-0968E65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9E521-E8C2-4A7C-A982-A1E3051E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5C018-3936-4828-882C-020E34A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19ED-76B6-4458-8AD6-DA29A223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8DF0D-9E33-4BE8-AAFF-713A349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BA84D-6ABA-448B-BEA9-39AD8B5C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A7931-BE10-4778-A779-AE5EB59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380A8-B35B-4E65-BB80-04A1EF4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02A3C-6A0B-4F42-90A0-850DEE45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5217F-9408-45E2-853D-AF7844E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0324-AA11-471D-B4F9-86C0857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C8AD0-B4C3-4E14-920E-096F9A5A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74803-0A02-4A9C-87EC-C89DBE5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B4C92-426E-4AE0-ACBB-DA8E458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75753-C4F7-44CB-B82C-33F7A3C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89B74-370A-4143-B106-C421600B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584D2-087C-4581-B35C-B14DDB02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EE213-5E44-43A2-B7C6-037F1329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BCE55-A8B4-43D8-9354-71EEAF7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6DF95-787D-4773-A51D-90AF429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315C6-4B2C-4AA6-9AC8-38E73ABF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0F83-796C-4DB7-AB18-60E7EB2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8DF68-5E46-42F7-B2CF-9C093E9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5CB7F-ACAD-4348-BD5E-2D4DA0E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41D3B-D53F-481B-AF39-04C75A3D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65DD6-E7B5-45C6-8CF4-C05405F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51855-B704-4C71-B94F-F12EA84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1B6EB-1B82-4EDB-A8FD-A47EBE6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1A772-6460-40A7-9965-5F64CED5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5BADF-5F88-4683-82D9-7CC6476B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2275B-69B8-4D19-B8A6-9ADC74D1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A4D44-EAF1-458B-B8A3-6D24084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0BB7-88C8-4880-82F5-09EF4E0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BD64B-5508-4F17-8465-5DD5CEF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11F4E-230B-40EE-827F-64FC322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5BF20-F4AE-4B2C-A311-E2C2B888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7A2A9-12B8-49A7-B6B5-4E5A328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7B261-E9D4-45E3-91FC-5838E4FC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D8E3B-BD47-47F3-BA4A-3F74B61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3E8DA-D1BB-45AE-9BE1-77EC2D4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AB2E4-30F6-472A-9509-9DC67A2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46FA6-E5AC-4AD0-B711-EF9012CC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21562-49E0-43F5-A53E-65C28B9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0D9B-DB90-45F5-9818-894BD0EF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559B1-44A3-4EC0-AD04-D8611869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42A15-11DD-4E51-8458-1161C043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384F9-7676-4ABB-AE78-9353E6F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85EBE-247B-458D-BA8B-882AEE6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94A2B-D8DA-48BD-B015-C0ACB24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41D08-BA73-437C-9567-0F1F4B7D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C7DC9-5DEF-46C0-87BC-E443D1C3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2E1F8-0A51-4F46-B8A0-F85BA7A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043FB-2EE8-4BF2-A90F-B427E3F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C5005-6163-4244-BABD-F5B56286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FAF-F011-46D2-A565-603C9B6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6AFA0-DC62-4ECA-90E3-64F7CFF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3D79B-7DB8-4CB6-945C-F07B6A0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EDFF6-AD4B-449C-98D4-7884182C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7E021-8784-4C61-BA48-0F84D3F4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1C82E-B591-4E30-9708-E41038F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2C11D-0D81-473B-946D-D4DE81E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81D00-5612-4DB4-94FB-18565B9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F1174-A2F1-4E83-8780-279308A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C18D9-F5C8-4801-9A88-8D2E915F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75926-0908-4B3E-B29A-E70B12B8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D0C-5B10-4272-8347-F6E0FE7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84F5-76A6-416A-A0A2-97DE5D9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51ECF-5B8F-4FFB-A620-BDC972D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BADC7-FA8D-4903-B319-F5E5447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DB46E-EE10-4490-AEFE-2E5911E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C17F5-C74C-4BED-8FD0-2F3776DC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113C8-8373-4782-A0DF-2641A03A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8AE-1AD8-40A2-9D88-B626F25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1F73-686A-40AF-A59F-7D54CCF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3341-B76F-425A-917B-E60AACDC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958-10C8-4CB0-9128-4DE8E514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7F30-EA63-4F92-82FE-48E46D78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6469-DF89-459B-A029-9E716ECA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4B30-1F1A-4400-8CFD-4E1C8D6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F93F-7E70-4F28-8A43-532C37F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F46A-760B-49D5-AA8B-D977C4B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6BB-B2C0-4894-8ED6-C66173CF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4BB8-1588-4288-AF11-FA9D114A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B7F5-1F9B-4EE1-BC7E-B5DFE08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29FD-DBCF-43C4-922F-30E1D31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3460-C6E0-4C5F-BDB6-D52F81D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08BD-7821-43D0-97A7-18C12CB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731E-CD16-44AC-A830-C5535F68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F6AD-154C-4B82-B156-A8727AE5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EDA3-9901-4D7E-8211-0C9085A5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65D2-2B61-4556-B70B-21954BD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CCA3-2E99-417C-87C6-443EBB6B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27-2E8C-44D7-83B7-EAEE66F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7AA6-0B5F-42D4-BE1A-78A8241E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5DB1-E8BF-4E91-AD35-F203D79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7FB28-61CE-43A9-9E69-5C4E9396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BDFE-3F66-4C7D-8D8A-F331AF4B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9601-9A65-4196-AA4A-4BDF4C05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F3A8-9BD7-440D-9782-23C8516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5615-A435-4E65-A90E-3F17C5F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71F3B-4ED5-4CCD-AFFE-EE0CF75E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CC77-7688-4082-9E20-EA5A5CDB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CCC0-680F-432C-B301-5287D57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4B4-5228-4F3D-88F9-C8E9BE05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FC55-601B-4D78-B6C3-E93E46D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4F1BD-FA53-42C8-B002-32624F88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914F-4DB7-4855-ABE0-76F57E2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AF7E-7207-4C68-B43F-AF62AF7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34FC-410D-4235-819D-DCCDAA5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B9F3C-524E-4AD7-8A94-C7E27C9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C200-D715-4528-A491-48E9B7F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D9266-94F5-47AC-BFC1-6BE6878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4412-5A59-44F8-AB4C-522BE52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2779-EF19-43DC-8DFA-DA3F1804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8FF-48EF-4363-A9BE-23D6B93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F265-21A0-4E51-9B8F-4A69DD05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8858-891A-4E31-B1EB-0BDE14E0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D6CD-2AAF-40A7-BA0B-1E5A6C21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7841-3FDE-48F7-8098-C66E3B50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ABB64-D40D-4D9B-9483-13B4197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CDD5-8EED-4A70-BA1A-0A46FFB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2388-4C8B-464F-95E6-FFC2A6A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7F422-E293-42FC-B88F-F03EF44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6DDB-18E5-4DE6-AF7C-02DA5F3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8F49-A2C6-4766-A449-BEC361BE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DF0-9DB4-40E7-8A5E-FF0CD8C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0EBFB-C986-40A9-9413-824EF76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4CD8-2F29-450F-866E-44C3510F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FC08-B656-46CF-869C-CDB6CBF5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EAF0-D3DF-4E09-AE60-C9126D5E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2053-72B0-496B-8DFA-96B10A47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DF98-45FC-4A7E-BE0E-4C02EEC3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AA62-C70F-423D-B7BE-2676158B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7A5E-BD33-4B64-8276-3E66B63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E71D-EC06-4D5D-86FD-D0890EC4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D4EA6-209D-4C48-9000-24E808C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C63-868D-44FE-89FF-28C9114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64DB9-2076-4815-9CD2-F09AFF9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1068F-EB00-402B-8572-569EA5B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BEC3-6220-4F8E-9DF4-977AA374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4EC9-1473-4853-A89F-4297F90A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BE30-DE64-4CEE-ACB9-0EC706CB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05E3-2E55-478D-9A6A-058FF841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FAF4-853C-457C-BE24-C5CBE87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05E9-F00D-432D-B2BC-ECA48F96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58D9-A131-4434-BD91-B1AEE7C4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A386-A355-42F0-A549-36B93478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A5A-9AF5-4F65-8840-DF4BCD9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1CA6B-0204-438A-B7C8-6CE4ACD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6AA6-2B03-4235-8947-D680641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258B3-B4EB-477D-9EC3-BE2B200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79CD-6806-413A-930A-8F13DD0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A9317-92AC-475D-AFFC-0BAEA58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901C-71A3-49DE-891E-32480525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48CC9-B7F4-482E-93A7-8BC5225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E44F-6D37-4626-8F62-51145DFB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E63E-083A-4E68-96C3-0518FA8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8084-24F5-4C9D-94EA-572F1DC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F9A3A-545F-4C36-BE10-489B1C177E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13EC4-BDE1-44D1-BC53-3437D1E12F8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9AD29-F47A-42AF-9F1E-E7D68BB932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E32DB-747F-4ADF-89A1-AC2F8F127F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C6B5B-4EF7-4CC6-AFA6-F046F1C770B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  <a:ea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AE224-4C4C-4050-BEC0-080DC7C66F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92E54-B2B1-4E81-A741-E1F2D419D99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141A7-C4AE-4E12-BD05-94DA280D64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6D38F-7C2F-4A54-958C-5085DF9D6C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A075B-AA86-4870-BF6F-A9480BFCF0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C20E8-7BB8-49E7-AC76-7EB94065959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304B5-3FB7-4D95-9EB4-A42DB97273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6193E-5189-4B04-A011-6839C64373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53756-47E3-4EE3-AA3A-0BE56974E18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945B7-3C9D-49AC-9151-2821587CDD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0AEF4-7D6C-4A8D-98F6-C3B62501E46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0C570-61A2-4A0F-AD24-038EA989936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التعريب (المحاضرة </a:t>
            </a: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4</a:t>
            </a: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)</a:t>
            </a:r>
            <a:br>
              <a:rPr sz="4900"/>
            </a:br>
            <a:r>
              <a:rPr b="0" lang="ar-SA" sz="4900" spc="-1" strike="noStrike">
                <a:solidFill>
                  <a:srgbClr val="262626"/>
                </a:solidFill>
                <a:latin typeface="Century Gothic"/>
              </a:rPr>
              <a:t>التعريب في المغرب العربي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595959"/>
                </a:solidFill>
                <a:latin typeface="Century Gothic"/>
              </a:rPr>
              <a:t>د. ريم سالم السال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595959"/>
                </a:solidFill>
                <a:latin typeface="Century Gothic"/>
              </a:rPr>
              <a:t>أستاذ مساعد في قسم اللغة الإنجليزية والترجمة، كلية اللغات والترجمة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تعريب التعليم بعد الاستقلال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588760" y="1473120"/>
            <a:ext cx="89154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قلت دول المغرب العربي بعد قرن وثلث قرن في الجزائ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ثلاثة أرباع القرن في تون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أربع وأربعين سنة في المغرب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لم تعرب كل مراحل التعليم حتى الآن، ولكن جهود التعريب مستمرة وبخاصة لأن الازدواجية في التعليم مرهقة للدولة وتؤدي إلى ضعف المستوى وإضعاف الهوية العربية وإضعاف الروابط مع دول المشرق العربي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588760" y="1147680"/>
            <a:ext cx="8915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خر التعريب بعد الاستقلال للأسباب التالية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خطورة التغيير الفجائي الذي قد يسبب انهيار نظام التعليم بأكمله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قلة الأطر التعليمية المعربة وبخاصة في المواد العلم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بعض المسؤولين لم يقتنعوا بضرورة التعريب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وقع اللغات الأجنبية في حركة التعريب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حرصت دول المغرب العربي على إفساح المجال لتعلم اللغات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فعربت المدارس الابتدائية والثانو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أفسحت المجال للغات الأجنبية في الجامعات بمبرر تمكين الطلاب من مسايرة العصر في علومه وتقنياته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تعريب الإدارة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دخلت الفرنسية والإسبانية في كل مجال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من لا يتقن الفرنسية لا يعين في وظائف مهمة ويعاني من الفق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غرقت مغربة الإدارة والاقتصاد وقتا طويلا بسبب قلة الأطر الوطن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كان القضاء أول ما تعرب وعملية التعريب مستمرة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مرجع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Century Gothic"/>
                <a:cs typeface="Tahoma"/>
              </a:rPr>
              <a:t>عبدالكريم غلاب (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1986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) «التعريب ودوره في حركات التحرر في المغرب العربي» في </a:t>
            </a:r>
            <a:r>
              <a:rPr b="0" lang="ar-SA" sz="1800" spc="-1" strike="noStrike" u="sng">
                <a:solidFill>
                  <a:srgbClr val="404040"/>
                </a:solidFill>
                <a:uFillTx/>
                <a:latin typeface="Century Gothic"/>
                <a:cs typeface="Tahoma"/>
              </a:rPr>
              <a:t>التعريب ودوره في تدعيم الوجود العربي والوحدة العربية. </a:t>
            </a:r>
            <a:r>
              <a:rPr b="0" lang="ar-SA" sz="1800" spc="-1" strike="noStrike">
                <a:solidFill>
                  <a:srgbClr val="404040"/>
                </a:solidFill>
                <a:latin typeface="Century Gothic"/>
                <a:cs typeface="Tahoma"/>
              </a:rPr>
              <a:t>الناشر مركز دراسات الوحدة العربية، بيروت، لبنان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استعمار الفرنسي في شمال أفريقيا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لنهضة العربية في المشرق العربي سبقت مثيلتها في المغرب العربي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كان الاتصال ضعيفا بين المشرق والمغرب العربيين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أتى الاستعمار الفرنسي في فترة تخلف فاستطاع بنجاح إقصاء اللغة العربية عن الحياة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- كان التعليم بجميع مراحله وتخصصاته باللغة الفرنس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أصبحت الفرنسية اللغة الرسمية في التعليم والعمل والتفكير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أهداف تغليب لغة المستعمر (الفرنسية والأسبانية)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1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الغزو الفكري، وفرض على العقل العربي دراسة تاريخ فرنسا وجغرافيتها واقتصادها وأدبها وعلمائ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بغرض جعل الإنسان المغربي شبيها بالفرنسي ولكن أقل منزلة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وعلى العربي جميع واجبات المواطن الفرنسي من الخدمة في الجندية ودفع الضرائب ولا يحق له التمتع بأي من حقوق الفرنسيين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2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تهيئة مساعدين لخدمة الإدارة الفرنسية والأسبانية في المناصب التافهة مثل بيع طوابع البريد أو الترجمة للقرويين أو المساعدة في تحصيل الضرائب من الفلاحين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000" spc="-1" strike="noStrike">
                <a:solidFill>
                  <a:srgbClr val="262626"/>
                </a:solidFill>
                <a:latin typeface="Century Gothic"/>
                <a:cs typeface="Akhbar MT"/>
              </a:rPr>
              <a:t>أهداف تغليب لغة المستعمر (الفرنسية والأسبانية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3</a:t>
            </a: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. </a:t>
            </a: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ربط الاقتصاد المغربي بالاقتصادين الفرنسي والأسباني من أجل تمكين استغلال الأرض والموارد الاقتصادية المغربية لمصلحة الاقتصادين الفرنسي والاسباني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ذن اللغة الفرنسية في دول المغرب العربي لم تكن وسيلة تثقيف أو تنمية وإنما وسيلة لمحو الهوية العربية الإسلام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Akhbar MT"/>
              </a:rPr>
              <a:t>محاولة تمزيق وحدة المغرب العربي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حاول الاستعمار في الجزائر تقسيم البلاد إلى عرب وبربر على أساس اللغة والحكم والقضاء وقانون الأحكام ثم حاول نشر المسيحية في الأجزاء التي يسكنها البربر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نشأ الاستعمار معركة مصطنعة أسماها بالصراع العربي البربري تدور حول السلطة والإدارة للتمكين للسيطرة الفرنس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وهذه المحاولات أحبطتها الحركة الوطن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التحرير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1523520"/>
            <a:ext cx="89154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الثورة الحربية: الأمير عبدالقادر في الجزائ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   وعمر بن عثمان في تون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       وعبدالكريم الخطابي في المغرب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cs typeface="Akhbar MT"/>
              </a:rPr>
              <a:t>الحركة الوطنية (حركة نجم الشمال الأفريقي + جمعية العلماء الجزائريين)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عمل للحفاظ على الهوية الجزائرية والتونسية والمغرب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طالب باللغة العربية لغة قومية في الجزائر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تأسيس المدارس العرب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411480" algn="r" rtl="1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	</a:t>
            </a:r>
            <a:r>
              <a:rPr b="0" lang="ar-SA" sz="2400" spc="-1" strike="noStrike">
                <a:solidFill>
                  <a:srgbClr val="404040"/>
                </a:solidFill>
                <a:latin typeface="Century Gothic"/>
                <a:ea typeface="Akhbar MT"/>
              </a:rPr>
              <a:t>- بث الثقافة العربية الإسلامية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قاومة الغربة اللغوية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سيس مدرسة باردو: كتابة خلاصة دروس الأساتذة الأجانب بالعربية وترجمة الكتب الأوروب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أسيس المدرسة الصادق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صلاح التعليم في جامعة الزيتونة بتون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ستمرار جامعة القرويين في فاس في القيام بدور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نشاء المكتبات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شجيع الطباعة والنشر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400" spc="-1" strike="noStrike">
                <a:solidFill>
                  <a:srgbClr val="262626"/>
                </a:solidFill>
                <a:latin typeface="Century Gothic"/>
                <a:cs typeface="Akhbar MT"/>
              </a:rPr>
              <a:t>مقاومة المستعمر لتعريب التعليم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أقفل المستعمر عددا من المدار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نفى المشرفين عليها إلى أماكن نائية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شرد تلاميذها وأساتذتها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فرض رقابة على بعضها الآخر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Century Gothic"/>
                <a:cs typeface="Akhbar MT"/>
              </a:rPr>
              <a:t>زرع الشك في نفوس المواطنين في تلك المدار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000" spc="-1" strike="noStrike">
                <a:solidFill>
                  <a:srgbClr val="262626"/>
                </a:solidFill>
                <a:latin typeface="Century Gothic"/>
                <a:cs typeface="Akhbar MT"/>
              </a:rPr>
              <a:t>استمرار الحركة الوطنية في تعريب التعليم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نشاء المدارس الوطنية في كل مدينة وقرية لبناء المواطن الجديد المرتبط بالعروية والإسلا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اضطرار الاستعمار إلى الاكتفاء بمراقبة تلك المدارس مع عدم الاعتراف بشهاداتها أو تقديم منح لها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إرسال خريجي المدارس الوطنية إلى جامعات مصر وسوريا والعراق وجامعات أوروبية وأمريكية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r" rtl="1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entury Gothic"/>
                <a:cs typeface="Akhbar MT"/>
              </a:rPr>
              <a:t>تقديم نماذج من المثقفين والمفكرين من المشرق العربي وتقديم إنتاجهم الفكري والأدبي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1:26:29Z</dcterms:created>
  <dc:creator>Reem Alsalem</dc:creator>
  <dc:description/>
  <dc:language>en-US</dc:language>
  <cp:lastModifiedBy>Nahla Abdulaziz Alsheikh</cp:lastModifiedBy>
  <dcterms:modified xsi:type="dcterms:W3CDTF">2016-02-10T10:28:16Z</dcterms:modified>
  <cp:revision>29</cp:revision>
  <dc:subject/>
  <dc:title>التعريب (المحاضرة 4) التعريب في المغرب العربي</dc:title>
</cp:coreProperties>
</file>