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0B88-27AE-42A4-A87F-D2C06B4C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CCD2-300D-4F68-8AFB-E09FB613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8ED2D-E68B-4765-873C-0F00AA16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73AF4-760E-468B-B66F-D10DBB18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F8D54-69CE-42FA-B8E9-C32E725E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DE6D7-1082-4C16-863F-DC593736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FB215-C922-48DF-B055-415B7C78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6CF1F-1771-4C45-9C2F-6263BEFF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E0147-03FA-4D0C-8A0C-73CEF3CC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BD8B5-3D4B-4776-B524-8F285308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F700F-2E11-4F11-9665-0382E7F2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F2DD7-2C31-4E13-B3AC-F44670CB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F4A5-60D5-4F92-A3E6-CE9F1CB3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8075A-198B-41DF-90FA-18390C02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BCC46-EC02-4297-BFAD-B6B3E08A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0993D-5C87-4957-AF44-5A022890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4B274-72E5-4227-AA66-8ABF4ECB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428B6-9CE5-4EE3-8C37-F27B4157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C4BB0-7CDB-43C9-818C-5A094B0F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C86E7-AF2C-4766-A786-A689CC04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25FEA-8AB9-421D-B592-02DE53DC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449DD-77D1-45FA-B0F4-7590BC74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15FCA-0662-4E66-BCA8-10DFBC86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25D2-2A6A-464F-B792-81719667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53D76-383D-4A62-A900-3B03E0E0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C9BE4-22B1-49DB-897D-DBC1DA6E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18C46-7C4F-49D5-8F37-8E6FA1BF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59357-7BAF-4FFC-967D-4B184AA2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41329-2DC1-4242-8F49-18F6F299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0A09B-3930-4C58-9C3E-3B34D174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DE144-14FB-405D-904C-CBC616CA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762A8-677E-41AE-BFF7-6EABAB6D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1268A-189D-4BAF-BABC-2AA0DD3B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690F5-A167-45E0-A58D-7D4F325B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EB66-97D8-4614-BDC2-A695E7F1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00F05-C848-4448-B963-7A983B73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4A757-8271-4FFD-8950-D6EBE66D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3C8DF-181E-4284-AD54-D8DFE238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F622D-EC1A-46D3-A5B7-3E3E771A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5161D-7E85-440C-A138-4E5E49EA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40C20-4C7C-42DE-AEF5-10BB9388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4607A-9FE2-48CD-8E9A-4C1F4F9E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FF813-C393-4C12-947E-2C56C0BC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23253-ACDC-4D96-8629-25552C3F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0FD23-D9EB-424A-8D23-E2945F36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9515-AB16-442C-AF59-662C76C0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A5207-EEAA-451E-B81A-AE8FF90E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07701-4A50-496F-8ABD-835B1602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C423A-0F4C-4259-83FA-5959BB21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AD05A-40A6-4CD8-AB1B-5BA87975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6C04D-CE01-4FB0-A871-7676BB25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FEBD2E-0F7B-4BEF-A9A7-321664BD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A95A26-3E7E-41F1-A106-B9C8060A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FED4FE-9A7F-41EE-AE19-10BC44CC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F362B-A848-43FA-BD88-2F3020B1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AE8040-F010-47E3-B8A6-CF74FECE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37EF-59D5-4D51-9F39-F2634CB9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48B8B-0F88-4DC1-98E2-7C7600A8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5EB2F2-A2D8-4DD6-AFE5-88C553A8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318559-C0E1-4DE4-8FB6-2B9CB715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9D6EC1-BEF7-4B34-B7FA-51131E54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A44C1A-0F94-40E3-8023-C9A18147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891E2-3819-4AE2-8570-CC7C0CE4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81D3C-E7D1-4777-8A86-1A6F7AD5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4C339B-E834-401E-B847-A7034C80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8EA194-237E-4A36-BBDA-9121278D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811EA6-8C8B-4C98-8B28-246154D2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B749-A904-4780-9806-148C488B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2FDC20-650D-42CD-A1FB-EE3DA883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6AEADB-C5B6-4AEB-A8B1-40907A10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AA50EC-E984-47A8-9696-3941E5FF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6B8813-8A84-4847-8E86-71BF37A9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87F473-406E-4229-BF59-F194CC5F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157070-A1BD-44DC-9778-343A9A14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F0F01E-38AB-40A2-A4B7-4408B220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BD5255-A2A5-4B5D-95AD-414587C3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2ADB63-0E2A-4278-86BF-1AAF657C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F54936-C5F6-421E-B4EE-E0976E55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B037-0FF4-48C6-87F5-91C22DA0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CF0C0B-B7CD-485D-916F-06E5574F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7A7BC2-5F22-4BE0-B891-71F898DE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F8C008-95F1-4BEF-8B3C-3C15575E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DE76B9-A0C8-4512-8D79-060BE387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E5ECC6-2F75-4EA2-8BF1-ED8A61AA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F7C166-D869-4D07-A89A-23630173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61C7E9-A365-484F-BB6B-4511B036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FA12A8-3685-43F1-A766-A71E1E02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F099BD-5CA2-4A28-8084-5366B4CC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E619C3-B1CE-4509-9385-C0233E43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C8F6-F27F-4BE2-80A7-190DD457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6BE6B9-4308-44A7-8FE4-445FDDEA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7DFFB8-FC34-4E13-AF81-3E4E30A4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6FA3C4-9E0E-4AAD-B9D3-EE872393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A18C60-3E32-469A-9EB3-DD6B770E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7CBA01-D10D-4A89-892A-8ABA3026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4CE67D-9BF7-47FF-811C-CAF79365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CB33FC-5904-4C27-AD76-9D814092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D45B01-7E2C-4D3D-B7E6-D542A477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BA9427-32EA-48A4-B23D-03BBA971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37B715-C7C4-4F0D-A177-3083EBFC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9131-C3C5-4C25-A698-5ED98B76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77C41D-0CFE-470B-97B9-6CDB93BF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926CA8-AD9F-499C-97F8-265A1ABC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93CAF1-FB4A-4582-9DFA-6DBD253E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C67718-7DD4-4A48-9B84-1D574651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E7C9C2-31A0-414D-9B10-044D55CD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DA3132-883F-4523-BE86-B265DDF7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61C550-355B-4AF0-B47C-790614D4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3995AC-F4EA-449A-92E1-33758C76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FF3607-051B-4A7D-933A-27731CFE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344287-08F5-4C1C-8B9B-B480F1CB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8FF6-0514-4560-BA47-708B644A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79A0-5FE7-41BD-97A5-25000762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CE63CE-807A-4A6A-968D-DC30086E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587596-EDFC-4463-9362-CCA18C58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362C54-C6AC-4F25-8C04-6C9235A2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AEC25D-DB1D-4852-95AA-E21E93FF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793180-654C-4314-972F-104CB379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93FF-5B8E-4AFA-9039-405121F4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2832-5FB8-4622-BE67-52E7EC5D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2DFD-A4BA-4343-8B47-8B5634C4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8A26-DA9D-4E31-9FCF-A1B32208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C2806-696C-4D64-88A9-ACD7F430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D9C7C-1171-4585-B0F5-9D1AA9F3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7FBA3-DF3B-4B68-93EF-0CCEBC21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5E2F0-B7C0-4A57-BF9C-8E235A5B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5FE07-866D-4346-8083-F5A3AA09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C52C-E24C-4B46-81E7-84019D37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4439D-4D3E-4092-B601-0F9B4CEE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B8DB4-079E-4332-9DD8-97E2092A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3315F-FA2D-4B15-B81F-1395B37E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C0EA7-C1AA-4E8A-ABE9-FDF4B827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B06FD-1250-4089-9268-B2519CE4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8A702-A8BF-4CD4-87EC-B140A4EA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22D93-5EB2-4F65-B315-9CDFC8D4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869B1-EB21-4F70-BF8F-05AE0863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D194D-E90F-4BEB-BCBE-50C38C83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41F23-2848-4EDA-AA58-53314A4D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E3FF-0BF0-472A-A0FE-0468EA64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86557-3813-4CB5-88EF-5958E5BD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105FB-3B99-4E81-BAE9-B68EF3AD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9EDF0-0C52-45DE-A69E-45A96617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4AFAC-5128-4572-A736-14718217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566C4-187D-4183-9B15-01CB9E6F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0258D-4762-43DC-B91D-25ABED36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5AFE4-D644-4418-A18D-C0CD28A0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B8C7F-4ECF-4587-98F2-9EA14521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504A9-2086-456B-BFC6-29B6DA99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4F867-8C53-466A-902D-AEA33528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D59D-43A3-4886-B401-2D758E13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F71B8-7AF9-4B87-B32D-6F581EEE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FC455-F949-4098-A760-AFE72CCC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50F18-0A1C-4D49-A0F6-213CC4AE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77A92-755B-4EAE-8304-FFEC97FB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1AB00-D863-4147-B259-18C9B071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4F231-A930-4334-9CCA-07DF2E77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25200-52DD-410B-94B7-49F8A694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A13A3-AB36-4CD0-9DF3-7B37338E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47C38-C022-4B7F-9DC6-5295F732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E76E9-8E98-43FB-913C-064D92EB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0AAE-0A24-4026-99AE-9305C16A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36942-E7B4-4FE2-9E66-12C080F2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99BE3-C0CF-4A3C-9CAF-F7F0B14B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B456C-9239-438B-920F-AEEE5A78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01D8A-54C6-4EDA-8F81-2BA26980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36748-596E-4B08-B637-CCF8B8BD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D9187-4A57-43C7-9024-A0B9C097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A9FB4-5349-42A6-A37E-3174E6A9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999F7-8D94-4F73-B42A-6E96C07D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B5A0B-50A2-4963-A798-3C4755A8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EACDE-10CF-4C3C-BF38-C1B404BB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B9C-E2E0-41C6-A958-00A69ED7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E1C52-9E4C-4580-9AB1-ED6160B8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C0115-BF1A-4B3E-9D97-97A74799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BD59B-1059-4990-A823-A0AB9A4A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7CA9D-C20C-475A-A5C1-6D17236F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38F04-3C26-4009-AA06-33F17CBC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3E2C3-5BF8-498D-8C4B-1199F52F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D0B1D-E8C4-4552-A57B-7E537F06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564A1-2922-44B0-B8E1-2B13F3D8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B6F9D-A193-4C68-9232-5FB37269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982C0-9660-4C9A-9D2D-26DCB8FE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4D0B-4818-4023-AFA2-7DECED14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66746-4C94-44F1-B6EA-EB1DB3CE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5CD8A-10B0-4A94-888E-C319D0C9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F2215-D0EA-4C6A-9ADB-1B18AA52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CF198-5B54-4263-A959-15FA587D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B7A60-EC6D-46D7-BE01-635EA91C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7A2CE-25D7-469C-BD48-3AD16996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7E0F8-1B29-4C8C-B25F-50A13AC1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7D840-30D0-47C1-A18F-71FE2199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C1128-71EB-445E-A52C-0C4034F0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41453-DA2C-4DAC-A2CA-B908E648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3729-421D-4AAE-9508-32A45ECB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F4CC9-B93A-4A1D-B807-5B13F0B9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BAE3D-08B5-4BAF-AB36-D071A296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8EEC9-75FD-4C7B-899C-861AE393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9D563-F656-4D4C-807A-044CB682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0BD45-E12E-457B-BA81-E1E38F33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D0C7C-BD64-42FB-B15A-13DD7BB0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FAA3E-F167-4C47-879F-8BCF53D1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35A62-A6E9-448D-A6D2-0416FAA6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FB81D-E38C-4ED9-8BE9-6624589C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1C2E3-31B0-40F9-A204-76F955F7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882AB4-0C12-43E8-88EF-7ED5EB6D1F3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6A4F7-F665-48AE-82C0-D7A7AE71489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0D0BA-117A-48E8-B9F4-26497EE3C0B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  <a:ea typeface="Tahom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  <a:ea typeface="Tahom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DBA9F-8229-45B6-845D-0091F7C4E3F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0D7B8C-D077-4B8C-A7A9-4A27940CA41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  <a:ea typeface="Tahom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  <a:ea typeface="Tahom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C33A37-5DA3-46C5-9893-BEC5D0422B4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007E75-6786-4972-B5D8-03ED69AE145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D9659-55EF-4953-864D-695CB5849E8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FB54E-FAF1-4AB8-9EE7-80EF659DD04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54674-468B-4825-B0C7-3765DF7692F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1F6CA2-EB0F-4592-951E-B839457CA1D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98B96-45A5-45AC-9874-80ED58F2AE2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C6214-D7FD-4E2C-AB73-633C7BDC0A8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8FD32E-718A-401D-A5C3-727FE768A6B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9E16D-FCB7-4A4B-B069-8BE85C2740A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7B375-2412-4C8A-B53F-584E7004A45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EF83C-004E-4F4D-A95A-E7CB2A18C6E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588760" y="2514600"/>
            <a:ext cx="89154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900"/>
            </a:br>
            <a:br>
              <a:rPr sz="4900"/>
            </a:br>
            <a:r>
              <a:rPr b="0" lang="ar-SA" sz="4900" spc="-1" strike="noStrike">
                <a:solidFill>
                  <a:srgbClr val="262626"/>
                </a:solidFill>
                <a:latin typeface="Century Gothic"/>
              </a:rPr>
              <a:t>التعريب (المحاضرة </a:t>
            </a:r>
            <a:r>
              <a:rPr b="0" lang="ar-SA" sz="4900" spc="-1" strike="noStrike">
                <a:solidFill>
                  <a:srgbClr val="262626"/>
                </a:solidFill>
                <a:latin typeface="Century Gothic"/>
              </a:rPr>
              <a:t>4</a:t>
            </a:r>
            <a:r>
              <a:rPr b="0" lang="ar-SA" sz="4900" spc="-1" strike="noStrike">
                <a:solidFill>
                  <a:srgbClr val="262626"/>
                </a:solidFill>
                <a:latin typeface="Century Gothic"/>
              </a:rPr>
              <a:t>)</a:t>
            </a:r>
            <a:br>
              <a:rPr sz="4900"/>
            </a:br>
            <a:r>
              <a:rPr b="0" lang="ar-SA" sz="4900" spc="-1" strike="noStrike">
                <a:solidFill>
                  <a:srgbClr val="262626"/>
                </a:solidFill>
                <a:latin typeface="Century Gothic"/>
              </a:rPr>
              <a:t>التعريب في المغرب العربي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2588760" y="4776480"/>
            <a:ext cx="89154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595959"/>
                </a:solidFill>
                <a:latin typeface="Century Gothic"/>
              </a:rPr>
              <a:t>د. ريم سالم السالم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595959"/>
                </a:solidFill>
                <a:latin typeface="Century Gothic"/>
              </a:rPr>
              <a:t>أستاذ مساعد في قسم اللغة الإنجليزية والترجمة، كلية اللغات والترجمة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400" spc="-1" strike="noStrike">
                <a:solidFill>
                  <a:srgbClr val="262626"/>
                </a:solidFill>
                <a:latin typeface="Century Gothic"/>
                <a:cs typeface="Akhbar MT"/>
              </a:rPr>
              <a:t>تعريب التعليم بعد الاستقلال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2588760" y="1473120"/>
            <a:ext cx="89154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استقلت دول المغرب العربي بعد قرن وثلث قرن في الجزائر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وثلاثة أرباع القرن في تون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وأربع وأربعين سنة في المغرب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لم تعرب كل مراحل التعليم حتى الآن، ولكن جهود التعريب مستمرة وبخاصة لأن الازدواجية في التعليم مرهقة للدولة وتؤدي إلى ضعف المستوى وإضعاف الهوية العربية وإضعاف الروابط مع دول المشرق العربي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2588760" y="1147680"/>
            <a:ext cx="8915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تأخر التعريب بعد الاستقلال للأسباب التالية: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algn="r" rtl="1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خطورة التغيير الفجائي الذي قد يسبب انهيار نظام التعليم بأكمله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algn="r" rtl="1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قلة الأطر التعليمية المعربة وبخاصة في المواد العلمية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algn="r" rtl="1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بعض المسؤولين لم يقتنعوا بضرورة التعريب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400" spc="-1" strike="noStrike">
                <a:solidFill>
                  <a:srgbClr val="262626"/>
                </a:solidFill>
                <a:latin typeface="Century Gothic"/>
                <a:cs typeface="Akhbar MT"/>
              </a:rPr>
              <a:t>موقع اللغات الأجنبية في حركة التعريب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حرصت دول المغرب العربي على إفساح المجال لتعلم اللغات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فعربت المدارس الابتدائية والثانوية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وأفسحت المجال للغات الأجنبية في الجامعات بمبرر تمكين الطلاب من مسايرة العصر في علومه وتقنياته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400" spc="-1" strike="noStrike">
                <a:solidFill>
                  <a:srgbClr val="262626"/>
                </a:solidFill>
                <a:latin typeface="Century Gothic"/>
                <a:cs typeface="Akhbar MT"/>
              </a:rPr>
              <a:t>تعريب الإدارة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دخلت الفرنسية والإسبانية في كل مجال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 algn="r" rtl="1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من لا يتقن الفرنسية لا يعين في وظائف مهمة ويعاني من الفقر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 algn="r" rtl="1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استغرقت مغربة الإدارة والاقتصاد وقتا طويلا بسبب قلة الأطر الوطنية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 algn="r" rtl="1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كان القضاء أول ما تعرب وعملية التعريب مستمرة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 algn="r" rtl="1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400" spc="-1" strike="noStrike">
                <a:solidFill>
                  <a:srgbClr val="262626"/>
                </a:solidFill>
                <a:latin typeface="Century Gothic"/>
                <a:cs typeface="Akhbar MT"/>
              </a:rPr>
              <a:t>المرجع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Century Gothic"/>
                <a:cs typeface="Tahoma"/>
              </a:rPr>
              <a:t>عبدالكريم غلاب (</a:t>
            </a:r>
            <a:r>
              <a:rPr b="0" lang="ar-SA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1986</a:t>
            </a:r>
            <a:r>
              <a:rPr b="0" lang="ar-SA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) «التعريب ودوره في حركات التحرر في المغرب العربي» في </a:t>
            </a:r>
            <a:r>
              <a:rPr b="0" lang="ar-SA" sz="1800" spc="-1" strike="noStrike" u="sng">
                <a:solidFill>
                  <a:srgbClr val="404040"/>
                </a:solidFill>
                <a:uFillTx/>
                <a:latin typeface="Century Gothic"/>
                <a:cs typeface="Tahoma"/>
              </a:rPr>
              <a:t>التعريب ودوره في تدعيم الوجود العربي والوحدة العربية. </a:t>
            </a:r>
            <a:r>
              <a:rPr b="0" lang="ar-SA" sz="1800" spc="-1" strike="noStrike">
                <a:solidFill>
                  <a:srgbClr val="404040"/>
                </a:solidFill>
                <a:latin typeface="Century Gothic"/>
                <a:cs typeface="Tahoma"/>
              </a:rPr>
              <a:t>الناشر مركز دراسات الوحدة العربية، بيروت، لبنان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400" spc="-1" strike="noStrike">
                <a:solidFill>
                  <a:srgbClr val="262626"/>
                </a:solidFill>
                <a:latin typeface="Century Gothic"/>
                <a:cs typeface="Akhbar MT"/>
              </a:rPr>
              <a:t>الاستعمار الفرنسي في شمال أفريقيا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النهضة العربية في المشرق العربي سبقت مثيلتها في المغرب العربي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91600" indent="-291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كان الاتصال ضعيفا بين المشرق والمغرب العربيين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91600" indent="-291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أتى الاستعمار الفرنسي في فترة تخلف فاستطاع بنجاح إقصاء اللغة العربية عن الحياة: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91600" indent="-29160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3200" spc="-1" strike="noStrike">
                <a:solidFill>
                  <a:srgbClr val="404040"/>
                </a:solidFill>
                <a:latin typeface="Century Gothic"/>
                <a:ea typeface="Akhbar MT"/>
              </a:rPr>
              <a:t>- كان التعليم بجميع مراحله وتخصصاته باللغة الفرنسية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91600" indent="-29160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3200" spc="-1" strike="noStrike">
                <a:solidFill>
                  <a:srgbClr val="404040"/>
                </a:solidFill>
                <a:latin typeface="Century Gothic"/>
                <a:ea typeface="Akhbar MT"/>
              </a:rPr>
              <a:t>- أصبحت الفرنسية اللغة الرسمية في التعليم والعمل والتفكير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400" spc="-1" strike="noStrike">
                <a:solidFill>
                  <a:srgbClr val="262626"/>
                </a:solidFill>
                <a:latin typeface="Century Gothic"/>
                <a:cs typeface="Akhbar MT"/>
              </a:rPr>
              <a:t>أهداف تغليب لغة المستعمر (الفرنسية والأسبانية)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1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. الغزو الفكري، وفرض على العقل العربي دراسة تاريخ فرنسا وجغرافيتها واقتصادها وأدبها وعلمائها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بغرض جعل الإنسان المغربي شبيها بالفرنسي ولكن أقل منزلة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وعلى العربي جميع واجبات المواطن الفرنسي من الخدمة في الجندية ودفع الضرائب ولا يحق له التمتع بأي من حقوق الفرنسيين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2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. تهيئة مساعدين لخدمة الإدارة الفرنسية والأسبانية في المناصب التافهة مثل بيع طوابع البريد أو الترجمة للقرويين أو المساعدة في تحصيل الضرائب من الفلاحين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000" spc="-1" strike="noStrike">
                <a:solidFill>
                  <a:srgbClr val="262626"/>
                </a:solidFill>
                <a:latin typeface="Century Gothic"/>
                <a:cs typeface="Akhbar MT"/>
              </a:rPr>
              <a:t>أهداف تغليب لغة المستعمر (الفرنسية والأسبانية)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3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. </a:t>
            </a: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ربط الاقتصاد المغربي بالاقتصادين الفرنسي والأسباني من أجل تمكين استغلال الأرض والموارد الاقتصادية المغربية لمصلحة الاقتصادين الفرنسي والاسباني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إذن اللغة الفرنسية في دول المغرب العربي لم تكن وسيلة تثقيف أو تنمية وإنما وسيلة لمحو الهوية العربية الإسلامية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262626"/>
                </a:solidFill>
                <a:latin typeface="Century Gothic"/>
                <a:cs typeface="Akhbar MT"/>
              </a:rPr>
              <a:t>محاولة تمزيق وحدة المغرب العربي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entury Gothic"/>
                <a:cs typeface="Akhbar MT"/>
              </a:rPr>
              <a:t>حاول الاستعمار في الجزائر تقسيم البلاد إلى عرب وبربر على أساس اللغة والحكم والقضاء وقانون الأحكام ثم حاول نشر المسيحية في الأجزاء التي يسكنها البربر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entury Gothic"/>
                <a:cs typeface="Akhbar MT"/>
              </a:rPr>
              <a:t>انشأ الاستعمار معركة مصطنعة أسماها بالصراع العربي البربري تدور حول السلطة والإدارة للتمكين للسيطرة الفرنسية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entury Gothic"/>
                <a:cs typeface="Akhbar MT"/>
              </a:rPr>
              <a:t>وهذه المحاولات أحبطتها الحركة الوطنية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400" spc="-1" strike="noStrike">
                <a:solidFill>
                  <a:srgbClr val="262626"/>
                </a:solidFill>
                <a:latin typeface="Century Gothic"/>
                <a:cs typeface="Akhbar MT"/>
              </a:rPr>
              <a:t>التحرير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2588760" y="1523520"/>
            <a:ext cx="89154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    الثورة الحربية: الأمير عبدالقادر في الجزائر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411480" algn="r" rtl="1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       وعمر بن عثمان في تونس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411480" algn="r" rtl="1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       وعبدالكريم الخطابي في المغرب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411480" algn="r" rtl="1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411480" algn="r" rtl="1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entury Gothic"/>
                <a:cs typeface="Akhbar MT"/>
              </a:rPr>
              <a:t>الحركة الوطنية (حركة نجم الشمال الأفريقي + جمعية العلماء الجزائريين)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411480" algn="r" rtl="1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- تعمل للحفاظ على الهوية الجزائرية والتونسية والمغربية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411480" algn="r" rtl="1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- تطالب باللغة العربية لغة قومية في الجزائر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411480" algn="r" rtl="1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- تأسيس المدارس العربية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411480" algn="r" rtl="1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- بث الثقافة العربية الإسلامية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5400" spc="-1" strike="noStrike">
                <a:solidFill>
                  <a:srgbClr val="262626"/>
                </a:solidFill>
                <a:latin typeface="Century Gothic"/>
                <a:cs typeface="Akhbar MT"/>
              </a:rPr>
              <a:t>مقاومة الغربة اللغوية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تأسيس مدرسة باردو: كتابة خلاصة دروس الأساتذة الأجانب بالعربية وترجمة الكتب الأوروبية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تأسيس المدرسة الصادقية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إصلاح التعليم في جامعة الزيتونة بتون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استمرار جامعة القرويين في فاس في القيام بدورها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إنشاء المكتبات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تشجيع الطباعة والنشر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400" spc="-1" strike="noStrike">
                <a:solidFill>
                  <a:srgbClr val="262626"/>
                </a:solidFill>
                <a:latin typeface="Century Gothic"/>
                <a:cs typeface="Akhbar MT"/>
              </a:rPr>
              <a:t>مقاومة المستعمر لتعريب التعليم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أقفل المستعمر عددا من المدارس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نفى المشرفين عليها إلى أماكن نائية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شرد تلاميذها وأساتذتها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فرض رقابة على بعضها الآخر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زرع الشك في نفوس المواطنين في تلك المدارس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000" spc="-1" strike="noStrike">
                <a:solidFill>
                  <a:srgbClr val="262626"/>
                </a:solidFill>
                <a:latin typeface="Century Gothic"/>
                <a:cs typeface="Akhbar MT"/>
              </a:rPr>
              <a:t>استمرار الحركة الوطنية في تعريب التعليم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إنشاء المدارس الوطنية في كل مدينة وقرية لبناء المواطن الجديد المرتبط بالعروية والإسلام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اضطرار الاستعمار إلى الاكتفاء بمراقبة تلك المدارس مع عدم الاعتراف بشهاداتها أو تقديم منح لها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إرسال خريجي المدارس الوطنية إلى جامعات مصر وسوريا والعراق وجامعات أوروبية وأمريكية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تقديم نماذج من المثقفين والمفكرين من المشرق العربي وتقديم إنتاجهم الفكري والأدبي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3T11:26:29Z</dcterms:created>
  <dc:creator>Reem Alsalem</dc:creator>
  <dc:description/>
  <dc:language>en-US</dc:language>
  <cp:lastModifiedBy>Nahla Abdulaziz Alsheikh</cp:lastModifiedBy>
  <dcterms:modified xsi:type="dcterms:W3CDTF">2016-02-10T10:28:16Z</dcterms:modified>
  <cp:revision>29</cp:revision>
  <dc:subject/>
  <dc:title>التعريب (المحاضرة 4) التعريب في المغرب العربي</dc:title>
</cp:coreProperties>
</file>