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F29B4-03AF-4573-BB94-D4D0E9734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28EC-6D1F-4E48-BE9B-178C4F6D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A6487-DB36-4B38-83D2-16CFA559A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4EBB3-3612-4BE1-80A5-CA92A661B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FA6C0-10A8-40FC-9C8D-067AB8979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BE675-3312-4753-837E-CA9B193F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F176D-1AF7-4866-B456-90752BA71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9317C-72EA-4CDB-B89F-DDD1486B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D9164-2E4A-4FFF-A918-3C6E5463D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EC8CC-52C6-4B33-A854-EC2B835DE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BDB75-7B92-4A10-AC57-0A7C46EB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6FB5-7C90-47F8-96C0-C96D3D75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4D89-6D99-411F-9900-C183704B2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44350-C068-4BDA-A808-A01423F9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92544-B740-45A7-B6D0-B14CD5DF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59616-8089-4794-86FB-C99A2CD85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CB5A2-B554-498D-A84B-CE1EF4351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30693-06AE-4AAE-8AAA-33DFE57BC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8094E-14CD-4F6D-8ABB-71F14B5E4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EFE9C-D993-45C4-A060-DD600046D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C4F4A-B30C-4259-A136-9B9759B0D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C46F5-08A9-47C4-8CDE-2EF4E77D6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418E4-05BF-4B9F-9881-D452E624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AA005-9352-48C8-B856-CFD04E7C0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BE4F8-B740-4E1F-A564-CAF2D9086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8D8B5-0A44-428C-87E0-CC33D8F34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E0C8D-462A-4D93-AAFC-BF9B9AE23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FF5B2-7D4D-4916-A509-4B664D9F8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B47AB0-1A08-40D6-8E64-5BC9EA831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43EAE6-9208-4874-AA4A-35921B23D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472F95-8F95-4C02-BC2F-5FAE9F618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66AE4C-AD90-4A25-975F-5548FDFCA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72C72-F3AA-4C25-AB86-EB83D5A9F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26D9-6137-4810-BF9D-B92E6325C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FC73E-CAD2-477E-A79D-9E1621DD3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277FC-C2E2-440E-9A49-4EE3991B4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5A12B-D2CE-4511-BE36-70776BB12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A6F96-2977-4C34-8228-5FE37273A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D6F8D-62BA-46B1-8565-D68C5575A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27D1B-5858-407F-AD74-EE6A5636C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AC5A5-B28A-4D4E-B2FC-E22E7A318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97BF8-3098-42DF-ADF4-A1F5AC2C6C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C89E65-D4D2-4987-BBC1-917410315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18225-9248-48E8-8621-3AD7769C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C4B6-ED60-4F97-B99A-EAB4ABDA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0725-C6DA-4B98-877C-B1F88653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1AAAD-E133-41AE-9635-7E7FC4C69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21A1-8640-49F6-8007-1E42AAA0F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448C4-18AE-4760-9DDE-7A61A1413B74}"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7"/>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98287-9155-4C20-8603-62306874A434}"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56872-4B87-459D-A0BE-8247BB9859CD}"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097FB-A86F-4963-B120-D76329587F3A}"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qlame.com/article697.html" TargetMode="External"/><Relationship Id="rId2" Type="http://schemas.openxmlformats.org/officeDocument/2006/relationships/hyperlink" Target="http://www.somaliatodaynew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ffffff"/>
                </a:solidFill>
                <a:latin typeface="Corbel"/>
                <a:cs typeface="Akhbar MT"/>
              </a:rPr>
              <a:t>التعريب (المحاضرة </a:t>
            </a:r>
            <a:r>
              <a:rPr b="0" lang="ar-SA" sz="5900" spc="-1" strike="noStrike">
                <a:solidFill>
                  <a:srgbClr val="ffffff"/>
                </a:solidFill>
                <a:latin typeface="Corbel"/>
                <a:ea typeface="Akhbar MT"/>
              </a:rPr>
              <a:t>5</a:t>
            </a:r>
            <a:r>
              <a:rPr b="0" lang="ar-SA" sz="5900" spc="-1" strike="noStrike">
                <a:solidFill>
                  <a:srgbClr val="ffffff"/>
                </a:solidFill>
                <a:latin typeface="Corbel"/>
                <a:ea typeface="Akhbar MT"/>
              </a:rPr>
              <a:t>)</a:t>
            </a:r>
            <a:br>
              <a:rPr sz="5900"/>
            </a:br>
            <a:r>
              <a:rPr b="0" lang="ar-SA" sz="5900" spc="-1" strike="noStrike">
                <a:solidFill>
                  <a:srgbClr val="ffffff"/>
                </a:solidFill>
                <a:latin typeface="Corbel"/>
                <a:cs typeface="Akhbar MT"/>
              </a:rPr>
              <a:t>التعريب في المشرق العربي وبعض الدول العربية ذات الظروف الخاصة</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anchor="t">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9f1f6"/>
                </a:solidFill>
                <a:latin typeface="Corbel"/>
                <a:cs typeface="Akhbar MT"/>
              </a:rPr>
              <a:t>د. ريم سالم السالم</a:t>
            </a:r>
            <a:endParaRPr b="0" lang="en-US" sz="2000" spc="-1" strike="noStrike">
              <a:solidFill>
                <a:srgbClr val="595959"/>
              </a:solidFill>
              <a:latin typeface="Corbel"/>
            </a:endParaRPr>
          </a:p>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9f1f6"/>
                </a:solidFill>
                <a:latin typeface="Corbel"/>
                <a:cs typeface="Akhbar MT"/>
              </a:rPr>
              <a:t>أستاذ مساعد في قسم اللغة الإنجليزية والترجمة، كلية اللغات والترجم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مقارنة بين التعريب في المشرق والتعريب في المغرب</a:t>
            </a:r>
            <a:endParaRPr b="0" lang="en-US" sz="3600" spc="-1" strike="noStrike">
              <a:solidFill>
                <a:srgbClr val="ffffff"/>
              </a:solidFill>
              <a:latin typeface="Corbel"/>
            </a:endParaRPr>
          </a:p>
        </p:txBody>
      </p:sp>
      <p:sp>
        <p:nvSpPr>
          <p:cNvPr id="190"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rPr>
              <a:t>3</a:t>
            </a:r>
            <a:r>
              <a:rPr b="0" lang="ar-SA" sz="2800" spc="-1" strike="noStrike">
                <a:solidFill>
                  <a:srgbClr val="595959"/>
                </a:solidFill>
                <a:latin typeface="Corbel"/>
              </a:rPr>
              <a:t>. في المشرق يسود إيمان بأن التعريب الكامل مسألة زمن</a:t>
            </a:r>
            <a:endParaRPr b="0" lang="en-US" sz="28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في المغرب هناك شكوك كثيرة حول إمكانية التعريب الكامل</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الصومال</a:t>
            </a:r>
            <a:endParaRPr b="0" lang="en-US" sz="3600" spc="-1" strike="noStrike">
              <a:solidFill>
                <a:srgbClr val="ffffff"/>
              </a:solidFill>
              <a:latin typeface="Corbel"/>
            </a:endParaRPr>
          </a:p>
        </p:txBody>
      </p:sp>
      <p:sp>
        <p:nvSpPr>
          <p:cNvPr id="19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1</a:t>
            </a:r>
            <a:r>
              <a:rPr b="0" lang="ar-SA" sz="2000" spc="-1" strike="noStrike">
                <a:solidFill>
                  <a:srgbClr val="595959"/>
                </a:solidFill>
                <a:latin typeface="Corbel"/>
                <a:ea typeface="Tahoma"/>
              </a:rPr>
              <a:t>. الصومال:</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لغة الرسمية هي العربية مع الصومالية حيث حلتا محل الإنجليزية والإيطال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تستخدم العربية لتدريس المواد الاجتماعية والدينية وكان هناك اتجاه لتدريس بقية المواد به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حملات التعريب </a:t>
            </a:r>
            <a:r>
              <a:rPr b="0" lang="ar-SA" sz="2000" spc="-1" strike="noStrike">
                <a:solidFill>
                  <a:srgbClr val="ff0000"/>
                </a:solidFill>
                <a:latin typeface="Corbel"/>
                <a:cs typeface="Tahoma"/>
              </a:rPr>
              <a:t>هدفت إلى </a:t>
            </a:r>
            <a:r>
              <a:rPr b="0" lang="ar-SA" sz="2000" spc="-1" strike="noStrike">
                <a:solidFill>
                  <a:srgbClr val="595959"/>
                </a:solidFill>
                <a:latin typeface="Corbel"/>
                <a:cs typeface="Tahoma"/>
              </a:rPr>
              <a:t>تقوية اللغة العربية في التعليم والإدارة والإعلام عن طريق إعداد المعلمين المتقنين للعربية وتعريب المناهج</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التعريب في أقطار عربية ذات أوضاع خاصة: الصومال</a:t>
            </a:r>
            <a:endParaRPr b="0" lang="en-US" sz="3600" spc="-1" strike="noStrike">
              <a:solidFill>
                <a:srgbClr val="ffffff"/>
              </a:solidFill>
              <a:latin typeface="Corbel"/>
            </a:endParaRPr>
          </a:p>
        </p:txBody>
      </p:sp>
      <p:sp>
        <p:nvSpPr>
          <p:cNvPr id="194"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في السنوات العشر الأخيرة نمت ممانعة ضد اللغة العربية وانتشارها في قطاع التعليم في الصومال. </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rbel"/>
              </a:rPr>
              <a:t>والسبب</a:t>
            </a:r>
            <a:r>
              <a:rPr b="0" lang="ar-SA" sz="2400" spc="-1" strike="noStrike">
                <a:solidFill>
                  <a:srgbClr val="595959"/>
                </a:solidFill>
                <a:latin typeface="Corbel"/>
              </a:rPr>
              <a:t> (</a:t>
            </a:r>
            <a:r>
              <a:rPr b="0" lang="ar-SA" sz="2400" spc="-1" strike="noStrike">
                <a:solidFill>
                  <a:srgbClr val="595959"/>
                </a:solidFill>
                <a:latin typeface="Corbel"/>
              </a:rPr>
              <a:t>1</a:t>
            </a:r>
            <a:r>
              <a:rPr b="0" lang="ar-SA" sz="2400" spc="-1" strike="noStrike">
                <a:solidFill>
                  <a:srgbClr val="595959"/>
                </a:solidFill>
                <a:latin typeface="Corbel"/>
              </a:rPr>
              <a:t>) الخوف من انتشار فكر الإسلاميين في الأقاليم غير المستقرة</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 (</a:t>
            </a:r>
            <a:r>
              <a:rPr b="0" lang="ar-SA" sz="2400" spc="-1" strike="noStrike">
                <a:solidFill>
                  <a:srgbClr val="595959"/>
                </a:solidFill>
                <a:latin typeface="Corbel"/>
              </a:rPr>
              <a:t>2</a:t>
            </a:r>
            <a:r>
              <a:rPr b="0" lang="ar-SA" sz="2400" spc="-1" strike="noStrike">
                <a:solidFill>
                  <a:srgbClr val="595959"/>
                </a:solidFill>
                <a:latin typeface="Corbel"/>
              </a:rPr>
              <a:t>) المنظمات الأجنبية التنصيرية التي تحاول فصل الصومال عن بقية العالم العربي والإسلامي </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a:t>
            </a:r>
            <a:r>
              <a:rPr b="0" lang="ar-SA" sz="2400" spc="-1" strike="noStrike">
                <a:solidFill>
                  <a:srgbClr val="595959"/>
                </a:solidFill>
                <a:latin typeface="Corbel"/>
              </a:rPr>
              <a:t>3</a:t>
            </a:r>
            <a:r>
              <a:rPr b="0" lang="ar-SA" sz="2400" spc="-1" strike="noStrike">
                <a:solidFill>
                  <a:srgbClr val="595959"/>
                </a:solidFill>
                <a:latin typeface="Corbel"/>
              </a:rPr>
              <a:t>) خشية دعاة الحرب من استفزاز الغرب فيقطع عنهم الرواتب والمساعدات</a:t>
            </a:r>
            <a:endParaRPr b="0" lang="en-US" sz="24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جيبوتي</a:t>
            </a:r>
            <a:endParaRPr b="0" lang="en-US" sz="3600" spc="-1" strike="noStrike">
              <a:solidFill>
                <a:srgbClr val="ffffff"/>
              </a:solidFill>
              <a:latin typeface="Corbel"/>
            </a:endParaRPr>
          </a:p>
        </p:txBody>
      </p:sp>
      <p:sp>
        <p:nvSpPr>
          <p:cNvPr id="19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2</a:t>
            </a:r>
            <a:r>
              <a:rPr b="0" lang="ar-SA" sz="2000" spc="-1" strike="noStrike">
                <a:solidFill>
                  <a:srgbClr val="595959"/>
                </a:solidFill>
                <a:latin typeface="Corbel"/>
                <a:ea typeface="Tahoma"/>
              </a:rPr>
              <a:t>. جيبوتي (عضو في جامعة الدول العرب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لغة الرسمية هي الفرنسية رغم انتشار الصومالية تليها العفرية وبعض السكان يتحدث العر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 الاستعمار الأجنبي الطويل جعل الفرنسية لغة التعليم الوحيدة وأقصى العربية لعزل جيبوتي عن العالم العربي والإسلامي</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اجتهاد من الشعب أنشئت الكتاتيب لتعليم القرآن والثقافة العربية والإسلام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التعريب في أقطار عربية ذات أوضاع خاصة: جيبوتي</a:t>
            </a:r>
            <a:endParaRPr b="0" lang="en-US" sz="3600" spc="-1" strike="noStrike">
              <a:solidFill>
                <a:srgbClr val="ffffff"/>
              </a:solidFill>
              <a:latin typeface="Corbel"/>
            </a:endParaRPr>
          </a:p>
        </p:txBody>
      </p:sp>
      <p:sp>
        <p:nvSpPr>
          <p:cNvPr id="198" name=""/>
          <p:cNvSpPr txBox="1"/>
          <p:nvPr/>
        </p:nvSpPr>
        <p:spPr>
          <a:xfrm>
            <a:off x="3868560" y="685800"/>
            <a:ext cx="7315200" cy="5299200"/>
          </a:xfrm>
          <a:prstGeom prst="rect">
            <a:avLst/>
          </a:prstGeom>
          <a:noFill/>
          <a:ln w="0">
            <a:noFill/>
          </a:ln>
        </p:spPr>
        <p:txBody>
          <a:bodyPr anchor="ctr">
            <a:normAutofit fontScale="95000"/>
          </a:bodyPr>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بعد الاستقلال بدأ الاتجاه إلى تعريب التعليم بالتدرج البطيء عن طريق: إدخال العربية مادة اختيارية ابتداء من الصف الثالث الابتدائي ولكن المعلمين غير مؤهلين – ثم أصبحت إلزامية </a:t>
            </a:r>
            <a:r>
              <a:rPr b="0" lang="ar-SA" sz="2800" spc="-1" strike="noStrike">
                <a:solidFill>
                  <a:srgbClr val="595959"/>
                </a:solidFill>
                <a:latin typeface="Corbel"/>
              </a:rPr>
              <a:t>4</a:t>
            </a:r>
            <a:r>
              <a:rPr b="0" lang="ar-SA" sz="2800" spc="-1" strike="noStrike">
                <a:solidFill>
                  <a:srgbClr val="595959"/>
                </a:solidFill>
                <a:latin typeface="Corbel"/>
              </a:rPr>
              <a:t> ساعات في الأسبوع في الصفين الرابع والخامس – ثم أصبحت إلزامية في الثانوية والتعليم الفني</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جهود التعريب شملت إعداد المناهج والمعلمين واستعارة معلمين من العالم العربي وكل الجهود هدفت إلى تعليم اللغة العربية للسكان عن طريق تدريسها في مراحل التعليم المختلف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الإدارة تتم بالفرنسي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الإعلام أربع لغات: العربية والصومالية والعفرية والفرنسي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موريتانيا</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3</a:t>
            </a:r>
            <a:r>
              <a:rPr b="0" lang="ar-SA" sz="2000" spc="-1" strike="noStrike">
                <a:solidFill>
                  <a:srgbClr val="595959"/>
                </a:solidFill>
                <a:latin typeface="Corbel"/>
                <a:ea typeface="Tahoma"/>
              </a:rPr>
              <a:t>. موريتان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سكان: العرب </a:t>
            </a:r>
            <a:r>
              <a:rPr b="0" lang="ar-SA" sz="2000" spc="-1" strike="noStrike">
                <a:solidFill>
                  <a:srgbClr val="595959"/>
                </a:solidFill>
                <a:latin typeface="Corbel"/>
                <a:ea typeface="Tahoma"/>
              </a:rPr>
              <a:t>84</a:t>
            </a:r>
            <a:r>
              <a:rPr b="0" lang="ar-SA" sz="2000" spc="-1" strike="noStrike">
                <a:solidFill>
                  <a:srgbClr val="595959"/>
                </a:solidFill>
                <a:latin typeface="Corbel"/>
                <a:ea typeface="Tahoma"/>
              </a:rPr>
              <a:t>%</a:t>
            </a:r>
            <a:endParaRPr b="0" lang="en-US" sz="20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الولف، التكارير (من التكرور)، السنونكي </a:t>
            </a:r>
            <a:r>
              <a:rPr b="0" lang="ar-SA" sz="1600" spc="-1" strike="noStrike">
                <a:solidFill>
                  <a:srgbClr val="595959"/>
                </a:solidFill>
                <a:latin typeface="Corbel"/>
                <a:ea typeface="Tahoma"/>
              </a:rPr>
              <a:t>16</a:t>
            </a:r>
            <a:r>
              <a:rPr b="0" lang="ar-SA" sz="1600" spc="-1" strike="noStrike">
                <a:solidFill>
                  <a:srgbClr val="595959"/>
                </a:solidFill>
                <a:latin typeface="Corbel"/>
                <a:ea typeface="Tahoma"/>
              </a:rPr>
              <a:t>%</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كانت العربية هي لغة المعاملات لقرون</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أثناء الاستعمار الفرنسي قاوم الموريتانيون لغة الاستعمار ونمطه الحضاري</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عند الاستقلال سلم الفرنسيون الدولة إلى نخبة أفريقية تعلمت في مدارس الاستعمار</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فجعلت الفرنسية لغة رسمية ولغة العمل والتعليم الوحيدة مع جعل العربية تدرس اختياريا </a:t>
            </a:r>
            <a:r>
              <a:rPr b="0" lang="ar-SA" sz="1600" spc="-1" strike="noStrike">
                <a:solidFill>
                  <a:srgbClr val="595959"/>
                </a:solidFill>
                <a:latin typeface="Corbel"/>
                <a:ea typeface="Tahoma"/>
              </a:rPr>
              <a:t>6</a:t>
            </a:r>
            <a:r>
              <a:rPr b="0" lang="ar-SA" sz="1600" spc="-1" strike="noStrike">
                <a:solidFill>
                  <a:srgbClr val="595959"/>
                </a:solidFill>
                <a:latin typeface="Corbel"/>
                <a:ea typeface="Tahoma"/>
              </a:rPr>
              <a:t> ساعات في الأسبوع</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مع الضغوط من المواطنين فرضت الحكومة ساعات من تدريس اللغة العربية في التعليم الثانوي</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بتحريض من فرنسا والسنغال بدأ موظفو الدولة بتحريض الأقلية الأفريقية لرفض الإلزام بتدريس العربية بحجة أنه يستهدف اضطهاد السود ثقافيا وإقصاءهم من الدولة وأنه مقدمة لتغيير هوية الأفارقة</a:t>
            </a:r>
            <a:endParaRPr b="0" lang="en-US" sz="16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موريتانيا</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جاء في بيان التسعة عشر «يعرف البيظان (العرب) أن التعريب القسري سيقود البلد إلى الفشل، لكنهم مصرون على المضي في ذلك الاتجاه، تدفعهم عقدة النقص أمام التفوق النوعي للأطر السود، كما تدفعهم الرغبة الجامحة في اجتثاث المجموعة السوداء من محيطها الإفريقي وبالتالي احتوائها وإخضاعها لنمط حياتهم وتفكيرهم” .</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موريتانيا</a:t>
            </a:r>
            <a:endParaRPr b="0" lang="en-US" sz="3600" spc="-1" strike="noStrike">
              <a:solidFill>
                <a:srgbClr val="ffffff"/>
              </a:solidFill>
              <a:latin typeface="Corbel"/>
            </a:endParaRPr>
          </a:p>
        </p:txBody>
      </p:sp>
      <p:sp>
        <p:nvSpPr>
          <p:cNvPr id="204" name=""/>
          <p:cNvSpPr txBox="1"/>
          <p:nvPr/>
        </p:nvSpPr>
        <p:spPr>
          <a:xfrm>
            <a:off x="3657600" y="863640"/>
            <a:ext cx="752616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ها توالت الصدامات بين العرقين العربي والإفريقي حول قضية التعريب بمباركة فرنسية وسنغال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صلاح </a:t>
            </a:r>
            <a:r>
              <a:rPr b="0" lang="ar-SA" sz="2000" spc="-1" strike="noStrike">
                <a:solidFill>
                  <a:srgbClr val="595959"/>
                </a:solidFill>
                <a:latin typeface="Corbel"/>
                <a:ea typeface="Tahoma"/>
              </a:rPr>
              <a:t>1979</a:t>
            </a:r>
            <a:r>
              <a:rPr b="0" lang="ar-SA" sz="2000" spc="-1" strike="noStrike">
                <a:solidFill>
                  <a:srgbClr val="595959"/>
                </a:solidFill>
                <a:latin typeface="Corbel"/>
                <a:ea typeface="Tahoma"/>
              </a:rPr>
              <a:t> أقر نظامين تعليميين: نظام عربي يرتاده </a:t>
            </a:r>
            <a:r>
              <a:rPr b="0" lang="ar-SA" sz="2000" spc="-1" strike="noStrike">
                <a:solidFill>
                  <a:srgbClr val="595959"/>
                </a:solidFill>
                <a:latin typeface="Corbel"/>
                <a:ea typeface="Tahoma"/>
              </a:rPr>
              <a:t>20</a:t>
            </a:r>
            <a:r>
              <a:rPr b="0" lang="ar-SA" sz="2000" spc="-1" strike="noStrike">
                <a:solidFill>
                  <a:srgbClr val="595959"/>
                </a:solidFill>
                <a:latin typeface="Corbel"/>
                <a:ea typeface="Tahoma"/>
              </a:rPr>
              <a:t> ألف طالب</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cs typeface="Tahoma"/>
              </a:rPr>
              <a:t>ونظام فرنسي يرتاده </a:t>
            </a:r>
            <a:r>
              <a:rPr b="0" lang="ar-SA" sz="2000" spc="-1" strike="noStrike">
                <a:solidFill>
                  <a:srgbClr val="595959"/>
                </a:solidFill>
                <a:latin typeface="Corbel"/>
                <a:ea typeface="Tahoma"/>
              </a:rPr>
              <a:t>4</a:t>
            </a:r>
            <a:r>
              <a:rPr b="0" lang="ar-SA" sz="2000" spc="-1" strike="noStrike">
                <a:solidFill>
                  <a:srgbClr val="595959"/>
                </a:solidFill>
                <a:latin typeface="Corbel"/>
                <a:ea typeface="Tahoma"/>
              </a:rPr>
              <a:t> آلاف طالب</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فأصبح التعليم ينتج أجيالا متناحرة متضادة ولكنه أنصف اللغة العر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صلاح </a:t>
            </a:r>
            <a:r>
              <a:rPr b="0" lang="ar-SA" sz="2000" spc="-1" strike="noStrike">
                <a:solidFill>
                  <a:srgbClr val="595959"/>
                </a:solidFill>
                <a:latin typeface="Corbel"/>
                <a:ea typeface="Tahoma"/>
              </a:rPr>
              <a:t>1999</a:t>
            </a:r>
            <a:r>
              <a:rPr b="0" lang="ar-SA" sz="2000" spc="-1" strike="noStrike">
                <a:solidFill>
                  <a:srgbClr val="595959"/>
                </a:solidFill>
                <a:latin typeface="Corbel"/>
                <a:ea typeface="Tahoma"/>
              </a:rPr>
              <a:t> وحد النظام التعليمي على أن تكون الفرنسية اللغة الأساسية فيه</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مازال الصراع قائما بين نخبة عربية تطالب باعتماد لغة الأغل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نخبة فرنكوفونية تطالب بإلغاء اعتماد اللغة العربية لغة رسمية باعتبار أن الهوية العربية هوية تخلف وقمع</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مراجع</a:t>
            </a:r>
            <a:endParaRPr b="0" lang="en-US" sz="3600" spc="-1" strike="noStrike">
              <a:solidFill>
                <a:srgbClr val="ffffff"/>
              </a:solidFill>
              <a:latin typeface="Corbel"/>
            </a:endParaRPr>
          </a:p>
        </p:txBody>
      </p:sp>
      <p:sp>
        <p:nvSpPr>
          <p:cNvPr id="20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595959"/>
                </a:solidFill>
                <a:uFillTx/>
                <a:latin typeface="Corbel"/>
                <a:cs typeface="Tahoma"/>
              </a:rPr>
              <a:t>التعريب ودوره في تدعيم الوجود العربي والوحدة العربية</a:t>
            </a:r>
            <a:r>
              <a:rPr b="0" lang="ar-SA" sz="2000" spc="-1" strike="noStrike">
                <a:solidFill>
                  <a:srgbClr val="595959"/>
                </a:solidFill>
                <a:latin typeface="Corbel"/>
                <a:ea typeface="Tahoma"/>
              </a:rPr>
              <a:t>. الناشر مركز دراسات الوحدة العربية، بيروت، لبنان.</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مختار السالم (</a:t>
            </a:r>
            <a:r>
              <a:rPr b="0" lang="ar-SA" sz="2000" spc="-1" strike="noStrike">
                <a:solidFill>
                  <a:srgbClr val="595959"/>
                </a:solidFill>
                <a:latin typeface="Corbel"/>
                <a:ea typeface="Tahoma"/>
              </a:rPr>
              <a:t>2010</a:t>
            </a:r>
            <a:r>
              <a:rPr b="0" lang="ar-SA" sz="2000" spc="-1" strike="noStrike">
                <a:solidFill>
                  <a:srgbClr val="595959"/>
                </a:solidFill>
                <a:latin typeface="Corbel"/>
                <a:ea typeface="Tahoma"/>
              </a:rPr>
              <a:t>) «معركة التعريب في موريتانيا» التحميل في </a:t>
            </a:r>
            <a:r>
              <a:rPr b="0" lang="ar-SA" sz="2000" spc="-1" strike="noStrike">
                <a:solidFill>
                  <a:srgbClr val="595959"/>
                </a:solidFill>
                <a:latin typeface="Corbel"/>
                <a:ea typeface="Tahoma"/>
              </a:rPr>
              <a:t>26</a:t>
            </a:r>
            <a:r>
              <a:rPr b="0" lang="ar-SA" sz="2000" spc="-1" strike="noStrike">
                <a:solidFill>
                  <a:srgbClr val="595959"/>
                </a:solidFill>
                <a:latin typeface="Corbel"/>
                <a:ea typeface="Tahoma"/>
              </a:rPr>
              <a:t> سبتمبر من </a:t>
            </a:r>
            <a:r>
              <a:rPr b="0" lang="en-US" sz="2000" spc="-1" strike="noStrike" u="sng">
                <a:solidFill>
                  <a:srgbClr val="90bb23"/>
                </a:solidFill>
                <a:uFillTx/>
                <a:latin typeface="Corbel"/>
                <a:ea typeface="Tahoma"/>
                <a:hlinkClick r:id="rId1"/>
              </a:rPr>
              <a:t>http://www.aqlame.com/article697.html</a:t>
            </a:r>
            <a:r>
              <a:rPr b="0" lang="ar-SA" sz="2000" spc="-1" strike="noStrike">
                <a:solidFill>
                  <a:srgbClr val="595959"/>
                </a:solidFill>
                <a:latin typeface="Corbel"/>
                <a:ea typeface="Tahoma"/>
              </a:rPr>
              <a:t> </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عبدالرحمن الذاكر (</a:t>
            </a:r>
            <a:r>
              <a:rPr b="0" lang="ar-SA" sz="2000" spc="-1" strike="noStrike">
                <a:solidFill>
                  <a:srgbClr val="595959"/>
                </a:solidFill>
                <a:latin typeface="Corbel"/>
                <a:ea typeface="Tahoma"/>
              </a:rPr>
              <a:t>2010</a:t>
            </a:r>
            <a:r>
              <a:rPr b="0" lang="ar-SA" sz="2000" spc="-1" strike="noStrike">
                <a:solidFill>
                  <a:srgbClr val="595959"/>
                </a:solidFill>
                <a:latin typeface="Corbel"/>
                <a:ea typeface="Tahoma"/>
              </a:rPr>
              <a:t>) «التعريب في الصومال يحتاج إلى مغامرة حكيمة» التحميل في سبتمبر من </a:t>
            </a:r>
            <a:r>
              <a:rPr b="0" lang="en-US" sz="2000" spc="-1" strike="noStrike" u="sng">
                <a:solidFill>
                  <a:srgbClr val="90bb23"/>
                </a:solidFill>
                <a:uFillTx/>
                <a:latin typeface="Corbel"/>
                <a:ea typeface="Tahoma"/>
                <a:hlinkClick r:id="rId2"/>
              </a:rPr>
              <a:t>http://www.somaliatodaynews.com</a:t>
            </a:r>
            <a:r>
              <a:rPr b="0" lang="en-US" sz="2000" spc="-1" strike="noStrike">
                <a:solidFill>
                  <a:srgbClr val="595959"/>
                </a:solidFill>
                <a:latin typeface="Corbel"/>
              </a:rPr>
              <a:t> </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أهداف التعريب في المشرق العربي</a:t>
            </a:r>
            <a:endParaRPr b="0" lang="en-US" sz="3600" spc="-1" strike="noStrike">
              <a:solidFill>
                <a:srgbClr val="ffffff"/>
              </a:solidFill>
              <a:latin typeface="Corbel"/>
            </a:endParaRPr>
          </a:p>
        </p:txBody>
      </p:sp>
      <p:sp>
        <p:nvSpPr>
          <p:cNvPr id="173" name=""/>
          <p:cNvSpPr txBox="1"/>
          <p:nvPr/>
        </p:nvSpPr>
        <p:spPr>
          <a:xfrm>
            <a:off x="3868560" y="863640"/>
            <a:ext cx="7315200" cy="5121360"/>
          </a:xfrm>
          <a:prstGeom prst="rect">
            <a:avLst/>
          </a:prstGeom>
          <a:noFill/>
          <a:ln w="0">
            <a:noFill/>
          </a:ln>
        </p:spPr>
        <p:txBody>
          <a:bodyPr anchor="ctr">
            <a:normAutofit/>
          </a:bodyPr>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دخال المرونة على اللغة العربية لجعلها لغة التعبير عن الحاجات الجديدة على العربي. أي الخلاص من الازدواجية اللغوية الشديدة التباين بين طرق التعبير القديمة وحاجات التعبير الجديدة</a:t>
            </a:r>
            <a:endParaRPr b="0" lang="en-US" sz="2000" spc="-1" strike="noStrike">
              <a:solidFill>
                <a:srgbClr val="595959"/>
              </a:solidFill>
              <a:latin typeface="Corbel"/>
            </a:endParaRPr>
          </a:p>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استغناء عن العون اللغوي الأجنبي في التعبير الحديث عن العلوم والأدب والفن، أي الخلاص من الثنائية اللغو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قاومة التعريب في المشرق</a:t>
            </a:r>
            <a:endParaRPr b="0" lang="en-US" sz="3600" spc="-1" strike="noStrike">
              <a:solidFill>
                <a:srgbClr val="ffffff"/>
              </a:solidFill>
              <a:latin typeface="Corbel"/>
            </a:endParaRPr>
          </a:p>
        </p:txBody>
      </p:sp>
      <p:sp>
        <p:nvSpPr>
          <p:cNvPr id="175"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لم يواجه التعريب في المشرق مقاومة جدية مثل التي واجهها في المغرب.</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مقاومة التي واجهها التعريب في المشرق كانت في السنوات الأخيرة من العهد العثماني وأثناء سنوات الاستعمار</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كانت المقاومة في الشام أكبر مما كانت في مصر</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لكن جهود التعريب نجحت لارتباط التعريب بالتقدم و بالقومية العرب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صلة بين التعريب والتقدم</a:t>
            </a:r>
            <a:endParaRPr b="0" lang="en-US" sz="3600" spc="-1" strike="noStrike">
              <a:solidFill>
                <a:srgbClr val="ffffff"/>
              </a:solidFill>
              <a:latin typeface="Corbel"/>
            </a:endParaRPr>
          </a:p>
        </p:txBody>
      </p:sp>
      <p:sp>
        <p:nvSpPr>
          <p:cNvPr id="177"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شكلة التعريب كانت مرتبطة بالتخلف العلمي والتكنولوجي في المشرق</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ذ كيف يولد المصطلح العلمي العربي ويشيع دون أن يكون هناك تقدم علمي عربي</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rbel"/>
                <a:cs typeface="Tahoma"/>
              </a:rPr>
              <a:t>مثال: دلالة كلمة العلم في المشرق قديما (اللغة والدين)</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سيرة التعريب في المشرق العربي</a:t>
            </a:r>
            <a:endParaRPr b="0" lang="en-US" sz="3600" spc="-1" strike="noStrike">
              <a:solidFill>
                <a:srgbClr val="ffffff"/>
              </a:solidFill>
              <a:latin typeface="Corbel"/>
            </a:endParaRPr>
          </a:p>
        </p:txBody>
      </p:sp>
      <p:sp>
        <p:nvSpPr>
          <p:cNvPr id="179"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دأ التعريب رسميا في مصر مفروضا من الحكومة في عهدي محمد علي وإسماعيل يقوم به الموظفون</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pic>
        <p:nvPicPr>
          <p:cNvPr id="180" name="صورة 2" descr=""/>
          <p:cNvPicPr/>
          <p:nvPr/>
        </p:nvPicPr>
        <p:blipFill>
          <a:blip r:embed="rId1"/>
          <a:stretch/>
        </p:blipFill>
        <p:spPr>
          <a:xfrm>
            <a:off x="4152960" y="2274840"/>
            <a:ext cx="2400120" cy="37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  </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الشام بدأ التعريب ذا طابع ديني تبشيري تقوم به الإرساليات ثم اضطلعت به الطبقة المتوسطة العليا المنفتحة على الغرب</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ثم اختلطت قوى مصر بقوى الشام مع الإدراك بأن التعريب شرط من شروط النهضة</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أواخر العهد العثماني وفي فترة الاستعمار كان التعريب عملا وطنيا مقاوما للتتريك والفرنسة والنجلزة والتغريب الثقافي</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سيرة التعريب في المشرق العربي</a:t>
            </a:r>
            <a:endParaRPr b="0" lang="en-US" sz="3600" spc="-1" strike="noStrike">
              <a:solidFill>
                <a:srgbClr val="ffffff"/>
              </a:solidFill>
              <a:latin typeface="Corbel"/>
            </a:endParaRPr>
          </a:p>
        </p:txBody>
      </p:sp>
      <p:sp>
        <p:nvSpPr>
          <p:cNvPr id="184"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دأ التعريب علميا لا أدب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نذ إنشاء كلية الطب في الجامعة الأمريكية سنة </a:t>
            </a:r>
            <a:r>
              <a:rPr b="0" lang="ar-SA" sz="2000" spc="-1" strike="noStrike">
                <a:solidFill>
                  <a:srgbClr val="595959"/>
                </a:solidFill>
                <a:latin typeface="Corbel"/>
                <a:ea typeface="Tahoma"/>
              </a:rPr>
              <a:t>1867</a:t>
            </a:r>
            <a:r>
              <a:rPr b="0" lang="ar-SA" sz="2000" spc="-1" strike="noStrike">
                <a:solidFill>
                  <a:srgbClr val="595959"/>
                </a:solidFill>
                <a:latin typeface="Corbel"/>
                <a:ea typeface="Tahoma"/>
              </a:rPr>
              <a:t> درس بها الطب بالعربية لمدة </a:t>
            </a:r>
            <a:r>
              <a:rPr b="0" lang="ar-SA" sz="2000" spc="-1" strike="noStrike">
                <a:solidFill>
                  <a:srgbClr val="595959"/>
                </a:solidFill>
                <a:latin typeface="Corbel"/>
                <a:ea typeface="Tahoma"/>
              </a:rPr>
              <a:t>15</a:t>
            </a:r>
            <a:r>
              <a:rPr b="0" lang="ar-SA" sz="2000" spc="-1" strike="noStrike">
                <a:solidFill>
                  <a:srgbClr val="595959"/>
                </a:solidFill>
                <a:latin typeface="Corbel"/>
                <a:ea typeface="Tahoma"/>
              </a:rPr>
              <a:t> عاما، وكذلك الحال في الصيدلة، </a:t>
            </a:r>
            <a:r>
              <a:rPr b="0" lang="ar-SA" sz="2000" spc="-1" strike="noStrike">
                <a:solidFill>
                  <a:srgbClr val="595959"/>
                </a:solidFill>
                <a:latin typeface="Corbel"/>
                <a:ea typeface="Tahoma"/>
              </a:rPr>
              <a:t>10</a:t>
            </a:r>
            <a:r>
              <a:rPr b="0" lang="ar-SA" sz="2000" spc="-1" strike="noStrike">
                <a:solidFill>
                  <a:srgbClr val="595959"/>
                </a:solidFill>
                <a:latin typeface="Corbel"/>
                <a:ea typeface="Tahoma"/>
              </a:rPr>
              <a:t> أعوام، ومعهد الطب العربي منذ نقله من بيروت إلى دمشق عام </a:t>
            </a:r>
            <a:r>
              <a:rPr b="0" lang="ar-SA" sz="2000" spc="-1" strike="noStrike">
                <a:solidFill>
                  <a:srgbClr val="595959"/>
                </a:solidFill>
                <a:latin typeface="Corbel"/>
                <a:ea typeface="Tahoma"/>
              </a:rPr>
              <a:t>1919</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 الحرب العالمية الأولى، أنشئت للتعريب مؤسسات رسمية حيث أنشئ مجمعا اللغة العربية في دمشق والقاهر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 الحرب العالمية الثانية شارك في التعريب جماعات ومؤسسات أخرى: أساتذة الجامعات، مؤسسات البحث، المعاهد العل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ع التنمية وظهور المشاريع الاقتصادية والثقافية دخلت اللغة العربية عشرات المصطلحات والكلمات الجديدة في لغة الحياة اليومية واللغة المتخصصة. فنشأت لغة جديدة مشتقة من الموروث ولكن متأثرة بعض الشيء باللغات الأجنب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قارنة بين التعريب في المشرق والتعريب في المغرب</a:t>
            </a:r>
            <a:endParaRPr b="0" lang="en-US" sz="3600" spc="-1" strike="noStrike">
              <a:solidFill>
                <a:srgbClr val="ffffff"/>
              </a:solidFill>
              <a:latin typeface="Corbel"/>
            </a:endParaRPr>
          </a:p>
        </p:txBody>
      </p:sp>
      <p:sp>
        <p:nvSpPr>
          <p:cNvPr id="18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1</a:t>
            </a:r>
            <a:r>
              <a:rPr b="0" lang="ar-SA" sz="2800" spc="-1" strike="noStrike">
                <a:solidFill>
                  <a:srgbClr val="595959"/>
                </a:solidFill>
                <a:latin typeface="Corbel"/>
                <a:ea typeface="Tahoma"/>
              </a:rPr>
              <a:t>. في المشرق مشكلة التعريب جزئية (لغوية وعلمية) تنتظر تطور الأوضاع الثقافية والاقتصادية لتحل</a:t>
            </a:r>
            <a:r>
              <a:rPr b="0" lang="en-US" sz="2800" spc="-1" strike="noStrike">
                <a:solidFill>
                  <a:srgbClr val="595959"/>
                </a:solidFill>
                <a:latin typeface="Corbel"/>
                <a:ea typeface="Tahoma"/>
              </a:rPr>
              <a:t> </a:t>
            </a:r>
            <a:r>
              <a:rPr b="0" lang="ar-SA" sz="2800" spc="-1" strike="noStrike">
                <a:solidFill>
                  <a:srgbClr val="595959"/>
                </a:solidFill>
                <a:latin typeface="Corbel"/>
                <a:cs typeface="Tahoma"/>
              </a:rPr>
              <a:t>و تتطور اللغة معها</a:t>
            </a:r>
            <a:endParaRPr b="0" lang="en-US" sz="28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cs typeface="Tahoma"/>
              </a:rPr>
              <a:t>في المغرب مشكلة التعريب مشكلة شاملة تتصل بالقومية والأصالة والشخصية العربية الإسلامية</a:t>
            </a: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مقارنة بين التعريب في المشرق والتعريب في المغرب</a:t>
            </a:r>
            <a:endParaRPr b="0" lang="en-US" sz="3600" spc="-1" strike="noStrike">
              <a:solidFill>
                <a:srgbClr val="ffffff"/>
              </a:solidFill>
              <a:latin typeface="Corbel"/>
            </a:endParaRPr>
          </a:p>
        </p:txBody>
      </p:sp>
      <p:sp>
        <p:nvSpPr>
          <p:cNvPr id="188"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rPr>
              <a:t>2</a:t>
            </a:r>
            <a:r>
              <a:rPr b="0" lang="ar-SA" sz="2800" spc="-1" strike="noStrike">
                <a:solidFill>
                  <a:srgbClr val="595959"/>
                </a:solidFill>
                <a:latin typeface="Corbel"/>
              </a:rPr>
              <a:t>. في المشرق جهود التعريب محاولة للاتصال بالحضارة المعاصرة عن طريق اللغة القومية</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في المغرب جهود التعريب تهدف إلى التحرر الثقافي والتحرر من الانتزاع القومي والاغتراب اللساني</a:t>
            </a: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5T16:08:28Z</dcterms:created>
  <dc:creator>Reem Alsalem</dc:creator>
  <dc:description/>
  <dc:language>en-US</dc:language>
  <cp:lastModifiedBy>Nahla Abdulaziz Alsheikh</cp:lastModifiedBy>
  <dcterms:modified xsi:type="dcterms:W3CDTF">2016-02-11T07:37:49Z</dcterms:modified>
  <cp:revision>30</cp:revision>
  <dc:subject/>
  <dc:title>التعريب (المحاضرة 5) التعريب في المشرق العربي</dc:title>
</cp:coreProperties>
</file>