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63F-A1C8-477A-B20F-2008E48B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D7E-ECE9-4242-9687-86025BC8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344-26CF-4B56-A8C1-AC994D51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D70-2EDE-4FCA-87C4-4BD0D910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539A-F0BD-47D8-AC05-69CEC2B0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47C1-5958-4616-AB31-0A7E9681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42C8-2E1F-4717-BA27-78306B9B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8B0-FD06-4EB5-ADFC-2A422E8A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36CE-CC8F-42B2-BA67-D0DEFD5B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8283-FB32-4BAF-813B-D2D0CE22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0890-E3E6-4F2B-8E75-FC0E8590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473-1381-4B8E-A066-EB5CDD80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FB9C-1DEE-4B11-AD59-73D8E51E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0A99-919E-49CF-830C-765BEF7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867E-CC61-46DA-915C-3D59EAE0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C678-7E4D-4614-A10A-8A69C24A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ECAD-4816-4A81-BFB8-E593005D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5025D-24A6-499C-B37A-720EE679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5BF10-AC1F-4C9F-A5A2-9EAD5F8B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79C2-98D6-4297-A1C2-54E7C42C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65EA-B362-4E4F-A03D-9E6A70A0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4B27-B236-45A1-846C-2CE480AB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662-E080-4381-B3B6-4C7E2627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1003-D6B8-418D-840B-398F33B9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8B54-F6CA-4810-B9A3-85B7C09C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B35E-7B75-4113-AD0E-DF707DC2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8C52-7DAA-4FC6-9DA2-E2F56C54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962B-E16A-4B0E-A83E-A0D713DC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A937-A2CB-4EA4-A1C6-7991D7DB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E375-4058-4B9F-A7DD-23733FEC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C1E9-5ADE-4728-96CB-FA88A23E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0AD3-E449-462B-A3A8-85494A29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89CA-10FD-4D1C-AAA6-C2F0DC12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41B-8FE5-4707-976B-88AFBE1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D8B44-5322-4A3C-A18D-23764FAB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865E-4E40-49F0-9E59-8E4170A3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CBEA-E35A-4F8D-8A4F-DB99E1DC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FEEB-CBC5-44F5-91C1-C1F5B2D2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5D62-2147-4C59-B34B-29D267F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C5D8-13AC-426F-A056-EE6A4D1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8EC1-0F7B-48CC-A88D-7E31AF6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21CA-DE67-4C08-B9D2-A99CD4FD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4AAA-69A3-4A07-89B3-8A81C097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AD2-6FB9-49D0-92AC-47EDA14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36A-AB7B-468F-B163-50419622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CA1-40B3-42ED-9157-834E283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ED2-2FC5-42C1-8D41-76BBA75C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6F0-897F-4243-8B87-0EF05A1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E7503-1970-4D8E-94CE-1E1B122AB3B5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FF4D8-1CF3-449A-BE44-82E24700B09F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32FD7-0A37-49E1-B20F-7BF187CB1AE6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AA66C-8302-41FD-B15D-A3C62BA55C4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5fcbef"/>
                </a:solidFill>
                <a:latin typeface="Arabic Typesetting"/>
                <a:cs typeface="Arabic Typesetting"/>
              </a:rPr>
              <a:t>التعريب (المحاضرة </a:t>
            </a:r>
            <a:r>
              <a:rPr b="0" lang="ar-SA" sz="5400" spc="-1" strike="noStrike">
                <a:solidFill>
                  <a:srgbClr val="5fcbef"/>
                </a:solidFill>
                <a:latin typeface="Arabic Typesetting"/>
                <a:ea typeface="Arabic Typesetting"/>
              </a:rPr>
              <a:t>8</a:t>
            </a:r>
            <a:r>
              <a:rPr b="0" lang="ar-SA" sz="5400" spc="-1" strike="noStrike">
                <a:solidFill>
                  <a:srgbClr val="5fcbef"/>
                </a:solidFill>
                <a:latin typeface="Arabic Typesetting"/>
                <a:ea typeface="Arabic Typesetting"/>
              </a:rPr>
              <a:t>)</a:t>
            </a:r>
            <a:br>
              <a:rPr sz="5400"/>
            </a:br>
            <a:r>
              <a:rPr b="0" lang="ar-SA" sz="5400" spc="-1" strike="noStrike">
                <a:solidFill>
                  <a:srgbClr val="5fcbef"/>
                </a:solidFill>
                <a:latin typeface="Arabic Typesetting"/>
                <a:cs typeface="Arabic Typesetting"/>
              </a:rPr>
              <a:t>مؤسسات التعريب: الجامعات وهيئات التعريب 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abic Typesetting"/>
                <a:cs typeface="Arabic Typesetting"/>
              </a:rPr>
              <a:t>د. ريم سالم السال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abic Typesetting"/>
                <a:cs typeface="Arabic Typesetting"/>
              </a:rPr>
              <a:t>أستاذ مساعد في قسم اللغة الإنجليزية والترجمة، كلية اللغات والترجم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الهيئات المساندة للتعريب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1447560"/>
            <a:ext cx="859644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ليس التعريب من مهامها الأساسية لكن طبيعة عملها اقتضت الإسهام فيه ومعظم إنجازاتها تدور حول إعداد معاجم المصطلحات ومنها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منظمات الجامعة العربية مثل 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لأمانة العامة لجامعة الدول العربية – المنظمة العربية للتربية والثقافة والعلوم – مجلس وزراء الصحة العرب – المنظمة العربية للمواصفات والمقاييس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2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الاتحادات العربية المهنية مثل .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تحاد الأطباء العرب – اتحاد المهندسين العرب – اتحاد الكيميائيين العرب – الاتحاد البريدي العربي – الاتحاد العربي للسكك الحديدي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3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المنظمات والهيئات الدولية مثل 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لمنظمة العالمية للتربية والعلوم والثقافة – المنظمة العالمة للملكية الفكرية – منظمة الصحة العالمية – برنامج الأمم المتحدة للإنما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المراج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د. ممدوح خسارة (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999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) التعريب: مؤسساته ووسائله. بيروت: مؤسسة الرسال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. د. عبدالكريم خليفة (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997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) اللغة العربية والتعريب في العصر الحديث. عمان: دار الفرقان للنش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تعريب الجامعات في الدول العربية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17b0e4"/>
                </a:solidFill>
                <a:latin typeface="Trebuchet MS"/>
                <a:cs typeface="Tahoma"/>
              </a:rPr>
              <a:t>واقع التعريب في الجامعات العربية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تعريب التعليم الجامعي مطبق تماما في سورية، وبنسب متدرجة نزولا في كل من السودان، ثم العراق، ثم السعودية، ثم ليبيا ثم مص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التجربة السورية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1536840"/>
            <a:ext cx="8596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17b0e4"/>
                </a:solidFill>
                <a:latin typeface="Trebuchet MS"/>
                <a:cs typeface="Tahoma"/>
              </a:rPr>
              <a:t>الجامعات السورية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عهد الطب (نواة جامعة دمشق) - والذي تحول إلى كلية لاحقا -  تبنى التعريب منذ قيامه عام 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919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عظم أساتذته كانوا قد تخرجوا من المدارس التركية التي كانت تعتمد في مصطلحاتها على اللغة العرب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لف أساتذة كلية الطب شبه مجمع لغوي يعرض عليه الأساتذة ألفاظ تخصصاته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لف الأساتذة كتبا جليلة في مختلف التخصصات في أواخرها مسارد للمصطلحات بالعربية والفرنس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بحثوا عن مرادفات المصطلحات في كتب الطب القديمة وإن لم يجدوا بغيتهم لجأوا إلى التوليد أو الاقترا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وهكذا توفرت للسوريين متطلبات التعريب: الأستاذ المؤهل، والكتاب العلمي، و المصطلح العربي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تشترط الجامعات السورية عند القبول في الدراسات العليا والتخرج منها النجاح في اختبارات للغة الأجنب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التجربة الأردنية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كان الأردن في العصر العثماني جزءا من ولاية الشام، وكانت التركية لغة الإدارة والدوائر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بعد استقلال سوريا كان الأردن جزءا منها، ودامت هذه الدولة العربية 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0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شهرا استطاعت خلالها تعريب جميع دوائر الدولة ومؤسساتها والتعليم بجميع مراحله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وقع الأردن تحت الانتداب البريطاني ونودي بالأمير عبدالله بن الحسين أميرا عليه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كان الأمير عبدالله شاعرا وأديبا ولغويا، وأقر إنشاء مجمع علمي لكن المجمع لم يستمر لقلة المال والرجال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5fcbef"/>
                </a:solidFill>
                <a:latin typeface="Trebuchet MS"/>
                <a:ea typeface="Tahoma"/>
              </a:rPr>
              <a:t>  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أنشئت الدولة الأردنية  والتعريب فيها سياسة واقعية. العربية لغتها الرسمية ولغة التعليم في الابتدائية والثانوية ولغة الدوائر الحكومي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عندما أنشئت الجامعات استخدمت الإنجليزية في تدريس التخصصات العلمية جميعها رغم أن قانون الجامعات ينص على أن لغة التدريس هي العربي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أنشئ مجمع اللغة العربية الأردني عام 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1976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وبدأ بحملة واسعة لتعريب التعليم الجامعي لقيت ترحيبا من معظم الأساتذة رغم أنهم تعلموا في جامعات أجنبي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3720"/>
          </a:xfrm>
          <a:prstGeom prst="rect">
            <a:avLst/>
          </a:prstGeom>
          <a:noFill/>
          <a:ln w="0">
            <a:noFill/>
          </a:ln>
        </p:spPr>
        <p:txBody>
          <a:bodyPr tIns="18000" bIns="180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5fcbef"/>
                </a:solidFill>
                <a:latin typeface="Trebuchet MS"/>
                <a:ea typeface="Tahoma"/>
              </a:rPr>
              <a:t> 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1307880"/>
            <a:ext cx="85964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17b0e4"/>
                </a:solidFill>
                <a:latin typeface="Trebuchet MS"/>
                <a:cs typeface="Tahoma"/>
              </a:rPr>
              <a:t>المرحلة الأولى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 u="sng">
                <a:solidFill>
                  <a:srgbClr val="404040"/>
                </a:solidFill>
                <a:uFillTx/>
                <a:latin typeface="Trebuchet MS"/>
                <a:cs typeface="Tahoma"/>
              </a:rPr>
              <a:t>ترجمة الكتب العلمية للسنة الأولى في التخصصات العلمي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اختيرت الكتب واللجان وبدأت الترجمة مع الاطلاع على نتاج جهود المجامع اللغوية ومؤتمرات التعريب – ويراجع كل كتاب مترجم علميا ولغويا ويشرف المترجمون على الطباعة – وأجريت دراسة ميدانية لتقييم هذه المرحل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من نتائج الدراسة أن نسبة الرسوب في مادة الأحياء هبطت من 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35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% إلى 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3</a:t>
            </a:r>
            <a:r>
              <a:rPr b="0" lang="ar-SA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% عندما درس الطلاب باللغة العربية كما أنهم درسوا منهجا أوسع وأعمق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  <a:cs typeface="Tahoma"/>
              </a:rPr>
              <a:t>وقد عادت الكليات بعد التجربة إلى التدريس بالإنجليزية في العام التالي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5fcbef"/>
                </a:solidFill>
                <a:latin typeface="Trebuchet MS"/>
                <a:ea typeface="Tahoma"/>
              </a:rPr>
              <a:t> 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1434600"/>
            <a:ext cx="85964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17b0e4"/>
                </a:solidFill>
                <a:latin typeface="Trebuchet MS"/>
                <a:cs typeface="Tahoma"/>
              </a:rPr>
              <a:t>المرحلة الثانية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 u="sng">
                <a:solidFill>
                  <a:srgbClr val="404040"/>
                </a:solidFill>
                <a:uFillTx/>
                <a:latin typeface="Trebuchet MS"/>
                <a:cs typeface="Tahoma"/>
              </a:rPr>
              <a:t>ترجمة جميع الكتب العلمية في مستوى السنة الثان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والمجمع يهدي نسخا من الكتب التي يترجمها إلى كل الجامعات العربية، ويبيعها بسعر التكلفة. ولكن أعيد تصوير جميع تلك الكتب في بيروت وأغرقت بها السو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فلم يستطع المجمع الاستمرار بالدفع للمترجمين لضعف إمكاناته وأقام دعوى قضائية ضد مجهول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17b0e4"/>
                </a:solidFill>
                <a:latin typeface="Trebuchet MS"/>
                <a:cs typeface="Tahoma"/>
              </a:rPr>
              <a:t>من إنجازات مجمع اللغة العربية الأردني أيضا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وحيد المصطلحات بين التخصصات العلمية المختلفة، مثلا بين الفيزياء والرياضيات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عريب الرموز العلمية في التخصصات العلمية لأن الحروف الأجنبية فقدت إيحاءاتها بالنسبة للمتعلم العربي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5fcbef"/>
                </a:solidFill>
                <a:latin typeface="Trebuchet MS"/>
                <a:cs typeface="Tahoma"/>
              </a:rPr>
              <a:t>هيئات التعريب المتخصصة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77520" y="1638360"/>
            <a:ext cx="85964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مكتب تنسيق التعريب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هدافه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وحيد المصطلح عن طريق التنسيق بين جهود المجامع العربية والجامعات والمختصون في الدول العرب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إعداد مؤتمرات التعري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نشر المعاج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استكمال النقص في المصطلحات العربي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2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معهد الدراسات والأبحاث للتعري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هدافه: 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دراسة مشكلات تعريب التعلي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طبيق التكنولوجيا لمعالجة مشكلات اللغة العربية (التعريب المواكب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5fcbef"/>
                </a:solidFill>
                <a:latin typeface="Trebuchet MS"/>
                <a:ea typeface="Tahoma"/>
              </a:rPr>
              <a:t> 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1028520"/>
            <a:ext cx="8596440" cy="50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3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الهيئة العليا للتعريب في السودان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أهم إنجازاتها إصدار عدد من المعاجم المتخصصة الموحدة مثل 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عجم الفيزياء الموحد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لمعجم الهندسي الموحد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عجم الكيمياء الموحد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.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4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 فريق التعريب بالأمانة العامة لمجلس التعاون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كانت الانطلاقة الرسمية للتعريب عام 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1985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 عندما نص البيان السياسي للمجلس الأعلى لمجلس التعاون لدول الخليج العربية على «الالتزام بتعريب التعليم العالي والجامعي بكل فروعه وتخصصاته كلما كان ذلك ممكنا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من اهتماماته:  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حصر الكفاءات المهتمة بالتعري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ترجمة وتأليف الكتاب الجامعي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	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- متابعة جهود الجامعات في مجال التعري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06:56:43Z</dcterms:created>
  <dc:creator>Reem Alsalem</dc:creator>
  <dc:description/>
  <dc:language>en-US</dc:language>
  <cp:lastModifiedBy>Nahla Abdulaziz Alsheikh</cp:lastModifiedBy>
  <dcterms:modified xsi:type="dcterms:W3CDTF">2016-02-08T04:45:44Z</dcterms:modified>
  <cp:revision>14</cp:revision>
  <dc:subject/>
  <dc:title>التعريب (المحاضرة 8) مؤسسات التعريب: الجامعات</dc:title>
</cp:coreProperties>
</file>