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CEC-FC81-4803-9D94-B9DE466D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F89-5A10-4AD2-A70D-0F4E1FDC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A33-4FEC-449D-89FC-CB1E9CFA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A91-A1BB-4A2D-970C-DD0D47D7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D9BF-2F1C-48F0-AFB5-092A86FC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473C-67C0-4717-B352-57A73684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EBE3-EA69-48C1-9E74-6E32018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874A-AFC1-4596-AAD4-68C71BC7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4365-C13F-4FAF-9ABC-B7CE212F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4C18-A6EF-4B28-A01E-23458265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1E8D-1BF5-4CCF-88B1-D03D77BA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DDC-6D51-47D2-B2CC-8E15C647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B92B-86C6-4933-9C99-21F53957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326C-5986-4887-AA68-11C34607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B6AB-24D2-44E9-A033-CB542384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1D4B-D902-46A1-BCA7-357940DA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4DA5-957C-4463-B88B-7594D286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C438-2937-4298-BA77-DF5768F7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703D-4067-4D6F-9BAB-164D0A41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82213-95D3-4850-AF79-FD307B14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C0B43-C9C4-4812-BC62-7A9FFEF3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F166-872B-4075-A6DC-E6061166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EAD-C550-4F9B-BF7E-12F7B799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5C42-4937-48BA-A403-8A197063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F14D-4B5E-4F1F-B92D-3F56186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9B0F-7129-41F4-BBBD-BD70FBC0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E7EB-8698-43EE-B7F0-CE203259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6408-F7F3-48EE-8313-283D69A9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321B-0000-4641-BF6E-348A62A7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8D5A5-DB3D-402A-85C4-3634AE46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8D1D4-F4B0-48F6-9F27-92633964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224BC-86CE-4427-BBC3-D2D9BE25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76D70-0922-482E-8E4D-FD082001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3B4-F43F-414B-A462-5FBCAC9F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F9E7-0EE4-4785-879C-3DE6B8C9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9934-04F9-465B-8259-51D35A8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EABB-F9A2-4100-B141-29F7D7EF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1B71C-6B1C-4840-8C70-90919C38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E34B4-5114-46A4-928D-6816D8AD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884A-C9B2-4B86-8BF9-AAE270B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B9BE-CC1A-442C-B833-769B792A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926EE-FC78-486B-AC7F-73A43201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5E2D-FB39-4BEE-A315-E55DA898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94D-73BD-465F-9174-55A13B9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582-A408-45D8-A8C6-328B06B8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5BD-B66A-4100-9E58-10C7334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78D-FD76-4EE9-AB72-33F8169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4B3-9E06-4434-B54C-EDAACE70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E91A6-3807-4117-B102-881DDFB38BCA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C749C-D1AA-40A2-9A12-2B3E431251E3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90ACE-C9E3-4935-9621-EDC1EAF7707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B240E-CB6B-4F1F-9AD9-16093217AAF2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5fcbef"/>
                </a:solidFill>
                <a:latin typeface="Arabic Typesetting"/>
                <a:cs typeface="Arabic Typesetting"/>
              </a:rPr>
              <a:t>التعريب (المحاضرة </a:t>
            </a:r>
            <a:r>
              <a:rPr b="0" lang="ar-SA" sz="5400" spc="-1" strike="noStrike">
                <a:solidFill>
                  <a:srgbClr val="5fcbef"/>
                </a:solidFill>
                <a:latin typeface="Arabic Typesetting"/>
                <a:ea typeface="Arabic Typesetting"/>
              </a:rPr>
              <a:t>8</a:t>
            </a:r>
            <a:r>
              <a:rPr b="0" lang="ar-SA" sz="5400" spc="-1" strike="noStrike">
                <a:solidFill>
                  <a:srgbClr val="5fcbef"/>
                </a:solidFill>
                <a:latin typeface="Arabic Typesetting"/>
                <a:ea typeface="Arabic Typesetting"/>
              </a:rPr>
              <a:t>)</a:t>
            </a:r>
            <a:br>
              <a:rPr sz="5400"/>
            </a:br>
            <a:r>
              <a:rPr b="0" lang="ar-SA" sz="5400" spc="-1" strike="noStrike">
                <a:solidFill>
                  <a:srgbClr val="5fcbef"/>
                </a:solidFill>
                <a:latin typeface="Arabic Typesetting"/>
                <a:cs typeface="Arabic Typesetting"/>
              </a:rPr>
              <a:t>مؤسسات التعريب: الجامعات وهيئات التعريب 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abic Typesetting"/>
                <a:cs typeface="Arabic Typesetting"/>
              </a:rPr>
              <a:t>د. ريم سالم السال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abic Typesetting"/>
                <a:cs typeface="Arabic Typesetting"/>
              </a:rPr>
              <a:t>أستاذ مساعد في قسم اللغة الإنجليزية والترجمة، كلية اللغات والترجم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الهيئات المساندة للتعريب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1447560"/>
            <a:ext cx="859644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ليس التعريب من مهامها الأساسية لكن طبيعة عملها اقتضت الإسهام فيه ومعظم إنجازاتها تدور حول إعداد معاجم المصطلحات ومنها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منظمات الجامعة العربية مثل 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لأمانة العامة لجامعة الدول العربية – المنظمة العربية للتربية والثقافة والعلوم – مجلس وزراء الصحة العرب – المنظمة العربية للمواصفات والمقاييس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2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الاتحادات العربية المهنية مثل .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تحاد الأطباء العرب – اتحاد المهندسين العرب – اتحاد الكيميائيين العرب – الاتحاد البريدي العربي – الاتحاد العربي للسكك الحديدي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3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المنظمات والهيئات الدولية مثل 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لمنظمة العالمية للتربية والعلوم والثقافة – المنظمة العالمة للملكية الفكرية – منظمة الصحة العالمية – برنامج الأمم المتحدة للإنما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المراج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د. ممدوح خسارة (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999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) التعريب: مؤسساته ووسائله. بيروت: مؤسسة الرسال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. د. عبدالكريم خليفة (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997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) اللغة العربية والتعريب في العصر الحديث. عمان: دار الفرقان للنش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تعريب الجامعات في الدول العربية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17b0e4"/>
                </a:solidFill>
                <a:latin typeface="Trebuchet MS"/>
                <a:cs typeface="Tahoma"/>
              </a:rPr>
              <a:t>واقع التعريب في الجامعات العربية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تعريب التعليم الجامعي مطبق تماما في سورية، وبنسب متدرجة نزولا في كل من السودان، ثم العراق، ثم السعودية، ثم ليبيا ثم مص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التجربة السورية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1536840"/>
            <a:ext cx="8596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17b0e4"/>
                </a:solidFill>
                <a:latin typeface="Trebuchet MS"/>
                <a:cs typeface="Tahoma"/>
              </a:rPr>
              <a:t>الجامعات السورية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عهد الطب (نواة جامعة دمشق) - والذي تحول إلى كلية لاحقا -  تبنى التعريب منذ قيامه عام 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919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عظم أساتذته كانوا قد تخرجوا من المدارس التركية التي كانت تعتمد في مصطلحاتها على اللغة العرب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لف أساتذة كلية الطب شبه مجمع لغوي يعرض عليه الأساتذة ألفاظ تخصصاته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لف الأساتذة كتبا جليلة في مختلف التخصصات في أواخرها مسارد للمصطلحات بالعربية والفرنس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بحثوا عن مرادفات المصطلحات في كتب الطب القديمة وإن لم يجدوا بغيتهم لجأوا إلى التوليد أو الاقترا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وهكذا توفرت للسوريين متطلبات التعريب: الأستاذ المؤهل، والكتاب العلمي، و المصطلح العربي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تشترط الجامعات السورية عند القبول في الدراسات العليا والتخرج منها النجاح في اختبارات للغة الأجنب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التجربة الأردنية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كان الأردن في العصر العثماني جزءا من ولاية الشام، وكانت التركية لغة الإدارة والدوائر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بعد استقلال سوريا كان الأردن جزءا منها، ودامت هذه الدولة العربية 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0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شهرا استطاعت خلالها تعريب جميع دوائر الدولة ومؤسساتها والتعليم بجميع مراحله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وقع الأردن تحت الانتداب البريطاني ونودي بالأمير عبدالله بن الحسين أميرا عليه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كان الأمير عبدالله شاعرا وأديبا ولغويا، وأقر إنشاء مجمع علمي لكن المجمع لم يستمر لقلة المال والرجال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5fcbef"/>
                </a:solidFill>
                <a:latin typeface="Trebuchet MS"/>
                <a:ea typeface="Tahoma"/>
              </a:rPr>
              <a:t>  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أنشئت الدولة الأردنية  والتعريب فيها سياسة واقعية. العربية لغتها الرسمية ولغة التعليم في الابتدائية والثانوية ولغة الدوائر الحكومي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عندما أنشئت الجامعات استخدمت الإنجليزية في تدريس التخصصات العلمية جميعها رغم أن قانون الجامعات ينص على أن لغة التدريس هي العربي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أنشئ مجمع اللغة العربية الأردني عام 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1976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وبدأ بحملة واسعة لتعريب التعليم الجامعي لقيت ترحيبا من معظم الأساتذة رغم أنهم تعلموا في جامعات أجنبي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3720"/>
          </a:xfrm>
          <a:prstGeom prst="rect">
            <a:avLst/>
          </a:prstGeom>
          <a:noFill/>
          <a:ln w="0">
            <a:noFill/>
          </a:ln>
        </p:spPr>
        <p:txBody>
          <a:bodyPr tIns="18000" bIns="180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5fcbef"/>
                </a:solidFill>
                <a:latin typeface="Trebuchet MS"/>
                <a:ea typeface="Tahoma"/>
              </a:rPr>
              <a:t> 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1307880"/>
            <a:ext cx="85964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17b0e4"/>
                </a:solidFill>
                <a:latin typeface="Trebuchet MS"/>
                <a:cs typeface="Tahoma"/>
              </a:rPr>
              <a:t>المرحلة الأولى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 u="sng">
                <a:solidFill>
                  <a:srgbClr val="404040"/>
                </a:solidFill>
                <a:uFillTx/>
                <a:latin typeface="Trebuchet MS"/>
                <a:cs typeface="Tahoma"/>
              </a:rPr>
              <a:t>ترجمة الكتب العلمية للسنة الأولى في التخصصات العلمي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اختيرت الكتب واللجان وبدأت الترجمة مع الاطلاع على نتاج جهود المجامع اللغوية ومؤتمرات التعريب – ويراجع كل كتاب مترجم علميا ولغويا ويشرف المترجمون على الطباعة – وأجريت دراسة ميدانية لتقييم هذه المرحل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من نتائج الدراسة أن نسبة الرسوب في مادة الأحياء هبطت من 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35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% إلى 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3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% عندما درس الطلاب باللغة العربية كما أنهم درسوا منهجا أوسع وأعمق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وقد عادت الكليات بعد التجربة إلى التدريس بالإنجليزية في العام التالي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5fcbef"/>
                </a:solidFill>
                <a:latin typeface="Trebuchet MS"/>
                <a:ea typeface="Tahoma"/>
              </a:rPr>
              <a:t> 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1434600"/>
            <a:ext cx="85964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17b0e4"/>
                </a:solidFill>
                <a:latin typeface="Trebuchet MS"/>
                <a:cs typeface="Tahoma"/>
              </a:rPr>
              <a:t>المرحلة الثانية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 u="sng">
                <a:solidFill>
                  <a:srgbClr val="404040"/>
                </a:solidFill>
                <a:uFillTx/>
                <a:latin typeface="Trebuchet MS"/>
                <a:cs typeface="Tahoma"/>
              </a:rPr>
              <a:t>ترجمة جميع الكتب العلمية في مستوى السنة الثان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والمجمع يهدي نسخا من الكتب التي يترجمها إلى كل الجامعات العربية، ويبيعها بسعر التكلفة. ولكن أعيد تصوير جميع تلك الكتب في بيروت وأغرقت بها السو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فلم يستطع المجمع الاستمرار بالدفع للمترجمين لضعف إمكاناته وأقام دعوى قضائية ضد مجهول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17b0e4"/>
                </a:solidFill>
                <a:latin typeface="Trebuchet MS"/>
                <a:cs typeface="Tahoma"/>
              </a:rPr>
              <a:t>من إنجازات مجمع اللغة العربية الأردني أيضا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وحيد المصطلحات بين التخصصات العلمية المختلفة، مثلا بين الفيزياء والرياضيات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عريب الرموز العلمية في التخصصات العلمية لأن الحروف الأجنبية فقدت إيحاءاتها بالنسبة للمتعلم العربي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هيئات التعريب المتخصصة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77520" y="1638360"/>
            <a:ext cx="85964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مكتب تنسيق التعريب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هدافه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وحيد المصطلح عن طريق التنسيق بين جهود المجامع العربية والجامعات والمختصون في الدول العرب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إعداد مؤتمرات التعري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نشر المعاج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استكمال النقص في المصطلحات العرب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2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معهد الدراسات والأبحاث للتعري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هدافه: 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دراسة مشكلات تعريب التعلي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طبيق التكنولوجيا لمعالجة مشكلات اللغة العربية (التعريب المواكب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5fcbef"/>
                </a:solidFill>
                <a:latin typeface="Trebuchet MS"/>
                <a:ea typeface="Tahoma"/>
              </a:rPr>
              <a:t> 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1028520"/>
            <a:ext cx="8596440" cy="50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3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الهيئة العليا للتعريب في السودان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هم إنجازاتها إصدار عدد من المعاجم المتخصصة الموحدة مثل 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عجم الفيزياء الموحد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لمعجم الهندسي الموحد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عجم الكيمياء الموحد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.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4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فريق التعريب بالأمانة العامة لمجلس التعاون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كانت الانطلاقة الرسمية للتعريب عام 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985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 عندما نص البيان السياسي للمجلس الأعلى لمجلس التعاون لدول الخليج العربية على «الالتزام بتعريب التعليم العالي والجامعي بكل فروعه وتخصصاته كلما كان ذلك ممكنا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ن اهتماماته:  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حصر الكفاءات المهتمة بالتعري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رجمة وتأليف الكتاب الجامعي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متابعة جهود الجامعات في مجال التعري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06:56:43Z</dcterms:created>
  <dc:creator>Reem Alsalem</dc:creator>
  <dc:description/>
  <dc:language>en-US</dc:language>
  <cp:lastModifiedBy>Nahla Abdulaziz Alsheikh</cp:lastModifiedBy>
  <dcterms:modified xsi:type="dcterms:W3CDTF">2016-02-08T04:45:44Z</dcterms:modified>
  <cp:revision>14</cp:revision>
  <dc:subject/>
  <dc:title>التعريب (المحاضرة 8) مؤسسات التعريب: الجامعات</dc:title>
</cp:coreProperties>
</file>