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31C3-83BF-4FC6-B391-A3E6D1EAEEC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29D0-2331-4C50-8A41-801483BD44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7ADC-46E1-42D4-9B9A-117C0B5CEC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41EF-8F32-4996-AAEF-FA73A42FE8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0237-AB36-41B2-A876-BCFF845472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5967-5F31-4776-A5BF-BE79CD7781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CF30-60A8-443A-B497-DD5F656AF7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15D5-BF33-4E80-862A-F7B2732942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E84E-E3A2-407B-A71D-333CD15432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95EA-CA99-4576-A5DC-DF6211ACA1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C842-0FFB-4143-88AC-5256481B028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9ED4-CC7B-4087-86FC-E024AA927B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0982-7953-46CC-B312-AA562D61DF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6C78-50CC-4497-805B-C3A82EE90AF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C590-062F-4714-9F60-591119AE7B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1636-B3FC-4A3B-8C47-090B02579C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9B1E-A522-4B6C-8A43-7F575D49F4E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679F-BAE0-4F2C-BD3A-7AF268E9DB2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DDFA-6EE1-42CC-8D84-72E66BD55A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6D7340-1F9C-49B4-9F71-C9A78075A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2764F6-1E3B-42BC-8CC8-E91F364B0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4EFAA9-225D-4536-BD8B-B119FA4D0D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15E46A-FC4B-43C2-A3C8-53065451DC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68EFB-CD01-4C64-AB73-D57C8446D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9AE99-8E3C-4149-8F4F-480530AD2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D3C7E-8146-4687-8C6C-03F730072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A7A38-1B27-4EBC-B3C1-AF23A0B8F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053FF-E46E-4E34-8C25-793349D84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2559C-F402-4AF2-BEEC-B76434980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DB613-1BBA-4000-9A0D-9214D6CEB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616435-A70D-485A-93E8-0287663FB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4B47B-A094-41B8-AF94-AB95198F1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25C0F-43CE-4189-88A3-DB92229EF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70BF4-CBC8-4F84-BED0-9D3067781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DE6F2-F438-4E91-909F-F22F7E7B7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8D1EE-BCA0-43BA-907A-81E0B8BD9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8DB283-6524-4F11-AE7D-097B22F0E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B0CCC4-B86D-48F5-9037-3D200F5340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ACD9F4-E555-436F-8626-BE8D64540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E63EDA-6F65-4699-B281-6D8419C47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CC2E40-F0D8-4D10-9718-74E816E54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467E1B-E167-4320-AA76-CD03712AB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E41FFD-AB0D-43F6-B0A7-91934DD6D0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BDA0-64CF-48F9-B9FC-DA59F5C9A1D6}"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0DEE-7074-4E3D-A8A1-BF9A6E28838A}"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rPr>
              <a:t>الطاوية</a:t>
            </a:r>
            <a:endParaRPr b="0" lang="en-US" sz="6000" spc="-1" strike="noStrike">
              <a:solidFill>
                <a:srgbClr val="000000"/>
              </a:solidFill>
              <a:latin typeface="Arial"/>
            </a:endParaRPr>
          </a:p>
        </p:txBody>
      </p:sp>
      <p:sp>
        <p:nvSpPr>
          <p:cNvPr id="114" name="PlaceHolder 2"/>
          <p:cNvSpPr>
            <a:spLocks noGrp="1"/>
          </p:cNvSpPr>
          <p:nvPr>
            <p:ph type="subTitle"/>
          </p:nvPr>
        </p:nvSpPr>
        <p:spPr>
          <a:xfrm>
            <a:off x="685440" y="3809880"/>
            <a:ext cx="8458200" cy="27432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أ. د. سليمان بن قاسم العي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جامعة الملك سعو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 العناصر الخمسة</a:t>
            </a:r>
            <a:r>
              <a:rPr b="1" lang="ar-SA" sz="4000" spc="-1" strike="noStrike">
                <a:solidFill>
                  <a:srgbClr val="ff0000"/>
                </a:solidFill>
                <a:latin typeface="Arial"/>
              </a:rPr>
              <a:t>	</a:t>
            </a:r>
            <a:r>
              <a:rPr b="1" lang="ar-SA" sz="4000" spc="-1" strike="noStrike">
                <a:solidFill>
                  <a:srgbClr val="00007d"/>
                </a:solidFill>
                <a:latin typeface="Arial"/>
              </a:rPr>
              <a:t> </a:t>
            </a:r>
            <a:br>
              <a:rPr sz="4000"/>
            </a:br>
            <a:r>
              <a:rPr b="1" lang="ar-SA" sz="4000" spc="-1" strike="noStrike">
                <a:solidFill>
                  <a:srgbClr val="00007d"/>
                </a:solidFill>
                <a:latin typeface="Arial"/>
              </a:rPr>
              <a:t>    يرتبط كل ما يحدث في الكون بالعناصر الخمسة   (الخشب والنار والأرض والمعدن والماء) وبالتوازن بين (الينغ واليانغ) وذلك لغرض الاتحاد مع الطاو والتناغم معه، ولا يتحقق ذلك إلا بالإحجام عن كل ما هو جسدي لا لزوم له.</a:t>
            </a:r>
            <a:r>
              <a:rPr b="1" lang="ar-SA" sz="4000" spc="-1" strike="noStrike">
                <a:solidFill>
                  <a:srgbClr val="00007d"/>
                </a:solidFill>
                <a:latin typeface="Arial"/>
              </a:rPr>
              <a:t>	</a:t>
            </a:r>
            <a:r>
              <a:rPr b="1" lang="ar-SA" sz="4000" spc="-1" strike="noStrike">
                <a:solidFill>
                  <a:srgbClr val="00007d"/>
                </a:solidFill>
                <a:latin typeface="Arial"/>
              </a:rPr>
              <a:t>	</a:t>
            </a:r>
            <a:br>
              <a:rPr sz="4000"/>
            </a:br>
            <a:r>
              <a:rPr b="1" lang="ar-SA" sz="4000" spc="-1" strike="noStrike">
                <a:solidFill>
                  <a:srgbClr val="00007d"/>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4"/>
                                        </p:tgtEl>
                                        <p:attrNameLst>
                                          <p:attrName>style.visibility</p:attrName>
                                        </p:attrNameLst>
                                      </p:cBhvr>
                                      <p:to>
                                        <p:strVal val="visible"/>
                                      </p:to>
                                    </p:set>
                                    <p:animEffect filter="box(in)" transition="in">
                                      <p:cBhvr additive="repl">
                                        <p:cTn id="6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ن رموز الطاوية (الينغ يانغ)</a:t>
            </a:r>
            <a:r>
              <a:rPr b="1" lang="ar-SA" sz="3200" spc="-1" strike="noStrike">
                <a:solidFill>
                  <a:srgbClr val="00007d"/>
                </a:solidFill>
                <a:latin typeface="Arial"/>
              </a:rPr>
              <a:t>	</a:t>
            </a:r>
            <a:br>
              <a:rPr sz="3200"/>
            </a:br>
            <a:r>
              <a:rPr b="1" lang="ar-SA" sz="3200" spc="-1" strike="noStrike">
                <a:solidFill>
                  <a:srgbClr val="00007d"/>
                </a:solidFill>
                <a:latin typeface="Arial"/>
              </a:rPr>
              <a:t>    ينتشر هذا الرمز إنتشارا واسعا في الثقافات الصينية واليابانية والكورية. ويرمز الى الذكر والأنثى في الغالب، والى الخير والشر وكل التضاددات الاخرى مثل الحار والبارد، العالي والمنخفض، الطويل والقصير، الضعيف والسمين، الجميل والقبيح، الموجب والسالب.</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ومن الجدير بالاشارة، أن الرمز على شكل دائرة تحتوي على مساحتين واحدة مظلمة والاخرى مضيئة، وهما في وضع دوراني يدل على التناوب الابدي بينهما، وهو التناوب الذي أظهر الموجودات وأعطاها حالة الحركة والشكل والوجود وأخرجها من حالة السكون واللاتمايز والعدم(اللاوج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25"/>
                                        </p:tgtEl>
                                        <p:attrNameLst>
                                          <p:attrName>style.visibility</p:attrName>
                                        </p:attrNameLst>
                                      </p:cBhvr>
                                      <p:to>
                                        <p:strVal val="visible"/>
                                      </p:to>
                                    </p:set>
                                    <p:animEffect filter="box(in)"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723920" y="380520"/>
            <a:ext cx="3962520" cy="57913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Arial"/>
              </a:rPr>
              <a:t>علامة يين ويانغ ترمز لكيفية عمل الأشياء في العلم الصيني القديم. الدائرة الخارجية تمثل "كل شئ"، بينما الشكلان الأبيض والأسود داخل الدائرة يمثلان التداخل بين طاقتان متضادتان، طاقة اليين "الأسود" وطاقة اليانغ "الأبيض" الطاقتان المؤديتان لحدوث أي شيء في الحياة. وهما ليسا أبيض وأسود تماماً مثلهم مثل أي شيء آخر في الحياة لا يكون أبيض تماماً أو أسود تماماً، ويحتاج كل منهما للآخر.</a:t>
            </a:r>
            <a:endParaRPr b="0" lang="en-US" sz="2800" spc="-1" strike="noStrike">
              <a:solidFill>
                <a:srgbClr val="000000"/>
              </a:solidFill>
              <a:latin typeface="Arial"/>
            </a:endParaRPr>
          </a:p>
        </p:txBody>
      </p:sp>
      <p:pic>
        <p:nvPicPr>
          <p:cNvPr id="127" name="صورة 2" descr="رمز إلينغ يانغ بالطاوية.png"/>
          <p:cNvPicPr/>
          <p:nvPr/>
        </p:nvPicPr>
        <p:blipFill>
          <a:blip r:embed="rId1"/>
          <a:stretch/>
        </p:blipFill>
        <p:spPr>
          <a:xfrm>
            <a:off x="838080" y="1676520"/>
            <a:ext cx="3429000" cy="33526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26"/>
                                        </p:tgtEl>
                                        <p:attrNameLst>
                                          <p:attrName>style.visibility</p:attrName>
                                        </p:attrNameLst>
                                      </p:cBhvr>
                                      <p:to>
                                        <p:strVal val="visible"/>
                                      </p:to>
                                    </p:set>
                                    <p:animEffect filter="box(in)" transition="in">
                                      <p:cBhvr additive="repl">
                                        <p:cTn id="7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بعض تعاليم الطاوية</a:t>
            </a:r>
            <a:r>
              <a:rPr b="1" lang="ar-SA" sz="3600" spc="-1" strike="noStrike">
                <a:solidFill>
                  <a:srgbClr val="00007d"/>
                </a:solidFill>
                <a:latin typeface="Arial"/>
              </a:rPr>
              <a:t>	</a:t>
            </a:r>
            <a:br>
              <a:rPr sz="3600"/>
            </a:br>
            <a:r>
              <a:rPr b="1" lang="ar-SA" sz="3200" spc="-1" strike="noStrike">
                <a:solidFill>
                  <a:srgbClr val="00007d"/>
                </a:solidFill>
                <a:latin typeface="Arial"/>
              </a:rPr>
              <a:t>• تعلم الطاوية منذ بداية نشوءها بوجود الأرواح الشريرة التي تعلم السحر للناس والتي يُمكن تجنبها بزرع الأشجار حول البيوت وبوضع المناظر الطبيعية للأشجار حتى تصطدم بها أثناء دخولها البيوت.</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600" spc="-1" strike="noStrike">
                <a:solidFill>
                  <a:srgbClr val="00007d"/>
                </a:solidFill>
                <a:latin typeface="Arial"/>
              </a:rPr>
              <a:t>• تعلم الطاوية بأن الاله يُمكنه أن يُعلن نفسه في القوة الخيرة والقوة الشريرة، القوة الايجابية والقوة السلبية، قوة النور وقوة الظلام. ويدل هذا المبدأ على ان الاصل للخير والشر هو أصل واحد.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8"/>
                                        </p:tgtEl>
                                        <p:attrNameLst>
                                          <p:attrName>style.visibility</p:attrName>
                                        </p:attrNameLst>
                                      </p:cBhvr>
                                      <p:to>
                                        <p:strVal val="visible"/>
                                      </p:to>
                                    </p:set>
                                    <p:animEffect filter="box(in)" transition="in">
                                      <p:cBhvr additive="repl">
                                        <p:cTn id="8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تعلم الطاوية بأن الحكمة تأتي للإنسان إذا اتحد مع الطاو، والحكمة هي مجوّفة وفارغة مثل الوادي، والعقل الذي يقبلها هو مثل المرآة التي تعكس الأشياء فهو يعكس الكون.</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على الطاوي إصلاح نفسه وجعل حياته أداة للنظام والدولة وخدمة للآخرين. فعليه إذا أن لا يُكافح أو يُحارب لإصلاح الدولة المختلة النظام، بل أن يحاول كسب ما يُريده بالصبر والسكون وذلك على غرار الطبيعة التي تعمل وهي صامتة وتؤدي واجبها دون أن تكون لها مطال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29"/>
                                        </p:tgtEl>
                                        <p:attrNameLst>
                                          <p:attrName>style.visibility</p:attrName>
                                        </p:attrNameLst>
                                      </p:cBhvr>
                                      <p:to>
                                        <p:strVal val="visible"/>
                                      </p:to>
                                    </p:set>
                                    <p:animEffect filter="box(in)" transition="in">
                                      <p:cBhvr additive="repl">
                                        <p:cTn id="9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تدعو الطاوية الى إقامة حياة فاضلة والى مقابلة الإساءة بالاحسان ومعاملة الناس برفق وإحسان. </a:t>
            </a:r>
            <a:br>
              <a:rPr sz="4000"/>
            </a:br>
            <a:r>
              <a:rPr b="1" lang="ar-SA" sz="4000" spc="-1" strike="noStrike">
                <a:solidFill>
                  <a:srgbClr val="00007d"/>
                </a:solidFill>
                <a:latin typeface="Arial"/>
              </a:rPr>
              <a:t>• على الطاوي أن يكون متواضعا وأن يسير في المؤخرة بدلا من المقدمة.</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br>
              <a:rPr sz="4000"/>
            </a:br>
            <a:r>
              <a:rPr b="1" lang="ar-SA" sz="4000" spc="-1" strike="noStrike">
                <a:solidFill>
                  <a:srgbClr val="00007d"/>
                </a:solidFill>
                <a:latin typeface="Arial"/>
              </a:rPr>
              <a:t>• تدعو الطاوية الى السلام بين الناس وتتهجم على الحروب وتنتقد الروح العسكرية وتنصح الحكام والملوك بعدم اللجوء الى إستخدام العنف</a:t>
            </a:r>
            <a:r>
              <a:rPr b="1" lang="ar-SA" sz="3200" spc="-1" strike="noStrike">
                <a:solidFill>
                  <a:srgbClr val="00007d"/>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30"/>
                                        </p:tgtEl>
                                        <p:attrNameLst>
                                          <p:attrName>style.visibility</p:attrName>
                                        </p:attrNameLst>
                                      </p:cBhvr>
                                      <p:to>
                                        <p:strVal val="visible"/>
                                      </p:to>
                                    </p:set>
                                    <p:animEffect filter="box(in)" transition="in">
                                      <p:cBhvr additive="repl">
                                        <p:cTn id="9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قالوا: لقد عرف الحكماء بوذا وأدركوا أسرار لاهوته. ولم يمض يوم واحد على ولادته حتى حيَّاهُ الناس، وقد قال بوذا لأمه وهو طفل إنه أعظم الناس جميعاً.</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قالوا: دخل بوذا مرة أحد الهياكل فسجدت له الأصنام. وقد حاول الشيطان إغواءه فلم يفلح.</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ويعتقد البوذيون أن هيئة بوذا قد تغيَّرت في أخر أيامه، وقد نزل عليه نور أحاط برأسه. وأضاء من جسده نور عظيم فقال الذين رأوه: ما هذا بشراً إن هو إلا إله عظيم.</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يصلي البوذيون لبوذا ويعتقدون أنه سيدخلهم الجنة. والصلاة عندهم تؤدى في اجتماعات يحضرها عدد كبر من الأتبا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31"/>
                                        </p:tgtEl>
                                        <p:attrNameLst>
                                          <p:attrName>style.visibility</p:attrName>
                                        </p:attrNameLst>
                                      </p:cBhvr>
                                      <p:to>
                                        <p:strVal val="visible"/>
                                      </p:to>
                                    </p:set>
                                    <p:animEffect filter="box(in)" transition="in">
                                      <p:cBhvr additive="repl">
                                        <p:cTn id="10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تعلم الطاوية بأن الطاو يخلق الحياة ثوابا على فعل الخير، ويخلق الموت لأخافة الشر، ومن يبحث عن مباهج الحياة الدنيوية يخاف الموت لأن الموت بالنسبة اليه نهاية كل شىء، وأما بالنسبة الى الطاوي المؤمن فالموت لاشىء، لكونه بداية الحياة الأبدية.</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يأتي النظام في الكون من سير كل شىء في طريقه الصحيح، فالطريق أزلي كامل، لا يُمكن أن ينحرف عن نهجه الصحيح وإلا حلت الفوضى في الكون كله.</a:t>
            </a:r>
            <a:br>
              <a:rPr sz="3600"/>
            </a:br>
            <a:r>
              <a:rPr b="1" lang="ar-SA" sz="3600" spc="-1" strike="noStrike">
                <a:solidFill>
                  <a:srgbClr val="00007d"/>
                </a:solidFill>
                <a:latin typeface="Arial"/>
              </a:rPr>
              <a:t>• تشبه الفضائل الحميدة التي يدعو اليها الطاو، الطبيعة والشمس والقمر.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32"/>
                                        </p:tgtEl>
                                        <p:attrNameLst>
                                          <p:attrName>style.visibility</p:attrName>
                                        </p:attrNameLst>
                                      </p:cBhvr>
                                      <p:to>
                                        <p:strVal val="visible"/>
                                      </p:to>
                                    </p:set>
                                    <p:animEffect filter="box(in)" transition="in">
                                      <p:cBhvr additive="repl">
                                        <p:cTn id="11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5e"/>
                </a:solidFill>
                <a:latin typeface="Arial"/>
              </a:rPr>
              <a:t>تم بحمد الله </a:t>
            </a:r>
            <a:br>
              <a:rPr sz="4800"/>
            </a:br>
            <a:r>
              <a:rPr b="1" lang="ar-SA" sz="4800" spc="-1" strike="noStrike">
                <a:solidFill>
                  <a:srgbClr val="00005e"/>
                </a:solidFill>
                <a:latin typeface="Arial"/>
              </a:rPr>
              <a:t>وشكراً لكم على حسن استماعكم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33"/>
                                        </p:tgtEl>
                                        <p:attrNameLst>
                                          <p:attrName>style.visibility</p:attrName>
                                        </p:attrNameLst>
                                      </p:cBhvr>
                                      <p:to>
                                        <p:strVal val="visible"/>
                                      </p:to>
                                    </p:set>
                                    <p:animEffect filter="box(in)" transition="in">
                                      <p:cBhvr additive="repl">
                                        <p:cTn id="11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Arial"/>
              </a:rPr>
              <a:t> التعريف </a:t>
            </a:r>
            <a:r>
              <a:rPr b="1" lang="ar-SA" sz="5400" spc="-1" strike="noStrike">
                <a:solidFill>
                  <a:srgbClr val="00007d"/>
                </a:solidFill>
                <a:latin typeface="Arial"/>
              </a:rPr>
              <a:t>	</a:t>
            </a:r>
            <a:br>
              <a:rPr sz="5400"/>
            </a:br>
            <a:r>
              <a:rPr b="1" lang="ar-SA" sz="3600" spc="-1" strike="noStrike">
                <a:solidFill>
                  <a:srgbClr val="00007d"/>
                </a:solidFill>
                <a:latin typeface="Arial"/>
              </a:rPr>
              <a:t>الطاوية إحدى أكبر الديانات الصينية القديمة التي ما تزال حية إلى اليوم إذ ترجع إلى القرن السادس قبل الميلاد، تقوم في جوهر فكرتها على العودة إلى الحياة الطبيعية والوقوف موقفاً سلبياً من الحضارة والمدنية. كان لها دور هام في تطوير علم الكيمياء منذ آلاف السنين وذلك من خلال مسيرتها في البحث في إكسير الحياة ومعرفة سر الخلود.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5"/>
                                        </p:tgtEl>
                                        <p:attrNameLst>
                                          <p:attrName>style.visibility</p:attrName>
                                        </p:attrNameLst>
                                      </p:cBhvr>
                                      <p:to>
                                        <p:strVal val="visible"/>
                                      </p:to>
                                    </p:set>
                                    <p:animEffect filter="box(in)"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يعتقد بأن لوتس </a:t>
            </a:r>
            <a:r>
              <a:rPr b="1" lang="en-US" sz="4000" spc="-1" strike="noStrike">
                <a:solidFill>
                  <a:srgbClr val="00007d"/>
                </a:solidFill>
                <a:latin typeface="Arial"/>
              </a:rPr>
              <a:t>Laotse</a:t>
            </a:r>
            <a:r>
              <a:rPr b="1" lang="ar-SA" sz="4000" spc="-1" strike="noStrike">
                <a:solidFill>
                  <a:srgbClr val="00007d"/>
                </a:solidFill>
                <a:latin typeface="Arial"/>
              </a:rPr>
              <a:t> الذي كان ميلاده عام </a:t>
            </a:r>
            <a:r>
              <a:rPr b="1" lang="ar-SA" sz="4000" spc="-1" strike="noStrike">
                <a:solidFill>
                  <a:srgbClr val="00007d"/>
                </a:solidFill>
                <a:latin typeface="Arial"/>
              </a:rPr>
              <a:t>507</a:t>
            </a:r>
            <a:r>
              <a:rPr b="1" lang="ar-SA" sz="4000" spc="-1" strike="noStrike">
                <a:solidFill>
                  <a:srgbClr val="00007d"/>
                </a:solidFill>
                <a:latin typeface="Arial"/>
              </a:rPr>
              <a:t> ق.م هو صاحب مذهب الطاوية التي تُرجع بعض معتقداتها إلى زمن سحيق. وقد وضع كتابه طاو – تي – تشينغ </a:t>
            </a:r>
            <a:r>
              <a:rPr b="1" lang="en-US" sz="4000" spc="-1" strike="noStrike">
                <a:solidFill>
                  <a:srgbClr val="00007d"/>
                </a:solidFill>
                <a:latin typeface="Arial"/>
              </a:rPr>
              <a:t>Tao – te</a:t>
            </a:r>
            <a:r>
              <a:rPr b="1" lang="ar-SA" sz="4000" spc="-1" strike="noStrike">
                <a:solidFill>
                  <a:srgbClr val="00007d"/>
                </a:solidFill>
                <a:latin typeface="Arial"/>
              </a:rPr>
              <a:t> – </a:t>
            </a:r>
            <a:r>
              <a:rPr b="1" lang="en-US" sz="4000" spc="-1" strike="noStrike">
                <a:solidFill>
                  <a:srgbClr val="00007d"/>
                </a:solidFill>
                <a:latin typeface="Arial"/>
              </a:rPr>
              <a:t>ching</a:t>
            </a:r>
            <a:r>
              <a:rPr b="1" lang="ar-SA" sz="4000" spc="-1" strike="noStrike">
                <a:solidFill>
                  <a:srgbClr val="00007d"/>
                </a:solidFill>
                <a:latin typeface="Arial"/>
              </a:rPr>
              <a:t> أي كتاب طريق القوة. وقد التقى به كونفوشيوس فأخذ عنه أشياء وخالفه في أشياء أخر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6"/>
                                        </p:tgtEl>
                                        <p:attrNameLst>
                                          <p:attrName>style.visibility</p:attrName>
                                        </p:attrNameLst>
                                      </p:cBhvr>
                                      <p:to>
                                        <p:strVal val="visible"/>
                                      </p:to>
                                    </p:set>
                                    <p:animEffect filter="box(in)" transition="in">
                                      <p:cBhvr additive="repl">
                                        <p:cTn id="1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ar-SA" sz="4000" spc="-1" strike="noStrike">
                <a:solidFill>
                  <a:srgbClr val="00007d"/>
                </a:solidFill>
                <a:latin typeface="Arial"/>
              </a:rPr>
              <a:t>                           لوتس</a:t>
            </a:r>
            <a:endParaRPr b="0" lang="en-US" sz="4000" spc="-1" strike="noStrike">
              <a:solidFill>
                <a:srgbClr val="000000"/>
              </a:solidFill>
              <a:latin typeface="Arial"/>
            </a:endParaRPr>
          </a:p>
        </p:txBody>
      </p:sp>
      <p:pic>
        <p:nvPicPr>
          <p:cNvPr id="118" name="صورة 2" descr="لوتس.png"/>
          <p:cNvPicPr/>
          <p:nvPr/>
        </p:nvPicPr>
        <p:blipFill>
          <a:blip r:embed="rId1"/>
          <a:stretch/>
        </p:blipFill>
        <p:spPr>
          <a:xfrm>
            <a:off x="1600200" y="838080"/>
            <a:ext cx="5715000" cy="4496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17"/>
                                        </p:tgtEl>
                                        <p:attrNameLst>
                                          <p:attrName>style.visibility</p:attrName>
                                        </p:attrNameLst>
                                      </p:cBhvr>
                                      <p:to>
                                        <p:strVal val="visible"/>
                                      </p:to>
                                    </p:set>
                                    <p:animEffect filter="box(in)" transition="in">
                                      <p:cBhvr additive="repl">
                                        <p:cTn id="2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a:t>
            </a:r>
            <a:r>
              <a:rPr b="1" lang="ar-SA" sz="3600" spc="-1" strike="noStrike">
                <a:solidFill>
                  <a:srgbClr val="ff0000"/>
                </a:solidFill>
                <a:latin typeface="Arial"/>
              </a:rPr>
              <a:t>فكرتهم عن الإله</a:t>
            </a:r>
            <a:r>
              <a:rPr b="1" lang="ar-SA" sz="3600" spc="-1" strike="noStrike">
                <a:solidFill>
                  <a:srgbClr val="00007d"/>
                </a:solidFill>
                <a:latin typeface="Arial"/>
              </a:rPr>
              <a:t>	</a:t>
            </a:r>
            <a:br>
              <a:rPr sz="3600"/>
            </a:br>
            <a:r>
              <a:rPr b="1" lang="ar-SA" sz="3600" spc="-1" strike="noStrike">
                <a:solidFill>
                  <a:srgbClr val="00007d"/>
                </a:solidFill>
                <a:latin typeface="Arial"/>
              </a:rPr>
              <a:t>- الإله – لديهم – ليس بصوت، ولا صورة، أبدي لا يفنى، وجوده سابق وجود غيره وهو أصل الموجودات، وروحه تجري فيها.</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إن طاو هو المطلق الكائن، وهو مراد الكون، إنه ليس منفصلاً عن الكون بل هو داخل فيه دخولاً جوهريًّا، انبثقت عنه جميع الموجودات.</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إنهم يؤمنون بوحدة الوجود إذ إن الخالق والمخلوق شيء واحد لا تنفصل أجزاؤه وإلا لاقى الفنا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9"/>
                                        </p:tgtEl>
                                        <p:attrNameLst>
                                          <p:attrName>style.visibility</p:attrName>
                                        </p:attrNameLst>
                                      </p:cBhvr>
                                      <p:to>
                                        <p:strVal val="visible"/>
                                      </p:to>
                                    </p:set>
                                    <p:animEffect filter="box(in)" transition="in">
                                      <p:cBhvr additive="repl">
                                        <p:cTn id="2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إن نظرتهم إلى الإله قريبة جدّاً من مذهب الحلولية الذي يذهب إلى أن الخالق حالٌّ في كل الموجودات، كما أن الخالق لا يستطيع أن يتصرف أو يعمل إلا بحلوله في الأشياء.</a:t>
            </a:r>
            <a:br>
              <a:rPr sz="3200"/>
            </a:br>
            <a:r>
              <a:rPr b="1" lang="ar-SA" sz="3200" spc="-1" strike="noStrike">
                <a:solidFill>
                  <a:srgbClr val="00007d"/>
                </a:solidFill>
                <a:latin typeface="Arial"/>
              </a:rPr>
              <a:t>- يؤمنون بالقانون السماوي الأعظم الذي هو أصل الحياة والنشاط والحركة لجميع الموجودات في السماء والأرض.</a:t>
            </a:r>
            <a:br>
              <a:rPr sz="3200"/>
            </a:br>
            <a:r>
              <a:rPr b="1" lang="ar-SA" sz="3200" spc="-1" strike="noStrike">
                <a:solidFill>
                  <a:srgbClr val="00007d"/>
                </a:solidFill>
                <a:latin typeface="Arial"/>
              </a:rPr>
              <a:t>- يرى شونغ تسي بأن الإنسان قد جاء إلى الوجود مع الكون، فهو يحب الله ولكنه يحب المصدر الذي جاء منه الله أكثر من حبه الله، فهو تصور يدل على أنهم يعتقدون بأن هناك مبدأ قبل الله – تعالى الله عما يقولون علواً كبير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20"/>
                                        </p:tgtEl>
                                        <p:attrNameLst>
                                          <p:attrName>style.visibility</p:attrName>
                                        </p:attrNameLst>
                                      </p:cBhvr>
                                      <p:to>
                                        <p:strVal val="visible"/>
                                      </p:to>
                                    </p:set>
                                    <p:animEffect filter="box(in)"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أفكار والمعتقدات</a:t>
            </a:r>
            <a:r>
              <a:rPr b="1" lang="ar-SA" sz="3200" spc="-1" strike="noStrike">
                <a:solidFill>
                  <a:srgbClr val="ff0000"/>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إنهم متصوفة، إذ إنه يجب على الطاوي أن ينظف نفسه من جميع الشوائب ليوجد في داخله فراغاً هو في الحقيقة الامتلاء نفسه، وذلك بالوصول إلى الحقائق المجردة، ويتم ذلك عن طريق التجرد من الماديات ليصبح الإنسان روحاً خالصاً.</a:t>
            </a:r>
            <a:br>
              <a:rPr sz="3200"/>
            </a:br>
            <a:r>
              <a:rPr b="1" lang="ar-SA" sz="3200" spc="-1" strike="noStrike">
                <a:solidFill>
                  <a:srgbClr val="00007d"/>
                </a:solidFill>
                <a:latin typeface="Arial"/>
              </a:rPr>
              <a:t>- أعلى مراتب التصوف هي مرحلة الوحدة التامة بين الفرد والقانون الأعظم وذلك بحصول اندماج بين المتصوف والذات العليا لتصيرا شخصية واحدة.</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إذا ارتقى الإنسان إلى المعرفة الحقة عندها يستطيع أن يصل إلى الحالة الأثيرية حيث لا موت ولا حيا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1"/>
                                        </p:tgtEl>
                                        <p:attrNameLst>
                                          <p:attrName>style.visibility</p:attrName>
                                        </p:attrNameLst>
                                      </p:cBhvr>
                                      <p:to>
                                        <p:strVal val="visible"/>
                                      </p:to>
                                    </p:set>
                                    <p:animEffect filter="box(in)" transition="in">
                                      <p:cBhvr additive="repl">
                                        <p:cTn id="4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إن الطاوية تتجه اتجاهاً سلبياً – على عكس الكونفوشيوسية – ذلك لأن الفضيلة لديهم تكمن في عدم العمل والاقتصاد على التأمل.</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إنهم يهاجمون الشرائع والقوانين والعلم وما إلى ذلك من مظاهر المدنية التي عملت على إفساد فطرة الإنسان الذي ولد خَيِّراً. إن مثلهم الأعلى في ذلك هو في العودة إلى النظام الطبيعي المتميز بنقاء الفطرة.</a:t>
            </a:r>
            <a:br>
              <a:rPr sz="3600"/>
            </a:br>
            <a:r>
              <a:rPr b="1" lang="ar-SA" sz="3600" spc="-1" strike="noStrike">
                <a:solidFill>
                  <a:srgbClr val="00007d"/>
                </a:solidFill>
                <a:latin typeface="Arial"/>
              </a:rPr>
              <a:t>- اهتم الطاويون بطول العمر، ويعتبر التقدم في السن دليلاً على القداسة حتى صار من أهداف التصوف الطاوي السعي لإطالة العمر والخلو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2"/>
                                        </p:tgtEl>
                                        <p:attrNameLst>
                                          <p:attrName>style.visibility</p:attrName>
                                        </p:attrNameLst>
                                      </p:cBhvr>
                                      <p:to>
                                        <p:strVal val="visible"/>
                                      </p:to>
                                    </p:set>
                                    <p:animEffect filter="box(in)" transition="in">
                                      <p:cBhvr additive="repl">
                                        <p:cTn id="4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هذا الاهتمام في البحث عن إكسير الحياة كان عاملاً مهمًّا في تقدم الطب والكيمياء على أيديهم فضلاً عن السحر والشعوذة والدجل مما أدى إلى ثراء الكهنة ثراءً فاحشاً.</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إنهم يؤكدون حرصهم على التعاليم الأخلاقية وعلى ضرورة المشاركة في الاحتفالات الجماعية الموسمية.</a:t>
            </a:r>
            <a:br>
              <a:rPr sz="3600"/>
            </a:br>
            <a:r>
              <a:rPr b="1" lang="ar-SA" sz="3600" spc="-1" strike="noStrike">
                <a:solidFill>
                  <a:srgbClr val="00007d"/>
                </a:solidFill>
                <a:latin typeface="Arial"/>
              </a:rPr>
              <a:t>- ليس لديهم بعث ولا حساب، إنما يكافأ المحسن بالصحة وبطول العمر بينما يجازى المسيء بالمرض وبالموت المبك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3"/>
                                        </p:tgtEl>
                                        <p:attrNameLst>
                                          <p:attrName>style.visibility</p:attrName>
                                        </p:attrNameLst>
                                      </p:cBhvr>
                                      <p:to>
                                        <p:strVal val="visible"/>
                                      </p:to>
                                    </p:set>
                                    <p:animEffect filter="box(in)" transition="in">
                                      <p:cBhvr additive="repl">
                                        <p:cTn id="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Suleman</cp:lastModifiedBy>
  <dcterms:modified xsi:type="dcterms:W3CDTF">2014-02-23T20:02:23Z</dcterms:modified>
  <cp:revision>2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