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2AE6C-6A02-4C62-9AFD-BD969D8F3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A3239-8DF1-460A-BA32-8A9C4C82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13B80D-D3C4-48C0-90B2-1F81B97BAD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A8FB58-6EDC-4A9E-B7AB-C9E56D0EFE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B79FAB-F1AA-4870-9E20-C8A279C350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42FD0-AA72-4BCD-8964-5BD051E218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AC7C31-714B-4DF2-B5C4-5F653175C1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03E411-EA9A-4379-9F2D-C01D8B42C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3781E-0445-48FE-8E8B-5BD30DA2DD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EECB3A-3DF4-4ED1-8CBF-BB4F4FE453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279109-484E-4048-A311-C149ADA1FB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F5A3A89-F5C7-4338-96CA-686AC17BF3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31CE4-96A6-4352-8AE0-4172DA028C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19FF2F-5930-4C11-8BAD-F9B88D6E33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3751CD3-4CF7-48DE-8FD0-8238E8FC31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8ECA8C-7213-4D9C-B6AD-F7660F61FC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FB1799-1512-4D50-A80C-23F116A984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B6A8C3-71BE-4851-A01D-B54E0B4C38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3B6F75-2172-4DAB-A0AE-0B11A7EA68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E1B66D-655B-42E1-B84C-2C26B60E4D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FD40C1-DAC5-4A9F-9B57-F538500D5B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50586C-95F4-46D3-9D43-37BEC0A8B7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815DB0-AF24-40F7-AAC8-4B328D8ED54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A2766-45E0-42AA-8455-6906787CA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0E7486-8C02-44A7-BCDA-0AC3C04CEE6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4DBAD8D-7661-4695-A3B4-2C23957EED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BCAD8D3-493B-4318-9653-663DD43066B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B5B42A-7377-423B-B698-A4E4FA6845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61528B-FE1C-41DE-B584-B6C0661E02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CE62B4-21F4-4722-9D9E-B7A4E74A74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4BA421-4987-45E0-8B78-14C4C3504B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1ECCD-E0E3-439F-8BE0-98AAAB8A7F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7C37EE-D1D3-4105-A122-7CD679846E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A6FEE0-D408-44C5-AA5D-70E0211DAC2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93C03-5E7C-4C44-A9C1-69482658E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94BF01-F68C-481A-BE73-11D79FB2900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E77FA6-2738-4A5E-8451-33B82D507D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53261D-B30A-4394-9DC4-CDA63EDBDD9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BD4A21-0317-4647-8FE4-137307D8704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372956-F0F6-4272-9BF6-7DAE9C8993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BEAB8F-098B-4595-B04B-91BCE79A73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6098D7-79A7-4A92-A377-51B6A7B1F0B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EE1A14-B5D0-4B79-ABA2-DA2CA7D810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0D91F3-058E-45B9-8AFA-F1A3576880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C0930B-4129-44E9-A770-65B748DF2A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DD743-6AEE-46E4-A9C2-24416FC68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57250D-EC26-4416-A2B6-6C107D132A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791CB0-C9FE-40F7-8B65-6D8A1C3268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C59919-7F63-4BDA-B3CE-AEB52788FB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650CBFF-B708-45FB-A26E-2A41377BB1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E199DD4-5CC6-43EA-B15F-C1A2875B5C8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8C14E-1B99-4D49-963C-67FD3A894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71834-9429-43C2-B9AA-1061A6596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C41A2-D854-4135-9BFE-B036A83AC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482FC-C868-4E0A-B5C6-653AF734F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918BA-9234-402E-B811-41A7A673C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66955-4D7A-4F2C-86B6-E96813956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9B3AE-4ECA-4BBC-817D-599C8497D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8A7AB-4F87-4674-83ED-8E64902C3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FCE50-1102-499B-AF4F-B46205FFF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5417A-E54F-4D9F-B68A-3D1B0567F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AA7B7-7B1F-47F2-BBDE-34F82133B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95DA9E-D524-4302-B34E-B1ED692C03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BDCE3-C4C1-4BA3-87D8-726BFD4217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69314-B8C6-4AA7-8264-16155346B8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3D54D4-AB67-44BE-A3B4-3BB6BC4DB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F9B04-1747-4F72-9F9E-22F0EE38EA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E60E0-B710-4957-A8C2-BB734370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B6D14-6375-4FB9-B19A-7014D04753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9C4F6-1D17-4B70-800D-8C9776874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7424DA-CF9A-46B2-94F0-C63576890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DF5A3-CA14-4562-A3F8-8EE5909C7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19F30-EAF1-453E-A57D-59E6726D8F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28881E-915C-4B5B-A147-5FABE5C68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8694A-DEFB-4ADF-AF8B-82A3535D62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DAF002-3A71-4E92-BF5A-355AC7CDB8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9F34A-C4E6-4804-B82B-6BBED3F2F3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2C85AC-F024-413C-80B6-4DD781E52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8CCD5-ED0E-4CB3-948D-06DB79945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83F709-DB3E-46A1-AA15-106D7B76FC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1001F-E18B-4D56-8FD4-6CA8F459F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1DBCE-2768-4C9D-A525-AC23478A36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6D0BC9-BDBE-4BDC-816C-1C5CA0315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B568C-D2F0-4881-B3E9-D831F082E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92AA26-AB71-4E72-B298-F2B450E0E7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6CF0DB-E516-432B-91E1-27C1322455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E79C6B-AD16-4CA0-96D7-33B9534054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F103E9-477C-493B-8C93-F9E9821E50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FC6B10-3950-49F8-AB3B-3340B52BCB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CDA42-85D0-4BFA-9A5B-BAC381368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640C44-ACDC-411A-A1B0-452364584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40CE08-34FB-406C-8ED5-D9A6A2B079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10D25-88F4-41BF-BF36-D9C1003A84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72263-D9A4-4915-99A3-C2FCEACAD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8FC97F-820C-46CB-A68A-ACEE2B8E1F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0F602-C6CF-4CEA-87A5-D96525E21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10AEDA-0511-4612-9720-621C84B78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350697-4CF0-473F-8904-2371F40EA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46526-F049-4639-9883-8B17DA9F03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8EA42D-A99A-4DDD-9A01-192AE2DB87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6B49F-9328-44D6-B964-03F8DF44E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974FE8-33D5-4F32-8F92-EC8009A94C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1D7F8C-5FD3-4B47-AF68-C8A3C0572A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E99428-4F7B-4DE5-AA88-42467144AE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7272B5-13D1-45D5-93DB-BA7DBD9A8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439795-2DF5-42EB-BA3B-9996323F08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F86541-71D0-4C21-B7C4-D15D94270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A276AB-EA9F-477C-B9E1-94DAE936A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F2CB5-A89B-469E-9365-BB93E8B82D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6297A-AFEF-4066-96EE-0931D7230F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34F2B-FCAD-4046-B6D1-2BFB24FC04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B0BA-16CC-4F72-9FAD-17B7719F3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6FBB39-696A-4B19-AA3C-48CD8595A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498D95-AD30-49ED-9595-D968B22295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A0C8D7-CDA0-4EF8-BC96-22643B5D51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7700E1-8AE8-4D48-8FA0-61A4334459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D98F9-2BE9-4DCA-873F-4B3442B201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E57346-804A-4CDB-B6E4-9A43E885F4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D2D66-4F53-455A-BD39-52193F078C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32AD3-05C2-4B5C-BB21-B94E54F32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53E695-13A6-4D60-AA46-A9A3C614C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6DE8A-8E63-4C9E-8356-2D6F67A044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AAB6E-93A6-4657-B4B6-7A49D1415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83CFF9-1540-48A1-8441-5C6001B53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047BE-4819-4D46-8983-C97F935BA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7F6172-904E-40BC-8BE5-E77ADF6F96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020C10-5EF2-4506-92B0-F5AB9856F1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FD9C5D-EE8C-426E-A9E3-A9D7206D7F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13379D-5EA9-4563-8EF9-4B6FE7A022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77BE9B-44CC-417B-B46A-EA42A5F691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8B8AE6-1286-4E2F-87DC-38BCA12B30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932B59-5D60-439A-B4D0-E24B7FEFB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98FDE6-521E-4AE4-B95E-300E7A8F5B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7564E-9319-45A9-AD5F-5AA10C439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F1CCD-8287-4857-9C75-8F413D667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463123-CEAF-47D4-A437-6C243421EC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91A93C-1036-4704-9EDA-CF6255BA3A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5079D-EDBD-4C71-9ED0-B5681B61E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2E74E1-A7D6-4407-A2D2-66BD6D9F54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9A6ABE-DC5C-4CA1-B15E-9CA01117BDF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0FF5EF-4AE4-4E25-9483-56235431E8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7FC50A-661D-4357-9FD4-25D857DA0F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C4DA4D-E572-4352-8E2D-757D8825C8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B3C28E-1B0D-4716-8129-110B8C9555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346DC-B1E6-46CB-8203-C42D42C802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EF74-1BD8-4715-92A3-5E78FCB64E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AB38-8777-4C6D-94C2-30F910867E0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06D1A-2554-4D9A-8A0A-65042FF27FD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3CB7-A612-4775-9750-D62F9769ED8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16AA3-0DD6-48FF-9016-3998D789A6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A3FD1-9AA5-4AAE-8FA2-250C5ED8EF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D61D-4F8C-4D07-9421-8A8127F40E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A55F-7176-4CB5-B000-633DE72CAF2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FB987-81EF-4834-81F2-724BC5DFDF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337B6-E775-4C36-BA6A-7B4952338A7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99F2-DBD2-4E30-839B-687CACFB1D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1908000" y="1341360"/>
            <a:ext cx="5443560" cy="4480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تابع الفصل الثامن</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ماهية نظام التوزيع المادي</a:t>
            </a:r>
            <a:endParaRPr b="0" lang="en-US" sz="4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التخزين،التغليف ،المناولة</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TextBox 1"/>
          <p:cNvSpPr/>
          <p:nvPr/>
        </p:nvSpPr>
        <p:spPr>
          <a:xfrm>
            <a:off x="395280" y="1197000"/>
            <a:ext cx="8209080" cy="442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4</a:t>
            </a:r>
            <a:r>
              <a:rPr b="1" lang="ar-SA" sz="4400" spc="-1" strike="noStrike">
                <a:solidFill>
                  <a:srgbClr val="000000"/>
                </a:solidFill>
                <a:latin typeface="Arial"/>
              </a:rPr>
              <a:t>/ التغليف</a:t>
            </a:r>
            <a:endParaRPr b="0" lang="en-US" sz="4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يستخدم التغليف لحماية السلعة من التلف أو الكسر أو فقدان الخواص الآساسية كما أنه أداة لتحقيق الكفاءة لنظام التوزيع المادي ويعتبر أداة لترويج السلع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Box 1"/>
          <p:cNvSpPr/>
          <p:nvPr/>
        </p:nvSpPr>
        <p:spPr>
          <a:xfrm>
            <a:off x="108000" y="1557360"/>
            <a:ext cx="8351640" cy="6552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5</a:t>
            </a:r>
            <a:r>
              <a:rPr b="1" lang="ar-SA" sz="4000" spc="-1" strike="noStrike">
                <a:solidFill>
                  <a:srgbClr val="000000"/>
                </a:solidFill>
                <a:latin typeface="Arial"/>
              </a:rPr>
              <a:t>/تجهيز الطلبيات والأوامر</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a:t>
            </a:r>
            <a:r>
              <a:rPr b="0" lang="ar-SA" sz="3200" spc="-1" strike="noStrike">
                <a:solidFill>
                  <a:srgbClr val="000000"/>
                </a:solidFill>
                <a:latin typeface="Arial"/>
              </a:rPr>
              <a:t>يعتبر من انشطة التوزيع المادي الرئيسية رغم ضآلة تكاليفه</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ه تتم دورة آوامر الشراء والتي تمثل الوقت المنقضي بين اصدار العميل لأمر الشراء وتسلم البضاعة المتعلقة به.</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طيع مسئول التوزيع المادي التحكم في مقدار هذا الوقت</a:t>
            </a:r>
            <a:r>
              <a:rPr b="1" lang="ar-SA" sz="3200" spc="-1" strike="noStrike">
                <a:solidFill>
                  <a:srgbClr val="000000"/>
                </a:solidFill>
                <a:latin typeface="Arial"/>
              </a:rPr>
              <a:t>.</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الاتصالات وتجهيز البيانات</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المعالم الرئيسية لتدفق معلومات أومر الشراء</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TextBox 1"/>
          <p:cNvSpPr/>
          <p:nvPr/>
        </p:nvSpPr>
        <p:spPr>
          <a:xfrm>
            <a:off x="395280" y="1268280"/>
            <a:ext cx="8424720" cy="533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نظام التوزيع المادي و</a:t>
            </a:r>
            <a:r>
              <a:rPr b="1" lang="ar-DZ" sz="3200" spc="-1" strike="noStrike">
                <a:solidFill>
                  <a:srgbClr val="ff0000"/>
                </a:solidFill>
                <a:latin typeface="Arial"/>
              </a:rPr>
              <a:t>القوى البيعية</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DZ" sz="1800" spc="-1" strike="noStrike">
                <a:solidFill>
                  <a:srgbClr val="000000"/>
                </a:solidFill>
                <a:latin typeface="Arial"/>
              </a:rPr>
              <a:t>مفهوم القوى البيعية</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400" spc="-1" strike="noStrike">
                <a:solidFill>
                  <a:srgbClr val="000000"/>
                </a:solidFill>
                <a:latin typeface="Arial"/>
              </a:rPr>
              <a:t>          </a:t>
            </a:r>
            <a:r>
              <a:rPr b="0" lang="ar-SA" sz="2400" spc="-1" strike="noStrike">
                <a:solidFill>
                  <a:srgbClr val="000000"/>
                </a:solidFill>
                <a:latin typeface="Arial"/>
              </a:rPr>
              <a:t> </a:t>
            </a:r>
            <a:r>
              <a:rPr b="0" lang="ar-DZ" sz="2400" spc="-1" strike="noStrike">
                <a:solidFill>
                  <a:srgbClr val="000000"/>
                </a:solidFill>
                <a:latin typeface="Arial"/>
              </a:rPr>
              <a:t> " </a:t>
            </a:r>
            <a:r>
              <a:rPr b="0" lang="ar-SA" sz="2400" spc="-1" strike="noStrike">
                <a:solidFill>
                  <a:srgbClr val="000000"/>
                </a:solidFill>
                <a:latin typeface="Arial"/>
              </a:rPr>
              <a:t>يعني </a:t>
            </a:r>
            <a:r>
              <a:rPr b="0" lang="ar-DZ" sz="2400" spc="-1" strike="noStrike">
                <a:solidFill>
                  <a:srgbClr val="000000"/>
                </a:solidFill>
                <a:latin typeface="Arial"/>
              </a:rPr>
              <a:t>القوى البيعية أو شبكة البيع التابعة للمؤسسة مجموعة أشخاص تجاريين مكلفين بالاتصالات الشخصية مع الزبائن الحاليين أو المحتملين".</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Berlin Sans FB Demi"/>
              </a:rPr>
              <a:t>أهداف لقوى البيعية </a:t>
            </a:r>
            <a:r>
              <a:rPr b="0" lang="ar-SA" sz="1800" spc="-1" strike="noStrike">
                <a:solidFill>
                  <a:srgbClr val="000000"/>
                </a:solidFill>
                <a:latin typeface="Arial"/>
              </a:rPr>
              <a:t>:</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rPr>
              <a:t>حسب الخطة التسويقية </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بحث عن زبائن جدد إذا أرادت رفع مبيعاتها ،أو رفع نوعية الخدمات اذا أرادت تحقيق الجودة ، بيع أكبر قدر ممكن من منتج المؤسسة،بالاضافة الى المنافس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Box 1"/>
          <p:cNvSpPr/>
          <p:nvPr/>
        </p:nvSpPr>
        <p:spPr>
          <a:xfrm>
            <a:off x="468360" y="765000"/>
            <a:ext cx="7775640" cy="62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000000"/>
                </a:solidFill>
                <a:latin typeface="Arial"/>
              </a:rPr>
              <a:t>إستراتيجية القوى البيعي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Arial"/>
              </a:rPr>
              <a:t>أولا</a:t>
            </a:r>
            <a:r>
              <a:rPr b="1" lang="ar-DZ" sz="1800" spc="-1" strike="noStrike">
                <a:solidFill>
                  <a:srgbClr val="000000"/>
                </a:solidFill>
                <a:latin typeface="Arial"/>
              </a:rPr>
              <a:t>: </a:t>
            </a:r>
            <a:r>
              <a:rPr b="0" lang="ar-DZ" sz="1800" spc="-1" strike="noStrike">
                <a:solidFill>
                  <a:srgbClr val="000000"/>
                </a:solidFill>
                <a:latin typeface="Arial"/>
              </a:rPr>
              <a:t>إن المؤسسات التي تعمل في قطاع واحد تتنافس دائما لكسب زبائن جدد و هناك </a:t>
            </a:r>
            <a:r>
              <a:rPr b="0" lang="ar-DZ" sz="1800" spc="-1" strike="noStrike" u="sng">
                <a:solidFill>
                  <a:srgbClr val="000000"/>
                </a:solidFill>
                <a:uFillTx/>
                <a:latin typeface="Arial"/>
              </a:rPr>
              <a:t>عدة تقنيات و مناهج للبيع و نذكر من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1</a:t>
            </a:r>
            <a:r>
              <a:rPr b="1" lang="ar-SA" sz="1800" spc="-1" strike="noStrike">
                <a:solidFill>
                  <a:srgbClr val="000000"/>
                </a:solidFill>
                <a:latin typeface="Arial"/>
              </a:rPr>
              <a:t>-</a:t>
            </a:r>
            <a:r>
              <a:rPr b="1" lang="ar-DZ" sz="2000" spc="-1" strike="noStrike">
                <a:solidFill>
                  <a:srgbClr val="000000"/>
                </a:solidFill>
                <a:latin typeface="Arial"/>
              </a:rPr>
              <a:t>البائع وجها لوجه مع المشتري: </a:t>
            </a:r>
            <a:r>
              <a:rPr b="0" lang="ar-DZ" sz="2000" spc="-1" strike="noStrike">
                <a:solidFill>
                  <a:srgbClr val="000000"/>
                </a:solidFill>
                <a:latin typeface="Arial"/>
              </a:rPr>
              <a:t>و هنا الممثل في اتصال مباشر مع المشتري سواء وجها لوجه أو عبر الهات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a:t>
            </a:r>
            <a:r>
              <a:rPr b="1" lang="ar-SA" sz="2000" spc="-1" strike="noStrike">
                <a:solidFill>
                  <a:srgbClr val="000000"/>
                </a:solidFill>
                <a:latin typeface="Arial"/>
              </a:rPr>
              <a:t>-</a:t>
            </a:r>
            <a:r>
              <a:rPr b="1" lang="ar-DZ" sz="2000" spc="-1" strike="noStrike">
                <a:solidFill>
                  <a:srgbClr val="000000"/>
                </a:solidFill>
                <a:latin typeface="Arial"/>
              </a:rPr>
              <a:t>البائع وجها لوجه مع مجموعة من المشترين: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a:t>
            </a:r>
            <a:r>
              <a:rPr b="1" lang="ar-SA" sz="2000" spc="-1" strike="noStrike">
                <a:solidFill>
                  <a:srgbClr val="000000"/>
                </a:solidFill>
                <a:latin typeface="Arial"/>
              </a:rPr>
              <a:t>-</a:t>
            </a:r>
            <a:r>
              <a:rPr b="1" lang="ar-DZ" sz="2000" spc="-1" strike="noStrike">
                <a:solidFill>
                  <a:srgbClr val="000000"/>
                </a:solidFill>
                <a:latin typeface="Arial"/>
              </a:rPr>
              <a:t>فريق البيع وجها لوجه مع مجموعة من المشترين: </a:t>
            </a:r>
            <a:r>
              <a:rPr b="0" lang="ar-DZ" sz="2000" spc="-1" strike="noStrike">
                <a:solidFill>
                  <a:srgbClr val="000000"/>
                </a:solidFill>
                <a:latin typeface="Arial"/>
              </a:rPr>
              <a:t>هنا يقوم فريق تجاري يتكون م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000" spc="-1" strike="noStrike">
                <a:solidFill>
                  <a:srgbClr val="000000"/>
                </a:solidFill>
                <a:latin typeface="Arial"/>
              </a:rPr>
              <a:t>( مسير، بائع، مهندس...) بالالتقاء مع مجموعة من المجلس الإداري للمؤسسة أو مجموعة من الزبائن وجها لوجه بهدف إقناعهم بخصائص و مميزات منتج المؤسس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a:t>
            </a:r>
            <a:r>
              <a:rPr b="1" lang="ar-SA" sz="2000" spc="-1" strike="noStrike">
                <a:solidFill>
                  <a:srgbClr val="000000"/>
                </a:solidFill>
                <a:latin typeface="Arial"/>
              </a:rPr>
              <a:t>-</a:t>
            </a:r>
            <a:r>
              <a:rPr b="1" lang="ar-DZ" sz="2000" spc="-1" strike="noStrike">
                <a:solidFill>
                  <a:srgbClr val="000000"/>
                </a:solidFill>
                <a:latin typeface="Arial"/>
              </a:rPr>
              <a:t>البيع بالمحاضرات: </a:t>
            </a:r>
            <a:r>
              <a:rPr b="0" lang="ar-DZ" sz="2000" spc="-1" strike="noStrike">
                <a:solidFill>
                  <a:srgbClr val="000000"/>
                </a:solidFill>
                <a:latin typeface="Arial"/>
              </a:rPr>
              <a:t>في هذه الطريقة يرافق البائع اختصاصي أم مجموعة من الاختصاصيين التابعين للمؤسسة من أجل عرض مركز عن خصوصيات و طرق استعمال المنتج و توضيح الفرص للمشتر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5</a:t>
            </a:r>
            <a:r>
              <a:rPr b="1" lang="ar-SA" sz="2000" spc="-1" strike="noStrike">
                <a:solidFill>
                  <a:srgbClr val="000000"/>
                </a:solidFill>
                <a:latin typeface="Arial"/>
              </a:rPr>
              <a:t>-</a:t>
            </a:r>
            <a:r>
              <a:rPr b="1" lang="ar-DZ" sz="2000" spc="-1" strike="noStrike">
                <a:solidFill>
                  <a:srgbClr val="000000"/>
                </a:solidFill>
                <a:latin typeface="Arial"/>
              </a:rPr>
              <a:t>البيع بالملتقيات:</a:t>
            </a:r>
            <a:r>
              <a:rPr b="0" lang="ar-DZ" sz="2000" spc="-1" strike="noStrike">
                <a:solidFill>
                  <a:srgbClr val="000000"/>
                </a:solidFill>
                <a:latin typeface="Arial"/>
              </a:rPr>
              <a:t> هذه الطريقة حديثة جدا حيث يقوم فريق تقني بتنظيم ملتقى و فيه تعرض منتجات المؤسسة بطريقة حسنة و مدروسة للحفاظ على أحسن العلاقات مع المشترين و تستعمل هذه الطريقة في الصالونات و المعارض الوطنية و الدولية.</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TextBox 1"/>
          <p:cNvSpPr/>
          <p:nvPr/>
        </p:nvSpPr>
        <p:spPr>
          <a:xfrm>
            <a:off x="395280" y="836640"/>
            <a:ext cx="7993080" cy="5062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000000"/>
                </a:solidFill>
                <a:latin typeface="Arial"/>
              </a:rPr>
              <a:t>ثانيا: تشكيلة القوى البيعية</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          </a:t>
            </a:r>
            <a:r>
              <a:rPr b="0" lang="ar-DZ" sz="1800" spc="-1" strike="noStrike">
                <a:solidFill>
                  <a:srgbClr val="000000"/>
                </a:solidFill>
                <a:latin typeface="Arial"/>
              </a:rPr>
              <a:t>تتكون القوى البيعية حسب </a:t>
            </a:r>
            <a:r>
              <a:rPr b="0" lang="fr-FR" sz="1800" spc="-1" strike="noStrike">
                <a:solidFill>
                  <a:srgbClr val="000000"/>
                </a:solidFill>
                <a:latin typeface="Arial"/>
              </a:rPr>
              <a:t>Yves Chirouze</a:t>
            </a:r>
            <a:r>
              <a:rPr b="0" lang="ar-DZ" sz="1800" spc="-1" strike="noStrike">
                <a:solidFill>
                  <a:srgbClr val="000000"/>
                </a:solidFill>
                <a:latin typeface="Arial"/>
              </a:rPr>
              <a:t> إلى فريقين: </a:t>
            </a:r>
            <a:r>
              <a:rPr b="0" lang="ar-DZ" sz="1800" spc="-1" strike="noStrike" u="sng">
                <a:solidFill>
                  <a:srgbClr val="000000"/>
                </a:solidFill>
                <a:uFillTx/>
                <a:latin typeface="Arial"/>
              </a:rPr>
              <a:t>قوى بيع داخلية و أخرى خارجية</a:t>
            </a:r>
            <a:r>
              <a:rPr b="0" lang="ar-DZ" sz="1800" spc="-1" strike="noStrike">
                <a:solidFill>
                  <a:srgbClr val="000000"/>
                </a:solidFill>
                <a:latin typeface="Arial"/>
              </a:rPr>
              <a:t>.</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أ- قوى البيع الداخلية للمؤسسة:</a:t>
            </a:r>
            <a:r>
              <a:rPr b="0" lang="ar-DZ" sz="1800" spc="-1" strike="noStrike">
                <a:solidFill>
                  <a:srgbClr val="000000"/>
                </a:solidFill>
                <a:latin typeface="Arial"/>
              </a:rPr>
              <a:t> و تتخذ الأشكال التالية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1</a:t>
            </a:r>
            <a:r>
              <a:rPr b="1" lang="ar-DZ" sz="1800" spc="-1" strike="noStrike">
                <a:solidFill>
                  <a:srgbClr val="000000"/>
                </a:solidFill>
                <a:latin typeface="Arial"/>
              </a:rPr>
              <a:t>. المنقبون:</a:t>
            </a:r>
            <a:r>
              <a:rPr b="0" lang="ar-DZ" sz="1800" spc="-1" strike="noStrike">
                <a:solidFill>
                  <a:srgbClr val="000000"/>
                </a:solidFill>
                <a:latin typeface="Arial"/>
              </a:rPr>
              <a:t> و يقومون بتحضير عمل الممثلين وذلك بهدف جذب الزبائن المحتملين إلى منتجات و خدمات المؤسسة.</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2</a:t>
            </a:r>
            <a:r>
              <a:rPr b="1" lang="ar-DZ" sz="1800" spc="-1" strike="noStrike">
                <a:solidFill>
                  <a:srgbClr val="000000"/>
                </a:solidFill>
                <a:latin typeface="Arial"/>
              </a:rPr>
              <a:t>. مستلمو الطلبيات:</a:t>
            </a:r>
            <a:r>
              <a:rPr b="0" lang="ar-DZ" sz="1800" spc="-1" strike="noStrike">
                <a:solidFill>
                  <a:srgbClr val="000000"/>
                </a:solidFill>
                <a:latin typeface="Arial"/>
              </a:rPr>
              <a:t> يسجلون الطلبيات و يقومون بالتسليم و متابعة الزبائن.</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 البائعون بالهاتف:</a:t>
            </a:r>
            <a:r>
              <a:rPr b="0" lang="ar-DZ" sz="1800" spc="-1" strike="noStrike">
                <a:solidFill>
                  <a:srgbClr val="000000"/>
                </a:solidFill>
                <a:latin typeface="Arial"/>
              </a:rPr>
              <a:t> يقومون بعملية البيع بواسطة الهاتف و ينقبون و يبحثون عن المعلومات انطلاقا من بنوك المعلومات.</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4</a:t>
            </a:r>
            <a:r>
              <a:rPr b="1" lang="ar-DZ" sz="1800" spc="-1" strike="noStrike">
                <a:solidFill>
                  <a:srgbClr val="000000"/>
                </a:solidFill>
                <a:latin typeface="Arial"/>
              </a:rPr>
              <a:t>. بائعون بالمحلات:</a:t>
            </a:r>
            <a:r>
              <a:rPr b="0" lang="ar-DZ" sz="1800" spc="-1" strike="noStrike">
                <a:solidFill>
                  <a:srgbClr val="000000"/>
                </a:solidFill>
                <a:latin typeface="Arial"/>
              </a:rPr>
              <a:t> يقومون بعملية الاستقبال و البيع للزبائن.</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5</a:t>
            </a:r>
            <a:r>
              <a:rPr b="1" lang="ar-DZ" sz="1800" spc="-1" strike="noStrike">
                <a:solidFill>
                  <a:srgbClr val="000000"/>
                </a:solidFill>
                <a:latin typeface="Arial"/>
              </a:rPr>
              <a:t>. البائعون بالمراسلة:</a:t>
            </a:r>
            <a:r>
              <a:rPr b="0" lang="ar-DZ" sz="1800" spc="-1" strike="noStrike">
                <a:solidFill>
                  <a:srgbClr val="000000"/>
                </a:solidFill>
                <a:latin typeface="Arial"/>
              </a:rPr>
              <a:t> فيها يقوم البائعون بدراسة احتياجات الزبائن المختلفة و الإجابة عليها عن طريق المراسلة.</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6</a:t>
            </a:r>
            <a:r>
              <a:rPr b="1" lang="ar-DZ" sz="1800" spc="-1" strike="noStrike">
                <a:solidFill>
                  <a:srgbClr val="000000"/>
                </a:solidFill>
                <a:latin typeface="Arial"/>
              </a:rPr>
              <a:t>. الزائر و المفوض:</a:t>
            </a:r>
            <a:r>
              <a:rPr b="0" lang="ar-DZ" sz="1800" spc="-1" strike="noStrike">
                <a:solidFill>
                  <a:srgbClr val="000000"/>
                </a:solidFill>
                <a:latin typeface="Arial"/>
              </a:rPr>
              <a:t> يقدم المنتجات و يعلن عنها لد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ب- قوى البيع الخارجية للمؤسسة:</a:t>
            </a:r>
            <a:r>
              <a:rPr b="0" lang="ar-DZ" sz="1800" spc="-1" strike="noStrike">
                <a:solidFill>
                  <a:srgbClr val="000000"/>
                </a:solidFill>
                <a:latin typeface="Arial"/>
              </a:rPr>
              <a:t> ويتمحور عملها خارج المحلات و تنقسم إلى:</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الإطارات التجارية</a:t>
            </a:r>
            <a:r>
              <a:rPr b="0" lang="ar-SA" sz="1800" spc="-1" strike="noStrike">
                <a:solidFill>
                  <a:srgbClr val="000000"/>
                </a:solidFill>
                <a:latin typeface="Arial"/>
              </a:rPr>
              <a:t> (مدير التسويق ، المدير التجاري ،رئيس الانتاج)</a:t>
            </a:r>
            <a:endParaRPr b="0"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سئولو المبيعات </a:t>
            </a:r>
            <a:r>
              <a:rPr b="0" lang="ar-SA" sz="1800" spc="-1" strike="noStrike">
                <a:solidFill>
                  <a:srgbClr val="000000"/>
                </a:solidFill>
                <a:latin typeface="Arial"/>
              </a:rPr>
              <a:t>(رئيس المبيعات ، مفتش المبيعات)</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Box 1"/>
          <p:cNvSpPr/>
          <p:nvPr/>
        </p:nvSpPr>
        <p:spPr>
          <a:xfrm>
            <a:off x="179280" y="692280"/>
            <a:ext cx="8496360" cy="4575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 </a:t>
            </a:r>
            <a:r>
              <a:rPr b="1" lang="ar-DZ" sz="2400" spc="-1" strike="noStrike">
                <a:solidFill>
                  <a:srgbClr val="ff0000"/>
                </a:solidFill>
                <a:latin typeface="Arial"/>
              </a:rPr>
              <a:t>تكوين و توظيف رجال البيع</a:t>
            </a:r>
            <a:endParaRPr b="0" lang="en-US" sz="2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أ- </a:t>
            </a:r>
            <a:r>
              <a:rPr b="1" lang="ar-DZ" sz="1800" spc="-1" strike="noStrike" u="sng">
                <a:solidFill>
                  <a:srgbClr val="000000"/>
                </a:solidFill>
                <a:uFillTx/>
                <a:latin typeface="Arial"/>
              </a:rPr>
              <a:t>تكوين رجال البيع</a:t>
            </a:r>
            <a:r>
              <a:rPr b="1" lang="ar-DZ" sz="1800" spc="-1" strike="noStrike">
                <a:solidFill>
                  <a:srgbClr val="000000"/>
                </a:solidFill>
                <a:latin typeface="Arial"/>
              </a:rPr>
              <a:t>: </a:t>
            </a:r>
            <a:r>
              <a:rPr b="0" lang="ar-DZ" sz="1800" spc="-1" strike="noStrike">
                <a:solidFill>
                  <a:srgbClr val="000000"/>
                </a:solidFill>
                <a:latin typeface="Arial"/>
              </a:rPr>
              <a:t>يحظى تدريب رجال البيع بأهمية قصوى من أجل وضع مستو الكفاءة المطلوبة في المشروع و يعتبر من المراحل الأساسية في تنمية مهارة رجال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البيع و تطوير قدراتهم بصفة مستمرة و هذا بتزويدهم بالمعلومات اللازمة و لا تقتصر الحاجة إلى هذا التدريب على رجال البيع الجدد بل تمتد أيضا إلى رجال البيع القدامى</a:t>
            </a:r>
            <a:r>
              <a:rPr b="0" lang="ar-SA" sz="1800" spc="-1" strike="noStrike">
                <a:solidFill>
                  <a:srgbClr val="000000"/>
                </a:solidFill>
                <a:latin typeface="Arial"/>
              </a:rPr>
              <a:t>.</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1" lang="ar-DZ" sz="2000" spc="-1" strike="noStrike">
                <a:solidFill>
                  <a:srgbClr val="000000"/>
                </a:solidFill>
                <a:latin typeface="Arial"/>
              </a:rPr>
              <a:t>أهداف للتدريب تتمثل في</a:t>
            </a:r>
            <a:r>
              <a:rPr b="0" lang="ar-DZ" sz="1800" spc="-1" strike="noStrike">
                <a:solidFill>
                  <a:srgbClr val="000000"/>
                </a:solidFill>
                <a:latin typeface="Arial"/>
              </a:rPr>
              <a:t>: </a:t>
            </a:r>
            <a:endParaRPr b="0" lang="en-US" sz="1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endParaRPr b="0" lang="en-US" sz="18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a:t>
            </a:r>
            <a:r>
              <a:rPr b="0" lang="ar-DZ" sz="2000" spc="-1" strike="noStrike">
                <a:solidFill>
                  <a:srgbClr val="000000"/>
                </a:solidFill>
                <a:latin typeface="Arial"/>
                <a:cs typeface="Arial"/>
              </a:rPr>
              <a:t>تعريف رجال البيع بالمؤسسة التي يمثلونها و بمنتجاتها و ذلك عن طريق تقديم صفقاتها و محتوياتها و كيفية استعمالها،طرق إنتاجها و الخدمات المقدمة.</a:t>
            </a:r>
            <a:endParaRPr b="0" lang="en-US" sz="2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a:t>
            </a:r>
            <a:r>
              <a:rPr b="0" lang="ar-DZ" sz="2000" spc="-1" strike="noStrike">
                <a:solidFill>
                  <a:srgbClr val="000000"/>
                </a:solidFill>
                <a:latin typeface="Arial"/>
                <a:cs typeface="Arial"/>
              </a:rPr>
              <a:t>تدريبهم على تقنيات البيع و كيفية التصرف أمام المشترين طوال عملية البيع التي تشمل الاتصال، المعرفة، الإقناع، الإخلاص.</a:t>
            </a:r>
            <a:endParaRPr b="0" lang="en-US" sz="2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000" spc="-1" strike="noStrike">
                <a:solidFill>
                  <a:srgbClr val="000000"/>
                </a:solidFill>
                <a:latin typeface="Arial"/>
                <a:cs typeface="Arial"/>
              </a:rPr>
              <a:t>ب- </a:t>
            </a:r>
            <a:r>
              <a:rPr b="1" lang="ar-DZ" sz="2000" spc="-1" strike="noStrike" u="sng">
                <a:solidFill>
                  <a:srgbClr val="000000"/>
                </a:solidFill>
                <a:uFillTx/>
                <a:latin typeface="Arial"/>
                <a:cs typeface="Arial"/>
              </a:rPr>
              <a:t>طرق التدريب</a:t>
            </a:r>
            <a:r>
              <a:rPr b="1" lang="ar-DZ" sz="2000" spc="-1" strike="noStrike">
                <a:solidFill>
                  <a:srgbClr val="000000"/>
                </a:solidFill>
                <a:latin typeface="Arial"/>
                <a:ea typeface="Arial"/>
              </a:rPr>
              <a:t>:</a:t>
            </a:r>
            <a:r>
              <a:rPr b="0" lang="ar-DZ" sz="2000" spc="-1" strike="noStrike">
                <a:solidFill>
                  <a:srgbClr val="000000"/>
                </a:solidFill>
                <a:latin typeface="Arial"/>
                <a:ea typeface="Arial"/>
              </a:rPr>
              <a:t> هناك نوعين من التدريب</a:t>
            </a:r>
            <a:r>
              <a:rPr b="0" lang="ar-SA" sz="2000" spc="-1" strike="noStrike">
                <a:solidFill>
                  <a:srgbClr val="000000"/>
                </a:solidFill>
                <a:latin typeface="Arial"/>
                <a:ea typeface="Arial"/>
              </a:rPr>
              <a:t>:</a:t>
            </a:r>
            <a:endParaRPr b="0" lang="en-US" sz="2000" spc="-1" strike="noStrike">
              <a:solidFill>
                <a:srgbClr val="000000"/>
              </a:solidFill>
              <a:latin typeface="Arial"/>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1</a:t>
            </a:r>
            <a:r>
              <a:rPr b="0" lang="ar-SA" sz="2000" spc="-1" strike="noStrike">
                <a:solidFill>
                  <a:srgbClr val="000000"/>
                </a:solidFill>
                <a:latin typeface="Arial"/>
                <a:ea typeface="Arial"/>
              </a:rPr>
              <a:t>-</a:t>
            </a:r>
            <a:r>
              <a:rPr b="0" lang="ar-DZ" sz="2000" spc="-1" strike="noStrike">
                <a:solidFill>
                  <a:srgbClr val="000000"/>
                </a:solidFill>
                <a:latin typeface="Arial"/>
                <a:ea typeface="Arial"/>
              </a:rPr>
              <a:t> التدريب الفردي</a:t>
            </a:r>
            <a:r>
              <a:rPr b="0" lang="ar-SA" sz="2000" spc="-1" strike="noStrike">
                <a:solidFill>
                  <a:srgbClr val="000000"/>
                </a:solidFill>
                <a:latin typeface="Arial"/>
                <a:ea typeface="Arial"/>
              </a:rPr>
              <a:t>                                                 </a:t>
            </a:r>
            <a:r>
              <a:rPr b="0" lang="ar-SA" sz="2000" spc="-1" strike="noStrike">
                <a:solidFill>
                  <a:srgbClr val="000000"/>
                </a:solidFill>
                <a:latin typeface="Arial"/>
                <a:ea typeface="Arial"/>
              </a:rPr>
              <a:t>2</a:t>
            </a:r>
            <a:r>
              <a:rPr b="0" lang="ar-SA" sz="2000" spc="-1" strike="noStrike">
                <a:solidFill>
                  <a:srgbClr val="000000"/>
                </a:solidFill>
                <a:latin typeface="Arial"/>
                <a:ea typeface="Arial"/>
              </a:rPr>
              <a:t>-التدريب الجماعي</a:t>
            </a:r>
            <a:endParaRPr b="0" lang="en-US" sz="20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324000" y="620640"/>
            <a:ext cx="8280360" cy="7468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000000"/>
                </a:solidFill>
                <a:latin typeface="Arial"/>
              </a:rPr>
              <a:t>إستراتيجيته نظام التوزيع في مؤسسة إنتاج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0000"/>
                </a:solidFill>
                <a:latin typeface="Arial"/>
              </a:rPr>
              <a:t>إن كل مؤسسة الآن تريد أن تكون الأقوى و الأطول عمرا و الأفضل، لابد عليها من وضع سياسة تسويقية جيدة، و ذلك حسب إمكانياتها و مواردها سواء المادية أو المالية أو البشرية، أو حتى التكنولوجية من جهة و حسب المحيط الخارجي لها كذلك من جهة أخرى، و من الإستراتيجيات الأكثر أهمية هي إستراتيجية التوزيع التي تؤدي إلى توسع نشاط المؤسسة و السير دائما إلى الأمام و دخول أسواق جديدة إضافة إلى التقرب من المستهلك و ربحه، و جلب متعاملين اقتصاديين جدد...الخ.</a:t>
            </a:r>
            <a:r>
              <a:rPr b="1" lang="ar-DZ" sz="2800" spc="-1" strike="noStrike">
                <a:solidFill>
                  <a:srgbClr val="000000"/>
                </a:solidFill>
                <a:latin typeface="Arial"/>
              </a:rPr>
              <a:t> </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DZ" sz="1800" spc="-1" strike="noStrike">
                <a:solidFill>
                  <a:srgbClr val="000000"/>
                </a:solidFill>
                <a:latin typeface="Arial"/>
              </a:rPr>
              <a:t>-</a:t>
            </a:r>
            <a:r>
              <a:rPr b="1" lang="ar-SA" sz="2800" spc="-1" strike="noStrike">
                <a:solidFill>
                  <a:srgbClr val="000000"/>
                </a:solidFill>
                <a:latin typeface="Arial"/>
              </a:rPr>
              <a:t>مؤسسات</a:t>
            </a:r>
            <a:r>
              <a:rPr b="1" lang="ar-DZ" sz="2800" spc="-1" strike="noStrike">
                <a:solidFill>
                  <a:srgbClr val="000000"/>
                </a:solidFill>
                <a:latin typeface="Arial"/>
              </a:rPr>
              <a:t> التوزيع</a:t>
            </a:r>
            <a:endParaRPr b="0" lang="en-US" sz="2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2800" spc="-1" strike="noStrike">
                <a:solidFill>
                  <a:srgbClr val="000000"/>
                </a:solidFill>
                <a:latin typeface="Arial"/>
              </a:rPr>
              <a:t>          تتكون منافذ التوزيع غير المباشرة التي سبق الحديث عنها من عدد من المنشآت التي تتولى عملية توزيع السلع المختلفة من المنتج إلى المستهلك النهائي أو المستعمل الصناعي و هذه المنشآت هي منشآت تجارة التجزئة و منشآت تجارة الجملة، و الوكلاء و السماسر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1"/>
          <p:cNvSpPr/>
          <p:nvPr/>
        </p:nvSpPr>
        <p:spPr>
          <a:xfrm>
            <a:off x="395280" y="333360"/>
            <a:ext cx="7561440" cy="4391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0000"/>
                </a:solidFill>
                <a:latin typeface="Arial"/>
              </a:rPr>
              <a:t>انواع مؤسسات تجارة التجزئة</a:t>
            </a:r>
            <a:r>
              <a:rPr b="1" lang="ar-SA" sz="2400" spc="-1" strike="noStrike">
                <a:solidFill>
                  <a:srgbClr val="000000"/>
                </a:solidFill>
                <a:latin typeface="Arial"/>
              </a:rPr>
              <a:t>:</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بالإضافة إلى أساليب التوزيع المباشر التي سبق الحديث عنها هناك:</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المتاجر العام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ar-DZ" sz="1800" spc="-1" strike="noStrike">
                <a:solidFill>
                  <a:srgbClr val="000000"/>
                </a:solidFill>
                <a:latin typeface="Arial"/>
              </a:rPr>
              <a:t>متاجر المجموعة السلعية المحدودة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المتاجر المتخص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متاجر الأقسام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متاجر السوبر ماركت</a:t>
            </a:r>
            <a:r>
              <a:rPr b="0" lang="ar-DZ" sz="1800" spc="-1" strike="noStrike">
                <a:solidFill>
                  <a:srgbClr val="000000"/>
                </a:solidFill>
                <a:latin typeface="Arial"/>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1800" spc="-1" strike="noStrike">
                <a:solidFill>
                  <a:srgbClr val="000000"/>
                </a:solidFill>
                <a:latin typeface="Arial"/>
              </a:rPr>
              <a:t>متاجر الخصم</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ff0000"/>
                </a:solidFill>
                <a:latin typeface="Arial"/>
              </a:rPr>
              <a:t>انواع مؤسسات تجارة</a:t>
            </a:r>
            <a:r>
              <a:rPr b="1" lang="ar-SA" sz="2400" spc="-1" strike="noStrike">
                <a:solidFill>
                  <a:srgbClr val="ff0000"/>
                </a:solidFill>
                <a:latin typeface="Arial"/>
              </a:rPr>
              <a:t> الجملة</a:t>
            </a:r>
            <a:r>
              <a:rPr b="1" lang="ar-SA" sz="1800" spc="-1" strike="noStrike">
                <a:solidFill>
                  <a:srgbClr val="000000"/>
                </a:solidFill>
                <a:latin typeface="Arial"/>
              </a:rPr>
              <a:t>:</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وع الأول حسب ملكيتهم للسلعة تنتقل اليهم ملكية السلعة وهم تجار الجملة التقليديو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نوع الثاني لا تنتقل اليهم ملكية السلعة ولا يتحملون أية مخاطر .....وهم الوكلاء والسماس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Box 2"/>
          <p:cNvSpPr/>
          <p:nvPr/>
        </p:nvSpPr>
        <p:spPr>
          <a:xfrm>
            <a:off x="324000" y="404640"/>
            <a:ext cx="8208720" cy="6067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Arial"/>
              </a:rPr>
              <a:t>مستقبل نظام التوزيع المادي</a:t>
            </a:r>
            <a:endParaRPr b="0" lang="en-US" sz="32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اتجاهات محتمل حدوثها في البيئة التسويقية وسيكون لها أثر في مستقبل التوزيع المادي واداراته أهمها:</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1</a:t>
            </a:r>
            <a:r>
              <a:rPr b="0" lang="ar-SA" sz="3600" spc="-1" strike="noStrike">
                <a:solidFill>
                  <a:srgbClr val="000000"/>
                </a:solidFill>
                <a:latin typeface="Arial"/>
              </a:rPr>
              <a:t>- الاهتمام بمصالح المستهلكين.</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2</a:t>
            </a:r>
            <a:r>
              <a:rPr b="0" lang="ar-SA" sz="3600" spc="-1" strike="noStrike">
                <a:solidFill>
                  <a:srgbClr val="000000"/>
                </a:solidFill>
                <a:latin typeface="Arial"/>
              </a:rPr>
              <a:t>- زيادة شدة المنافسة بين المشروعات المختلفة.</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3</a:t>
            </a:r>
            <a:r>
              <a:rPr b="0" lang="ar-SA" sz="3600" spc="-1" strike="noStrike">
                <a:solidFill>
                  <a:srgbClr val="000000"/>
                </a:solidFill>
                <a:latin typeface="Arial"/>
              </a:rPr>
              <a:t>- تقديم أنواع جديدة من السلع .</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الاعتماد أكثر على الآلات الحاسبة الألكترون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8"/>
          <p:cNvSpPr/>
          <p:nvPr/>
        </p:nvSpPr>
        <p:spPr>
          <a:xfrm>
            <a:off x="250920" y="836640"/>
            <a:ext cx="8642160" cy="9357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ea typeface="PT Bold Heading"/>
              </a:rPr>
              <a:t>2</a:t>
            </a:r>
            <a:r>
              <a:rPr b="0" lang="ar-SA" sz="4400" spc="-1" strike="noStrike">
                <a:solidFill>
                  <a:srgbClr val="002060"/>
                </a:solidFill>
                <a:latin typeface="Arial"/>
                <a:ea typeface="PT Bold Heading"/>
              </a:rPr>
              <a:t>/وظيفة التخزين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أولاً:</a:t>
            </a:r>
            <a:r>
              <a:rPr b="1" lang="ar-SA" sz="4800" spc="-1" strike="noStrike">
                <a:solidFill>
                  <a:srgbClr val="000000"/>
                </a:solidFill>
                <a:latin typeface="Arial"/>
                <a:cs typeface="PT Bold Heading"/>
              </a:rPr>
              <a:t>مفهوم التخزين</a:t>
            </a:r>
            <a:endParaRPr b="0" lang="en-US" sz="48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عرف التخزين </a:t>
            </a:r>
            <a:r>
              <a:rPr b="0" lang="ar-DZ" sz="3600" spc="-1" strike="noStrike">
                <a:solidFill>
                  <a:srgbClr val="000000"/>
                </a:solidFill>
                <a:latin typeface="Arial"/>
              </a:rPr>
              <a:t>على أنه الوظيفة الثانية من وظائف التوزيع المادي الذي يعمل على خلق منافذ للسلعة نتيجة الاحتفاظ بها من وقت إنتاجها إلى وقت استهلاكها كما يمكن تعريف التخزين على أنه من أهم الوظائف التي تقوم بتخزين السلع بمختلف أنواعها و ذلك لحمايتها من التلف و السرقة و ضمان استمراريتها في كل المواسم و على مدار السنة</a:t>
            </a:r>
            <a:r>
              <a:rPr b="0" lang="ar-DZ" sz="3200" spc="-1" strike="noStrike">
                <a:solidFill>
                  <a:srgbClr val="000000"/>
                </a:solidFill>
                <a:latin typeface="Arial"/>
              </a:rPr>
              <a:t>  </a:t>
            </a:r>
            <a:r>
              <a:rPr b="0" lang="ar-SA" sz="4400" spc="-1" strike="noStrike">
                <a:solidFill>
                  <a:srgbClr val="000000"/>
                </a:solidFill>
                <a:latin typeface="Arial"/>
              </a:rPr>
              <a:t> </a:t>
            </a:r>
            <a:r>
              <a:rPr b="0" lang="ar-DZ" sz="4400" spc="-1" strike="noStrike">
                <a:solidFill>
                  <a:srgbClr val="000000"/>
                </a:solidFill>
                <a:latin typeface="Arial"/>
              </a:rPr>
              <a:t> </a:t>
            </a: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8"/>
          <p:cNvSpPr/>
          <p:nvPr/>
        </p:nvSpPr>
        <p:spPr>
          <a:xfrm>
            <a:off x="684360" y="625320"/>
            <a:ext cx="7775280" cy="7226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أهمية التخزين </a:t>
            </a:r>
            <a:r>
              <a:rPr b="0" lang="ar-DZ" sz="3600" spc="-1" strike="noStrike">
                <a:solidFill>
                  <a:srgbClr val="000000"/>
                </a:solidFill>
                <a:latin typeface="Arial"/>
              </a:rPr>
              <a:t>:</a:t>
            </a:r>
            <a:endParaRPr b="0" lang="en-US" sz="36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00000"/>
                </a:solidFill>
                <a:latin typeface="Arial"/>
              </a:rPr>
              <a:t>منع الاختناقات السلعية خاصة الموسمية التي يكون الطلب عليها على مدار السنة مثل الخضر و الفواكه التي يتم إنتاجها في مواسم معينة و يستمر الطلب عليها طوال السنة.</a:t>
            </a:r>
            <a:endParaRPr b="0" lang="en-US" sz="3600" spc="-1" strike="noStrike">
              <a:solidFill>
                <a:srgbClr val="000000"/>
              </a:solidFill>
              <a:latin typeface="Arial"/>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DZ" sz="3600" spc="-1" strike="noStrike">
                <a:solidFill>
                  <a:srgbClr val="000000"/>
                </a:solidFill>
                <a:latin typeface="Arial"/>
              </a:rPr>
              <a:t>التخزين و الاحتفاظ بالسلع التي تنتج على مدار السنة لكن الطلب عليها يكون موسميا مثل الألبسة الصوفية أو الملابس الصيفية حيث تنتج هذه الملابس على مدار السنة و يتم تخزينها إل</a:t>
            </a:r>
            <a:r>
              <a:rPr b="0" lang="ar-SA" sz="3600" spc="-1" strike="noStrike">
                <a:solidFill>
                  <a:srgbClr val="000000"/>
                </a:solidFill>
                <a:latin typeface="Arial"/>
              </a:rPr>
              <a:t>ي</a:t>
            </a:r>
            <a:r>
              <a:rPr b="0" lang="ar-DZ" sz="3600" spc="-1" strike="noStrike">
                <a:solidFill>
                  <a:srgbClr val="000000"/>
                </a:solidFill>
                <a:latin typeface="Arial"/>
              </a:rPr>
              <a:t> حين الحاجة إليها</a:t>
            </a:r>
            <a:r>
              <a:rPr b="0" lang="ar-SA" sz="3600" spc="-1" strike="noStrike">
                <a:solidFill>
                  <a:srgbClr val="000000"/>
                </a:solidFill>
                <a:latin typeface="Arial"/>
              </a:rPr>
              <a:t>.</a:t>
            </a:r>
            <a:endParaRPr b="0" lang="en-US" sz="3600" spc="-1" strike="noStrike">
              <a:solidFill>
                <a:srgbClr val="000000"/>
              </a:solidFill>
              <a:latin typeface="Arial"/>
            </a:endParaRPr>
          </a:p>
          <a:p>
            <a:pPr algn="ct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8"/>
          <p:cNvSpPr/>
          <p:nvPr/>
        </p:nvSpPr>
        <p:spPr>
          <a:xfrm>
            <a:off x="684360" y="625320"/>
            <a:ext cx="7775280" cy="722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ثانيا: أنواع المخازن</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1</a:t>
            </a:r>
            <a:r>
              <a:rPr b="1" lang="ar-SA" sz="3600" spc="-1" strike="noStrike">
                <a:solidFill>
                  <a:srgbClr val="000000"/>
                </a:solidFill>
                <a:latin typeface="Arial"/>
              </a:rPr>
              <a:t>-</a:t>
            </a:r>
            <a:r>
              <a:rPr b="1" lang="ar-DZ" sz="3600" spc="-1" strike="noStrike">
                <a:solidFill>
                  <a:srgbClr val="000000"/>
                </a:solidFill>
                <a:latin typeface="Arial"/>
              </a:rPr>
              <a:t>المخازن </a:t>
            </a:r>
            <a:r>
              <a:rPr b="1" lang="ar-SA" sz="3600" spc="-1" strike="noStrike">
                <a:solidFill>
                  <a:srgbClr val="000000"/>
                </a:solidFill>
                <a:latin typeface="Arial"/>
              </a:rPr>
              <a:t>الخاص</a:t>
            </a:r>
            <a:r>
              <a:rPr b="1" lang="ar-DZ" sz="3600" spc="-1" strike="noStrike">
                <a:solidFill>
                  <a:srgbClr val="000000"/>
                </a:solidFill>
                <a:latin typeface="Arial"/>
              </a:rPr>
              <a:t>ة: </a:t>
            </a:r>
            <a:r>
              <a:rPr b="0" lang="ar-DZ" sz="3600" spc="-1" strike="noStrike">
                <a:solidFill>
                  <a:srgbClr val="000000"/>
                </a:solidFill>
                <a:latin typeface="Arial"/>
              </a:rPr>
              <a:t>هي المخازن التي تملكها المؤسسات و التي تستخدمها في تخزين البضائع الخاصة بها وهذا النوع يمثل نسبة كبيرة في كثير من المناطق حيث الكثير من المنتجين و الموزعين يمتلكون مخازن خاصة بهم و هي ملحقة إما بمصانعهم أو بمتاجرهم و هذه المخازن تتميز بارتفاع تكاليف امتلاكها و إدارتها و لا تستخدم المؤسسات هذه المخازن إلا إذا توفرت لديها منتجات بكمية كبيرة و تحتاج إلى خدمات دائمة.</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8"/>
          <p:cNvSpPr/>
          <p:nvPr/>
        </p:nvSpPr>
        <p:spPr>
          <a:xfrm>
            <a:off x="250920" y="189000"/>
            <a:ext cx="760716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2</a:t>
            </a:r>
            <a:r>
              <a:rPr b="1" lang="ar-SA" sz="3600" spc="-1" strike="noStrike">
                <a:solidFill>
                  <a:srgbClr val="000000"/>
                </a:solidFill>
                <a:latin typeface="Arial"/>
              </a:rPr>
              <a:t>-</a:t>
            </a:r>
            <a:r>
              <a:rPr b="1" lang="ar-DZ" sz="3600" spc="-1" strike="noStrike">
                <a:solidFill>
                  <a:srgbClr val="000000"/>
                </a:solidFill>
                <a:latin typeface="Arial"/>
              </a:rPr>
              <a:t>المخازن العامة: </a:t>
            </a:r>
            <a:r>
              <a:rPr b="0" lang="ar-DZ" sz="3600" spc="-1" strike="noStrike">
                <a:solidFill>
                  <a:srgbClr val="000000"/>
                </a:solidFill>
                <a:latin typeface="Arial"/>
              </a:rPr>
              <a:t>هي مخازن متخصصة في تقديم خدمات تخزين للمؤسسات التي تحتاج إلى خدمات التخزين بصفة مستمرة مقابل أجر يتفق عليه حسب الحيز الذي تشغله خدمات أخرى كاستلام البضائع و تفريغها و تخزينها و إعادة شحنها للمشترين حسب الكمية المطلوبة و يتحمل هذا النوع من المخازن المسؤولية فيما يتعلق بكسر أو فقدان السلع، و تنقسم المخازن العامة إلى ما يلي:</a:t>
            </a:r>
            <a:endParaRPr b="0" lang="en-US" sz="3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600" spc="-1" strike="noStrike">
                <a:solidFill>
                  <a:srgbClr val="000000"/>
                </a:solidFill>
                <a:latin typeface="Arial"/>
              </a:rPr>
              <a:t>مخازن متخصصة</a:t>
            </a:r>
            <a:r>
              <a:rPr b="1" lang="ar-SA" sz="3600" spc="-1" strike="noStrike">
                <a:solidFill>
                  <a:srgbClr val="000000"/>
                </a:solidFill>
                <a:latin typeface="Arial"/>
              </a:rPr>
              <a:t> ،</a:t>
            </a:r>
            <a:r>
              <a:rPr b="1" lang="ar-DZ" sz="3600" spc="-1" strike="noStrike">
                <a:solidFill>
                  <a:srgbClr val="000000"/>
                </a:solidFill>
                <a:latin typeface="Arial"/>
              </a:rPr>
              <a:t> المخازن المثلجة</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Box 1"/>
          <p:cNvSpPr/>
          <p:nvPr/>
        </p:nvSpPr>
        <p:spPr>
          <a:xfrm>
            <a:off x="179280" y="981000"/>
            <a:ext cx="8353440" cy="7043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Arial"/>
              </a:rPr>
              <a:t>ثالثاً</a:t>
            </a:r>
            <a:r>
              <a:rPr b="1" lang="ar-DZ" sz="2400" spc="-1" strike="noStrike">
                <a:solidFill>
                  <a:srgbClr val="ff0000"/>
                </a:solidFill>
                <a:latin typeface="Arial"/>
              </a:rPr>
              <a:t>:</a:t>
            </a:r>
            <a:r>
              <a:rPr b="0" lang="ar-DZ" sz="2400" spc="-1" strike="noStrike">
                <a:solidFill>
                  <a:srgbClr val="ff0000"/>
                </a:solidFill>
                <a:latin typeface="Arial"/>
              </a:rPr>
              <a:t> </a:t>
            </a:r>
            <a:r>
              <a:rPr b="1" lang="ar-DZ" sz="2400" spc="-1" strike="noStrike">
                <a:solidFill>
                  <a:srgbClr val="ff0000"/>
                </a:solidFill>
                <a:latin typeface="Arial"/>
              </a:rPr>
              <a:t>العوامل المحددة لاختيار مواقع التخزين</a:t>
            </a:r>
            <a:r>
              <a:rPr b="0" lang="ar-DZ" sz="2400" spc="-1" strike="noStrike">
                <a:solidFill>
                  <a:srgbClr val="ff0000"/>
                </a:solidFill>
                <a:latin typeface="Arial"/>
              </a:rPr>
              <a:t>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0" lang="ar-DZ" sz="2400" spc="-1" strike="noStrike">
                <a:solidFill>
                  <a:srgbClr val="000000"/>
                </a:solidFill>
                <a:latin typeface="Arial"/>
              </a:rPr>
              <a:t>إن قرار اختيار مواقع المخازن يخضع إلى عدة عوامل نذكر منها:</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SA" sz="2400" spc="-1" strike="noStrike">
                <a:solidFill>
                  <a:srgbClr val="000000"/>
                </a:solidFill>
                <a:latin typeface="Arial"/>
              </a:rPr>
              <a:t>-</a:t>
            </a:r>
            <a:r>
              <a:rPr b="1" lang="ar-DZ" sz="2400" spc="-1" strike="noStrike">
                <a:solidFill>
                  <a:srgbClr val="000000"/>
                </a:solidFill>
                <a:latin typeface="Arial"/>
              </a:rPr>
              <a:t>حسب طبيعة منفذ التوزيع: </a:t>
            </a:r>
            <a:r>
              <a:rPr b="0" lang="ar-DZ" sz="2400" spc="-1" strike="noStrike">
                <a:solidFill>
                  <a:srgbClr val="000000"/>
                </a:solidFill>
                <a:latin typeface="Arial"/>
              </a:rPr>
              <a:t>يتخذ منفذ التوزيع في تحديد عدد مواقع المخازن التي يجب اعتمادها بحيث أنه إذا استعمل المنتج سياسة التوزيع المباشر، وجب عليه الاحتفاظ بعدد كبير من المخازن و ينخفض هذا العدد كثيرا إذا ما اعتمد المنتج على التوزيع غير المباشر و مسؤولية التخزين في هذه الحالة تكون على عاتق الوسطاء.</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SA" sz="2400" spc="-1" strike="noStrike">
                <a:solidFill>
                  <a:srgbClr val="000000"/>
                </a:solidFill>
                <a:latin typeface="Arial"/>
              </a:rPr>
              <a:t>-</a:t>
            </a:r>
            <a:r>
              <a:rPr b="1" lang="ar-DZ" sz="2400" spc="-1" strike="noStrike">
                <a:solidFill>
                  <a:srgbClr val="000000"/>
                </a:solidFill>
                <a:latin typeface="Arial"/>
              </a:rPr>
              <a:t>حسب طبيعة السوق: </a:t>
            </a:r>
            <a:r>
              <a:rPr b="0" lang="ar-DZ" sz="2400" spc="-1" strike="noStrike">
                <a:solidFill>
                  <a:srgbClr val="000000"/>
                </a:solidFill>
                <a:latin typeface="Arial"/>
              </a:rPr>
              <a:t>و يعني هذا كله أنه كلما اتسع نطاق التوزيع كلما زادت الحاجة إلى الاحتفاظ بعدد كبير من المخازن، بحيث نجد أن هذا العدد يتأثر بسرعة و كفاءة النقل المستعمل، وهذا يعني أنه كلما اعتمدت المؤسسة وسائل سريعة كلما قلت المخاز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SA" sz="2400" spc="-1" strike="noStrike">
                <a:solidFill>
                  <a:srgbClr val="000000"/>
                </a:solidFill>
                <a:latin typeface="Arial"/>
              </a:rPr>
              <a:t>-</a:t>
            </a:r>
            <a:r>
              <a:rPr b="1" lang="ar-DZ" sz="2400" spc="-1" strike="noStrike">
                <a:solidFill>
                  <a:srgbClr val="000000"/>
                </a:solidFill>
                <a:latin typeface="Arial"/>
              </a:rPr>
              <a:t>حسب طبيعة السلعة:</a:t>
            </a:r>
            <a:r>
              <a:rPr b="0" lang="ar-DZ" sz="2400" spc="-1" strike="noStrike">
                <a:solidFill>
                  <a:srgbClr val="000000"/>
                </a:solidFill>
                <a:latin typeface="Arial"/>
              </a:rPr>
              <a:t> إن طبيعة السلعة في حد ذاتها تأثر على اختيار الموقع الأمثل للمخزون، و ذلك باختلاف طبيعتها، فهي حالة السلع سريعة التلف مثلا تتركز المخازن الخاصة بها بالقرب من مراكز إنتاجها، أما في حالة السلع الأخرى التي لا تتصف بسرعة التلف فتركز مخازنها في أغلب الأحيان بالقرب من الأسواق.</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extBox 1"/>
          <p:cNvSpPr/>
          <p:nvPr/>
        </p:nvSpPr>
        <p:spPr>
          <a:xfrm>
            <a:off x="250920" y="404640"/>
            <a:ext cx="8424720" cy="771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3</a:t>
            </a:r>
            <a:r>
              <a:rPr b="1" lang="ar-SA" sz="3600" spc="-1" strike="noStrike">
                <a:solidFill>
                  <a:srgbClr val="000000"/>
                </a:solidFill>
                <a:latin typeface="Arial"/>
              </a:rPr>
              <a:t>/</a:t>
            </a:r>
            <a:r>
              <a:rPr b="1" lang="ar-DZ" sz="3600" spc="-1" strike="noStrike">
                <a:solidFill>
                  <a:srgbClr val="000000"/>
                </a:solidFill>
                <a:latin typeface="Arial"/>
              </a:rPr>
              <a:t>المناولة( التسليم)</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Arial"/>
              </a:rPr>
              <a:t>أولا: تعريف </a:t>
            </a:r>
            <a:r>
              <a:rPr b="1" lang="ar-SA" sz="3200" spc="-1" strike="noStrike">
                <a:solidFill>
                  <a:srgbClr val="ff0000"/>
                </a:solidFill>
                <a:latin typeface="Arial"/>
              </a:rPr>
              <a:t>وأهداف </a:t>
            </a:r>
            <a:r>
              <a:rPr b="1" lang="ar-DZ" sz="3200" spc="-1" strike="noStrike">
                <a:solidFill>
                  <a:srgbClr val="ff0000"/>
                </a:solidFill>
                <a:latin typeface="Arial"/>
              </a:rPr>
              <a:t>المناولة</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1" lang="ar-SA" sz="2400" spc="-1" strike="noStrike">
                <a:solidFill>
                  <a:srgbClr val="000000"/>
                </a:solidFill>
                <a:latin typeface="Arial"/>
              </a:rPr>
              <a:t>تعرف </a:t>
            </a:r>
            <a:r>
              <a:rPr b="1" lang="ar-DZ" sz="2400" spc="-1" strike="noStrike">
                <a:solidFill>
                  <a:srgbClr val="000000"/>
                </a:solidFill>
                <a:latin typeface="Arial"/>
              </a:rPr>
              <a:t>على أنها </a:t>
            </a:r>
            <a:r>
              <a:rPr b="1" lang="ar-SA" sz="2400" spc="-1" strike="noStrike">
                <a:solidFill>
                  <a:srgbClr val="000000"/>
                </a:solidFill>
                <a:latin typeface="Arial"/>
              </a:rPr>
              <a:t>(</a:t>
            </a:r>
            <a:r>
              <a:rPr b="1" lang="ar-DZ" sz="2400" spc="-1" strike="noStrike">
                <a:solidFill>
                  <a:srgbClr val="000000"/>
                </a:solidFill>
                <a:latin typeface="Arial"/>
              </a:rPr>
              <a:t>تحريك المواد بهدف تجهيزها و ترتيبها و وضعها في مكان يسهل طريقة حركتها و خزنها و نقلها</a:t>
            </a:r>
            <a:r>
              <a:rPr b="1" lang="ar-SA" sz="2400" spc="-1" strike="noStrike">
                <a:solidFill>
                  <a:srgbClr val="000000"/>
                </a:solidFill>
                <a:latin typeface="Arial"/>
              </a:rPr>
              <a:t>)</a:t>
            </a:r>
            <a:r>
              <a:rPr b="1" lang="ar-DZ" sz="2400" spc="-1" strike="noStrike">
                <a:solidFill>
                  <a:srgbClr val="000000"/>
                </a:solidFill>
                <a:latin typeface="Arial"/>
              </a:rPr>
              <a:t> كما يمكن تعريفها على أنها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Arial"/>
              </a:rPr>
              <a:t>"شحن و تفريغ السلع بهدف تسليمها و جعلها في متناول الزبو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400" spc="-1" strike="noStrike">
                <a:solidFill>
                  <a:srgbClr val="000000"/>
                </a:solidFill>
                <a:latin typeface="Arial"/>
              </a:rPr>
              <a:t>و تهدف المناولة إلى تحقيق بعض الأهداف التي نذكر منها:</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1</a:t>
            </a:r>
            <a:r>
              <a:rPr b="1" lang="ar-DZ" sz="2400" spc="-1" strike="noStrike">
                <a:solidFill>
                  <a:srgbClr val="000000"/>
                </a:solidFill>
                <a:latin typeface="Arial"/>
              </a:rPr>
              <a:t>- تحقيق الأمان للأفراد أثناء عملية تناقل المواد و بذلك ينخفض معدل الحوادث و هذا يؤدي إلى انخفاض أقساط التأمين و اطمئنان الأفراد على حالتهم و أرباحهم و زيادة نشاطهم.</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2</a:t>
            </a:r>
            <a:r>
              <a:rPr b="1" lang="ar-DZ" sz="2400" spc="-1" strike="noStrike">
                <a:solidFill>
                  <a:srgbClr val="000000"/>
                </a:solidFill>
                <a:latin typeface="Arial"/>
              </a:rPr>
              <a:t>- تقليص الوقت اللازم للعملية أي استغلال المساحات المعدة للتخزين بصورة عملية و علم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3</a:t>
            </a:r>
            <a:r>
              <a:rPr b="1" lang="ar-DZ" sz="2400" spc="-1" strike="noStrike">
                <a:solidFill>
                  <a:srgbClr val="000000"/>
                </a:solidFill>
                <a:latin typeface="Arial"/>
              </a:rPr>
              <a:t>- المناولة الجيدة تحقق ارتفاع في العملية الإنتاجية.</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DZ" sz="2400" spc="-1" strike="noStrike">
                <a:solidFill>
                  <a:srgbClr val="000000"/>
                </a:solidFill>
                <a:latin typeface="Arial"/>
              </a:rPr>
              <a:t>- التحكم في التدفق للمواد بالنسبة للعمليات الإنتاجية التي تتطلب المتابعة</a:t>
            </a:r>
            <a:r>
              <a:rPr b="0" lang="ar-DZ" sz="2400" spc="-1" strike="noStrike">
                <a:solidFill>
                  <a:srgbClr val="000000"/>
                </a:solidFill>
                <a:latin typeface="Arial"/>
              </a:rPr>
              <a:t>.</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TextBox 1"/>
          <p:cNvSpPr/>
          <p:nvPr/>
        </p:nvSpPr>
        <p:spPr>
          <a:xfrm>
            <a:off x="250920" y="1844640"/>
            <a:ext cx="8569080" cy="5700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0000"/>
                </a:solidFill>
                <a:latin typeface="Arial"/>
              </a:rPr>
              <a:t>ثانيا: وسائل التسليم</a:t>
            </a:r>
            <a:endParaRPr b="0" lang="en-US" sz="32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DZ" sz="1800" spc="-1" strike="noStrike">
                <a:solidFill>
                  <a:srgbClr val="000000"/>
                </a:solidFill>
                <a:latin typeface="Arial"/>
              </a:rPr>
              <a:t>          </a:t>
            </a:r>
            <a:r>
              <a:rPr b="0" lang="ar-DZ" sz="2400" spc="-1" strike="noStrike">
                <a:solidFill>
                  <a:srgbClr val="000000"/>
                </a:solidFill>
                <a:latin typeface="Arial"/>
              </a:rPr>
              <a:t>تستعمل في وظيفة المناولة وسائل تختلف عن بعضها البعض نذكر منها:</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ا</a:t>
            </a:r>
            <a:r>
              <a:rPr b="1" lang="ar-DZ" sz="2800" spc="-1" strike="noStrike">
                <a:solidFill>
                  <a:srgbClr val="000000"/>
                </a:solidFill>
                <a:latin typeface="Arial"/>
              </a:rPr>
              <a:t>لوسائل الآلية: </a:t>
            </a:r>
            <a:r>
              <a:rPr b="0" lang="ar-DZ" sz="2800" spc="-1" strike="noStrike">
                <a:solidFill>
                  <a:srgbClr val="000000"/>
                </a:solidFill>
                <a:latin typeface="Arial"/>
              </a:rPr>
              <a:t>تعتمد على قوة المحرك في تحريك الوسيلة و أهمها الرافعات الشوك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ا</a:t>
            </a:r>
            <a:r>
              <a:rPr b="1" lang="ar-DZ" sz="2800" spc="-1" strike="noStrike">
                <a:solidFill>
                  <a:srgbClr val="000000"/>
                </a:solidFill>
                <a:latin typeface="Arial"/>
              </a:rPr>
              <a:t>لوسائل اليدوية:</a:t>
            </a:r>
            <a:r>
              <a:rPr b="0" lang="ar-DZ" sz="2800" spc="-1" strike="noStrike">
                <a:solidFill>
                  <a:srgbClr val="000000"/>
                </a:solidFill>
                <a:latin typeface="Arial"/>
              </a:rPr>
              <a:t> تعتمد على قوة العضلات في تحريك الوسائل أهمها العربات و الرافعات اليدوية.</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3</a:t>
            </a:r>
            <a:r>
              <a:rPr b="0" lang="ar-SA" sz="2800" spc="-1" strike="noStrike">
                <a:solidFill>
                  <a:srgbClr val="000000"/>
                </a:solidFill>
                <a:latin typeface="Arial"/>
              </a:rPr>
              <a:t>-</a:t>
            </a:r>
            <a:r>
              <a:rPr b="1" lang="ar-DZ" sz="2800" spc="-1" strike="noStrike">
                <a:solidFill>
                  <a:srgbClr val="000000"/>
                </a:solidFill>
                <a:latin typeface="Arial"/>
              </a:rPr>
              <a:t> الإنسان الآلي: </a:t>
            </a:r>
            <a:r>
              <a:rPr b="0" lang="ar-DZ" sz="2800" spc="-1" strike="noStrike">
                <a:solidFill>
                  <a:srgbClr val="000000"/>
                </a:solidFill>
                <a:latin typeface="Arial"/>
              </a:rPr>
              <a:t>يستخدم في مناولة المواد و هناك العديد من تلك الوسائل التي تستخدم لهذا الغرض و يعمل بشتى الطرق و مختلف الاستعمالات.</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a:t>
            </a:r>
            <a:r>
              <a:rPr b="1" lang="ar-DZ" sz="2800" spc="-1" strike="noStrike">
                <a:solidFill>
                  <a:srgbClr val="000000"/>
                </a:solidFill>
                <a:latin typeface="Arial"/>
              </a:rPr>
              <a:t>المصاعد الكهربائية:</a:t>
            </a:r>
            <a:r>
              <a:rPr b="0" lang="ar-DZ" sz="2800" spc="-1" strike="noStrike">
                <a:solidFill>
                  <a:srgbClr val="000000"/>
                </a:solidFill>
                <a:latin typeface="Arial"/>
              </a:rPr>
              <a:t> تستعمل لنقل المواد و الأفراد في المباني التي تكون عالية و مكونة من عدة طوابق.</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Box 1"/>
          <p:cNvSpPr/>
          <p:nvPr/>
        </p:nvSpPr>
        <p:spPr>
          <a:xfrm>
            <a:off x="395280" y="1557360"/>
            <a:ext cx="7848720" cy="5579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Times New Roman"/>
                <a:cs typeface="Times New Roman"/>
              </a:rPr>
              <a:t>ثالثاً:العوامل المؤثرة في اختيار معدات مناولة المنتجات/الموا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1</a:t>
            </a:r>
            <a:r>
              <a:rPr b="1" lang="ar-SA" sz="4000" spc="-1" strike="noStrike">
                <a:solidFill>
                  <a:srgbClr val="000000"/>
                </a:solidFill>
                <a:latin typeface="Arial"/>
              </a:rPr>
              <a:t>-طبيعة المنتج أو المواد. </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 </a:t>
            </a:r>
            <a:r>
              <a:rPr b="1" lang="ar-SA" sz="4000" spc="-1" strike="noStrike">
                <a:solidFill>
                  <a:srgbClr val="000000"/>
                </a:solidFill>
                <a:latin typeface="Arial"/>
              </a:rPr>
              <a:t>2</a:t>
            </a:r>
            <a:r>
              <a:rPr b="1" lang="ar-SA" sz="4000" spc="-1" strike="noStrike">
                <a:solidFill>
                  <a:srgbClr val="000000"/>
                </a:solidFill>
                <a:latin typeface="Arial"/>
              </a:rPr>
              <a:t>-الخصائص المادية للمبنى أو المخزون.</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3</a:t>
            </a:r>
            <a:r>
              <a:rPr b="1" lang="ar-SA" sz="4000" spc="-1" strike="noStrike">
                <a:solidFill>
                  <a:srgbClr val="000000"/>
                </a:solidFill>
                <a:latin typeface="Arial"/>
              </a:rPr>
              <a:t>-مقدار المواد أو المنتجات التي يتم مناولتها.</a:t>
            </a:r>
            <a:endParaRPr b="0" lang="en-US" sz="4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4</a:t>
            </a:r>
            <a:r>
              <a:rPr b="1" lang="ar-SA" sz="4000" spc="-1" strike="noStrike">
                <a:solidFill>
                  <a:srgbClr val="000000"/>
                </a:solidFill>
                <a:latin typeface="Arial"/>
              </a:rPr>
              <a:t>-احتياجات المساحة لمعدات مناول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help</cp:lastModifiedBy>
  <dcterms:modified xsi:type="dcterms:W3CDTF">2017-11-26T17:30:18Z</dcterms:modified>
  <cp:revision>929</cp:revision>
  <dc:subject/>
  <dc:title>الشريحة 1</dc:title>
</cp:coreProperties>
</file>