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AE0FC-ED7D-405B-A556-5D55F6353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98607-6F5B-455E-9FC1-0808B4540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2B13FF-B600-4258-9ABE-BFB4F7C0BA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723800-ADC2-4B38-8EA9-7247E718AB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84E4C1-B849-48A4-851D-C29573F1CA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E158C3-0BA4-4974-999B-1114F812D7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68042B-4DFA-4B45-8B4D-2B13ADC15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B5FDB8-C878-4B96-8E63-C155419B51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A10C1E-92CD-4220-B9FE-1D3E430651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2B6CC0-FCA8-40A6-920C-049065E16A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20518C-269C-4B5A-8A9F-2C925181D8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A59970-B8C7-4AC0-AFF2-68FB7A728D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0E6F3-1BE4-4B4F-9FD1-6E731336E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A2C5A8-842D-4AD0-8242-C463F49304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DD3607-9FB0-423B-92F2-E78E697758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FD0F69-4999-4E97-90B9-82833C3C75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8B9FEC-88C1-4788-915D-62D6C91600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F21B9F-87AC-4FB1-BF27-F34F1CA9A1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E7035D-845D-44AA-A053-FE6E652182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B6E23C-8106-4981-B29F-FD0AF28AAF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EF9102-FD88-4FE3-85DA-CDDA11619D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E56B30-1DA3-4A95-8FF1-826C42FB84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553A92-0B9E-4B11-8176-FC09A1CDC9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EDA68-2B58-4FFB-BBFA-935B25C77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C04697-868C-455C-9D9F-47E79B902F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12EBD13-6976-468C-B5E5-BBECF6F3F4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639662-630C-478A-A830-9B0239224E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A979D7-350E-4B06-9851-209159E127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330812-8E06-4198-9AD2-35F91A7A65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36D95C-75E7-4AE0-B176-4C5E943C2E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0CBD31-0DCC-41AA-BDF5-C4A3896CF4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E34D62-EC69-4E92-8907-5339154DAC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886089-2896-42A5-B27F-213988329C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E6FE69-205F-43A8-8B4D-6387F1DF1D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97791-8465-4F8F-8176-308D77A3E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DF54E5-D19E-4D02-803A-E024B8436D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9B75CB-B628-4965-AA5D-38A719613B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EC171D-62AE-4EC3-99BB-B3011E9CEE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EA9850-3767-4BC5-B574-A86BC01071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8C53DB-5A1D-4678-842B-919B182FEE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D4E85E-A64C-4420-B07B-BDD16140E1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9B9F75-7268-4929-9D89-96B911053C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3BE43A-9B3A-40EA-A3C1-69BBA01F11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285873-264C-48AD-98E1-45056EF59C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B39A50-61EF-4F1D-9A01-D15B405222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ED5BE-D897-4242-B1F2-FEB847AEE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DCB75F-383B-4F5B-8452-6C0D313246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6A9A2C-76F0-472E-85B1-86AAE2670D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058480-C906-4A6E-8145-528CAB4D2C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99B6863-79E2-4A9D-913E-467F7EE380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F56AEF-A0BB-4E93-B27B-CB8B0DCA47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ABF5D-D07D-4BB3-8A2B-899784A09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24595-5C8B-4E62-A3D9-197C21F24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952AA-9B91-44A5-A8AC-A7420ED29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C21B9-19D5-4E43-ABE8-69698CE08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4150F-4BA6-449D-8DD7-157E21A00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8B688-2B37-4FB8-ACFA-B4AF3B52A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87479-6C0D-4363-98B1-C5D232226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CB8B0-269D-40D5-8FF8-D8DFBB245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BF0A3-B7AE-43D4-8EA2-3F830FB92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A1C71-6F0F-49D8-8F55-C481964FE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DF3C1-3143-40F1-983F-E4FCAB052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2084E7-54D2-487E-B360-3BA10830B6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F84AC-40CD-4010-B0A8-023461200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8E0827-7509-473E-8EF9-A9D9BEEA0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FB34C-4035-49BD-8BA2-81954C1CE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E24C2-BDAC-4649-9C15-1BE9BEA81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C6BCD-6A2F-493C-A396-21FFF468C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4498C-7910-49DF-95B0-928FF81B6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B5186-2711-465D-BFDC-86CEEA4CF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5C469-972B-450E-B1B8-87A22DC23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A418D-8F36-402B-970B-EF43DA4E1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107664-B799-4C15-AB7B-97AFF73DC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508061-70CC-4D71-9361-67A090072E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95F71D-A28D-44F3-A24C-B695260242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B6C778-3177-47F9-B232-6721BA5734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7853C-7C32-4212-BFAE-CD161ECFB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209AF-3A67-4031-AADD-D10866DAF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5193B-FA14-4015-B89A-B86B1594F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18A59-A13F-4FF3-97DB-95BED7704C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E2AFD-66DE-4417-B281-5F3490D05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3AC43-0267-4ECB-B3D1-04FD293138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A7A10-DB0B-4A35-B44D-D23389952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A7D3B-D063-49D1-8410-6A3534145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F5166D-0ED7-4930-80DC-18C4B3647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6BE07F-76B3-4B7C-A23B-AD5D63CA48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2275BD-9C99-4C8F-A0EF-2D4EB0664D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003D6D-1DB3-40CA-B30C-91CEF2C5CE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3CB2D7-18EB-4B26-88FF-CA47E37044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B42AF-AF0C-48D3-8E7F-93DA9C7EB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5FA256-7CBA-4B19-9FC1-13C66A3820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9FE5A-6468-4E01-8B3F-2C9568468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928DE-8B73-41F1-9FC6-95BE5DC404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A34DB4-C222-47DB-8C6F-BF6599335D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11482-BF82-4746-B69C-4E85185C42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5167FC-0D27-428F-95AA-EA40F4CA2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757EC-F5EC-48FF-A82A-5D5626B83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4DA6B6-5D9B-400F-A27C-CCAEAFAF1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139E9-4E47-49D0-AC70-2E47F6562F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6BAFC8-A086-40C8-ABEE-D7D3ED3E68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5273C-7B4A-4796-A508-8FF24F574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50F57E-4591-4D8E-80D8-0ADE8C28A7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ECB704-798E-4409-A986-361EAE674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AC01E-9974-456D-84C4-73067B4BA4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C9BA7-D2F1-4809-B8F8-94D77B32E8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00113C-31FA-4BF3-B74C-72659A05FC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C03200-A8DC-4630-9B44-DF50A355FB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E539F6-7101-4A05-8C55-20FDB584CE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01B8E-5E96-42C4-95A6-28C285E84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64223-BE5F-4D63-9119-E213E276D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DA89A3-AA7A-4198-AF20-117F19F8F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C911C-637F-4A46-BF25-B05A00AA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86B7F7-3CD5-45CB-B749-E2E54EE0D2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8AFF2C-2728-4A64-9B14-363AA091F2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89AB4C-7ADD-4A28-94E3-3DE75F1403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7BF296-4908-40F1-BB64-8E4F9AE955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AE1D5F-0E7C-4F1E-B989-068C0F9E8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C3E265-FC6C-4F1B-9339-B9B12A40D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A07584-1928-48CA-8DE7-4D476DEA6C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C6817C-C379-4B29-9F7A-E2384ACB86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5006DC-789B-454F-85B8-BE0D5FDF20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0B553-8C62-4105-88A8-9C202B89E3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DE788-0EEF-43FE-8721-656E81083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5E672-E1A5-4FD6-BDA5-1C07FC398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302035-C6A2-414D-8304-EB2C86A93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7940D9-88D1-4E23-91F3-DCC528E00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F93257-2C95-4710-82FC-92D9E80D9F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F0C5F3-9C75-4056-8025-4DF5318786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CEEB6E-2604-46E6-9C5C-31D1D4B286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C4F4A3-F7A0-427E-9B55-D1416415B6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1A5EC8-BB24-439E-8B59-B2AA3B6732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CD85B6-4731-4638-881F-2F4F6053D0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C2468C-00EC-4033-9EBC-F570F5CB6E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43AC1-F1A3-470C-8257-099BB6092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638D00-8CB6-4122-B0E8-40BE7CB91D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FAFF0-59A8-491D-A76D-F22C0417B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D6B70-AB34-4DD8-9442-546B4C2ADA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EBC1F3-4ED2-4211-BEAB-6F8AAECA23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30E130-4DB6-4783-B06F-A9CF920DB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83162F-08B7-41CD-9977-2F27280CF8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E6556D-F687-4BF0-BD6F-638298FEEE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09E0B3-C6D4-4BD9-905B-17532F9AA2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8DB8C7-B795-48EF-ACC9-1D4F255B03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D3E40B-5631-4D65-9306-3CF02029D2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0F91-3737-465E-9018-4E30E3A2D5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1460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1460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793F-CAFF-41D6-B863-40BC7EEF1B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1460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B905-4FC2-4DD3-BE60-436E30E9A1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1460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F749-E08F-4FF9-9C08-30BF5EF024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1460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8640" y="4998600"/>
              <a:ext cx="9135360" cy="1865880"/>
              <a:chOff x="8640" y="4998600"/>
              <a:chExt cx="9135360" cy="1865880"/>
            </a:xfrm>
          </p:grpSpPr>
          <p:pic>
            <p:nvPicPr>
              <p:cNvPr id="58" name="شكل حر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0602-0EC3-45D4-AC6C-9B48B1033FC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1460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7AE5-D8A7-4F19-9074-FF46E0C93E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1460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44A3-7A49-4FDB-972D-429AB27CA4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902A-F1C1-41EF-88D1-933B76CF1B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B6A1-FD7F-4F0D-A0EC-24A2B298F6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B7B0-1E92-4604-88F3-74E1376105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1460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9CDE-F972-4AF7-8AFC-212B3E4211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1460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7674-3589-472C-B0F6-FF5B87DDB8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2" name="Text Box 4"/>
          <p:cNvSpPr/>
          <p:nvPr/>
        </p:nvSpPr>
        <p:spPr>
          <a:xfrm>
            <a:off x="1908000" y="1341360"/>
            <a:ext cx="5443560" cy="1556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ماهية نظام التوزيع المادي</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539640" y="1484280"/>
            <a:ext cx="8229600" cy="52293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1</a:t>
            </a:r>
            <a:r>
              <a:rPr b="1" lang="ar-SA" sz="5400" spc="-1" strike="noStrike">
                <a:solidFill>
                  <a:srgbClr val="000000"/>
                </a:solidFill>
                <a:latin typeface="Lucida Sans Unicode"/>
              </a:rPr>
              <a:t>- مؤسسة النقل العام</a:t>
            </a:r>
            <a:endParaRPr b="0" lang="en-US" sz="5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2</a:t>
            </a:r>
            <a:r>
              <a:rPr b="1" lang="ar-SA" sz="5400" spc="-1" strike="noStrike">
                <a:solidFill>
                  <a:srgbClr val="000000"/>
                </a:solidFill>
                <a:latin typeface="Lucida Sans Unicode"/>
              </a:rPr>
              <a:t>- مؤسسة النقل التعاقدية</a:t>
            </a:r>
            <a:endParaRPr b="0" lang="en-US" sz="5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3</a:t>
            </a:r>
            <a:r>
              <a:rPr b="1" lang="ar-SA" sz="5400" spc="-1" strike="noStrike">
                <a:solidFill>
                  <a:srgbClr val="000000"/>
                </a:solidFill>
                <a:latin typeface="Lucida Sans Unicode"/>
              </a:rPr>
              <a:t>- أقسام الحركة التابعة للمشروع</a:t>
            </a:r>
            <a:endParaRPr b="0" lang="en-US" sz="5400" spc="-1" strike="noStrike">
              <a:solidFill>
                <a:srgbClr val="000000"/>
              </a:solidFill>
              <a:latin typeface="Lucida Sans Unicode"/>
            </a:endParaRPr>
          </a:p>
        </p:txBody>
      </p:sp>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Lucida Sans Unicode"/>
              </a:rPr>
              <a:t>أنواع مؤسسات النقل</a:t>
            </a:r>
            <a:endParaRPr b="1" lang="en-US" sz="48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539640" y="1484280"/>
            <a:ext cx="8229600" cy="52293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1</a:t>
            </a:r>
            <a:r>
              <a:rPr b="1" lang="ar-SA" sz="5400" spc="-1" strike="noStrike">
                <a:solidFill>
                  <a:srgbClr val="000000"/>
                </a:solidFill>
                <a:latin typeface="Lucida Sans Unicode"/>
              </a:rPr>
              <a:t>- وكلاء النقل</a:t>
            </a:r>
            <a:endParaRPr b="0" lang="en-US" sz="5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2</a:t>
            </a:r>
            <a:r>
              <a:rPr b="1" lang="ar-SA" sz="5400" spc="-1" strike="noStrike">
                <a:solidFill>
                  <a:srgbClr val="000000"/>
                </a:solidFill>
                <a:latin typeface="Lucida Sans Unicode"/>
              </a:rPr>
              <a:t>- وكلاء الشحن</a:t>
            </a:r>
            <a:endParaRPr b="0" lang="en-US" sz="5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3</a:t>
            </a:r>
            <a:r>
              <a:rPr b="1" lang="ar-SA" sz="5400" spc="-1" strike="noStrike">
                <a:solidFill>
                  <a:srgbClr val="000000"/>
                </a:solidFill>
                <a:latin typeface="Lucida Sans Unicode"/>
              </a:rPr>
              <a:t>- طرود الشحن بالبريد اقل من </a:t>
            </a:r>
            <a:r>
              <a:rPr b="1" lang="ar-SA" sz="5400" spc="-1" strike="noStrike">
                <a:solidFill>
                  <a:srgbClr val="000000"/>
                </a:solidFill>
                <a:latin typeface="Lucida Sans Unicode"/>
              </a:rPr>
              <a:t>70</a:t>
            </a:r>
            <a:r>
              <a:rPr b="1" lang="ar-SA" sz="5400" spc="-1" strike="noStrike">
                <a:solidFill>
                  <a:srgbClr val="000000"/>
                </a:solidFill>
                <a:latin typeface="Lucida Sans Unicode"/>
              </a:rPr>
              <a:t> رطل واقل من </a:t>
            </a:r>
            <a:r>
              <a:rPr b="1" lang="ar-SA" sz="5400" spc="-1" strike="noStrike">
                <a:solidFill>
                  <a:srgbClr val="000000"/>
                </a:solidFill>
                <a:latin typeface="Lucida Sans Unicode"/>
              </a:rPr>
              <a:t>100</a:t>
            </a:r>
            <a:r>
              <a:rPr b="1" lang="ar-SA" sz="5400" spc="-1" strike="noStrike">
                <a:solidFill>
                  <a:srgbClr val="000000"/>
                </a:solidFill>
                <a:latin typeface="Lucida Sans Unicode"/>
              </a:rPr>
              <a:t> رطل حجما</a:t>
            </a:r>
            <a:endParaRPr b="0" lang="en-US" sz="5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4</a:t>
            </a:r>
            <a:r>
              <a:rPr b="1" lang="ar-SA" sz="5400" spc="-1" strike="noStrike">
                <a:solidFill>
                  <a:srgbClr val="000000"/>
                </a:solidFill>
                <a:latin typeface="Lucida Sans Unicode"/>
              </a:rPr>
              <a:t>-البريد السريع</a:t>
            </a:r>
            <a:endParaRPr b="0" lang="en-US" sz="5400" spc="-1" strike="noStrike">
              <a:solidFill>
                <a:srgbClr val="000000"/>
              </a:solidFill>
              <a:latin typeface="Lucida Sans Unicode"/>
            </a:endParaRPr>
          </a:p>
        </p:txBody>
      </p:sp>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Lucida Sans Unicode"/>
              </a:rPr>
              <a:t>أنواع وكالات النقل</a:t>
            </a:r>
            <a:endParaRPr b="1" lang="en-US" sz="48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8"/>
          <p:cNvSpPr/>
          <p:nvPr/>
        </p:nvSpPr>
        <p:spPr>
          <a:xfrm>
            <a:off x="250920" y="333360"/>
            <a:ext cx="8642160" cy="691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ea typeface="PT Bold Heading"/>
              </a:rPr>
              <a:t> </a:t>
            </a:r>
            <a:r>
              <a:rPr b="1" lang="ar-SA" sz="4800" spc="-1" strike="noStrike">
                <a:solidFill>
                  <a:srgbClr val="000000"/>
                </a:solidFill>
                <a:latin typeface="Arial"/>
                <a:cs typeface="PT Bold Heading"/>
              </a:rPr>
              <a:t>ماهية نظام التوزيع المادي</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هو مجموعة الأنشطة المتعلقة بتسهيل حركة انتقال السلع مادياً من اماكن انتاجها أو استخراجها إلى أماكن استهلاكها أو استخدامها وتشمل أيضا على وظائف النقل والتخزين ومناولة المواد ومراقبة المخزون واختيار مواقع المخازن وتجهيز الطلبيات وخدمة المستهلك.</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8"/>
          <p:cNvSpPr/>
          <p:nvPr/>
        </p:nvSpPr>
        <p:spPr>
          <a:xfrm>
            <a:off x="684360" y="625320"/>
            <a:ext cx="777528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دور الاستراتيجي لنظام التوزيع المادي</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1</a:t>
            </a:r>
            <a:r>
              <a:rPr b="0" lang="ar-SA" sz="3600" spc="-1" strike="noStrike">
                <a:solidFill>
                  <a:srgbClr val="000000"/>
                </a:solidFill>
                <a:latin typeface="Arial"/>
                <a:ea typeface="PT Bold Heading"/>
              </a:rPr>
              <a:t>- تحسين خدمة العملاء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2</a:t>
            </a:r>
            <a:r>
              <a:rPr b="0" lang="ar-SA" sz="3600" spc="-1" strike="noStrike">
                <a:solidFill>
                  <a:srgbClr val="000000"/>
                </a:solidFill>
                <a:latin typeface="Arial"/>
                <a:ea typeface="PT Bold Heading"/>
              </a:rPr>
              <a:t>- تخفيض تكاليف التوزي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3</a:t>
            </a:r>
            <a:r>
              <a:rPr b="0" lang="ar-SA" sz="3600" spc="-1" strike="noStrike">
                <a:solidFill>
                  <a:srgbClr val="000000"/>
                </a:solidFill>
                <a:latin typeface="Arial"/>
                <a:ea typeface="PT Bold Heading"/>
              </a:rPr>
              <a:t>- تحقيق المواءمة بين جانبي الانتاج والاستهلاك</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4</a:t>
            </a:r>
            <a:r>
              <a:rPr b="0" lang="ar-SA" sz="3600" spc="-1" strike="noStrike">
                <a:solidFill>
                  <a:srgbClr val="000000"/>
                </a:solidFill>
                <a:latin typeface="Arial"/>
                <a:ea typeface="PT Bold Heading"/>
              </a:rPr>
              <a:t>- تحقيق الاستقرار في الاسعار</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5</a:t>
            </a:r>
            <a:r>
              <a:rPr b="0" lang="ar-SA" sz="3600" spc="-1" strike="noStrike">
                <a:solidFill>
                  <a:srgbClr val="000000"/>
                </a:solidFill>
                <a:latin typeface="Arial"/>
                <a:ea typeface="PT Bold Heading"/>
              </a:rPr>
              <a:t>- التأثير على قرار اختيار نوعية مواقع الوسطاء</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6</a:t>
            </a:r>
            <a:r>
              <a:rPr b="0" lang="ar-SA" sz="3600" spc="-1" strike="noStrike">
                <a:solidFill>
                  <a:srgbClr val="000000"/>
                </a:solidFill>
                <a:latin typeface="Arial"/>
                <a:ea typeface="PT Bold Heading"/>
              </a:rPr>
              <a:t>- ترشيد تكاليف النقل</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8"/>
          <p:cNvSpPr/>
          <p:nvPr/>
        </p:nvSpPr>
        <p:spPr>
          <a:xfrm>
            <a:off x="684360" y="625320"/>
            <a:ext cx="7775280" cy="612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بادئ ومعايير خدمة العملاء</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1</a:t>
            </a:r>
            <a:r>
              <a:rPr b="0" lang="ar-SA" sz="3600" spc="-1" strike="noStrike">
                <a:solidFill>
                  <a:srgbClr val="000000"/>
                </a:solidFill>
                <a:latin typeface="Arial"/>
                <a:ea typeface="PT Bold Heading"/>
              </a:rPr>
              <a:t>- الاستلام في الوقت المناسب</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2</a:t>
            </a:r>
            <a:r>
              <a:rPr b="0" lang="ar-SA" sz="3600" spc="-1" strike="noStrike">
                <a:solidFill>
                  <a:srgbClr val="000000"/>
                </a:solidFill>
                <a:latin typeface="Arial"/>
                <a:ea typeface="PT Bold Heading"/>
              </a:rPr>
              <a:t>- استعداد المنتج لمقابلة الطلبيات الطارئ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3</a:t>
            </a:r>
            <a:r>
              <a:rPr b="0" lang="ar-SA" sz="3600" spc="-1" strike="noStrike">
                <a:solidFill>
                  <a:srgbClr val="000000"/>
                </a:solidFill>
                <a:latin typeface="Arial"/>
                <a:ea typeface="PT Bold Heading"/>
              </a:rPr>
              <a:t>- المناولة أو النقل الجيد للسل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4</a:t>
            </a:r>
            <a:r>
              <a:rPr b="0" lang="ar-SA" sz="3600" spc="-1" strike="noStrike">
                <a:solidFill>
                  <a:srgbClr val="000000"/>
                </a:solidFill>
                <a:latin typeface="Arial"/>
                <a:ea typeface="PT Bold Heading"/>
              </a:rPr>
              <a:t>- استعداد المنتج لاستيراد السلع غير السليمة وسرعة استبدالها</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5</a:t>
            </a:r>
            <a:r>
              <a:rPr b="0" lang="ar-SA" sz="3600" spc="-1" strike="noStrike">
                <a:solidFill>
                  <a:srgbClr val="000000"/>
                </a:solidFill>
                <a:latin typeface="Arial"/>
                <a:ea typeface="PT Bold Heading"/>
              </a:rPr>
              <a:t>- توفير امكانيات التخزين وتوفير المخزون لدى المنتج لحين الطلب</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6</a:t>
            </a:r>
            <a:r>
              <a:rPr b="0" lang="ar-SA" sz="3600" spc="-1" strike="noStrike">
                <a:solidFill>
                  <a:srgbClr val="000000"/>
                </a:solidFill>
                <a:latin typeface="Arial"/>
                <a:ea typeface="PT Bold Heading"/>
              </a:rPr>
              <a:t>-استعدادات وامكانيات الصيانة أو الاصلاح الجيد والسريع</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8"/>
          <p:cNvSpPr/>
          <p:nvPr/>
        </p:nvSpPr>
        <p:spPr>
          <a:xfrm>
            <a:off x="1285920" y="189000"/>
            <a:ext cx="6572160" cy="3568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a1f28"/>
                </a:solidFill>
                <a:latin typeface="Arial"/>
                <a:cs typeface="PT Bold Heading"/>
              </a:rPr>
              <a:t>منافع نظام التوزيع المادي</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1</a:t>
            </a:r>
            <a:r>
              <a:rPr b="1" lang="ar-SA" sz="3600" spc="-1" strike="noStrike">
                <a:solidFill>
                  <a:srgbClr val="002060"/>
                </a:solidFill>
                <a:latin typeface="Arial"/>
                <a:ea typeface="PT Bold Heading"/>
              </a:rPr>
              <a:t>- </a:t>
            </a:r>
            <a:r>
              <a:rPr b="1" lang="ar-SA" sz="4000" spc="-1" strike="noStrike">
                <a:solidFill>
                  <a:srgbClr val="002060"/>
                </a:solidFill>
                <a:latin typeface="Arial"/>
                <a:cs typeface="PT Bold Heading"/>
              </a:rPr>
              <a:t>المنفعة المكاني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ea typeface="PT Bold Heading"/>
              </a:rPr>
              <a:t>2</a:t>
            </a:r>
            <a:r>
              <a:rPr b="1" lang="ar-SA" sz="4000" spc="-1" strike="noStrike">
                <a:solidFill>
                  <a:srgbClr val="002060"/>
                </a:solidFill>
                <a:latin typeface="Arial"/>
                <a:ea typeface="PT Bold Heading"/>
              </a:rPr>
              <a:t>- المنفعة الزمني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ea typeface="PT Bold Heading"/>
              </a:rPr>
              <a:t>3</a:t>
            </a:r>
            <a:r>
              <a:rPr b="1" lang="ar-SA" sz="4000" spc="-1" strike="noStrike">
                <a:solidFill>
                  <a:srgbClr val="002060"/>
                </a:solidFill>
                <a:latin typeface="Arial"/>
                <a:ea typeface="PT Bold Heading"/>
              </a:rPr>
              <a:t>- المنفعة الحيازية </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6"/>
          <p:cNvSpPr/>
          <p:nvPr/>
        </p:nvSpPr>
        <p:spPr>
          <a:xfrm>
            <a:off x="1596960" y="295200"/>
            <a:ext cx="6093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PT Bold Heading"/>
              </a:rPr>
              <a:t>مكونات نظام التوزيع المادي</a:t>
            </a:r>
            <a:endParaRPr b="0" lang="en-US" sz="3600" spc="-1" strike="noStrike">
              <a:solidFill>
                <a:srgbClr val="000000"/>
              </a:solidFill>
              <a:latin typeface="Arial"/>
            </a:endParaRPr>
          </a:p>
        </p:txBody>
      </p:sp>
      <p:sp>
        <p:nvSpPr>
          <p:cNvPr id="589" name="Text Box 6"/>
          <p:cNvSpPr/>
          <p:nvPr/>
        </p:nvSpPr>
        <p:spPr>
          <a:xfrm>
            <a:off x="468360" y="1476360"/>
            <a:ext cx="7458120" cy="596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ea typeface="PT Bold Heading"/>
              </a:rPr>
              <a:t> </a:t>
            </a:r>
            <a:endParaRPr b="0" lang="en-US" sz="2800" spc="-1" strike="noStrike">
              <a:solidFill>
                <a:srgbClr val="000000"/>
              </a:solidFill>
              <a:latin typeface="Arial"/>
            </a:endParaRPr>
          </a:p>
        </p:txBody>
      </p:sp>
      <p:sp>
        <p:nvSpPr>
          <p:cNvPr id="590" name="Rectangle 3"/>
          <p:cNvSpPr/>
          <p:nvPr/>
        </p:nvSpPr>
        <p:spPr>
          <a:xfrm>
            <a:off x="468360" y="1457280"/>
            <a:ext cx="7993080" cy="5148360"/>
          </a:xfrm>
          <a:prstGeom prst="rect">
            <a:avLst/>
          </a:prstGeom>
          <a:solidFill>
            <a:srgbClr val="ffffff"/>
          </a:solidFill>
          <a:ln w="55080">
            <a:solidFill>
              <a:srgbClr val="eb641b"/>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1</a:t>
            </a:r>
            <a:r>
              <a:rPr b="1" lang="ar-SA" sz="4000" spc="-1" strike="noStrike">
                <a:solidFill>
                  <a:srgbClr val="1d314e"/>
                </a:solidFill>
                <a:latin typeface="Lucida Sans Unicode"/>
              </a:rPr>
              <a:t>- ادارة المخزون</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2</a:t>
            </a:r>
            <a:r>
              <a:rPr b="1" lang="ar-SA" sz="4000" spc="-1" strike="noStrike">
                <a:solidFill>
                  <a:srgbClr val="1d314e"/>
                </a:solidFill>
                <a:latin typeface="Lucida Sans Unicode"/>
              </a:rPr>
              <a:t>-النقل الداخل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3</a:t>
            </a:r>
            <a:r>
              <a:rPr b="1" lang="ar-SA" sz="4000" spc="-1" strike="noStrike">
                <a:solidFill>
                  <a:srgbClr val="1d314e"/>
                </a:solidFill>
                <a:latin typeface="Lucida Sans Unicode"/>
              </a:rPr>
              <a:t>- النقل الخارج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4</a:t>
            </a:r>
            <a:r>
              <a:rPr b="1" lang="ar-SA" sz="4000" spc="-1" strike="noStrike">
                <a:solidFill>
                  <a:srgbClr val="1d314e"/>
                </a:solidFill>
                <a:latin typeface="Lucida Sans Unicode"/>
              </a:rPr>
              <a:t>- التخزين الداخل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5</a:t>
            </a:r>
            <a:r>
              <a:rPr b="1" lang="ar-SA" sz="4000" spc="-1" strike="noStrike">
                <a:solidFill>
                  <a:srgbClr val="1d314e"/>
                </a:solidFill>
                <a:latin typeface="Lucida Sans Unicode"/>
              </a:rPr>
              <a:t>-التخزين الخارج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6</a:t>
            </a:r>
            <a:r>
              <a:rPr b="1" lang="ar-SA" sz="4000" spc="-1" strike="noStrike">
                <a:solidFill>
                  <a:srgbClr val="1d314e"/>
                </a:solidFill>
                <a:latin typeface="Lucida Sans Unicode"/>
              </a:rPr>
              <a:t>-تجهيز الطلبيات</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7</a:t>
            </a:r>
            <a:r>
              <a:rPr b="1" lang="ar-SA" sz="4000" spc="-1" strike="noStrike">
                <a:solidFill>
                  <a:srgbClr val="1d314e"/>
                </a:solidFill>
                <a:latin typeface="Lucida Sans Unicode"/>
              </a:rPr>
              <a:t>- التسليم والمناولة</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8</a:t>
            </a:r>
            <a:r>
              <a:rPr b="1" lang="ar-SA" sz="4000" spc="-1" strike="noStrike">
                <a:solidFill>
                  <a:srgbClr val="1d314e"/>
                </a:solidFill>
                <a:latin typeface="Lucida Sans Unicode"/>
              </a:rPr>
              <a:t>- خدمة المستهلك</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592" name="Text Box 8"/>
          <p:cNvSpPr/>
          <p:nvPr/>
        </p:nvSpPr>
        <p:spPr>
          <a:xfrm>
            <a:off x="1187280" y="333360"/>
            <a:ext cx="6985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1</a:t>
            </a:r>
            <a:r>
              <a:rPr b="0" lang="ar-SA" sz="3600" spc="-1" strike="noStrike">
                <a:solidFill>
                  <a:srgbClr val="002060"/>
                </a:solidFill>
                <a:latin typeface="Arial"/>
                <a:ea typeface="PT Bold Heading"/>
              </a:rPr>
              <a:t>- وظيفة النقل</a:t>
            </a:r>
            <a:endParaRPr b="0" lang="en-US" sz="3600" spc="-1" strike="noStrike">
              <a:solidFill>
                <a:srgbClr val="000000"/>
              </a:solidFill>
              <a:latin typeface="Arial"/>
            </a:endParaRPr>
          </a:p>
        </p:txBody>
      </p:sp>
      <p:sp>
        <p:nvSpPr>
          <p:cNvPr id="593" name="Rounded Rectangle 2"/>
          <p:cNvSpPr/>
          <p:nvPr/>
        </p:nvSpPr>
        <p:spPr>
          <a:xfrm>
            <a:off x="934920" y="1341360"/>
            <a:ext cx="7740720" cy="551664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1</a:t>
            </a:r>
            <a:r>
              <a:rPr b="1" lang="ar-SA" sz="4000" spc="-1" strike="noStrike">
                <a:solidFill>
                  <a:srgbClr val="000000"/>
                </a:solidFill>
                <a:latin typeface="Lucida Sans Unicode"/>
              </a:rPr>
              <a:t>-تعريف النقل : من الوظائف الاقتصادية التي تمنح المنتج المنفعة المكانية ويقتصر نشاطه على المجهودات التي ترمي الى نقل المنتجات من اماكن الانتاج الى اماكن الاستهلاك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انواع وسائل النقل</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595" name="Text Box 8"/>
          <p:cNvSpPr/>
          <p:nvPr/>
        </p:nvSpPr>
        <p:spPr>
          <a:xfrm>
            <a:off x="1187280" y="333360"/>
            <a:ext cx="6985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نواع وسائل النقل</a:t>
            </a:r>
            <a:endParaRPr b="0" lang="en-US" sz="3600" spc="-1" strike="noStrike">
              <a:solidFill>
                <a:srgbClr val="000000"/>
              </a:solidFill>
              <a:latin typeface="Arial"/>
            </a:endParaRPr>
          </a:p>
        </p:txBody>
      </p:sp>
      <p:sp>
        <p:nvSpPr>
          <p:cNvPr id="596" name="Rounded Rectangle 2"/>
          <p:cNvSpPr/>
          <p:nvPr/>
        </p:nvSpPr>
        <p:spPr>
          <a:xfrm>
            <a:off x="934920" y="1341360"/>
            <a:ext cx="7740720" cy="551664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1</a:t>
            </a:r>
            <a:r>
              <a:rPr b="1" lang="ar-SA" sz="4000" spc="-1" strike="noStrike">
                <a:solidFill>
                  <a:srgbClr val="000000"/>
                </a:solidFill>
                <a:latin typeface="Lucida Sans Unicode"/>
              </a:rPr>
              <a:t>- النقل بالشاحنات </a:t>
            </a:r>
            <a:r>
              <a:rPr b="1" lang="ar-SA" sz="2400" spc="-1" strike="noStrike">
                <a:solidFill>
                  <a:srgbClr val="000000"/>
                </a:solidFill>
                <a:latin typeface="Lucida Sans Unicode"/>
              </a:rPr>
              <a:t>من اكثر الوسائل استخداماً لمرونت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2</a:t>
            </a:r>
            <a:r>
              <a:rPr b="1" lang="ar-SA" sz="4000" spc="-1" strike="noStrike">
                <a:solidFill>
                  <a:srgbClr val="000000"/>
                </a:solidFill>
                <a:latin typeface="Lucida Sans Unicode"/>
              </a:rPr>
              <a:t>- النقل بالسكك الحديدية </a:t>
            </a:r>
            <a:r>
              <a:rPr b="1" lang="ar-SA" sz="2400" spc="-1" strike="noStrike">
                <a:solidFill>
                  <a:srgbClr val="000000"/>
                </a:solidFill>
                <a:latin typeface="Lucida Sans Unicode"/>
              </a:rPr>
              <a:t>تنقل كميات كبي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3</a:t>
            </a:r>
            <a:r>
              <a:rPr b="1" lang="ar-SA" sz="4000" spc="-1" strike="noStrike">
                <a:solidFill>
                  <a:srgbClr val="000000"/>
                </a:solidFill>
                <a:latin typeface="Lucida Sans Unicode"/>
              </a:rPr>
              <a:t>- النقل الجوي </a:t>
            </a:r>
            <a:r>
              <a:rPr b="1" lang="ar-SA" sz="2400" spc="-1" strike="noStrike">
                <a:solidFill>
                  <a:srgbClr val="000000"/>
                </a:solidFill>
                <a:latin typeface="Lucida Sans Unicode"/>
              </a:rPr>
              <a:t>تكاليفها عالي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4</a:t>
            </a:r>
            <a:r>
              <a:rPr b="1" lang="ar-SA" sz="4000" spc="-1" strike="noStrike">
                <a:solidFill>
                  <a:srgbClr val="000000"/>
                </a:solidFill>
                <a:latin typeface="Lucida Sans Unicode"/>
              </a:rPr>
              <a:t>-النقل المائي </a:t>
            </a:r>
            <a:r>
              <a:rPr b="1" lang="ar-SA" sz="2400" spc="-1" strike="noStrike">
                <a:solidFill>
                  <a:srgbClr val="000000"/>
                </a:solidFill>
                <a:latin typeface="Lucida Sans Unicode"/>
              </a:rPr>
              <a:t>من اقدم الوسائل</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5</a:t>
            </a:r>
            <a:r>
              <a:rPr b="1" lang="ar-SA" sz="4000" spc="-1" strike="noStrike">
                <a:solidFill>
                  <a:srgbClr val="000000"/>
                </a:solidFill>
                <a:latin typeface="Lucida Sans Unicode"/>
              </a:rPr>
              <a:t>- النقل بواسطة الانابيب </a:t>
            </a:r>
            <a:r>
              <a:rPr b="1" lang="ar-SA" sz="2400" spc="-1" strike="noStrike">
                <a:solidFill>
                  <a:srgbClr val="000000"/>
                </a:solidFill>
                <a:latin typeface="Lucida Sans Unicode"/>
              </a:rPr>
              <a:t>تنقل السلع السائلة</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598" name="Text Box 8"/>
          <p:cNvSpPr/>
          <p:nvPr/>
        </p:nvSpPr>
        <p:spPr>
          <a:xfrm>
            <a:off x="1187280" y="333360"/>
            <a:ext cx="69850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عوامل المحددة لاختيار وسائل النقل</a:t>
            </a:r>
            <a:endParaRPr b="0" lang="en-US" sz="3600" spc="-1" strike="noStrike">
              <a:solidFill>
                <a:srgbClr val="000000"/>
              </a:solidFill>
              <a:latin typeface="Arial"/>
            </a:endParaRPr>
          </a:p>
        </p:txBody>
      </p:sp>
      <p:sp>
        <p:nvSpPr>
          <p:cNvPr id="599" name="Rounded Rectangle 2"/>
          <p:cNvSpPr/>
          <p:nvPr/>
        </p:nvSpPr>
        <p:spPr>
          <a:xfrm>
            <a:off x="934920" y="1341360"/>
            <a:ext cx="7740720" cy="551664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1</a:t>
            </a:r>
            <a:r>
              <a:rPr b="1" lang="ar-SA" sz="4000" spc="-1" strike="noStrike">
                <a:solidFill>
                  <a:srgbClr val="000000"/>
                </a:solidFill>
                <a:latin typeface="Lucida Sans Unicode"/>
              </a:rPr>
              <a:t>- طبيعة السلعة</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2</a:t>
            </a:r>
            <a:r>
              <a:rPr b="1" lang="ar-SA" sz="4000" spc="-1" strike="noStrike">
                <a:solidFill>
                  <a:srgbClr val="000000"/>
                </a:solidFill>
                <a:latin typeface="Lucida Sans Unicode"/>
              </a:rPr>
              <a:t>- الوقت الفاصل بين تاريخ الطلب والوقت الذي تظهر الحاجة اليها</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3</a:t>
            </a:r>
            <a:r>
              <a:rPr b="1" lang="ar-SA" sz="4000" spc="-1" strike="noStrike">
                <a:solidFill>
                  <a:srgbClr val="000000"/>
                </a:solidFill>
                <a:latin typeface="Lucida Sans Unicode"/>
              </a:rPr>
              <a:t>- سعر السلعة وحجمها</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4</a:t>
            </a:r>
            <a:r>
              <a:rPr b="1" lang="ar-SA" sz="4000" spc="-1" strike="noStrike">
                <a:solidFill>
                  <a:srgbClr val="000000"/>
                </a:solidFill>
                <a:latin typeface="Lucida Sans Unicode"/>
              </a:rPr>
              <a:t>-امكانيات المؤسسات المادية</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5</a:t>
            </a:r>
            <a:r>
              <a:rPr b="1" lang="ar-SA" sz="4000" spc="-1" strike="noStrike">
                <a:solidFill>
                  <a:srgbClr val="000000"/>
                </a:solidFill>
                <a:latin typeface="Lucida Sans Unicode"/>
              </a:rPr>
              <a:t>- موقع السوق المراد التعامل معه</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6</a:t>
            </a:r>
            <a:r>
              <a:rPr b="1" lang="ar-SA" sz="4000" spc="-1" strike="noStrike">
                <a:solidFill>
                  <a:srgbClr val="000000"/>
                </a:solidFill>
                <a:latin typeface="Lucida Sans Unicode"/>
              </a:rPr>
              <a:t>- تكاليف النقل</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7</a:t>
            </a:r>
            <a:r>
              <a:rPr b="1" lang="ar-SA" sz="4000" spc="-1" strike="noStrike">
                <a:solidFill>
                  <a:srgbClr val="000000"/>
                </a:solidFill>
                <a:latin typeface="Lucida Sans Unicode"/>
              </a:rPr>
              <a:t>- درجة الاعتماد على وسيلة النقل</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8</a:t>
            </a:r>
            <a:r>
              <a:rPr b="1" lang="ar-SA" sz="4000" spc="-1" strike="noStrike">
                <a:solidFill>
                  <a:srgbClr val="000000"/>
                </a:solidFill>
                <a:latin typeface="Lucida Sans Unicode"/>
              </a:rPr>
              <a:t>- الخدمات التي تقدمها كل وسيلة </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help</cp:lastModifiedBy>
  <dcterms:modified xsi:type="dcterms:W3CDTF">2017-11-20T15:53:11Z</dcterms:modified>
  <cp:revision>914</cp:revision>
  <dc:subject/>
  <dc:title>الشريحة 1</dc:title>
</cp:coreProperties>
</file>