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8B85-83C5-4A5D-88E8-653AACA98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2A6A-EE1D-4549-AEF2-485675DBE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4C57-5A73-4053-AFEB-9F09FAC9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3F8E-87A6-4D10-B31E-25B9B9CF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2F3D-89FC-4DDC-B8D8-6C12EA988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3297-DAB6-46D0-AC3D-67F442B8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2B33-D16C-4BEB-9F5D-4C00E83F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41D9-DDC9-4081-9D03-551ADA95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C2A3-5E8E-4AA3-982E-1D30A6B7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AF41-475F-4DE3-B2C9-78BE2F5E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E360-5836-4AE2-9DB1-99B02A80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AC89-FDFC-4EC9-8715-2FAFC7CF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798DF-5766-4DD6-8E3E-FEA29D15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404A-71F2-420D-A902-BF63DE38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8D6C-2FD9-4E0E-861B-11A4C76D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2E1D-1F52-4F0C-B60C-8DBC22DCB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4701-E7B1-455E-9EE8-021B6C017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6D529-C9C5-4031-BA10-849BDD0A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9A7FF-721B-49C3-BD98-F6947F5D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E8CCB-3038-48ED-A855-8D7AA021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1C66A-E41D-473B-BB3E-11C21549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18B2D-44EA-41C0-BB19-C320A411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7710-2760-47BD-9F21-21795DF3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F0AA3-600C-447C-9A0C-50D26FB5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75464-B757-47CE-8A17-1678F6FA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D556B-9A74-4825-ADC7-F6D4F978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6B61C-A73D-4588-A31C-2E3979A3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5897F-52F8-4328-9E7B-6BF62528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AF97A-57A4-4B8B-93AE-883EBC0B7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B278E-0DE5-4EB8-9AE1-FF544C65F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31537-FD4D-4818-9F23-88E72B80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B3335-64BF-457D-B56B-D40B882E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10EB5-5464-4A6C-9281-76458845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10DB-3640-4654-B577-B19A261C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F0298-065F-4D83-BF16-6685ABF9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B523C-F01E-4C9E-BBE4-9A8A5CC0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E1EAF-2FE1-4580-8FA6-7FDCC965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45F41-48FD-47A2-9E99-A914D8BC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671B7-66A3-4B58-9B66-19BB8045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27FD9-9141-4F6E-A86B-99A59394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D5FDB-CB5A-4118-835B-B4E78F8A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B2F11-AE61-4C49-82F1-C1198EBB9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7F2B5-D4B7-4748-BA4F-C90FBCD30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E1E9-E2DE-4900-8E6D-ADA0931E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0903-83F2-44F1-8681-92CBC9F6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FC2E-C944-49E2-B469-C74543F4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8B3D-F199-46FB-9430-DCB52D17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BE54-7B3B-41BD-B2DB-3867644C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05F3DD-F15E-4C01-8985-6A77D61A7887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51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52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4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898560" y="971640"/>
            <a:ext cx="801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acd433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9329760" y="2612880"/>
            <a:ext cx="8031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acd433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0EFDFE-3EF4-42E5-83A2-A9617933EC9C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0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0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0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Straight Connector 12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Straight Connector 14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088707-472F-4D63-BBD9-78325F0F2497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53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54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56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Straight Connector 12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Straight Connector 14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A0D506-F880-4113-8408-8EC76A3C9D91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5600" y="1447560"/>
            <a:ext cx="882504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54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التخريج عن طريق صفة في المتن</a:t>
            </a:r>
            <a:endParaRPr b="0" lang="en-US" sz="5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155600" y="4776840"/>
            <a:ext cx="882504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acd433"/>
                </a:solidFill>
                <a:latin typeface="Century Gothic"/>
                <a:cs typeface="Akhbar MT"/>
              </a:rPr>
              <a:t>أ.د. حسن محمد عبه جي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الوحدة الخامسة: </a:t>
            </a:r>
            <a:br>
              <a:rPr sz="4800"/>
            </a:b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45840" y="2833560"/>
            <a:ext cx="9404280" cy="34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التخريج عن طريق صفة في المتن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عدد المحاضرات: </a:t>
            </a: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مدة الدراسة: </a:t>
            </a: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50</a:t>
            </a: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 دقيقة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TextBox 6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صفة في المتن       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حصيلة التعلم: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</a:t>
            </a:r>
            <a:r>
              <a:rPr b="0" lang="ar-SA" sz="2800" spc="-1" strike="noStrike">
                <a:solidFill>
                  <a:srgbClr val="ffffff"/>
                </a:solidFill>
                <a:latin typeface="Century Gothic"/>
                <a:cs typeface="Times New Roman"/>
              </a:rPr>
              <a:t>أن يعرف الطالب بعض صفات المتن التي تمكنه من الوصول إلى الحديث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</a:t>
            </a:r>
            <a:r>
              <a:rPr b="0" lang="ar-SA" sz="2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أن يتعرف الطالب على المصادر التي اعتنت ببعض صفات المتن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TextBox 6"/>
          <p:cNvSpPr/>
          <p:nvPr/>
        </p:nvSpPr>
        <p:spPr>
          <a:xfrm rot="16200000">
            <a:off x="839808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صفة في المتن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400" spc="-1" strike="noStrike">
                <a:solidFill>
                  <a:srgbClr val="fce4d3"/>
                </a:solidFill>
                <a:latin typeface="Calibri"/>
                <a:cs typeface="Traditional Arabic"/>
              </a:rPr>
              <a:t>التخريج عن طريق صفة تتعلق بالمتن</a:t>
            </a:r>
            <a:endParaRPr b="0" lang="en-US" sz="4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46200" y="1969920"/>
            <a:ext cx="9523440" cy="48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alibri"/>
                <a:ea typeface="AL-Mohanad"/>
              </a:rPr>
              <a:t>(</a:t>
            </a:r>
            <a:r>
              <a:rPr b="1" lang="ar-SA" sz="2400" spc="-1" strike="noStrike">
                <a:solidFill>
                  <a:srgbClr val="ffffff"/>
                </a:solidFill>
                <a:latin typeface="Calibri"/>
                <a:ea typeface="AL-Mohanad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Calibri"/>
                <a:ea typeface="AL-Mohanad"/>
              </a:rPr>
              <a:t>) أن يكون الحديث قدسياً                             </a:t>
            </a: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AL-Mohanad"/>
              </a:rPr>
              <a:t>(</a:t>
            </a: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AL-Mohanad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AL-Mohanad"/>
              </a:rPr>
              <a:t>) أن يكون موصوفاً بالتواتر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AL-Mohanad"/>
              </a:rPr>
              <a:t>(</a:t>
            </a: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AL-Mohanad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AL-Mohanad"/>
              </a:rPr>
              <a:t>) أن يكون الحديث مشكلاً                          (</a:t>
            </a: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AL-Mohanad"/>
              </a:rPr>
              <a:t>4</a:t>
            </a: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AL-Mohanad"/>
              </a:rPr>
              <a:t>) أن تظهر عليه علامات الوضع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AL-Mohanad"/>
              </a:rPr>
              <a:t>(</a:t>
            </a: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AL-Mohanad"/>
              </a:rPr>
              <a:t>5</a:t>
            </a: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AL-Mohanad"/>
              </a:rPr>
              <a:t>) أن يكون موصوفاً بأنه ناسخ أو منسوخ           (</a:t>
            </a: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AL-Mohanad"/>
              </a:rPr>
              <a:t>6</a:t>
            </a: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AL-Mohanad"/>
              </a:rPr>
              <a:t>) أن يذكر في المتن شخص مبهم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AL-Mohanad"/>
              </a:rPr>
              <a:t>(</a:t>
            </a: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AL-Mohanad"/>
              </a:rPr>
              <a:t>7</a:t>
            </a: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AL-Mohanad"/>
              </a:rPr>
              <a:t>) أن يقع إدراج في المتن.                                   (</a:t>
            </a: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AL-Mohanad"/>
              </a:rPr>
              <a:t>8</a:t>
            </a:r>
            <a:r>
              <a:rPr b="1" lang="ar-SA" sz="2400" spc="-1" strike="noStrike">
                <a:solidFill>
                  <a:srgbClr val="ffffff"/>
                </a:solidFill>
                <a:latin typeface="Century Gothic"/>
                <a:ea typeface="AL-Mohanad"/>
              </a:rPr>
              <a:t>) أن يقع اختلاف في متنه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TextBox 9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صفة في المتن        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5:03:42Z</dcterms:created>
  <dc:creator>Ibrahim Abaji</dc:creator>
  <dc:description/>
  <dc:language>en-US</dc:language>
  <cp:lastModifiedBy>د. حسن عبه جي</cp:lastModifiedBy>
  <dcterms:modified xsi:type="dcterms:W3CDTF">2014-11-16T01:39:42Z</dcterms:modified>
  <cp:revision>57</cp:revision>
  <dc:subject/>
  <dc:title>تعريف التخريج وفوائده ..</dc:title>
</cp:coreProperties>
</file>