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BB97-08BA-439A-B069-F7EBAE635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9FE0-6F63-4598-AB00-FE238C15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4780-44CF-407D-995A-390BE5E0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48A9-DA5D-45CF-A8EC-BD9882D0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8DEF-DAC2-4321-9711-DFCDBE05A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E599-27E1-4FAD-9037-83C4901E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2163-242F-460E-A8E7-4E3AC518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1EDD-CE0C-4DA4-A0A7-E898FF35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C5AF-AB6B-47C4-8BBF-29E6C97C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A283-6BB4-47FA-A8FF-7F40F4A8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DABB-37F2-4E8A-839B-29770CE2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6FF8-E799-4447-8BB7-DD0EA76D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2A84-5EF0-4EA8-B06E-E37C1997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21DA-3532-4BAE-A4F9-6823CD64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2E38-F898-40B6-855C-E9ED3B13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E85F-4105-468A-9298-E7F29AC3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4757-9154-4DA5-8096-4B3CFC554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3B75F-854C-4C6A-B24D-2F94C4526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75F96-1027-46B9-B10C-748BEE6E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91B69-0CC5-4F0C-8689-9D7BD0AC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108B0-9EF8-475A-9B89-792DAD1E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0A28F-5872-44E6-9A5E-45ACC568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187A-254C-4C0D-84DD-B0812B80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D6B7F-33D6-4C45-A37D-90F2D287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565C0-8670-44A7-ACBE-06BF9576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2A9B8-0127-41D8-9FDB-0DACACD8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02D06-5E7F-4BCF-90D8-6F6DC682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C52AF-86D4-4D19-9786-2F624125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C135D-94EB-4980-9301-D4F281C09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6AE12-FE9B-46E4-A766-57C4661D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93CBA-FA31-40B9-A1FB-1EBB81733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C1FBF-54B4-47FC-B117-9D5ACDF9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2EEDF-FAB5-480B-9C84-078A93B8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F324-76E9-4A95-B39B-D85DDDED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34A10-DB7D-424D-84CF-F0964A4A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7908D-B64F-45E2-9527-998F4EBF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9A01C-583F-46E2-B713-3AC4659E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B8F1D-DD68-46A4-BDE9-89BDB2C3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67915-A8AB-4EED-BD04-F29E4BC5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F3A8B-22F8-4E2D-BF46-4AC64869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0A116-34BB-460D-A296-48F3D80D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F7116-E063-42D6-AD19-2625A29E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1F169-6188-481C-A8D7-4898343C1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2F5A-CFD3-470B-8196-2390CB40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A9DF-BD3D-4A6E-91A0-C8C499D1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4F32-394A-4741-B001-EDBFB1A4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0779-FA14-4FBD-94FE-B7E78269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63F1-1AEC-456C-9102-1A580523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75741B-4632-4891-A791-91490DC1E958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51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52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4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898560" y="971640"/>
            <a:ext cx="801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acd433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9329760" y="2612880"/>
            <a:ext cx="8031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acd433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612FA9-CACE-4728-96A2-060D054CE428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0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0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0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Straight Connector 12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Straight Connector 14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5F038F-BB22-4612-9959-5F7F28066681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53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54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56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Straight Connector 12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Straight Connector 14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32D511-F217-4049-BC09-0C8458F1AA9A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5600" y="1447560"/>
            <a:ext cx="882504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54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التخريج عن طريق صفة في المتن</a:t>
            </a:r>
            <a:endParaRPr b="0" lang="en-US" sz="5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155600" y="4776840"/>
            <a:ext cx="882504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acd433"/>
                </a:solidFill>
                <a:latin typeface="Century Gothic"/>
                <a:cs typeface="Akhbar MT"/>
              </a:rPr>
              <a:t>أ.د. حسن محمد عبه جي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الوحدة الخامسة: </a:t>
            </a:r>
            <a:br>
              <a:rPr sz="4800"/>
            </a:b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45840" y="2833560"/>
            <a:ext cx="9404280" cy="34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التخريج عن طريق صفة في المتن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عدد المحاضرات: </a:t>
            </a: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مدة الدراسة: </a:t>
            </a: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50</a:t>
            </a: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 دقيقة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TextBox 6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صفة في المتن       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حصيلة التعلم: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</a:t>
            </a:r>
            <a:r>
              <a:rPr b="0" lang="ar-SA" sz="2800" spc="-1" strike="noStrike">
                <a:solidFill>
                  <a:srgbClr val="ffffff"/>
                </a:solidFill>
                <a:latin typeface="Century Gothic"/>
                <a:cs typeface="Times New Roman"/>
              </a:rPr>
              <a:t>أن يعرف الطالب بعض صفات المتن التي تمكنه من الوصول إلى الحديث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</a:t>
            </a:r>
            <a:r>
              <a:rPr b="0" lang="ar-SA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أن يتعرف الطالب على المصادر التي اعتنت ببعض صفات المتن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TextBox 6"/>
          <p:cNvSpPr/>
          <p:nvPr/>
        </p:nvSpPr>
        <p:spPr>
          <a:xfrm rot="16200000">
            <a:off x="839808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صفة في المتن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400" spc="-1" strike="noStrike">
                <a:solidFill>
                  <a:srgbClr val="fce4d3"/>
                </a:solidFill>
                <a:latin typeface="Calibri"/>
                <a:cs typeface="Traditional Arabic"/>
              </a:rPr>
              <a:t>التخريج عن طريق صفة تتعلق بالمتن</a:t>
            </a:r>
            <a:endParaRPr b="0" lang="en-US" sz="4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46200" y="1969920"/>
            <a:ext cx="952344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alibri"/>
                <a:ea typeface="AL-Mohanad"/>
              </a:rPr>
              <a:t>(</a:t>
            </a:r>
            <a:r>
              <a:rPr b="1" lang="ar-SA" sz="2400" spc="-1" strike="noStrike">
                <a:solidFill>
                  <a:srgbClr val="ffffff"/>
                </a:solidFill>
                <a:latin typeface="Calibri"/>
                <a:ea typeface="AL-Mohanad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Calibri"/>
                <a:ea typeface="AL-Mohanad"/>
              </a:rPr>
              <a:t>) أن يكون الحديث قدسياً                             </a:t>
            </a: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AL-Mohanad"/>
              </a:rPr>
              <a:t>(</a:t>
            </a: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AL-Mohanad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AL-Mohanad"/>
              </a:rPr>
              <a:t>) أن يكون موصوفاً بالتواتر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AL-Mohanad"/>
              </a:rPr>
              <a:t>(</a:t>
            </a: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AL-Mohanad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AL-Mohanad"/>
              </a:rPr>
              <a:t>) أن يكون الحديث مشكلاً                          (</a:t>
            </a: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AL-Mohanad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AL-Mohanad"/>
              </a:rPr>
              <a:t>) أن تظهر عليه علامات الوضع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AL-Mohanad"/>
              </a:rPr>
              <a:t>(</a:t>
            </a: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AL-Mohanad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AL-Mohanad"/>
              </a:rPr>
              <a:t>) أن يكون موصوفاً بأنه ناسخ أو منسوخ           (</a:t>
            </a: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AL-Mohanad"/>
              </a:rPr>
              <a:t>6</a:t>
            </a: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AL-Mohanad"/>
              </a:rPr>
              <a:t>) أن يذكر في المتن شخص مبهم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AL-Mohanad"/>
              </a:rPr>
              <a:t>(</a:t>
            </a: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AL-Mohanad"/>
              </a:rPr>
              <a:t>7</a:t>
            </a: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AL-Mohanad"/>
              </a:rPr>
              <a:t>) أن يقع إدراج في المتن.                                   (</a:t>
            </a: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AL-Mohanad"/>
              </a:rPr>
              <a:t>8</a:t>
            </a: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AL-Mohanad"/>
              </a:rPr>
              <a:t>) أن يقع اختلاف في متنه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TextBox 9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صفة في المتن        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5:03:42Z</dcterms:created>
  <dc:creator>Ibrahim Abaji</dc:creator>
  <dc:description/>
  <dc:language>en-US</dc:language>
  <cp:lastModifiedBy>د. حسن عبه جي</cp:lastModifiedBy>
  <dcterms:modified xsi:type="dcterms:W3CDTF">2014-11-16T01:39:42Z</dcterms:modified>
  <cp:revision>57</cp:revision>
  <dc:subject/>
  <dc:title>تعريف التخريج وفوائده ..</dc:title>
</cp:coreProperties>
</file>