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4D29-615F-4921-8BE1-A6057C51A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51C0-BEAA-4CF0-97D6-865F13D6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068-F0B7-4CF6-A42F-E34C85C3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4854-939A-448B-B430-95A5E09B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A0D9-D6DD-4FFE-92D5-D959250E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8DD6-A78F-4202-8D73-579E0DFDF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D365-64EF-429E-A15A-C377983E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9329-AF95-4C44-B052-138FC6E9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85ED-44E8-432B-A45E-FF962189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0704-C75F-44C3-91C9-472A85A9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8D327-A0DB-419D-BAE5-EEA667E2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A6D-6396-4D79-9DA6-80669737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83A1-4E1F-4A75-90FC-377F4C21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DD04-F5B1-4F0C-AC3B-BAE4CFC7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4E8C-7694-45D7-9DA8-916F5056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71DB-9940-45DD-9CE3-919D1171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1B1D-491D-4A66-87D2-2E74706CF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8FDD9-4EEF-45C2-94B5-91F16DA0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FD537-4C6B-49A9-9A48-FF1BF4F5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DC923-41F4-43B1-975C-B27957EF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57AD2-5C70-4F37-A202-EA8D3F32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AB36A-4298-4B55-83CA-E10F752A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B0B-DA0C-4005-A08D-470A5E6F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C654E-0386-4B8B-8688-940333C1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86B11-3326-4411-A6C0-E81A708D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9406-B7D0-4AD9-BC3B-4F5FC9E0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6583D-06C5-4CA9-973C-D0F06AFB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78454-7D8D-47D0-8EB2-4DE3090B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E2B9-5F93-49A9-8EF5-D8A796C0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BB158-596A-4356-AACF-8E88609D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28830-7A76-4CED-8ECD-C265C219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199EF-AA53-43F6-AD7D-21E3D70B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FC436-EE53-42CD-918B-FD36A182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B02-A0B2-4068-9978-0FDEE933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E4EED-8507-4AC1-AC75-67BA35A3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D4AD6-2C03-4BD3-B4AC-96571F73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F872E-DF6D-4363-BAC2-1EDD4688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2FBE7-46E9-4331-8B6B-D00BB892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BB45E-6162-4973-8926-28C341CF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FF8E9-FA84-4844-BDDA-7E8FF5F2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C04A3-76E9-4DC6-9E25-236DAA37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2EC59-412E-4008-8DDD-66110B7B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BD4BE-8F45-4019-8D60-7C68B04E4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F1B-9346-481F-8DA8-850674CD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C02F-C161-471E-8B52-388BA1D4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EEA-880D-427F-A0D5-DCA39929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81F6-CBC3-456F-9A3F-E64785F1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DD0C-8E18-4D87-BF1D-B8D35018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B55B5-738F-40BB-BD45-FED746FCC7A8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66CADA-D286-44DE-91EC-72781F4285AD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F2D68D-35D0-4076-BFD2-CE82CEB054EE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AC007-266F-4E9E-8FC0-DC8CD84CCE1B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1447560"/>
            <a:ext cx="882504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54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تخريج عن طريق موضوع الحديث</a:t>
            </a:r>
            <a:r>
              <a:rPr b="0" lang="ar-SA" sz="7200" spc="-1" strike="noStrike">
                <a:solidFill>
                  <a:srgbClr val="ebebeb"/>
                </a:solidFill>
                <a:latin typeface="Century Gothic"/>
                <a:ea typeface="AL-Mohanad Bold"/>
              </a:rPr>
              <a:t>..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155600" y="4776840"/>
            <a:ext cx="88250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acd433"/>
                </a:solidFill>
                <a:latin typeface="Century Gothic"/>
                <a:cs typeface="Akhbar MT"/>
              </a:rPr>
              <a:t>أ.د. حسن محمد عبه جي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وحدة الرابعة: 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45840" y="2833560"/>
            <a:ext cx="940428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موضوع الحديث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عدد المحاضرات: 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مدة الدراسة: 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00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 دقيق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TextBox 6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وضوع الحديث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حصيلة التعلم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تعرف الطالب على طريقة تخريج الحديث من خلال موضوع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تعرف الطالب على المصنفات الحديثية المرتبة على الموضوعات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مارس الطالب عملياً تخريج الحديث باعتبار موضوعه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TextBox 6"/>
          <p:cNvSpPr/>
          <p:nvPr/>
        </p:nvSpPr>
        <p:spPr>
          <a:xfrm rot="16200000">
            <a:off x="839808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طلع الحديث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TextBox 8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وضوع الحديث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8" name="Picture 8" descr=""/>
          <p:cNvPicPr/>
          <p:nvPr/>
        </p:nvPicPr>
        <p:blipFill>
          <a:blip r:embed="rId1"/>
          <a:stretch/>
        </p:blipFill>
        <p:spPr>
          <a:xfrm>
            <a:off x="270000" y="441360"/>
            <a:ext cx="9683640" cy="6134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وضوع الحديث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3" name="Picture 8" descr=""/>
          <p:cNvPicPr/>
          <p:nvPr/>
        </p:nvPicPr>
        <p:blipFill>
          <a:blip r:embed="rId1"/>
          <a:stretch/>
        </p:blipFill>
        <p:spPr>
          <a:xfrm>
            <a:off x="677880" y="849240"/>
            <a:ext cx="9274320" cy="5413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فهارس الموضوعات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46200" y="1969560"/>
            <a:ext cx="9523440" cy="42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Al-QuranAlKareem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فهارس الموضوعية الخاصة: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هي الفهارس  المرتبة على الموضوعات الملحقة بالكتب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7040" indent="-43704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Al-QuranAlKareem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7040" indent="-43704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Al-QuranAlKareem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فهارس الموضوعية العامة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7040" indent="-43704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        هي الفهارس المرتبة على الموضوعات، الجامعة لأكثر من كتاب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7040" indent="-43704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        مثل : كتاب (مفتاح كنوز السنة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وضوع الحديث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وضوع الحديث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3" name="رسم تخطيطي 7" descr=""/>
          <p:cNvPicPr/>
          <p:nvPr/>
        </p:nvPicPr>
        <p:blipFill>
          <a:blip r:embed="rId1"/>
          <a:stretch/>
        </p:blipFill>
        <p:spPr>
          <a:xfrm>
            <a:off x="2077920" y="-60480"/>
            <a:ext cx="6816960" cy="691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TextBox 6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موضوع الحديث 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7" name="عنصر نائب للمحتوى 9" descr=""/>
          <p:cNvPicPr/>
          <p:nvPr/>
        </p:nvPicPr>
        <p:blipFill>
          <a:blip r:embed="rId1"/>
          <a:stretch/>
        </p:blipFill>
        <p:spPr>
          <a:xfrm>
            <a:off x="438120" y="-96840"/>
            <a:ext cx="9613800" cy="7088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5:03:42Z</dcterms:created>
  <dc:creator>Ibrahim Abaji</dc:creator>
  <dc:description/>
  <dc:language>en-US</dc:language>
  <cp:lastModifiedBy>د. حسن عبه جي</cp:lastModifiedBy>
  <dcterms:modified xsi:type="dcterms:W3CDTF">2014-11-03T06:41:38Z</dcterms:modified>
  <cp:revision>55</cp:revision>
  <dc:subject/>
  <dc:title>تعريف التخريج وفوائده ..</dc:title>
</cp:coreProperties>
</file>