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3A9-0162-4521-B778-7E439113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F04-02A9-461A-9139-980D20FA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0AF-DA3D-4008-A80C-9963090C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E7F-E42D-4D8E-90C7-8E7D9597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F11F-49D0-4612-A403-4BD061D4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69B2-0406-4411-A7E8-2FFEABBF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F9DD-69BF-43D3-B3F4-24F45DEC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00C6-7189-4B4F-A9A8-46522F59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B37F-A777-4342-A9CB-D05127DF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2310-10AA-459E-B6B0-F28D4449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BC54-2ABD-4340-A8CC-EC61FC6E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DD1-4D76-439E-A406-CB105A75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7358-3217-4081-A1E8-0EDE3212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4665-F717-4D65-AEE4-FC524BA7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BA2C-79E7-4102-8E02-637531D0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F199-4976-464E-8CA0-43978CDF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0840-2397-41F9-A797-9F1D083B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3DDE2-A293-415E-A23E-F10D3ADA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2FE6-4D98-49D7-A8BA-058B2B08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DD735-1CEF-4C0F-B3BF-253BE993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F60B7-1E5F-432A-B83C-57674F64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4212-E940-453A-94C9-9C91C0F0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CBC-1BC5-4CB5-8B4C-5EB5FC15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587EC-28AB-41E2-A2F6-6546E65B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04380-32F2-4180-9FBB-BE355E3C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B34DB-3F40-4BE0-A2A4-F27FD462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C6C20-2EFB-43F3-AB4B-05F0E8A6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353B-ED8D-47A4-981F-7DF8F0E6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75EC6-C76A-41BB-B8C4-BD0CCE70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BC8AC-0A7A-4097-B42C-29B218B4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088C6-AC06-4928-97B1-7D9D98A3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8A16D-3C60-4303-B9F9-12C8806E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BB5B6-F186-440C-A033-58834618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6BD-E699-43C4-A5C3-648FC66F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D7AE8-42B6-4A78-B84B-BA9A3256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19369-555D-4D5D-9CF7-8DA20B9F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A1117-1A34-483B-885B-16AE57EC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D8873-A4DC-4387-A571-AC6B9D02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38096-0F82-4C5A-AED5-F07D755C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E3E52-9BBE-4263-A9A3-68B59FF7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62956-4067-4E7F-89B0-B5D2E35A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5A789-98A4-4DD3-A086-5E83838D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B1749-AFBD-4DE0-BC5A-25331133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786-BED8-40A3-A449-C03D7B37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AB4-323F-4775-A879-D373A904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0D9-A92C-4100-9AA5-F29537AB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342D-33F0-4A54-B761-78982772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565-8BD9-4144-85E7-3B2A933E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498F8-782D-4BA7-A03C-1AC3BEA58BB7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588D6-AEDD-4657-AA56-BA0224FD8EEB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B5C1D-3260-4A88-92AD-58AFDEF68385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D9BC3-960B-467A-808C-3A73703DA884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1447560"/>
            <a:ext cx="882504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54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تخريج عن طريق موضوع الحديث</a:t>
            </a:r>
            <a:r>
              <a:rPr b="0" lang="ar-SA" sz="7200" spc="-1" strike="noStrike">
                <a:solidFill>
                  <a:srgbClr val="ebebeb"/>
                </a:solidFill>
                <a:latin typeface="Century Gothic"/>
                <a:ea typeface="AL-Mohanad Bold"/>
              </a:rPr>
              <a:t>..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155600" y="4776840"/>
            <a:ext cx="88250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acd433"/>
                </a:solidFill>
                <a:latin typeface="Century Gothic"/>
                <a:cs typeface="Akhbar MT"/>
              </a:rPr>
              <a:t>أ.د. حسن محمد عبه جي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وحدة الرابعة: 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45840" y="2833560"/>
            <a:ext cx="940428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موضوع الحديث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عدد المحاضرات: 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مدة الدراسة: 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00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 دقيق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TextBox 6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وضوع الحديث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حصيلة التعلم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تعرف الطالب على طريقة تخريج الحديث من خلال موضوع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تعرف الطالب على المصنفات الحديثية المرتبة على الموضوعات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مارس الطالب عملياً تخريج الحديث باعتبار موضوعه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TextBox 6"/>
          <p:cNvSpPr/>
          <p:nvPr/>
        </p:nvSpPr>
        <p:spPr>
          <a:xfrm rot="16200000">
            <a:off x="839808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TextBox 8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وضوع الحديث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8" name="Picture 8" descr=""/>
          <p:cNvPicPr/>
          <p:nvPr/>
        </p:nvPicPr>
        <p:blipFill>
          <a:blip r:embed="rId1"/>
          <a:stretch/>
        </p:blipFill>
        <p:spPr>
          <a:xfrm>
            <a:off x="270000" y="441360"/>
            <a:ext cx="9683640" cy="6134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وضوع الحديث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3" name="Picture 8" descr=""/>
          <p:cNvPicPr/>
          <p:nvPr/>
        </p:nvPicPr>
        <p:blipFill>
          <a:blip r:embed="rId1"/>
          <a:stretch/>
        </p:blipFill>
        <p:spPr>
          <a:xfrm>
            <a:off x="677880" y="849240"/>
            <a:ext cx="9274320" cy="5413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فهارس الموضوعات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46200" y="1969560"/>
            <a:ext cx="9523440" cy="42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Al-QuranAlKareem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فهارس الموضوعية الخاصة: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هي الفهارس  المرتبة على الموضوعات الملحقة بالكتب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7040" indent="-43704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Al-QuranAlKareem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7040" indent="-43704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Al-QuranAlKareem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فهارس الموضوعية العامة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7040" indent="-43704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        هي الفهارس المرتبة على الموضوعات، الجامعة لأكثر من كتاب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7040" indent="-43704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        مثل : كتاب (مفتاح كنوز السنة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وضوع الحديث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وضوع الحديث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3" name="رسم تخطيطي 7" descr=""/>
          <p:cNvPicPr/>
          <p:nvPr/>
        </p:nvPicPr>
        <p:blipFill>
          <a:blip r:embed="rId1"/>
          <a:stretch/>
        </p:blipFill>
        <p:spPr>
          <a:xfrm>
            <a:off x="2077920" y="-60480"/>
            <a:ext cx="6816960" cy="691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TextBox 6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وضوع الحديث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7" name="عنصر نائب للمحتوى 9" descr=""/>
          <p:cNvPicPr/>
          <p:nvPr/>
        </p:nvPicPr>
        <p:blipFill>
          <a:blip r:embed="rId1"/>
          <a:stretch/>
        </p:blipFill>
        <p:spPr>
          <a:xfrm>
            <a:off x="438120" y="-96840"/>
            <a:ext cx="9613800" cy="7088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5:03:42Z</dcterms:created>
  <dc:creator>Ibrahim Abaji</dc:creator>
  <dc:description/>
  <dc:language>en-US</dc:language>
  <cp:lastModifiedBy>د. حسن عبه جي</cp:lastModifiedBy>
  <dcterms:modified xsi:type="dcterms:W3CDTF">2014-11-03T06:41:38Z</dcterms:modified>
  <cp:revision>55</cp:revision>
  <dc:subject/>
  <dc:title>تعريف التخريج وفوائده ..</dc:title>
</cp:coreProperties>
</file>