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7A5-ED2C-40E9-8258-35D101B8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556-5813-41F7-B12B-F3FE5D83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EF3-B99B-456A-B8E9-136F504F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C781-F8A2-43BA-8DC4-72D062FF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6204-930B-4097-93B5-6D465F96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72D6-2B2D-4B6C-8778-60130A4B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1F28-0C76-4436-BA9E-2F42E156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53D4-D310-42ED-AC8C-D4424F6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DCC3-A794-47E0-8272-F6E554D0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D8A5-74FB-4A7B-8C3E-F966713B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9922-E627-4B70-859E-D5486096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FB02-1002-494D-847F-5B652A7B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7A44-341D-4A49-A4E3-5070E0C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022B-4A97-441B-9586-3F234B5D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EA11-452E-4623-8EF2-CDF816EB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92DC-A760-4216-831C-4F1C68A4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B26E-1CAE-4027-A373-03B518FF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8C350-3E0A-4553-B9E0-85FE20FB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F2E6-D389-4426-96C9-75F8C75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5AF3-B11D-4295-BB76-62D15D5C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CF7F-8BD7-4CA4-AFCB-21884BAB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8C62-828F-4900-8F6F-F4DD1E4E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829-8B1D-4DC2-9F4B-D67ABE1B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CE66-C1FF-4350-B1E5-0B18CEA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6C6BB-0CC3-492F-A112-0E942D2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1FE4-C3BA-40A3-B139-891C5E91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2C92B-EB96-4161-B375-5233D920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104A-71D3-4B07-9EC9-A7555BFD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1CCD3-8B26-48DA-B059-B10C48A9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B4D1-B927-49C9-A0BF-EEF988E0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4C371-3E04-4C5F-B29A-6303E886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E8D7A-C711-4878-A298-EFEF196C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AD9B-CFB3-4F35-B7F4-3ED28D2B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BC9-E696-46C0-BBB5-A49BB795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4A19D-1A8E-429F-8340-CF4E0C95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7FB7-CE7D-42B5-8B5C-06ECB3F3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FA0D-3041-4B99-BA17-A61EB335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22A5-8B20-44C4-A0F7-2887B4D6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692AA-8326-436E-8C66-85838AE9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F545-C579-4FC3-A6DF-F3707905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F1644-4AF4-4CE1-BFEF-90F23252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B80A4-E103-4B9B-A100-6E97641F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2FCC3-CB20-4CE5-AB63-77C0147C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9BF9-DFAB-4145-8CE5-7AED3C92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A01F-7600-49EF-A684-9B8A9315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873-9001-4C29-8A30-B8041C8B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DEF-3ACB-4E3C-BB97-C0653512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EA0-5D73-4D8B-AFD1-3B1F65F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06930-0250-485A-97D1-F1F94049742C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77315-8482-4EBF-84C7-60CE7767691D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B02E8E-7081-4838-AB91-E68902D32C4D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CA1CB3-AD1C-41E3-AB43-AAABA7E0DFC4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سادس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5840" y="19191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الراوي الأعلى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200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إتحاف المهرة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تعر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وضوع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ت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والرمو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حتويات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يقته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عزو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يقة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بحث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10515600" y="206280"/>
            <a:ext cx="51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عرف الطالب كيف يخرج الحديث من خلال الراوي الأعلى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تعرف على المصادر التي يستعان بها في هذه الطريقة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36c0a"/>
                </a:solidFill>
                <a:latin typeface="Wingdings"/>
                <a:ea typeface="Wingdings"/>
              </a:rPr>
              <a:t></a:t>
            </a:r>
            <a:r>
              <a:rPr b="0" lang="ar-SA" sz="3200" spc="-1" strike="noStrike">
                <a:solidFill>
                  <a:srgbClr val="ffffff"/>
                </a:solidFill>
                <a:latin typeface="Calibri"/>
                <a:cs typeface="Traditional Arabic"/>
              </a:rPr>
              <a:t>أن يمارس التخريج عملياً بهذه الطريقة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راوي الأعلى: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7" name="رسم تخطيطي 6" descr=""/>
          <p:cNvPicPr/>
          <p:nvPr/>
        </p:nvPicPr>
        <p:blipFill>
          <a:blip r:embed="rId1"/>
          <a:stretch/>
        </p:blipFill>
        <p:spPr>
          <a:xfrm>
            <a:off x="2230560" y="1889280"/>
            <a:ext cx="6621480" cy="4383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2" name="رسم تخطيطي 8" descr=""/>
          <p:cNvPicPr/>
          <p:nvPr/>
        </p:nvPicPr>
        <p:blipFill>
          <a:blip r:embed="rId1"/>
          <a:stretch/>
        </p:blipFill>
        <p:spPr>
          <a:xfrm>
            <a:off x="987480" y="1036800"/>
            <a:ext cx="886932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المسانيد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عريفه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ه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اريخ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أل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مسانيد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عر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ـ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سند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إمام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أحمد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مسانيد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خاص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كتب معرفة الصحابة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وضوعه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ها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معجم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بير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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للإمام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طبران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بعض كتب التراجم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مقصود منها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همها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كتب الأطراف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المقصود بكتب الأطرا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أشهر كتب الأطرا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وائد كتب الأطراف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تحفة الأشراف</a:t>
            </a:r>
            <a:r>
              <a:rPr b="1" lang="en-US" sz="4800" spc="-1" strike="noStrike">
                <a:solidFill>
                  <a:srgbClr val="ebebeb"/>
                </a:solidFill>
                <a:latin typeface="Century Gothic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تعر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وضوع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ت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والرموز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حتويات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يقته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عزو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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يقة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بحث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ه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الراوي الأعلى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1-24T14:10:24Z</dcterms:modified>
  <cp:revision>52</cp:revision>
  <dc:subject/>
  <dc:title>تعريف التخريج وفوائده ..</dc:title>
</cp:coreProperties>
</file>