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8C7-FE58-4A82-AE35-03945C03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E9E-2754-44C1-9582-F2AB5D88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078-0F6D-48C1-8190-C089660E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67F-165C-4063-AC17-303D48E1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A4D5-E4CE-43BD-9168-8BE8E0E8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48B1-644E-4E04-B75F-FF7DA17B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53F2-9B97-4EB5-92E2-EDC796EF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8F03-5A6B-4333-BF83-F6C4466B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6A6B-5132-451D-911D-D9B29A74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DEF8-139E-4AFB-81B8-08084821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2A12-B80B-4DD7-9280-9F3D4FC9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CCB-EFA4-4F7B-B90F-0D5194BB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CD5A-9F65-45FA-BD12-3082DDFA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4B07-6C16-4FF8-9013-71BD775B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41BA-80E7-4948-8AD8-913703AD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CD0C-64AA-43F1-85EE-C6F869D9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0F19-C5FB-4E99-8309-86C55CDB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A887-4001-4B12-BA37-BFA8C095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9D55-6B04-4239-B09C-BA0E1020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0D3F-108C-4172-8F1F-D17CEB01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113F-729D-4B13-BE92-9BF490B1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C596-0E64-44BD-B55C-6855F3A2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B4B-ACBF-4B10-839B-8960CA88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8313-ED70-43F3-8F7B-960D1375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FF3B-7005-4EE2-A714-08AE0685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69138-EEF7-4C14-94F3-3D3F40AF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0194-D265-4475-B500-27C622F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CC0A-5200-4B27-98F2-75966834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E3F1-B13E-4BB6-B79E-17D48CA8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0D1F-1EDB-4FC6-8479-7D284A87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8924-8C46-40EE-A3C2-CAB62E41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A7CC-243F-45A0-868E-D04C1617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17F78-D604-4EF4-972B-EA910FF6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6A3-7310-4FA2-82FB-D7675C9B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C0332-B077-4553-BE12-38479341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A1B40-2291-4860-B539-D6CDB922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D0EDE-0257-4CE0-8207-76BE023B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AE46-D474-42B7-926B-09C530F5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E1BBF-A897-43CE-8D7C-1DDCC52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D25E-ADE7-415D-AE7A-3FD3D4C7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1589E-A1C5-472A-9FEC-050D4DDD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B092-EBC9-42C5-A7CD-BF935BC8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8322-AE56-44E4-B5E3-E08BDAC7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246-42A2-4A30-BA96-A810D3BD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196-2097-401A-A97E-9F015BDD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C8E-E574-4FD0-B916-17B8BFD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90A-451D-464B-A1F7-2C4F3A10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FD4-DC65-4B20-8568-FF34809E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EF530-173A-4EDB-B2C3-4B6EEAAB6FE7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3FF3F-AF6C-4318-A403-4EE44D359887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E6DD3-4DC9-4EF3-AA75-FE1AA1B18D34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D28E1-2BFD-4772-812D-F90CEA8D9A0D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سادس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5840" y="19191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الراوي الأعلى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200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إتحاف المهرة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تعر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وضوع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ت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والرمو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حتويات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يقته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عزو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يقة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بحث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10515600" y="206280"/>
            <a:ext cx="51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عرف الطالب كيف يخرج الحديث من خلال الراوي الأعلى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تعرف على المصادر التي يستعان بها في هذه الطريقة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مارس التخريج عملياً بهذه الطريقة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راوي الأعلى: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7" name="رسم تخطيطي 6" descr=""/>
          <p:cNvPicPr/>
          <p:nvPr/>
        </p:nvPicPr>
        <p:blipFill>
          <a:blip r:embed="rId1"/>
          <a:stretch/>
        </p:blipFill>
        <p:spPr>
          <a:xfrm>
            <a:off x="2230560" y="1889280"/>
            <a:ext cx="6621480" cy="438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رسم تخطيطي 8" descr=""/>
          <p:cNvPicPr/>
          <p:nvPr/>
        </p:nvPicPr>
        <p:blipFill>
          <a:blip r:embed="rId1"/>
          <a:stretch/>
        </p:blipFill>
        <p:spPr>
          <a:xfrm>
            <a:off x="987480" y="1036800"/>
            <a:ext cx="886932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المسانيد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عريفه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ه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اريخ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أل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مسانيد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عر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ـ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سند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إمام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أحمد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مسانيد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خاص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كتب معرفة الصحابة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وضوعه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ه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معجم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بير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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للإمام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طبران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بعض كتب التراجم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مقصود منها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همها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كتب الأطراف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مقصود بكتب الأطرا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أشهر كتب الأطرا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وائد كتب الأطرا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تحفة الأشراف</a:t>
            </a:r>
            <a:r>
              <a:rPr b="1" lang="en-US" sz="4800" spc="-1" strike="noStrike">
                <a:solidFill>
                  <a:srgbClr val="ebebeb"/>
                </a:solidFill>
                <a:latin typeface="Century Gothic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تعر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وضوع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ت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والرمو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حتويات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يقته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عزو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يقة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بحث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1-24T14:10:24Z</dcterms:modified>
  <cp:revision>52</cp:revision>
  <dc:subject/>
  <dc:title>تعريف التخريج وفوائده ..</dc:title>
</cp:coreProperties>
</file>