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FA0-7125-4EAC-A08A-1BF3AB91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63E-3904-4B6C-9FC0-01EE1AD5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C12-64E1-4250-AD3C-518EBCC8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262-86CB-49C6-A16C-774FCBE7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DFEB-2234-4EAD-B5C7-1A8DF438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4972-9836-43EC-92F5-22864069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C8EF-282B-47D4-B78E-7A2EE8B3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81E7-8D6B-416C-A23A-E1FA1C7C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FEF3-51FA-4C3A-8FB2-8C8C7EDD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D142-A683-4B2E-87E9-CC1CF973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538C-0D84-49AA-81F2-17AE2A82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60C-EECF-40D0-A445-8E66A19E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4A92-DDDB-4716-A0D7-B4A267FC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DF81-F36D-4AEE-A59B-EC9E4039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6972-5EFC-4770-83D9-E925C4B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6FF8-94D0-49CC-8ABC-A822B143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6CCC-A65A-474A-9E0B-F5FDC578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C4B6-FFE2-4A18-856D-081C965A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FC6F9-168D-46CB-8857-83F699BC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02E4-5AE1-4126-8DF8-C2ECE01B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069C-DEA5-4792-92A3-679B2C1B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684A-36F4-4851-863D-A26273C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8D5-853B-44FD-99B2-10C6D244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0402A-963C-4D4F-BAB4-E0E6A9C2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CF66-C0CE-44BC-A19C-994D472B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5336-7E6D-4CAD-A096-04FFB69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27C72-2FEB-466D-9C29-9BAE8EAF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DB255-2ABA-4BB1-A40B-A8C70855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16296-12F8-4DCE-9D18-AFCE4CA9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99BF-67C4-434D-970F-618E2842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E31D-9803-4DF8-BE87-EB9A7EDF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116E-2A30-4C26-A853-29EFDDD9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348E5-B248-4A6E-9E6D-9E4DDE21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C49-F93C-4ADB-836A-CB2873EA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213C0-FC54-465C-8E73-3B6609A8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A5DA7-B72B-41C1-8DBA-ABB19741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EF097-964E-440E-A049-51F92AE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63850-2AFB-4629-BDA1-51109D3E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D2A53-FD80-4336-9FAA-3BADE3A6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F283A-60E6-4B1C-B63A-583DCE5D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B162A-54DD-4473-8298-322FE518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FE32B-BAEB-495A-BF8C-E4964A12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42B5-D4D9-49E6-8ADB-B941FABA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4E5-15A0-4A9F-8019-4CB65BC3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F5F-0B14-49E6-A1C5-A0224FD9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E72-160E-4C4E-969C-EEDECF97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BF1-EAFE-4593-AD39-9841AA40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284-1DA4-4F28-898D-86107F66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593DC-C1D1-4A18-889B-438F81EF88D9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37A95-7D68-4E1E-92F4-4960D13349E2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F085C-66A2-4294-ABD3-E4AB21E33F76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C2CA1-7622-45F4-9B15-AB7080513F38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ثالثة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5840" y="19191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كلمة في الحديث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100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الطالب على المصادر التي يستعان بها في هذه الطريقة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مارس الطالب  تخريج الحديث عن طريق كلمة فيه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كلمة التي يتم التخريج عن طريقها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كلمة البارزة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كلمة الغريبة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تخريج عن طريق كلمة بارزة في الحديث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يستعان في هذه الطريقة بالفهارس المعجمية لألفاظ الحديث النبوي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فهارس العام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فهارس الخاص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8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المعجم المفهرس لألفاظ الحديث النبوي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تعريف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بالكتاب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نهج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بالكتاب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كلمات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صالحة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للبحث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خطوات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بحث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رتيب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كلمات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بحث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في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كتاب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طرق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عزو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في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كتاب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نبيهات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تخريج عن طريق كلمة غريبة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0" name="عنصر نائب للمحتوى 6" descr=""/>
          <p:cNvPicPr/>
          <p:nvPr/>
        </p:nvPicPr>
        <p:blipFill>
          <a:blip r:embed="rId1"/>
          <a:stretch/>
        </p:blipFill>
        <p:spPr>
          <a:xfrm>
            <a:off x="646200" y="1749600"/>
            <a:ext cx="9515520" cy="44989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أنواع هذه الكتب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3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5" name="عنصر نائب للمحتوى 6" descr=""/>
          <p:cNvPicPr/>
          <p:nvPr/>
        </p:nvPicPr>
        <p:blipFill>
          <a:blip r:embed="rId1"/>
          <a:stretch/>
        </p:blipFill>
        <p:spPr>
          <a:xfrm>
            <a:off x="738360" y="1652760"/>
            <a:ext cx="9405720" cy="46447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طريقة البحث في كتب الغريب واللغة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في كتب الغريب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في كتب اللغة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10-29T01:50:44Z</dcterms:modified>
  <cp:revision>48</cp:revision>
  <dc:subject/>
  <dc:title>تعريف التخريج وفوائده ..</dc:title>
</cp:coreProperties>
</file>