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B21B-6C09-404F-A68C-9F8898E9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0B50-A0AB-4A75-939B-0E8E88B8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C130-731E-42AC-9DD4-B2D63AC4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6EB-1551-4A3E-8387-0C120E2B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CC00-7981-4B09-AE62-9BC99FCA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38FF-7908-4B37-8E59-D15E8156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A272-0FC4-4591-A46E-08BF373A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2B7D-7C2D-4D6F-9348-1E3684AE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21FC-FDD8-45A7-B5B0-DDC41DE5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633E-9582-4D44-9620-B9444134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89E7-7CBA-4592-ABD8-7E065C3F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890-7665-41B8-9913-C096FC50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5124-F799-4AFB-BDE8-B74CECF0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A500-56DE-4FD8-913F-864D20B7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458E-C700-45C0-98F1-FC68EB9E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4F4E-44BE-41E1-BF3D-32E5E9A7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D681-8F67-4EBA-962D-B4C10CC7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0D9D9-B6B9-41BB-9B06-343E42EC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4A4C-7664-4D05-8E27-F42C4CA9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63D7E-B702-4FEB-A169-FE237455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3C9B-8CEF-4EE9-B65C-B240EB67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63A2D-C0BF-4D59-8066-05474024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187F-6386-4653-83B7-D82C9FA7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3549A-0FF9-47F3-9D6F-D67E6B69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1B478-30A9-44DE-B08A-1D6282CA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6DE58-F5C2-410F-848B-2958B802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1DC6D-AFC3-4BA5-8F8B-CE9AF1D7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08A47-486D-4983-812E-F528F56B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936C-B36A-44F8-A9DD-674F317C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5F05-9DB1-42FE-A0AB-5E0E5672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556C-7508-4130-80D0-B437498B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5A96F-43BE-4667-BC25-D931F864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21B43-2991-43E7-B587-08017D56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D6C-9D4D-4AD9-B2AB-7A05CB1D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B41E9-FB7B-42E5-B26C-1DC122A5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4D1A3-6CB0-4D68-AD52-CAA07589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13058-8E91-400C-87A1-84FE89C8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75C4E-63FD-40D3-BB07-861120B0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49AFB-460A-486A-9A21-95E670CC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B3782-2575-45F8-836F-4AB153CD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CE585-9AB2-4925-8809-CA52BB7F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C732D-25C9-4EC2-BD9E-37B48B9D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47C93-9A01-4B1F-BC30-D92E55B1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5580-F2B0-4803-AF71-59C5CF6F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14B-BEE2-4B09-9B92-0DE45C42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DE5A-FF54-4E20-8B31-BB6A2817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CC99-D046-4F6C-99EA-1223A418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B2A-B33B-4E85-BD55-B58A4FFB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4E49C-FB8B-4562-B4E8-CF95A70DDB94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200" spc="-1" strike="noStrike">
                <a:solidFill>
                  <a:srgbClr val="acd433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3F4DA-68EA-47B9-A164-2E5B990C8A87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87409-3055-4C9C-AE0D-DD0538242570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9040" y="6095880"/>
            <a:ext cx="99360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acd43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2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4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acd433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 algn="r" rtl="1"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 algn="r" rtl="1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4620B-A9E8-4F76-BDFC-72E6A94C64DE}" type="slidenum">
              <a:rPr b="0" lang="en-US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وحدة الثالثة: 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5840" y="1919160"/>
            <a:ext cx="9404280" cy="34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تخريج عن طريق كلمة في الحديث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عدد المحاضرات: 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l-QuranAlKareem"/>
                <a:cs typeface="Al-QuranAlKareem"/>
              </a:rPr>
              <a:t>مدة الدراسة: 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100</a:t>
            </a:r>
            <a:r>
              <a:rPr b="1" lang="ar-SA" sz="2800" spc="-1" strike="noStrike">
                <a:solidFill>
                  <a:srgbClr val="ffff00"/>
                </a:solidFill>
                <a:latin typeface="Al-QuranAlKareem"/>
                <a:ea typeface="Al-QuranAlKareem"/>
              </a:rPr>
              <a:t> دقيق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حصيلة التعلم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تعرف الطالب على المصادر التي يستعان بها في هذه الطريقة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أن يمارس الطالب  تخريج الحديث عن طريق كلمة فيه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كلمة التي يتم التخريج عن طريقها</a:t>
            </a: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كلمة البارزة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buClr>
                <a:srgbClr val="acd433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الكلمة الغريبة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تخريج عن طريق كلمة بارزة في الحديث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يستعان في هذه الطريقة بالفهارس المعجمية لألفاظ الحديث النبوي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فهارس العام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l-QuranAlKareem"/>
                <a:ea typeface="Al-QuranAlKareem"/>
              </a:rPr>
              <a:t>- فهارس الخاصة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800" spc="-1" strike="noStrike">
                <a:solidFill>
                  <a:srgbClr val="ebebeb"/>
                </a:solidFill>
                <a:latin typeface="Century Gothic"/>
                <a:cs typeface="Times New Roman"/>
              </a:rPr>
              <a:t>المعجم المفهرس لألفاظ الحديث النبوي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تعريف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بالكتاب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منهج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بالكتاب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كلمات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صالحة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للبحث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خطوات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بحث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رتيب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كلمات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بحث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في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كتاب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طرق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عزو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في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ea typeface="AGA Arabesque"/>
              </a:rPr>
              <a:t></a:t>
            </a: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الكتاب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GA Arabesque"/>
                <a:cs typeface="AGA Arabesque"/>
              </a:rPr>
              <a:t>تنبيهات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التخريج عن طريق كلمة غريبة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0" name="عنصر نائب للمحتوى 6" descr=""/>
          <p:cNvPicPr/>
          <p:nvPr/>
        </p:nvPicPr>
        <p:blipFill>
          <a:blip r:embed="rId1"/>
          <a:stretch/>
        </p:blipFill>
        <p:spPr>
          <a:xfrm>
            <a:off x="646200" y="1749600"/>
            <a:ext cx="9515520" cy="44989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5840" y="825480"/>
            <a:ext cx="940428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4800" spc="-1" strike="noStrike">
                <a:solidFill>
                  <a:srgbClr val="ebebeb"/>
                </a:solidFill>
                <a:latin typeface="Century Gothic"/>
                <a:cs typeface="AL-Mohanad Bold"/>
              </a:rPr>
              <a:t>أنواع هذه الكتب: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3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5" name="عنصر نائب للمحتوى 6" descr=""/>
          <p:cNvPicPr/>
          <p:nvPr/>
        </p:nvPicPr>
        <p:blipFill>
          <a:blip r:embed="rId1"/>
          <a:stretch/>
        </p:blipFill>
        <p:spPr>
          <a:xfrm>
            <a:off x="738360" y="1652760"/>
            <a:ext cx="9405720" cy="46447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45840" y="1750680"/>
            <a:ext cx="94042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طريقة البحث في كتب الغريب واللغة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في كتب الغريب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27288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l-QuranAlKareem"/>
                <a:cs typeface="Al-QuranAlKareem"/>
              </a:rPr>
              <a:t>في كتب اللغة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Straight Connector 4"/>
          <p:cNvSpPr/>
          <p:nvPr/>
        </p:nvSpPr>
        <p:spPr>
          <a:xfrm>
            <a:off x="10431360" y="1403280"/>
            <a:ext cx="0" cy="5138640"/>
          </a:xfrm>
          <a:prstGeom prst="line">
            <a:avLst/>
          </a:prstGeom>
          <a:ln cap="rnd" w="9360">
            <a:solidFill>
              <a:srgbClr val="acd4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TextBox 7"/>
          <p:cNvSpPr/>
          <p:nvPr/>
        </p:nvSpPr>
        <p:spPr>
          <a:xfrm>
            <a:off x="10574280" y="206280"/>
            <a:ext cx="3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Century Gothic"/>
                <a:ea typeface="AL-Mohanad Bold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TextBox 6"/>
          <p:cNvSpPr/>
          <p:nvPr/>
        </p:nvSpPr>
        <p:spPr>
          <a:xfrm rot="16200000">
            <a:off x="8498160" y="3620520"/>
            <a:ext cx="51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التخريج عن طريق كلمة في الحديث      </a:t>
            </a:r>
            <a:r>
              <a:rPr b="0" lang="ar-SA" sz="2000" spc="-1" strike="noStrike">
                <a:solidFill>
                  <a:srgbClr val="ffffff"/>
                </a:solidFill>
                <a:latin typeface="Century Gothic"/>
                <a:cs typeface="AL-Mohanad Bold"/>
              </a:rPr>
              <a:t>أ.د. حسن محمد عبه جي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9T15:03:42Z</dcterms:created>
  <dc:creator>Ibrahim Abaji</dc:creator>
  <dc:description/>
  <dc:language>en-US</dc:language>
  <cp:lastModifiedBy>د. حسن عبه جي</cp:lastModifiedBy>
  <dcterms:modified xsi:type="dcterms:W3CDTF">2014-10-29T01:50:44Z</dcterms:modified>
  <cp:revision>48</cp:revision>
  <dc:subject/>
  <dc:title>تعريف التخريج وفوائده ..</dc:title>
</cp:coreProperties>
</file>