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0C7-E18B-4F3C-ABEC-DE7EE441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F83-9497-4B16-8ECB-22087F19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3D18-01B5-42AB-81A0-2CEF633C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042F-32D5-4843-95BF-055D11AD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D1755-859A-48A2-A15C-5C170A2C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D502-9513-4A4D-94F9-61ED65CF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2F49-D367-46AB-84C8-3A6AE21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587B-8218-41C1-85E3-B2FAE75D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C053-9EAC-4F49-A5AF-4564765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4897-A031-45AC-832A-68EBE326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49FA-B9C8-4994-95D3-6F720BC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7C9-A8C4-426D-A461-BF109F12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8C5E-2504-48BC-8590-4A0E63E4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499E-226C-4B50-9E87-80CA07B6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8941-3EB7-4470-AB63-52EB970A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A929-FD14-42B9-B803-AB2D607D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CF31-1146-4CB2-B5A8-3181E29DA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D68AC-B4C9-4592-8D7B-3C23BB97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AC48F-C942-4EEF-AAD8-F7E89BE5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1C00-9D13-48F8-88EF-8B474543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CF5AC-0624-4F8F-B557-EB57D986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410F-3FD8-43B2-BCB8-2BF4FAD9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085-0C38-4A33-8772-80CF05CF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B03D-EB15-4269-B78E-98DF45B7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175C7-D595-42EF-B04F-A59D0667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36663-A3E4-43DF-9707-8765911F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FCDD5-BE39-4C58-81EF-BAD72EEC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BC0C-9F39-4571-B4FC-2200AABA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72A1-B29B-4694-866D-E7F70FE7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C0BD-E0AF-4004-BA40-08F4BC8D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4B4C2-AE82-4C58-AE89-C0C00BED3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92F5A-372D-4612-B797-E8BA743F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C0FF-36A3-4C13-9C0A-193A45AD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EEB4-7ABF-4E47-8D3F-A95CCAC8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78535-14AF-4166-9D56-477C611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F6A7-2389-4007-9D33-925ABF72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043A-23CE-4B83-AB58-6E395CFB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FDB95-CE1F-46D1-824C-1578DFE3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9468-E9F4-4CA0-B752-228CA3C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9C918-D764-403A-98B5-EFA55BD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2B744-1146-4C74-8674-5F2CAABC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EF12-761A-4445-A104-8C31777E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CF35A-939D-4422-A1F7-FE3276B8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969-FCE7-47C8-B99D-F14D94F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DBC9-8632-4F1F-B133-FCC4FB03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902-35EF-4AA3-9164-6A779829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588-AE0E-4BCC-BD3D-450778F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561-667F-4E20-907E-673704A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34C6A-8AD4-4854-95E0-B4ADA7B3787E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62B869-91BA-4482-8DA6-8B5283890A8F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0326CA-3AF0-482B-A322-297486A83A6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F5349-049E-4E51-B1A4-558C8258925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72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طرق التخريج المتعلقة بالمتن 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هم الكتب التي جمعت الأحاديث المشتهرة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مستطيل 2"/>
          <p:cNvSpPr/>
          <p:nvPr/>
        </p:nvSpPr>
        <p:spPr>
          <a:xfrm>
            <a:off x="1006560" y="2681280"/>
            <a:ext cx="88995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مقاصد الحسنة في بيان كثير من الأحاديث المشتهرة على الألسنة، للإمام محمد بن عبد الرحمن السخاوي – ت 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90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 -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كشف الخفا ومُزِيل الإلباس عما اشتهر من الأحاديث على ألسنة الناس، للشيخ إسماعيل بن محمد العجلوني – ت 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162</a:t>
            </a:r>
            <a:r>
              <a:rPr b="0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 -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بعض الملامح في منهج الكتابين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45840" y="2316240"/>
            <a:ext cx="94042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وضوع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ترتيب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دد أحاديث الكتابين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4</a:t>
            </a:r>
            <a:r>
              <a:rPr b="1" lang="ar-SA" sz="2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ميزة الكتابين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فهارس الأطراف (أوائل الأحاديث)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45840" y="2316240"/>
            <a:ext cx="940428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خاص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عام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TextBox 6"/>
          <p:cNvSpPr/>
          <p:nvPr/>
        </p:nvSpPr>
        <p:spPr>
          <a:xfrm rot="16200000">
            <a:off x="8496720" y="357480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ثاني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مطلع الحديث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أنواع المصنفات المساعدة في تخريج الحديث باعتبار مطلعه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على مناهج بعض تلك المصنفات، وطرق الإفادة منها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عملياً تخريج الحديث باعتبار مطلعه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854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60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مطلع الحديث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9" name="رسم تخطيطي 6" descr=""/>
          <p:cNvPicPr/>
          <p:nvPr/>
        </p:nvPicPr>
        <p:blipFill>
          <a:blip r:embed="rId1"/>
          <a:stretch/>
        </p:blipFill>
        <p:spPr>
          <a:xfrm>
            <a:off x="1311120" y="1884240"/>
            <a:ext cx="84423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مقصود بالجوامع هنا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الكتب التي قصد مصنفوها جمعَ أحاديثِ كتبٍ مخصو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و: جمع الأحاديث النبوية مطلقا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ترتيب الجوامع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أسماء الصحابة رواة الأحادي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الأبواب الفقهي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لى حروف المعجم (وهو المقصود هنا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هم الجوامع المرتبة على حروف المعج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1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جامع الكبير، القسم الأول، للإمام أبي الفضل عبد الرحمن بن أبي بكر بن محمد السيوطي (ت 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911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هـ )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2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جامع الصغير من حديث البشير النذير، للسيوطي أيضاً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3</a:t>
            </a:r>
            <a:r>
              <a:rPr b="1" lang="ar-SA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الزيادة على الجامع الصغير من حديث البشير النذير، للسيوطي أيضاً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4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فتح الكبير في ضم الزيادة إلى الجامع الصغير، للشيخ يوسف النبهاني (ت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350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). 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5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- الجامع الأزهر في حديث النبي الأنور، للإمام محمد عبد الرؤوف المناوي (ت 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ea typeface="Traditional Arabic"/>
              </a:rPr>
              <a:t>1031</a:t>
            </a:r>
            <a:r>
              <a:rPr b="1" lang="ar-SA" sz="2900" spc="-1" strike="noStrike">
                <a:solidFill>
                  <a:srgbClr val="ffffff"/>
                </a:solidFill>
                <a:latin typeface="Calibri"/>
                <a:cs typeface="Traditional Arabic"/>
              </a:rPr>
              <a:t>هـ).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بعض الملامح في مناهج الكتب المتقدمة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استيعاب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رتيب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عزو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حذف الأسانيد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4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رتبة الأحاديث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كتب الأحاديث المشتهرة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10431360" y="206280"/>
            <a:ext cx="6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TextBox 6"/>
          <p:cNvSpPr/>
          <p:nvPr/>
        </p:nvSpPr>
        <p:spPr>
          <a:xfrm rot="16200000">
            <a:off x="840924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مستطيل 6"/>
          <p:cNvSpPr/>
          <p:nvPr/>
        </p:nvSpPr>
        <p:spPr>
          <a:xfrm>
            <a:off x="1058760" y="2209680"/>
            <a:ext cx="8672760" cy="58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تطلق الشهرة عند المحدثين على معنيين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1</a:t>
            </a: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- الشهرة بمعناها الاصطلاحي، وتطلق على الحديث الذي رواه ثلاثة فأكثر في كلِّ طبقة، ما لم يبلغوا حدَّ التواتر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2</a:t>
            </a:r>
            <a:r>
              <a:rPr b="0" lang="ar-SA" sz="3600" spc="-1" strike="noStrike">
                <a:solidFill>
                  <a:srgbClr val="ffffff"/>
                </a:solidFill>
                <a:latin typeface="Century Gothic"/>
                <a:ea typeface="Traditional Arabic"/>
              </a:rPr>
              <a:t>- الشهرة بمفهومها اللغوي، وتطلق على كل حديث انتشر وشاع على الألسنة، فيشمل ما له إسناد واحد فصاعداً، بل ما لا يوجد له إسناد أصلاً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Century Gothic"/>
                <a:cs typeface="Traditional Arabic"/>
              </a:rPr>
              <a:t>والمعنى الثاني هو المراد هنا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0-12T04:53:54Z</dcterms:modified>
  <cp:revision>51</cp:revision>
  <dc:subject/>
  <dc:title>تعريف التخريج وفوائده ..</dc:title>
</cp:coreProperties>
</file>