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FB8-6DAD-43E7-B6B9-07BF26B2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8FC-5B8E-46A2-B06A-AF9A7CF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E20-F454-4D98-B4A7-673BA38E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8FA-F72F-4C38-8556-25F08BA6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E14-C205-46CF-9250-40FA5C63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6F2-B79F-4C8A-B410-6E3A33E3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1FF-4878-407D-82CA-2187926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39CE-C215-4D1F-A885-D52AE8A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B84-5254-4C5B-BC3B-1EFB6B4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E67-5112-4E1A-A736-F37D59D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7793-6771-4EE1-AEFC-5B90D7E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723-A6F1-40C2-81B6-CCDD0CE1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86E-DEAB-4612-B444-D5DA2F6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F2FF-3BB2-428E-AF73-A58710F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1DA-97E1-4ED3-853C-BF83E8C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5729-4498-4220-A660-0696974F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8AE-1014-4DC6-91F2-85EA0738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9A70-FF43-42FF-8141-A5AA44F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97C5-174F-4446-A5DC-81CFC053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AE59-86B9-4B7E-A428-2E6D4E97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A93D-02F5-49D2-AD1D-0E99866C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AF55-D990-4F5A-97F5-5049313E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086-EAF7-4B1A-A2C2-BDB931E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A435-FF86-4314-9253-A962280C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35E5-AD11-4AC6-B020-B2B23096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2ADA-150D-4A66-8B6F-2639961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418F-E8F8-4143-AF79-33E773C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F0C4-A3DA-47E1-847E-AF61749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FD16-B718-4BA7-A0DE-C84B873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A16D-0830-4E78-81C7-0A72A5BF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2A83-1A07-4FD6-B937-86BCB0C0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CE2D-1D31-4AB7-A706-97516FA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AE14-006E-42B4-8E15-05946C0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BA4-52C5-4BCB-8E51-156A9483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6CBE-CC34-4244-8AB1-ECDE7CEE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7F72-C8C7-4144-8FC9-BE2FB22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5BBC-65D5-4CE7-B117-774CED8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267C-BEB7-415E-8CBF-EEDC61B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9636-D389-4266-BACF-C4E1A94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13DE-DFAD-46F7-9938-5E64030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F391-FA21-4019-9D91-F1A3F04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5F47-B2BF-4336-A88F-38DD481D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1E3A-25D4-479A-94CA-608D90C6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51C-ACDB-4547-A17B-38CBEAAB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B43-1DEE-48B5-8048-293B0EA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C99-73EB-470F-8BEB-E4B8052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2DF-822F-4C6C-BF69-5B24175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240-5B1B-46D1-AD48-B6B8687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F5F81-C5D8-4548-AFE9-15E5B80352A8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B4AFD-A7AF-4C16-9B01-231C88B54B3F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58481-F141-41E2-9E27-8414573C10CF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2EAAF-8AD1-449F-96FC-CBF7F474AF76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72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طرق التخريج المتعلقة بالمتن 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هم الكتب التي جمعت الأحاديث المشتهرة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مستطيل 2"/>
          <p:cNvSpPr/>
          <p:nvPr/>
        </p:nvSpPr>
        <p:spPr>
          <a:xfrm>
            <a:off x="1006560" y="2681280"/>
            <a:ext cx="88995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مقاصد الحسنة في بيان كثير من الأحاديث المشتهرة على الألسنة، للإمام محمد بن عبد الرحمن السخاوي – ت 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90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 -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كشف الخفا ومُزِيل الإلباس عما اشتهر من الأحاديث على ألسنة الناس، للشيخ إسماعيل بن محمد العجلوني – ت 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16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 -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بعض الملامح في منهج الكتابين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45840" y="2316240"/>
            <a:ext cx="94042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وضوع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ترتيب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دد أحاديث الكتابين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4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ميزة الكتابين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فهارس الأطراف (أوائل الأحاديث)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5840" y="2316240"/>
            <a:ext cx="94042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خاص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عام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TextBox 6"/>
          <p:cNvSpPr/>
          <p:nvPr/>
        </p:nvSpPr>
        <p:spPr>
          <a:xfrm rot="16200000">
            <a:off x="8496720" y="357480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ثاني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مطلع الحديث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أنواع المصنفات المساعدة في تخريج الحديث باعتبار مطلعه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على مناهج بعض تلك المصنفات، وطرق الإفادة منها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عملياً تخريج الحديث باعتبار مطلعه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854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60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مطلع الحديث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9" name="رسم تخطيطي 6" descr=""/>
          <p:cNvPicPr/>
          <p:nvPr/>
        </p:nvPicPr>
        <p:blipFill>
          <a:blip r:embed="rId1"/>
          <a:stretch/>
        </p:blipFill>
        <p:spPr>
          <a:xfrm>
            <a:off x="1311120" y="1884240"/>
            <a:ext cx="84423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مقصود بالجوامع هنا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الكتب التي قصد مصنفوها جمعَ أحاديثِ كتبٍ مخصو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و: جمع الأحاديث النبوية مطلقا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ترتيب الجوامع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أسماء الصحابة رواة الأحادي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الأبواب الفقهي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حروف المعجم (وهو المقصود هنا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هم الجوامع المرتبة على حروف المعج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1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جامع الكبير، القسم الأول، للإمام أبي الفضل عبد الرحمن بن أبي بكر بن محمد السيوطي (ت 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911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هـ )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2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جامع الصغير من حديث البشير النذير، للسيوطي أيضاً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زيادة على الجامع الصغير من حديث البشير النذير، للسيوطي أيضاً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4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فتح الكبير في ضم الزيادة إلى الجامع الصغير، للشيخ يوسف النبهاني (ت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350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). 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5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جامع الأزهر في حديث النبي الأنور، للإمام محمد عبد الرؤوف المناوي (ت 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031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)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بعض الملامح في مناهج الكتب المتقدمة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استيعاب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رتيب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عزو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حذف الأسانيد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رتبة الأحاديث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كتب الأحاديث المشتهرة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10431360" y="20628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TextBox 6"/>
          <p:cNvSpPr/>
          <p:nvPr/>
        </p:nvSpPr>
        <p:spPr>
          <a:xfrm rot="16200000">
            <a:off x="840924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مستطيل 6"/>
          <p:cNvSpPr/>
          <p:nvPr/>
        </p:nvSpPr>
        <p:spPr>
          <a:xfrm>
            <a:off x="1058760" y="2209680"/>
            <a:ext cx="867276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تطلق الشهرة عند المحدثين على معنيين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- الشهرة بمعناها الاصطلاحي، وتطلق على الحديث الذي رواه ثلاثة فأكثر في كلِّ طبقة، ما لم يبلغوا حدَّ التواتر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- الشهرة بمفهومها اللغوي، وتطلق على كل حديث انتشر وشاع على الألسنة، فيشمل ما له إسناد واحد فصاعداً، بل ما لا يوجد له إسناد أصلا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cs typeface="Traditional Arabic"/>
              </a:rPr>
              <a:t>والمعنى الثاني هو المراد هنا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0-12T04:53:54Z</dcterms:modified>
  <cp:revision>51</cp:revision>
  <dc:subject/>
  <dc:title>تعريف التخريج وفوائده ..</dc:title>
</cp:coreProperties>
</file>