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969-2144-41B7-A8A1-231B8549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64B8-C69C-433E-B00A-C905C9E7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8B6-B555-4788-B48C-3C37C2D9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FFE-819B-4FB5-A66E-F5BA35B1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4420-95BB-4E85-BBFE-95735EB94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D4A9-032B-44B1-AD41-05733516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919F-C02B-4BE5-B0BD-613732F5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5EEE-0A90-4318-8D1A-9E33100C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E485-1DD2-4BC0-9B7A-142A5D02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12B3-2F02-4C75-BFE8-EE94BD72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109E-6B4E-4C90-A620-B4FDD497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58A-C518-47D2-B44A-28FC6FEC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57163-5336-4586-B000-94C3928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A2B3-23E4-408D-B7E6-95BB1D9C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5BA7-6AC4-44C3-BBF8-D236AB4A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D3D7-24D2-4D62-8D2E-6133DC45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396B-1A55-431F-BEE4-9688AF46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DAD57-962E-409B-88A8-0FDEA150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96C79-6ADB-453C-A4F4-DDF1BC72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49EC-F577-4658-9D5D-75D044C2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EB30-C14A-4DB1-8597-49B5175D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363A9-ACFF-4F2A-8048-0BBB2BCC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5AF-2D31-4960-9028-983752A3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D1B6-4A5D-44DE-BA83-FC0A09E1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09516-70C5-4EA9-A972-30AC3D59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B979-C114-4729-BD30-0910269A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F28EC-AFDD-41C9-A53E-13EB081F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1BDC8-CB1D-484F-B91F-23648B5C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05F9E-6AAE-4A6C-9859-A96F7912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4DFBB-67B8-43B9-A5B7-C0B564ED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B9B4-A8B7-4999-9C8E-BED1A958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E786A-0AB8-4DC5-A5C5-168F67B0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60010-89D3-4DE9-999F-7544A20B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0A4-84F7-45DE-AE05-13692019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E5D8-D58C-4E2E-8392-565E7AAC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0036C-75FA-420A-B66C-A77CD335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AB033-AAD4-48BF-97B6-ACFD852D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FBF75-26E1-4C28-B178-E4B2BDFF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C7FB2-5C15-4CD0-BFF4-18768716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E4D48-D8D7-4DCB-A7C6-59BB8812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2D2C7-97AF-4CAF-BC23-92424A50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1B416-ED7B-46A0-8984-5B8F9CF3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516F4-B533-43C3-939B-563435C91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3DE-8A8B-49DF-85E6-EF688867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423-8A22-4575-B8FF-7CEEADDD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2102-9048-4190-ABC8-53E51D84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5955-3102-4F6C-B763-209B006B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9FE-20A0-4A9D-B71E-367623E6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03130-3284-484F-9F6B-01A1B5289B0C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D100C-7C4C-4F26-A2B7-2814BDE6B371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AE8FC1-4B49-4757-B01A-F946CE3DE8D2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8C937-AC26-4888-884D-DA1A30FE31EA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72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تعريف بالتخريج ..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acd433"/>
                </a:solidFill>
                <a:latin typeface="Century Gothic"/>
                <a:cs typeface="Akhbar MT"/>
              </a:rPr>
              <a:t>أ.د. حسن محمد عبه جي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أنواع التخريج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45840" y="1750680"/>
            <a:ext cx="940428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أولاً: التخريج المختصر: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ثانياً: التخريج المطوَّل (وهو للمتخصصين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10431360" y="206280"/>
            <a:ext cx="67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أولى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5840" y="28335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00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محاضرة الأولى: تعريف التخريج، وأنواع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الطالب على معنى التخريج لغة واصطلاحاً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الطالب على أنواع التخريج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محاضرة الأولى: تعريف التخريج وأنواعه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تعريف التخريج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في اللغة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من أبرز معاني هذا الفعل: البروز، والنفاذ عن الشيء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«أخرج وخرَّج»  بمعنى: أبرز الحديث، ودلَّ على مكان وجوده في كتب الرواية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TextBox 8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إطلاقات التخريج عند المحدثين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رواية الحديث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تأليف معجم شيوخ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3</a:t>
            </a: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تأليف مستخرج على أحد كتب السنة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عزو الأحاديث إلى مصادرها الأصلية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تعريف التخريج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«عزو الحديث إلى مصادره الأصلية، ثم بيان مرتبته عند الحاجة»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أنواع المصادر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l-QuranAlKareem"/>
                <a:cs typeface="Al-QuranAlKareem"/>
              </a:rPr>
              <a:t>المصادر الأصلية، 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تشمل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كتب الحديثية، كمسند الإمام أحمد، وصحيح البخاري، وسنن أبي داود، وغيرها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كتب المسندة في العلوم الأخرى، كـ "الأم" للإمام الشافعي، وتفسير الطبري، و«تاريخ دمشق" لابن عساكر، ونحوها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TextBox 6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أنواع المصادر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38000" y="1723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 </a:t>
            </a:r>
            <a:r>
              <a:rPr b="1" lang="ar-SA" sz="3200" spc="-1" strike="noStrike">
                <a:solidFill>
                  <a:srgbClr val="ff0000"/>
                </a:solidFill>
                <a:latin typeface="Al-QuranAlKareem"/>
                <a:cs typeface="Al-QuranAlKareem"/>
              </a:rPr>
              <a:t>المصادر الفرعية، 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وتشمل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مصدر المسند الذي تكون أحاديثه وآثاره مروية من طريق مصدر آخر متقدم عليه، كـ "شرح السنة" للبغوي، حين يروي الحديث من طريق البخاري مثلاً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كتب التي تنقل الأحاديث والآثار من كتابٍ مسند، وتنقل معها أسانيدها، كـ "المطالب العالية" للحافظ ابن حجر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كتب التي تذكر الأحاديث والآثار مجرَّدة من الأسانيد، كرياض الصالحين للإمام النووي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a6a6a6"/>
                </a:solidFill>
                <a:latin typeface="Al-QuranAlKareem"/>
                <a:ea typeface="Al-QuranAlKareem"/>
              </a:rPr>
              <a:t>(بيان مرتبته عند الحاجة)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ليس بشرط في التخريج؛ وإنما هو من مُتَمِّماته إذا دعت الحاجة عليه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وبيان مرتبة الحديث يشمل: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نقل أحكام الأئمة فيه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23184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36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دراسة الإسناد والحكم عليه، ولا يتأتى هذا إلا للمتخصص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TextBox 9"/>
          <p:cNvSpPr/>
          <p:nvPr/>
        </p:nvSpPr>
        <p:spPr>
          <a:xfrm rot="16200000">
            <a:off x="8496720" y="3468240"/>
            <a:ext cx="51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تعريف التخريج وفوائده وطرقه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02-13T10:25:03Z</dcterms:modified>
  <cp:revision>43</cp:revision>
  <dc:subject/>
  <dc:title>تعريف التخريج وفوائده ..</dc:title>
</cp:coreProperties>
</file>