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12E-4C5B-48EC-A964-322FC039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1EC-B2E0-4B9E-B964-DD9E5C70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D1C-14D3-4F9F-8EA0-81CB025A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31E-07C1-4804-8E84-61B64AC0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6FB2-21C5-4DDE-8099-123F2B51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3DB7-0324-480A-AB01-24C0D89B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1C2C-221D-4988-9D3E-9682B1A0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A4C6-D770-4A9A-8577-F4562F30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C33A-EF2F-4A29-AD92-6CAE59B4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D478-52AE-4666-9915-1C1B3B38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1AF-DA6E-49D3-A0C8-D3398839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83A-6658-40AF-95DB-721C23CF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A452-5D26-48DF-8371-16A839C2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D6BB-D688-4422-8988-D39D1C3C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67E6-DF18-4CAB-8D67-DD0C35FB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2B17-0FC2-49FB-B62E-AFDEB184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813C-9E10-4892-9B3A-4849AE4C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F22E-3226-450C-A47E-3C5FB3B7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DDD7-E522-4204-954D-7EE591EB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809C4-684F-4C48-9717-11752419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FE4A5-B098-48BA-B701-CB5FF7BE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E4CA-0459-436B-BE4C-FABC639A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E6D-660C-4092-BB27-89160D83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29EE-59BC-43B7-AFC2-4D56F9D5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00C8-7AB2-42CC-844F-25C1FEB9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85A19-3DE1-4A34-8590-09B902A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8F0C-94C4-4FE9-B68A-7040C58E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000D3-ACAC-4F41-A033-0A1CEC78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3BCF0-3D0A-4095-969B-2C569ABA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A4EB-3935-47D0-922F-30EF0649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8BBAF-459B-4320-AC2C-92457471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A16C-88F3-4855-8203-574DD2C6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8E8EA-5E79-4B64-AA00-504D826E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594-46DD-49C9-8451-4417600F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07A8-0C43-43CE-8656-388AAC38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59D1D-201C-4EB5-A9F2-50027A53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80C43-384D-4123-B749-04A2481A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1CB93-C477-464D-BFBC-20F90C60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EA09-1DB2-4220-B1E6-7D0E2B7F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BDBA4-48A3-465A-8766-50A39F15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C6D23-922A-4CB7-AA62-3B5DC941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FEC13-297C-4FFC-85FC-B8E1264B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4D059-7D2D-4E01-BEF2-BA61D3D0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73E-AE8F-4B7A-88C8-CF5B833A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681-2A2E-412F-9176-2B507387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FF5-748C-4211-BB9E-A9A64FD8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79F-0F34-4689-80F0-4D5348F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BB1-DAF4-48C8-8036-031765BC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B7FCA-3D25-41DF-B16D-4D5FB44975AF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7B5FB-2609-4DE9-B913-391FF639FBAC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BEC83-7B87-48C1-B1B1-580735B1E491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3E2AB-3C12-4F0A-AAA5-B45EFF5E6A0F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72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تعريف بالتخريج ..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acd433"/>
                </a:solidFill>
                <a:latin typeface="Century Gothic"/>
                <a:cs typeface="Akhbar MT"/>
              </a:rPr>
              <a:t>أ.د. حسن محمد عبه جي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أنواع التخريج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45840" y="1750680"/>
            <a:ext cx="94042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أولاً: التخريج المختصر: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ثانياً: التخريج المطوَّل (وهو للمتخصصين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10431360" y="206280"/>
            <a:ext cx="67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أولى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5840" y="28335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00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محاضرة الأولى: تعريف التخريج، وأنواع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الطالب على معنى التخريج لغة واصطلاحاً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الطالب على أنواع التخريج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محاضرة الأولى: تعريف التخريج وأنواعه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تعريف التخريج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في اللغة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من أبرز معاني هذا الفعل: البروز، والنفاذ عن الشيء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«أخرج وخرَّج»  بمعنى: أبرز الحديث، ودلَّ على مكان وجوده في كتب الرواية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TextBox 8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إطلاقات التخريج عند المحدثين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رواية الحديث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تأليف معجم شيوخ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تأليف مستخرج على أحد كتب السنة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عزو الأحاديث إلى مصادرها الأصلية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تعريف التخريج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«عزو الحديث إلى مصادره الأصلية، ثم بيان مرتبته عند الحاجة»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أنواع المصادر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l-QuranAlKareem"/>
                <a:cs typeface="Al-QuranAlKareem"/>
              </a:rPr>
              <a:t>المصادر الأصلية، 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تشمل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كتب الحديثية، كمسند الإمام أحمد، وصحيح البخاري، وسنن أبي داود، وغيرها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كتب المسندة في العلوم الأخرى، كـ "الأم" للإمام الشافعي، وتفسير الطبري، و«تاريخ دمشق" لابن عساكر، ونحوها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أنواع المصادر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38000" y="1723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Al-QuranAlKareem"/>
                <a:cs typeface="Al-QuranAlKareem"/>
              </a:rPr>
              <a:t>المصادر الفرعية، 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وتشمل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مصدر المسند الذي تكون أحاديثه وآثاره مروية من طريق مصدر آخر متقدم عليه، كـ "شرح السنة" للبغوي، حين يروي الحديث من طريق البخاري مثلاً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كتب التي تنقل الأحاديث والآثار من كتابٍ مسند، وتنقل معها أسانيدها، كـ "المطالب العالية" للحافظ ابن حجر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كتب التي تذكر الأحاديث والآثار مجرَّدة من الأسانيد، كرياض الصالحين للإمام النووي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a6a6a6"/>
                </a:solidFill>
                <a:latin typeface="Al-QuranAlKareem"/>
                <a:ea typeface="Al-QuranAlKareem"/>
              </a:rPr>
              <a:t>(بيان مرتبته عند الحاجة)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ليس بشرط في التخريج؛ وإنما هو من مُتَمِّماته إذا دعت الحاجة عليه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وبيان مرتبة الحديث يشمل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نقل أحكام الأئمة فيه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دراسة الإسناد والحكم عليه، ولا يتأتى هذا إلا للمتخصص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02-13T10:25:03Z</dcterms:modified>
  <cp:revision>43</cp:revision>
  <dc:subject/>
  <dc:title>تعريف التخريج وفوائده ..</dc:title>
</cp:coreProperties>
</file>