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7D4-6D38-4446-B74F-D376B64E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D68-E890-45EE-923E-7AEB26A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FFD-4D8B-41D0-B6CB-7DFADA12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1B9-937C-4D92-9487-DCED4BA1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293B-4E9C-439F-8CFF-AB6AC24E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3A9-B786-421F-B677-3F85939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B736-17B0-4557-A907-7E1F9243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BDF-E12B-4C82-B004-C0F28BE6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05A1-747A-4808-A661-484478C9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9150-3C88-41F5-B8AF-1FA8201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3FD9-9628-4327-9F6A-C1A8688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016-B42B-45B4-B60A-4492368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78DD-3772-4FE6-B0CF-57D61D1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2576-C0ED-4CE1-8486-08F42D7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C66-5F8F-4D4E-BA69-DBBBC420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542-370E-415B-B463-91EC6239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C846-3ED5-44CF-8783-5EA1B166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B12-78FF-48FB-850A-F505335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68E-1D7C-443E-9180-2655255F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385-23C4-481E-9C16-C480602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397-8A95-4CAE-8ECA-098B207D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CC0-5BB2-4BEA-B2B3-9654604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0BB-0F4E-425E-8846-2B8D74E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10D-4B08-462A-B2BA-538830C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4EE-9714-4FBD-A855-8978CCA24D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FF4-6EEA-45EC-B193-CA9DF2EF8C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6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Arial"/>
              </a:rPr>
              <a:t>Lymphadenopathy and Malignanc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ymph nodes of the head and neck, and the region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727236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Head and Neck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 one outpatient primary care study : cervical LNs are palpable in 51% of adult physicals, with the incidence declined with 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fection is the most common cau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st cases resolve quickly; some entities can create persistent lymphadenopathy for months.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(ex. Atypical mycobacteria, cat-scratch disease, toxoplasmosis, kikuchi’s lymphadenitis, sarcoidosis, Kawasaki’s syndrome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upraclavicular nodes are the most likely to be malignant and should always be investigated, even in child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66"/>
                </a:solidFill>
                <a:latin typeface="Arial"/>
              </a:rPr>
              <a:t>Axillary lymphatics and the structure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734364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Axillary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st of cases are nonspecific or reactive to local injury/infection in eti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ersistent lymphadenopathy is less commonly found in the axillary nodes than in the inguinal chai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Breast adenocarcinoma often metastasis initially  to the anterior and central axillary nodes, which may be palpable before discovery of the primary tumo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ntecubital or epitrochlear lymphadenopathy can suggest lymphoma or melanoma of the extremit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66"/>
                </a:solidFill>
                <a:latin typeface="Arial"/>
              </a:rPr>
              <a:t>Inguinal lymphatics and the structure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11480" y="1852560"/>
            <a:ext cx="639900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Inguinal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t is common, with nodes enlarged up to 1 to 2 cm in diameter in many healthy adults, but it is of low suspicion of malignanc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Benign reactive lymphadenopathy and infection are the most common etiolog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lthough some tumors, such as Hodgkin’s lymphomas, penile/ vulvar SCC, melanoma in this area, may present with inguinal lymphadenopathy, it is typical presenting finding in neither ca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Generalized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Generalized lymphadenopathy : lymphadenopathy found in two or more distinct anatomic reg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re likely to result from serious infections, autoimmune diseases, and disseminated malignanc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pecific testing is usually requi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Generalized adenopathy infrequently occurs in pt’s with neoplasms, but it is occasionally seen in patients with leukemias and lymphomas, or advanced disseminated metastatic solid tumo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Character and Siz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ard and painless nodes have higher suspicion of malignancy or granulomatous disea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Viral infection typically produces hyperplastic nodes that are bilateral, mobile, nontender, and clearly demarcat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alpable supraclavicular, iliac, or popliteal nodes of any size and epitrochlear nodes larger than 5mm are considered abnorm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creasing size and persistence over time are of greater concern for malignancy than a specific level of nodal enlargeme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75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lgorithm for evaluation, diagnosis, and management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rical C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al Character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nosis 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ymph Node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gnosis and Manag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The first step : reviewing pts’ medications, considering unusual causes of lymphadenopathy, and reconsidering the risk factors for neoplasm. If a diagnosis is not suggested, and the patient is deemed low risk for neoplasm, the regional lymphadenopathy can be safely observ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t is suggested that non-inguinal lymphadenopathy lasting more than one month merits specific investigation or biops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ymph Node Biop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Once biopsy has been chosen, ideally the largest, most suspicious, and most accessible node is selected, taking into account differing diagnostic yields by si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Inguinal nodes offer the lowest yield, and supraclavicular nodes have the high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Excisional biopsy remains the diagnostic procedure of choi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Persistent Generalized Lymphadenopathy (PGL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8738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149120" indent="0">
              <a:lnSpc>
                <a:spcPts val="0"/>
              </a:lnSpc>
              <a:spcBef>
                <a:spcPts val="7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149120" indent="-37800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ymph node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arger than 1.5 c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in diameter in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 or more extrainguina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ites of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 or more months du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49120" indent="-37800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des are non-tender, symmetrical, and often involve the posterior cervical, axillary, occipital, and epitrochlear no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051640" y="162864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senting Signs and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Overview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welling of lymph nodes is a frequently encountered sympto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It is important to carry out a careful history and physical ex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ause often becomes obvious, but in more complicated cases, laboratory tests and lymph node biopsy may be necessary to establish a definitive diagn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2480" indent="-4017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re possible, do a CBC (FBC) and chest x-ray  before making a diagnosis of PG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-4017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lar or  mediastinal lymphadenopathy on CX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iagno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Management and 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8377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20000"/>
              </a:lnSpc>
              <a:spcBef>
                <a:spcPts val="312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pecific treatment for PG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Unique features, Cave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velops in up to 50% of HIV-infected individual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 to one-third do not have any other symptom on presentation (WHO clinical stage 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HIV-positive patients, PGL is a clinical diagnosis. No further examinations are necessary, unless there are features of another dis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GL may slowly regress during the course of HIV infection and may disappear before the onset of AI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2872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vical nodes most commonly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2872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ual course of lymph node disease is as follow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rm, discrete no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uctuant nodes matted toget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kin breakdown, abscesses, chronic sinu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ing and scarr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343960" y="1557360"/>
            <a:ext cx="46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esenting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gn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nd Symptom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7632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Tuberculosis lymphadeno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81280"/>
            <a:ext cx="8362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e-needle aspiration of the involved lymph no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ra-thoracic lymph node aspi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itive smears for acid-fast bacilli on fine-needle aspirates of the involved lymph nodes (high rate in HIV patien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smear-negative pulmonary TB, it is worthwhile aspirating extra-thoracic lymph nodes to confirm diagnosis of TB (80% posi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iagno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38280" y="1873080"/>
            <a:ext cx="4419720" cy="3918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152280"/>
            <a:ext cx="81532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B abs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99"/>
                </a:solidFill>
                <a:latin typeface="Arial"/>
              </a:rPr>
              <a:t>as part of immune reconstitutio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Lymphadenopathy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n abnormality in the size 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haracter of lymph no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tegories of Lymphadenopathy : MIAMI Malignancies, Infections, Autoimmune disorders, Miscellaneous and unusual conditions, and Iatrogenic cau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most concerning to the patient and physician : the possibility of underlying maligna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Low Rate of Malignancy in Primary Care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1.1 % of pt’s presenting to the office with unexplained lymphadenopath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Management and 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77760" indent="-237960">
              <a:lnSpc>
                <a:spcPct val="190000"/>
              </a:lnSpc>
              <a:spcBef>
                <a:spcPts val="77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eatment should be started following the national TB Guidelin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977760" indent="-237960">
              <a:lnSpc>
                <a:spcPct val="230000"/>
              </a:lnSpc>
              <a:spcBef>
                <a:spcPts val="77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further details, see Part A Module 2, Session 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Unique features, Cave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9560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0440" indent="-3506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of the most common forms of extra-pulmonary TB in HIV patien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3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uctuant cervical nodes that develop over weeks to months without significant inflammation or tenderness suggest infection with M. tuberculosis, atypical mycobacteria, or scratch disease (Bartonella henselae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severe immunocompromised patients, tuberculosis lymphadenopathy may be acute and resemble acute pyogenic lymphadenit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50000"/>
              </a:lnSpc>
              <a:spcBef>
                <a:spcPts val="7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liary TB is an important consideration in patients with generalized lymphadeno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ical Cl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ge and Du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posures &amp; Histo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ociated Sympto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ical Clues : Age and Du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alignant rate increases with 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 majority of healthy children have palpable cervical, inguinal and axillary adenopathy. Most of them is infectious or benign in eti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Lymphadenopathy that lasts less than 2 weeks or more than 1 year with no progressive size increase has a very low likelihood of being neoplasti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are Exception : low-grade Hodgkin’s/ non-Hodgkin’s lymphomas and, occasionally, chronic lymphocytic leuk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istorical Clues : Exposures &amp; Histor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nimals, biting insects, infectious contacts, recurrent infections, chronic use of medications. Travel-related exposures and immunization stat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Tobacco, alcohol, ultraviolet radiation : raise suspicion for metastatic carcino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Occupational exposures to silicon or berylliu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exual history and orientation. AIDS pt’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Family his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Medications That Can Cause Lymphadenopathy</a:t>
            </a: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llopurinol (Zylop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tenolol (Tenormi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ptopril (Capote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rbamazepine (Tegretol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Gol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Hydralazine (Apresolin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enicillin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henytoin (Dilanti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rimidone (Mysolin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yrimethamine (Darap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nidin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rimethoprim/sulfamethoxazole (Bact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Sulindac (Clinoril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istorical Clues : Associated Sympto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Constitutional symptoms : fever, fatigue, malaise with atypical lymphocytosis </a:t>
            </a: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mononucleosis syndr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fever, night sweats, unexplained BW loss &gt; 10% of normal BW → “B” symptoms of Hodgkin’s lympho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hralgias, muscle weakness, unusual rash → autoimmune diseases such as RA, SLE, dermatomyosit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al Examin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5084640"/>
            <a:ext cx="532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ead and Neck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xillary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guinal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624640" cy="346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3:37:31Z</dcterms:created>
  <dc:creator>Lavon Su</dc:creator>
  <dc:description/>
  <dc:language>en-US</dc:language>
  <cp:lastModifiedBy>Dr.abdel-hamid</cp:lastModifiedBy>
  <dcterms:modified xsi:type="dcterms:W3CDTF">2006-10-21T22:45:48Z</dcterms:modified>
  <cp:revision>20</cp:revision>
  <dc:subject/>
  <dc:title>Lymphadenopathy and Malignancy  Andrew W.Bazemore, M.D., and  Douglars R. Smucker, M.D., M.P.H. University of Cincinnati College of Medicine, Cincinnati, Ohio American Family Physician  Dec. 1,2002  Vol.66 Num.11</dc:title>
</cp:coreProperties>
</file>