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F978-CA69-41F6-809E-B5A988700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2A17-535F-4650-B3E3-CFB719808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57DD-F863-4559-BD15-B0DE26D5F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AF40-E8DB-48AB-8434-827312B51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05B00-E0EF-4DCB-9DA1-A77141C3B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01703-D774-4AB4-9111-03612EDAA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4D683-A56C-48DD-8640-0BC8319DC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DA293-6851-4E3A-A5E2-ABEEA437E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3A0FA-6888-4596-8E33-5615D9F13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B9A60-5202-4265-8794-A5C83BED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E3C78-9FAC-4746-AD3E-E03E9491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81F7-1B7E-4887-A213-1EC179A86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54EE9-1821-4EC8-B1E8-39E953D1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7FB5F-2B70-4195-B7A7-7D70A580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07F4A-5E8D-4621-B561-59C99FE36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C3A50-AD4A-467C-A327-D1595C360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F9E79-FBC2-443D-9A67-335ECCAFD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8079-271C-41FD-8512-8C0D23C76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ED8E-1D16-46AD-94D1-45E9F7FF0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1874-8685-4158-9471-31CC34056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7F6F-22E4-420B-9F59-A60299231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02FA-14AD-4C69-BE54-32462C5A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9946-04DA-437F-BAD4-6708591F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6794-1116-4FA7-8B34-3069369B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24224-0F0C-4BA6-9E26-C5FA4C2828B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5B39B-25CD-4390-9D84-0C75814FDFF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75600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3399"/>
                </a:solidFill>
                <a:latin typeface="Arial"/>
              </a:rPr>
              <a:t>Lymphadenopathy and Malignancy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3200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   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Lymph nodes of the head and neck, and the regions that they drai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7272360" cy="499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6666"/>
                </a:solidFill>
                <a:latin typeface="Arial"/>
              </a:rPr>
              <a:t>Head and Neck Lymphadenopath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In one outpatient primary care study : cervical LNs are palpable in 51% of adult physicals, with the incidence declined with age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Infection is the most common caus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Most cases resolve quickly; some entities can create persistent lymphadenopathy for months. </a:t>
            </a: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(ex. Atypical mycobacteria, cat-scratch disease, toxoplasmosis, kikuchi’s lymphadenitis, sarcoidosis, Kawasaki’s syndrome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Supraclavicular nodes are the most likely to be malignant and should always be investigated, even in children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666"/>
                </a:solidFill>
                <a:latin typeface="Arial"/>
              </a:rPr>
              <a:t>Axillary lymphatics and the structures that they drai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7343640" cy="50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6666"/>
                </a:solidFill>
                <a:latin typeface="Arial"/>
              </a:rPr>
              <a:t>Axillary Lymphadenopath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Most of cases are nonspecific or reactive to local injury/infection in etiology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ersistent lymphadenopathy is less commonly found in the axillary nodes than in the inguinal chain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Breast adenocarcinoma often metastasis initially  to the anterior and central axillary nodes, which may be palpable before discovery of the primary tumor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Antecubital or epitrochlear lymphadenopathy can suggest lymphoma or melanoma of the extremity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666"/>
                </a:solidFill>
                <a:latin typeface="Arial"/>
              </a:rPr>
              <a:t>Inguinal lymphatics and the structures that they drai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211480" y="1852560"/>
            <a:ext cx="6399000" cy="390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6666"/>
                </a:solidFill>
                <a:latin typeface="Arial"/>
              </a:rPr>
              <a:t>Inguinal Lymphadenopath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It is common, with nodes enlarged up to 1 to 2 cm in diameter in many healthy adults, but it is of low suspicion of malignancy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Benign reactive lymphadenopathy and infection are the most common etiologi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Although some tumors, such as Hodgkin’s lymphomas, penile/ vulvar SCC, melanoma in this area, may present with inguinal lymphadenopathy, it is typical presenting finding in neither case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6666"/>
                </a:solidFill>
                <a:latin typeface="Arial"/>
              </a:rPr>
              <a:t>Generalized Lymphadenopath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Generalized lymphadenopathy : lymphadenopathy found in two or more distinct anatomic reg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More likely to result from serious infections, autoimmune diseases, and disseminated malignanci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Specific testing is usually required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Generalized adenopathy infrequently occurs in pt’s with neoplasms, but it is occasionally seen in patients with leukemias and lymphomas, or advanced disseminated metastatic solid tumor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Nodal Character and Siz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8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Hard and painless nodes have higher suspicion of malignancy or granulomatous disease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Viral infection typically produces hyperplastic nodes that are bilateral, mobile, nontender, and clearly demarcated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alpable supraclavicular, iliac, or popliteal nodes of any size and epitrochlear nodes larger than 5mm are considered abnormal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Increasing size and persistence over time are of greater concern for malignancy than a specific level of nodal enlargement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5640" y="1844640"/>
            <a:ext cx="777564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Algorithm for evaluation, diagnosis, and management.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Outline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roduc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istorical Clu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hysical Examin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dal Character and Siz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agnosis and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ymph Node Biops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Diagnosis and Managemen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The first step : reviewing pts’ medications, considering unusual causes of lymphadenopathy, and reconsidering the risk factors for neoplasm. If a diagnosis is not suggested, and the patient is deemed low risk for neoplasm, the regional lymphadenopathy can be safely observed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It is suggested that non-inguinal lymphadenopathy lasting more than one month merits specific investigation or biopsy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Lymph Node Biops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3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900" spc="-1" strike="noStrike">
                <a:solidFill>
                  <a:srgbClr val="000000"/>
                </a:solidFill>
                <a:latin typeface="Verdana"/>
              </a:rPr>
              <a:t>Once biopsy has been chosen, ideally the largest, most suspicious, and most accessible node is selected, taking into account differing diagnostic yields by sit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900" spc="-1" strike="noStrike">
                <a:solidFill>
                  <a:srgbClr val="000000"/>
                </a:solidFill>
                <a:latin typeface="Verdana"/>
              </a:rPr>
              <a:t>Inguinal nodes offer the lowest yield, and supraclavicular nodes have the highes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900" spc="-1" strike="noStrike">
                <a:solidFill>
                  <a:srgbClr val="000000"/>
                </a:solidFill>
                <a:latin typeface="Verdana"/>
              </a:rPr>
              <a:t>Excisional biopsy remains the diagnostic procedure of choic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Arial"/>
                <a:ea typeface="Times New Roman"/>
              </a:rPr>
              <a:t>Persistent Generalized Lymphadenopathy (PGL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68738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1149120" indent="0">
              <a:lnSpc>
                <a:spcPts val="0"/>
              </a:lnSpc>
              <a:spcBef>
                <a:spcPts val="72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1149120" indent="-378000">
              <a:lnSpc>
                <a:spcPct val="150000"/>
              </a:lnSpc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ymph nodes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larger than 1.5 cm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in diameter in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2 or more extrainguinal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sites of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3 or more months dur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1149120" indent="-378000">
              <a:lnSpc>
                <a:spcPct val="150000"/>
              </a:lnSpc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odes are non-tender, symmetrical, and often involve the posterior cervical, axillary, occipital, and epitrochlear nod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2051640" y="1628640"/>
            <a:ext cx="49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Presenting Signs and Symp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Arial"/>
              </a:rPr>
              <a:t>Overview</a:t>
            </a:r>
            <a:r>
              <a:rPr b="0" lang="en-US" sz="3600" spc="-1" strike="noStrike">
                <a:solidFill>
                  <a:srgbClr val="ff3399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381880" cy="47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79600" indent="-512640">
              <a:spcBef>
                <a:spcPts val="624"/>
              </a:spcBef>
              <a:buClr>
                <a:srgbClr val="ffff99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Times New Roman"/>
              </a:rPr>
              <a:t>Swelling of lymph nodes is a frequently encountered symptom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147960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1479600" indent="-512640">
              <a:spcBef>
                <a:spcPts val="624"/>
              </a:spcBef>
              <a:buClr>
                <a:srgbClr val="ffff99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Times New Roman"/>
              </a:rPr>
              <a:t>It is important to carry out a careful history and physical exa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147960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1479600" indent="-512640">
              <a:spcBef>
                <a:spcPts val="624"/>
              </a:spcBef>
              <a:buClr>
                <a:srgbClr val="ffff99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cause often becomes obvious, but in more complicated cases, laboratory tests and lymph node biopsy may be necessary to establish a definitive diagnosi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147960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85440" y="17524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2480" indent="-401760">
              <a:lnSpc>
                <a:spcPct val="120000"/>
              </a:lnSpc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here possible, do a CBC (FBC) and chest x-ray  before making a diagnosis of PGL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85248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852480" indent="-401760">
              <a:lnSpc>
                <a:spcPct val="120000"/>
              </a:lnSpc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Hilar or  mediastinal lymphadenopathy on CX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852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Arial"/>
              </a:rPr>
              <a:t>Diagnostics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Arial"/>
              </a:rPr>
              <a:t>Management and Treatmen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47560" y="837720"/>
            <a:ext cx="70102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320000"/>
              </a:lnSpc>
              <a:spcBef>
                <a:spcPts val="312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o specific treatment for PGL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Arial"/>
              </a:rPr>
              <a:t>Unique features, Caveat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38224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66920" indent="-677880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evelops in up to 50% of HIV-infected individual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1366920" indent="-67788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p to one-third do not have any other symptom on presentation (WHO clinical stage 1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1366920" indent="-677880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 HIV-positive patients, PGL is a clinical diagnosis. No further examinations are necessary, unless there are features of another diseas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1366920" indent="-677880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GL may slowly regress during the course of HIV infection and may disappear before the onset of AI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5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4000" y="2204640"/>
            <a:ext cx="8588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39760" indent="-2872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ervical nodes most commonly involve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1139760" indent="-2872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sual course of lymph node disease is as follows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11397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113976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irm, discrete nod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113976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a23"/>
                </a:solidFill>
                <a:latin typeface="Symbol"/>
                <a:ea typeface="Symbol"/>
              </a:rPr>
              <a:t>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113976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luctuant nodes matted togethe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113976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a23"/>
                </a:solidFill>
                <a:latin typeface="Symbol"/>
                <a:ea typeface="Symbol"/>
              </a:rPr>
              <a:t>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113976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kin breakdown, abscesses, chronic sinus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113976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a23"/>
                </a:solidFill>
                <a:latin typeface="Symbol"/>
                <a:ea typeface="Symbol"/>
              </a:rPr>
              <a:t>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113976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healing and scarring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"/>
          <p:cNvSpPr/>
          <p:nvPr/>
        </p:nvSpPr>
        <p:spPr>
          <a:xfrm>
            <a:off x="2343960" y="1557360"/>
            <a:ext cx="460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Presenting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Signs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and Symptom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05120" y="76320"/>
            <a:ext cx="52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Arial"/>
                <a:ea typeface="Times New Roman"/>
              </a:rPr>
              <a:t>Tuberculosis lymphadenopat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6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9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68360" y="1781280"/>
            <a:ext cx="836280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39760" indent="-39996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ine-needle aspiration of the involved lymph nod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11397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1139760" indent="-39996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xtra-thoracic lymph node aspir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11397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1139760" indent="-39996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ositive smears for acid-fast bacilli on fine-needle aspirates of the involved lymph nodes (high rate in HIV patients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11397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1139760" indent="-39996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 smear-negative pulmonary TB, it is worthwhile aspirating extra-thoracic lymph nodes to confirm diagnosis of TB (80% positive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79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Arial"/>
              </a:rPr>
              <a:t>Diagnostics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450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75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900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438280" y="1873080"/>
            <a:ext cx="4419720" cy="39182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914400" y="152280"/>
            <a:ext cx="815328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99"/>
                </a:solidFill>
                <a:latin typeface="Arial"/>
              </a:rPr>
              <a:t>TB absc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99"/>
                </a:solidFill>
                <a:latin typeface="Arial"/>
              </a:rPr>
              <a:t>as part of immune reconstitution synd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troduc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Lymphadenopathy 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an abnormality in the size 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haracter of lymph nod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ategories of Lymphadenopathy : MIAMI Malignancies, Infections, Autoimmune disorders, Miscellaneous and unusual conditions, and Iatrogenic caus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most concerning to the patient and physician : the possibility of underlying malignanc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Low Rate of Malignancy in Primary Care 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1.1 % of pt’s presenting to the office with unexplained lymphadenopath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Arial"/>
              </a:rPr>
              <a:t>Management and Treatmen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77760" indent="-237960">
              <a:lnSpc>
                <a:spcPct val="190000"/>
              </a:lnSpc>
              <a:spcBef>
                <a:spcPts val="774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reatment should be started following the national TB Guidelines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977760" indent="-237960">
              <a:lnSpc>
                <a:spcPct val="230000"/>
              </a:lnSpc>
              <a:spcBef>
                <a:spcPts val="774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or further details, see Part A Module 2, Session 3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Arial"/>
              </a:rPr>
              <a:t>Unique features, Caveat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1695600"/>
            <a:ext cx="850752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90440" indent="-35064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ne of the most common forms of extra-pulmonary TB in HIV patients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1090440" indent="0">
              <a:lnSpc>
                <a:spcPct val="3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1090440" indent="-35064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luctuant cervical nodes that develop over weeks to months without significant inflammation or tenderness suggest infection with M. tuberculosis, atypical mycobacteria, or scratch disease (Bartonella henselae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1090440" indent="0">
              <a:lnSpc>
                <a:spcPct val="4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1090440" indent="-3506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 severe immunocompromised patients, tuberculosis lymphadenopathy may be acute and resemble acute pyogenic lymphadeniti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1090440" indent="0">
              <a:lnSpc>
                <a:spcPct val="50000"/>
              </a:lnSpc>
              <a:spcBef>
                <a:spcPts val="7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1090440" indent="-3506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iliary TB is an important consideration in patients with generalized lymphadenopath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500"/>
                            </p:stCondLst>
                            <p:childTnLst>
                              <p:par>
                                <p:cTn id="17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Historical Clu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7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110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ge and Duration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110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Exposures &amp; History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110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ssociated Symptom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Historical Clues : Age and Dur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Malignant rate increases with age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A majority of healthy children have palpable cervical, inguinal and axillary adenopathy. Most of them is infectious or benign in etiology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Lymphadenopathy that lasts less than 2 weeks or more than 1 year with no progressive size increase has a very low likelihood of being neoplastic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are Exception : low-grade Hodgkin’s/ non-Hodgkin’s lymphomas and, occasionally, chronic lymphocytic leukemi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Historical Clues : Exposures &amp; History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Animals, biting insects, infectious contacts, recurrent infections, chronic use of medications. Travel-related exposures and immunization statu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Tobacco, alcohol, ultraviolet radiation : raise suspicion for metastatic carcinom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Occupational exposures to silicon or berylliu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Sexual history and orientation. AIDS pt’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Family histor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42560" y="33300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6666"/>
                </a:solidFill>
                <a:latin typeface="Arial"/>
              </a:rPr>
              <a:t>Medications That Can Cause Lymphadenopathy</a:t>
            </a:r>
            <a:r>
              <a:rPr b="0" lang="zh-TW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Allopurinol (Zyloprim)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Atenolol (Tenormin)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aptopril (Capoten)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arbamazepine (Tegretol)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Gold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Hydralazine (Apresoline)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Penicillin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Phenytoin (Dilantin)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Primidone (Mysoline)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Pyrimethamine (Daraprim)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nidin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rimethoprim/sulfamethoxazole (Bactrim)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Sulindac (Clinoril)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59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Historical Clues : Associated Symptom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900" spc="-1" strike="noStrike">
                <a:solidFill>
                  <a:srgbClr val="000000"/>
                </a:solidFill>
                <a:latin typeface="Verdana"/>
              </a:rPr>
              <a:t>Constitutional symptoms : fever, fatigue, malaise with atypical lymphocytosis </a:t>
            </a:r>
            <a:r>
              <a:rPr b="0" lang="zh-TW" sz="29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→ mononucleosis syndrom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9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gnificant fever, night sweats, unexplained BW loss &gt; 10% of normal BW → “B” symptoms of Hodgkin’s lymphom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9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rthralgias, muscle weakness, unusual rash → autoimmune diseases such as RA, SLE, dermatomyosit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hysical Examin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124000" y="5084640"/>
            <a:ext cx="53294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Head and Neck L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Axillary L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Inguinal L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908000" y="1557360"/>
            <a:ext cx="5624640" cy="3460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3T13:37:31Z</dcterms:created>
  <dc:creator>Lavon Su</dc:creator>
  <dc:description/>
  <dc:language>en-US</dc:language>
  <cp:lastModifiedBy>Dr.abdel-hamid</cp:lastModifiedBy>
  <dcterms:modified xsi:type="dcterms:W3CDTF">2006-10-21T22:45:48Z</dcterms:modified>
  <cp:revision>20</cp:revision>
  <dc:subject/>
  <dc:title>Lymphadenopathy and Malignancy  Andrew W.Bazemore, M.D., and  Douglars R. Smucker, M.D., M.P.H. University of Cincinnati College of Medicine, Cincinnati, Ohio American Family Physician  Dec. 1,2002  Vol.66 Num.11</dc:title>
</cp:coreProperties>
</file>