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2BE-4C5D-4A3C-85EE-E5E4F289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70D-22FD-44E6-BA86-CA657415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D5F-04A7-41A1-B370-5AD1C6D1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A62-3685-481D-B638-1653DD3F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976D-7D3E-4082-93F7-A8CA9D8C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61D-DDD3-4624-98A6-67458406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ACD3-9D58-4F86-BE1F-66C10F9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CC03-608D-4EF4-BF58-7B47555F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C5FF-59A4-419D-9DD0-43C55BFC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68D-A49C-4670-91FE-5553741C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3ECD-A9AC-4C17-AEF7-6053871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3C6-32C3-4BA1-AEB5-602AA37F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2707-9C6E-4317-9778-132F547C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96E0-A162-47B8-A5A4-1671BEE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6AE-EB46-4FBF-97CE-EAABB4BB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015F-6903-4248-A83D-FE69C928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8452-10E2-4D3D-AE6D-8E147FD0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2F2-EE5F-4B83-952E-DCD7175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A49-1B7F-4639-9A0D-F1EB0ED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641-8061-47BF-A144-872489A1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7A7-73D8-4CF5-9C67-4D84CEC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862-F572-46B6-9B55-BEA5E13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705-0D80-4E16-A6A1-A52FDBA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D3B-17E2-4577-A1E1-9284761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A893-94FB-419A-88BC-4C49F20472BD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1813-C172-461E-AA33-82A3DDD818CA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</a:rPr>
              <a:t>Lymphatic drainage of the </a:t>
            </a:r>
            <a:br>
              <a:rPr sz="3600"/>
            </a:b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</a:rPr>
              <a:t>head and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issue fluid is produced in excess by the arterial ends of the circulatory system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 excess fluid, proteins, large particulate matters, and foreign substances find their way to the lymphatic vessels to the lymph nodes located along the course of the vessels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 fluid is filtered and foreign substances phagocytosed, and the node swel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 position of the nodes denotes the general location of infectio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Upper group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Receive lymph from the posterior part of the tongue, tonsil, ear, nose, sinuses, upper part of pharynx and larynx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Jugulo-digastric nodes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lie just below the posterior belly of the digastric muscle, and is clinically palpable below angle of the mandible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Dr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ack of the tongue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61120" y="1676520"/>
            <a:ext cx="37828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ower group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Receive lymph from anterior part of the face, the scalp, anterior two third of the tongue, lower part of the pharynx and larynx and thyroid gland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Jugulo-omohyoid nodes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 related to the intermediate tendon of the omohyoid muscle and is concerned with drainage of lymph from 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terior part of the tongue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11840" y="1600200"/>
            <a:ext cx="42321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Jugular lymph trunk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Formed by joining of lymphatic vessels at the lower end of the deep cervical lymph nodes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On the left side, it joins the internal jugular or the subclavian veins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On the right side, it reaches the right lymphatic duct or the right brachiocephalic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86520" y="2057400"/>
            <a:ext cx="39258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Lymph nodes act as a barrier against diseas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y are soft, non-palpable structure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Draining infected, inflamed or areas involved in a carcinomatous changes will cause the nodes to become swollen, hard, painful and palpabl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y work in groups, primary, secondary and tertiary nodes to combat disease and prevent it from reaching the major lymphatic channel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ff"/>
                </a:solidFill>
                <a:latin typeface="Times New Roman"/>
              </a:rPr>
              <a:t>Knowledge of the lymphatic drainage in the head and neck will assist in determining the site of the disease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ff"/>
                </a:solidFill>
                <a:latin typeface="Times New Roman"/>
              </a:rPr>
              <a:t>Cervical metastasis in malignant diseases will require radical “Block resection” surgery to prevent recurrence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o insure this connective tissues, muscles, glands, veins and even nerves has to be removed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Lymph nodes in the head and neck consist  of a number of regional groups and terminal one.</a:t>
            </a:r>
            <a:endParaRPr b="0" lang="en-US" sz="21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They consist of </a:t>
            </a:r>
            <a:r>
              <a:rPr b="1" i="1" lang="en-US" sz="2100" spc="-1" strike="noStrike">
                <a:solidFill>
                  <a:srgbClr val="ff9900"/>
                </a:solidFill>
                <a:latin typeface="Times New Roman"/>
              </a:rPr>
              <a:t>outlying nodes</a:t>
            </a: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 (circular) which all drain into the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deep cervical group  </a:t>
            </a: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(vertical)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The outlying nodes are usually subcutaneous while others are deep and are named according to their position</a:t>
            </a:r>
            <a:endParaRPr b="0" lang="en-US" sz="21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800600" y="1746360"/>
            <a:ext cx="434340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Regional 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Submental nodes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Three to four in number, lie below the chin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Some superficial other deep to the investing deep cervical fascia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Drain a wedge of tissues in the floor of the mouth, lower incisor, gum and lip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The drain into the submandibular group or directly into the deep cervical group 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29320" y="1523880"/>
            <a:ext cx="35146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190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Submandibular nodes: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Half a dozen, lie on the surface of the submandibular salivary gland or embedded within it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rain the submental nodes, lateral part of the lower lip, upper lip and external nose, anterior 2/3 of the tongue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Anterior half of the nasal walls, paranasal sinuses and all the teeth except lower anterior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419112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911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ccal node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lies over the buccinator muscle on the facial vein 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drain into the submandibular group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reauricular nodes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lie within the parotid gland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Drain the temporal part, lateral surface of auricle, anterior wall of external meatus, and lateral part of the eyelids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Drain into deep cervical group</a:t>
            </a:r>
            <a:r>
              <a:rPr b="0" lang="en-US" sz="18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8512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osterior auricular nodes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situated on the lateral of the mastoid process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receive lymph from a scalp above the auricle and the posterior border of the auditory meatus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Occipital nodes:</a:t>
            </a:r>
            <a:endParaRPr b="0" lang="en-US" sz="29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situated at the apex of the posterior triangle of the neck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receive lymph from the back of the scalp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226120" y="1523880"/>
            <a:ext cx="39178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nterior cervical nodes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situated along the course of the anterior jugular vein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receive lymph from the skin and superficial tissues of the front of the neck.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uperficial cervical nodes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lie along the course of the external jugular vein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receive lymph from skin over the angle of the mandible and over the apex of the parotid gland and lobe of the ear 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49960" y="1676520"/>
            <a:ext cx="3781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tropharyngeal nod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lie in the retropharyngeal space, between the pharyngeal wall and the prevertebral fascia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eceive lymph from the nasal pat of pharynx, auditory tube and upper cervical vertebra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Laryngeal nod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in front of the larynx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racheal nod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lateral and infront of the trachea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eceive from the thyroid gland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ep cervical nodes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catter in the carotid sheath, in front and behind the internal jugular vein along its course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They lie undercover of the sternocleidomastoid muscle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ivided into upper and lower groups and they are connected by lymphatic channels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Receive lymph from regional nodes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81760" y="1676520"/>
            <a:ext cx="40622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4:41:16Z</dcterms:created>
  <dc:creator>Dr Abdin</dc:creator>
  <dc:description/>
  <dc:language>en-US</dc:language>
  <cp:lastModifiedBy>Helabdin</cp:lastModifiedBy>
  <dcterms:modified xsi:type="dcterms:W3CDTF">2004-12-11T03:40:15Z</dcterms:modified>
  <cp:revision>39</cp:revision>
  <dc:subject/>
  <dc:title>Veins of the Head and neck</dc:title>
</cp:coreProperties>
</file>