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99E-BF20-405E-A6E6-A8772E58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D54-B742-4ADB-BEA1-C456B8DB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CF5-03DF-471B-B9A6-B411CB23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F8D-43B7-4FF1-AE63-EA46E933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64FF-15DB-4A54-BF84-A6AB2EE6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53CC-3286-40E3-AFF6-E68A761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8A13-4EAD-4914-B7C5-DDB01CC8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0FC4-F745-46CA-B58F-4CCE5F7E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4AE0-3B63-4BCA-A51C-8FE0432C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78C9-2103-435F-A143-9E18E5A0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ADB6-5E02-4AE7-90B1-4935AC5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52F-F854-459B-BED4-AB85D902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204D-5C9C-445F-B158-F5FB68B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0FBF-88C4-467C-A8B3-D351F61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5046-AF01-4D82-A79D-1C0EA526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13D1-D8A2-436C-AB95-328FF9A7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A8CC-C67D-442A-B11A-CA6BAC83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06D-6B86-4366-AAF7-0570EF83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03F-8DB3-4643-A638-6020C5ED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230-3367-4478-B51C-BA9226EC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C2F-DD65-4BCC-860C-BA144B4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B26-5830-4FA2-9CAD-0B698103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81B-A0FE-4D01-ABCF-E04B5AD8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E20-EC02-4F98-A403-4D67BE5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C4E-469B-452F-9BB0-75147179DEBB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FB6-0E9C-421B-8E80-CB5D513006F5}" type="slidenum">
              <a:rPr b="0" lang="en-GB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</a:rPr>
              <a:t>Lymphatic drainage of the </a:t>
            </a:r>
            <a:br>
              <a:rPr sz="3600"/>
            </a:b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</a:rPr>
              <a:t>head and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issue fluid is produced in excess by the arterial ends of the circulatory system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 excess fluid, proteins, large particulate matters, and foreign substances find their way to the lymphatic vessels to the lymph nodes located along the course of the vessels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 fluid is filtered and foreign substances phagocytosed, and the node swel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 position of the nodes denotes the general location of infectio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Upper group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Receive lymph from the posterior part of the tongue, tonsil, ear, nose, sinuses, upper part of pharynx and larynx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Jugulo-digastric nodes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 lie just below the posterior belly of the digastric muscle, and is clinically palpable below angle of the mandible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Dr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ack of the tongue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61120" y="1676520"/>
            <a:ext cx="37828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ower group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Receive lymph from anterior part of the face, the scalp, anterior two third of the tongue, lower part of the pharynx and larynx and thyroid gland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Jugulo-omohyoid nodes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 related to the intermediate tendon of the omohyoid muscle and is concerned with drainage of lymph from 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nterior part of the tongue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11840" y="1600200"/>
            <a:ext cx="42321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Jugular lymph trunk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Formed by joining of lymphatic vessels at the lower end of the deep cervical lymph nodes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On the left side, it joins the internal jugular or the subclavian veins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On the right side, it reaches the right lymphatic duct or the right brachiocephalic vein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86520" y="2057400"/>
            <a:ext cx="39258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Lymph nodes act as a barrier against diseas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y are soft, non-palpable structure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Draining infected, inflamed or areas involved in a carcinomatous changes will cause the nodes to become swollen, hard, painful and palpabl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hey work in groups, primary, secondary and tertiary nodes to combat disease and prevent it from reaching the major lymphatic channel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ff"/>
                </a:solidFill>
                <a:latin typeface="Times New Roman"/>
              </a:rPr>
              <a:t>Knowledge of the lymphatic drainage in the head and neck will assist in determining the site of the disease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ff"/>
                </a:solidFill>
                <a:latin typeface="Times New Roman"/>
              </a:rPr>
              <a:t>Cervical metastasis in malignant diseases will require radical “Block resection” surgery to prevent recurrence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ff"/>
                </a:solidFill>
                <a:latin typeface="Times New Roman"/>
              </a:rPr>
              <a:t>To insure this connective tissues, muscles, glands, veins and even nerves has to be removed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Lymph nodes in the head and neck consist  of a number of regional groups and terminal one.</a:t>
            </a:r>
            <a:endParaRPr b="0" lang="en-US" sz="21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They consist of </a:t>
            </a:r>
            <a:r>
              <a:rPr b="1" i="1" lang="en-US" sz="2100" spc="-1" strike="noStrike">
                <a:solidFill>
                  <a:srgbClr val="ff9900"/>
                </a:solidFill>
                <a:latin typeface="Times New Roman"/>
              </a:rPr>
              <a:t>outlying nodes</a:t>
            </a: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 (circular) which all drain into the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deep cervical group  </a:t>
            </a: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(vertical)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ffff"/>
                </a:solidFill>
                <a:latin typeface="Times New Roman"/>
              </a:rPr>
              <a:t>The outlying nodes are usually subcutaneous while others are deep and are named according to their position</a:t>
            </a:r>
            <a:endParaRPr b="0" lang="en-US" sz="21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800600" y="1746360"/>
            <a:ext cx="434340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Regional 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Submental nodes: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Three to four in number, lie below the chin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Some superficial other deep to the investing deep cervical fascia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Drain a wedge of tissues in the floor of the mouth, lower incisor, gum and lip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ff"/>
                </a:solidFill>
                <a:latin typeface="Times New Roman"/>
              </a:rPr>
              <a:t>The drain into the submandibular group or directly into the deep cervical group </a:t>
            </a: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29320" y="1523880"/>
            <a:ext cx="35146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Submandibular nodes:</a:t>
            </a:r>
            <a:endParaRPr b="0" lang="en-US" sz="3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Half a dozen, lie on the surface of the submandibular salivary gland or embedded within it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rain the submental nodes, lateral part of the lower lip, upper lip and external nose, anterior 2/3 of the tongue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Anterior half of the nasal walls, paranasal sinuses and all the teeth except lower anterior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419112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ccal node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lies over the buccinator muscle on the facial vein 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drain into the submandibular group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eauricular nodes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lie within the parotid gland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Drain the temporal part, lateral surface of auricle, anterior wall of external meatus, and lateral part of the eyelids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Drain into deep cervical group</a:t>
            </a:r>
            <a:r>
              <a:rPr b="0" lang="en-US" sz="18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8512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osterior auricular nodes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situated on the lateral of the mastoid process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receive lymph from a scalp above the auricle and the posterior border of the auditory meatus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Times New Roman"/>
              </a:rPr>
              <a:t>Occipital nodes:</a:t>
            </a:r>
            <a:endParaRPr b="0" lang="en-US" sz="29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situated at the apex of the posterior triangle of the neck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receive lymph from the back of the scalp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26120" y="1523880"/>
            <a:ext cx="39178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nterior cervical nodes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situated along the course of the anterior jugular vein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receive lymph from the skin and superficial tissues of the front of the neck.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uperficial cervical nodes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lie along the course of the external jugular vein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ff"/>
                </a:solidFill>
                <a:latin typeface="Times New Roman"/>
              </a:rPr>
              <a:t>receive lymph from skin over the angle of the mandible and over the apex of the parotid gland and lobe of the ear 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49960" y="1676520"/>
            <a:ext cx="3781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tropharyngeal nod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lie in the retropharyngeal space, between the pharyngeal wall and the prevertebral fascia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eceive lymph from the nasal pat of pharynx, auditory tube and upper cervical vertebrae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Laryngeal nod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in front of the larynx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racheal nodes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lateral and infront of the trachea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eceive from the thyroid gland</a:t>
            </a:r>
            <a:endParaRPr b="0" lang="en-US" sz="2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ffff"/>
                </a:solidFill>
                <a:uFillTx/>
                <a:latin typeface="Times New Roman"/>
              </a:rPr>
              <a:t>Lymphatic drainage of head &amp; neck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ep cervical nodes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catter in the carotid sheath, in front and behind the internal jugular vein along its course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They lie undercover of the sternocleidomastoid muscle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ivided into upper and lower groups and they are connected by lymphatic channels.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Receive lymph from regional nodes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81760" y="1676520"/>
            <a:ext cx="40622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4:41:16Z</dcterms:created>
  <dc:creator>Dr Abdin</dc:creator>
  <dc:description/>
  <dc:language>en-US</dc:language>
  <cp:lastModifiedBy>Helabdin</cp:lastModifiedBy>
  <dcterms:modified xsi:type="dcterms:W3CDTF">2004-12-11T03:40:15Z</dcterms:modified>
  <cp:revision>39</cp:revision>
  <dc:subject/>
  <dc:title>Veins of the Head and neck</dc:title>
</cp:coreProperties>
</file>