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3AA-D8AC-431C-A4AC-4B9C6899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A7B-DD33-4A9B-92EF-5345CF93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032-62B7-4BED-B2D0-05128442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853-7DAE-4105-9BF3-C0F905A0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6DBB-F7DB-4A44-9868-84711278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C941-3AA2-43FA-BFD1-D43FAF28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EFB4-7C79-449F-841A-DF4D857B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936B-E6DE-4C2F-973D-A2579591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E16C-2484-402B-8525-FCD726BF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EE56-5CB0-4AC4-8709-CCC34E74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F899-8CBB-4EAA-9A46-1E0C8029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EE7-843C-4680-8BF8-A00696F8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0C77-8E4B-46FB-A1AB-0E4DF842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B58A-8B07-4456-8F4D-1F79981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A93E-2900-4C61-8530-1525BF74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95FE-50EF-48F3-BF34-C29B481B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D727-BB81-4014-BADE-31582ABF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004-1BE6-4B7A-B915-DD884A1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0E4-2830-46C8-886C-433D7DC4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A19-CFCA-47B3-A253-13CA9DF0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A47-73E4-4523-95DC-0F217CD3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322-3772-4000-81E9-4CBE2BF4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1CA-84CC-46AC-99D2-68FB9843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F65-F3D9-492D-B009-E6D1448C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C47D-3B18-4ED4-99CB-693F14AD063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"/>
          <p:cNvSpPr/>
          <p:nvPr/>
        </p:nvSpPr>
        <p:spPr>
          <a:xfrm>
            <a:off x="8458200" y="6400800"/>
            <a:ext cx="533520" cy="380880"/>
          </a:xfrm>
          <a:prstGeom prst="rect">
            <a:avLst/>
          </a:prstGeom>
          <a:gradFill rotWithShape="0">
            <a:gsLst>
              <a:gs pos="0">
                <a:srgbClr val="e8f2d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AFA7-687D-4F71-8BF9-1779A933510D}" type="slidenum"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0BDA-813C-4AA9-9F6B-DEE1D4EF264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ematological Neoplasia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733480"/>
            <a:ext cx="7693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eukemia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- Acute &amp; Chron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ymphoma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- Hodgkins &amp; Non-Hodgkins (T cell, B cell, histiocytic &amp; oth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remalignant Condi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yeloproliferative syndromes (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P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yelodysplastic syndromes (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D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Intest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616800" cy="47037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1802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diastinal Lymphnodes-NH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12000"/>
          </a:blip>
          <a:srcRect l="0" t="0" r="1484" b="0"/>
          <a:stretch/>
        </p:blipFill>
        <p:spPr>
          <a:xfrm>
            <a:off x="1854360" y="1219320"/>
            <a:ext cx="523224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dgkins Lymphoma (HL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gkin’s Dise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a malignant lymphoma characterized by the presence of atypical, multinucleated giant cell (Reed-Sternberg ce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isease is slightly more common in 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patients have asymptomatic lymphadenopathy at the time of diagn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itial site of nodal involvement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rvical (65-80%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xillary (10-15%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guinal (6-12%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64480" y="52578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ed-Sternberg Cel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gkin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lum contrast="12000"/>
          </a:blip>
          <a:srcRect l="1040" t="0" r="0" b="749"/>
          <a:stretch/>
        </p:blipFill>
        <p:spPr>
          <a:xfrm>
            <a:off x="1066680" y="1523880"/>
            <a:ext cx="7239240" cy="46483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gkins lymphoma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gkin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775480" cy="4748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Causes/Risk Factor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The exact cause of Hodgkin’s disease is unknow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Also, a virus called Epstein-Barr may be involved with an increased risk of Hodgkin’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Also, Agent Orange, used during the Vietnam War is linked with the development of Hodgkin’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iblings of a Hodgkin’s victim are more at risk for developing the disea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t is more common for men to have the disea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Hodgkin’s occurs most often in those between 15 and 34 or over the age of 55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943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sification of Hodgkin’s Disea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ment depends 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natomic distribution of the disease and the presence or absence of specific sympto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ge of the dis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histopathologic subty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7800" y="990360"/>
            <a:ext cx="7826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Lymphomas</a:t>
            </a: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2004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Coronet"/>
              </a:rPr>
              <a:t>    </a:t>
            </a:r>
            <a:endParaRPr b="0" lang="en-US" sz="5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943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sification of Hodgkin’s Disea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Rye classific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four histopathologic subty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s predomin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dular scler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xed cellula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s deple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113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sification of Hodgkin’s Disea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stopathologic diagn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made by lymph node biops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des from the lower cervical or axillary areas provide the best tissue for evalu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n Arbor staging classif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classification based on anatomic distribution of the dis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age I disease – Stage IV disea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   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enic Involv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obability of splenic involvement increases with increasing spleen s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bsence of splenomegaly does not exclude splenic involv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on gross examination of the spleen a grayish white nodule ranging from several millimeters to several centimeters is apparent with Hodgkin’s dis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er involvement with Hodgkin’s disease rarely occurs in the absence of splenic dis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ic Hodgkin’s div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dular Sclero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xed Cellula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 r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 deple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dular Sclero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gt;60% of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ive t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S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cuna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66880" y="8380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xed Cellularity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 – 30%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xed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stocy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osinophi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sma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S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ri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+Necr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ymphocyte rich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5%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rge numbers of Lymphocy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suppress other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S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to be confused with LP Hodgkin’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cyte deple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1% c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ymphocytes r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S cells predomin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mptoms &amp;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wollen, painful lymph 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tigue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lized i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etite, weight lo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k %/or back p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ir lo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ght swe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oplastic lymphoid prolif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types – Hodgkins &amp; Non-Hodgk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ver, lymphadenopathy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unodeficiency / autoimmune syndr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al, genetic, unknown etiol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ck of programmed cell death - Apopto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gkin’s Dise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ymptoms such as fever, night sweats, weight loss and pruritus are indicative of widespread involvement and are unfavorable prognostic sig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typical fever pattern is a high-temperature alternating for a few days with an afebrile peri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patients have a mild normochromic, normocytic anem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/3 have a leukocytosis due to a neutrophil incre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osinophilia is frequently pres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no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2512800"/>
            <a:ext cx="84582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g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dular or Diff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tomical Stag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e I- one reg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e II- two regions, same side diaphrag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e III- two regions, both sides of diap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e IV- spread outside of lymph sy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&amp; II- &gt;10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II &amp; IV - &lt; 6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Treatment of Hodgkin’s Disea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grates radiation therapy and combination chemotherapy to achieve the maximum potential for c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treated Hodgkin’s has a five-year survival rate of 5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ford experience-patients at all stages have survival rate of 86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tients in stage IV have a generally poor progno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n-Hodgkins Lymphoma (NHL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N- Hodgkin’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ence of Reed-Sternberg Ce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result from damage to DNA that controls growth of cells in immun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d incidence in immunodefici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ssociated with Non-H lymphom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iac Dise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 transplant pati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heumatoid Arthri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uses and Risk Fac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xact causes are still unkn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risk for individuals wh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osed to chemicals such as pesticides or solv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fected w/ Epstein-Barr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mily history of NHL (although no hereditary pattern has been establish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fected w/ Human Immunodeficiency Virus (HIV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cell type and location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 symptomatic -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gress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st prognosis &lt; 1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n-Hodgkin’s Lymphoma (NHL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diverse group of primary malignancies of lymphoreticular tiss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linical course and natural history is more variable than Hodgkin’s dis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attern of spread is irregular and more patients have leukemic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rrent histologic classifications utilize electron microscopic morphology, histochemical studies and selected cell surface antige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r our purposes NHL is classified according to nodular (favorable) and diffuse (unfavorable) typ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H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contrast to Hodgkin’s disease, about two-thirds of patients initially have asymptomatic lymphadenopat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addition to peripheral and mediastinal lymphadenopathy NHL is commonly found initially as an abdominal mass or as hepatic or splenic enlar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ver, weight loss and night sweats are frequently pres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median age at diagnosis is 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sex preference is no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ymphoma’s</a:t>
            </a:r>
            <a:br>
              <a:rPr sz="32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Where They Begin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mas are a cancer of the lymphatic sy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ymphatic vess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ymph nodes (underarms, groin, neck, spleen, tonsils and bone marrow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H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ients below 35 or over 65 are more likely to have diffuse histolo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 with Hodgkin’s, chemotherapy and / or radiation therapy are the primary forms of treat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ing laparotomy is seldom re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ificant therapeutic benefit can be achieved by splenectomy in 80-90 % of patients with advanced lymphomas (including Hodgkin’s disea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 classified by how the cells look under a microscope and how quickly they grow and sp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gressive lymphomas (high-grade lympho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olent Lymphomas (low-grade lympho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Arial"/>
              </a:rPr>
              <a:t>Classification of Malignant Lymphoma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 Grade: small lymphoid cells, nodular grow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mediate Grade: large cells, follicular and diffuse patter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Grade: immunoblastic, lymphoblastic, Burkitt’s dise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-cell lymphomas: peripheral, cutane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30400" y="91440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n-Hodgkin’s Lymphom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g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ge is the term used to describe the extent of tumor that has spread through the body( I and II are localized where as III and IV are advanc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ch stage is then divided into categories A, B, and 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: No systemic sympto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: Systemic Symptoms such as fever, night sweats and weight lo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: Spreading of disease from lymph node to another org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n-Hodgkin’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main types of Non-Hodgkin’s Lymphom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-Cell and T-Cell Lympho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-Cell lymphomas (80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-Cell lymphomas (15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792000"/>
            <a:ext cx="772452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HL – Classificat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ccording to cell typ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 cell, B cell, Histiocytic &amp; Misc. NH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ccording to Clinical grad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 grade, Intermediate &amp; High grade NH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istopatholog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use/Follicular NHL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all, Intermediate &amp; Large cell NH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: Lennert’s lymphoma is a low grade Tcell NHL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rkitt’s lymphoma is a high grade B cell NH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1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iel Classification of NH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 Cell NH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ow Grade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ymphocytic, plasmacytic, centrocytic, mixed centrocytic centroblasti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igh Grade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ntroblastic, Immunoblastic, Burkitts, lymphoblasti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 Cell NH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ow Grade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ymphocytic, mycosis, Lenne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igh Grade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mmunoblastic, lymphoblastic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are typ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CI – Working Formul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ow-grade NH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mall lymphocy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llicular small clea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mediate-grade NH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llicular large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ffuse small clea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igh-grade NH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mmunoblas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ymphoblas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iscellaneous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: Histiocytic, Mycosi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5943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use   - &amp; -  Follicular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75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NHL- Histologic typ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954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720" y="228600"/>
            <a:ext cx="3379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ymphoma’s</a:t>
            </a:r>
            <a:br>
              <a:rPr sz="32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Where They Begin</a:t>
            </a:r>
            <a:br>
              <a:rPr sz="32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Lymphatic system is our bodies main fight against inf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ymphocytes (B-cell and T-cel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ried through our lymphatic system and help our bodies fight inf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ymphocytes are carried through the lymph vessels as well as the blood stream, so cancer can start in nodes and spread anywhere throughout the bod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5866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mall   –   Intermed.   –   Larg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124080" y="1371600"/>
            <a:ext cx="2917800" cy="4419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28600" y="1371600"/>
            <a:ext cx="2917800" cy="4419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019920" y="1371600"/>
            <a:ext cx="2917800" cy="4419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8600" y="379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NHL- Histologic typ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6880" y="28404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ing of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4920" y="1468440"/>
            <a:ext cx="8534160" cy="4322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96880" y="28404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spread to Spl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80996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spread to Spl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30640" cy="4883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boratory Diagnosis: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oratory Diagnosi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aematologic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ocytic normochromic anemia, High ESR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ucocytosis, Eosinophilia, lymphope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ukoerythroblastic picture - BM infiltration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rro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, or late invol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ephine biopsy- diffuse or follicular infilt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iochemic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serum LDH – poor progn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ypercalcemia, Alkaline phosphatase, Uric ac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um transaminases &amp; Bilirubin – Li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oratory Diagnosi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munologic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oclonal gammopathy –B cell NHL, Myelo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w normal gammaglobul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immune hemolytic anemia – auto ab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aryotypic/Genetic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(14;18) – B cell follicular (14* heavy chai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(11;14) – diffuse NH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no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-Ra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T sc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netic Resonance Imaging (MR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p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ymphangiog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ctures of the lymphatic system taken w/ x-ray after a special dye is injected to illuminate lymph nodes and vess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at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n-Hodgkin’s Lymphoma is usually treated by a team of physicians including hematologists, medical oncologists and a radiation oncologi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some cases such as for Indolent lymphomas, the Doctor may wait to start treatment until the patient starts showing symptoms, known as “watchful waiting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atment Op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motherap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ne Marrow Transpla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rg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rtezomib (Velca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unotherap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bodies own immune system combined with material made in a la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44197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ymphatic Syste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032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atmen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ging &amp; gr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hemotherapy – CHOP, MCHOP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adiotherapy – Local/regional/T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mbination 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nsive Chemo/Radio-TB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ith Autologous bone marrow resc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rvival R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rvival Rates vary widely by cell type and stag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 Year Survival Rate:  77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Year Survival Rate:  56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0 Year Survival Rate:  4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28404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rkitt’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444760" y="1371600"/>
            <a:ext cx="4632480" cy="4876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rkitt’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usual, B-Lymphoblastic high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ng african children, jaw b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lated histiocytes, starry sky patte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BV infection related. t(8;1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motherapy – good respo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t relapse usual, 30% c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6000" y="28404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rkitt’s 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1295280"/>
            <a:ext cx="6477120" cy="4916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rkitt’s Lymphoma L.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838080" y="152388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Summar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lid malignancy of lymphoid tiss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ymphadenopathy, fever, ane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dgkins &amp; Non-Hodgkins (NHL) typ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S-Cells, eosinophilia – Hodgk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-grade, Intermediate &amp; High gra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ood, Biochemical, BM, LN - biop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unological &amp; Genetic te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motherapy, Radiotherapy, combin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14392" r="0" b="0"/>
          <a:stretch/>
        </p:blipFill>
        <p:spPr>
          <a:xfrm>
            <a:off x="0" y="12193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924680" y="1295280"/>
            <a:ext cx="1219320" cy="13136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Row of enlarged lymph node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809880" y="2895480"/>
            <a:ext cx="3276720" cy="9144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962520" y="3809880"/>
            <a:ext cx="304776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962520" y="3809880"/>
            <a:ext cx="3047760" cy="7621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- Gro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195960" cy="45370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113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ymphoma Intest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188040" cy="4721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30T06:18:55Z</dcterms:created>
  <dc:creator>Dr. VM Shashidhar</dc:creator>
  <dc:description/>
  <dc:language>en-US</dc:language>
  <cp:lastModifiedBy>Dr.abdel-hamid</cp:lastModifiedBy>
  <dcterms:modified xsi:type="dcterms:W3CDTF">2006-10-22T04:50:35Z</dcterms:modified>
  <cp:revision>75</cp:revision>
  <dc:subject/>
  <dc:title>FSM template</dc:title>
</cp:coreProperties>
</file>