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4415-414A-40A6-8EC5-EA650952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274-087E-4154-9F0A-59131560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484-18E6-4C96-B6B0-CC92FC92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7DFD-89B5-45C6-BFF2-325312B9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3D01-DCB6-4CA4-A1E1-FCCD4148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DBCB-FF00-43EE-BC7C-45B1A286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BCB0-7544-4C96-8140-47097F3D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B0BE-1FCF-4542-93BA-1CE0FE5E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AB71-25A7-43FA-955C-80FE89BA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BE0E-2817-441D-8473-AEE8DECC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82B1-A5C3-4AD8-9A32-C2A29DD7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369-925E-4DFE-8565-5D87FBCA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9B4D-3A01-4DC6-9165-5F948F08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6BFE-D24E-4539-91D6-74C51D6C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F425-634C-4B48-868C-C3306F38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16A1-3781-4424-9517-0E904A37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DED4-77BF-4507-895E-CC02BAF4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62AD-E664-4741-A7A2-F13EDD3E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DEF-039C-4D13-839B-B58CD518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4B8-1369-430A-8CC1-920F4F03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F81-AB26-4D3C-AC38-95911F87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CDE-10A6-4DCA-94B9-BB6BC449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D3F-0E2F-40C6-9304-A2997DB6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7F80-9F9E-46C4-88FD-1DC5F84F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BC6E-1B5B-4B9B-A12D-B4B7B5E41BA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"/>
          <p:cNvSpPr/>
          <p:nvPr/>
        </p:nvSpPr>
        <p:spPr>
          <a:xfrm>
            <a:off x="8458200" y="6400800"/>
            <a:ext cx="533520" cy="380880"/>
          </a:xfrm>
          <a:prstGeom prst="rect">
            <a:avLst/>
          </a:prstGeom>
          <a:gradFill rotWithShape="0">
            <a:gsLst>
              <a:gs pos="0">
                <a:srgbClr val="e8f2d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9488-6323-420F-9AB8-3B7FB49F41B4}" type="slidenum"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 Narrow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 Narrow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82A1-14A4-45D3-AFF2-6CA46CC11D0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ematological Neoplasia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733480"/>
            <a:ext cx="7693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Leukemia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- Acute &amp; Chron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Lymphoma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- Hodgkins &amp; Non-Hodgkins (T cell, B cell, histiocytic &amp; oth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remalignant Conditio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yeloproliferative syndromes (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P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yelodysplastic syndromes (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D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ymphoma Intest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616800" cy="47037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1802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diastinal Lymphnodes-NH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contrast="12000"/>
          </a:blip>
          <a:srcRect l="0" t="0" r="1484" b="0"/>
          <a:stretch/>
        </p:blipFill>
        <p:spPr>
          <a:xfrm>
            <a:off x="1854360" y="1219320"/>
            <a:ext cx="5232240" cy="54100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dgkins Lymphoma (HL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dgkin’s Disea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a malignant lymphoma characterized by the presence of atypical, multinucleated giant cell (Reed-Sternberg ce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disease is slightly more common in m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 patients have asymptomatic lymphadenopathy at the time of diagno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itial site of nodal involvement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ervical (65-80%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xillary (10-15%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guinal (6-12%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64480" y="525780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ed-Sternberg Cell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dgkins lympho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>
            <a:lum contrast="12000"/>
          </a:blip>
          <a:srcRect l="1040" t="0" r="0" b="749"/>
          <a:stretch/>
        </p:blipFill>
        <p:spPr>
          <a:xfrm>
            <a:off x="1066680" y="1523880"/>
            <a:ext cx="7239240" cy="46483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dgkins lymphoma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dgkins Lympho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775480" cy="47480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Causes/Risk Factor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The exact cause of Hodgkin’s disease is unknow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Also, a virus called Epstein-Barr may be involved with an increased risk of Hodgkin’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Also, Agent Orange, used during the Vietnam War is linked with the development of Hodgkin’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Siblings of a Hodgkin’s victim are more at risk for developing the disea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t is more common for men to have the disea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Hodgkin’s occurs most often in those between 15 and 34 or over the age of 55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5943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assification of Hodgkin’s Disea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2514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atment depends 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natomic distribution of the disease and the presence or absence of specific symp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ge of the dis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histopathologic subtyp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47800" y="990360"/>
            <a:ext cx="7826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Lymphomas</a:t>
            </a: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32004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Coronet"/>
              </a:rPr>
              <a:t>    </a:t>
            </a:r>
            <a:endParaRPr b="0" lang="en-US" sz="5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5943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assification of Hodgkin’s Disea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2514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Rye classific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ed on four histopathologic subtyp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ymphocytes predomin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dular sclero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xed cellula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ymphocytes deple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7113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assification of Hodgkin’s Disea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stopathologic diagno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made by lymph node biops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des from the lower cervical or axillary areas provide the best tissue for evalu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n Arbor staging classifi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classification based on anatomic distribution of the dise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tage I disease – Stage IV disea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                    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lenic Involv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probability of splenic involvement increases with increasing spleen siz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bsence of splenomegaly does not exclude splenic involv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on gross examination of the spleen a grayish white nodule ranging from several millimeters to several centimeters is apparent with Hodgkin’s dis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ver involvement with Hodgkin’s disease rarely occurs in the absence of splenic dis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ssific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ic Hodgkin’s divi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dular Sclero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xed Cellula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ymphocyte r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ymphocyte deple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dular Sclero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&gt;60% of c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nective tiss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S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cunar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r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66880" y="838080"/>
            <a:ext cx="5029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xed Cellularity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5 – 30% c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xed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ymphocy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stocy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osinophi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sma ce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S ce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ri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+Necro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ymphocyte rich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&lt;5% c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rge numbers of Lymphocy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suppress other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S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to be confused with LP Hodgkin’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ymphocyte deplet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&lt;1% c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ymphocytes r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S cells predomin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ymptoms &amp; Pre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wollen, painful lymph 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tigue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neralized i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etite, weight lo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ck %/or back p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ir lo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ght swea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tio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oplastic lymphoid prolife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types – Hodgkins &amp; Non-Hodgki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ver, lymphadenopathy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unodeficiency / autoimmune syndr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ral, genetic, unknown etiolog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ck of programmed cell death - Apopto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dgkin’s Disea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ymptoms such as fever, night sweats, weight loss and pruritus are indicative of widespread involvement and are unfavorable prognostic sig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typical fever pattern is a high-temperature alternating for a few days with an afebrile peri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y patients have a mild normochromic, normocytic anem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/3 have a leukocytosis due to a neutrophil incre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osinophilia is frequently pres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gno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2512800"/>
            <a:ext cx="84582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g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dular or Diff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tomical Stag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ge I- one reg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ge II- two regions, same side diaphrag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ge III- two regions, both sides of diap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ge IV- spread outside of lymph syst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&amp; II- &gt;10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II &amp; IV - &lt; 6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99072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urrent Treatment of Hodgkin’s Disea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grates radiation therapy and combination chemotherapy to achieve the maximum potential for c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treated Hodgkin’s has a five-year survival rate of 5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ford experience-patients at all stages have survival rate of 86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tients in stage IV have a generally poor prognos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n-Hodgkins Lymphoma (NHL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N- Hodgkin’s Lympho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sence of Reed-Sternberg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result from damage to DNA that controls growth of cells in immune 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ed incidence in immunodefici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ssociated with Non-H lymphoma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iac Dise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I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gan transplant pati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heumatoid Arthrit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uses and Risk Fac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xact causes are still unkn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er risk for individuals wh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osed to chemicals such as pesticides or solv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fected w/ Epstein-Barr Vir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mily history of NHL (although no hereditary pattern has been establish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fected w/ Human Immunodeficiency Virus (HIV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ssific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ed on cell type and location(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 symptomatic -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gress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st prognosis &lt; 1 ye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n-Hodgkin’s Lymphoma (NHL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diverse group of primary malignancies of lymphoreticular tiss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clinical course and natural history is more variable than Hodgkin’s dis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pattern of spread is irregular and more patients have leukemic fea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urrent histologic classifications utilize electron microscopic morphology, histochemical studies and selected cell surface antige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r our purposes NHL is classified according to nodular (favorable) and diffuse (unfavorable) typ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H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contrast to Hodgkin’s disease, about two-thirds of patients initially have asymptomatic lymphadenopath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addition to peripheral and mediastinal lymphadenopathy NHL is commonly found initially as an abdominal mass or as hepatic or splenic enlar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ver, weight loss and night sweats are frequently pres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median age at diagnosis is 5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sex preference is no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ymphoma’s</a:t>
            </a:r>
            <a:br>
              <a:rPr sz="32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Where They Begin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ymphomas are a cancer of the lymphatic syst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ymphatic vesse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ymph nodes (underarms, groin, neck, spleen, tonsils and bone marrow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H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tients below 35 or over 65 are more likely to have diffuse histolo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with Hodgkin’s, chemotherapy and / or radiation therapy are the primary forms of treat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ging laparotomy is seldom requi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ificant therapeutic benefit can be achieved by splenectomy in 80-90 % of patients with advanced lymphomas (including Hodgkin’s diseas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ssif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ually classified by how the cells look under a microscope and how quickly they grow and spr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ggressive lymphomas (high-grade lymphom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olent Lymphomas (low-grade lymphom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Arial"/>
              </a:rPr>
              <a:t>Classification of Malignant Lymphomas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 Grade: small lymphoid cells, nodular grow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mediate Grade: large cells, follicular and diffuse patter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 Grade: immunoblastic, lymphoblastic, Burkitt’s dise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-cell lymphomas: peripheral, cutane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30400" y="91440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n-Hodgkin’s Lymphoma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g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ge is the term used to describe the extent of tumor that has spread through the body( I and II are localized where as III and IV are advanc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ch stage is then divided into categories A, B, and 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: No systemic sympto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: Systemic Symptoms such as fever, night sweats and weight lo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: Spreading of disease from lymph node to another org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g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n-Hodgkin’s Lympho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main types of Non-Hodgkin’s Lymphom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-Cell and T-Cell Lympho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-Cell lymphomas (80%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-Cell lymphomas (15%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792000"/>
            <a:ext cx="772452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HL – Classificatio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25142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ccording to cell typ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 cell, B cell, Histiocytic &amp; Misc. NH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ccording to Clinical grad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 grade, Intermediate &amp; High grade NH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istopathologi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use/Follicular NHL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mall, Intermediate &amp; Large cell NH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: Lennert’s lymphoma is a low grade Tcell NHL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rkitt’s lymphoma is a high grade B cell NH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" dur="1" fill="hold"/>
                                  <p:tgtEl>
                                    <p:spTgt spid="19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iel Classification of NH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 Cell NH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ow Grade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ymphocytic, plasmacytic, centrocytic, mixed centrocytic centroblasti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igh Grade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entroblastic, Immunoblastic, Burkitts, lymphoblasti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 Cell NH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ow Grade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ymphocytic, mycosis, Lenner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igh Grade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mmunoblastic, lymphoblastic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are typ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CI – Working Formul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Low-grade NH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mall lymphocyt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ollicular small cleav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termediate-grade NH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ollicular large ce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iffuse small cleav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High-grade NH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mmunoblast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ymphoblast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iscellaneous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: Histiocytic, Mycosi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5943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use   - &amp; -  Follicular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22752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NHL- Histologic type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9546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76720" y="228600"/>
            <a:ext cx="3379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ymphoma’s</a:t>
            </a:r>
            <a:br>
              <a:rPr sz="32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Where They Begin</a:t>
            </a:r>
            <a:br>
              <a:rPr sz="32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Lymphatic system is our bodies main fight against inf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ymphocytes (B-cell and T-c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rried through our lymphatic system and help our bodies fight inf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ymphocytes are carried through the lymph vessels as well as the blood stream, so cancer can start in nodes and spread anywhere throughout the bod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5866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mall   –   Intermed.   –   Larg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124080" y="1371600"/>
            <a:ext cx="2917800" cy="4419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28600" y="1371600"/>
            <a:ext cx="2917800" cy="4419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6019920" y="1371600"/>
            <a:ext cx="2917800" cy="4419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28600" y="3798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NHL- Histologic type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p:transition>
    <p:pull dir="l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96880" y="28404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ging of Lympho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04920" y="1468440"/>
            <a:ext cx="8534160" cy="4322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pull dir="l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96880" y="28404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ymphoma spread to Sple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4809960" cy="52578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ymphoma spread to Sple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930640" cy="48830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aboratory Diagnosis: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boratory Diagnosi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Haematologica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ocytic normochromic anemia, High ESR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ucocytosis, Eosinophilia, lymphope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ukoerythroblastic picture - BM infiltration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on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arrow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al, or late involve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ephine biopsy- diffuse or follicular infilt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iochemica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serum LDH – poor progno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ypercalcemia, Alkaline phosphatase, Uric aci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um transaminases &amp; Bilirubin – Li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boratory Diagnosi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28195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mmunologica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noclonal gammopathy –B cell NHL, Myelo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w normal gammaglobuli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immune hemolytic anemia – auto ab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Karyotypic/Genetic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(14;18) – B cell follicular (14* heavy chai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(11;14) – diffuse NH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no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-Ray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T sc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gnetic Resonance Imaging (MRI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ops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ymphangiogr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ctures of the lymphatic system taken w/ x-ray after a special dye is injected to illuminate lymph nodes and vess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at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n-Hodgkin’s Lymphoma is usually treated by a team of physicians including hematologists, medical oncologists and a radiation oncologis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some cases such as for Indolent lymphomas, the Doctor may wait to start treatment until the patient starts showing symptoms, known as “watchful waiting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atment Op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motherap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d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ne Marrow Transpla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rg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rtezomib (Velcad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unotherap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ing the bodies own immune system combined with material made in a la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441972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ymphatic Syste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032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atment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aging &amp; gr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hemotherapy – CHOP, MCHOP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adiotherapy – Local/regional/TB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mbination 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tensive Chemo/Radio-TB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with Autologous bone marrow rescu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rvival Ra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rvival Rates vary widely by cell type and stag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 Year Survival Rate:  77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 Year Survival Rate:  56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0 Year Survival Rate:  42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6000" y="28404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urkitt’s Lympho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444760" y="1371600"/>
            <a:ext cx="4632480" cy="4876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urkitt’s Lympho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usual, B-Lymphoblastic high gr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ng african children, jaw b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olated histiocytes, starry sky patter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BV infection related. t(8;14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motherapy – good respo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t relapse usual, 30% cu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28404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urkitt’s Lympho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371600" y="1295280"/>
            <a:ext cx="6477120" cy="49165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urkitt’s Lymphoma L.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838080" y="152388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ymphoma Summary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lid malignancy of lymphoid tissu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ymphadenopathy, fever, ane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dgkins &amp; Non-Hodgkins (NHL) typ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S-Cells, eosinophilia – Hodgki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-grade, Intermediate &amp; High gra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lood, Biochemical, BM, LN - biops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unological &amp; Genetic tes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motherapy, Radiotherapy, combin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ympho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14392" r="0" b="0"/>
          <a:stretch/>
        </p:blipFill>
        <p:spPr>
          <a:xfrm>
            <a:off x="0" y="121932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924680" y="1295280"/>
            <a:ext cx="1219320" cy="13136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Row of enlarged lymph node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809880" y="2895480"/>
            <a:ext cx="3276720" cy="9144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962520" y="3809880"/>
            <a:ext cx="304776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962520" y="3809880"/>
            <a:ext cx="3047760" cy="7621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ymphoma - Gro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195960" cy="45370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ymphoma Intest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188040" cy="47210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30T06:18:55Z</dcterms:created>
  <dc:creator>Dr. VM Shashidhar</dc:creator>
  <dc:description/>
  <dc:language>en-US</dc:language>
  <cp:lastModifiedBy>Dr.abdel-hamid</cp:lastModifiedBy>
  <dcterms:modified xsi:type="dcterms:W3CDTF">2006-10-22T04:50:35Z</dcterms:modified>
  <cp:revision>75</cp:revision>
  <dc:subject/>
  <dc:title>FSM template</dc:title>
</cp:coreProperties>
</file>