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2BFE-E0DD-4C7C-B37D-CB852AA2E2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drick Winslow Taylor (1856-19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C37-CD0D-4C37-8001-7301B545B5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9652-BFC9-41BB-8999-0AC98C30D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3BA-6E11-466C-BAF8-4A2B1DD37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A24-4069-434D-A225-7E931D9B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755-0D54-43B3-8ACA-D44EBDCB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437-E538-46FB-BFC3-873D0C3A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6C7-9844-4029-B44B-1B2CE753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236-AAB2-4D1E-A961-4FD4A164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FA24-C8AD-4692-8AE7-829E99D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810-5C25-4D66-8AA2-A97D043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0725-27F6-41FB-9CC0-D99F8B87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EBB5-2219-4780-BE6A-1678E712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6D2-4B72-4CA7-8607-10E36A3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A86B-A93C-42A9-B7E9-1080CB49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33F-1E2C-46C7-91A4-2CB5933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A85B-D3F9-41D0-8320-C7C8049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64D7-B470-402A-A85D-379C40B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5C5D-4BF1-4385-A879-41295113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D30C-6141-4E72-BA31-F09A750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5979-B7F8-4562-93EB-DA496D10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D96-6946-47DF-B27B-73C2159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F17-48A8-4F9E-B332-95E08B2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AAB-2FF4-40A9-9B2E-F87B0C2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2AC-951E-4277-875F-FECD6C7D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FEB-3426-4274-BAC4-90AE6CA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795-EFC6-4A69-A5D1-5425C23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B5C-3D55-4340-AD2F-B4BA9C1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EE8-78E7-43C9-9FDB-CC896ABDF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6B80-1251-423F-AE1B-8EDD7CE41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76;&#1582;&#1575;&#1585;" TargetMode="External"/><Relationship Id="rId2" Type="http://schemas.openxmlformats.org/officeDocument/2006/relationships/hyperlink" Target="http://ar.wikipedia.org/wiki/&#1591;&#1575;&#1602;&#1577;_&#1581;&#1585;&#1575;&#1585;&#1610;&#1577;" TargetMode="External"/><Relationship Id="rId3" Type="http://schemas.openxmlformats.org/officeDocument/2006/relationships/hyperlink" Target="http://ar.wikipedia.org/wiki/&#1593;&#1605;&#1604;" TargetMode="External"/><Relationship Id="rId4" Type="http://schemas.openxmlformats.org/officeDocument/2006/relationships/hyperlink" Target="http://ar.wikipedia.org/wiki/&#1591;&#1575;&#1602;&#1577;_&#1581;&#1585;&#1603;&#1577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054"/>
          <p:cNvSpPr/>
          <p:nvPr/>
        </p:nvSpPr>
        <p:spPr>
          <a:xfrm>
            <a:off x="900000" y="2421000"/>
            <a:ext cx="7337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apter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ment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ols of Management Th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3720" y="1571400"/>
            <a:ext cx="8452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cal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cientific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dministrative Princip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al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uman  Relationship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Science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ent Historic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3360" y="499680"/>
            <a:ext cx="8440920" cy="105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3720" y="1714320"/>
            <a:ext cx="8452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derick Tay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an American mechanical engineer who wanted to improve industrial ef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is considered as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scientific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d at Midvale Steel (beginning as a common worker, chief engineer, in 6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tarted with time study and motivation pl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ay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reduce the time a worker spent on each task by optimizing the way the task was 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23360" y="1699920"/>
            <a:ext cx="8396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fic Management as defin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ederick Taylor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ystematic study of the relationships between people and tasks to redesign the work for higher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23888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4 Princip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les to increase efficien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way the job is performed now &amp; determine new ways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Organize the new method into r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Select workers whose skills match the rules set in Step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stablish a fair level of performance and pay for higher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67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anagement: summa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1413000"/>
            <a:ext cx="81043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for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 examination of job tas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of training and sel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ut……..*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workers were robot without social needs or  human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all individuals were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3360" y="476280"/>
            <a:ext cx="8440920" cy="100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 Administrative Principles Theory: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enry Fayol (1841–1925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3720" y="1773000"/>
            <a:ext cx="8452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nri Fay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41- 1925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rench mining engine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هندس تعد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as one of the most influential contributors to modern concepts of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cu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ganization rather than the individu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cribed the management functions of planning, organizing, coordinating, and controll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693432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520" y="1390680"/>
            <a:ext cx="8512200" cy="51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nri Fayol, developed a set of 14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vision of work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s for job special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Authority and Responsibil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افؤ السلطه مع المسؤولي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Command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ployees should have only one boss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حدة الام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Line of Author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lear chain from top to bottom of the firm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سلسل الرئاس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entraliza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gree to which authority rests at the very top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ركزي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95280" y="1483920"/>
            <a:ext cx="813744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2480" indent="-453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Direc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plan of action to guide the organiza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حدة التوجي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Equ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all employees fairly in justice and  respect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وا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Order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employee is put where they have  the most value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ام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Initiativ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 innova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درة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sciplin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ectful employees needed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نظباط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لتز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55344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560" y="1557360"/>
            <a:ext cx="845172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pensation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ayment system contributes to success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ويض العامل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Stability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-term employment is important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قرار الوظي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General interest over individual interes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rganization takes priority over the individ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mon spiri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re enthusiasm or loyalty to the organization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روح المشارك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yol’s 14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1413000"/>
            <a:ext cx="345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sion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ority and Responsi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y of comm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 of autho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ty of 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6720" y="1341360"/>
            <a:ext cx="345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ility of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interest over individual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spir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Management Histor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understand where ideas came fro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see the role of social, legal, political, economic, technological factors in developing management thought and pract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havioral Management Schoo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9680" y="1557360"/>
            <a:ext cx="81104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ocuses on the way a manager should personally manage to motivate employ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the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ten called the human relations movement because it addresses the human dimension of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eorists who contributed to this school viewed employees as individuals, resources, and assets to be developed and worked with —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as machi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in the past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200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y X and 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267920"/>
            <a:ext cx="838224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uglas McGregor proposed the two different sets of worker mol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- Classical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e average worker is lazy, dislikes work and will do as little as possib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anagers must closely supervise and control through reward and punish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Y- Human relationships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umes workers are not lazy, want to do a good job and the job itself will determine if the worker likes the wor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rs should allow the workers feel freedom, and exercise initiative and self-dir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480960"/>
            <a:ext cx="8440560" cy="9669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X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ory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219640" y="2957400"/>
            <a:ext cx="2963880" cy="3202200"/>
          </a:xfrm>
          <a:prstGeom prst="rect">
            <a:avLst/>
          </a:prstGeom>
          <a:solidFill>
            <a:srgbClr val="790015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19640" y="2008080"/>
            <a:ext cx="295740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898600" y="2219400"/>
            <a:ext cx="184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219640" y="2905200"/>
            <a:ext cx="324000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not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st create work setting to build initi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ovide authority to work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55640" y="2905200"/>
            <a:ext cx="2967120" cy="3201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55640" y="2008080"/>
            <a:ext cx="300672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461240" y="2200320"/>
            <a:ext cx="174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914400" y="3038400"/>
            <a:ext cx="300996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nagers m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osely superv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reate strict rules &amp; defined rew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914400" y="6165720"/>
            <a:ext cx="286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athematical techniques, like linear programming, modeling, simulation and chao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s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agers a set of techniques they can use to analyze any aspect of an organization’s production system to increase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tal quality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analyzing an organization’s input, conversion, and output activities to increase product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information system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anagers design systems that provide information that is vital for effective decision ma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04280"/>
            <a:ext cx="66657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The System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0920" y="1483920"/>
            <a:ext cx="79930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’s the system approa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 basic types of the system: closed and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Closed system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re not influenced by and do not interact with their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open system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ynamically interacts with its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219320" y="1752480"/>
            <a:ext cx="5638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95280" y="49528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219320" y="5562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8428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 system that interacts with and depends upon its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Organization’s 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: any group that is affected by  organizational decisions and policies. The manager’s job is to coordinate all stakeholders to achieve the organization’s 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Organizational survival often depends on successful interactions with the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jon69447_0204"/>
          <p:cNvPicPr/>
          <p:nvPr/>
        </p:nvPicPr>
        <p:blipFill>
          <a:blip r:embed="rId1"/>
          <a:stretch/>
        </p:blipFill>
        <p:spPr>
          <a:xfrm>
            <a:off x="682560" y="642960"/>
            <a:ext cx="7951680" cy="58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pen-Systems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11280" y="1628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pu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acquisition of external resources to produce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nsforms the inputs into outputs of finished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release of finished goods  and services to its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slow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ierarchy-of-Needs Theo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raham Maslow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8-1970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 of Humanistic Psychology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 النفس الانسان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low's hierarchy of need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is a motivational theory in psychology containing a five level model of human needs, often shown as hierarchical levels within a pyram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ustrial Revolution results a major turning point in human hist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olution that changed the world for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dustrial Revolution – a change from making things by hand to making them in factori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4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ing the late 18th and early 19th centurie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760 -1840</a:t>
            </a:r>
            <a:r>
              <a:rPr b="1" lang="ar-SA" sz="2900" spc="-1" strike="noStrike">
                <a:solidFill>
                  <a:srgbClr val="000000"/>
                </a:solidFill>
                <a:latin typeface="Calibri"/>
                <a:cs typeface="Times New Roman"/>
              </a:rPr>
              <a:t>م</a:t>
            </a:r>
            <a:r>
              <a:rPr b="1" lang="ar-SA" sz="29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slow’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ierarchy-of-Needs Theo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688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riginal steam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04188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cotton fa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45400" cy="43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telegraph1"/>
          <p:cNvPicPr/>
          <p:nvPr/>
        </p:nvPicPr>
        <p:blipFill>
          <a:blip r:embed="rId1"/>
          <a:stretch/>
        </p:blipFill>
        <p:spPr>
          <a:xfrm>
            <a:off x="1219320" y="838080"/>
            <a:ext cx="276516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TelegraphOperattor"/>
          <p:cNvPicPr/>
          <p:nvPr/>
        </p:nvPicPr>
        <p:blipFill>
          <a:blip r:embed="rId2"/>
          <a:stretch/>
        </p:blipFill>
        <p:spPr>
          <a:xfrm>
            <a:off x="4800600" y="1371600"/>
            <a:ext cx="317664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699484697_7afa89f6b0"/>
          <p:cNvPicPr/>
          <p:nvPr/>
        </p:nvPicPr>
        <p:blipFill>
          <a:blip r:embed="rId3"/>
          <a:stretch/>
        </p:blipFill>
        <p:spPr>
          <a:xfrm>
            <a:off x="1676520" y="3276720"/>
            <a:ext cx="20286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 – N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3720" y="1557000"/>
            <a:ext cx="8452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ufactu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engines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حرك البخار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حرك يتستفيد من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1"/>
              </a:rPr>
              <a:t>بخار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لماء المضغوط ذو درجة حرارة عالية لتحويل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2"/>
              </a:rPr>
              <a:t>الطاقة الحراري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إلى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3"/>
              </a:rPr>
              <a:t>عمل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ميكانيك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600" spc="-1" strike="noStrike" u="sng">
                <a:solidFill>
                  <a:srgbClr val="0000ff"/>
                </a:solidFill>
                <a:uFillTx/>
                <a:latin typeface="Calibri"/>
                <a:cs typeface="Arial"/>
                <a:hlinkClick r:id="rId4"/>
              </a:rPr>
              <a:t>وطاقة حرك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tton gin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حالج القط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 production through standardization and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powered 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Organizations and New Approaches to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trans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 – family farms, small worksh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Industrial Revolution – large organizations, requiring management skill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w demands on management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professional managers (as opposed to own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plan, structure, and schedule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worker training and socialization to factory wor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333000"/>
            <a:ext cx="868680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Perspectives Over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50920" y="1773360"/>
            <a:ext cx="7397640" cy="4583160"/>
          </a:xfrm>
          <a:prstGeom prst="rect">
            <a:avLst/>
          </a:prstGeom>
          <a:solidFill>
            <a:srgbClr val="e7e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224000" y="5229360"/>
            <a:ext cx="6324480" cy="726120"/>
            <a:chOff x="1224000" y="5229360"/>
            <a:chExt cx="6324480" cy="726120"/>
          </a:xfrm>
        </p:grpSpPr>
        <p:sp>
          <p:nvSpPr>
            <p:cNvPr id="104" name="AutoShape 5"/>
            <p:cNvSpPr/>
            <p:nvPr/>
          </p:nvSpPr>
          <p:spPr>
            <a:xfrm>
              <a:off x="3585960" y="5448240"/>
              <a:ext cx="3733920" cy="304560"/>
            </a:xfrm>
            <a:prstGeom prst="rightArrow">
              <a:avLst>
                <a:gd name="adj1" fmla="val 50000"/>
                <a:gd name="adj2" fmla="val 30650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3510000" y="522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1224000" y="542448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umanistic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6939000" y="561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971640" y="5661000"/>
            <a:ext cx="4190400" cy="614880"/>
            <a:chOff x="971640" y="5661000"/>
            <a:chExt cx="4190400" cy="614880"/>
          </a:xfrm>
        </p:grpSpPr>
        <p:sp>
          <p:nvSpPr>
            <p:cNvPr id="109" name="AutoShape 10"/>
            <p:cNvSpPr/>
            <p:nvPr/>
          </p:nvSpPr>
          <p:spPr>
            <a:xfrm>
              <a:off x="2266560" y="5862600"/>
              <a:ext cx="2361960" cy="304560"/>
            </a:xfrm>
            <a:prstGeom prst="rightArrow">
              <a:avLst>
                <a:gd name="adj1" fmla="val 50000"/>
                <a:gd name="adj2" fmla="val 193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2190600" y="5661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971640" y="583056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4552560" y="5938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3311640" y="4292640"/>
            <a:ext cx="4647600" cy="735840"/>
            <a:chOff x="3311640" y="4292640"/>
            <a:chExt cx="4647600" cy="735840"/>
          </a:xfrm>
        </p:grpSpPr>
        <p:sp>
          <p:nvSpPr>
            <p:cNvPr id="114" name="AutoShape 15"/>
            <p:cNvSpPr/>
            <p:nvPr/>
          </p:nvSpPr>
          <p:spPr>
            <a:xfrm>
              <a:off x="4987800" y="4521240"/>
              <a:ext cx="2666520" cy="304560"/>
            </a:xfrm>
            <a:prstGeom prst="rightArrow">
              <a:avLst>
                <a:gd name="adj1" fmla="val 50000"/>
                <a:gd name="adj2" fmla="val 218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4911480" y="4292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7350120" y="4691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3311640" y="448920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stems The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4032360" y="2457360"/>
            <a:ext cx="4572000" cy="767520"/>
            <a:chOff x="4032360" y="2457360"/>
            <a:chExt cx="4572000" cy="767520"/>
          </a:xfrm>
        </p:grpSpPr>
        <p:sp>
          <p:nvSpPr>
            <p:cNvPr id="119" name="AutoShape 20"/>
            <p:cNvSpPr/>
            <p:nvPr/>
          </p:nvSpPr>
          <p:spPr>
            <a:xfrm>
              <a:off x="7385040" y="2658960"/>
              <a:ext cx="914400" cy="331560"/>
            </a:xfrm>
            <a:prstGeom prst="rightArrow">
              <a:avLst>
                <a:gd name="adj1" fmla="val 50000"/>
                <a:gd name="adj2" fmla="val 6894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1"/>
            <p:cNvSpPr/>
            <p:nvPr/>
          </p:nvSpPr>
          <p:spPr>
            <a:xfrm>
              <a:off x="7309080" y="2457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7994880" y="2887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4032360" y="2627280"/>
              <a:ext cx="33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 Technology-Driven Workp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4535640" y="2889360"/>
            <a:ext cx="4114800" cy="767520"/>
            <a:chOff x="4535640" y="2889360"/>
            <a:chExt cx="4114800" cy="767520"/>
          </a:xfrm>
        </p:grpSpPr>
        <p:sp>
          <p:nvSpPr>
            <p:cNvPr id="124" name="AutoShape 25"/>
            <p:cNvSpPr/>
            <p:nvPr/>
          </p:nvSpPr>
          <p:spPr>
            <a:xfrm>
              <a:off x="7126560" y="3090960"/>
              <a:ext cx="1218960" cy="304920"/>
            </a:xfrm>
            <a:prstGeom prst="rightArrow">
              <a:avLst>
                <a:gd name="adj1" fmla="val 50000"/>
                <a:gd name="adj2" fmla="val 9994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7050240" y="28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8040960" y="3319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4535640" y="305928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rning 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3959280" y="3789360"/>
            <a:ext cx="4038480" cy="726120"/>
            <a:chOff x="3959280" y="3789360"/>
            <a:chExt cx="4038480" cy="726120"/>
          </a:xfrm>
        </p:grpSpPr>
        <p:sp>
          <p:nvSpPr>
            <p:cNvPr id="129" name="AutoShape 30"/>
            <p:cNvSpPr/>
            <p:nvPr/>
          </p:nvSpPr>
          <p:spPr>
            <a:xfrm>
              <a:off x="5864040" y="3982680"/>
              <a:ext cx="1828800" cy="30456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788080" y="37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2"/>
            <p:cNvSpPr/>
            <p:nvPr/>
          </p:nvSpPr>
          <p:spPr>
            <a:xfrm>
              <a:off x="3959280" y="39510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gency 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7388280" y="417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34"/>
          <p:cNvGrpSpPr/>
          <p:nvPr/>
        </p:nvGrpSpPr>
        <p:grpSpPr>
          <a:xfrm>
            <a:off x="3203640" y="3284640"/>
            <a:ext cx="5041080" cy="695880"/>
            <a:chOff x="3203640" y="3284640"/>
            <a:chExt cx="5041080" cy="695880"/>
          </a:xfrm>
        </p:grpSpPr>
        <p:sp>
          <p:nvSpPr>
            <p:cNvPr id="134" name="AutoShape 35"/>
            <p:cNvSpPr/>
            <p:nvPr/>
          </p:nvSpPr>
          <p:spPr>
            <a:xfrm>
              <a:off x="6396840" y="3495600"/>
              <a:ext cx="1343880" cy="304200"/>
            </a:xfrm>
            <a:prstGeom prst="rightArrow">
              <a:avLst>
                <a:gd name="adj1" fmla="val 50000"/>
                <a:gd name="adj2" fmla="val 110444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36"/>
            <p:cNvSpPr/>
            <p:nvPr/>
          </p:nvSpPr>
          <p:spPr>
            <a:xfrm>
              <a:off x="6312600" y="328464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3203640" y="3463920"/>
              <a:ext cx="31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otal Quality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38"/>
            <p:cNvSpPr/>
            <p:nvPr/>
          </p:nvSpPr>
          <p:spPr>
            <a:xfrm>
              <a:off x="7572960" y="364320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1476360" y="4689360"/>
            <a:ext cx="6248520" cy="735840"/>
            <a:chOff x="1476360" y="4689360"/>
            <a:chExt cx="6248520" cy="735840"/>
          </a:xfrm>
        </p:grpSpPr>
        <p:sp>
          <p:nvSpPr>
            <p:cNvPr id="139" name="AutoShape 40"/>
            <p:cNvSpPr/>
            <p:nvPr/>
          </p:nvSpPr>
          <p:spPr>
            <a:xfrm>
              <a:off x="4600800" y="4916520"/>
              <a:ext cx="2895480" cy="304920"/>
            </a:xfrm>
            <a:prstGeom prst="rightArrow">
              <a:avLst>
                <a:gd name="adj1" fmla="val 50000"/>
                <a:gd name="adj2" fmla="val 23739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4524480" y="46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1476360" y="488304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cience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7115400" y="50878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44"/>
          <p:cNvSpPr/>
          <p:nvPr/>
        </p:nvSpPr>
        <p:spPr>
          <a:xfrm>
            <a:off x="7885080" y="5985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1150920" y="60580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7596360" y="2060640"/>
            <a:ext cx="111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hibit 2.1, p.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15:25:38Z</dcterms:created>
  <dc:creator>Authorized Gateway Customer</dc:creator>
  <dc:description/>
  <dc:language>en-US</dc:language>
  <cp:lastModifiedBy>User</cp:lastModifiedBy>
  <cp:lastPrinted>2009-04-22T19:24:48Z</cp:lastPrinted>
  <dcterms:modified xsi:type="dcterms:W3CDTF">2016-10-04T16:37:39Z</dcterms:modified>
  <cp:revision>59</cp:revision>
  <dc:subject>Irwin project</dc:subject>
  <dc:title>Chapter 2</dc:title>
</cp:coreProperties>
</file>