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E535-5889-4779-ACFC-7D3EFE55BD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edrick Winslow Taylor (1856-191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A51E-027F-44E6-BE15-A3D01AC83D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1F2A-9558-4802-AF20-CF8A578ACA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4382-67DD-4A6D-9EEE-3D15AB7F96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3CB5-E211-4518-B814-B97A61295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A136-9B8A-4821-BBDD-0AF5E16B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F12D-4FF4-4E7C-A007-0498DF27E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8EB5-7C60-4823-A7FA-1449DDE39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A370-38C6-456C-92C0-16B4D8349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4FDA-7B4E-4BDC-9F3D-F35CC107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43AF-D544-407F-AC16-985A9EC0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1997-3B90-40C1-9950-4D27C263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7FB6-1985-4636-9360-9155A461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D932-4578-44AF-A8E6-92BFCA2D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EE11-AF08-4C83-9D94-3B561B03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4B96-E49C-4859-B384-ABE90529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04A9-F2A0-4DD9-B46D-A6A4BED1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6AD8-50ED-4AB3-BB13-E30D6EBE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0055-1AB8-44D0-8B22-93C24875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51C6-1340-4D44-8FC6-7E34A9E9B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B18F-57BC-45E8-AE4A-69CB29757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9D15-AF8C-4482-A912-A8834202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4FFE-2C48-4FB7-A723-BEE76AEA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0832-EFC8-4EBA-879C-8F17B64C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1527-7CCC-42CF-9DC1-42CBEED7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86F5-B235-49E3-8BF6-774D01E3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A59F-7AD4-4F85-89CB-619DF83B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405D-00A6-41A3-B0FD-147C0A60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ADB1-0257-4DE3-BDAD-F6838586AC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77B0-A5FB-4C37-9DBD-C286EA5979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76;&#1582;&#1575;&#1585;" TargetMode="External"/><Relationship Id="rId2" Type="http://schemas.openxmlformats.org/officeDocument/2006/relationships/hyperlink" Target="http://ar.wikipedia.org/wiki/&#1591;&#1575;&#1602;&#1577;_&#1581;&#1585;&#1575;&#1585;&#1610;&#1577;" TargetMode="External"/><Relationship Id="rId3" Type="http://schemas.openxmlformats.org/officeDocument/2006/relationships/hyperlink" Target="http://ar.wikipedia.org/wiki/&#1593;&#1605;&#1604;" TargetMode="External"/><Relationship Id="rId4" Type="http://schemas.openxmlformats.org/officeDocument/2006/relationships/hyperlink" Target="http://ar.wikipedia.org/wiki/&#1591;&#1575;&#1602;&#1577;_&#1581;&#1585;&#1603;&#1577;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054"/>
          <p:cNvSpPr/>
          <p:nvPr/>
        </p:nvSpPr>
        <p:spPr>
          <a:xfrm>
            <a:off x="900000" y="2421000"/>
            <a:ext cx="7337520" cy="229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hapter 2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nagement Theo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hools of Management Thou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23720" y="1571400"/>
            <a:ext cx="84520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assical Sch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cientific manage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dministrative Principl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havioral 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Human  Relationships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nagement Science 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cent Historical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ystems The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23360" y="499680"/>
            <a:ext cx="8440920" cy="105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Scientific Management: Frederick Taylor 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1856-191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23720" y="1714320"/>
            <a:ext cx="845208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rederick Tayl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as an American mechanical engineer who wanted to improve industrial efficien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 is considered as th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fath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scientific manag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ed at Midvale Steel (beginning as a common worker, chief engineer, in 6 yea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Started with time study and motivation pla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Tayl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anted to reduce the time a worker spent on each task by optimizing the way the task was do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23360" y="1699920"/>
            <a:ext cx="83962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ientific Management as defined by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rederick Taylor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systematic study of the relationships between people and tasks to redesign the work for higher efficien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1. Scientific Management: Frederick Taylor </a:t>
            </a:r>
            <a:br>
              <a:rPr sz="2900"/>
            </a:b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(1856-1915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238880" cy="79236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4 Principl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24000" y="1341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 Principles to increase efficienc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y the way the job is performed now &amp; determine new ways to do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Organize the new method into ru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Select workers whose skills match the rules set in Step 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Establish a fair level of performance and pay for higher perform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696080" cy="674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ientific Management: summari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9640" y="1413000"/>
            <a:ext cx="81043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ontrib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y for perform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reful examination of job task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ortance of training and sele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But……..* Proble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umed workers were robot without social needs or  human nee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umed all individuals were the sa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3360" y="476280"/>
            <a:ext cx="8440920" cy="1008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2. Administrative Principles Theory: 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Henry Fayol (1841–1925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23720" y="1773000"/>
            <a:ext cx="8452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enri Fayo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41- 1925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rench mining engine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مهندس تعدين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was one of the most influential contributors to modern concepts of manag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Focus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rganization rather than the individual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scribed the management functions of planning, organizing, coordinating, and controlling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404280"/>
            <a:ext cx="6934320" cy="79236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ayol’s Princip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80520" y="1390680"/>
            <a:ext cx="8512200" cy="516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enri Fayol, developed a set of 14 princip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Division of work:</a:t>
            </a:r>
            <a:r>
              <a:rPr b="0" lang="en-US" sz="26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lows for job specializatio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Authority and Responsibility:</a:t>
            </a:r>
            <a:r>
              <a:rPr b="0" lang="en-US" sz="26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كافؤ السلطه مع المسؤوليه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Unity of Command:</a:t>
            </a:r>
            <a:r>
              <a:rPr b="0" lang="en-US" sz="26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mployees should have only one boss.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وحدة الامر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Line of Authority:</a:t>
            </a:r>
            <a:r>
              <a:rPr b="0" lang="en-US" sz="26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clear chain from top to bottom of the firm.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تسلسل الرئاسي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Centralization:</a:t>
            </a:r>
            <a:r>
              <a:rPr b="0" lang="en-US" sz="26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degree to which authority rests at the very top.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مركزيه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95280" y="1483920"/>
            <a:ext cx="8137440" cy="477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852480" indent="-4539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6.  </a:t>
            </a: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Unity of Direction:</a:t>
            </a:r>
            <a:r>
              <a:rPr b="0" lang="en-US" sz="26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e plan of action to guide the organization.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وحدة التوجيه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2480" indent="-453960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7.  </a:t>
            </a: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Equity:</a:t>
            </a:r>
            <a:r>
              <a:rPr b="0" lang="en-US" sz="26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reat all employees fairly in justice and  respect.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مساواة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52480" indent="-453960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8.  </a:t>
            </a: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Order:</a:t>
            </a:r>
            <a:r>
              <a:rPr b="0" lang="en-US" sz="26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ch employee is put where they have  the most value.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نظام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52480" indent="-453960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9.  </a:t>
            </a: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Initiative:</a:t>
            </a:r>
            <a:r>
              <a:rPr b="0" lang="en-US" sz="26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courage innovation.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مبادرة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52480" indent="-4539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0. </a:t>
            </a: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Discipline:</a:t>
            </a:r>
            <a:r>
              <a:rPr b="0" lang="en-US" sz="26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spectful employees needed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انظباط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التز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03280" y="404280"/>
            <a:ext cx="6553440" cy="79236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ayol’s Princip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5560" y="1557360"/>
            <a:ext cx="8451720" cy="474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69840" indent="-58896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1. </a:t>
            </a: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Compensation of Employees :</a:t>
            </a:r>
            <a:r>
              <a:rPr b="0" lang="en-US" sz="26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payment system contributes to success.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عويض العاملين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9840" indent="-58896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2. </a:t>
            </a: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Stability of Employees :</a:t>
            </a:r>
            <a:r>
              <a:rPr b="0" lang="en-US" sz="26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ng-term employment is important.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استقرار الوظيفي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9840" indent="-588960">
              <a:lnSpc>
                <a:spcPct val="90000"/>
              </a:lnSpc>
              <a:spcBef>
                <a:spcPts val="1463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3. </a:t>
            </a: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General interest over individual interest:</a:t>
            </a:r>
            <a:r>
              <a:rPr b="0" lang="en-US" sz="26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organization takes priority over the individua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69840" indent="-58896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4. </a:t>
            </a: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Common spirit:</a:t>
            </a:r>
            <a:r>
              <a:rPr b="0" lang="en-US" sz="26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are enthusiasm or loyalty to the organization.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روح المشارك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42920" y="549360"/>
            <a:ext cx="7345440" cy="79200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ayol’s Princip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344000" cy="863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ayol’s 14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11280" y="1413000"/>
            <a:ext cx="3456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vision of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uthority and Responsi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nity of comm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ine of author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entraliz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nity of Dire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076720" y="1341360"/>
            <a:ext cx="3456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qu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iti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ip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en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bility of Employ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l interest over individual inter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on spir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147160" cy="936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Management History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 understand where ideas came fro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 see the role of social, legal, political, economic, technological factors in developing management thought and practice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561440" cy="86364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ehavioral Management School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99680" y="1557360"/>
            <a:ext cx="811044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Focuses on the way a manager should personally manage to motivate employe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havioral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agement theo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often called the human relations movement because it addresses the human dimension of work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heorists who contributed to this school viewed employees as individuals, resources, and assets to be developed and worked with —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ot as machin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s in the past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920000" cy="79200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ory X and 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80880" y="1267920"/>
            <a:ext cx="8382240" cy="530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ouglas McGregor proposed the two different sets of worker mol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790015"/>
              </a:buClr>
              <a:buSzPct val="7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790015"/>
                </a:solidFill>
                <a:latin typeface="Calibri"/>
              </a:rPr>
              <a:t>Theory X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900" spc="-1" strike="noStrike">
                <a:solidFill>
                  <a:srgbClr val="790015"/>
                </a:solidFill>
                <a:latin typeface="Calibri"/>
              </a:rPr>
              <a:t>- Classical Theory :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1.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umes the average worker is lazy, dislikes work and will do as little as possible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Managers must closely supervise and control through reward and punish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790015"/>
              </a:buClr>
              <a:buSzPct val="7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790015"/>
                </a:solidFill>
                <a:latin typeface="Calibri"/>
              </a:rPr>
              <a:t>Theory Y- Human relationships Theory :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Assumes workers are not lazy, want to do a good job and the job itself will determine if the worker likes the work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anagers should allow the workers feel freedom, and exercise initiative and self-direc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66840" y="480960"/>
            <a:ext cx="8440560" cy="96696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ory X  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heory 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5219640" y="2957400"/>
            <a:ext cx="2963880" cy="3202200"/>
          </a:xfrm>
          <a:prstGeom prst="rect">
            <a:avLst/>
          </a:prstGeom>
          <a:solidFill>
            <a:srgbClr val="790015"/>
          </a:solidFill>
          <a:ln w="12600">
            <a:solidFill>
              <a:srgbClr val="000000"/>
            </a:solidFill>
            <a:prstDash val="lgDash"/>
            <a:miter/>
          </a:ln>
          <a:effectLst>
            <a:outerShdw dist="89604" dir="2700000" blurRad="0" rotWithShape="0">
              <a:srgbClr val="47474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5219640" y="2008080"/>
            <a:ext cx="2957400" cy="9241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  <a:effectLst>
            <a:outerShdw dist="89604" dir="2700000" blurRad="0" rotWithShape="0">
              <a:srgbClr val="47474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5898600" y="2219400"/>
            <a:ext cx="1845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ory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5219640" y="2905200"/>
            <a:ext cx="3240000" cy="32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Employee is not laz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Must create work setting to build initiativ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Provide authority to work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755640" y="2905200"/>
            <a:ext cx="2967120" cy="3201840"/>
          </a:xfrm>
          <a:prstGeom prst="rect">
            <a:avLst/>
          </a:prstGeom>
          <a:solidFill>
            <a:srgbClr val="4f81bd"/>
          </a:solidFill>
          <a:ln w="12600">
            <a:solidFill>
              <a:srgbClr val="000000"/>
            </a:solidFill>
            <a:prstDash val="lgDash"/>
            <a:miter/>
          </a:ln>
          <a:effectLst>
            <a:outerShdw dist="89604" dir="2700000" blurRad="0" rotWithShape="0">
              <a:srgbClr val="47474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755640" y="2008080"/>
            <a:ext cx="3006720" cy="9241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  <a:effectLst>
            <a:outerShdw dist="89604" dir="2700000" blurRad="0" rotWithShape="0">
              <a:srgbClr val="47474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1461240" y="2200320"/>
            <a:ext cx="1744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or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914400" y="3038400"/>
            <a:ext cx="3009960" cy="25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Employee is laz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Managers mu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closely supervi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Create strict rules &amp; defined rewar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914400" y="6165720"/>
            <a:ext cx="2867040" cy="64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89604" dir="2700000" blurRad="0" rotWithShape="0">
              <a:srgbClr val="47474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7777080" cy="865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nagement Science Theo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Quantitative managemen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s mathematical techniques, like linear programming, modeling, simulation and chaos the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perations managemen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s managers a set of techniques they can use to analyze any aspect of an organization’s production system to increase ef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tal quality managemen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cuses on analyzing an organization’s input, conversion, and output activities to increase product qu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nagement information system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lp managers design systems that provide information that is vital for effective decision mak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86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nagement Science Theo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19320" y="404280"/>
            <a:ext cx="6665760" cy="863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The System Theo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10920" y="1483920"/>
            <a:ext cx="799308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hat’s the system approac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wo basic types of the system: closed and op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82680" algn="just">
              <a:lnSpc>
                <a:spcPct val="90000"/>
              </a:lnSpc>
              <a:spcBef>
                <a:spcPts val="700"/>
              </a:spcBef>
              <a:buClr>
                <a:srgbClr val="558e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宋体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Closed systems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are not influenced by and do not interact with their environme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82680" algn="just">
              <a:lnSpc>
                <a:spcPct val="90000"/>
              </a:lnSpc>
              <a:spcBef>
                <a:spcPts val="700"/>
              </a:spcBef>
              <a:buClr>
                <a:srgbClr val="17375e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open system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dynamically interacts with its environ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826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 organization is an open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219320" y="1752480"/>
            <a:ext cx="5638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1295280" y="4952880"/>
            <a:ext cx="632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1219320" y="5562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3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6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 Organization Is an Open System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484280"/>
            <a:ext cx="822960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An organization is a system that interacts with and depends upon its environme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i="1" lang="en-US" sz="2400" spc="-1" strike="noStrike">
                <a:solidFill>
                  <a:srgbClr val="1f497d"/>
                </a:solidFill>
                <a:latin typeface="Calibri"/>
                <a:ea typeface="宋体"/>
              </a:rPr>
              <a:t>Organization’s stakeholde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: any group that is affected by  organizational decisions and policies. The manager’s job is to coordinate all stakeholders to achieve the organization’s go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Organizational survival often depends on successful interactions with the external environ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jon69447_0204"/>
          <p:cNvPicPr/>
          <p:nvPr/>
        </p:nvPicPr>
        <p:blipFill>
          <a:blip r:embed="rId1"/>
          <a:stretch/>
        </p:blipFill>
        <p:spPr>
          <a:xfrm>
            <a:off x="682560" y="642960"/>
            <a:ext cx="7951680" cy="5857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416720" cy="865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Open-Systems Vie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11280" y="1628640"/>
            <a:ext cx="80755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pu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the acquisition of external resources to produce goods and serv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transforms the inputs into outputs of finished goods and serv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utp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the release of finished goods  and services to its external environ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slow’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Hierarchy-of-Needs Theor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raham Maslow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08-1970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ther of Humanistic Psychology.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علم النفس الانساني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low's hierarchy of needs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ory is a motivational theory in psychology containing a five level model of human needs, often shown as hierarchical levels within a pyrami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916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dustrial Revolution results a major turning point in human history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volution that changed the world fore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Industrial Revolution – a change from making things by hand to making them in factories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44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Industrial Revolu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uring the late 18th and early 19th centuries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1760 -1840</a:t>
            </a:r>
            <a:r>
              <a:rPr b="1" lang="ar-SA" sz="2900" spc="-1" strike="noStrike">
                <a:solidFill>
                  <a:srgbClr val="000000"/>
                </a:solidFill>
                <a:latin typeface="Calibri"/>
                <a:cs typeface="Times New Roman"/>
              </a:rPr>
              <a:t>م</a:t>
            </a:r>
            <a:r>
              <a:rPr b="1" lang="ar-SA" sz="29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br>
              <a:rPr sz="24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slow’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Hierarchy-of-Needs Theor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5688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original steam eng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6041880" cy="455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 cotton fac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6845400" cy="433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telegraph1"/>
          <p:cNvPicPr/>
          <p:nvPr/>
        </p:nvPicPr>
        <p:blipFill>
          <a:blip r:embed="rId1"/>
          <a:stretch/>
        </p:blipFill>
        <p:spPr>
          <a:xfrm>
            <a:off x="1219320" y="838080"/>
            <a:ext cx="2765160" cy="1943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TelegraphOperattor"/>
          <p:cNvPicPr/>
          <p:nvPr/>
        </p:nvPicPr>
        <p:blipFill>
          <a:blip r:embed="rId2"/>
          <a:stretch/>
        </p:blipFill>
        <p:spPr>
          <a:xfrm>
            <a:off x="4800600" y="1371600"/>
            <a:ext cx="3176640" cy="4038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2699484697_7afa89f6b0"/>
          <p:cNvPicPr/>
          <p:nvPr/>
        </p:nvPicPr>
        <p:blipFill>
          <a:blip r:embed="rId3"/>
          <a:stretch/>
        </p:blipFill>
        <p:spPr>
          <a:xfrm>
            <a:off x="1676520" y="3276720"/>
            <a:ext cx="2028600" cy="3047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718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Industrial Revolution – New Techn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3720" y="1557000"/>
            <a:ext cx="8452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Manufactu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eam engines (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محرك البخاري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Arial"/>
              </a:rPr>
              <a:t>محرك يتستفيد من </a:t>
            </a:r>
            <a:r>
              <a:rPr b="0" lang="ar-SA" sz="1600" spc="-1" strike="noStrike" u="sng">
                <a:solidFill>
                  <a:srgbClr val="0000ff"/>
                </a:solidFill>
                <a:uFillTx/>
                <a:latin typeface="Calibri"/>
                <a:cs typeface="Arial"/>
                <a:hlinkClick r:id="rId1"/>
              </a:rPr>
              <a:t>بخار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Arial"/>
              </a:rPr>
              <a:t> الماء المضغوط ذو درجة حرارة عالية لتحويل </a:t>
            </a:r>
            <a:r>
              <a:rPr b="0" lang="ar-SA" sz="1600" spc="-1" strike="noStrike" u="sng">
                <a:solidFill>
                  <a:srgbClr val="0000ff"/>
                </a:solidFill>
                <a:uFillTx/>
                <a:latin typeface="Calibri"/>
                <a:cs typeface="Arial"/>
                <a:hlinkClick r:id="rId2"/>
              </a:rPr>
              <a:t>الطاقة الحراريه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Arial"/>
              </a:rPr>
              <a:t> إلى </a:t>
            </a:r>
            <a:r>
              <a:rPr b="0" lang="ar-SA" sz="1600" spc="-1" strike="noStrike" u="sng">
                <a:solidFill>
                  <a:srgbClr val="0000ff"/>
                </a:solidFill>
                <a:uFillTx/>
                <a:latin typeface="Calibri"/>
                <a:cs typeface="Arial"/>
                <a:hlinkClick r:id="rId3"/>
              </a:rPr>
              <a:t>عمل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Arial"/>
              </a:rPr>
              <a:t> ميكانيكي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1600" spc="-1" strike="noStrike" u="sng">
                <a:solidFill>
                  <a:srgbClr val="0000ff"/>
                </a:solidFill>
                <a:uFillTx/>
                <a:latin typeface="Calibri"/>
                <a:cs typeface="Arial"/>
                <a:hlinkClick r:id="rId4"/>
              </a:rPr>
              <a:t>وطاقة حركة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tton gin (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Arial"/>
              </a:rPr>
              <a:t>محالج القطن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ss production through standardization and specia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ranspor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eam powered shi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ilroa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ommun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legrap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081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arge Organizations and New Approaches to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conomic transform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iously – family farms, small workshop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Industrial Revolution – large organizations, requiring management skills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New demands on management</a:t>
            </a: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 for professional managers (as opposed to owne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 to plan, structure, and schedule activit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 for worker training and socialization to factory wor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5840" y="333000"/>
            <a:ext cx="8686800" cy="934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nagement Perspectives Over Ti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1150920" y="1773360"/>
            <a:ext cx="7397640" cy="4583160"/>
          </a:xfrm>
          <a:prstGeom prst="rect">
            <a:avLst/>
          </a:prstGeom>
          <a:solidFill>
            <a:srgbClr val="e7e5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Group 4"/>
          <p:cNvGrpSpPr/>
          <p:nvPr/>
        </p:nvGrpSpPr>
        <p:grpSpPr>
          <a:xfrm>
            <a:off x="1224000" y="5229360"/>
            <a:ext cx="6324480" cy="726120"/>
            <a:chOff x="1224000" y="5229360"/>
            <a:chExt cx="6324480" cy="726120"/>
          </a:xfrm>
        </p:grpSpPr>
        <p:sp>
          <p:nvSpPr>
            <p:cNvPr id="104" name="AutoShape 5"/>
            <p:cNvSpPr/>
            <p:nvPr/>
          </p:nvSpPr>
          <p:spPr>
            <a:xfrm>
              <a:off x="3585960" y="5448240"/>
              <a:ext cx="3733920" cy="304560"/>
            </a:xfrm>
            <a:prstGeom prst="rightArrow">
              <a:avLst>
                <a:gd name="adj1" fmla="val 50000"/>
                <a:gd name="adj2" fmla="val 306501"/>
              </a:avLst>
            </a:prstGeom>
            <a:solidFill>
              <a:srgbClr val="4a86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6"/>
            <p:cNvSpPr/>
            <p:nvPr/>
          </p:nvSpPr>
          <p:spPr>
            <a:xfrm>
              <a:off x="3510000" y="522936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9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7"/>
            <p:cNvSpPr/>
            <p:nvPr/>
          </p:nvSpPr>
          <p:spPr>
            <a:xfrm>
              <a:off x="1224000" y="5424480"/>
              <a:ext cx="236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umanistic Perspe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8"/>
            <p:cNvSpPr/>
            <p:nvPr/>
          </p:nvSpPr>
          <p:spPr>
            <a:xfrm>
              <a:off x="6939000" y="561816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9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Group 9"/>
          <p:cNvGrpSpPr/>
          <p:nvPr/>
        </p:nvGrpSpPr>
        <p:grpSpPr>
          <a:xfrm>
            <a:off x="971640" y="5661000"/>
            <a:ext cx="4190400" cy="614880"/>
            <a:chOff x="971640" y="5661000"/>
            <a:chExt cx="4190400" cy="614880"/>
          </a:xfrm>
        </p:grpSpPr>
        <p:sp>
          <p:nvSpPr>
            <p:cNvPr id="109" name="AutoShape 10"/>
            <p:cNvSpPr/>
            <p:nvPr/>
          </p:nvSpPr>
          <p:spPr>
            <a:xfrm>
              <a:off x="2266560" y="5862600"/>
              <a:ext cx="2361960" cy="304560"/>
            </a:xfrm>
            <a:prstGeom prst="rightArrow">
              <a:avLst>
                <a:gd name="adj1" fmla="val 50000"/>
                <a:gd name="adj2" fmla="val 193883"/>
              </a:avLst>
            </a:prstGeom>
            <a:solidFill>
              <a:srgbClr val="4a86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11"/>
            <p:cNvSpPr/>
            <p:nvPr/>
          </p:nvSpPr>
          <p:spPr>
            <a:xfrm>
              <a:off x="2190600" y="5661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8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12"/>
            <p:cNvSpPr/>
            <p:nvPr/>
          </p:nvSpPr>
          <p:spPr>
            <a:xfrm>
              <a:off x="971640" y="583056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lass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13"/>
            <p:cNvSpPr/>
            <p:nvPr/>
          </p:nvSpPr>
          <p:spPr>
            <a:xfrm>
              <a:off x="4552560" y="593856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9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14"/>
          <p:cNvGrpSpPr/>
          <p:nvPr/>
        </p:nvGrpSpPr>
        <p:grpSpPr>
          <a:xfrm>
            <a:off x="3311640" y="4292640"/>
            <a:ext cx="4647600" cy="735840"/>
            <a:chOff x="3311640" y="4292640"/>
            <a:chExt cx="4647600" cy="735840"/>
          </a:xfrm>
        </p:grpSpPr>
        <p:sp>
          <p:nvSpPr>
            <p:cNvPr id="114" name="AutoShape 15"/>
            <p:cNvSpPr/>
            <p:nvPr/>
          </p:nvSpPr>
          <p:spPr>
            <a:xfrm>
              <a:off x="4987800" y="4521240"/>
              <a:ext cx="2666520" cy="304560"/>
            </a:xfrm>
            <a:prstGeom prst="rightArrow">
              <a:avLst>
                <a:gd name="adj1" fmla="val 50000"/>
                <a:gd name="adj2" fmla="val 218883"/>
              </a:avLst>
            </a:prstGeom>
            <a:solidFill>
              <a:srgbClr val="4a86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16"/>
            <p:cNvSpPr/>
            <p:nvPr/>
          </p:nvSpPr>
          <p:spPr>
            <a:xfrm>
              <a:off x="4911480" y="42926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9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17"/>
            <p:cNvSpPr/>
            <p:nvPr/>
          </p:nvSpPr>
          <p:spPr>
            <a:xfrm>
              <a:off x="7350120" y="469116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18"/>
            <p:cNvSpPr/>
            <p:nvPr/>
          </p:nvSpPr>
          <p:spPr>
            <a:xfrm>
              <a:off x="3311640" y="4489200"/>
              <a:ext cx="167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ystems The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Group 19"/>
          <p:cNvGrpSpPr/>
          <p:nvPr/>
        </p:nvGrpSpPr>
        <p:grpSpPr>
          <a:xfrm>
            <a:off x="4032360" y="2457360"/>
            <a:ext cx="4572000" cy="767520"/>
            <a:chOff x="4032360" y="2457360"/>
            <a:chExt cx="4572000" cy="767520"/>
          </a:xfrm>
        </p:grpSpPr>
        <p:sp>
          <p:nvSpPr>
            <p:cNvPr id="119" name="AutoShape 20"/>
            <p:cNvSpPr/>
            <p:nvPr/>
          </p:nvSpPr>
          <p:spPr>
            <a:xfrm>
              <a:off x="7385040" y="2658960"/>
              <a:ext cx="914400" cy="331560"/>
            </a:xfrm>
            <a:prstGeom prst="rightArrow">
              <a:avLst>
                <a:gd name="adj1" fmla="val 50000"/>
                <a:gd name="adj2" fmla="val 68947"/>
              </a:avLst>
            </a:prstGeom>
            <a:solidFill>
              <a:srgbClr val="4a86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21"/>
            <p:cNvSpPr/>
            <p:nvPr/>
          </p:nvSpPr>
          <p:spPr>
            <a:xfrm>
              <a:off x="7309080" y="245736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22"/>
            <p:cNvSpPr/>
            <p:nvPr/>
          </p:nvSpPr>
          <p:spPr>
            <a:xfrm>
              <a:off x="7994880" y="288756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23"/>
            <p:cNvSpPr/>
            <p:nvPr/>
          </p:nvSpPr>
          <p:spPr>
            <a:xfrm>
              <a:off x="4032360" y="2627280"/>
              <a:ext cx="335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he Technology-Driven Workpl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4"/>
          <p:cNvGrpSpPr/>
          <p:nvPr/>
        </p:nvGrpSpPr>
        <p:grpSpPr>
          <a:xfrm>
            <a:off x="4535640" y="2889360"/>
            <a:ext cx="4114800" cy="767520"/>
            <a:chOff x="4535640" y="2889360"/>
            <a:chExt cx="4114800" cy="767520"/>
          </a:xfrm>
        </p:grpSpPr>
        <p:sp>
          <p:nvSpPr>
            <p:cNvPr id="124" name="AutoShape 25"/>
            <p:cNvSpPr/>
            <p:nvPr/>
          </p:nvSpPr>
          <p:spPr>
            <a:xfrm>
              <a:off x="7126560" y="3090960"/>
              <a:ext cx="1218960" cy="304920"/>
            </a:xfrm>
            <a:prstGeom prst="rightArrow">
              <a:avLst>
                <a:gd name="adj1" fmla="val 50000"/>
                <a:gd name="adj2" fmla="val 99941"/>
              </a:avLst>
            </a:prstGeom>
            <a:solidFill>
              <a:srgbClr val="4a86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26"/>
            <p:cNvSpPr/>
            <p:nvPr/>
          </p:nvSpPr>
          <p:spPr>
            <a:xfrm>
              <a:off x="7050240" y="288936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9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27"/>
            <p:cNvSpPr/>
            <p:nvPr/>
          </p:nvSpPr>
          <p:spPr>
            <a:xfrm>
              <a:off x="8040960" y="331956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28"/>
            <p:cNvSpPr/>
            <p:nvPr/>
          </p:nvSpPr>
          <p:spPr>
            <a:xfrm>
              <a:off x="4535640" y="3059280"/>
              <a:ext cx="259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earning Organ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29"/>
          <p:cNvGrpSpPr/>
          <p:nvPr/>
        </p:nvGrpSpPr>
        <p:grpSpPr>
          <a:xfrm>
            <a:off x="3959280" y="3789360"/>
            <a:ext cx="4038480" cy="726120"/>
            <a:chOff x="3959280" y="3789360"/>
            <a:chExt cx="4038480" cy="726120"/>
          </a:xfrm>
        </p:grpSpPr>
        <p:sp>
          <p:nvSpPr>
            <p:cNvPr id="129" name="AutoShape 30"/>
            <p:cNvSpPr/>
            <p:nvPr/>
          </p:nvSpPr>
          <p:spPr>
            <a:xfrm>
              <a:off x="5864040" y="3982680"/>
              <a:ext cx="1828800" cy="304560"/>
            </a:xfrm>
            <a:prstGeom prst="rightArrow">
              <a:avLst>
                <a:gd name="adj1" fmla="val 50000"/>
                <a:gd name="adj2" fmla="val 150118"/>
              </a:avLst>
            </a:prstGeom>
            <a:solidFill>
              <a:srgbClr val="4a86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31"/>
            <p:cNvSpPr/>
            <p:nvPr/>
          </p:nvSpPr>
          <p:spPr>
            <a:xfrm>
              <a:off x="5788080" y="378936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9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32"/>
            <p:cNvSpPr/>
            <p:nvPr/>
          </p:nvSpPr>
          <p:spPr>
            <a:xfrm>
              <a:off x="3959280" y="395100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tingency View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33"/>
            <p:cNvSpPr/>
            <p:nvPr/>
          </p:nvSpPr>
          <p:spPr>
            <a:xfrm>
              <a:off x="7388280" y="417816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34"/>
          <p:cNvGrpSpPr/>
          <p:nvPr/>
        </p:nvGrpSpPr>
        <p:grpSpPr>
          <a:xfrm>
            <a:off x="3203640" y="3284640"/>
            <a:ext cx="5041080" cy="695880"/>
            <a:chOff x="3203640" y="3284640"/>
            <a:chExt cx="5041080" cy="695880"/>
          </a:xfrm>
        </p:grpSpPr>
        <p:sp>
          <p:nvSpPr>
            <p:cNvPr id="134" name="AutoShape 35"/>
            <p:cNvSpPr/>
            <p:nvPr/>
          </p:nvSpPr>
          <p:spPr>
            <a:xfrm>
              <a:off x="6396840" y="3495600"/>
              <a:ext cx="1343880" cy="304200"/>
            </a:xfrm>
            <a:prstGeom prst="rightArrow">
              <a:avLst>
                <a:gd name="adj1" fmla="val 50000"/>
                <a:gd name="adj2" fmla="val 110444"/>
              </a:avLst>
            </a:prstGeom>
            <a:solidFill>
              <a:srgbClr val="4a86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36"/>
            <p:cNvSpPr/>
            <p:nvPr/>
          </p:nvSpPr>
          <p:spPr>
            <a:xfrm>
              <a:off x="6312600" y="3284640"/>
              <a:ext cx="67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9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37"/>
            <p:cNvSpPr/>
            <p:nvPr/>
          </p:nvSpPr>
          <p:spPr>
            <a:xfrm>
              <a:off x="3203640" y="3463920"/>
              <a:ext cx="319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otal Quality 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38"/>
            <p:cNvSpPr/>
            <p:nvPr/>
          </p:nvSpPr>
          <p:spPr>
            <a:xfrm>
              <a:off x="7572960" y="3643200"/>
              <a:ext cx="67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Group 39"/>
          <p:cNvGrpSpPr/>
          <p:nvPr/>
        </p:nvGrpSpPr>
        <p:grpSpPr>
          <a:xfrm>
            <a:off x="1476360" y="4689360"/>
            <a:ext cx="6248520" cy="735840"/>
            <a:chOff x="1476360" y="4689360"/>
            <a:chExt cx="6248520" cy="735840"/>
          </a:xfrm>
        </p:grpSpPr>
        <p:sp>
          <p:nvSpPr>
            <p:cNvPr id="139" name="AutoShape 40"/>
            <p:cNvSpPr/>
            <p:nvPr/>
          </p:nvSpPr>
          <p:spPr>
            <a:xfrm>
              <a:off x="4600800" y="4916520"/>
              <a:ext cx="2895480" cy="304920"/>
            </a:xfrm>
            <a:prstGeom prst="rightArrow">
              <a:avLst>
                <a:gd name="adj1" fmla="val 50000"/>
                <a:gd name="adj2" fmla="val 237397"/>
              </a:avLst>
            </a:prstGeom>
            <a:solidFill>
              <a:srgbClr val="4a86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41"/>
            <p:cNvSpPr/>
            <p:nvPr/>
          </p:nvSpPr>
          <p:spPr>
            <a:xfrm>
              <a:off x="4524480" y="468936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9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42"/>
            <p:cNvSpPr/>
            <p:nvPr/>
          </p:nvSpPr>
          <p:spPr>
            <a:xfrm>
              <a:off x="1476360" y="4883040"/>
              <a:ext cx="31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 Science Perspe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43"/>
            <p:cNvSpPr/>
            <p:nvPr/>
          </p:nvSpPr>
          <p:spPr>
            <a:xfrm>
              <a:off x="7115400" y="508788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9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Text Box 44"/>
          <p:cNvSpPr/>
          <p:nvPr/>
        </p:nvSpPr>
        <p:spPr>
          <a:xfrm>
            <a:off x="7885080" y="598500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5"/>
          <p:cNvSpPr/>
          <p:nvPr/>
        </p:nvSpPr>
        <p:spPr>
          <a:xfrm>
            <a:off x="1150920" y="6058080"/>
            <a:ext cx="7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7"/>
          <p:cNvSpPr/>
          <p:nvPr/>
        </p:nvSpPr>
        <p:spPr>
          <a:xfrm>
            <a:off x="7596360" y="2060640"/>
            <a:ext cx="111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xhibit 2.1, p.4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4T15:25:38Z</dcterms:created>
  <dc:creator>Authorized Gateway Customer</dc:creator>
  <dc:description/>
  <dc:language>en-US</dc:language>
  <cp:lastModifiedBy>User</cp:lastModifiedBy>
  <cp:lastPrinted>2009-04-22T19:24:48Z</cp:lastPrinted>
  <dcterms:modified xsi:type="dcterms:W3CDTF">2016-10-04T16:37:39Z</dcterms:modified>
  <cp:revision>59</cp:revision>
  <dc:subject>Irwin project</dc:subject>
  <dc:title>Chapter 2</dc:title>
</cp:coreProperties>
</file>