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3452A-7710-4F3A-9388-E076B9C2C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C6915-0457-4220-AE56-701859EC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A01E5-F191-4BD7-A19E-8EF2C8181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660F8-8FCE-418A-BACF-6C96F2B0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D4367-0C30-4786-A24C-50309548A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AC79E-59F2-45DF-97E3-4BD9AB373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EAC03-407E-4E2E-A217-F79A084B1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4949B-02CA-4171-A90C-B57A9D67F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370DF-7020-4F4C-B60F-D6DEE8B13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0F82-E083-41BA-A362-7D8423D13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85DE7-E931-44B2-8464-056CAF0C3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7B811-5B9D-44EE-8D25-9AE561B7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D8E46-D85A-475E-AB48-EDA2867C3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90AB9-0016-4E39-B519-655860D03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A84EE-9727-4EBC-95F0-11043082D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B42C7-E0C2-4C63-ADA2-C51FBE26E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94486-86D6-4A27-8692-13DB14AF7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3617C-E1CA-4429-88CD-6F697B7397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87E02-97A1-48AC-994B-E1ED5059A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490A0-8C6C-4284-8017-31EEBEEAE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95FDC-1B94-4492-B339-78DAC3495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89552-46D8-4F99-B8F3-C9EC07983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F49E-8B41-4302-ACC9-281EE4150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B85C9-EC16-4C14-887B-3698178B3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C310E-0685-45AA-97F3-1F3DD0CF0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2399A-9EA6-4C70-803C-2AB11985C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514A6-6C65-4929-BFC2-EBE463607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03E75-DF58-4F9C-9B61-6D75664A9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412AAF-D8A5-4F57-8A86-DD34617AB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B25C22-F459-4F6C-8B84-26B1A32AE2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562063-D421-4A8D-B937-BE22340189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BD38E7-325D-4771-BA2A-1335AE88CB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C656F-BC0D-4DC7-9ACF-2C534C47A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CA5E-B019-4F50-8C65-C636B6B6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61A016-C6CE-48B1-B78C-9BD7E97E1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DEB44-3D24-448A-93B1-84F1E6C00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61C43A-28E9-400E-8F85-2368451C6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21B0A-3CFB-4BF9-861E-0CA87063F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D64BB-8EBE-44D6-A270-62B1BC61E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09AB6-D159-4086-8CFA-2088C9AAA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063A0-575F-4657-8EA8-05F9E771B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45DB57-3975-4F1A-B92E-23D6E63CDD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F74C5D-4FCA-4036-899E-681D3FD849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B41341-BB7A-412E-A727-EFB0745A94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335D-25FF-4AB0-8402-36242B5B3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3F2903-1971-4DC3-BF84-C332B7E69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2AC55-20D3-4DAE-9898-DCC87662D2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5CA34-BDD0-41C6-B741-7C847BE8B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E678B-D8E5-480B-9987-29BC6C82E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C5381-921F-4766-890A-EC0712A53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36B18-19F4-4EA5-8883-4CC9C08D6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E11A5-D4BC-499B-8ECD-4C0379429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8737C-3EFB-4034-BC32-0F5F70835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469E9-4056-42E7-B0F1-FF54CBA0E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BF841D-04E2-4CA6-9E6F-2F9F3B84D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D995F-446C-4C0B-A8F6-CAA1A2C0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E61530-FBCB-44E8-98F5-D38342F88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FBCA46-1CB3-4B08-8930-BC6F01AB15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D8AA0-E31C-44F5-9529-8F7A07951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0778A-16F7-4C47-832B-B64482696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06E1C-7413-470D-B608-A17D4E3D4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A072A0-492E-4399-BFD6-B3882B2AF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45E43-4DF7-482B-AB93-A25630271B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2C82E-D4CF-41FD-8FCC-438CD2033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61AEC-E2CE-4505-B2A2-DFE4BD325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55F98A-1885-4FF2-B039-DD35DC819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BCFE9-16F5-4233-96B2-9508D4154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5A2DD-867B-4B6E-A95D-E5DE1F334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0F8CD8-71D3-4EDE-BF88-839A5F1BFB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D0A547-F9C0-4B13-B208-B773B6E014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4597-F509-4958-98D4-0957E1B5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F99D-7DC5-441B-9FED-D603BAE48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DF4F-3D27-465C-88B4-5311F54D9BA1}"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شكل حر 7"/>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6F5C-2878-4BAD-8CEF-2C402E6B5CB9}"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شكل حر 8"/>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6F02-D324-491A-AECC-A5805FA2B476}"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F1F9-DB3E-4B27-9B1B-ECB445F01032}"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0A81-0B64-4E3F-9CAF-66924E57D4E7}"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9833-813B-4BC9-A119-C6EC3F442CE6}"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189360"/>
            <a:ext cx="9144000" cy="6098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mic"/>
                <a:cs typeface="Calibri"/>
              </a:rPr>
              <a:t>المقصود بالعقود المسما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omic"/>
                <a:ea typeface="Calibri"/>
              </a:rPr>
              <a:t>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mic"/>
                <a:cs typeface="Calibri"/>
              </a:rPr>
              <a:t>العقود المسماة اصطلاح قانوني قديم عند الرومان, وهي العقود التي يسمح لأطرافها عند الاختلاف فيها أن يرفعوا الدعوى المدنية  في شؤونها لدى المحاكم ,لتنظر فيها وتنفذ العقد جبراً على الممتنع.</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rPr>
              <a:t>ويراد بها في القوانين المدنيه الحديثة معنى آخر</a:t>
            </a:r>
            <a:r>
              <a:rPr b="0" lang="ar-SA" sz="2400" spc="-1" strike="noStrike">
                <a:solidFill>
                  <a:srgbClr val="ffffff"/>
                </a:solidFill>
                <a:latin typeface="comic"/>
              </a:rPr>
              <a:t>, </a:t>
            </a:r>
            <a:r>
              <a:rPr b="0" lang="ar-SA" sz="2400" spc="-1" strike="noStrike">
                <a:solidFill>
                  <a:srgbClr val="0070c0"/>
                </a:solidFill>
                <a:latin typeface="comic"/>
              </a:rPr>
              <a:t>فهي العقود التي عرفت بأسماء معينة خاصة ونظمها القانون وأبان أحكامها الخاصة بها لتمييزها عن غيرها من العقود.</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ahoma"/>
              </a:rPr>
              <a:t> وقد نص قانون الإمارات كغيره من القوانيين المدنية المعاصرة على عشرين عقداً هي </a:t>
            </a:r>
            <a:r>
              <a:rPr b="0" lang="ar-SA" sz="2400" spc="-1" strike="noStrike">
                <a:solidFill>
                  <a:srgbClr val="998308"/>
                </a:solidFill>
                <a:latin typeface="Arial"/>
                <a:ea typeface="Tahoma"/>
              </a:rPr>
              <a:t>: البيع , المقايضة, الهبة ,الشركة ,القرض,الصلح, الإيجار, الإعارة ,المقاولة,عقد العمل, الوكالة,الإيداع ,الحراسة ,المقامرة , الرهان , الراتب مدى الحياة, التأمين , الكفالة , الرهن , الحوالة . وأضيف في القانونين المصري والسوري :الدخل الدائم مدى الحياة, والتزام المرافق العامة فصار المجموع اثنين وعشرين عقداً.</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0" y="35316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8308"/>
                </a:solidFill>
                <a:latin typeface="comic"/>
                <a:cs typeface="Calibri"/>
              </a:rPr>
              <a:t>والقصد من تنظيم العقود المسماة في قوانين نافذ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cs typeface="Calibri"/>
              </a:rPr>
              <a:t>رعاية القانون العقود الشائعة القائمة بين الناس المتكررة في الحياة العملية </a:t>
            </a:r>
            <a:r>
              <a:rPr b="0" lang="ar-SA" sz="2400" spc="-1" strike="noStrike">
                <a:solidFill>
                  <a:srgbClr val="7030a0"/>
                </a:solidFill>
                <a:latin typeface="comic"/>
                <a:cs typeface="Calibri"/>
              </a:rPr>
              <a:t>وذلك يدل على استقرارها في المجتمع,</a:t>
            </a:r>
            <a:r>
              <a:rPr b="0" lang="ar-SA" sz="2400" spc="-1" strike="noStrike">
                <a:solidFill>
                  <a:srgbClr val="ffffff"/>
                </a:solidFill>
                <a:latin typeface="comic"/>
                <a:ea typeface="Calibri"/>
              </a:rPr>
              <a:t> </a:t>
            </a:r>
            <a:r>
              <a:rPr b="0" lang="ar-SA" sz="2400" spc="-1" strike="noStrike">
                <a:solidFill>
                  <a:srgbClr val="00b0f0"/>
                </a:solidFill>
                <a:latin typeface="comic"/>
                <a:cs typeface="Calibri"/>
              </a:rPr>
              <a:t>وظهور أحكامها غالباً لجميع المواطنين وقد نظم القانون أحكامها ليسهل الرجوع إليها عند التنفيذ.</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2d050"/>
                </a:solidFill>
                <a:latin typeface="comic"/>
                <a:cs typeface="Calibri"/>
              </a:rPr>
              <a:t>ولا مانع من الاتفاق على عقود أخرى وهي العقود غير المسماة ضمن قواد النظام العام والآداب </a:t>
            </a:r>
            <a:r>
              <a:rPr b="0" lang="ar-SA" sz="2400" spc="-1" strike="noStrike">
                <a:solidFill>
                  <a:srgbClr val="ffffff"/>
                </a:solidFill>
                <a:latin typeface="comic"/>
                <a:ea typeface="Calibri"/>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omic"/>
                <a:cs typeface="Calibri"/>
              </a:rPr>
              <a:t>ويجوز لطرفي التعاقد رفع الدعوى في شأنها إلى المحاكم , وتطبق حينئذ عليها الأحكام العامة للعقود بما يتفق مع قصد المتعاقدين ,وبما يحقق العدالة بين الطرف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rPr>
              <a:t>لكن يجب على طرفي التعاقد في العقود غير المسماة من تفصيل الأحكام والشروط والآثار المتفق عليها حسب مصالحها المشتركة,</a:t>
            </a:r>
            <a:r>
              <a:rPr b="0" lang="ar-SA" sz="2400" spc="-1" strike="noStrike">
                <a:solidFill>
                  <a:srgbClr val="ffffff"/>
                </a:solidFill>
                <a:latin typeface="comic"/>
              </a:rPr>
              <a:t> </a:t>
            </a:r>
            <a:r>
              <a:rPr b="0" lang="ar-SA" sz="2400" spc="-1" strike="noStrike">
                <a:solidFill>
                  <a:srgbClr val="92d050"/>
                </a:solidFill>
                <a:latin typeface="comic"/>
              </a:rPr>
              <a:t>وإلا طبقت عليها الأحكام العامة للعقود.</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0" y="-705240"/>
            <a:ext cx="9144000" cy="7043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2d050"/>
                </a:solidFill>
                <a:latin typeface="comic"/>
              </a:rPr>
              <a:t>والعقد المسمى يفسره القاضي في ضوء أحكامه الخاصة في القانو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rPr>
              <a:t>أما العقد غير المسمى فيفسره في ضوء القواعد العامه للعقود, لعدم وجود احكام خاصة به,</a:t>
            </a:r>
            <a:r>
              <a:rPr b="0" lang="ar-SA" sz="2400" spc="-1" strike="noStrike">
                <a:solidFill>
                  <a:srgbClr val="ffffff"/>
                </a:solidFill>
                <a:latin typeface="comic"/>
              </a:rPr>
              <a:t> وقد نصت المادة بفقرتيها من قانون الامارات على ذلك.</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mic"/>
              </a:rPr>
              <a:t>وقد أورد قانون المعاملات الاماراتي والقانون المدني الأردني </a:t>
            </a:r>
            <a:r>
              <a:rPr b="0" lang="ar-SA" sz="2400" spc="-1" strike="noStrike">
                <a:solidFill>
                  <a:srgbClr val="ffff00"/>
                </a:solidFill>
                <a:latin typeface="comic"/>
              </a:rPr>
              <a:t>احكام العقود </a:t>
            </a:r>
            <a:r>
              <a:rPr b="0" lang="ar-SA" sz="2400" spc="-1" strike="noStrike">
                <a:solidFill>
                  <a:srgbClr val="ffffff"/>
                </a:solidFill>
                <a:latin typeface="comic"/>
              </a:rPr>
              <a:t>ضمن خمسة أقسام في الكتاب الثاني منه المشتمل على خمسة أبواب ه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أول :</a:t>
            </a:r>
            <a:r>
              <a:rPr b="1" lang="ar-SA" sz="2400" spc="-1" strike="noStrike">
                <a:solidFill>
                  <a:srgbClr val="00b0f0"/>
                </a:solidFill>
                <a:latin typeface="comic"/>
              </a:rPr>
              <a:t>عقود التمليك, </a:t>
            </a:r>
            <a:r>
              <a:rPr b="0" lang="ar-SA" sz="2400" spc="-1" strike="noStrike">
                <a:solidFill>
                  <a:srgbClr val="00b0f0"/>
                </a:solidFill>
                <a:latin typeface="comic"/>
              </a:rPr>
              <a:t>وتشمل البيع والمقايضة والهبة والشركة والقرض والدخل الدائم والصلح.</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ني : </a:t>
            </a:r>
            <a:r>
              <a:rPr b="1" lang="ar-SA" sz="2400" spc="-1" strike="noStrike">
                <a:solidFill>
                  <a:srgbClr val="002060"/>
                </a:solidFill>
                <a:latin typeface="comic"/>
              </a:rPr>
              <a:t>عقود المنفعه, </a:t>
            </a:r>
            <a:r>
              <a:rPr b="0" lang="ar-SA" sz="2400" spc="-1" strike="noStrike">
                <a:solidFill>
                  <a:srgbClr val="002060"/>
                </a:solidFill>
                <a:latin typeface="comic"/>
              </a:rPr>
              <a:t>وتشمل الإجارة وانواعها كالمزارعة والمساقاة والمغارسة وإيجار الوقف وعقد الإعارة</a:t>
            </a:r>
            <a:r>
              <a:rPr b="0" lang="ar-SA" sz="2400" spc="-1" strike="noStrike">
                <a:solidFill>
                  <a:srgbClr val="ffffff"/>
                </a:solidFill>
                <a:latin typeface="comic"/>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لث: </a:t>
            </a:r>
            <a:r>
              <a:rPr b="1" lang="ar-SA" sz="2400" spc="-1" strike="noStrike">
                <a:solidFill>
                  <a:srgbClr val="ff0000"/>
                </a:solidFill>
                <a:latin typeface="comic"/>
              </a:rPr>
              <a:t>عقود العمل , </a:t>
            </a:r>
            <a:r>
              <a:rPr b="0" lang="ar-SA" sz="2400" spc="-1" strike="noStrike">
                <a:solidFill>
                  <a:srgbClr val="ff0000"/>
                </a:solidFill>
                <a:latin typeface="comic"/>
              </a:rPr>
              <a:t>وتشمل عقد العمل وعقد الوكالة, والوديعة والحراسة</a:t>
            </a:r>
            <a:r>
              <a:rPr b="0" lang="ar-SA" sz="2400" spc="-1" strike="noStrike">
                <a:solidFill>
                  <a:srgbClr val="ffffff"/>
                </a:solidFill>
                <a:latin typeface="comic"/>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رابع: </a:t>
            </a:r>
            <a:r>
              <a:rPr b="1" lang="ar-SA" sz="2400" spc="-1" strike="noStrike">
                <a:solidFill>
                  <a:srgbClr val="ffc000"/>
                </a:solidFill>
                <a:latin typeface="comic"/>
              </a:rPr>
              <a:t>عقود الغرر, </a:t>
            </a:r>
            <a:r>
              <a:rPr b="0" lang="ar-SA" sz="2400" spc="-1" strike="noStrike">
                <a:solidFill>
                  <a:srgbClr val="ffc000"/>
                </a:solidFill>
                <a:latin typeface="comic"/>
              </a:rPr>
              <a:t>وتشمل الرهان والمقامرة والراتب مدى الحيا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mic"/>
              </a:rPr>
              <a:t>أما الرهن فذكر مع الحقوق التبعية</a:t>
            </a:r>
            <a:r>
              <a:rPr b="0" lang="ar-SA" sz="2400" spc="-1" strike="noStrike">
                <a:solidFill>
                  <a:srgbClr val="ffffff"/>
                </a:solidFill>
                <a:latin typeface="comic"/>
              </a:rPr>
              <a:t>.</a:t>
            </a:r>
            <a:endParaRPr b="0" lang="en-US" sz="24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133272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mic"/>
              </a:rPr>
              <a:t>وأما هذا الكتاب فابحث فيه موضوعات مقرر المعاملات في سبعة أبواب وه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أول </a:t>
            </a:r>
            <a:r>
              <a:rPr b="0" lang="ar-SA" sz="2400" spc="-1" strike="noStrike">
                <a:solidFill>
                  <a:srgbClr val="ffffff"/>
                </a:solidFill>
                <a:latin typeface="comic"/>
              </a:rPr>
              <a:t>:عقود التمليك. أبحث فيه البيع وأنواعه والمقايضة والهبة والشركة والمضاربة والقرض والصلح.</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ني : </a:t>
            </a:r>
            <a:r>
              <a:rPr b="0" lang="ar-SA" sz="2400" spc="-1" strike="noStrike">
                <a:solidFill>
                  <a:srgbClr val="ffffff"/>
                </a:solidFill>
                <a:latin typeface="comic"/>
              </a:rPr>
              <a:t>عقود المنفعة , ذكر فيه الإجارة وأنواعه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لث: </a:t>
            </a:r>
            <a:r>
              <a:rPr b="0" lang="ar-SA" sz="2400" spc="-1" strike="noStrike">
                <a:solidFill>
                  <a:srgbClr val="ffffff"/>
                </a:solidFill>
                <a:latin typeface="comic"/>
              </a:rPr>
              <a:t>عقود العم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رابع: </a:t>
            </a:r>
            <a:r>
              <a:rPr b="0" lang="ar-SA" sz="2400" spc="-1" strike="noStrike">
                <a:solidFill>
                  <a:srgbClr val="ffffff"/>
                </a:solidFill>
                <a:latin typeface="comic"/>
              </a:rPr>
              <a:t>عقود التأمينات الشخص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خامس : </a:t>
            </a:r>
            <a:r>
              <a:rPr b="0" lang="ar-SA" sz="2400" spc="-1" strike="noStrike">
                <a:solidFill>
                  <a:srgbClr val="ffffff"/>
                </a:solidFill>
                <a:latin typeface="comic"/>
              </a:rPr>
              <a:t>الحقوق العينيه التب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سادس: </a:t>
            </a:r>
            <a:r>
              <a:rPr b="0" lang="ar-SA" sz="2400" spc="-1" strike="noStrike">
                <a:solidFill>
                  <a:srgbClr val="ffffff"/>
                </a:solidFill>
                <a:latin typeface="comic"/>
              </a:rPr>
              <a:t>اسباب كسب الملك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سابع: </a:t>
            </a:r>
            <a:r>
              <a:rPr b="0" lang="ar-SA" sz="2400" spc="-1" strike="noStrike">
                <a:solidFill>
                  <a:srgbClr val="ffffff"/>
                </a:solidFill>
                <a:latin typeface="comic"/>
              </a:rPr>
              <a:t>الحجر.</a:t>
            </a:r>
            <a:endParaRPr b="0" lang="en-US" sz="2400" spc="-1" strike="noStrike">
              <a:solidFill>
                <a:srgbClr val="ffff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0" y="9810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c000"/>
                </a:solidFill>
                <a:uFillTx/>
                <a:latin typeface="Calibri"/>
              </a:rPr>
              <a:t>البيع وأنواع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ويشتمل على المباحث الخمسة التال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اول – </a:t>
            </a:r>
            <a:r>
              <a:rPr b="1" lang="ar-SA" sz="2400" spc="-1" strike="noStrike">
                <a:solidFill>
                  <a:srgbClr val="ff0000"/>
                </a:solidFill>
                <a:latin typeface="Calibri"/>
              </a:rPr>
              <a:t>تعريف البيع ومشروعيته وأركان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ثاني – </a:t>
            </a:r>
            <a:r>
              <a:rPr b="1" lang="ar-SA" sz="2400" spc="-1" strike="noStrike">
                <a:solidFill>
                  <a:srgbClr val="ff0000"/>
                </a:solidFill>
                <a:latin typeface="Calibri"/>
              </a:rPr>
              <a:t>شروط البيع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ثالث –</a:t>
            </a:r>
            <a:r>
              <a:rPr b="1" lang="ar-SA" sz="2400" spc="-1" strike="noStrike">
                <a:solidFill>
                  <a:srgbClr val="ff0000"/>
                </a:solidFill>
                <a:latin typeface="Calibri"/>
              </a:rPr>
              <a:t>المبيع والثم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رابع – </a:t>
            </a:r>
            <a:r>
              <a:rPr b="1" lang="ar-SA" sz="2400" spc="-1" strike="noStrike">
                <a:solidFill>
                  <a:srgbClr val="ff0000"/>
                </a:solidFill>
                <a:latin typeface="Calibri"/>
              </a:rPr>
              <a:t>آثار البيع : التزامات البائع والتامات المش</a:t>
            </a:r>
            <a:r>
              <a:rPr b="1" lang="ar-SA" sz="2400" spc="-1" strike="noStrike">
                <a:solidFill>
                  <a:srgbClr val="ffffff"/>
                </a:solidFill>
                <a:latin typeface="Calibri"/>
              </a:rPr>
              <a:t>تر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خامس – </a:t>
            </a:r>
            <a:r>
              <a:rPr b="1" lang="ar-SA" sz="2400" spc="-1" strike="noStrike">
                <a:solidFill>
                  <a:srgbClr val="ff0000"/>
                </a:solidFill>
                <a:latin typeface="Calibri"/>
              </a:rPr>
              <a:t>بعض أنواع البيع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alibri"/>
              </a:rPr>
              <a:t>المبحث الأول – </a:t>
            </a:r>
            <a:r>
              <a:rPr b="1" lang="ar-SA" sz="2400" spc="-1" strike="noStrike" u="sng">
                <a:solidFill>
                  <a:srgbClr val="ffff00"/>
                </a:solidFill>
                <a:uFillTx/>
                <a:latin typeface="Calibri"/>
              </a:rPr>
              <a:t>تعريف البيع ومشروعيته وأركان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البيع لغة : مقابلة شيء بشيء </a:t>
            </a:r>
            <a:r>
              <a:rPr b="1" lang="ar-SA" sz="2400" spc="-1" strike="noStrike">
                <a:solidFill>
                  <a:srgbClr val="ffffff"/>
                </a:solidFill>
                <a:latin typeface="Calibri"/>
              </a:rPr>
              <a:t>, </a:t>
            </a:r>
            <a:r>
              <a:rPr b="1" lang="ar-SA" sz="2400" spc="-1" strike="noStrike">
                <a:solidFill>
                  <a:srgbClr val="00b050"/>
                </a:solidFill>
                <a:latin typeface="Calibri"/>
              </a:rPr>
              <a:t>واصطلاحا </a:t>
            </a:r>
            <a:r>
              <a:rPr b="1" lang="ar-SA" sz="2400" spc="-1" strike="noStrike">
                <a:solidFill>
                  <a:srgbClr val="ffffff"/>
                </a:solidFill>
                <a:latin typeface="Calibri"/>
              </a:rPr>
              <a:t>في قانون المعاملات الاماراتي وأصله الاردني : </a:t>
            </a:r>
            <a:r>
              <a:rPr b="1" lang="ar-SA" sz="2400" spc="-1" strike="noStrike">
                <a:solidFill>
                  <a:srgbClr val="00b050"/>
                </a:solidFill>
                <a:latin typeface="Calibri"/>
              </a:rPr>
              <a:t>هو مبادلة مال غير نقدي بمال نقدي , أي ان البيع هو مبادلة شيء عيني كمختلف الامتعه والسلع والعقارات والمنقولات والاشياء الماديه التي ليست لها صفة النقود بمال نقدي , أي بنقود رائجة بالتعامل </a:t>
            </a:r>
            <a:endParaRPr b="0" lang="en-US" sz="2400" spc="-1" strike="noStrike">
              <a:solidFill>
                <a:srgbClr val="ffffff"/>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مستطيل 1"/>
          <p:cNvSpPr/>
          <p:nvPr/>
        </p:nvSpPr>
        <p:spPr>
          <a:xfrm>
            <a:off x="357120" y="571680"/>
            <a:ext cx="8358120" cy="46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Arial"/>
                <a:cs typeface="Tahoma"/>
              </a:rPr>
              <a:t>والمال </a:t>
            </a:r>
            <a:r>
              <a:rPr b="1" lang="ar-SA" sz="2000" spc="-1" strike="noStrike">
                <a:solidFill>
                  <a:srgbClr val="ffffff"/>
                </a:solidFill>
                <a:latin typeface="Arial"/>
                <a:ea typeface="Tahoma"/>
              </a:rPr>
              <a:t>: </a:t>
            </a:r>
            <a:r>
              <a:rPr b="0" lang="ar-SA" sz="2000" spc="-1" strike="noStrike">
                <a:solidFill>
                  <a:srgbClr val="ffffff"/>
                </a:solidFill>
                <a:latin typeface="Arial"/>
                <a:cs typeface="Tahoma"/>
              </a:rPr>
              <a:t>هو </a:t>
            </a:r>
            <a:r>
              <a:rPr b="0" lang="ar-SA" sz="2000" spc="-1" strike="noStrike">
                <a:solidFill>
                  <a:srgbClr val="ffff00"/>
                </a:solidFill>
                <a:latin typeface="Arial"/>
                <a:cs typeface="Tahoma"/>
              </a:rPr>
              <a:t>كل ما له قيمة يضمنها متلفة عند الاعتداء عليه</a:t>
            </a:r>
            <a:r>
              <a:rPr b="0" lang="ar-SA" sz="2000" spc="-1" strike="noStrike">
                <a:solidFill>
                  <a:srgbClr val="ffffff"/>
                </a:solidFill>
                <a:latin typeface="Arial"/>
                <a:ea typeface="Tahoma"/>
              </a:rPr>
              <a:t> اما </a:t>
            </a:r>
            <a:r>
              <a:rPr b="0" lang="ar-SA" sz="2000" spc="-1" strike="noStrike">
                <a:solidFill>
                  <a:srgbClr val="ff0000"/>
                </a:solidFill>
                <a:latin typeface="Arial"/>
                <a:cs typeface="Tahoma"/>
              </a:rPr>
              <a:t>الشيء التافه الذي لا يقوم بمال كحبه حنطه وتراب وميتة ليس فيها مال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ahoma"/>
              </a:rPr>
              <a:t>والتعريف يدل عل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Tahoma"/>
              </a:rPr>
              <a:t>----  </a:t>
            </a:r>
            <a:r>
              <a:rPr b="0" lang="ar-SA" sz="2000" spc="-1" strike="noStrike">
                <a:solidFill>
                  <a:srgbClr val="ffff00"/>
                </a:solidFill>
                <a:latin typeface="Arial"/>
                <a:cs typeface="Tahoma"/>
              </a:rPr>
              <a:t>ان البيع معاوضة ليس بهب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ea typeface="Tahoma"/>
              </a:rPr>
              <a:t>---- وانه ناقل الملكية فليس عقد اجار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ea typeface="Tahoma"/>
              </a:rPr>
              <a:t>---- وان العوض فيه مبلغ من النقود فليس مقايض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ea typeface="Tahoma"/>
              </a:rPr>
              <a:t>----  وان بيع النقد بالنقد يسمى صرفا وان بيع الدين غير العين بالعين يسمى سلما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cs typeface="Tahoma"/>
              </a:rPr>
              <a:t>وعقد البيع من اهم العقود المسماة واخطرها واشهرها واكثرها انتشارا في الحياه العملية وهو اساس تبادل الحوائج والمصالح بين الناس قديما</a:t>
            </a:r>
            <a:r>
              <a:rPr b="0" lang="ar-SA" sz="2000" spc="-1" strike="noStrike">
                <a:solidFill>
                  <a:srgbClr val="ffffff"/>
                </a:solidFill>
                <a:latin typeface="Arial"/>
                <a:ea typeface="Tahoma"/>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ahoma"/>
              </a:rPr>
              <a:t>ومشروعية البيع ثابتة في القران والسنة والاجماع (( واشهدوا اذا تبايعتم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ahoma"/>
              </a:rPr>
              <a:t>فالعلماء اجمعوا على اجازة البيع ، فهو يقضي حوائج الناس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عنصر نائب للمحتوى 2"/>
          <p:cNvSpPr/>
          <p:nvPr/>
        </p:nvSpPr>
        <p:spPr>
          <a:xfrm>
            <a:off x="428760" y="4076640"/>
            <a:ext cx="8229600" cy="2424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مستطيل 1"/>
          <p:cNvSpPr/>
          <p:nvPr/>
        </p:nvSpPr>
        <p:spPr>
          <a:xfrm>
            <a:off x="179280" y="189000"/>
            <a:ext cx="8785440" cy="7593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ركان البيع او عناصرة الاساسية اربعة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البائع                                                     -- والمشتر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والصيغة                                                 --والمعقود عليه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لصيغة</a:t>
            </a:r>
            <a:r>
              <a:rPr b="1" lang="ar-SA" sz="1800" spc="-1" strike="noStrike">
                <a:solidFill>
                  <a:srgbClr val="ffffff"/>
                </a:solidFill>
                <a:latin typeface="Arial"/>
              </a:rPr>
              <a:t> </a:t>
            </a:r>
            <a:r>
              <a:rPr b="0" lang="ar-SA" sz="1800" spc="-1" strike="noStrike">
                <a:solidFill>
                  <a:srgbClr val="ffffff"/>
                </a:solidFill>
                <a:latin typeface="Arial"/>
              </a:rPr>
              <a:t>: </a:t>
            </a:r>
            <a:r>
              <a:rPr b="0" lang="ar-SA" sz="1800" spc="-1" strike="noStrike">
                <a:solidFill>
                  <a:srgbClr val="ffc000"/>
                </a:solidFill>
                <a:latin typeface="Arial"/>
              </a:rPr>
              <a:t>فهي الايجاب والقبول</a:t>
            </a:r>
            <a:r>
              <a:rPr b="0" lang="ar-SA" sz="1800" spc="-1" strike="noStrike">
                <a:solidFill>
                  <a:srgbClr val="ffffff"/>
                </a:solidFill>
                <a:latin typeface="Arial"/>
              </a:rPr>
              <a:t> : وهما كل تعبير عن الارادة يستعمل لانشاء العقد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f0"/>
                </a:solidFill>
                <a:latin typeface="Arial"/>
              </a:rPr>
              <a:t>والايجاب في رأي جمهور الفقهاء ( غير الحنفية ) هو ماصدر ممن يكون منه التمليك( البائع ) وان جاء متاخر </a:t>
            </a:r>
            <a:r>
              <a:rPr b="0" lang="ar-SA" sz="1800" spc="-1" strike="noStrike">
                <a:solidFill>
                  <a:srgbClr val="ffffff"/>
                </a:solidFill>
                <a:latin typeface="Arial"/>
              </a:rPr>
              <a:t>, فقول البائع بعت او قبلت هو ايجاب</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c000"/>
                </a:solidFill>
                <a:latin typeface="Arial"/>
              </a:rPr>
              <a:t> والقبول هو ماصدر ممن يصير له الملك( المشتري) وان صدر اولا ، </a:t>
            </a:r>
            <a:r>
              <a:rPr b="0" lang="ar-SA" sz="1800" spc="-1" strike="noStrike">
                <a:solidFill>
                  <a:srgbClr val="ffffff"/>
                </a:solidFill>
                <a:latin typeface="Arial"/>
              </a:rPr>
              <a:t> وقول المشتري اشتريت او رضيت هو قبول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2d050"/>
                </a:solidFill>
                <a:latin typeface="Arial"/>
              </a:rPr>
              <a:t>ومذهب الحنفية اعتبروا ما يصدر اولا من احد المتعاقدين البائع او المشتري ايجابا ، وما يصدر ثانيا من احدهم فهو قبول.</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الاصل تقدم الايجاب على القبول . </a:t>
            </a:r>
            <a:r>
              <a:rPr b="0" lang="ar-SA" sz="1800" spc="-1" strike="noStrike">
                <a:solidFill>
                  <a:srgbClr val="ffff00"/>
                </a:solidFill>
                <a:latin typeface="Arial"/>
              </a:rPr>
              <a:t>وقد يتم مخالفة هذا الاصل ، بأن يتم تقديم القبول على الايجاب وذلك بان يتقدم المشتري فيقول اشتريت منك هذا الشيء ، فيرد البائع بعتك ، وذلك بشرط ان تكون الصيغة بلفظ الماض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اما الصيغة التي بلفظ الامر ( اشتري مني ) او الاستفهام ( اتبيعني ) فهنا لا يجوز تقديم القبول على الايجاب .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تفقت الشرائع على ان مدار وجود العقد وتحققة :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و </a:t>
            </a:r>
            <a:r>
              <a:rPr b="0" lang="ar-SA" sz="1800" spc="-1" strike="noStrike">
                <a:solidFill>
                  <a:srgbClr val="ffff00"/>
                </a:solidFill>
                <a:latin typeface="Arial"/>
              </a:rPr>
              <a:t>صدور مايدل على التراضي من كلا الجانبين بإنشاء التزام بينهما وهذا يسمى صيغة العقد او التعبير عن الارادة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f0"/>
                </a:solidFill>
                <a:latin typeface="Arial"/>
              </a:rPr>
              <a:t>وينعقد البيع في رأي المالكية بكل مايدل على الرضا عرفا سواء كان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بصيغة الماضي مثل بعت اشتريت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و المضارع ابيع او اشتر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و بصيغة الطلب مثل بعني او اشترمن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و بمعاطاة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مستطيل 1"/>
          <p:cNvSpPr/>
          <p:nvPr/>
        </p:nvSpPr>
        <p:spPr>
          <a:xfrm>
            <a:off x="285840" y="260280"/>
            <a:ext cx="857232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Tahoma"/>
              </a:rPr>
              <a:t>بيع المعاطا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Tahoma"/>
              </a:rPr>
              <a:t>يجوز في رأي الجمهور ( غير الشافعية ) انعقاد البيع بالفعل وهو مايسمى بالمعاطاة او المراضا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ahoma"/>
              </a:rPr>
              <a:t>وهو ان </a:t>
            </a:r>
            <a:r>
              <a:rPr b="0" lang="ar-SA" sz="2400" spc="-1" strike="noStrike">
                <a:solidFill>
                  <a:srgbClr val="f7df56"/>
                </a:solidFill>
                <a:latin typeface="Arial"/>
                <a:cs typeface="Tahoma"/>
              </a:rPr>
              <a:t>يتفق المتعاقدان على ثمن ومثمن ويعطيا من غير ايجاب او قبول وقد يوجد لفظ من احدهما كأن يقول المشتري للبائع اعطني كذا فيعطيه البائع  او يقول البائع للمشتري خذ هذا فيأخذه المشتري ويقدم للبائع الثم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cs typeface="Tahoma"/>
              </a:rPr>
              <a:t>ومثل : عرض البضاعة مع كتابة سعرها عليها او الاعلان عنها في الصحف او على الجدران  او يكون بين سخصين تعامل سابق ويصدر من احدهما ايجاب ولا يرفضه الاخر فيكون قبولا وينعقد البيع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ahoma"/>
              </a:rPr>
              <a:t>وقد اجاز جماعه من </a:t>
            </a:r>
            <a:r>
              <a:rPr b="0" lang="ar-SA" sz="2400" spc="-1" strike="noStrike">
                <a:solidFill>
                  <a:srgbClr val="00b0f0"/>
                </a:solidFill>
                <a:latin typeface="Arial"/>
                <a:cs typeface="Tahoma"/>
              </a:rPr>
              <a:t>متأخري  الشافعية بيع المعاطاة في الاشياء الخسيسة غير النفيسة كرغيف وبقل , اما نفائس الاشياء كالاراضي والسيارات فلابد فيها من التراضي بالالفاظ صراحة وكنا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Tahoma"/>
              </a:rPr>
              <a:t>واجمع الفقهاء على ان الزواج لا ينعقد بالفعل ، بل لا بد من القول للقادر عليه ، لخطورة هذا العقد . </a:t>
            </a:r>
            <a:endParaRPr b="0" lang="en-US" sz="2400" spc="-1" strike="noStrike">
              <a:solidFill>
                <a:srgbClr val="ffffff"/>
              </a:solidFill>
              <a:latin typeface="Arial"/>
            </a:endParaRPr>
          </a:p>
        </p:txBody>
      </p:sp>
    </p:spTree>
  </p:cSld>
  <p:transition advTm="7000">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17:27:34Z</dcterms:created>
  <dc:creator>ACER</dc:creator>
  <dc:description/>
  <dc:language>en-US</dc:language>
  <cp:lastModifiedBy>Eiman shloul</cp:lastModifiedBy>
  <dcterms:modified xsi:type="dcterms:W3CDTF">2016-10-02T06:08:23Z</dcterms:modified>
  <cp:revision>15</cp:revision>
  <dc:subject/>
  <dc:title>الشريحة 1</dc:title>
</cp:coreProperties>
</file>