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F3EC4-0275-4028-A009-306FCCF4E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A3DC7-3BDF-4524-93A6-599E4E5E6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F1DE6-F38D-4F3E-B3BD-A0FA24237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C9A9C-927D-419F-98DD-209115CF5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D56096E-43DB-42B7-B1E2-A60A92091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830652-C512-4554-986A-CB544D1EE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7100E0-86E9-4CF9-A422-EBDA7CC02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AC3BD7-E35D-4C4E-8212-CAF6EA671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73AE66-CDC0-4DD2-A193-777453495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EA460F-C81E-4438-88F6-A6BB835BC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D682A9-9278-4CD3-81D3-506C3C45B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E81B9-51E3-4963-A4DC-143E8BA5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AE4AF7-620C-4568-95B5-A4B413A15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5A5C48-1E6B-4040-88EC-40B088C81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17F8D8-DEB7-424F-B46D-255D2A6C0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5FABC5-2110-4606-A35B-7D6578080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C2D467-4AA0-4095-BA20-24058292C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01777A8-E5E1-4A07-85F1-313528C57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6A390E-0919-4FDD-9A57-ECB341481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0C0BBF-654D-414D-84F0-ABAB7BBDB7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F3E14A-5E42-44EB-BAEB-2DBB8BE12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0A2FB0-8299-410D-8855-6FE0A3499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65622-5C4B-42ED-AA5E-1171DFC52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839C08-8880-4EF0-AB3C-8F28C0A3D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7D5623-5733-499A-B8DF-2007B6CA4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DF5B47-FFFD-4F70-888D-7F70D9A83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DB2EA9-7C3A-4E27-A348-117F623BF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E0F4C9-0939-4102-A921-BC8463C71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49E29D5-3E8A-4022-9942-0D20232A2C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324F59-BB7E-417B-85E0-04B0DD6E00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29A30C4-C487-4F6D-9966-BE591DBABE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871E20-3116-48A7-ACCD-5E8B45D4B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A1C415-E7D7-49EE-97B7-770B489E7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27F8B-B853-4C96-8C16-2D151B31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948D27-CCA3-4E70-B33E-AADBD2967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4D4A81-D955-4A06-BEF6-4CCC7662A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687365-4637-4DA5-9C61-8980246BC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B3AD82-5E1D-4932-BE39-5597F287F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C16C3D-EEFB-45BD-A822-EA4B61C2C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4811F5-89DD-41D9-A6EF-E9D6B0533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082B9B-9ECA-4F78-BBFE-FB02EC928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5331763-D347-4CD3-81A9-77E72F7D5B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280EDA-8914-49D2-BDA3-E22033F68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D74393-6184-45F8-BC4E-A65D11AB91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C336-3E8E-4CDB-847B-EE24602B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E229A-98EB-40C0-BB07-E550B57C6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61478-7D06-4A49-9E1D-3B05BE892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28A99-5ED3-4CFD-BBED-4716D3D181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C4193-BB7E-4E6D-84C4-5AEF1477F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A46BA6-6DB0-4B8E-A585-931539500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1C271-067A-4830-8970-3CCECCE69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9D24C-DB63-4F6C-BCD5-63A9615BD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F411A-CE19-40C2-BDA2-7956E256A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EED51-3136-425D-8021-55CBE83B5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80BA02-D3A2-496A-B12E-35F0B1C580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742F3-4AA8-4E3C-B7A4-747BBF69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EEC6AF-84E7-489B-B148-FE415579B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9871-5998-405A-9683-CFA66E4E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06C19-94D0-479D-8938-D01FB384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44FA-D960-458C-9F11-AEC40EFB0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3A14-CFA6-4616-AA81-D84B3124D26F}"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39B7-6765-4426-B1BE-8866C929E6EA}"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343080" indent="-343080" algn="r" rtl="1">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343080" indent="-343080" algn="r" rtl="1">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D4A2-5C1F-4038-8E70-BD427E3607D6}"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FF31-50B0-4452-8DFC-FFA9B2C3347B}"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ea typeface="Times New Roman"/>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ffffff"/>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226B-78CA-49A9-9396-94472E23B82B}" type="slidenum">
              <a:rPr b="1" lang="ar-SA" sz="1200" spc="-1" strike="noStrike">
                <a:solidFill>
                  <a:srgbClr val="ffffff"/>
                </a:solidFill>
                <a:latin typeface="Garamond"/>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0" y="1341360"/>
            <a:ext cx="9144000" cy="5516640"/>
          </a:xfrm>
          <a:prstGeom prst="rect">
            <a:avLst/>
          </a:prstGeom>
          <a:noFill/>
          <a:ln w="0">
            <a:noFill/>
          </a:ln>
        </p:spPr>
        <p:txBody>
          <a:bodyPr anchor="t">
            <a:normAutofit fontScale="91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Garamond"/>
                <a:cs typeface="Times New Roman"/>
              </a:rPr>
              <a:t>التزامات المشتري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يترتب على عقد البيع التزامات أخرى على عاتق المشتري تقابل التزامات البائع ؛لأن البيع عقد ملزم للجانبين ،وهذة الالتزامات ثلاثة :</a:t>
            </a:r>
            <a:endParaRPr b="0" lang="en-US" sz="2800" spc="-1" strike="noStrike">
              <a:solidFill>
                <a:srgbClr val="ffffff"/>
              </a:solidFill>
              <a:latin typeface="Garamond"/>
            </a:endParaRPr>
          </a:p>
          <a:p>
            <a:pPr algn="r" rtl="1">
              <a:lnSpc>
                <a:spcPct val="90000"/>
              </a:lnSpc>
              <a:spcBef>
                <a:spcPts val="601"/>
              </a:spcBef>
              <a:buClr>
                <a:srgbClr val="6f6f74"/>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الالتزام بدفع الثمن .</a:t>
            </a:r>
            <a:endParaRPr b="0" lang="en-US" sz="2800" spc="-1" strike="noStrike">
              <a:solidFill>
                <a:srgbClr val="ffffff"/>
              </a:solidFill>
              <a:latin typeface="Garamond"/>
            </a:endParaRPr>
          </a:p>
          <a:p>
            <a:pPr algn="r" rtl="1">
              <a:lnSpc>
                <a:spcPct val="90000"/>
              </a:lnSpc>
              <a:spcBef>
                <a:spcPts val="601"/>
              </a:spcBef>
              <a:buClr>
                <a:srgbClr val="6f6f74"/>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الالتزام بتسليم المبيع .</a:t>
            </a:r>
            <a:endParaRPr b="0" lang="en-US" sz="2800" spc="-1" strike="noStrike">
              <a:solidFill>
                <a:srgbClr val="ffffff"/>
              </a:solidFill>
              <a:latin typeface="Garamond"/>
            </a:endParaRPr>
          </a:p>
          <a:p>
            <a:pPr algn="r" rtl="1">
              <a:lnSpc>
                <a:spcPct val="90000"/>
              </a:lnSpc>
              <a:spcBef>
                <a:spcPts val="601"/>
              </a:spcBef>
              <a:buClr>
                <a:srgbClr val="6f6f74"/>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الالتزام بنفقات المبيع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Garamond"/>
                <a:cs typeface="Times New Roman"/>
              </a:rPr>
              <a:t>الالتزام الاول : الالتزام بدفع الثمن :</a:t>
            </a:r>
            <a:endParaRPr b="0" lang="en-US" sz="36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ابحث في هذا الالتزام مبدا الوفاء بالثمن وزمانه ومكانه ومؤيداته .اما الوفاء بالثمن فهو عنصر اساسي من عناصر البيع ، واهم التزام يقع على المشتري بموجب عقد البيع شرعا وقانونا ؛</a:t>
            </a:r>
            <a:r>
              <a:rPr b="1" lang="ar-SA" sz="2800" spc="-1" strike="noStrike">
                <a:solidFill>
                  <a:srgbClr val="ffff00"/>
                </a:solidFill>
                <a:latin typeface="Garamond"/>
                <a:cs typeface="Times New Roman"/>
              </a:rPr>
              <a:t>لانه عقد معاوضة ،وهو يقابل اهم التزام على البائع وهو تسليم المبيع ،اما نقل الملكية فهو شرعا حكم العقد واثره ،وقانونا هو الالتزام الاصلي للبائع .</a:t>
            </a:r>
            <a:endParaRPr b="0" lang="en-US" sz="2800" spc="-1" strike="noStrike">
              <a:solidFill>
                <a:srgbClr val="ffffff"/>
              </a:solidFill>
              <a:latin typeface="Garamond"/>
            </a:endParaRPr>
          </a:p>
        </p:txBody>
      </p:sp>
      <p:sp>
        <p:nvSpPr>
          <p:cNvPr id="216" name="PlaceHolder 1"/>
          <p:cNvSpPr>
            <a:spLocks noGrp="1"/>
          </p:cNvSpPr>
          <p:nvPr>
            <p:ph type="title"/>
          </p:nvPr>
        </p:nvSpPr>
        <p:spPr>
          <a:xfrm>
            <a:off x="2484360" y="259920"/>
            <a:ext cx="4114800" cy="701640"/>
          </a:xfrm>
          <a:prstGeom prst="rect">
            <a:avLst/>
          </a:prstGeom>
          <a:solidFill>
            <a:srgbClr val="ffffff"/>
          </a:solidFill>
          <a:ln w="76320">
            <a:solidFill>
              <a:srgbClr val="ffffff"/>
            </a:solidFill>
            <a:miter/>
          </a:ln>
        </p:spPr>
        <p:txBody>
          <a:bodyPr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Garamond"/>
              </a:rPr>
              <a:t>التزامات المشتري </a:t>
            </a:r>
            <a:endParaRPr b="1" lang="en-US" sz="18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1341360"/>
            <a:ext cx="9144000" cy="5516640"/>
          </a:xfrm>
          <a:prstGeom prst="rect">
            <a:avLst/>
          </a:prstGeom>
          <a:noFill/>
          <a:ln w="0">
            <a:noFill/>
          </a:ln>
        </p:spPr>
        <p:txBody>
          <a:bodyPr anchor="t">
            <a:normAutofit fontScale="93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نص القانون الإماراتي على حالة تنتج عن حبس المبيع وهي </a:t>
            </a:r>
            <a:r>
              <a:rPr b="1" lang="ar-SA" sz="2800" spc="-1" strike="noStrike">
                <a:solidFill>
                  <a:srgbClr val="00ff99"/>
                </a:solidFill>
                <a:latin typeface="Garamond"/>
                <a:cs typeface="Times New Roman"/>
              </a:rPr>
              <a:t>هلاك المبيع المحبوس لاستيفاء الثمن وما هي إلا تطبيق للقواعد العامة في تحمل التبعة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99"/>
                </a:solidFill>
                <a:latin typeface="Garamond"/>
                <a:ea typeface="Times New Roman"/>
              </a:rPr>
              <a:t>-- </a:t>
            </a:r>
            <a:r>
              <a:rPr b="1" lang="ar-SA" sz="2800" spc="-1" strike="noStrike">
                <a:solidFill>
                  <a:srgbClr val="ffffff"/>
                </a:solidFill>
                <a:latin typeface="Garamond"/>
                <a:cs typeface="Times New Roman"/>
              </a:rPr>
              <a:t>فإذا هلك المبيع في يد البائع وهو حابس له كان الهلاك على المشتري ما لم يكن المبيع قد هلك بفعل البائع .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Garamond"/>
                <a:cs typeface="Times New Roman"/>
              </a:rPr>
              <a:t>وذلك لأن المشتري يعتبر متسلماً للمبيع حكماً في حالات منها إذا حبس البائع المبيع لاستيفاء الثمن فإذا هلك المبيع في هذه الحالة قضاء وقدراً ودون فعل البائع فإنه يهلك على حساب المشتري لا البائع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Times New Roman"/>
              </a:rPr>
              <a:t>-- أما إذا هلك بفعل البائع أو تسببه فإنه يضمنه للمشتري بسبب تعديه ويتحمل أمامه المسؤولية التقصيرية وليست العقدية وهذا مأخوذ من المذهب الحنفي. </a:t>
            </a:r>
            <a:endParaRPr b="0" lang="en-US" sz="2800" spc="-1" strike="noStrike">
              <a:solidFill>
                <a:srgbClr val="ffffff"/>
              </a:solidFill>
              <a:latin typeface="Garamond"/>
            </a:endParaRPr>
          </a:p>
        </p:txBody>
      </p:sp>
      <p:sp>
        <p:nvSpPr>
          <p:cNvPr id="226" name="PlaceHolder 1"/>
          <p:cNvSpPr>
            <a:spLocks noGrp="1"/>
          </p:cNvSpPr>
          <p:nvPr>
            <p:ph type="title"/>
          </p:nvPr>
        </p:nvSpPr>
        <p:spPr>
          <a:xfrm>
            <a:off x="457200" y="274320"/>
            <a:ext cx="8229600" cy="850680"/>
          </a:xfrm>
          <a:prstGeom prst="rect">
            <a:avLst/>
          </a:prstGeom>
          <a:solidFill>
            <a:srgbClr val="ffffff"/>
          </a:solidFill>
          <a:ln w="76320">
            <a:solidFill>
              <a:srgbClr val="ffffff"/>
            </a:solidFill>
            <a:miter/>
          </a:ln>
        </p:spPr>
        <p:txBody>
          <a:bodyPr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Garamond"/>
              </a:rPr>
              <a:t>ما يتعلق بحبس المبيع(هلاك المبيع أثناء الحبس):</a:t>
            </a:r>
            <a:endParaRPr b="1" lang="en-US" sz="3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0" y="1341360"/>
            <a:ext cx="9144000" cy="5516640"/>
          </a:xfrm>
          <a:prstGeom prst="rect">
            <a:avLst/>
          </a:prstGeom>
          <a:noFill/>
          <a:ln w="0">
            <a:noFill/>
          </a:ln>
        </p:spPr>
        <p:txBody>
          <a:bodyPr anchor="t">
            <a:normAutofit fontScale="9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Garamond"/>
                <a:cs typeface="Times New Roman"/>
              </a:rPr>
              <a:t>الالتزام بتسلم المبي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يلتزم المشتري بتسلم المبيع في مقابل التزام البائع بالتسليم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cs typeface="Times New Roman"/>
              </a:rPr>
              <a:t>وقد صرح فقهاؤنا بأنه يجب على المشتري تسلم المبيع </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cs typeface="Times New Roman"/>
              </a:rPr>
              <a:t>ويتم التسلم بأن يضع المشتري يده فعلا على المبيع ويقبضه في حيازته </a:t>
            </a:r>
            <a:r>
              <a:rPr b="1" lang="ar-SA" sz="2400" spc="-1" strike="noStrike">
                <a:solidFill>
                  <a:srgbClr val="ffffff"/>
                </a:solidFill>
                <a:latin typeface="Garamond"/>
                <a:ea typeface="Times New Roman"/>
              </a:rPr>
              <a:t>, </a:t>
            </a:r>
            <a:r>
              <a:rPr b="1" lang="ar-SA" sz="2400" spc="-1" strike="noStrike">
                <a:solidFill>
                  <a:srgbClr val="edf1e7"/>
                </a:solidFill>
                <a:latin typeface="Garamond"/>
                <a:cs typeface="Times New Roman"/>
              </a:rPr>
              <a:t>ويختلف ذلك بحسب المبيع إن كان عقارا أو منقولا , أو ثمارا على الاشجار أو حيوانا أو مكيلا أو موزونا.</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a:t>
            </a:r>
            <a:r>
              <a:rPr b="1" lang="ar-SA" sz="2400" spc="-1" strike="noStrike">
                <a:solidFill>
                  <a:srgbClr val="ffff00"/>
                </a:solidFill>
                <a:latin typeface="Garamond"/>
                <a:cs typeface="Times New Roman"/>
              </a:rPr>
              <a:t>فتسلم العقار يكون بالحصول على المفاتيح وحرية التصرف فيه , وتسلم المنقول يتم بقبضه أو بمجرد حيازته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Garamond"/>
                <a:ea typeface="Times New Roman"/>
              </a:rPr>
              <a:t>-- وتسلم السيارة بتسلم مفاتيحها و اوراقها النظامية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ea typeface="Times New Roman"/>
              </a:rPr>
              <a:t>-- و قد يتم التسلم بأخذ المشتري سند الحق أو استعماله</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aramond"/>
                <a:ea typeface="Times New Roman"/>
              </a:rPr>
              <a:t>-- و قد يكون بترك المبيع بيد البائع بسبب جديد كالايجار أو الرهن .أو الايدا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ea typeface="Times New Roman"/>
              </a:rPr>
              <a:t>-- و قد يكون التسلم وفق اتفاق الطرفين أو بموجب العرف الجاري في امثاله</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1341360"/>
            <a:ext cx="9144000" cy="55166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و يجمع كل تلك الحالات ما يقوله فقهاؤنا عن </a:t>
            </a:r>
            <a:r>
              <a:rPr b="1" lang="ar-SA" sz="2800" spc="-1" strike="noStrike">
                <a:solidFill>
                  <a:srgbClr val="ff0000"/>
                </a:solidFill>
                <a:latin typeface="Garamond"/>
                <a:cs typeface="Times New Roman"/>
              </a:rPr>
              <a:t>التسليم و التسلم بالتخلية من البائع و القبض من المشتري ومتى حصل تسليم المبيع صار المشتري قابضاً له.</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cs typeface="Times New Roman"/>
              </a:rPr>
              <a:t>ويتحدد زمان ومكان التسلم والتسليم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ea typeface="Times New Roman"/>
              </a:rPr>
              <a:t>-- بالإتفاق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ea typeface="Times New Roman"/>
              </a:rPr>
              <a:t>-- أو العرف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والغالب أن يتم التسلم عقب لتسليم مباشرة و دون إبطاء إلا ما يقتضيه التسلم احيانا من زمن كتفريغ البضاعة من الناقلات.</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1412640"/>
            <a:ext cx="9144000" cy="5445000"/>
          </a:xfrm>
          <a:prstGeom prst="rect">
            <a:avLst/>
          </a:prstGeom>
          <a:noFill/>
          <a:ln w="0">
            <a:noFill/>
          </a:ln>
        </p:spPr>
        <p:txBody>
          <a:bodyPr anchor="t">
            <a:normAutofit fontScale="9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cs typeface="Times New Roman"/>
              </a:rPr>
              <a:t>ويقرر الفقه ان المشتري يلتزم بتسلم المبيع  من مكان وجوده</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لكن له الخيار بين فسخ البيع أو تسلم المبيع و إمضاء العقد في</a:t>
            </a:r>
            <a:r>
              <a:rPr b="1" lang="ar-SA" sz="2400" spc="-1" strike="noStrike">
                <a:solidFill>
                  <a:srgbClr val="ffffff"/>
                </a:solidFill>
                <a:latin typeface="Garamond"/>
              </a:rPr>
              <a:t>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ea typeface="Times New Roman"/>
              </a:rPr>
              <a:t>--  إذا كان ذلك المكان يحمل المشتري نفقات كثيرة لتسلم المبي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ea typeface="Times New Roman"/>
              </a:rPr>
              <a:t>--  ولم يكن يعلم بوجوده في ذلك المكان</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aramond"/>
                <a:cs typeface="Times New Roman"/>
              </a:rPr>
              <a:t>شرط التسليم:</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cs typeface="Times New Roman"/>
              </a:rPr>
              <a:t>يشترط أن يكون قبض المشتري المبيع  بإذن من البائ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ea typeface="Times New Roman"/>
              </a:rPr>
              <a:t>-- صراحة , كأن يقول له : تسلم الشيء</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ea typeface="Times New Roman"/>
              </a:rPr>
              <a:t>--  أو دلالة كأن يقبضه المشتري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 يقرر الفقه خلافا للقانون المدني الغربي أن المشتري يلزم بتسلم المبيع أثناء حضور البائع دون إعتراض منه , و إذا قبض المشتري المبيع قبل أداء الثمن بدون إذن البائع كان للبائع إسترداده.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341360"/>
            <a:ext cx="9144000" cy="5516640"/>
          </a:xfrm>
          <a:prstGeom prst="rect">
            <a:avLst/>
          </a:prstGeom>
          <a:noFill/>
          <a:ln w="0">
            <a:noFill/>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a:t>
            </a:r>
            <a:r>
              <a:rPr b="1" lang="ar-SA" sz="2400" spc="-1" strike="noStrike" u="sng">
                <a:solidFill>
                  <a:srgbClr val="ffc000"/>
                </a:solidFill>
                <a:uFillTx/>
                <a:latin typeface="Garamond"/>
                <a:cs typeface="Times New Roman"/>
              </a:rPr>
              <a:t>التسلم والتسليم حكما:</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18197"/>
                </a:solidFill>
                <a:uFillTx/>
                <a:latin typeface="Garamond"/>
                <a:ea typeface="Times New Roman"/>
              </a:rPr>
              <a:t> يعتبر المشتري متسلما المبيع حكماً في حالات منها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كما قدمنا حالة حبس البائع للمبيع لعدم أداء الثمن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ومنها إذا هلك أو تعيب المبيع في يد المشتري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ومنها اذا أتلف المشتري المبيع ولو بدون قصد.</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a:t>
            </a:r>
            <a:r>
              <a:rPr b="1" lang="ar-SA" sz="2400" spc="-1" strike="noStrike" u="sng">
                <a:solidFill>
                  <a:srgbClr val="ffc000"/>
                </a:solidFill>
                <a:uFillTx/>
                <a:latin typeface="Garamond"/>
                <a:cs typeface="Times New Roman"/>
              </a:rPr>
              <a:t>قبض السوم</a:t>
            </a:r>
            <a:r>
              <a:rPr b="1" lang="ar-SA" sz="2400" spc="-1" strike="noStrike">
                <a:solidFill>
                  <a:srgbClr val="ffffff"/>
                </a:solidFill>
                <a:latin typeface="Garamond"/>
                <a:ea typeface="Times New Roman"/>
              </a:rPr>
              <a:t>: </a:t>
            </a:r>
            <a:r>
              <a:rPr b="1" lang="ar-SA" sz="2400" spc="-1" strike="noStrike">
                <a:solidFill>
                  <a:srgbClr val="81955b"/>
                </a:solidFill>
                <a:latin typeface="Garamond"/>
                <a:cs typeface="Times New Roman"/>
              </a:rPr>
              <a:t>اذا قبض المشتري شيئا على سوم الشراء وهلك او فقد في يده وكان الثمن مسمى لزمه اداؤه ، وان لم يسمى الثمن فلا ضمان على المشتري الا بالتعدي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Garamond"/>
                <a:cs typeface="Times New Roman"/>
              </a:rPr>
              <a:t>وتعريفه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أن يقبض الانسان شيئاً لينظره أو يشتريه وهو نوعان : قبض على سوم النظر وقبض على سوم الشراء.</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1341360"/>
            <a:ext cx="9144000" cy="5516640"/>
          </a:xfrm>
          <a:prstGeom prst="rect">
            <a:avLst/>
          </a:prstGeom>
          <a:noFill/>
          <a:ln w="0">
            <a:noFill/>
          </a:ln>
        </p:spPr>
        <p:txBody>
          <a:bodyPr anchor="t">
            <a:normAutofit fontScale="8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1955b"/>
                </a:solidFill>
                <a:uFillTx/>
                <a:latin typeface="Garamond"/>
                <a:cs typeface="Times New Roman"/>
              </a:rPr>
              <a:t>الأول: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هو أن يأخذ الإنسان شيئاً بإذن صاحبه لينظره أو يريه دون أن يصرح بأنه يريد شراءه , وحينئذ يكون المقبوض أمانة في يد القابض مطلقاً , سواء بين صاحبه له ثمنا عند التسليم أو لم يبين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aramond"/>
                <a:cs typeface="Times New Roman"/>
              </a:rPr>
              <a:t>فإذا هلك في يد القابض بلا تعد أو تقصير في حفظه يهلك من حساب صاحبه , لا قابضه , لأن عدم التصريح بالشراء يدل على قصد الترغيب بالبيع.</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1955b"/>
                </a:solidFill>
                <a:uFillTx/>
                <a:latin typeface="Garamond"/>
                <a:cs typeface="Times New Roman"/>
              </a:rPr>
              <a:t>والثاني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a:t>
            </a:r>
            <a:r>
              <a:rPr b="1" lang="ar-SA" sz="2400" spc="-1" strike="noStrike">
                <a:solidFill>
                  <a:srgbClr val="ffff00"/>
                </a:solidFill>
                <a:latin typeface="Garamond"/>
                <a:cs typeface="Times New Roman"/>
              </a:rPr>
              <a:t>وهو القبض على سوم الشراء : هو إن يقول المشتري مثلا للبائع اعطنيه لانظره , فان اعجبني اشترينه وحينئذ: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Garamond"/>
                <a:ea typeface="Times New Roman"/>
              </a:rPr>
              <a:t>-- إن اتفق على الثمن , كأن يقول البائع : ثمن السياره الف دينار , خذها فان اعجبتك اشترها , كان المقبوض مضمونا على القابض , إن بيان الثمن مع التصريح بالشراء يفيد إن صاحبه لم يسلمه الا على اساس الضمان كالمبي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aramond"/>
                <a:ea typeface="Times New Roman"/>
              </a:rPr>
              <a:t>-- وان لم يبين للمقبوض ثمن عند القبض كان امانه كالمقبوض على سوم النظر</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12640"/>
            <a:ext cx="9144000" cy="5445000"/>
          </a:xfrm>
          <a:prstGeom prst="rect">
            <a:avLst/>
          </a:prstGeom>
          <a:noFill/>
          <a:ln w="0">
            <a:noFill/>
          </a:ln>
        </p:spPr>
        <p:txBody>
          <a:bodyPr anchor="t">
            <a:normAutofit fontScale="91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Garamond"/>
                <a:cs typeface="Times New Roman"/>
              </a:rPr>
              <a:t>جزاء عدم تسلم المبيع: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اذا لم يقم المشتري بتسلم المبيع في الزمان والمكان المحدد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Garamond"/>
                <a:ea typeface="Times New Roman"/>
              </a:rPr>
              <a:t>-- أنذره البائع لتسليم الثمن وتسلم المبيع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ea typeface="Times New Roman"/>
              </a:rPr>
              <a:t>-- فان لم يفعل اعتبر المبيع شرعا و قانونا قد تم تسليمه حكما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Garamond"/>
                <a:ea typeface="Times New Roman"/>
              </a:rPr>
              <a:t>-- و يكون هلاكه على عهدة المشتري و ضمانه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Garamond"/>
                <a:ea typeface="Times New Roman"/>
              </a:rPr>
              <a:t>-- كما يحق للبائع أن يطلب من القاضي اجبار المشتري على التسلم </a:t>
            </a:r>
            <a:r>
              <a:rPr b="1" lang="ar-SA" sz="3200" spc="-1" strike="noStrike">
                <a:solidFill>
                  <a:srgbClr val="00ffff"/>
                </a:solidFill>
                <a:latin typeface="Garamond"/>
                <a:ea typeface="Times New Roman"/>
              </a:rPr>
              <a:t>-- فان رفض , طلب فسخ البيع.</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1341360"/>
            <a:ext cx="9144000" cy="5516640"/>
          </a:xfrm>
          <a:prstGeom prst="rect">
            <a:avLst/>
          </a:prstGeom>
          <a:noFill/>
          <a:ln w="0">
            <a:noFill/>
          </a:ln>
        </p:spPr>
        <p:txBody>
          <a:bodyPr anchor="t">
            <a:normAutofit fontScale="95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نصت المادة </a:t>
            </a:r>
            <a:r>
              <a:rPr b="1" lang="ar-SA" sz="2400" spc="-1" strike="noStrike">
                <a:solidFill>
                  <a:srgbClr val="ffffff"/>
                </a:solidFill>
                <a:latin typeface="Garamond"/>
                <a:ea typeface="Times New Roman"/>
              </a:rPr>
              <a:t>566</a:t>
            </a:r>
            <a:r>
              <a:rPr b="1" lang="ar-SA" sz="2400" spc="-1" strike="noStrike">
                <a:solidFill>
                  <a:srgbClr val="ffffff"/>
                </a:solidFill>
                <a:latin typeface="Garamond"/>
                <a:ea typeface="Times New Roman"/>
              </a:rPr>
              <a:t> اماراتي م </a:t>
            </a:r>
            <a:r>
              <a:rPr b="1" lang="ar-SA" sz="2400" spc="-1" strike="noStrike">
                <a:solidFill>
                  <a:srgbClr val="ffffff"/>
                </a:solidFill>
                <a:latin typeface="Garamond"/>
                <a:ea typeface="Times New Roman"/>
              </a:rPr>
              <a:t>530</a:t>
            </a:r>
            <a:r>
              <a:rPr b="1" lang="ar-SA" sz="2400" spc="-1" strike="noStrike">
                <a:solidFill>
                  <a:srgbClr val="ffffff"/>
                </a:solidFill>
                <a:latin typeface="Garamond"/>
                <a:ea typeface="Times New Roman"/>
              </a:rPr>
              <a:t> اردني اخذا من المذهب الحنيفي على </a:t>
            </a:r>
            <a:r>
              <a:rPr b="1" lang="ar-SA" sz="2800" spc="-1" strike="noStrike" u="sng">
                <a:solidFill>
                  <a:srgbClr val="00b0f0"/>
                </a:solidFill>
                <a:uFillTx/>
                <a:latin typeface="Garamond"/>
                <a:cs typeface="Times New Roman"/>
              </a:rPr>
              <a:t>نوع حق البائع في المبيع</a:t>
            </a:r>
            <a:r>
              <a:rPr b="1" lang="ar-SA" sz="2400" spc="-1" strike="noStrike">
                <a:solidFill>
                  <a:srgbClr val="ffffff"/>
                </a:solidFill>
                <a:latin typeface="Garamond"/>
                <a:ea typeface="Times New Roman"/>
              </a:rPr>
              <a:t>, </a:t>
            </a:r>
            <a:r>
              <a:rPr b="1" lang="ar-SA" sz="2400" spc="-1" strike="noStrike">
                <a:solidFill>
                  <a:srgbClr val="ff0000"/>
                </a:solidFill>
                <a:latin typeface="Garamond"/>
                <a:cs typeface="Times New Roman"/>
              </a:rPr>
              <a:t>اهو حق عيني ام شخصي</a:t>
            </a:r>
            <a:r>
              <a:rPr b="1" lang="ar-SA" sz="2400" spc="-1" strike="noStrike">
                <a:solidFill>
                  <a:srgbClr val="ffffff"/>
                </a:solidFill>
                <a:latin typeface="Garamond"/>
                <a:ea typeface="Times New Roman"/>
              </a:rPr>
              <a:t>, </a:t>
            </a:r>
            <a:r>
              <a:rPr b="1" lang="ar-SA" sz="2400" spc="-1" strike="noStrike">
                <a:solidFill>
                  <a:srgbClr val="ffff00"/>
                </a:solidFill>
                <a:latin typeface="Garamond"/>
                <a:cs typeface="Times New Roman"/>
              </a:rPr>
              <a:t>اذا مات المشتري مفلسا, والمبيع قائم في تركته او في يد البائع, في الاحوال التالية</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1</a:t>
            </a:r>
            <a:r>
              <a:rPr b="1" lang="ar-SA" sz="2400" spc="-1" strike="noStrike">
                <a:solidFill>
                  <a:srgbClr val="ffffff"/>
                </a:solidFill>
                <a:latin typeface="Garamond"/>
                <a:ea typeface="Times New Roman"/>
              </a:rPr>
              <a:t>-اذا تسلم المشتري المبيع, ثم مات مفلسا قبل اداء الثمن, فليس للبائع استرداد المبيع, ويصبح الثمن ديناً على التركة , ويكون البائع كسائر الغرماء, أي ان حقه حينئذ </a:t>
            </a:r>
            <a:r>
              <a:rPr b="1" lang="ar-SA" sz="2400" spc="-1" strike="noStrike" u="sng">
                <a:solidFill>
                  <a:srgbClr val="ffff00"/>
                </a:solidFill>
                <a:uFillTx/>
                <a:latin typeface="Garamond"/>
                <a:cs typeface="Times New Roman"/>
              </a:rPr>
              <a:t>حق شخصي.</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2</a:t>
            </a:r>
            <a:r>
              <a:rPr b="1" lang="ar-SA" sz="2400" spc="-1" strike="noStrike">
                <a:solidFill>
                  <a:srgbClr val="ffffff"/>
                </a:solidFill>
                <a:latin typeface="Garamond"/>
                <a:ea typeface="Times New Roman"/>
              </a:rPr>
              <a:t>-واذا مات المشتري مفلسا قبل تسليم المبيع واداء الثمن, كان للبائع حبس المبيع حتى يستوفي الثمن من التركه, ويكون احق من سائر الغرماء, وهذا يعني ان حقه عليه </a:t>
            </a:r>
            <a:r>
              <a:rPr b="1" lang="ar-SA" sz="2400" spc="-1" strike="noStrike" u="sng">
                <a:solidFill>
                  <a:srgbClr val="ffff00"/>
                </a:solidFill>
                <a:uFillTx/>
                <a:latin typeface="Garamond"/>
                <a:cs typeface="Times New Roman"/>
              </a:rPr>
              <a:t>حق عيني ما دام في يده.</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3</a:t>
            </a:r>
            <a:r>
              <a:rPr b="1" lang="ar-SA" sz="2400" spc="-1" strike="noStrike">
                <a:solidFill>
                  <a:srgbClr val="ffffff"/>
                </a:solidFill>
                <a:latin typeface="Garamond"/>
                <a:ea typeface="Times New Roman"/>
              </a:rPr>
              <a:t>-واذا قبض البائع الثمن, ومات مفلسا قبل تسليم المبيع, كان المبيع امانه في يده, والمشتري احق عليه من سائر الغرماء؛ لان حقه عليه </a:t>
            </a:r>
            <a:r>
              <a:rPr b="1" lang="ar-SA" sz="2400" spc="-1" strike="noStrike" u="sng">
                <a:solidFill>
                  <a:srgbClr val="ffff00"/>
                </a:solidFill>
                <a:uFillTx/>
                <a:latin typeface="Garamond"/>
                <a:cs typeface="Times New Roman"/>
              </a:rPr>
              <a:t>حق عيني.</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1341360"/>
            <a:ext cx="9144000" cy="5516640"/>
          </a:xfrm>
          <a:prstGeom prst="rect">
            <a:avLst/>
          </a:prstGeom>
          <a:noFill/>
          <a:ln w="0">
            <a:noFill/>
          </a:ln>
        </p:spPr>
        <p:txBody>
          <a:bodyPr anchor="t">
            <a:normAutofit fontScale="98000"/>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نصت </a:t>
            </a:r>
            <a:r>
              <a:rPr b="1" lang="ar-SA" sz="2400" spc="-1" strike="noStrike">
                <a:solidFill>
                  <a:srgbClr val="ffffff"/>
                </a:solidFill>
                <a:latin typeface="Garamond"/>
                <a:ea typeface="Times New Roman"/>
              </a:rPr>
              <a:t>567</a:t>
            </a:r>
            <a:r>
              <a:rPr b="1" lang="ar-SA" sz="2400" spc="-1" strike="noStrike">
                <a:solidFill>
                  <a:srgbClr val="ffffff"/>
                </a:solidFill>
                <a:latin typeface="Garamond"/>
                <a:ea typeface="Times New Roman"/>
              </a:rPr>
              <a:t> اماراتي م </a:t>
            </a:r>
            <a:r>
              <a:rPr b="1" lang="ar-SA" sz="2400" spc="-1" strike="noStrike">
                <a:solidFill>
                  <a:srgbClr val="ffffff"/>
                </a:solidFill>
                <a:latin typeface="Garamond"/>
                <a:ea typeface="Times New Roman"/>
              </a:rPr>
              <a:t>531</a:t>
            </a:r>
            <a:r>
              <a:rPr b="1" lang="ar-SA" sz="2400" spc="-1" strike="noStrike">
                <a:solidFill>
                  <a:srgbClr val="ffffff"/>
                </a:solidFill>
                <a:latin typeface="Garamond"/>
                <a:ea typeface="Times New Roman"/>
              </a:rPr>
              <a:t> اردني اخذا من المذهب الحنيفي  على ان:</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ea typeface="Times New Roman"/>
              </a:rPr>
              <a:t>--  نفقات تسليم الثمن وعقد البيع وتسجيله وغير ذلك من نفقات, تكون على المشتري. </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Garamond"/>
                <a:ea typeface="Times New Roman"/>
              </a:rPr>
              <a:t>-- ونفقات تسليم المبيع تكون على البائع, ما لم يوجد اتفاق او نص قانوني او عرف على خلاف ذلك</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c000"/>
                </a:solidFill>
                <a:uFillTx/>
                <a:latin typeface="Garamond"/>
                <a:cs typeface="Times New Roman"/>
              </a:rPr>
              <a:t>اولا : كل ما يحتاجه تسليم المبيع يكون على حساب البائع, مثل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اجرة نقل المبيع من مكان التسليم,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جرة شحنه,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لرسوم الجمركية اذا اريد نقلة من بلد الى اخر,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جرة الكيال و الوزان واخراج البضاعة من المستودعات,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جرة الدال(السمسار)؛ </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cs typeface="Times New Roman"/>
              </a:rPr>
              <a:t>لان كل ذلك مما يتوقف عليه تنفيذ التزام البائع بتسليم المبيع, وما لا يتم الواجب الا به فهو واجب.</a:t>
            </a:r>
            <a:endParaRPr b="0" lang="en-US" sz="2400" spc="-1" strike="noStrike">
              <a:solidFill>
                <a:srgbClr val="ffffff"/>
              </a:solidFill>
              <a:latin typeface="Garamond"/>
            </a:endParaRPr>
          </a:p>
        </p:txBody>
      </p:sp>
      <p:sp>
        <p:nvSpPr>
          <p:cNvPr id="235" name="PlaceHolder 1"/>
          <p:cNvSpPr>
            <a:spLocks noGrp="1"/>
          </p:cNvSpPr>
          <p:nvPr>
            <p:ph type="title"/>
          </p:nvPr>
        </p:nvSpPr>
        <p:spPr>
          <a:xfrm>
            <a:off x="1618920" y="188640"/>
            <a:ext cx="6048360" cy="701640"/>
          </a:xfrm>
          <a:prstGeom prst="rect">
            <a:avLst/>
          </a:prstGeom>
          <a:solidFill>
            <a:srgbClr val="ffffff"/>
          </a:solidFill>
          <a:ln w="76320">
            <a:solidFill>
              <a:srgbClr val="ffffff"/>
            </a:solidFill>
            <a:miter/>
          </a:ln>
        </p:spPr>
        <p:txBody>
          <a:bodyPr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Garamond"/>
              </a:rPr>
              <a:t>التزام المشتري بالنفقات </a:t>
            </a:r>
            <a:endParaRPr b="1" lang="en-US" sz="40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1341360"/>
            <a:ext cx="9144000" cy="5516640"/>
          </a:xfrm>
          <a:prstGeom prst="rect">
            <a:avLst/>
          </a:prstGeom>
          <a:noFill/>
          <a:ln w="0">
            <a:noFill/>
          </a:ln>
        </p:spPr>
        <p:txBody>
          <a:bodyPr anchor="t">
            <a:normAutofit fontScale="95000"/>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Garamond"/>
                <a:cs typeface="Times New Roman"/>
              </a:rPr>
              <a:t>وكل ما يتوقف عليه تسليم الثمن يكون على حساب المشتري وحده, مثل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اجرة عد النقود ووزنها وما اشبه ذلك,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نفقة كل ما يحتاج من الثمن الى حمل ومؤونة,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اجرة كتابة السندات وصكوك المبيعات,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كذلك رسوم التسجيل في البيوع العقارية اليوم,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اجور تسيير معاملاتها.</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cs typeface="Times New Roman"/>
              </a:rPr>
              <a:t>اما الضرائب المستحقة على العقار قبل البيع, فهي على البائع؛ لانها ليس ناشئه عن عقد الشراء. </a:t>
            </a:r>
            <a:endParaRPr b="0" lang="en-US" sz="32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1341360"/>
            <a:ext cx="9144000" cy="5516640"/>
          </a:xfrm>
          <a:prstGeom prst="rect">
            <a:avLst/>
          </a:prstGeom>
          <a:noFill/>
          <a:ln w="0">
            <a:noFill/>
          </a:ln>
        </p:spPr>
        <p:txBody>
          <a:bodyPr anchor="t">
            <a:normAutofit fontScale="8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والواجب على المشتري أخذاً بمذهبي الحنفية والمالكية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دفع الثمن أولاً عند التعاقد وقبل تسليم المبيع أو المطالبة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به </a:t>
            </a:r>
            <a:r>
              <a:rPr b="1" lang="ar-SA" sz="3600" spc="-1" strike="noStrike">
                <a:solidFill>
                  <a:srgbClr val="ffffff"/>
                </a:solidFill>
                <a:latin typeface="Garamond"/>
                <a:ea typeface="Times New Roman"/>
              </a:rPr>
              <a:t>, </a:t>
            </a:r>
            <a:r>
              <a:rPr b="1" lang="ar-SA" sz="3600" spc="-1" strike="noStrike">
                <a:solidFill>
                  <a:srgbClr val="ff0000"/>
                </a:solidFill>
                <a:latin typeface="Garamond"/>
                <a:cs typeface="Times New Roman"/>
              </a:rPr>
              <a:t>مالم يتفق على غير ذلك لقوله صلى الله عليه وسلم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ea typeface="Times New Roman"/>
              </a:rPr>
              <a:t>(الدين مقضي)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cs typeface="Times New Roman"/>
              </a:rPr>
              <a:t>فلو تأخر تسليم الثمن عن تسليم المبيع لم يكن هذا الدين مقضياً , ثم يجب على البائع تسليم  المبيع ,اذا طالبة المشتري ,حتى يتحقق التساوي بينهما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0" y="1341360"/>
            <a:ext cx="9144000" cy="551664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زمان أداء الثمن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cs typeface="Times New Roman"/>
              </a:rPr>
              <a:t>الأصل فيه أن يكون عند التعاقد بأن يدفع فوراً , ودفعة واحدة بعد التعاقد , مالم يتفق على غير ذلك</a:t>
            </a:r>
            <a:r>
              <a:rPr b="1" lang="ar-SA" sz="3200" spc="-1" strike="noStrike">
                <a:solidFill>
                  <a:srgbClr val="ffffff"/>
                </a:solidFill>
                <a:latin typeface="Garamond"/>
                <a:ea typeface="Times New Roman"/>
              </a:rPr>
              <a:t>,</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Times New Roman"/>
              </a:rPr>
              <a:t>--  كأن يتفق المتعاقدان على تأجيل الثمن كله أو بعضه الى المستقبل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Times New Roman"/>
              </a:rPr>
              <a:t>--  أو يكون أداؤه تقسيطاً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Garamond"/>
                <a:cs typeface="Times New Roman"/>
              </a:rPr>
              <a:t>وإذا لم يتفق على كيفية أداء الثمن , يحتكم إلى العرف العام بين الناس أو الخاص بفئة معينة من التجار أو الصناع عملاً بالقاعدة الشرعية ( المعروف عرفاً كالمشروط شرطاً ) أو التعيين بالعرف كالتعيين بالنص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1341360"/>
            <a:ext cx="9144000" cy="5516640"/>
          </a:xfrm>
          <a:prstGeom prst="rect">
            <a:avLst/>
          </a:prstGeom>
          <a:noFill/>
          <a:ln w="0">
            <a:noFill/>
          </a:ln>
        </p:spPr>
        <p:txBody>
          <a:bodyPr anchor="t">
            <a:normAutofit fontScale="84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وإذا كان الثمن مؤجلاً أو مقسطاً وقد تم دفع القسط الأول منه , فيطالب البائع بتسليم المبيع , قبل قبض كامل الثمن </a:t>
            </a:r>
            <a:r>
              <a:rPr b="1" lang="ar-SA" sz="2800" spc="-1" strike="noStrike">
                <a:solidFill>
                  <a:srgbClr val="c00000"/>
                </a:solidFill>
                <a:latin typeface="Garamond"/>
                <a:cs typeface="Times New Roman"/>
              </a:rPr>
              <a:t>إلا إذا وجد اتفاق على غير ذلك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f0"/>
                </a:solidFill>
                <a:uFillTx/>
                <a:latin typeface="Garamond"/>
                <a:cs typeface="Times New Roman"/>
              </a:rPr>
              <a:t>وللمشتري تأخير الثمن في حالتين مأخوذتان من المذهب الحنفي :</a:t>
            </a:r>
            <a:endParaRPr b="0" lang="en-US" sz="32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u="sng">
                <a:solidFill>
                  <a:srgbClr val="8d6974"/>
                </a:solidFill>
                <a:uFillTx/>
                <a:latin typeface="Garamond"/>
                <a:cs typeface="Times New Roman"/>
              </a:rPr>
              <a:t>الأولى :  حالة دعوى الاستحقاق : </a:t>
            </a:r>
            <a:endParaRPr b="0" lang="en-US" sz="35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وهي أن ترفع دعوى على المشتري أو البائع أو عليهما معاً , تتضمن المطالبة بالمبيع لأنه حق للمدعي . </a:t>
            </a:r>
            <a:r>
              <a:rPr b="1" lang="ar-SA" sz="2800" spc="-1" strike="noStrike">
                <a:solidFill>
                  <a:srgbClr val="92d050"/>
                </a:solidFill>
                <a:latin typeface="Garamond"/>
                <a:cs typeface="Times New Roman"/>
              </a:rPr>
              <a:t>فإذا رفعت على المشتري هذه الدعوى , وكان الحق سابقاً على عقد البيع أو آيلاً إليه  من البائع نفسه , جاز للمشتري أن يحتبس الثمن عنده , حتى يقدم له البائع كفيلاً مليئاً يضمن للمشتري رد الثمن  عند ثبوت الاستحقاق </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Garamond"/>
                <a:cs typeface="Times New Roman"/>
              </a:rPr>
              <a:t>وللبائع أن يطلب إلى المحكمة  تكليف المشتري إيداع الثمن لديها بدلاً من تقديم الكفيل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0" y="1341000"/>
            <a:ext cx="9144000" cy="530244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a4f57"/>
                </a:solidFill>
                <a:uFillTx/>
                <a:latin typeface="Garamond"/>
                <a:cs typeface="Times New Roman"/>
              </a:rPr>
              <a:t>الثانية : حالة ظهور العيب في المبيع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إذا ظهر بالمبيع عيب قديم مضمون على البائع , يؤدي إلى نقص قيمة  المبيع , </a:t>
            </a:r>
            <a:r>
              <a:rPr b="1" lang="ar-SA" sz="2800" spc="-1" strike="noStrike">
                <a:solidFill>
                  <a:srgbClr val="00b050"/>
                </a:solidFill>
                <a:latin typeface="Garamond"/>
                <a:cs typeface="Times New Roman"/>
              </a:rPr>
              <a:t>ثبت للمشتري الحق في حبس الثمن , والامتناع عن دفعه , والتأخر  في أدائه إذا لم يكن قد أداه سابقاً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Garamond"/>
                <a:cs typeface="Times New Roman"/>
              </a:rPr>
              <a:t>ومكان أداء الثمن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هو أنه يجب تسديده في مكان وجود المبيع وقت العقد </a:t>
            </a:r>
            <a:r>
              <a:rPr b="1" lang="ar-SA" sz="2800" spc="-1" strike="noStrike">
                <a:solidFill>
                  <a:srgbClr val="ffffff"/>
                </a:solidFill>
                <a:latin typeface="Garamond"/>
                <a:ea typeface="Times New Roman"/>
              </a:rPr>
              <a:t>, </a:t>
            </a:r>
            <a:r>
              <a:rPr b="1" lang="ar-SA" sz="2800" spc="-1" strike="noStrike">
                <a:solidFill>
                  <a:srgbClr val="ffc000"/>
                </a:solidFill>
                <a:latin typeface="Garamond"/>
                <a:cs typeface="Times New Roman"/>
              </a:rPr>
              <a:t>مالم يوجد اتفاق أو عرف يغاير ذلك .</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Garamond"/>
                <a:cs typeface="Times New Roman"/>
              </a:rPr>
              <a:t>وإذا كان الثمن مؤجلاً ولم يتفق المتعاقدان على الوفاء به  في مكان معين لزم أداؤه في موطن المشتري وقت جلول  الأجل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0" y="1341360"/>
            <a:ext cx="9144000" cy="5516640"/>
          </a:xfrm>
          <a:prstGeom prst="rect">
            <a:avLst/>
          </a:prstGeom>
          <a:noFill/>
          <a:ln w="0">
            <a:noFill/>
          </a:ln>
        </p:spPr>
        <p:txBody>
          <a:bodyPr anchor="t">
            <a:normAutofit fontScale="8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Garamond"/>
                <a:cs typeface="Times New Roman"/>
              </a:rPr>
              <a:t>مؤيدات وضمانات دفع الثمن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هي ثلاثة : التنفيذ الجبري , فسخ البيع , حبس المبيع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f0"/>
                </a:solidFill>
                <a:uFillTx/>
                <a:latin typeface="Garamond"/>
                <a:cs typeface="Times New Roman"/>
              </a:rPr>
              <a:t>أولا:  التنفيذ العيني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ba4ab"/>
                </a:solidFill>
                <a:latin typeface="Garamond"/>
                <a:cs typeface="Times New Roman"/>
              </a:rPr>
              <a:t>هو وإن لم ينص عليه القانون , فهو مقرر لاستيفاء الثمن على وفق القواعد العامة في تنفيذ الالتزامات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وقد قرر الفقه الإسلامي أنه يجبر المشتري على دفع الثمن  قضاء , إن امتنع عن أدائه في الوقت المستحق أو تأخر عن التسليم لأن الثمن أصبح ديناً في ذمة المشتري , ويجب  وفاء الدين وإبراء الذمة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cs typeface="Times New Roman"/>
              </a:rPr>
              <a:t>فإن امتنع المدين فللقاضي أن  يبع من متاع المشتري شيئاً لوفاء الثمن .</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Garamond"/>
                <a:cs typeface="Times New Roman"/>
              </a:rPr>
              <a:t>ولا يجوز للقاضي إمهال المشتري في دفع الثمن مالم يكن المشتري معسراً لا يقدر على الوفاء أخذاً بنظرية الميسرة في الإسلام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0" y="1341360"/>
            <a:ext cx="9144000" cy="551664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f0"/>
                </a:solidFill>
                <a:uFillTx/>
                <a:latin typeface="Garamond"/>
                <a:cs typeface="Times New Roman"/>
              </a:rPr>
              <a:t>ثانيا : فسخ البيع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Garamond"/>
                <a:cs typeface="Times New Roman"/>
              </a:rPr>
              <a:t>نص القانون الاماراتي والاردني على حالة خاصة لفسخ البيع اذا لم يؤد الثمن وهي </a:t>
            </a:r>
            <a:r>
              <a:rPr b="1" lang="ar-SA" sz="2600" spc="-1" strike="noStrike">
                <a:solidFill>
                  <a:srgbClr val="92d050"/>
                </a:solidFill>
                <a:latin typeface="Garamond"/>
                <a:cs typeface="Times New Roman"/>
              </a:rPr>
              <a:t>انه اذا حدد في البيع موعد معين لأداء الثمن واشترط فيه انه اذا لم يؤد المشتري الثمن خلاله فلا بيع بينهما فإن لم يؤده والمبيع لم يزل في يد البائع اعتبر البيع مفسوخاً حكماً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Garamond"/>
                <a:cs typeface="Times New Roman"/>
              </a:rPr>
              <a:t>ففسخ البيع ناشئ عن اتفاق الطرفين عليه في حالة كون المبيع لم يزل في يد البائع.</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aramond"/>
                <a:cs typeface="Times New Roman"/>
              </a:rPr>
              <a:t>وقد أجاز فقهاؤنا اتفاق المتبايعين على اشتراط أداة الثمن في وقت معين فإن لم يدفعه المشتري فلا بيع بينهما سواء أكان المبيع عقاراً ام منقولاً </a:t>
            </a:r>
            <a:r>
              <a:rPr b="1" lang="ar-SA" sz="2600" spc="-1" strike="noStrike">
                <a:solidFill>
                  <a:srgbClr val="ffff00"/>
                </a:solidFill>
                <a:latin typeface="Garamond"/>
                <a:cs typeface="Times New Roman"/>
              </a:rPr>
              <a:t>ويسمى(خيار النقد)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ff"/>
                </a:solidFill>
                <a:latin typeface="Garamond"/>
                <a:cs typeface="Times New Roman"/>
              </a:rPr>
              <a:t>فإن لم يؤد المشتري الثمن في المدة المعينة كان البيع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ff"/>
                </a:solidFill>
                <a:latin typeface="Garamond"/>
                <a:ea typeface="Times New Roman"/>
              </a:rPr>
              <a:t>-- </a:t>
            </a:r>
            <a:r>
              <a:rPr b="1" lang="ar-SA" sz="2600" spc="-1" strike="noStrike">
                <a:solidFill>
                  <a:srgbClr val="ffffff"/>
                </a:solidFill>
                <a:latin typeface="Garamond"/>
                <a:cs typeface="Times New Roman"/>
              </a:rPr>
              <a:t>فاسداً عند الحنفية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Garamond"/>
                <a:ea typeface="Times New Roman"/>
              </a:rPr>
              <a:t>-- وقال الحنابلة وبعض الحنفية: ينفسخ البيع إن لم ينقذه الثمن.</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680" y="1341360"/>
            <a:ext cx="9144000" cy="5516640"/>
          </a:xfrm>
          <a:prstGeom prst="rect">
            <a:avLst/>
          </a:prstGeom>
          <a:noFill/>
          <a:ln w="0">
            <a:noFill/>
          </a:ln>
        </p:spPr>
        <p:txBody>
          <a:bodyPr anchor="t">
            <a:normAutofit fontScale="9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99"/>
                </a:solidFill>
                <a:latin typeface="Garamond"/>
                <a:cs typeface="Times New Roman"/>
              </a:rPr>
              <a:t>ولكن لم يجز الفقه الإسلامي في رأي الجمهور فسخ البيع بصفة عامة لعدم أداء الثمن فقال الفقهاء: لا يفسخ البيع لعدم دفع المشتري الثمن بل يجبر المشتري على دفع الثمن</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وأجاز متأخرو الحنابلة الفسخ بمماطلة المشتري بالثمن ولو كان موسراً.</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فإن تعذر دفع الثمن لسبب ما كغياب المشتري ولا مال له:</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Times New Roman"/>
              </a:rPr>
              <a:t>--  فيخير البائع بين الانتظار وفسخ البيع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Times New Roman"/>
              </a:rPr>
              <a:t>-- وإن كان المشتري مفلساً فللبائع الفسخ في الحا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1341360"/>
            <a:ext cx="9144000" cy="551664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f0"/>
                </a:solidFill>
                <a:uFillTx/>
                <a:latin typeface="Garamond"/>
                <a:cs typeface="Times New Roman"/>
              </a:rPr>
              <a:t>ثالثا : حبس المبيع عند البائع ::</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Times New Roman"/>
              </a:rPr>
              <a:t>فأجازه القانون الإماراتي أردني أخذ برأي </a:t>
            </a:r>
            <a:r>
              <a:rPr b="1" lang="ar-SA" sz="2200" spc="-1" strike="noStrike">
                <a:solidFill>
                  <a:srgbClr val="ffff00"/>
                </a:solidFill>
                <a:latin typeface="Garamond"/>
                <a:cs typeface="Times New Roman"/>
              </a:rPr>
              <a:t>جمهور الفقهاء غير الحنابلة كمؤيد جزائي لاستيفاء الثمن ليتمكن البائع من حمل المشتري على إيفاء الثمن وليستوفي البائع ما هو مستحق له من الثمن ولو قدم المشتري رهناً أو كفالة .</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bba4ab"/>
                </a:solidFill>
                <a:latin typeface="Garamond"/>
                <a:cs typeface="Times New Roman"/>
              </a:rPr>
              <a:t>ويثبت للبائع حق حبس المبيع لاستيفاء الثمن إذا كان الثمن مستحق الدفع بأن يكون الثمن كله حالاً أو بعضه حالاً فيحق للبائع أن يحبس المبيع عنده والامتناع من تسليمه إلى المشتري حتى يستوفي كامل الثمن أو يستوفي القسط المعجل منه .</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Times New Roman"/>
              </a:rPr>
              <a:t>ويبقى حق البائع في حبس المبيع حتى ولو قدم المشتري للبائع رهناً أو كفيلاً بالثمن لأن حقه في الاستيفاء حال.</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aramond"/>
                <a:cs typeface="Times New Roman"/>
              </a:rPr>
              <a:t>فإن كان الثمن مؤجلاً أو مقسطاً وقبض البائع القسط المعجل منه فلا يحق للبائع حبس المبيع ويلتزم بتسليمه للمشتري.</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2d050"/>
                </a:solidFill>
                <a:latin typeface="Garamond"/>
                <a:cs typeface="Times New Roman"/>
              </a:rPr>
              <a:t>وحق البائع في حبس المبيع لا يتجزأ فلو تسلم بعض الثمن أو أكثره وبقي أقله فلا يسقط حقه في حبس المبيع حتى يستوفي جميع الثمن ولا يحق للمشتري أن يطلب تسليم بعض المبيع المقابل لما دفعه من الثمن لكن قيد القانون ذلك بقوله: </a:t>
            </a:r>
            <a:r>
              <a:rPr b="1" lang="ar-SA" sz="2200" spc="-1" strike="noStrike">
                <a:solidFill>
                  <a:srgbClr val="00ff99"/>
                </a:solidFill>
                <a:latin typeface="Garamond"/>
                <a:cs typeface="Times New Roman"/>
              </a:rPr>
              <a:t>إذا ترتب على تجزئة المبيع نقص في قيمته </a:t>
            </a:r>
            <a:r>
              <a:rPr b="1" lang="ar-SA" sz="2200" spc="-1" strike="noStrike">
                <a:solidFill>
                  <a:srgbClr val="92d050"/>
                </a:solidFill>
                <a:latin typeface="Garamond"/>
                <a:ea typeface="Times New Roman"/>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9T06:52:15Z</dcterms:created>
  <dc:creator>المستخدم</dc:creator>
  <dc:description/>
  <dc:language>en-US</dc:language>
  <cp:lastModifiedBy>GCUSER</cp:lastModifiedBy>
  <dcterms:modified xsi:type="dcterms:W3CDTF">2016-11-24T08:47:50Z</dcterms:modified>
  <cp:revision>47</cp:revision>
  <dc:subject/>
  <dc:title>موانع الرد بالعيب وسقوط الضمان:</dc:title>
</cp:coreProperties>
</file>