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move the slide</a:t>
            </a:r>
            <a:endParaRPr b="0" lang="en-US" sz="3200" spc="-1" strike="noStrike">
              <a:solidFill>
                <a:srgbClr val="000000"/>
              </a:solidFill>
              <a:latin typeface="Gill Sans MT"/>
            </a:endParaRPr>
          </a:p>
        </p:txBody>
      </p:sp>
      <p:sp>
        <p:nvSpPr>
          <p:cNvPr id="5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F902F-DDF1-4EED-8AC9-874C35955D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71600" y="1143000"/>
            <a:ext cx="41148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F99F9-24F4-44FF-A16C-8F9166FE03E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1600" y="1143000"/>
            <a:ext cx="41148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AA27B-E042-443E-A0A2-5124B108CDC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71600" y="1143000"/>
            <a:ext cx="41148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F8196-1039-4650-A1CD-A660D0F6A6F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71600" y="1143000"/>
            <a:ext cx="41148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617C7-A03B-4244-8A46-8D7F0879596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71600" y="1143000"/>
            <a:ext cx="41148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B6E51-73DD-4E1D-B7A3-D2B3DF76768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371600" y="1143000"/>
            <a:ext cx="41148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A5EE5-C9E9-4063-B293-64298EBDC99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371600" y="1143000"/>
            <a:ext cx="41148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84068-111E-47C2-8FE0-A1FB996D69D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371600" y="1143000"/>
            <a:ext cx="41148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E658B-8AF5-447D-B86D-1F37AC634EB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371600" y="1143000"/>
            <a:ext cx="41148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516B2-2295-4792-B421-D4A1B477864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371600" y="1143000"/>
            <a:ext cx="41148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9DB43-B19D-471D-92A1-D74DE57FAE6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1143000"/>
            <a:ext cx="41148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8AC03-23EE-4D68-A3AB-83B879263F2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371600" y="1143000"/>
            <a:ext cx="41148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1A0D9-932E-4894-AA65-A5E9E5DFB5F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62154-0838-49F4-AE7C-09C1F1928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1B3F-4599-45CE-ACBE-3558AF231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F74D9-4B8B-4461-8260-C48CE8443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95891-F659-43ED-B424-5BDD1FB50D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4ED80-313C-4BF0-B47D-9397DBF3B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9BE57-CC22-4487-98D1-A841EDB36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53916-59F8-4DED-80CA-8F35F6D61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08359-5235-4511-B3A0-5F73EDC47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C5AF4-E79E-4ABF-8220-15B562BB56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568DE5-4CA4-42C5-9640-7DEF1647DE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B82493-9AED-43BE-AC2F-91EDDE877D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348D5B-13D3-4557-83BA-867290A2F5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07230-71F7-499B-929A-2663172F3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5EE9CD-B358-4D38-8EB8-41E2BCFD3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6D9174-D8D8-4AC7-ADDF-2FDC3058CE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72D653-DF09-4D68-9D10-C6B1CBF7AE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99336E-52A5-42FA-9F99-496BE1D325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5F7C2D-9BBC-4C42-9000-6E2736C6B4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B5373B-C64B-4AFC-9D1A-B2C992D412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08E181-9DD8-4418-BC3C-5F31401E9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4C9A64-87D5-4EA4-B5D3-D93696BAE0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7853D7-B537-4F7C-A3DE-DC67D4B5F4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117D83-B331-47C7-8DF6-C3713FE6BC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D726C-06B4-471A-B702-703F48E5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854955-B960-45FE-B841-E4705CADBA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2DE88E-0E30-43B5-A7A4-CC938D2371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D15967-9AAF-494B-82BB-4D75D655B4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92C63E-9707-4B47-AD56-DBDA5DC1C0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C9DEE-9554-43E1-B0CA-7F8CD9B92B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E518D2-BC5C-4293-96B1-C128D9C081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6BAEBF-1281-4EE3-8EA8-7E525E38F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D3EB5D-22E7-435E-B681-700F58AFA3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C361F-6455-47E3-B635-28F155340F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D203E1-66B7-4615-8546-5C5A4F4FCF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65D38-7F42-43A9-B1A7-F9BAAD547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58FF32-75CE-4EA7-B405-724670EF6F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ACEE21-DC77-49B3-86C6-C551F8B1CE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425612-B40E-4450-A8BA-D878169F85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CA0AF-5B13-41B6-8AAD-F4915E8DD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C7520-8D1A-48DD-A922-AF27B9116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4316F-C63D-4965-A2C9-CBDB289BF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652ED-571E-43FA-AC10-6459BEAA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F128F-BF59-44C1-A265-0FE500415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3714C-6B7B-4102-B541-ACC7A3CA6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5FF75-B695-4E52-BC01-1A8DDA9D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6DBC-2228-44CD-8732-DB3B3A07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8BB0D-5575-413E-BFDE-EC3359F15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0B01E-D8EC-48E7-99C7-114B519A9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CD54F-9101-4492-9E9A-D30E0E263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C8EB6-DE4D-449D-808B-F326D3640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1B739D-1A09-4DEF-8E83-3C4F0DDEA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1F111-8B63-48B0-AFF0-5A453C817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01AF0-F6A7-4AA3-99C2-0FCBFAF63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9EDAE-4E2D-4C16-8936-F3BC21FEB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3F162-2590-4952-B420-264BD47C6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84EFF-95AF-4FAC-8C6B-8B958740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DEED9-1B38-4EE0-AFBE-00092681F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64430-7B7A-4C75-9C27-1F93663BD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0153C-0622-4F64-AD88-787C384D9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51FB8-CF1D-4EEB-B7DF-2BF16B231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E1BD4-BC9A-4452-B8E5-CAEBAC046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54AAC-9798-4975-8155-E109CC014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3D0B9A-8AA5-44D0-B059-161EDACC7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EAB682-64BD-4694-AB21-89A2D6FA9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F8595-844B-4252-B01B-D3F964E12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AAA4D-5D79-4FD9-937D-1CE35A6DC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7035-4BCE-4468-9AF6-053807B5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C1517-957C-4A5F-98FD-9A7300D80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6D7E3-2083-4146-AC64-B61DF3D1C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1B14B-3A13-46C4-9E75-3912A1EFE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F56A3-924D-4AD9-AE5D-DC45C4F7D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6DEEC-FE26-4774-9149-7B0297EB6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24E59-1945-4AB2-8C7F-153A559B1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93242-2AB3-41C8-B2EE-5D8144AF8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06189F-2726-4086-96B1-9335B1CED1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EDEA1-6C78-4331-A314-F0B4C530FD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3EE6C-8204-4735-91E8-0F8FBDF1F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9558-5102-4A37-AE3D-89EC0A114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99C6E9-2C96-45BA-98BD-81ECC91FA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C4C05-9968-4372-BD95-B413A9AD0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46579-09FE-4534-8BEA-04B870943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E3D0C-C743-41CA-8950-13F613B30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AC2BE-4680-4A5E-A19A-6E41C9A42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5A1CD-4A9E-4E9B-81D8-967A41421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2E1C7-66FE-4271-82FF-D3E934B82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C9542-4FAF-4F19-881F-4FE747266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B2058-D08E-4875-ABE7-71AEA7C27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FBDA8-1C0E-4324-B55E-47F5C2A58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3A615-1AAF-40E0-8C68-6103B5EE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BF05A-F00E-4DE3-A87A-BAC5E9659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F2B8AD-4184-47E5-A42B-E168ACF847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8B112-7E44-4505-B7E4-E2DC4808E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4E0DC-F6F3-49D0-AB55-BDDCDAD8A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560D5-91B3-4F0E-81B1-D67BDD386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5F0BE8-039E-4F94-A6EC-61B036D8E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9FA4E-101E-47FF-B327-A9516C6FF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D35B3-CAA6-4D8B-A746-CD2DDED870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89E73-0560-4F6B-9E4C-0B4796DF1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DBCAD-BC3B-4D12-81B5-1435B1F89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CB9D-864A-44AD-8907-C575EE70B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4FE76-F2BD-4387-ABF5-66354B52D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081F9E-76D1-4F7D-A603-36901ACF9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AA2663-AB45-4962-B757-E5A3D975E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0E11E4-1134-4C99-99A9-E62AE63AF2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0C6A0-00AB-482D-9BF6-CD209568B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54BED-6041-4927-A53B-569AFF225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0A7DD-546E-4183-99B9-D0F54C750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505E8-7F16-4360-8339-5898FC19E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3B141-28AD-4B5B-B231-B3BE84646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52084-E1F2-43FD-8225-D87F7DE96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528E-64C7-41D6-B66C-E1B63F57D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CBE27-24BA-47E4-90C7-1868EBBD1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2143A-C19E-4163-A797-83C4FB8FB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A8CD81-F27D-4E6E-A8BD-A161DDB7E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385F9-B6D5-4028-A86F-15AC26FAA3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ECE3B-90C0-4837-915F-B298EC245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46D21E-6119-4554-858A-1EE91757C1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4C510-15D9-4D24-BAF2-7E94E9CF9D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BC8AB-8137-4E2A-B3FB-856258F1B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E677C-D73F-478A-8A1D-EA1230038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FA65A8-B712-47C8-8515-7CF59DEA72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9BA4-56F9-44B6-898B-74089EA1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3769CA-5588-4739-BC11-62CB660840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83656-FAB6-4028-BDD0-9AE3C4309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CD5604-ABBA-4936-88FE-B4BB91DDC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67AAF-4E94-4860-A0E6-151ACA808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2340BD-9FCB-42C7-A48E-C0ACD9296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D7E834-25C9-48EC-8B24-CA7112A8C8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91E84B-6CD9-4167-9F08-46005378CA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F97F44-0ADC-4355-B7AD-911061E39B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83B4FA-33E0-4190-BF99-AFA81E6E2C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8FD348-EBED-4DA3-9821-706C235790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F1445-6544-4451-A0A7-24049E1C5AF7}"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86CC5-C664-4F25-BB7C-3D3E63292BD4}"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0"/>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3A306-48BD-40D2-A857-532401D798A6}"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0"/>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E494A-6717-425D-B401-48A8518DA560}"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14885-8EDF-48FC-A134-A292EF15DF7A}"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0"/>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BF5B9-C589-4996-A0BE-64730F655393}"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C3000-E422-4E6E-B3A0-F122816FB6D3}"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1F498-4196-4F5E-B1B1-5E92655EABAA}"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6A8D7-E1E1-472E-B4B4-E6FA076469E5}"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0"/>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85F20-6142-4E52-A885-4488404A1367}"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91120" y="500400"/>
                <a:ext cx="3310920" cy="488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480"/>
              <a:ext cx="2799360" cy="4321800"/>
              <a:chOff x="5346360" y="771480"/>
              <a:chExt cx="2799360" cy="4321800"/>
            </a:xfrm>
          </p:grpSpPr>
          <p:pic>
            <p:nvPicPr>
              <p:cNvPr id="367" name="Rectangle 14" descr=""/>
              <p:cNvPicPr/>
              <p:nvPr/>
            </p:nvPicPr>
            <p:blipFill>
              <a:blip r:embed="rId5"/>
              <a:stretch/>
            </p:blipFill>
            <p:spPr>
              <a:xfrm>
                <a:off x="5346360" y="771480"/>
                <a:ext cx="2799360" cy="4321800"/>
              </a:xfrm>
              <a:prstGeom prst="rect">
                <a:avLst/>
              </a:prstGeom>
              <a:ln w="0">
                <a:noFill/>
              </a:ln>
            </p:spPr>
          </p:pic>
          <p:sp>
            <p:nvSpPr>
              <p:cNvPr id="368" name=""/>
              <p:cNvSpPr/>
              <p:nvPr/>
            </p:nvSpPr>
            <p:spPr>
              <a:xfrm>
                <a:off x="5388840" y="813240"/>
                <a:ext cx="2718720" cy="424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15"/>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50E95-CEB9-4EDC-A839-0E6714CDFBE6}"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071800" y="357120"/>
            <a:ext cx="7772400" cy="1470240"/>
          </a:xfrm>
          <a:prstGeom prst="rect">
            <a:avLst/>
          </a:prstGeom>
          <a:noFill/>
          <a:ln w="0">
            <a:noFill/>
          </a:ln>
        </p:spPr>
        <p:txBody>
          <a:bodyPr bIns="0" anchor="b">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000" spc="-1" strike="noStrike">
                <a:solidFill>
                  <a:srgbClr val="891631"/>
                </a:solidFill>
                <a:latin typeface="Gill Sans MT"/>
                <a:cs typeface="Times New Roman"/>
              </a:rPr>
              <a:t>الفصل الثاني </a:t>
            </a:r>
            <a:br>
              <a:rPr sz="4000"/>
            </a:br>
            <a:r>
              <a:rPr b="0" lang="ar-SA" sz="4000" spc="-1" strike="noStrike">
                <a:solidFill>
                  <a:srgbClr val="891631"/>
                </a:solidFill>
                <a:latin typeface="Gill Sans MT"/>
                <a:cs typeface="Times New Roman"/>
              </a:rPr>
              <a:t>فرع المعاشات </a:t>
            </a:r>
            <a:br>
              <a:rPr sz="4000"/>
            </a:br>
            <a:r>
              <a:rPr b="0" lang="ar-SA" sz="4000" spc="-1" strike="noStrike">
                <a:solidFill>
                  <a:srgbClr val="891631"/>
                </a:solidFill>
                <a:latin typeface="Gill Sans MT"/>
                <a:cs typeface="Times New Roman"/>
              </a:rPr>
              <a:t>ص </a:t>
            </a:r>
            <a:r>
              <a:rPr b="0" lang="ar-SA" sz="4000" spc="-1" strike="noStrike">
                <a:solidFill>
                  <a:srgbClr val="891631"/>
                </a:solidFill>
                <a:latin typeface="Gill Sans MT"/>
                <a:ea typeface="Times New Roman"/>
              </a:rPr>
              <a:t>221</a:t>
            </a:r>
            <a:endParaRPr b="0" lang="en-US" sz="4000" spc="-1" strike="noStrike">
              <a:solidFill>
                <a:srgbClr val="000000"/>
              </a:solidFill>
              <a:latin typeface="Gill Sans MT"/>
            </a:endParaRPr>
          </a:p>
        </p:txBody>
      </p:sp>
      <p:sp>
        <p:nvSpPr>
          <p:cNvPr id="509" name="PlaceHolder 2"/>
          <p:cNvSpPr>
            <a:spLocks noGrp="1"/>
          </p:cNvSpPr>
          <p:nvPr>
            <p:ph type="subTitle"/>
          </p:nvPr>
        </p:nvSpPr>
        <p:spPr>
          <a:xfrm>
            <a:off x="1000080" y="2786040"/>
            <a:ext cx="7758000" cy="3571920"/>
          </a:xfrm>
          <a:prstGeom prst="rect">
            <a:avLst/>
          </a:prstGeom>
          <a:noFill/>
          <a:ln w="0">
            <a:noFill/>
          </a:ln>
        </p:spPr>
        <p:txBody>
          <a:bodyPr tIns="91440" bIns="91440" anchor="t">
            <a:noAutofit/>
          </a:bodyPr>
          <a:p>
            <a:pPr indent="0"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سوف نتناول دراسة الأحكام والقواعد المنظمة لمعاشات الشيخوخة ، ومستحقات العجز غير المهني والحقوق التأمينية في حالة الوفاة ، وذلك على النحو التالي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معاشات الشيخوخة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ea typeface="Arial"/>
              </a:rPr>
              <a:t> معاشات العجز غير المهني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الحقوق التأمينية في حالة الوفاة </a:t>
            </a:r>
            <a:endParaRPr b="0" lang="en-US" sz="1800" spc="-1" strike="noStrike">
              <a:solidFill>
                <a:srgbClr val="000000"/>
              </a:solidFill>
              <a:latin typeface="Gill Sans MT"/>
            </a:endParaRPr>
          </a:p>
        </p:txBody>
      </p:sp>
      <p:pic>
        <p:nvPicPr>
          <p:cNvPr id="510" name="Picture 2" descr="نتيجة بحث الصور عن التأمينات و الضمان">
            <a:hlinkClick r:id="rId1"/>
          </p:cNvPr>
          <p:cNvPicPr/>
          <p:nvPr/>
        </p:nvPicPr>
        <p:blipFill>
          <a:blip r:embed="rId2"/>
          <a:stretch/>
        </p:blipFill>
        <p:spPr>
          <a:xfrm>
            <a:off x="285840" y="285840"/>
            <a:ext cx="3047760" cy="22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5c0f21"/>
                </a:solidFill>
                <a:latin typeface="Gill Sans MT"/>
                <a:cs typeface="Times New Roman"/>
              </a:rPr>
              <a:t>كيفية احتساب المعاش </a:t>
            </a:r>
            <a:endParaRPr b="0" lang="en-US" sz="3200" spc="-1" strike="noStrike">
              <a:solidFill>
                <a:srgbClr val="000000"/>
              </a:solidFill>
              <a:latin typeface="Gill Sans MT"/>
            </a:endParaRPr>
          </a:p>
        </p:txBody>
      </p:sp>
      <p:sp>
        <p:nvSpPr>
          <p:cNvPr id="533" name=""/>
          <p:cNvSpPr txBox="1"/>
          <p:nvPr/>
        </p:nvSpPr>
        <p:spPr>
          <a:xfrm>
            <a:off x="1442520" y="2015640"/>
            <a:ext cx="6572520" cy="3449880"/>
          </a:xfrm>
          <a:prstGeom prst="rect">
            <a:avLst/>
          </a:prstGeom>
          <a:noFill/>
          <a:ln w="0">
            <a:noFill/>
          </a:ln>
        </p:spPr>
        <p:txBody>
          <a:bodyPr anchor="t">
            <a:normAutofit fontScale="91000"/>
          </a:bodyPr>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عتبر الأجر ومدة الاشتراك هما العنصران الأساسيان لتقدير المعاش.</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الأجر هو كل ما يحصل عليه المؤمن عليه من مقابل نقدي من جهة عمله الأصلية.</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تم احتساب المعاش على أساس متوسط أجر المؤمن عليه في السنتين الأخيرتين.</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تم تحديد متوسط الأجور الشهرية للمستفيد بأنه عبارة عن جزء من مجموع الأجور الخاضعة للاشتراك طوال الأربعة والعشرين شهرا الأخيرة من مدة الاشترا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900" spc="-1" strike="noStrike">
                <a:solidFill>
                  <a:srgbClr val="5c0f21"/>
                </a:solidFill>
                <a:latin typeface="Gill Sans MT"/>
                <a:cs typeface="Times New Roman"/>
              </a:rPr>
              <a:t>حالات خاصة لمعاش الشيخوخة </a:t>
            </a:r>
            <a:br>
              <a:rPr sz="2900"/>
            </a:br>
            <a:br>
              <a:rPr sz="2900"/>
            </a:br>
            <a:endParaRPr b="0" lang="en-US" sz="2900" spc="-1" strike="noStrike">
              <a:solidFill>
                <a:srgbClr val="000000"/>
              </a:solidFill>
              <a:latin typeface="Gill Sans MT"/>
            </a:endParaRPr>
          </a:p>
        </p:txBody>
      </p:sp>
      <p:sp>
        <p:nvSpPr>
          <p:cNvPr id="535" name=""/>
          <p:cNvSpPr txBox="1"/>
          <p:nvPr/>
        </p:nvSpPr>
        <p:spPr>
          <a:xfrm>
            <a:off x="1442520" y="2015640"/>
            <a:ext cx="6572520" cy="3449880"/>
          </a:xfrm>
          <a:prstGeom prst="rect">
            <a:avLst/>
          </a:prstGeom>
          <a:noFill/>
          <a:ln w="0">
            <a:noFill/>
          </a:ln>
        </p:spPr>
        <p:txBody>
          <a:bodyPr anchor="t">
            <a:normAutofit fontScale="85000"/>
          </a:bodyPr>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أولا: الأعمال الشاقة أو الضارة: </a:t>
            </a:r>
            <a:r>
              <a:rPr b="0" lang="ar-SA" sz="2000" spc="-1" strike="noStrike">
                <a:solidFill>
                  <a:srgbClr val="000000"/>
                </a:solidFill>
                <a:latin typeface="Gill Sans MT"/>
                <a:cs typeface="Arial"/>
              </a:rPr>
              <a:t>يحق للمشتركين ال</a:t>
            </a:r>
            <a:r>
              <a:rPr b="0" lang="ar-SA" sz="2000" spc="-1" strike="noStrike">
                <a:solidFill>
                  <a:srgbClr val="000000"/>
                </a:solidFill>
                <a:latin typeface="Gill Sans MT"/>
                <a:ea typeface="Arial"/>
              </a:rPr>
              <a:t>1</a:t>
            </a:r>
            <a:r>
              <a:rPr b="0" lang="ar-SA" sz="2000" spc="-1" strike="noStrike">
                <a:solidFill>
                  <a:srgbClr val="000000"/>
                </a:solidFill>
                <a:latin typeface="Gill Sans MT"/>
                <a:cs typeface="Arial"/>
              </a:rPr>
              <a:t>ين يعملون في أعمال شاقة أو ضارة بالصحة في حالة عدم خضوعهم لأحكام هذا النظام أن يتسلموا معاشهم المستحق إذا بلغت مدة اشتراكهم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ثانيا: السجين: </a:t>
            </a:r>
            <a:r>
              <a:rPr b="0" lang="ar-SA" sz="2000" spc="-1" strike="noStrike">
                <a:solidFill>
                  <a:srgbClr val="000000"/>
                </a:solidFill>
                <a:latin typeface="Gill Sans MT"/>
                <a:cs typeface="Arial"/>
              </a:rPr>
              <a:t>تدفع مؤسسة التأمينات الاجتماعية معاش التقاعد لأسرة المشترك الذي يحكم عليه بالسجن متى بلغت مدة اشتراكه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على الأقل ولو كان سنه أقل من الستين.</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ثالثا: المشترك المفقود:</a:t>
            </a:r>
            <a:r>
              <a:rPr b="0" lang="ar-SA" sz="2000" spc="-1" strike="noStrike">
                <a:solidFill>
                  <a:srgbClr val="000000"/>
                </a:solidFill>
                <a:latin typeface="Gill Sans MT"/>
                <a:ea typeface="Arial"/>
              </a:rPr>
              <a:t> يصرف أفراد عائلة المفقود المنتفع بفرع المعاشات المعاش طوال فترة فقده حتى تاريخ ثبوت حياته أو وفاته حقيقة أو حكما.</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تعويض الدفعة الواحدة</a:t>
            </a:r>
            <a:endParaRPr b="0" lang="en-US" sz="3200" spc="-1" strike="noStrike">
              <a:solidFill>
                <a:srgbClr val="000000"/>
              </a:solidFill>
              <a:latin typeface="Gill Sans MT"/>
            </a:endParaRPr>
          </a:p>
        </p:txBody>
      </p:sp>
      <p:sp>
        <p:nvSpPr>
          <p:cNvPr id="537" name=""/>
          <p:cNvSpPr txBox="1"/>
          <p:nvPr/>
        </p:nvSpPr>
        <p:spPr>
          <a:xfrm>
            <a:off x="1442520" y="2015640"/>
            <a:ext cx="6572520" cy="3449880"/>
          </a:xfrm>
          <a:prstGeom prst="rect">
            <a:avLst/>
          </a:prstGeom>
          <a:noFill/>
          <a:ln w="0">
            <a:noFill/>
          </a:ln>
        </p:spPr>
        <p:txBody>
          <a:bodyPr anchor="t">
            <a:normAutofit fontScale="97000"/>
          </a:bodyPr>
          <a:p>
            <a:pPr marL="221400" indent="-2214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التعريف :</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قد لاتتوافر في المؤمن عليه شروط استحقاق المعاش رغم بلوغه سن الستين.</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فيستحق تعويضًا يطلق عليه تعويض الدفعة الواحدة.</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كما يستفيد منه المؤمن عليه الذي أصيب بعجز غير مهني، ولم يستوف شروط معاش العجز.</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ويحسب التعويض من متوسط الأجور خلال السنتين الأخيرتين عن كل شهر من أشهر الاشتراك في الستين شهر الأولى.</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حالات تعويض الدفعة الواحدة</a:t>
            </a:r>
            <a:endParaRPr b="0" lang="en-US" sz="3200" spc="-1" strike="noStrike">
              <a:solidFill>
                <a:srgbClr val="000000"/>
              </a:solidFill>
              <a:latin typeface="Gill Sans MT"/>
            </a:endParaRPr>
          </a:p>
        </p:txBody>
      </p:sp>
      <p:sp>
        <p:nvSpPr>
          <p:cNvPr id="539" name=""/>
          <p:cNvSpPr txBox="1"/>
          <p:nvPr/>
        </p:nvSpPr>
        <p:spPr>
          <a:xfrm>
            <a:off x="1442520" y="2015640"/>
            <a:ext cx="6572520" cy="3449880"/>
          </a:xfrm>
          <a:prstGeom prst="rect">
            <a:avLst/>
          </a:prstGeom>
          <a:noFill/>
          <a:ln w="0">
            <a:noFill/>
          </a:ln>
        </p:spPr>
        <p:txBody>
          <a:bodyPr anchor="t">
            <a:normAutofit fontScale="94000"/>
          </a:bodyPr>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انتقل المشترك إلى عمل خاضع لنظام التقاعد المدني أو العسكري وكانت مده اشتراكه في التأمينات الاجتماعية أقل من سنة.</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المشترك امرأة.</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من المشتغلين بالأعمال الشاقة أو الضارة بالصحة. وفي هذه الحالة يشترط توافر مدة اشتراك أقل من </a:t>
            </a:r>
            <a:r>
              <a:rPr b="0" lang="en-US" sz="2000" spc="-1" strike="noStrike">
                <a:solidFill>
                  <a:srgbClr val="000000"/>
                </a:solidFill>
                <a:latin typeface="Gill Sans MT"/>
              </a:rPr>
              <a:t>١٢٠</a:t>
            </a:r>
            <a:r>
              <a:rPr b="0" lang="en-US" sz="2000" spc="-1" strike="noStrike">
                <a:solidFill>
                  <a:srgbClr val="000000"/>
                </a:solidFill>
                <a:latin typeface="Gill Sans MT"/>
              </a:rPr>
              <a:t> شهر.</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قد صدر بحقه حكم بالسجن لمدة </a:t>
            </a:r>
            <a:r>
              <a:rPr b="0" lang="en-US" sz="2000" spc="-1" strike="noStrike">
                <a:solidFill>
                  <a:srgbClr val="000000"/>
                </a:solidFill>
                <a:latin typeface="Gill Sans MT"/>
              </a:rPr>
              <a:t>٥</a:t>
            </a:r>
            <a:r>
              <a:rPr b="0" lang="en-US" sz="2000" spc="-1" strike="noStrike">
                <a:solidFill>
                  <a:srgbClr val="000000"/>
                </a:solidFill>
                <a:latin typeface="Gill Sans MT"/>
              </a:rPr>
              <a:t> سنوات فأكثر، وفي هذه الحالة يشترط توافر مدة اشتراك أقل من </a:t>
            </a:r>
            <a:r>
              <a:rPr b="0" lang="en-US" sz="2000" spc="-1" strike="noStrike">
                <a:solidFill>
                  <a:srgbClr val="000000"/>
                </a:solidFill>
                <a:latin typeface="Gill Sans MT"/>
              </a:rPr>
              <a:t>١٢٠</a:t>
            </a:r>
            <a:r>
              <a:rPr b="0" lang="en-US" sz="2000" spc="-1" strike="noStrike">
                <a:solidFill>
                  <a:srgbClr val="000000"/>
                </a:solidFill>
                <a:latin typeface="Gill Sans MT"/>
              </a:rPr>
              <a:t> شهر.</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المشرك قد أسقطت عنه الجنسية السعودية. </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just"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رد تعويض الدفعة الواحدة</a:t>
            </a:r>
            <a:endParaRPr b="0" lang="en-US" sz="3200" spc="-1" strike="noStrike">
              <a:solidFill>
                <a:srgbClr val="000000"/>
              </a:solidFill>
              <a:latin typeface="Gill Sans MT"/>
            </a:endParaRPr>
          </a:p>
        </p:txBody>
      </p:sp>
      <p:sp>
        <p:nvSpPr>
          <p:cNvPr id="541"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ينص النظام على أنه "إذا عاد المشترك إلى عمل خاضع للنظام بعد تسلمه تعويض الدفعة الواحدة فإنه يحق له رد ماسبق أن تقاضاه مقابل إعادة حساب مدة الاشتراك التي استحق عنها مبلغ التعويض الذي رده وفقا للأحكام التي تحددها اللائحة.</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 ويتضح من النص أن يجوز للمشترك الذي يعود للعمل الخاضع لأحكام النظا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42520" y="2015640"/>
            <a:ext cx="6572520" cy="3449880"/>
          </a:xfrm>
          <a:prstGeom prst="rect">
            <a:avLst/>
          </a:prstGeom>
          <a:noFill/>
          <a:ln w="0">
            <a:noFill/>
          </a:ln>
        </p:spPr>
        <p:txBody>
          <a:bodyPr anchor="t">
            <a:normAutofit fontScale="88000"/>
          </a:bodyPr>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١</a:t>
            </a:r>
            <a:r>
              <a:rPr b="0" lang="en-US" sz="2000" spc="-1" strike="noStrike">
                <a:solidFill>
                  <a:srgbClr val="000000"/>
                </a:solidFill>
                <a:latin typeface="Gill Sans MT"/>
              </a:rPr>
              <a:t>- ولقد نصت المادة </a:t>
            </a:r>
            <a:r>
              <a:rPr b="0" lang="en-US" sz="2000" spc="-1" strike="noStrike">
                <a:solidFill>
                  <a:srgbClr val="000000"/>
                </a:solidFill>
                <a:latin typeface="Gill Sans MT"/>
              </a:rPr>
              <a:t>١٤</a:t>
            </a:r>
            <a:r>
              <a:rPr b="0" lang="en-US" sz="2000" spc="-1" strike="noStrike">
                <a:solidFill>
                  <a:srgbClr val="000000"/>
                </a:solidFill>
                <a:latin typeface="Gill Sans MT"/>
              </a:rPr>
              <a:t> من لائحة تعويضات فرع المعاشات على أنه:</a:t>
            </a:r>
            <a:endParaRPr b="0" lang="en-US" sz="2000" spc="-1" strike="noStrike">
              <a:solidFill>
                <a:srgbClr val="000000"/>
              </a:solidFill>
              <a:latin typeface="Gill Sans MT"/>
            </a:endParaRPr>
          </a:p>
          <a:p>
            <a:pPr marL="200880" indent="-200880"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في تطبيق أحكام الفقرة (</a:t>
            </a:r>
            <a:r>
              <a:rPr b="0" lang="en-US" sz="2000" spc="-1" strike="noStrike">
                <a:solidFill>
                  <a:srgbClr val="000000"/>
                </a:solidFill>
                <a:latin typeface="Gill Sans MT"/>
              </a:rPr>
              <a:t>٤</a:t>
            </a:r>
            <a:r>
              <a:rPr b="0" lang="en-US" sz="2000" spc="-1" strike="noStrike">
                <a:solidFill>
                  <a:srgbClr val="000000"/>
                </a:solidFill>
                <a:latin typeface="Gill Sans MT"/>
              </a:rPr>
              <a:t>)من المادة (</a:t>
            </a:r>
            <a:r>
              <a:rPr b="0" lang="en-US" sz="2000" spc="-1" strike="noStrike">
                <a:solidFill>
                  <a:srgbClr val="000000"/>
                </a:solidFill>
                <a:latin typeface="Gill Sans MT"/>
              </a:rPr>
              <a:t>٤١</a:t>
            </a:r>
            <a:r>
              <a:rPr b="0" lang="en-US" sz="2000" spc="-1" strike="noStrike">
                <a:solidFill>
                  <a:srgbClr val="000000"/>
                </a:solidFill>
                <a:latin typeface="Gill Sans MT"/>
              </a:rPr>
              <a:t>) من النظام يحق للمشترك في أي من الحالتين الاتية، رد تعويض الدفعة الواحدة الذي تسلمه عن مدة اشتراك سابقة مقابل إعادة احتسابها مدة اشتراك:</a:t>
            </a:r>
            <a:endParaRPr b="0" lang="en-US" sz="2000" spc="-1" strike="noStrike">
              <a:solidFill>
                <a:srgbClr val="000000"/>
              </a:solidFill>
              <a:latin typeface="Gill Sans MT"/>
            </a:endParaRPr>
          </a:p>
          <a:p>
            <a:pPr marL="200880" indent="-200880"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أ- المشترك الذي كان على رأس العمل الخاضع للنظام في تاريخ بدء العمل به وكان قد تقاضى التعويض بموجب أحكام النظام السابق بشرط أن يبدي رغبته في إعادة احتساب المدة ويرد مبلغ التعويض كاملاً دفعة واحدة خلال سنة من ذلك التاريخ، وإذا لم يترتب على إعادة احتسابها استحقاقه معاشاً عندما ينتهي اشتراكه في النظام فيما بعد تلغى المدة ويرد للمشترك مبلغ التعويض الذي سبق أن سدده.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4"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ب- المشترك الذي يعود إلى العمل فيما بعد، ويكون قد تسلم التعويض المقطوع بموجب أحكام النظام الجديد يحق له أن يبدي رغبته في إعادة احتساب المدة بشرط أن يرد مبلغ التعويض كاملاً دفعة واحدة، خلال سنة من تاريخ عودت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٢</a:t>
            </a:r>
            <a:r>
              <a:rPr b="0" lang="en-US" sz="2000" spc="-1" strike="noStrike">
                <a:solidFill>
                  <a:srgbClr val="000000"/>
                </a:solidFill>
                <a:latin typeface="Gill Sans MT"/>
              </a:rPr>
              <a:t>- إذا عاد المشترك المستحق لتعويض الدفعة الواحدة إلى عمل خاضع للنظام قبل صرف التعويض المذكور يوقف صرفه، وتضم المدة التي يقضيها في عمله الجديد إلى مدة اشتراكه السابقة في حساب مجموع مدد الاشتراك، ويعدل استحقاقه حين انتهاء اشتراكه من جديد على هذا الأساس.</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أحكام معاشات العجز غير المهني</a:t>
            </a:r>
            <a:endParaRPr b="0" lang="en-US" sz="3200" spc="-1" strike="noStrike">
              <a:solidFill>
                <a:srgbClr val="000000"/>
              </a:solidFill>
              <a:latin typeface="Gill Sans MT"/>
            </a:endParaRPr>
          </a:p>
        </p:txBody>
      </p:sp>
      <p:sp>
        <p:nvSpPr>
          <p:cNvPr id="548"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العجز غير المهني هو كل عجز يؤدي إلى فقدان المؤمن عليه قدرته على العمل سواء بصورة كلية أو جزئية، وسواء في مهمته الأصلية أو في قدرته على الكسب بشكل عام. دون أن يكون هذا العجز قد نشأ عن إصابة عمل أو نشأ نتيجة مرض مهني،فقد يصاب العامل المؤمن عليه بمرض يعجزه عن العمل، وقد يكون هذا العجز جزئي أو كلي كما يكون دائم أو مؤقت. ولكن يجب أن يكون هذا العجز مستديما، وذلك لأن الاستدامه هي التي تميز العجز عن المرض.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50"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ويعرف العجز الدائم بأنه الحالة التي يصبح فيها العامل المصاب غير قادر على العمل بصفة دائمة، كبتر قدميه أو اليدين أو فقدان الأصابع كليًا فهو غير قابل للشفاء أو فقد يد أو قدم أو عين أو فقد أحد الأطراف.</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95280" y="552240"/>
            <a:ext cx="4900680" cy="108252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معاشات</a:t>
            </a:r>
            <a:r>
              <a:rPr b="0" lang="ar-SA" sz="3200" spc="-1" strike="noStrike">
                <a:solidFill>
                  <a:srgbClr val="000000"/>
                </a:solidFill>
                <a:latin typeface="Gill Sans MT"/>
                <a:ea typeface="Times New Roman"/>
              </a:rPr>
              <a:t> </a:t>
            </a:r>
            <a:r>
              <a:rPr b="0" lang="ar-SA" sz="3200" spc="-1" strike="noStrike">
                <a:solidFill>
                  <a:srgbClr val="891631"/>
                </a:solidFill>
                <a:latin typeface="Gill Sans MT"/>
                <a:cs typeface="Times New Roman"/>
              </a:rPr>
              <a:t>الشيخوخة </a:t>
            </a:r>
            <a:endParaRPr b="0" lang="en-US" sz="3200" spc="-1" strike="noStrike">
              <a:solidFill>
                <a:srgbClr val="000000"/>
              </a:solidFill>
              <a:latin typeface="Gill Sans MT"/>
            </a:endParaRPr>
          </a:p>
        </p:txBody>
      </p:sp>
      <p:sp>
        <p:nvSpPr>
          <p:cNvPr id="512" name=""/>
          <p:cNvSpPr txBox="1"/>
          <p:nvPr/>
        </p:nvSpPr>
        <p:spPr>
          <a:xfrm>
            <a:off x="213840" y="2357280"/>
            <a:ext cx="8729640" cy="450072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رتكز فكرة تأمين الشيخوخة على مفهوم التأمين الاجتماعي ومبدأ الحماية الاجتماعية ، الذي يعد أحد المقومات التي يقوم عليها المجتمع المعاصر. وتعمل الدول على توفير الحماية الاجتماعية لأفرادها ، لتحقيق استقرار العاملين نفسيًا مما يجعلهم أكثر اطمئنانًا على مستقبلهم و أكثر عطاء في عملهم. وبذلك يشعروا بأن الدولة تكفل لهم حقوقًا تتوازى مع ما قدموه لخدمة مجتمعهم من واجبات . ويعد تأمين الشيخوخة أهم أنواع التأمينات الاجتماعية و أعمها ، وتعمل المجتمعات الحديثة على اختلافها على حماية الشيخوخة التي تعد من أكثر الأخطار إثارة لمخاوف العمال و قلقهم خاصة أن العامل ينقطع عن العمل و الكسب بعد مشوار طويل من العمل و الانتاج ليصبح من حقه على مجتمع أن يحفظه في شيخوخته، وفاء لما قدمه له في شبابه وسوف نقوم بتقسيم دراستنا للموضوع على النحو القادم في العرض : </a:t>
            </a:r>
            <a:endParaRPr b="0" lang="en-US" sz="2000" spc="-1" strike="noStrike">
              <a:solidFill>
                <a:srgbClr val="000000"/>
              </a:solidFill>
              <a:latin typeface="Gill Sans MT"/>
            </a:endParaRPr>
          </a:p>
        </p:txBody>
      </p:sp>
      <p:pic>
        <p:nvPicPr>
          <p:cNvPr id="513" name="Picture 2" descr="نتيجة بحث الصور عن التأمينات و الضمان">
            <a:hlinkClick r:id="rId1"/>
          </p:cNvPr>
          <p:cNvPicPr/>
          <p:nvPr/>
        </p:nvPicPr>
        <p:blipFill>
          <a:blip r:embed="rId2"/>
          <a:stretch/>
        </p:blipFill>
        <p:spPr>
          <a:xfrm>
            <a:off x="0" y="0"/>
            <a:ext cx="3286080" cy="218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تعريف العجز غير المهني</a:t>
            </a:r>
            <a:endParaRPr b="0" lang="en-US" sz="3200" spc="-1" strike="noStrike">
              <a:solidFill>
                <a:srgbClr val="000000"/>
              </a:solidFill>
              <a:latin typeface="Gill Sans MT"/>
            </a:endParaRPr>
          </a:p>
        </p:txBody>
      </p:sp>
      <p:sp>
        <p:nvSpPr>
          <p:cNvPr id="552"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هو كل عجز يؤدي إلى فقدان المؤمن عليه لقدرته على العمل جزئياً أو كلياً في مهنته الأصلية أو قدرته على الكسب بوجه عام دون أن يكون ناشئاً عن إصابة عمل أو مرض مهني مع حدوثه له قبل بلوغه سن الستين عاماً. ويعتبر المؤمن عليه مصابًا بعجز غير مهني إذا استحال عليه بسبب حالته الصحية ويكتسب ثلث أجره السابق في مهنته العادية، أو في مهنة مماثلة تتفق مع ظروفه الشخ</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المدة المؤهلة لاستحقاق المعاش</a:t>
            </a:r>
            <a:endParaRPr b="0" lang="en-US" sz="3200" spc="-1" strike="noStrike">
              <a:solidFill>
                <a:srgbClr val="000000"/>
              </a:solidFill>
              <a:latin typeface="Gill Sans MT"/>
            </a:endParaRPr>
          </a:p>
        </p:txBody>
      </p:sp>
      <p:sp>
        <p:nvSpPr>
          <p:cNvPr id="554" name=""/>
          <p:cNvSpPr txBox="1"/>
          <p:nvPr/>
        </p:nvSpPr>
        <p:spPr>
          <a:xfrm>
            <a:off x="1442520" y="2015640"/>
            <a:ext cx="6572520" cy="3449880"/>
          </a:xfrm>
          <a:prstGeom prst="rect">
            <a:avLst/>
          </a:prstGeom>
          <a:noFill/>
          <a:ln w="0">
            <a:noFill/>
          </a:ln>
        </p:spPr>
        <p:txBody>
          <a:bodyPr anchor="t">
            <a:normAutofit fontScale="98000"/>
          </a:bodyPr>
          <a:p>
            <a:pPr marL="223920" indent="-2239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خفض النظام السعودي الجديد مدة الاستحقاق إلى قدر أقل من تلك المدة التي كانت في النظام السابق.</a:t>
            </a:r>
            <a:endParaRPr b="0" lang="en-US" sz="2000" spc="-1" strike="noStrike">
              <a:solidFill>
                <a:srgbClr val="000000"/>
              </a:solidFill>
              <a:latin typeface="Gill Sans MT"/>
            </a:endParaRPr>
          </a:p>
          <a:p>
            <a:pPr marL="223920" indent="-22392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حيث يحق للمشترك الذي يصاب بعجز غير مهني إذا أصبح بسبب حالته الصحية غير قادر على اكتساب ثلق أجره السابق على تقدير المعاش وتقدره اللجنة الطبية المختصة" أن يصرف معاش العجز متى توافرت له مدة اشتراك </a:t>
            </a:r>
            <a:r>
              <a:rPr b="0" lang="en-US" sz="2000" spc="-1" strike="noStrike">
                <a:solidFill>
                  <a:srgbClr val="000000"/>
                </a:solidFill>
                <a:latin typeface="Gill Sans MT"/>
              </a:rPr>
              <a:t>١٢</a:t>
            </a:r>
            <a:r>
              <a:rPr b="0" lang="en-US" sz="2000" spc="-1" strike="noStrike">
                <a:solidFill>
                  <a:srgbClr val="000000"/>
                </a:solidFill>
                <a:latin typeface="Gill Sans MT"/>
              </a:rPr>
              <a:t> شهر متصله أو </a:t>
            </a:r>
            <a:r>
              <a:rPr b="0" lang="en-US" sz="2000" spc="-1" strike="noStrike">
                <a:solidFill>
                  <a:srgbClr val="000000"/>
                </a:solidFill>
                <a:latin typeface="Gill Sans MT"/>
              </a:rPr>
              <a:t>١٨</a:t>
            </a:r>
            <a:r>
              <a:rPr b="0" lang="en-US" sz="2000" spc="-1" strike="noStrike">
                <a:solidFill>
                  <a:srgbClr val="000000"/>
                </a:solidFill>
                <a:latin typeface="Gill Sans MT"/>
              </a:rPr>
              <a:t> شهر متقطعة قبل بلوغه سن </a:t>
            </a:r>
            <a:r>
              <a:rPr b="0" lang="en-US" sz="2000" spc="-1" strike="noStrike">
                <a:solidFill>
                  <a:srgbClr val="000000"/>
                </a:solidFill>
                <a:latin typeface="Gill Sans MT"/>
              </a:rPr>
              <a:t>٦٠</a:t>
            </a:r>
            <a:r>
              <a:rPr b="0" lang="en-US" sz="2000" spc="-1" strike="noStrike">
                <a:solidFill>
                  <a:srgbClr val="000000"/>
                </a:solidFill>
                <a:latin typeface="Gill Sans MT"/>
              </a:rPr>
              <a:t> وأن يكون على رأس العمل الخاضع للنظام، وأن يتم إثبات العجز بمعرفة اللجان الطبية خلال </a:t>
            </a:r>
            <a:r>
              <a:rPr b="0" lang="en-US" sz="2000" spc="-1" strike="noStrike">
                <a:solidFill>
                  <a:srgbClr val="000000"/>
                </a:solidFill>
                <a:latin typeface="Gill Sans MT"/>
              </a:rPr>
              <a:t>١٨</a:t>
            </a:r>
            <a:r>
              <a:rPr b="0" lang="en-US" sz="2000" spc="-1" strike="noStrike">
                <a:solidFill>
                  <a:srgbClr val="000000"/>
                </a:solidFill>
                <a:latin typeface="Gill Sans MT"/>
              </a:rPr>
              <a:t> شهر من تاريخ انتهاء الاشترا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5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أما إذا كان المشترك قد ترك العمل  الخاضع للنظام ثم أصيب بالعجز غير المهني, وكانت لديه مدة اشتراك قدرها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 فيكون له الحق في الحصول على معاش تقاعد يتم احتسابه بنفس طريقة حساب معاش التقاعد.</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صرف له هذا المعاش ولو لم يبلغ سن الستين, ويسري هذا الحكم سواء كانت مدة الاشتراك مدة فعلية أو مدة فعلية اعتباري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حساب معاش العجز غير المهني</a:t>
            </a:r>
            <a:endParaRPr b="0" lang="en-US" sz="3200" spc="-1" strike="noStrike">
              <a:solidFill>
                <a:srgbClr val="000000"/>
              </a:solidFill>
              <a:latin typeface="Gill Sans MT"/>
            </a:endParaRPr>
          </a:p>
        </p:txBody>
      </p:sp>
      <p:sp>
        <p:nvSpPr>
          <p:cNvPr id="558"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تم حساب معاش العجز غير المهني بذات الطريقة لحساب معاش التقاعد.</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لاحظ أنه إذا قل المعاش عن نسبة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من متوسط الأجور خلال السنتين الأخيرتين يتم رفعه إلى هذا القدر.</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لا يقل في كل الأحوال عن </a:t>
            </a:r>
            <a:r>
              <a:rPr b="0" lang="ar-SA" sz="2000" spc="-1" strike="noStrike">
                <a:solidFill>
                  <a:srgbClr val="000000"/>
                </a:solidFill>
                <a:latin typeface="Gill Sans MT"/>
                <a:ea typeface="Arial"/>
              </a:rPr>
              <a:t>1500</a:t>
            </a:r>
            <a:r>
              <a:rPr b="0" lang="ar-SA" sz="2000" spc="-1" strike="noStrike">
                <a:solidFill>
                  <a:srgbClr val="000000"/>
                </a:solidFill>
                <a:latin typeface="Gill Sans MT"/>
                <a:ea typeface="Arial"/>
              </a:rPr>
              <a:t> ريال.</a:t>
            </a:r>
            <a:endParaRPr b="0" lang="en-US" sz="2000" spc="-1" strike="noStrike">
              <a:solidFill>
                <a:srgbClr val="000000"/>
              </a:solidFill>
              <a:latin typeface="Gill Sans MT"/>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نهائية المعاش</a:t>
            </a:r>
            <a:endParaRPr b="0" lang="en-US" sz="3200" spc="-1" strike="noStrike">
              <a:solidFill>
                <a:srgbClr val="000000"/>
              </a:solidFill>
              <a:latin typeface="Gill Sans MT"/>
            </a:endParaRPr>
          </a:p>
        </p:txBody>
      </p:sp>
      <p:sp>
        <p:nvSpPr>
          <p:cNvPr id="560"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صرف معاش العجز غير المهني بصورة مؤقتة وذلك طيلة فترة العجز واللجان الطبية تختص بتعيين نوع الإصابة وما إذا كانت مهنية أو لا وتختص بتعيين درجتها وتصدر قرار تعيين المدة المقررة للعجز.</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قرارات اللجان غير نهائية وقابلة للطعن من جانب أصحاب المصلحة.</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صبح المعاش نهائياً ببلوغ المشترك سن الست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عودة صاحب معاش العجز غير المهني إلى ممارسة عمل خاضع للنظام</a:t>
            </a:r>
            <a:endParaRPr b="0" lang="en-US" sz="3200" spc="-1" strike="noStrike">
              <a:solidFill>
                <a:srgbClr val="000000"/>
              </a:solidFill>
              <a:latin typeface="Gill Sans MT"/>
            </a:endParaRPr>
          </a:p>
        </p:txBody>
      </p:sp>
      <p:sp>
        <p:nvSpPr>
          <p:cNvPr id="562" name=""/>
          <p:cNvSpPr txBox="1"/>
          <p:nvPr/>
        </p:nvSpPr>
        <p:spPr>
          <a:xfrm>
            <a:off x="1442520" y="2015640"/>
            <a:ext cx="6572520" cy="3449880"/>
          </a:xfrm>
          <a:prstGeom prst="rect">
            <a:avLst/>
          </a:prstGeom>
          <a:noFill/>
          <a:ln w="0">
            <a:noFill/>
          </a:ln>
        </p:spPr>
        <p:txBody>
          <a:bodyPr anchor="t">
            <a:normAutofit fontScale="97000"/>
          </a:bodyPr>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تعين التفرقة بين فرضين:</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إذا كانت سن المشترك </a:t>
            </a:r>
            <a:r>
              <a:rPr b="0" lang="ar-SA" sz="2000" spc="-1" strike="noStrike">
                <a:solidFill>
                  <a:srgbClr val="000000"/>
                </a:solidFill>
                <a:latin typeface="Gill Sans MT"/>
                <a:ea typeface="Arial"/>
              </a:rPr>
              <a:t>60</a:t>
            </a:r>
            <a:r>
              <a:rPr b="0" lang="ar-SA" sz="2000" spc="-1" strike="noStrike">
                <a:solidFill>
                  <a:srgbClr val="000000"/>
                </a:solidFill>
                <a:latin typeface="Gill Sans MT"/>
                <a:ea typeface="Arial"/>
              </a:rPr>
              <a:t> أو أكثر في تاريخ العودة للعمل فإنه يجمع بين المعاش والأجر و لا يخضع للنظام.</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إذا كانت سن صاحب المعاش أقل من </a:t>
            </a:r>
            <a:r>
              <a:rPr b="0" lang="ar-SA" sz="2000" spc="-1" strike="noStrike">
                <a:solidFill>
                  <a:srgbClr val="000000"/>
                </a:solidFill>
                <a:latin typeface="Gill Sans MT"/>
                <a:ea typeface="Arial"/>
              </a:rPr>
              <a:t>60</a:t>
            </a:r>
            <a:r>
              <a:rPr b="0" lang="ar-SA" sz="2000" spc="-1" strike="noStrike">
                <a:solidFill>
                  <a:srgbClr val="000000"/>
                </a:solidFill>
                <a:latin typeface="Gill Sans MT"/>
                <a:ea typeface="Arial"/>
              </a:rPr>
              <a:t> في تاريخ العودة إلى العمل فيعرض على اللجان الطبية المختصة لتصدر القرار.</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إذا قررت أنه شفي فيتم إيقاف المعاش.</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أما إذا رأت أنه لا يزال عاجز فيتم إيقاف المعاش مع صرف  الفرق من المعاش إذا كان الأجر يقل عن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أحقية العاجز في الحصول على معونة الغير:</a:t>
            </a:r>
            <a:endParaRPr b="0" lang="en-US" sz="3200" spc="-1" strike="noStrike">
              <a:solidFill>
                <a:srgbClr val="000000"/>
              </a:solidFill>
              <a:latin typeface="Gill Sans MT"/>
            </a:endParaRPr>
          </a:p>
        </p:txBody>
      </p:sp>
      <p:sp>
        <p:nvSpPr>
          <p:cNvPr id="564"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قضي المادة </a:t>
            </a:r>
            <a:r>
              <a:rPr b="0" lang="ar-SA" sz="2000" spc="-1" strike="noStrike">
                <a:solidFill>
                  <a:srgbClr val="000000"/>
                </a:solidFill>
                <a:latin typeface="Gill Sans MT"/>
                <a:ea typeface="Arial"/>
              </a:rPr>
              <a:t>4/39</a:t>
            </a:r>
            <a:r>
              <a:rPr b="0" lang="ar-SA" sz="2000" spc="-1" strike="noStrike">
                <a:solidFill>
                  <a:srgbClr val="000000"/>
                </a:solidFill>
                <a:latin typeface="Gill Sans MT"/>
                <a:ea typeface="Arial"/>
              </a:rPr>
              <a:t> من نظام التأمينات السعودي بأنه «</a:t>
            </a:r>
            <a:r>
              <a:rPr b="0" lang="ar-SA" sz="2000" spc="-1" strike="noStrike">
                <a:solidFill>
                  <a:srgbClr val="c00000"/>
                </a:solidFill>
                <a:latin typeface="Gill Sans MT"/>
                <a:cs typeface="Arial"/>
              </a:rPr>
              <a:t>يزاد معاش العجز بنسبة (</a:t>
            </a:r>
            <a:r>
              <a:rPr b="0" lang="ar-SA" sz="2000" spc="-1" strike="noStrike">
                <a:solidFill>
                  <a:srgbClr val="c00000"/>
                </a:solidFill>
                <a:latin typeface="Gill Sans MT"/>
                <a:ea typeface="Arial"/>
              </a:rPr>
              <a:t>50</a:t>
            </a:r>
            <a:r>
              <a:rPr b="0" lang="ar-SA" sz="2000" spc="-1" strike="noStrike">
                <a:solidFill>
                  <a:srgbClr val="c00000"/>
                </a:solidFill>
                <a:latin typeface="Gill Sans MT"/>
                <a:ea typeface="Arial"/>
              </a:rPr>
              <a:t>%) كإعانة إذا كان العاجز يحتاج إلى مساعدة غيره للقيام بأعباء حياته العادية على ألا يتجاوز مبلغ الإعانة الح الأقصى الذي تحدده اللائحة </a:t>
            </a:r>
            <a:r>
              <a:rPr b="0" lang="ar-SA" sz="2000" spc="-1" strike="noStrike">
                <a:solidFill>
                  <a:srgbClr val="000000"/>
                </a:solidFill>
                <a:latin typeface="Gill Sans MT"/>
                <a:ea typeface="Arial"/>
              </a:rPr>
              <a:t>«</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تضح من هذا النص أنه إذا قررت اللجنة الطبية المختصة حاجة العاجز إلى مساعدة غيره للقيام بشؤون حياته اليومية, ينشأ له الحق في الحصول على معونة الغير بواقع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من قيمة المعاش بحد أقصى سوف تحدده اللائحة التنفيذ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وفاة صاحب المعاش غير المهني: </a:t>
            </a:r>
            <a:endParaRPr b="0" lang="en-US" sz="3200" spc="-1" strike="noStrike">
              <a:solidFill>
                <a:srgbClr val="000000"/>
              </a:solidFill>
              <a:latin typeface="Gill Sans MT"/>
            </a:endParaRPr>
          </a:p>
        </p:txBody>
      </p:sp>
      <p:sp>
        <p:nvSpPr>
          <p:cNvPr id="56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إذا توفي المؤمن عليه المصاب بعجز غير مهني, فينتقل حقه في المعاش لورثته, ويكون لكل فرد من أفراد عائلته الحق في تقاضي نصيبه من معاش المتوفي. ويجب على المؤسسة ظان تدفع لمؤمن عليه أو ورثته كامل التعويضات المنصوص عليها نظاماً. ويتم تقسيم المعاش بين المستحقين بنفس الأسس المتبعة في توزيع معاش الشيخوخة, كما يتم تحديد أنصبة أراد العائلة في المعاش, وفقاً للأحكام المطبقة في مجال استحقاق عائدات أفراد العائلة طبقاً لأحكام فرع الأخطار المه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حقوق التأمينية في حالة وفاة المؤمن عليه </a:t>
            </a:r>
            <a:endParaRPr b="0" lang="en-US" sz="3200" spc="-1" strike="noStrike">
              <a:solidFill>
                <a:srgbClr val="000000"/>
              </a:solidFill>
              <a:latin typeface="Gill Sans MT"/>
            </a:endParaRPr>
          </a:p>
        </p:txBody>
      </p:sp>
      <p:sp>
        <p:nvSpPr>
          <p:cNvPr id="568"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800" spc="-1" strike="noStrike">
                <a:solidFill>
                  <a:srgbClr val="000000"/>
                </a:solidFill>
                <a:latin typeface="Gill Sans MT"/>
                <a:cs typeface="Arial"/>
              </a:rPr>
              <a:t>تهد التأمينات الاجتماعية تحقيق الأمان والاستقرار للمواطن ولأفراد اسرته في شيخوخته وعجزه وفي مرضه أو في حالة وفاته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47640" y="620280"/>
            <a:ext cx="65707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معاش المستحق بع الوفاة </a:t>
            </a:r>
            <a:endParaRPr b="0" lang="en-US" sz="3200" spc="-1" strike="noStrike">
              <a:solidFill>
                <a:srgbClr val="000000"/>
              </a:solidFill>
              <a:latin typeface="Gill Sans MT"/>
            </a:endParaRPr>
          </a:p>
        </p:txBody>
      </p:sp>
      <p:sp>
        <p:nvSpPr>
          <p:cNvPr id="570" name=""/>
          <p:cNvSpPr txBox="1"/>
          <p:nvPr/>
        </p:nvSpPr>
        <p:spPr>
          <a:xfrm>
            <a:off x="1442520" y="2016000"/>
            <a:ext cx="6572520" cy="3789360"/>
          </a:xfrm>
          <a:prstGeom prst="rect">
            <a:avLst/>
          </a:prstGeom>
          <a:noFill/>
          <a:ln w="0">
            <a:noFill/>
          </a:ln>
        </p:spPr>
        <p:txBody>
          <a:bodyPr anchor="t">
            <a:normAutofit fontScale="94000"/>
          </a:bodyPr>
          <a:p>
            <a:pPr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في حالة وفاة العامل المؤمن عليه والمستوف لشروط التأمين المقررة للاستحقاق معاش العجز غير المهني أو وفاة صاحب معاش الشيخوخة فيستحق أفراد عائلته الذين تقع إعالتهم عليه الحق من معاشات الورثة. وتعتبر الوفاة غير المهنية في مفهوم نظام التأمينات الاجتماعية السعودي على نوعين :</a:t>
            </a:r>
            <a:endParaRPr b="0" lang="en-US" sz="1900" spc="-1" strike="noStrike">
              <a:solidFill>
                <a:srgbClr val="000000"/>
              </a:solidFill>
              <a:latin typeface="Gill Sans MT"/>
            </a:endParaRPr>
          </a:p>
          <a:p>
            <a:pPr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الموت الحقيقي بخروج الروح عن الجسد </a:t>
            </a:r>
            <a:endParaRPr b="0" lang="en-US" sz="1900" spc="-1" strike="noStrike">
              <a:solidFill>
                <a:srgbClr val="000000"/>
              </a:solidFill>
              <a:latin typeface="Gill Sans MT"/>
            </a:endParaRPr>
          </a:p>
          <a:p>
            <a:pPr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الموت الحكمي وهو خاص بالمفقود الذي طالت غيبته ولا تعرف حياته من مماته, وصدر بشأنه حكم من القاضي باعتباره متوفياً.</a:t>
            </a:r>
            <a:endParaRPr b="0" lang="en-US" sz="1900" spc="-1" strike="noStrike">
              <a:solidFill>
                <a:srgbClr val="000000"/>
              </a:solidFill>
              <a:latin typeface="Gill Sans MT"/>
            </a:endParaRPr>
          </a:p>
          <a:p>
            <a:pPr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وفيما يتعلق بمفهوم الإعالة فيعتبر الشخص تحت إعالة المؤمن عليه أو صاحب المعاش إذا كان يعتمد في أي من أمور معيشته الأساسية على ما يقدمه إليه المؤمن عليه أو صاحب المعاش من نفقات. </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563640" y="620640"/>
            <a:ext cx="5357880" cy="86832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أحكام معاشات الشيخوخة </a:t>
            </a:r>
            <a:endParaRPr b="0" lang="en-US" sz="3200" spc="-1" strike="noStrike">
              <a:solidFill>
                <a:srgbClr val="000000"/>
              </a:solidFill>
              <a:latin typeface="Gill Sans MT"/>
            </a:endParaRPr>
          </a:p>
        </p:txBody>
      </p:sp>
      <p:sp>
        <p:nvSpPr>
          <p:cNvPr id="515" name=""/>
          <p:cNvSpPr txBox="1"/>
          <p:nvPr/>
        </p:nvSpPr>
        <p:spPr>
          <a:xfrm>
            <a:off x="0" y="1785600"/>
            <a:ext cx="9144000" cy="507204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حدد نظام التأمينات الاجتماعية و اللوائح الصادرة تنفيذاً له القواعد التفصيلية بمعاشات الشيخوخة ، وبيان مفهوم الشيخوخة ، وشروط استحقاق المعاش ، وكيفية احتسابه ، وبعض الحالات الخاصة في حساب المعاش ، وذلك على النحو التال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u="sng">
                <a:solidFill>
                  <a:srgbClr val="000000"/>
                </a:solidFill>
                <a:uFillTx/>
                <a:latin typeface="Gill Sans MT"/>
                <a:cs typeface="Arial"/>
              </a:rPr>
              <a:t>مفهوم الشيخوخة </a:t>
            </a:r>
            <a:r>
              <a:rPr b="0" lang="ar-SA" sz="2000" spc="-1" strike="noStrike">
                <a:solidFill>
                  <a:srgbClr val="000000"/>
                </a:solidFill>
                <a:latin typeface="Gill Sans MT"/>
                <a:ea typeface="Arial"/>
              </a:rPr>
              <a:t>: تعتبر الشيخوخة مرحلة من مراحل عمر الانسان والتي يصبح عندها عاجزاً عن العمل نتيجة للنقص التدريجي في حيويته ومقدرته على العمل . وجدير بالذكر أنه لا يوجد عمر معين يمكن اعتباره عمر شيخوخة . والشيخوخة و التقاعد ظاهرتان مرتبطتان ببعضهما ، فالأولى ظاهرة بيولجية و الأخرى تدبير اجتماعي و هو معالجة اجتماعية يسمح من خلالها للشخص أن يستمتع بحياته الخاصة بعد قضاء فترة طويلة حافلة بالعمل المضن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 قد أقر نظام التأمينات الاجتماعية السعودي تحويل الشخص الذي يبلغ سن الشيخوخة الحق في حصول معاش دائم يكفل له مستوى معقول من المعيشة و ذلك وفقاً لشرووط وأوضاع محددة . </a:t>
            </a:r>
            <a:endParaRPr b="0" lang="en-US" sz="2000" spc="-1" strike="noStrike">
              <a:solidFill>
                <a:srgbClr val="000000"/>
              </a:solidFill>
              <a:latin typeface="Gill Sans MT"/>
            </a:endParaRPr>
          </a:p>
        </p:txBody>
      </p:sp>
      <p:pic>
        <p:nvPicPr>
          <p:cNvPr id="516" name="Picture 2" descr="نتيجة بحث الصور عن التأمينات و الضمان">
            <a:hlinkClick r:id="rId1"/>
          </p:cNvPr>
          <p:cNvPicPr/>
          <p:nvPr/>
        </p:nvPicPr>
        <p:blipFill>
          <a:blip r:embed="rId2"/>
          <a:stretch/>
        </p:blipFill>
        <p:spPr>
          <a:xfrm>
            <a:off x="0" y="0"/>
            <a:ext cx="2357280" cy="171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1258560" y="2016000"/>
            <a:ext cx="6985080" cy="3716640"/>
          </a:xfrm>
          <a:prstGeom prst="rect">
            <a:avLst/>
          </a:prstGeom>
          <a:noFill/>
          <a:ln w="0">
            <a:noFill/>
          </a:ln>
        </p:spPr>
        <p:txBody>
          <a:bodyPr anchor="t">
            <a:normAutofit fontScale="89000"/>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لقد نصت المادة  </a:t>
            </a:r>
            <a:r>
              <a:rPr b="0" lang="ar-SA" sz="2000" spc="-1" strike="noStrike">
                <a:solidFill>
                  <a:srgbClr val="000000"/>
                </a:solidFill>
                <a:latin typeface="Gill Sans MT"/>
                <a:ea typeface="Arial"/>
              </a:rPr>
              <a:t>1/40</a:t>
            </a:r>
            <a:r>
              <a:rPr b="0" lang="ar-SA" sz="2000" spc="-1" strike="noStrike">
                <a:solidFill>
                  <a:srgbClr val="000000"/>
                </a:solidFill>
                <a:latin typeface="Gill Sans MT"/>
                <a:ea typeface="Arial"/>
              </a:rPr>
              <a:t> من نظام التأمينات الاجتماعية السعودي على أنه « في حالة وفاة صاحب معاش عجز غير مهني أو وفاة صاحب معاش تقاعد, فإن لكل من أفراد عائلته الحق في تقاضي نصيب من معاش المتوفي. وفي حالة وفاة مشترك وهو على رأس العمل الخاضع للنظام, فإن أفرا عائلته يستحقون معاشات الوفاة إذا كان المتوفي قد توافرت له مدة اشتراك لا تقل عن ثلاثة أشهر متصلة أو ستة أشهر متقطعة تالية لتاريخ تسجيله الفعلي لدى المؤسسة. وفي الحالات المشار إليها, يحسب معاش الوفاة بنفس الطريقة التي تحسب بها قيمة معاش العجز غير المهني, وإذا توفي المشترك بعد تركه العمل الخاضع للنظام يمنح أفراد عائلته معاش التقاعد إذا توافرت لدى مورثهم مدة الاشتراك المؤهلة لاستحقاق هذا المعاش وفق أحكام الفقرتين (</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أ) و (</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من المادة الثامنة والثلاثين».</a:t>
            </a:r>
            <a:endParaRPr b="0" lang="en-US" sz="2000" spc="-1" strike="noStrike">
              <a:solidFill>
                <a:srgbClr val="000000"/>
              </a:solidFill>
              <a:latin typeface="Gill Sans MT"/>
            </a:endParaRPr>
          </a:p>
          <a:p>
            <a:pPr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لاحظ أنه يتم احتساب معاش الوفاة بنفس الطريقة التي يتم بموجبها احتساب العجز غير المهني, وذلك على أساس متوسط الأجور خلال السنتين الأخيرتين من مدة الاشتراك مضروباً في مدة الاشتراك ×</a:t>
            </a:r>
            <a:r>
              <a:rPr b="0" lang="ar-SA" sz="2000" spc="-1" strike="noStrike">
                <a:solidFill>
                  <a:srgbClr val="000000"/>
                </a:solidFill>
                <a:latin typeface="Gill Sans MT"/>
                <a:ea typeface="Arial"/>
              </a:rPr>
              <a:t>40/1</a:t>
            </a:r>
            <a:r>
              <a:rPr b="0" lang="ar-SA" sz="2000" spc="-1" strike="noStrike">
                <a:solidFill>
                  <a:srgbClr val="000000"/>
                </a:solidFill>
                <a:latin typeface="Gill Sans MT"/>
                <a:ea typeface="Arial"/>
              </a:rPr>
              <a:t> .</a:t>
            </a:r>
            <a:endParaRPr b="0" lang="en-US" sz="2000" spc="-1" strike="noStrike">
              <a:solidFill>
                <a:srgbClr val="000000"/>
              </a:solidFill>
              <a:latin typeface="Gill Sans MT"/>
            </a:endParaRPr>
          </a:p>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متوسط الأجور خلال السنتين الأخيرتين × عدد سنوات الاشتراك ×</a:t>
            </a:r>
            <a:r>
              <a:rPr b="0" lang="ar-SA" sz="2000" spc="-1" strike="noStrike">
                <a:solidFill>
                  <a:srgbClr val="000000"/>
                </a:solidFill>
                <a:latin typeface="Gill Sans MT"/>
                <a:ea typeface="Arial"/>
              </a:rPr>
              <a:t>40/1</a:t>
            </a:r>
            <a:r>
              <a:rPr b="0" lang="ar-SA" sz="2000" spc="-1" strike="noStrike">
                <a:solidFill>
                  <a:srgbClr val="000000"/>
                </a:solidFill>
                <a:latin typeface="Gill Sans MT"/>
                <a:ea typeface="Arial"/>
              </a:rPr>
              <a:t> بحيث لا يتجاوز المعاش نسبة </a:t>
            </a:r>
            <a:r>
              <a:rPr b="0" lang="ar-SA" sz="2000" spc="-1" strike="noStrike">
                <a:solidFill>
                  <a:srgbClr val="000000"/>
                </a:solidFill>
                <a:latin typeface="Gill Sans MT"/>
                <a:ea typeface="Arial"/>
              </a:rPr>
              <a:t>100</a:t>
            </a:r>
            <a:r>
              <a:rPr b="0" lang="ar-SA" sz="2000" spc="-1" strike="noStrike">
                <a:solidFill>
                  <a:srgbClr val="000000"/>
                </a:solidFill>
                <a:latin typeface="Gill Sans MT"/>
                <a:ea typeface="Arial"/>
              </a:rPr>
              <a:t>% من قيمة ذلك المتوسط .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مستحقين للمعاش وتوزيعه </a:t>
            </a:r>
            <a:endParaRPr b="0" lang="en-US" sz="3200" spc="-1" strike="noStrike">
              <a:solidFill>
                <a:srgbClr val="000000"/>
              </a:solidFill>
              <a:latin typeface="Gill Sans MT"/>
            </a:endParaRPr>
          </a:p>
        </p:txBody>
      </p:sp>
      <p:sp>
        <p:nvSpPr>
          <p:cNvPr id="574"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ضحت المادة </a:t>
            </a:r>
            <a:r>
              <a:rPr b="0" lang="ar-SA" sz="2000" spc="-1" strike="noStrike">
                <a:solidFill>
                  <a:srgbClr val="000000"/>
                </a:solidFill>
                <a:latin typeface="Gill Sans MT"/>
                <a:ea typeface="Arial"/>
              </a:rPr>
              <a:t>2/35</a:t>
            </a:r>
            <a:r>
              <a:rPr b="0" lang="ar-SA" sz="2000" spc="-1" strike="noStrike">
                <a:solidFill>
                  <a:srgbClr val="000000"/>
                </a:solidFill>
                <a:latin typeface="Gill Sans MT"/>
                <a:ea typeface="Arial"/>
              </a:rPr>
              <a:t> من النظام كيفية توزيع كامل العائدة على المستحقين من أفراد العائلة(</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وبمقتضى حكم هذه المادة, يتم التوزيع وفقاً لعدد الأفراد, حيث يوزع المعاش بالكامل بالتساوي على أفراد عائلة المشترك المتوفي المستحقين إذا كانوا ثلاثة أو أكثر, ونسبة (</a:t>
            </a:r>
            <a:r>
              <a:rPr b="0" lang="ar-SA" sz="2000" spc="-1" strike="noStrike">
                <a:solidFill>
                  <a:srgbClr val="000000"/>
                </a:solidFill>
                <a:latin typeface="Gill Sans MT"/>
                <a:ea typeface="Arial"/>
              </a:rPr>
              <a:t>75</a:t>
            </a:r>
            <a:r>
              <a:rPr b="0" lang="ar-SA" sz="2000" spc="-1" strike="noStrike">
                <a:solidFill>
                  <a:srgbClr val="000000"/>
                </a:solidFill>
                <a:latin typeface="Gill Sans MT"/>
                <a:ea typeface="Arial"/>
              </a:rPr>
              <a:t>%) من قيمة المعاش إذا كانا اثنين, ونسبة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إذا كان المستحق شخصاً واحداً, ويشترط أن لا يقل نصيب كل فرد من أفراد العائلة عن (</a:t>
            </a:r>
            <a:r>
              <a:rPr b="0" lang="ar-SA" sz="2000" spc="-1" strike="noStrike">
                <a:solidFill>
                  <a:srgbClr val="000000"/>
                </a:solidFill>
                <a:latin typeface="Gill Sans MT"/>
                <a:ea typeface="Arial"/>
              </a:rPr>
              <a:t>300</a:t>
            </a:r>
            <a:r>
              <a:rPr b="0" lang="ar-SA" sz="2000" spc="-1" strike="noStrike">
                <a:solidFill>
                  <a:srgbClr val="000000"/>
                </a:solidFill>
                <a:latin typeface="Gill Sans MT"/>
                <a:ea typeface="Arial"/>
              </a:rPr>
              <a:t>) ريال , بحيث لا يتجاوز مجموع هذه الأنصبة (</a:t>
            </a:r>
            <a:r>
              <a:rPr b="0" lang="ar-SA" sz="2000" spc="-1" strike="noStrike">
                <a:solidFill>
                  <a:srgbClr val="000000"/>
                </a:solidFill>
                <a:latin typeface="Gill Sans MT"/>
                <a:ea typeface="Arial"/>
              </a:rPr>
              <a:t>1500</a:t>
            </a:r>
            <a:r>
              <a:rPr b="0" lang="ar-SA" sz="2000" spc="-1" strike="noStrike">
                <a:solidFill>
                  <a:srgbClr val="000000"/>
                </a:solidFill>
                <a:latin typeface="Gill Sans MT"/>
                <a:ea typeface="Arial"/>
              </a:rPr>
              <a:t>) ريال, أو متوسط الأجور الذي تم حساب المعاش على أساس أيهما أكبر.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Gill Sans MT"/>
                <a:cs typeface="Arial"/>
              </a:rPr>
              <a:t>حقوق ورثة العامل في حالة وفاته: </a:t>
            </a:r>
            <a:endParaRPr b="0" lang="en-US" sz="2400" spc="-1" strike="noStrike">
              <a:solidFill>
                <a:srgbClr val="000000"/>
              </a:solidFill>
              <a:latin typeface="Gill Sans MT"/>
            </a:endParaRPr>
          </a:p>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Gill Sans MT"/>
                <a:cs typeface="Arial"/>
              </a:rPr>
              <a:t>الحمل المستكن يندرج ضمن أفراد العائلة, ويحجز استحقاقه في المعاش بالمؤسسة حتى ينفصل حياً فيصرف له, كذلك إذا انفصل الحمل عن أكثر من مولود, فيعاد توزيع المعاش على أفراد العائلة المستحقين, أما إذا انفصل ميتاً, فتزداد معاشات باقي الورثة بصورة مناسب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سماء الطالبات :</a:t>
            </a:r>
            <a:endParaRPr b="0" lang="en-US" sz="3200" spc="-1" strike="noStrike">
              <a:solidFill>
                <a:srgbClr val="000000"/>
              </a:solidFill>
              <a:latin typeface="Gill Sans MT"/>
            </a:endParaRPr>
          </a:p>
        </p:txBody>
      </p:sp>
      <p:sp>
        <p:nvSpPr>
          <p:cNvPr id="577" name=""/>
          <p:cNvSpPr txBox="1"/>
          <p:nvPr/>
        </p:nvSpPr>
        <p:spPr>
          <a:xfrm>
            <a:off x="1442520" y="2015640"/>
            <a:ext cx="6572520" cy="3449880"/>
          </a:xfrm>
          <a:prstGeom prst="rect">
            <a:avLst/>
          </a:prstGeom>
          <a:noFill/>
          <a:ln w="0">
            <a:noFill/>
          </a:ln>
        </p:spPr>
        <p:txBody>
          <a:bodyPr anchor="t">
            <a:normAutofit/>
          </a:bodyPr>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نجلاء عبدالله الشهراني «</a:t>
            </a:r>
            <a:r>
              <a:rPr b="1" i="1" lang="ar-SA" sz="2400" spc="-1" strike="noStrike">
                <a:solidFill>
                  <a:srgbClr val="000000"/>
                </a:solidFill>
                <a:latin typeface="Gill Sans MT"/>
                <a:ea typeface="Arial"/>
              </a:rPr>
              <a:t>221</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26</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أنوار محمد الهويمل «</a:t>
            </a:r>
            <a:r>
              <a:rPr b="1" i="1" lang="ar-SA" sz="2400" spc="-1" strike="noStrike">
                <a:solidFill>
                  <a:srgbClr val="000000"/>
                </a:solidFill>
                <a:latin typeface="Gill Sans MT"/>
                <a:ea typeface="Arial"/>
              </a:rPr>
              <a:t>226</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31</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منيرة حمدان الحمدان «</a:t>
            </a:r>
            <a:r>
              <a:rPr b="1" i="1" lang="ar-SA" sz="2400" spc="-1" strike="noStrike">
                <a:solidFill>
                  <a:srgbClr val="000000"/>
                </a:solidFill>
                <a:latin typeface="Gill Sans MT"/>
                <a:ea typeface="Arial"/>
              </a:rPr>
              <a:t>231</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36</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سحاب جمال الشامي «</a:t>
            </a:r>
            <a:r>
              <a:rPr b="1" i="1" lang="ar-SA" sz="2400" spc="-1" strike="noStrike">
                <a:solidFill>
                  <a:srgbClr val="000000"/>
                </a:solidFill>
                <a:latin typeface="Gill Sans MT"/>
                <a:ea typeface="Arial"/>
              </a:rPr>
              <a:t>236</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42</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00240" y="274320"/>
            <a:ext cx="56865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شروط استحقاق معاش الشيخوخة </a:t>
            </a:r>
            <a:endParaRPr b="0" lang="en-US" sz="3200" spc="-1" strike="noStrike">
              <a:solidFill>
                <a:srgbClr val="000000"/>
              </a:solidFill>
              <a:latin typeface="Gill Sans MT"/>
            </a:endParaRPr>
          </a:p>
        </p:txBody>
      </p:sp>
      <p:sp>
        <p:nvSpPr>
          <p:cNvPr id="518" name=""/>
          <p:cNvSpPr txBox="1"/>
          <p:nvPr/>
        </p:nvSpPr>
        <p:spPr>
          <a:xfrm>
            <a:off x="0" y="2000160"/>
            <a:ext cx="9144000" cy="485784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قصد بمعاش الشيخوخة مبلغ نقدي يدفع شهريًا للمؤمن عليه أو المستحقين عنه عند تحقق شروطه . ويلزم توافر شروط معينة لاستحقاق المؤمن عليه أو ورثته لمعاش الشيخوخة ، وتتمثل هذه الشروط فيما يل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أولاً: بلوغ المؤمن عليه سن الستين : تحدد جميع نظم التأمين الاجتماعي بشكل تحكمي سناً معينة تمنح عندها معاشات الشيخوخة بصرف النظر عما إذا كان الفرد يستطيع العمل من عدمه ، من الناحية الواقعية ، و يسمى هذا السن بسن المعاش أو سن الإيحال للمعاش و ذلك نظراً لصعوبة تحديد سناً معيناً و واقعيا يمكن اعتباره بداية حقيقية لمرحلة الشيخوخة . </a:t>
            </a:r>
            <a:endParaRPr b="0" lang="en-US" sz="2000" spc="-1" strike="noStrike">
              <a:solidFill>
                <a:srgbClr val="000000"/>
              </a:solidFill>
              <a:latin typeface="Gill Sans MT"/>
            </a:endParaRPr>
          </a:p>
        </p:txBody>
      </p:sp>
      <p:pic>
        <p:nvPicPr>
          <p:cNvPr id="519" name="Picture 2" descr="نتيجة بحث الصور عن التأمينات و الضمان">
            <a:hlinkClick r:id="rId1"/>
          </p:cNvPr>
          <p:cNvPicPr/>
          <p:nvPr/>
        </p:nvPicPr>
        <p:blipFill>
          <a:blip r:embed="rId2"/>
          <a:stretch/>
        </p:blipFill>
        <p:spPr>
          <a:xfrm>
            <a:off x="0" y="0"/>
            <a:ext cx="2928960" cy="19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571560" y="213840"/>
            <a:ext cx="525780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وتوجد عدة عوامل تدخل في تحديد سن المعاش منها : </a:t>
            </a:r>
            <a:endParaRPr b="0" lang="en-US" sz="3200" spc="-1" strike="noStrike">
              <a:solidFill>
                <a:srgbClr val="000000"/>
              </a:solidFill>
              <a:latin typeface="Gill Sans MT"/>
            </a:endParaRPr>
          </a:p>
        </p:txBody>
      </p:sp>
      <p:sp>
        <p:nvSpPr>
          <p:cNvPr id="521" name=""/>
          <p:cNvSpPr txBox="1"/>
          <p:nvPr/>
        </p:nvSpPr>
        <p:spPr>
          <a:xfrm>
            <a:off x="108000" y="2060280"/>
            <a:ext cx="8712000" cy="381636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مستوى العام للأعمار في الدولة ، ففي بعض الدول التي تتميز بانخفاض معدلات الوفاة وارتفاع توقع الحياة تكون سن استحقاق المعاش مرتفعة نسبياً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مستوى الاقتصادي للدولة ففي الكثير من الدول المتقدمة اقتصاديا يكون فيها سن الإحالة للمعاش أكبر نسبيا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طبيعة الصناعة و النشاط . ففي بعض الصناعات و الأنشطة الخطرة كالمناجم قد يتم تحديد سن الإحالة للمعاش أقل عشر سنوات من الصناعات الأخرى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جنس (النوع) ففي كثير من الدول يكون سن الإحالة للمعاش أقل من سن الإحالة بالنسبة للرجل . </a:t>
            </a:r>
            <a:endParaRPr b="0" lang="en-US" sz="2000" spc="-1" strike="noStrike">
              <a:solidFill>
                <a:srgbClr val="000000"/>
              </a:solidFill>
              <a:latin typeface="Gill Sans MT"/>
            </a:endParaRPr>
          </a:p>
        </p:txBody>
      </p:sp>
      <p:pic>
        <p:nvPicPr>
          <p:cNvPr id="522" name="Picture 2" descr="نتيجة بحث الصور عن التأمينات و الضمان">
            <a:hlinkClick r:id="rId1"/>
          </p:cNvPr>
          <p:cNvPicPr/>
          <p:nvPr/>
        </p:nvPicPr>
        <p:blipFill>
          <a:blip r:embed="rId2"/>
          <a:stretch/>
        </p:blipFill>
        <p:spPr>
          <a:xfrm>
            <a:off x="0" y="0"/>
            <a:ext cx="3214800" cy="151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442520" y="2015640"/>
            <a:ext cx="6572520" cy="3449880"/>
          </a:xfrm>
          <a:prstGeom prst="rect">
            <a:avLst/>
          </a:prstGeom>
          <a:noFill/>
          <a:ln w="0">
            <a:noFill/>
          </a:ln>
        </p:spPr>
        <p:txBody>
          <a:bodyPr anchor="t">
            <a:normAutofit fontScale="88000"/>
          </a:bodyPr>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حرص على إتاحة فرصة من الوقت لكي ينعم عليها المؤمن عليه بالراحة المشمولة في الضمان ، عوضًا عما بذلوه عن جهد في فترة العمل . </a:t>
            </a:r>
            <a:endParaRPr b="0" lang="en-US" sz="2000" spc="-1" strike="noStrike">
              <a:solidFill>
                <a:srgbClr val="000000"/>
              </a:solidFill>
              <a:latin typeface="Gill Sans MT"/>
            </a:endParaRPr>
          </a:p>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نص النظام السعودي أنه إذا بلغ المشترك ستين سنة كاملة ، و توقف عن ممارسة أي نشاط خاضع للنظام ، يحق له الحصول على معاش التقاعد متى كانت مدة اشتراكه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على الأقل . ويتم احتساب السن بالتقويم الهجري، ويعادل هذا السن بالتقويم الميلادي </a:t>
            </a:r>
            <a:r>
              <a:rPr b="0" lang="ar-SA" sz="2000" spc="-1" strike="noStrike">
                <a:solidFill>
                  <a:srgbClr val="000000"/>
                </a:solidFill>
                <a:latin typeface="Gill Sans MT"/>
                <a:ea typeface="Arial"/>
              </a:rPr>
              <a:t>85</a:t>
            </a:r>
            <a:r>
              <a:rPr b="0" lang="ar-SA" sz="2000" spc="-1" strike="noStrike">
                <a:solidFill>
                  <a:srgbClr val="000000"/>
                </a:solidFill>
                <a:latin typeface="Gill Sans MT"/>
                <a:ea typeface="Arial"/>
              </a:rPr>
              <a:t> سنة و </a:t>
            </a:r>
            <a:r>
              <a:rPr b="0" lang="ar-SA" sz="2000" spc="-1" strike="noStrike">
                <a:solidFill>
                  <a:srgbClr val="000000"/>
                </a:solidFill>
                <a:latin typeface="Gill Sans MT"/>
                <a:ea typeface="Arial"/>
              </a:rPr>
              <a:t>1</a:t>
            </a:r>
            <a:r>
              <a:rPr b="0" lang="ar-SA" sz="2000" spc="-1" strike="noStrike">
                <a:solidFill>
                  <a:srgbClr val="000000"/>
                </a:solidFill>
                <a:latin typeface="Gill Sans MT"/>
                <a:cs typeface="Arial"/>
              </a:rPr>
              <a:t>شهر و</a:t>
            </a:r>
            <a:r>
              <a:rPr b="0" lang="ar-SA" sz="2000" spc="-1" strike="noStrike">
                <a:solidFill>
                  <a:srgbClr val="000000"/>
                </a:solidFill>
                <a:latin typeface="Gill Sans MT"/>
                <a:ea typeface="Arial"/>
              </a:rPr>
              <a:t>20</a:t>
            </a:r>
            <a:r>
              <a:rPr b="0" lang="ar-SA" sz="2000" spc="-1" strike="noStrike">
                <a:solidFill>
                  <a:srgbClr val="000000"/>
                </a:solidFill>
                <a:latin typeface="Gill Sans MT"/>
                <a:ea typeface="Arial"/>
              </a:rPr>
              <a:t> يوم ، ويتم تحديد سن طالب المعاش من خلال شهادة ميلاده، أو بواسطة شهادة تصدرها السلطات المختصة نظاماً، وإذا تعذر يتم تحديد السن بواسطة طبيب سمَته المؤسسة ويجوز لصحاب المصلحة الاعتراض . </a:t>
            </a:r>
            <a:endParaRPr b="0" lang="en-US" sz="2000" spc="-1" strike="noStrike">
              <a:solidFill>
                <a:srgbClr val="000000"/>
              </a:solidFill>
              <a:latin typeface="Gill Sans MT"/>
            </a:endParaRPr>
          </a:p>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785680" y="274320"/>
            <a:ext cx="59007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التوقف عن ممارسة العمل الخاضع للتأمين </a:t>
            </a:r>
            <a:endParaRPr b="0" lang="en-US" sz="3200" spc="-1" strike="noStrike">
              <a:solidFill>
                <a:srgbClr val="000000"/>
              </a:solidFill>
              <a:latin typeface="Gill Sans MT"/>
            </a:endParaRPr>
          </a:p>
        </p:txBody>
      </p:sp>
      <p:sp>
        <p:nvSpPr>
          <p:cNvPr id="525" name=""/>
          <p:cNvSpPr txBox="1"/>
          <p:nvPr/>
        </p:nvSpPr>
        <p:spPr>
          <a:xfrm>
            <a:off x="357120" y="1600200"/>
            <a:ext cx="8329680" cy="504360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نص المشرع السعودي:“إذا بلغ المشترك ستين سنة كاملة،فتوقف عن ممارسة أي نشاط خاضع للنظام، يحق له الحصول على معاش التقاعد“ يتضح من النص أن المشرع اشترط توقف العامل عن ممارسة عمله ، حتى يستحق معاش الشيخوخة حتى أن الغرض من استحقاق المعاش هو تعويض العامل المؤمن عليه عن الأجر . وعلى ذلك ،إذا مارس المشترك عملاً غير خاضع للنظام فيستحق المعاش رغم حصوله على أجر من هذا العمل ، أضف إلى ذلك أن بلوغ العامل سن الستين لا يعد شرطًا أساسيًا للحصول على المعاش و من ثم فلا بد من التوقف الفعلي عن ممارسة العمل المشمول بالتأمين . </a:t>
            </a:r>
            <a:endParaRPr b="0" lang="en-US" sz="2000" spc="-1" strike="noStrike">
              <a:solidFill>
                <a:srgbClr val="000000"/>
              </a:solidFill>
              <a:latin typeface="Gill Sans MT"/>
            </a:endParaRPr>
          </a:p>
        </p:txBody>
      </p:sp>
      <p:pic>
        <p:nvPicPr>
          <p:cNvPr id="526" name="Picture 2" descr="نتيجة بحث الصور عن التأمينات و الضمان"/>
          <p:cNvPicPr/>
          <p:nvPr/>
        </p:nvPicPr>
        <p:blipFill>
          <a:blip r:embed="rId1"/>
          <a:stretch/>
        </p:blipFill>
        <p:spPr>
          <a:xfrm>
            <a:off x="0" y="0"/>
            <a:ext cx="278604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714480" y="274320"/>
            <a:ext cx="49719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بلوغ النصاب المطلوب في عدد الاشتراكات .. </a:t>
            </a:r>
            <a:endParaRPr b="0" lang="en-US" sz="3200" spc="-1" strike="noStrike">
              <a:solidFill>
                <a:srgbClr val="000000"/>
              </a:solidFill>
              <a:latin typeface="Gill Sans MT"/>
            </a:endParaRPr>
          </a:p>
        </p:txBody>
      </p:sp>
      <p:sp>
        <p:nvSpPr>
          <p:cNvPr id="528" name=""/>
          <p:cNvSpPr txBox="1"/>
          <p:nvPr/>
        </p:nvSpPr>
        <p:spPr>
          <a:xfrm>
            <a:off x="0" y="2071440"/>
            <a:ext cx="9144000" cy="478620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نبغي أن يبلغ العامل نصابًا معيناً من اشتراكات التأمين حتى يستحق معاش الشيخوخة ، ويعد العامل مستكملاً بنصاب الاشتراكات المؤهلة لمعاش الشيخوخة ، إذا قضي على الأقل إحدى الحالتين : </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تأمينيناً منها </a:t>
            </a:r>
            <a:r>
              <a:rPr b="0" lang="ar-SA" sz="2000" spc="-1" strike="noStrike">
                <a:solidFill>
                  <a:srgbClr val="000000"/>
                </a:solidFill>
                <a:latin typeface="Gill Sans MT"/>
                <a:ea typeface="Arial"/>
              </a:rPr>
              <a:t>36</a:t>
            </a:r>
            <a:r>
              <a:rPr b="0" lang="ar-SA" sz="2000" spc="-1" strike="noStrike">
                <a:solidFill>
                  <a:srgbClr val="000000"/>
                </a:solidFill>
                <a:latin typeface="Gill Sans MT"/>
                <a:ea typeface="Arial"/>
              </a:rPr>
              <a:t> شهر في خلال السنوات الخمس الأخيرة التي تسبق طلب المعاش و التوقف عن العمل . </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180</a:t>
            </a:r>
            <a:r>
              <a:rPr b="0" lang="ar-SA" sz="2000" spc="-1" strike="noStrike">
                <a:solidFill>
                  <a:srgbClr val="000000"/>
                </a:solidFill>
                <a:latin typeface="Gill Sans MT"/>
                <a:cs typeface="Arial"/>
              </a:rPr>
              <a:t>شهر من المجموع أي دون النظر إلى كونه متصلة أو منفصلة و تحسب الأشهر تبعًا للقواعد المنصوص عليها في المادة </a:t>
            </a:r>
            <a:r>
              <a:rPr b="0" lang="ar-SA" sz="2000" spc="-1" strike="noStrike">
                <a:solidFill>
                  <a:srgbClr val="000000"/>
                </a:solidFill>
                <a:latin typeface="Gill Sans MT"/>
                <a:ea typeface="Arial"/>
              </a:rPr>
              <a:t>41</a:t>
            </a:r>
            <a:r>
              <a:rPr b="0" lang="ar-SA" sz="2000" spc="-1" strike="noStrike">
                <a:solidFill>
                  <a:srgbClr val="000000"/>
                </a:solidFill>
                <a:latin typeface="Gill Sans MT"/>
                <a:ea typeface="Arial"/>
              </a:rPr>
              <a:t> من هذا النظام ، ويحدد سن المؤمن عليه وفقًا لأحكام المادة </a:t>
            </a:r>
            <a:r>
              <a:rPr b="0" lang="ar-SA" sz="2000" spc="-1" strike="noStrike">
                <a:solidFill>
                  <a:srgbClr val="000000"/>
                </a:solidFill>
                <a:latin typeface="Gill Sans MT"/>
                <a:ea typeface="Arial"/>
              </a:rPr>
              <a:t>45</a:t>
            </a:r>
            <a:r>
              <a:rPr b="0" lang="ar-SA" sz="2000" spc="-1" strike="noStrike">
                <a:solidFill>
                  <a:srgbClr val="000000"/>
                </a:solidFill>
                <a:latin typeface="Gill Sans MT"/>
                <a:ea typeface="Arial"/>
              </a:rPr>
              <a:t> لهذا النظام </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pic>
        <p:nvPicPr>
          <p:cNvPr id="529" name="Picture 2" descr="نتيجة بحث الصور عن التأمينات و الضمان"/>
          <p:cNvPicPr/>
          <p:nvPr/>
        </p:nvPicPr>
        <p:blipFill>
          <a:blip r:embed="rId1"/>
          <a:stretch/>
        </p:blipFill>
        <p:spPr>
          <a:xfrm>
            <a:off x="0" y="0"/>
            <a:ext cx="371484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5c0f21"/>
                </a:solidFill>
                <a:latin typeface="Gill Sans MT"/>
                <a:cs typeface="Times New Roman"/>
              </a:rPr>
              <a:t>النصاب الخاص للمتقدمين في السن:</a:t>
            </a:r>
            <a:endParaRPr b="0" lang="en-US" sz="3200" spc="-1" strike="noStrike">
              <a:solidFill>
                <a:srgbClr val="000000"/>
              </a:solidFill>
              <a:latin typeface="Gill Sans MT"/>
            </a:endParaRPr>
          </a:p>
        </p:txBody>
      </p:sp>
      <p:sp>
        <p:nvSpPr>
          <p:cNvPr id="531" name=""/>
          <p:cNvSpPr txBox="1"/>
          <p:nvPr/>
        </p:nvSpPr>
        <p:spPr>
          <a:xfrm>
            <a:off x="1442520" y="2015640"/>
            <a:ext cx="6572520" cy="3449880"/>
          </a:xfrm>
          <a:prstGeom prst="rect">
            <a:avLst/>
          </a:prstGeom>
          <a:noFill/>
          <a:ln w="0">
            <a:noFill/>
          </a:ln>
        </p:spPr>
        <p:txBody>
          <a:bodyPr anchor="t">
            <a:normAutofit fontScale="90000"/>
          </a:bodyPr>
          <a:p>
            <a:pPr marL="205560" indent="-205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نص الفقرة الثانية من المادة </a:t>
            </a:r>
            <a:r>
              <a:rPr b="0" lang="ar-SA" sz="2000" spc="-1" strike="noStrike">
                <a:solidFill>
                  <a:srgbClr val="000000"/>
                </a:solidFill>
                <a:latin typeface="Gill Sans MT"/>
                <a:ea typeface="Arial"/>
              </a:rPr>
              <a:t>38</a:t>
            </a:r>
            <a:r>
              <a:rPr b="0" lang="ar-SA" sz="2000" spc="-1" strike="noStrike">
                <a:solidFill>
                  <a:srgbClr val="000000"/>
                </a:solidFill>
                <a:latin typeface="Gill Sans MT"/>
                <a:ea typeface="Arial"/>
              </a:rPr>
              <a:t> من النظام على أنه: </a:t>
            </a:r>
            <a:r>
              <a:rPr b="0" lang="en-GB" sz="2000" spc="-1" strike="noStrike">
                <a:solidFill>
                  <a:srgbClr val="000000"/>
                </a:solidFill>
                <a:latin typeface="Gill Sans MT"/>
              </a:rPr>
              <a:t>“</a:t>
            </a:r>
            <a:r>
              <a:rPr b="0" lang="ar-SA" sz="2000" spc="-1" strike="noStrike">
                <a:solidFill>
                  <a:srgbClr val="000000"/>
                </a:solidFill>
                <a:latin typeface="Gill Sans MT"/>
                <a:cs typeface="Arial"/>
              </a:rPr>
              <a:t>إذا بلغت مدة اشتراك المشترك خمس سنوات على الأقل وانتهت ببلوغ سن الستين دون أن يستكمل المدة المؤهلة لاستحقاق معاش التقاعد فإنه يجوز له أن يطلب ضم مدة اعتبارية الى مدة اشتراكه على ألا تتجاوز المدة المضمومة خمس سنوات أو المدة اللازمة لاستحقاق معاش التقاعد أو أيهما أقل, وعليه- في هذه الحالة- أن يؤدي الى المؤسسة جملة اشتراكات فرع المعاشات المنصوص عليها في الفقرة(</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أ) من المادة الثامنة عشرة عن كل شهر عن المدة المضمومة، محسوبة على أساسا المتوسط الشهري للاشتراك الذي سيقدر على أساسه المعاش، وتؤدى هذه القيمة إما دفعة واحدة أو على أقساط شهرية وفق ما تحدده اللائحة من أحكا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09:38:26Z</dcterms:created>
  <dc:creator>DDJ DillDaJani</dc:creator>
  <dc:description/>
  <dc:language>en-US</dc:language>
  <cp:lastModifiedBy>eman</cp:lastModifiedBy>
  <dcterms:modified xsi:type="dcterms:W3CDTF">2016-10-05T01:16:19Z</dcterms:modified>
  <cp:revision>22</cp:revision>
  <dc:subject/>
  <dc:title>الفصل الثاني  فرع المعاشات  ص 221</dc:title>
</cp:coreProperties>
</file>