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460-F516-4106-847B-60F6A4E4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9B1-4017-429E-B05F-56793DAC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470-EFE6-4678-ABB2-2D8004FE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4B8-828F-45B9-BD77-DE0AF884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E47-D8EA-4BC9-9BDB-D3DBBD8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1D6-C840-47D0-AE23-B53BD17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341-FE92-4736-B8FD-5B4F2A8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E79-84A8-4880-8577-8D7E18DD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64E-9AD0-4E77-8F57-53C10CD1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B62-396C-4A0E-BE00-3CC5AD6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9C6-444C-4AE4-BB71-E8B0C56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4ED-0F43-4E16-8E7C-6E476302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7E73-E511-4BBD-B6FD-E499A4F3C6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1122480"/>
            <a:ext cx="10528200" cy="22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e79"/>
                </a:solidFill>
                <a:latin typeface="Calibri Light"/>
              </a:rPr>
              <a:t>بعض أنواع البيع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4760"/>
            <a:ext cx="10515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محل الربا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2440" y="784080"/>
            <a:ext cx="115473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لا يقتصر تحريم الربا في مذاهب جماهير العلماء غير الظاهرية على الاصناف الستة المذكورة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فيحرم الربا في السبائك والنقود المعدنية الذهب والفضة والورقية وذلك باتفاق العلماء عدا بعض متأخري المذاهب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 </a:t>
            </a: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ويحرم الربا ايضا في جميع المقدرات المثلية من مكيل  او موزون في راي الحنابلة والحنفية مثل الارز والسمسم والحديد والقط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ويحرم الربا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وفي الاقوات الثابلة للادخار في راي المالكية وفي المطعومات في رأي الشافع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-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فلا ربا في بيع المذروعات كالاقمشة والمعدودات كالجوز والبيض ولا في الاموال القيمية كافراد الحيوان والاراضي والدور والاسشجار ، فيجوز اعطاء الكثير منها في مقابل القليل كبيع نعجتين بنعجة </a:t>
            </a: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خلاص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-- أن الربا يكون في كل مكيل او موزون في راي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وفي النقود والسبائك والمقتات المدخر أي القابل للادخار في راي اخر 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-- ولا ربا في الفواكه مثلا الا عند من رأى الربا في المطعومات فيرون الربا في الفواكه 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5480" y="0"/>
            <a:ext cx="105156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ربا النسيئة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574560"/>
            <a:ext cx="1219212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يحدث ربا النسيئة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</a:t>
            </a: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عند مبادلة الشيء بجنسه كرطل قمح برطلي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-- او عند تأخير قبض احد العوضين من المقتـــات المدخر او النقود والسبائك عن مجلس العقد ولو تساوى العوضان في المقدار والكميه..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كبيع رطل شعي حال القبض برطل شعير اخر مؤجل التسليم بعد فترة العقد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1f4e79"/>
                </a:solidFill>
                <a:uFillTx/>
                <a:latin typeface="Calibri"/>
              </a:rPr>
              <a:t>طريقة التخلص من الربا في البيوع </a:t>
            </a:r>
            <a:r>
              <a:rPr b="1" lang="ar-SA" sz="2400" spc="-1" strike="noStrike" u="sng">
                <a:solidFill>
                  <a:srgbClr val="0d0d0d"/>
                </a:solidFill>
                <a:uFillTx/>
                <a:latin typeface="Calibri"/>
              </a:rPr>
              <a:t>هو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 المماثلة حال اتحاد الجنس كذرة بذ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 مع التقابـض قبل التفرق  فان تفرق المتعاقدان دون ان يتقابضا كان ذلك هو ربا النسيئة وان لم يزد احد العوضين عن الاخر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1f4e79"/>
                </a:solidFill>
                <a:uFillTx/>
                <a:latin typeface="Calibri"/>
              </a:rPr>
              <a:t>جيد المال ورديئة </a:t>
            </a:r>
            <a:r>
              <a:rPr b="1" lang="ar-SA" sz="2400" spc="-1" strike="noStrike" u="sng">
                <a:solidFill>
                  <a:srgbClr val="0d0d0d"/>
                </a:solidFill>
                <a:uFillTx/>
                <a:latin typeface="Calibri"/>
              </a:rPr>
              <a:t>:</a:t>
            </a:r>
            <a:r>
              <a:rPr b="1" lang="ar-SA" sz="2400" spc="-1" strike="noStrike">
                <a:solidFill>
                  <a:srgbClr val="7030a0"/>
                </a:solidFill>
                <a:latin typeface="Calibri"/>
              </a:rPr>
              <a:t>الربا حرام ان زاد مقدار احد العوضين على الاخر في الكميه لا في الجودة والقيمة او الصياغة مقابل الصنعة،</a:t>
            </a: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-- فان كانت الزيادة في الحال حدث ربا الفضل ، وجيد المال الربوي ورديئه سواء  فلا يصح بيع غرام ذهب بغرام وربع حلي لوجود تفاضل في احد العوضي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</a:rPr>
              <a:t>-- اما اذا اختلف جنس العوضين كفضه بذهب فيجوز التفاضل ولاتشترط المماثلة ، لكن يشترط التقابض في مجلس العقد ، كبيع غرام ذهب بغرامين فضة وقنطار قمح بقنطاررين شعير  ، لاختلاف الجنس لكن بشرط التقابض في مجلس العقد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-- فان تاخر القبض عن المجلس كنا امام رب النسيئة ولو لم تكن هناك زيادة في الكمية او القد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04640" y="247680"/>
            <a:ext cx="11130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--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يتبين من ذلك ان ربا الفضل لا يتحقق الا في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اتحاد الجنس</a:t>
            </a: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وعند وجود زياده في القدر</a:t>
            </a:r>
            <a:r>
              <a:rPr b="1" lang="ar-SA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--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اما ربا النسيئة يتحقق في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ar-SA" sz="4000" spc="-1" strike="noStrike" u="sng">
                <a:solidFill>
                  <a:srgbClr val="00b050"/>
                </a:solidFill>
                <a:uFillTx/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اتحاد واختلاف الجنس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او عند زياده في القدر او عدم الزيادة مع تأخير القبض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</a:rPr>
              <a:t>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1f4e79"/>
                </a:solidFill>
                <a:uFillTx/>
                <a:latin typeface="Calibri Light"/>
              </a:rPr>
              <a:t>الربا في النقود: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704880"/>
            <a:ext cx="1219212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c00000"/>
                </a:solidFill>
                <a:latin typeface="Calibri"/>
              </a:rPr>
              <a:t>يحدث الربا في النقود سواء كانت كالسبائك الذهبية والفضية ، والأواني والأدوات الذهبية والفضية وحلي النساء  سواء كانت النقود ذهبا او عملات ورقيه فعلة الربا هي النقدية أي كون النقود ثمنا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b050"/>
                </a:solidFill>
                <a:latin typeface="Calibri"/>
              </a:rPr>
              <a:t>-- المماثلة المطلوبة لتفادي  الربا في النقود المعدنية من ذهب او فضة هي التماثل  في الوزن ؛ كغرام بغرام دون زيادة 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2060"/>
                </a:solidFill>
                <a:latin typeface="Calibri"/>
              </a:rPr>
              <a:t>-- اما التماثل في النقود الورقية فهو العدد دينار ذهب بدينار ذهب من جنسه ومائة درهم فضة بمائة درهم فضة </a:t>
            </a:r>
            <a:r>
              <a:rPr b="1" lang="ar-SA" sz="3400" spc="-1" strike="noStrike" u="sng">
                <a:solidFill>
                  <a:srgbClr val="002060"/>
                </a:solidFill>
                <a:uFillTx/>
                <a:latin typeface="Calibri"/>
              </a:rPr>
              <a:t>اي بمثل الوزن فالبيع جائز </a:t>
            </a:r>
            <a:r>
              <a:rPr b="1" lang="ar-SA" sz="3400" spc="-1" strike="noStrike">
                <a:solidFill>
                  <a:srgbClr val="002060"/>
                </a:solidFill>
                <a:latin typeface="Calibri"/>
              </a:rPr>
              <a:t>، </a:t>
            </a:r>
            <a:r>
              <a:rPr b="1" lang="ar-SA" sz="3400" spc="-1" strike="noStrike">
                <a:solidFill>
                  <a:srgbClr val="c00000"/>
                </a:solidFill>
                <a:latin typeface="Calibri"/>
              </a:rPr>
              <a:t>وان تفاوتا في الوزن حرم البيع 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7030a0"/>
                </a:solidFill>
                <a:latin typeface="Calibri"/>
              </a:rPr>
              <a:t>-- بيع النقد الورقي بنقد اخر مماثل له في العدد جاز البيع للتماثل في العدد لا الوزن – اما بيع النقد الورقي باخر كبيع درهم بدولار والريال بالجنيه ، فهو جائز شرعا وما يسمى ب </a:t>
            </a:r>
            <a:r>
              <a:rPr b="1" lang="ar-SA" sz="3400" spc="-1" strike="noStrike" u="sng">
                <a:solidFill>
                  <a:srgbClr val="002060"/>
                </a:solidFill>
                <a:uFillTx/>
                <a:latin typeface="Calibri"/>
              </a:rPr>
              <a:t>عقد الصرف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09520" y="247320"/>
            <a:ext cx="117554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ربا في الاقوات المدخرة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وسع </a:t>
            </a: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حنفية والحنابلة 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دائرة الربا فجعلوها في جميع الاموال المكيلة كالقمح والشعير والموزونة كالقطن والحديد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ويليهم </a:t>
            </a: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شافعية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 فجعلوا الأموال الربوية هي النقود والمطعومات</a:t>
            </a: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ويليهم المالكية 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في النقود والاقوات القابلة للادخار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مطعوم المقتات الربوي هو :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ا يكون خاص بتناول الادميين او يشاركهم فيه غيرهم ، اما ما يختص بطعام البهائم كالتبن والحشيش فلا ربا فيه فيجوز بيعه بالتفاضل وبتأجيل القبض 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1f4e79"/>
                </a:solidFill>
                <a:latin typeface="Calibri"/>
              </a:rPr>
              <a:t>المطعوم المتحول هو: </a:t>
            </a: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يأخذ حكم اصله فبيع دقيق القمح بدقيق  اخر جائز حال التماثل في الكميه والمقدار وعند التقابض في مجلس العقد،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ما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ذا اختلف جنس الأصل كبيع دقيق حنطة بدقيق شعير فيجوز ولو تفاوتت لكمية والمقدار بشرط التقابض قبل التفرق في المجلس نفسه . كالزيت والدهان وانواع الخل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ومعنى كون المقتات في </a:t>
            </a: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راي المالكية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صالحا للادخار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نه لا يفسد بتأخيره مده من الزمن</a:t>
            </a:r>
            <a:r>
              <a:rPr b="1" lang="ar-SA" sz="2400" spc="-1" strike="noStrike">
                <a:solidFill>
                  <a:srgbClr val="181717"/>
                </a:solidFill>
                <a:latin typeface="Calibri"/>
              </a:rPr>
              <a:t> ودليلهم على ان علة الربا هي القوت والادخار :انه لما كان حكم التحريم معقول المعنى في الربا وهو الا يغبن  بعض الناس بعضا وجب ذلك في اصول المعايش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57320"/>
            <a:ext cx="10515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f4e79"/>
                </a:solidFill>
                <a:latin typeface="Calibri Light"/>
              </a:rPr>
              <a:t>مقياس الأموال الربوية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35080" y="797040"/>
            <a:ext cx="117568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كل ما نص الشرع على كونه كيلياً </a:t>
            </a:r>
            <a:r>
              <a:rPr b="1" lang="ar-SA" sz="2600" spc="-1" strike="noStrike">
                <a:solidFill>
                  <a:srgbClr val="1f4e79"/>
                </a:solidFill>
                <a:latin typeface="Calibri"/>
              </a:rPr>
              <a:t>كَـ(بُر و شعير و تمر وملح)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, أو وزنياً </a:t>
            </a:r>
            <a:r>
              <a:rPr b="1" lang="ar-SA" sz="2600" spc="-1" strike="noStrike">
                <a:solidFill>
                  <a:srgbClr val="1f4e79"/>
                </a:solidFill>
                <a:latin typeface="Calibri"/>
              </a:rPr>
              <a:t>كـ(ذهب وفضه )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, فإنه يعتبر كذلك أبداً , وإن تغيرت واسطة بيعه عما كان في الماضي ؛ لقول النبي صلى الله عليه وسلم: </a:t>
            </a:r>
            <a:r>
              <a:rPr b="1" lang="ar-SA" sz="2600" spc="-1" strike="noStrike">
                <a:solidFill>
                  <a:srgbClr val="1f4e79"/>
                </a:solidFill>
                <a:latin typeface="Calibri"/>
              </a:rPr>
              <a:t>( المكيال مكيال أهل المدينه, والوزن وزن أهل مكه 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Calibri"/>
              </a:rPr>
              <a:t>فلا يصح بيع الحنطة بالحنطة بوزن متساو, وإنما لابد من التساوي كيلاً, لا وزناً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030a0"/>
                </a:solidFill>
                <a:latin typeface="Calibri"/>
              </a:rPr>
              <a:t>ولا يصح بيع الذهب بالذهب أو الفضه بالفضه بكيل متساو, وإنما لابد من التساوي وزناً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؛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2060"/>
                </a:solidFill>
                <a:uFillTx/>
                <a:latin typeface="Calibri"/>
              </a:rPr>
              <a:t>لأن النص أقوى من العرف, والأقوى لا يترك بالأدنى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و ذهب </a:t>
            </a:r>
            <a:r>
              <a:rPr b="1" lang="ar-SA" sz="2600" spc="-1" strike="noStrike" u="sng">
                <a:solidFill>
                  <a:srgbClr val="00b050"/>
                </a:solidFill>
                <a:uFillTx/>
                <a:latin typeface="Calibri"/>
              </a:rPr>
              <a:t>أبو يوسف إلى أن المقياس المعتبر في الأموال الربويه, في المنصوص عليه وغيره هو المقياس العرفي,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وأنه يتبدل بتبدل العرف, ورأيه أقوى حج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ويجب الأنتباه إلى أن </a:t>
            </a:r>
            <a:r>
              <a:rPr b="1" lang="ar-SA" sz="2600" spc="-1" strike="noStrike">
                <a:solidFill>
                  <a:srgbClr val="c00000"/>
                </a:solidFill>
                <a:latin typeface="Calibri"/>
              </a:rPr>
              <a:t>المماثلة وعدمها بالنسبه للثمار والحبوب لا ينظر إليها إلا بعد جفافها, فلا يباع رطب برطب ولا بتمر, ولا عنب بعنب ولا زبيب؛ لأن الرطب والعنب بنقصان بالجفا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أما الذي </a:t>
            </a:r>
            <a:r>
              <a:rPr b="1" lang="ar-SA" sz="2600" spc="-1" strike="noStrike">
                <a:solidFill>
                  <a:srgbClr val="843c0c"/>
                </a:solidFill>
                <a:latin typeface="Calibri"/>
              </a:rPr>
              <a:t>لا يقبل الجفاف كـ(القثاء والخيار والزيتون ) فإن بيعه ببعضه ممنوع, لعدم التحقق من التماثل بسبب الرطوبة, وكذلك ما يعرض على النار لا يباع بعضه كالسمسم والخبز واللحم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 algn="r" rtl="1">
              <a:lnSpc>
                <a:spcPct val="80000"/>
              </a:lnSpc>
              <a:spcBef>
                <a:spcPts val="1001"/>
              </a:spcBef>
              <a:buClr>
                <a:srgbClr val="843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880" y="221760"/>
            <a:ext cx="10515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اتفاق الجنس واختلافه :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2080" y="731520"/>
            <a:ext cx="11612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رى الأمام مالك أن </a:t>
            </a:r>
            <a:r>
              <a:rPr b="1" lang="ar-SA" sz="3200" spc="-1" strike="noStrike">
                <a:solidFill>
                  <a:srgbClr val="843c0c"/>
                </a:solidFill>
                <a:latin typeface="Calibri"/>
              </a:rPr>
              <a:t>القمح والشعير والسلت(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نوع من الشعير ليس له قشر</a:t>
            </a:r>
            <a:r>
              <a:rPr b="1" lang="ar-SA" sz="3200" spc="-1" strike="noStrike">
                <a:solidFill>
                  <a:srgbClr val="843c0c"/>
                </a:solidFill>
                <a:latin typeface="Calibri"/>
              </a:rPr>
              <a:t>) صنف أو جنس واحد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أن الذره والدخن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(</a:t>
            </a:r>
            <a:r>
              <a:rPr b="1" lang="ar-SA" sz="3200" spc="-1" strike="noStrike">
                <a:solidFill>
                  <a:srgbClr val="002060"/>
                </a:solidFill>
                <a:latin typeface="Calibri"/>
              </a:rPr>
              <a:t>نوع من أنواع الذره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)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والأرز صنف واح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ن البقول كالفول والعدس والحمص كلها صنف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فلا يجوز التفاضل عنده خلافاً لجمهور العلماء بين القمح والشعير , ويجوز بين القمح والذ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أما اللحوم عنده فهي ثلاثة أصناف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-- لحم ذوات الأربع صن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-- لحم الطيور صن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-- لحم الأسماك (الحيتان) صنف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 -إعداد الطالبات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فهده القحط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فاطمه الكثي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لمى الجنوب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يارا التميم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 rtl="1">
              <a:lnSpc>
                <a:spcPct val="90000"/>
              </a:lnSpc>
              <a:spcBef>
                <a:spcPts val="499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نوف 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بعض أنواع البيع 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2480" y="979200"/>
            <a:ext cx="114966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ذكر القانون الاماراتي تحت عنوان ( الفرع الثاني من عقد البيع_ بيوع مختلفه ) اربع عشر نوعا من البيوع واقتصر القانون الاردني على ايراد ستة انواع فقط هي السلم والمخارجة والبيع في مرض الموت وبيع النائب لنفسه وبيع ملك الغير والمقايض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سأوضح بحث الربا قبل بيان هذه الانواع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Calibri"/>
              </a:rPr>
              <a:t>الربا 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نص القانون المدني الكويتي صراحة في المادة (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305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) على ما يأتي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- يقع باطلا كل اتفاق على تقاضي فوائد مقابل الانتفاع بمبلغ من النقود او مقابل التأخير في الوفاء بالالتزام به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b050"/>
                </a:solidFill>
                <a:latin typeface="Calibri"/>
              </a:rPr>
              <a:t>- ويعتبر في حكم الفائده كل منفعة او عمولة أيا كان نوعها اشترطها الدائن إذا ما ثبت أن ذلك لا يقابله خدمه حقيقيه متناسبه يكون الدائن قد اداها فعلا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7320" y="339480"/>
            <a:ext cx="117046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وكان جديرا بالقانون الاماراتي ذي الصبغة الاسلامية وأصله القانون المدني الاردني النص الصريح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لى تحريم الفوائد , كما فعل القانون الكويتي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تعريف الربا وتحريمه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1f4e79"/>
                </a:solidFill>
                <a:uFillTx/>
                <a:latin typeface="Calibri"/>
              </a:rPr>
              <a:t>الربا في اللغة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ar-SA" sz="2800" spc="-1" strike="noStrike" u="sng">
                <a:solidFill>
                  <a:srgbClr val="00b050"/>
                </a:solidFill>
                <a:uFillTx/>
                <a:latin typeface="Calibri"/>
              </a:rPr>
              <a:t>الزيادة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, كما جاء في قوله تعالى (( 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فإذا انزلنا عليها الماء اهتزت وربت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)) أي زادت ونمت بنماء الزر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وهو في الشرع :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الزياده في اشياء مخصوصة , أو الزياده في احد العوضين عن الآخر او تأخير التقابض عن مجلس العقد في اشياء مخصوصة على نحو مخصوص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Calibri"/>
              </a:rPr>
              <a:t>والربا محرم بالقرآن والسنة والاجماع 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ما القرآن فأصرح آية فيه تعم جميع انواع الربا وجنسه هي قوله تعالى : </a:t>
            </a:r>
            <a:r>
              <a:rPr b="1" lang="ar-SA" sz="2800" spc="-1" strike="noStrike">
                <a:solidFill>
                  <a:srgbClr val="1f4e79"/>
                </a:solidFill>
                <a:latin typeface="Calibri"/>
              </a:rPr>
              <a:t>( وأحل البيع وحرم الربا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) وكان تعاطي الربا شائعا بين عرب الجاهلية وبقدر فاحش يشبه الفوائد المركبه في المصارف الحالية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واجمع العلماء على تحريم الربا لانه اكل اموال الناس بالباطل او الحرام لاخذ شيء ليس من حق الانسان ، وسلب انسان ما هو من خالص حقه واستغلال لحاجة الاخرين وجشع وخسار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9080" y="247320"/>
            <a:ext cx="1144260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ذا نهى القرآن الكريم عنه في المرحلة الثالثة من مراحل التدرج في تحريم الربا , علما بأن القيد الوارد فيه لبيان ذلك الواقع الظالم , فقال تعالى :(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ياأيها الذين آمنوا لا تأكلوا الربا اضعافا مضعفه واتقوا الله لعلكم تفلحو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 ولا يعني هذا ان الربا القليل غير المضاعف حلال , فقد جاء تحريم جنس الربا في الآية السابقة , واستقر تحريمه فيها وفي الآيه التاليه بعدها في سورة البقره :(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ياأيها الذين آمنوا اتقوا الله وذروا ما بقي من الربا ان كنتم مؤمني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ما السنة : فقوله صلى الله عليه وسلم (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واجتنبوا السبع الموبقات – وذكر منها : اكل الربا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قال ابن مسعود : (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لعن رسول الله صلى الله عليه وسلم آكل الربا وموكله وشاهده وكاتب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98480" y="208080"/>
            <a:ext cx="10515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f4e79"/>
                </a:solidFill>
                <a:latin typeface="Calibri Light"/>
              </a:rPr>
              <a:t>أنواع الربا: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2080" y="914400"/>
            <a:ext cx="1158732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ربا القرض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ربا البيو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f4e79"/>
                </a:solidFill>
                <a:uFillTx/>
                <a:latin typeface="Calibri"/>
              </a:rPr>
              <a:t>اولا : ربا القرض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فيحدث في قرض الاموال الربوية ببعضها مع زيادة في احدها , وهي الكيلات والموزونات عند الحنفية والحنابلة , والنقدان والاقوات عند المالكية , والنقدان والمطعومات عند الشافعية .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Calibri"/>
              </a:rPr>
              <a:t>وكل قرض جر نفعاً حرام اذا كان النفع مشروطا او متعارفا عليه في القرض بين النا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ثانيا : ربا البيوع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</a:rPr>
              <a:t>: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هو نوعان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- ربا النسيئة أو (ربا الجاهلية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- ربا الفض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 algn="r" rtl="1">
              <a:lnSpc>
                <a:spcPct val="9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9880" y="247680"/>
            <a:ext cx="11574720" cy="63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اما ربا البيوع :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فهو نوعان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ربا النسيئة او (ربا الجاهلية)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ربا الفضل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قد دل قوله تعالى (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وحرم الربا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) على تحريم جنس الربا , فيشمل كل انواع الربا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, بأجماع الفقهاء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ربا الفضل : </a:t>
            </a:r>
            <a:r>
              <a:rPr b="1" lang="ar-SA" sz="3600" spc="-1" strike="noStrike">
                <a:solidFill>
                  <a:srgbClr val="00b050"/>
                </a:solidFill>
                <a:latin typeface="Calibri"/>
              </a:rPr>
              <a:t>هو الزيادة في احد العوضين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وربا النسيئة </a:t>
            </a:r>
            <a:r>
              <a:rPr b="1" lang="ar-SA" sz="3600" spc="-1" strike="noStrike">
                <a:solidFill>
                  <a:srgbClr val="7f7f7f"/>
                </a:solidFill>
                <a:latin typeface="Calibri"/>
              </a:rPr>
              <a:t>: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هو تأخير في قبض احد العوضين الى اجل معين , سواء كان بعيدا او قريبا , أي </a:t>
            </a:r>
            <a:r>
              <a:rPr b="1" lang="ar-SA" sz="3600" spc="-1" strike="noStrike">
                <a:solidFill>
                  <a:srgbClr val="7030a0"/>
                </a:solidFill>
                <a:latin typeface="Calibri"/>
              </a:rPr>
              <a:t>سواء كان البيع حالا , وحدث التأخير للقبض عن مجلس العقد في فترة قريبة من وقوع البيع , ام كان مؤجلا الى وقت في المستقبل , كأيام او اشهر أو سنة </a:t>
            </a: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2080" y="182520"/>
            <a:ext cx="11717280" cy="637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قد دل الحديث الصحيح الذي رواه مسلم وغيره عن عبادة بن صامت وغيره على تحريم ربا الفضل وربا النسيئة , وهو قوله صلى الله عليه وسلم :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 </a:t>
            </a: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الذهب بالذهب , والفضة بالفضة , والبُرّ بالبُرّ , والشعير بالشعير , والتمر بالتمر , والملح بالملح , مثلا بمثل , سواءً بسواء , يداً بيد , </a:t>
            </a:r>
            <a:r>
              <a:rPr b="1" lang="ar-SA" sz="3600" spc="-1" strike="noStrike" u="sng">
                <a:solidFill>
                  <a:srgbClr val="c00000"/>
                </a:solidFill>
                <a:uFillTx/>
                <a:latin typeface="Calibri"/>
              </a:rPr>
              <a:t>فإذا اختلفت هذه الاصناف , فبيعوا كيف شئتم اذا كان يداً بيد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 أي </a:t>
            </a:r>
            <a:r>
              <a:rPr b="1" lang="ar-SA" sz="3600" spc="-1" strike="noStrike" u="sng">
                <a:solidFill>
                  <a:srgbClr val="7030a0"/>
                </a:solidFill>
                <a:uFillTx/>
                <a:latin typeface="Calibri"/>
              </a:rPr>
              <a:t>مقابضة في مجلس العقد , فيدل على اشتراط الحلول وعدم التأجيل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وأما حديث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 </a:t>
            </a: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لا ربا الا في النسيئة </a:t>
            </a:r>
            <a:r>
              <a:rPr b="1" lang="en-US" sz="3600" spc="-1" strike="noStrike" u="sng">
                <a:solidFill>
                  <a:srgbClr val="1f4e79"/>
                </a:solidFill>
                <a:uFillTx/>
                <a:latin typeface="Calibri"/>
              </a:rPr>
              <a:t>“ </a:t>
            </a:r>
            <a:r>
              <a:rPr b="1" lang="ar-SA" sz="3600" spc="-1" strike="noStrike" u="sng">
                <a:solidFill>
                  <a:srgbClr val="1f4e79"/>
                </a:solidFill>
                <a:uFillTx/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ذي فهم منه بعضهم تحريم ربا النسيئة فقط دون ربا الفضل , </a:t>
            </a:r>
            <a:r>
              <a:rPr b="1" lang="ar-SA" sz="3600" spc="-1" strike="noStrike" u="sng">
                <a:solidFill>
                  <a:srgbClr val="c55a11"/>
                </a:solidFill>
                <a:uFillTx/>
                <a:latin typeface="Calibri"/>
              </a:rPr>
              <a:t>فالمراد به بيان فحش ربا النسيئة , وانه الربا الاكمل الاعظم خطورة , الاكثر وقوعا , الاشد عقوبة , حتى لكأنه لا ربا غيره , أي ان المراد به نفي الاكمل , لا نفي اصل الربا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. لذا رجع من عباس رضي الله عنه ومن وافقه عن القول بظاهر هذا الحديث الى قول جماعة الصحابة , فأصبح تحريم ربا الفضل بإجماع الصحابة , بعد اطلاعهم على حديث عبادة المتقدم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7280" y="326520"/>
            <a:ext cx="1163952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ربا </a:t>
            </a:r>
            <a:r>
              <a:rPr b="1" lang="ar-SA" sz="3200" spc="-1" strike="noStrike" u="sng">
                <a:solidFill>
                  <a:srgbClr val="1f4e79"/>
                </a:solidFill>
                <a:uFillTx/>
                <a:latin typeface="Calibri"/>
              </a:rPr>
              <a:t>المصارف الربوية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ي تتعامل اليوم بالفائدة المقطوعة هو من </a:t>
            </a:r>
            <a:r>
              <a:rPr b="1" lang="ar-SA" sz="3200" spc="-1" strike="noStrike" u="sng">
                <a:solidFill>
                  <a:srgbClr val="1f4e79"/>
                </a:solidFill>
                <a:uFillTx/>
                <a:latin typeface="Calibri"/>
              </a:rPr>
              <a:t>ربا النسيئة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, فهو </a:t>
            </a:r>
            <a:r>
              <a:rPr b="1" lang="ar-SA" sz="3200" spc="-1" strike="noStrike">
                <a:solidFill>
                  <a:srgbClr val="7f6000"/>
                </a:solidFill>
                <a:latin typeface="Calibri"/>
              </a:rPr>
              <a:t>اعطاء مال او قرض مال لأجل بفائدة شهرية او سنوية , فهو اكل لأموال الناس بالباطل , ومضارة كثيرة على الدولة والافراد , اذ هو سبب التضخم النقدي في العالم , وسبب لإبقاء الضعفاء في حالة دائمة من الجوع والحرما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 ما قد </a:t>
            </a: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يروجه مبيحو ربا المصارف من أن الفوائد هي عوائد استثمار الاموال المودعة في المشروعات التي تمولها المصارف , هو محض افتراء وتضليل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لان هذه الفوائد مقطوعة محددة بنسبة معينة مثل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% او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% او 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9</a:t>
            </a:r>
            <a:r>
              <a:rPr b="1" lang="ar-SA" sz="3200" spc="-1" strike="noStrike">
                <a:solidFill>
                  <a:srgbClr val="1f4e79"/>
                </a:solidFill>
                <a:latin typeface="Calibri"/>
              </a:rPr>
              <a:t>%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و اكثر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</a:rPr>
              <a:t>-- فان كان ربح المشروع اكثر من مقدار الفائدة كان الباقي لدى ادارة المصرف حرمانا لحق التعامل معه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43c0c"/>
                </a:solidFill>
                <a:latin typeface="Calibri"/>
              </a:rPr>
              <a:t>-- واذا كان اقل منها , فيأخذ الشخص ما ليس من حقه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-- وقد يخسر المال ولا يحقق أي ربح , فلا يساهم المتعامل في الخسارة , بل يأخذ ربحه المقرر . وهذا مناف للعدل والمساواة واحترام حقوق الناس , وذلك من اصول الشريعة الاسلام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4680" y="299880"/>
            <a:ext cx="11625120" cy="63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والطريق المشروع هو </a:t>
            </a:r>
            <a:r>
              <a:rPr b="1" lang="ar-SA" sz="3600" spc="-1" strike="noStrike" u="sng">
                <a:solidFill>
                  <a:srgbClr val="00b050"/>
                </a:solidFill>
                <a:uFillTx/>
                <a:latin typeface="Calibri"/>
              </a:rPr>
              <a:t>نظام المضاربة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معروف الذي تقوم المصارف الاسلامية الان بتطبيقه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, وقد نجحت نجاحا طيبا مبشرا بالخير , وهذا النظام يقوم على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لمشاركة في الربح مهما كان , والخسارة مهما قلّت , ولا يتحدد فيه ربح ثابت مقطوع , كما هو الشأن , في نظام المصارف الربوية , وهذا هو العدل والحق , وهو الطريق المنسجم مع مبدأ الاسلام في الاستثمار بالطرق الحلال , والحفاظ على الحقوق , وعدم اهدارها مهما قلّت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Calibri"/>
              </a:rPr>
              <a:t>ولا فرق في تحريم الربا او الفائدة والتعامل به بين الافراد وبين الجماعات والدول والهيئات كالمصارف والمؤسسات 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كما لا فرق بين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القرض الانتاجي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ذي قيل : انه غير حرام </a:t>
            </a:r>
            <a:r>
              <a:rPr b="1" lang="ar-SA" sz="3600" spc="-1" strike="noStrike">
                <a:solidFill>
                  <a:srgbClr val="1f4e79"/>
                </a:solidFill>
                <a:latin typeface="Calibri"/>
              </a:rPr>
              <a:t>والقرض الاستهلاكي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ذي حصر التحريم فيه 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7030a0"/>
                </a:solidFill>
                <a:latin typeface="Calibri"/>
              </a:rPr>
              <a:t>فالكل في شرع الله ودينه حرام , مادام معنى الربا قائما فيه , وهو الزيادة في احد العوضين , او تأخير التقابض عن مجلس العقد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10:14:57Z</dcterms:created>
  <dc:creator>Sony</dc:creator>
  <dc:description/>
  <dc:language>en-US</dc:language>
  <cp:lastModifiedBy>eman</cp:lastModifiedBy>
  <dcterms:modified xsi:type="dcterms:W3CDTF">2016-11-29T01:06:39Z</dcterms:modified>
  <cp:revision>35</cp:revision>
  <dc:subject/>
  <dc:title>عرض تقديمي في PowerPoint</dc:title>
</cp:coreProperties>
</file>