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C816-BA65-4E0C-A8C0-1601808A1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90E4-EBAF-47DC-A29B-7A2DFA0D6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3114-7D8B-411E-9957-BDAED24D2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000D-B825-4FC8-B901-967FFC271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18DD-DF7E-48B7-8094-5E52E0928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1CC8-494F-492D-A8AF-980BD8007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C8B9-65C1-4F39-A3A7-2080C95B5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57FB-AF57-4B30-AC59-ECC50845F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6F41-CDE6-4ECA-814A-37418A3F7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C13F-CA8D-4D90-98DB-FE72EA6C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13E4-4043-44BE-A4A4-7D515C90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568F-89EE-4A75-908D-165880B83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48673-89AB-4B94-9BB3-420C89AF925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09440" y="1122480"/>
            <a:ext cx="10528200" cy="227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1f4e79"/>
                </a:solidFill>
                <a:latin typeface="Calibri Light"/>
              </a:rPr>
              <a:t>بعض أنواع البيع 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194760"/>
            <a:ext cx="10515600" cy="6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1f4e79"/>
                </a:solidFill>
                <a:latin typeface="Calibri Light"/>
              </a:rPr>
              <a:t>محل الربا: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52440" y="784080"/>
            <a:ext cx="1154736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198720" indent="-19872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d0d0d"/>
                </a:solidFill>
                <a:latin typeface="Calibri"/>
              </a:rPr>
              <a:t>لا يقتصر تحريم الربا في مذاهب جماهير العلماء غير الظاهرية على الاصناف الستة المذكورة 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d0d0d"/>
                </a:solidFill>
                <a:latin typeface="Calibri"/>
              </a:rPr>
              <a:t>-- فيحرم الربا في السبائك والنقود المعدنية الذهب والفضة والورقية وذلك باتفاق العلماء عدا بعض متأخري المذاهب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d0d0d"/>
                </a:solidFill>
                <a:latin typeface="Calibri"/>
              </a:rPr>
              <a:t>--  </a:t>
            </a:r>
            <a:r>
              <a:rPr b="1" lang="ar-SA" sz="2400" spc="-1" strike="noStrike">
                <a:solidFill>
                  <a:srgbClr val="00b050"/>
                </a:solidFill>
                <a:latin typeface="Calibri"/>
              </a:rPr>
              <a:t>ويحرم الربا ايضا في جميع المقدرات المثلية من مكيل  او موزون في راي الحنابلة والحنفية مثل الارز والسمسم والحديد والقطن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b050"/>
                </a:solidFill>
                <a:latin typeface="Calibri"/>
              </a:rPr>
              <a:t>-- ويحرم الربا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وفي الاقوات الثابلة للادخار في راي المالكية وفي المطعومات في رأي الشافعية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-- </a:t>
            </a:r>
            <a:r>
              <a:rPr b="1" lang="ar-SA" sz="2400" spc="-1" strike="noStrike">
                <a:solidFill>
                  <a:srgbClr val="0070c0"/>
                </a:solidFill>
                <a:latin typeface="Calibri"/>
              </a:rPr>
              <a:t>فلا ربا في بيع المذروعات كالاقمشة والمعدودات كالجوز والبيض ولا في الاموال القيمية كافراد الحيوان والاراضي والدور والاسشجار ، فيجوز اعطاء الكثير منها في مقابل القليل كبيع نعجتين بنعجة </a:t>
            </a:r>
            <a:r>
              <a:rPr b="1" lang="ar-SA" sz="2400" spc="-1" strike="noStrike">
                <a:solidFill>
                  <a:srgbClr val="0d0d0d"/>
                </a:solidFill>
                <a:latin typeface="Calibri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 algn="r" rtl="1">
              <a:lnSpc>
                <a:spcPct val="90000"/>
              </a:lnSpc>
              <a:spcBef>
                <a:spcPts val="10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1f4e79"/>
                </a:solidFill>
                <a:latin typeface="Calibri"/>
              </a:rPr>
              <a:t>الخلاصة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-- أن الربا يكون في كل مكيل او موزون في راي،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b050"/>
                </a:solidFill>
                <a:latin typeface="Calibri"/>
              </a:rPr>
              <a:t>-- وفي النقود والسبائك والمقتات المدخر أي القابل للادخار في راي اخر ،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-- ولا ربا في الفواكه مثلا الا عند من رأى الربا في المطعومات فيرون الربا في الفواكه ...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 algn="r" rtl="1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5480" y="0"/>
            <a:ext cx="1051560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1f4e79"/>
                </a:solidFill>
                <a:latin typeface="Calibri Light"/>
              </a:rPr>
              <a:t>ربا النسيئة: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-360" y="574560"/>
            <a:ext cx="12192120" cy="611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198720" indent="-19872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d0d0d"/>
                </a:solidFill>
                <a:latin typeface="Calibri"/>
              </a:rPr>
              <a:t>يحدث ربا النسيئة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d0d0d"/>
                </a:solidFill>
                <a:latin typeface="Calibri"/>
              </a:rPr>
              <a:t>-- </a:t>
            </a:r>
            <a:r>
              <a:rPr b="1" lang="ar-SA" sz="2400" spc="-1" strike="noStrike">
                <a:solidFill>
                  <a:srgbClr val="00b050"/>
                </a:solidFill>
                <a:latin typeface="Calibri"/>
              </a:rPr>
              <a:t>عند مبادلة الشيء بجنسه كرطل قمح برطلين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70c0"/>
                </a:solidFill>
                <a:latin typeface="Calibri"/>
              </a:rPr>
              <a:t>-- او عند تأخير قبض احد العوضين من المقتـــات المدخر او النقود والسبائك عن مجلس العقد ولو تساوى العوضان في المقدار والكميه.. 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كبيع رطل شعي حال القبض برطل شعير اخر مؤجل التسليم بعد فترة العقد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1f4e79"/>
                </a:solidFill>
                <a:uFillTx/>
                <a:latin typeface="Calibri"/>
              </a:rPr>
              <a:t>طريقة التخلص من الربا في البيوع </a:t>
            </a:r>
            <a:r>
              <a:rPr b="1" lang="ar-SA" sz="2400" spc="-1" strike="noStrike" u="sng">
                <a:solidFill>
                  <a:srgbClr val="0d0d0d"/>
                </a:solidFill>
                <a:uFillTx/>
                <a:latin typeface="Calibri"/>
              </a:rPr>
              <a:t>هو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b050"/>
                </a:solidFill>
                <a:latin typeface="Calibri"/>
              </a:rPr>
              <a:t>--  المماثلة حال اتحاد الجنس كذرة بذرة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b050"/>
                </a:solidFill>
                <a:latin typeface="Calibri"/>
              </a:rPr>
              <a:t>-- مع التقابـض قبل التفرق  فان تفرق المتعاقدان دون ان يتقابضا كان ذلك هو ربا النسيئة وان لم يزد احد العوضين عن الاخر 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1f4e79"/>
                </a:solidFill>
                <a:uFillTx/>
                <a:latin typeface="Calibri"/>
              </a:rPr>
              <a:t>جيد المال ورديئة </a:t>
            </a:r>
            <a:r>
              <a:rPr b="1" lang="ar-SA" sz="2400" spc="-1" strike="noStrike" u="sng">
                <a:solidFill>
                  <a:srgbClr val="0d0d0d"/>
                </a:solidFill>
                <a:uFillTx/>
                <a:latin typeface="Calibri"/>
              </a:rPr>
              <a:t>:</a:t>
            </a:r>
            <a:r>
              <a:rPr b="1" lang="ar-SA" sz="2400" spc="-1" strike="noStrike">
                <a:solidFill>
                  <a:srgbClr val="7030a0"/>
                </a:solidFill>
                <a:latin typeface="Calibri"/>
              </a:rPr>
              <a:t>الربا حرام ان زاد مقدار احد العوضين على الاخر في الكميه لا في الجودة والقيمة او الصياغة مقابل الصنعة،</a:t>
            </a:r>
            <a:r>
              <a:rPr b="1" lang="ar-SA" sz="2400" spc="-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-- فان كانت الزيادة في الحال حدث ربا الفضل ، وجيد المال الربوي ورديئه سواء  فلا يصح بيع غرام ذهب بغرام وربع حلي لوجود تفاضل في احد العوضين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d0d0d"/>
                </a:solidFill>
                <a:latin typeface="Calibri"/>
              </a:rPr>
              <a:t>-- اما اذا اختلف جنس العوضين كفضه بذهب فيجوز التفاضل ولاتشترط المماثلة ، لكن يشترط التقابض في مجلس العقد ، كبيع غرام ذهب بغرامين فضة وقنطار قمح بقنطاررين شعير  ، لاختلاف الجنس لكن بشرط التقابض في مجلس العقد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70c0"/>
                </a:solidFill>
                <a:latin typeface="Calibri"/>
              </a:rPr>
              <a:t>-- فان تاخر القبض عن المجلس كنا امام رب النسيئة ولو لم تكن هناك زيادة في الكمية او القدر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3"/>
          <p:cNvSpPr/>
          <p:nvPr/>
        </p:nvSpPr>
        <p:spPr>
          <a:xfrm>
            <a:off x="404640" y="247680"/>
            <a:ext cx="1113012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00b050"/>
                </a:solidFill>
                <a:uFillTx/>
                <a:latin typeface="Arial"/>
              </a:rPr>
              <a:t>-- </a:t>
            </a:r>
            <a:r>
              <a:rPr b="1" lang="ar-SA" sz="4000" spc="-1" strike="noStrike" u="sng">
                <a:solidFill>
                  <a:srgbClr val="00b050"/>
                </a:solidFill>
                <a:uFillTx/>
                <a:latin typeface="Arial"/>
              </a:rPr>
              <a:t>يتبين من ذلك ان ربا الفضل لا يتحقق الا في</a:t>
            </a:r>
            <a:r>
              <a:rPr b="1" lang="ar-SA" sz="4000" spc="-1" strike="noStrike" u="sng">
                <a:solidFill>
                  <a:srgbClr val="00b050"/>
                </a:solidFill>
                <a:uFillTx/>
                <a:latin typeface="Arial"/>
              </a:rPr>
              <a:t> </a:t>
            </a:r>
            <a:r>
              <a:rPr b="1" lang="ar-SA" sz="4000" spc="-1" strike="noStrike" u="sng">
                <a:solidFill>
                  <a:srgbClr val="00b050"/>
                </a:solidFill>
                <a:uFillTx/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2060"/>
                </a:solidFill>
                <a:latin typeface="Arial"/>
              </a:rPr>
              <a:t>اتحاد الجنس</a:t>
            </a:r>
            <a:r>
              <a:rPr b="1" lang="ar-SA" sz="40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2060"/>
                </a:solidFill>
                <a:latin typeface="Arial"/>
              </a:rPr>
              <a:t>وعند وجود زياده في القدر</a:t>
            </a:r>
            <a:r>
              <a:rPr b="1" lang="ar-SA" sz="40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00b050"/>
                </a:solidFill>
                <a:uFillTx/>
                <a:latin typeface="Arial"/>
              </a:rPr>
              <a:t>-- </a:t>
            </a:r>
            <a:r>
              <a:rPr b="1" lang="ar-SA" sz="4000" spc="-1" strike="noStrike" u="sng">
                <a:solidFill>
                  <a:srgbClr val="00b050"/>
                </a:solidFill>
                <a:uFillTx/>
                <a:latin typeface="Arial"/>
              </a:rPr>
              <a:t>اما ربا النسيئة يتحقق في</a:t>
            </a:r>
            <a:r>
              <a:rPr b="1" lang="ar-SA" sz="4000" spc="-1" strike="noStrike" u="sng">
                <a:solidFill>
                  <a:srgbClr val="00b050"/>
                </a:solidFill>
                <a:uFillTx/>
                <a:latin typeface="Arial"/>
              </a:rPr>
              <a:t> </a:t>
            </a:r>
            <a:r>
              <a:rPr b="1" lang="ar-SA" sz="4000" spc="-1" strike="noStrike" u="sng">
                <a:solidFill>
                  <a:srgbClr val="00b050"/>
                </a:solidFill>
                <a:uFillTx/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00000"/>
                </a:solidFill>
                <a:latin typeface="Arial"/>
              </a:rPr>
              <a:t>اتحاد واختلاف الجنس</a:t>
            </a:r>
            <a:r>
              <a:rPr b="1" lang="ar-SA" sz="4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00000"/>
                </a:solidFill>
                <a:latin typeface="Arial"/>
              </a:rPr>
              <a:t>او عند زياده في القدر او عدم الزيادة مع تأخير القبض</a:t>
            </a:r>
            <a:r>
              <a:rPr b="1" lang="ar-SA" sz="4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c00000"/>
                </a:solidFill>
                <a:latin typeface="Arial"/>
              </a:rPr>
              <a:t>.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1051560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1f4e79"/>
                </a:solidFill>
                <a:uFillTx/>
                <a:latin typeface="Calibri Light"/>
              </a:rPr>
              <a:t>الربا في النقود: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-360" y="704880"/>
            <a:ext cx="12192120" cy="61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c00000"/>
                </a:solidFill>
                <a:latin typeface="Calibri"/>
              </a:rPr>
              <a:t>يحدث الربا في النقود سواء كانت كالسبائك الذهبية والفضية ، والأواني والأدوات الذهبية والفضية وحلي النساء  سواء كانت النقود ذهبا او عملات ورقيه فعلة الربا هي النقدية أي كون النقود ثمنا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00b050"/>
                </a:solidFill>
                <a:latin typeface="Calibri"/>
              </a:rPr>
              <a:t>-- المماثلة المطلوبة لتفادي  الربا في النقود المعدنية من ذهب او فضة هي التماثل  في الوزن ؛ كغرام بغرام دون زيادة 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002060"/>
                </a:solidFill>
                <a:latin typeface="Calibri"/>
              </a:rPr>
              <a:t>-- اما التماثل في النقود الورقية فهو العدد دينار ذهب بدينار ذهب من جنسه ومائة درهم فضة بمائة درهم فضة </a:t>
            </a:r>
            <a:r>
              <a:rPr b="1" lang="ar-SA" sz="3400" spc="-1" strike="noStrike" u="sng">
                <a:solidFill>
                  <a:srgbClr val="002060"/>
                </a:solidFill>
                <a:uFillTx/>
                <a:latin typeface="Calibri"/>
              </a:rPr>
              <a:t>اي بمثل الوزن فالبيع جائز </a:t>
            </a:r>
            <a:r>
              <a:rPr b="1" lang="ar-SA" sz="3400" spc="-1" strike="noStrike">
                <a:solidFill>
                  <a:srgbClr val="002060"/>
                </a:solidFill>
                <a:latin typeface="Calibri"/>
              </a:rPr>
              <a:t>، </a:t>
            </a:r>
            <a:r>
              <a:rPr b="1" lang="ar-SA" sz="3400" spc="-1" strike="noStrike">
                <a:solidFill>
                  <a:srgbClr val="c00000"/>
                </a:solidFill>
                <a:latin typeface="Calibri"/>
              </a:rPr>
              <a:t>وان تفاوتا في الوزن حرم البيع ..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7030a0"/>
                </a:solidFill>
                <a:latin typeface="Calibri"/>
              </a:rPr>
              <a:t>-- بيع النقد الورقي بنقد اخر مماثل له في العدد جاز البيع للتماثل في العدد لا الوزن – اما بيع النقد الورقي باخر كبيع درهم بدولار والريال بالجنيه ، فهو جائز شرعا وما يسمى ب </a:t>
            </a:r>
            <a:r>
              <a:rPr b="1" lang="ar-SA" sz="3400" spc="-1" strike="noStrike" u="sng">
                <a:solidFill>
                  <a:srgbClr val="002060"/>
                </a:solidFill>
                <a:uFillTx/>
                <a:latin typeface="Calibri"/>
              </a:rPr>
              <a:t>عقد الصرف 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209520" y="247320"/>
            <a:ext cx="11755440" cy="638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1f4e79"/>
                </a:solidFill>
                <a:latin typeface="Calibri"/>
              </a:rPr>
              <a:t>الربا في الاقوات المدخرة 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181717"/>
                </a:solidFill>
                <a:latin typeface="Calibri"/>
              </a:rPr>
              <a:t>وسع </a:t>
            </a:r>
            <a:r>
              <a:rPr b="1" lang="ar-SA" sz="2400" spc="-1" strike="noStrike">
                <a:solidFill>
                  <a:srgbClr val="1f4e79"/>
                </a:solidFill>
                <a:latin typeface="Calibri"/>
              </a:rPr>
              <a:t>الحنفية والحنابلة </a:t>
            </a:r>
            <a:r>
              <a:rPr b="1" lang="ar-SA" sz="2400" spc="-1" strike="noStrike">
                <a:solidFill>
                  <a:srgbClr val="181717"/>
                </a:solidFill>
                <a:latin typeface="Calibri"/>
              </a:rPr>
              <a:t>دائرة الربا فجعلوها في جميع الاموال المكيلة كالقمح والشعير والموزونة كالقطن والحديد 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181717"/>
                </a:solidFill>
                <a:latin typeface="Calibri"/>
              </a:rPr>
              <a:t>ويليهم </a:t>
            </a:r>
            <a:r>
              <a:rPr b="1" lang="ar-SA" sz="2400" spc="-1" strike="noStrike">
                <a:solidFill>
                  <a:srgbClr val="1f4e79"/>
                </a:solidFill>
                <a:latin typeface="Calibri"/>
              </a:rPr>
              <a:t>الشافعية</a:t>
            </a:r>
            <a:r>
              <a:rPr b="1" lang="ar-SA" sz="2400" spc="-1" strike="noStrike">
                <a:solidFill>
                  <a:srgbClr val="181717"/>
                </a:solidFill>
                <a:latin typeface="Calibri"/>
              </a:rPr>
              <a:t> فجعلوا الأموال الربوية هي النقود والمطعومات</a:t>
            </a:r>
            <a:r>
              <a:rPr b="1" lang="ar-SA" sz="2400" spc="-1" strike="noStrike">
                <a:solidFill>
                  <a:srgbClr val="1f4e79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1f4e79"/>
                </a:solidFill>
                <a:latin typeface="Calibri"/>
              </a:rPr>
              <a:t>ويليهم المالكية </a:t>
            </a:r>
            <a:r>
              <a:rPr b="1" lang="ar-SA" sz="2400" spc="-1" strike="noStrike">
                <a:solidFill>
                  <a:srgbClr val="181717"/>
                </a:solidFill>
                <a:latin typeface="Calibri"/>
              </a:rPr>
              <a:t>في النقود والاقوات القابلة للادخار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1f4e79"/>
                </a:solidFill>
                <a:latin typeface="Calibri"/>
              </a:rPr>
              <a:t>المطعوم المقتات الربوي هو : 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ما يكون خاص بتناول الادميين او يشاركهم فيه غيرهم ، اما ما يختص بطعام البهائم كالتبن والحشيش فلا ربا فيه فيجوز بيعه بالتفاضل وبتأجيل القبض 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1f4e79"/>
                </a:solidFill>
                <a:latin typeface="Calibri"/>
              </a:rPr>
              <a:t>المطعوم المتحول هو: </a:t>
            </a:r>
            <a:r>
              <a:rPr b="1" lang="ar-SA" sz="2400" spc="-1" strike="noStrike">
                <a:solidFill>
                  <a:srgbClr val="00b050"/>
                </a:solidFill>
                <a:latin typeface="Calibri"/>
              </a:rPr>
              <a:t>يأخذ حكم اصله فبيع دقيق القمح بدقيق  اخر جائز حال التماثل في الكميه والمقدار وعند التقابض في مجلس العقد،</a:t>
            </a: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اما</a:t>
            </a:r>
            <a:r>
              <a:rPr b="1" lang="ar-SA" sz="2400" spc="-1" strike="noStrike">
                <a:solidFill>
                  <a:srgbClr val="181717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اذا اختلف جنس الأصل كبيع دقيق حنطة بدقيق شعير فيجوز ولو تفاوتت لكمية والمقدار بشرط التقابض قبل التفرق في المجلس نفسه . كالزيت والدهان وانواع الخل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70c0"/>
                </a:solidFill>
                <a:latin typeface="Calibri"/>
              </a:rPr>
              <a:t>ومعنى كون المقتات في </a:t>
            </a: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راي المالكية </a:t>
            </a:r>
            <a:r>
              <a:rPr b="1" lang="ar-SA" sz="2400" spc="-1" strike="noStrike">
                <a:solidFill>
                  <a:srgbClr val="0070c0"/>
                </a:solidFill>
                <a:latin typeface="Calibri"/>
              </a:rPr>
              <a:t>صالحا للادخار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انه لا يفسد بتأخيره مده من الزمن</a:t>
            </a:r>
            <a:r>
              <a:rPr b="1" lang="ar-SA" sz="2400" spc="-1" strike="noStrike">
                <a:solidFill>
                  <a:srgbClr val="181717"/>
                </a:solidFill>
                <a:latin typeface="Calibri"/>
              </a:rPr>
              <a:t> ودليلهم على ان علة الربا هي القوت والادخار :انه لما كان حكم التحريم معقول المعنى في الربا وهو الا يغبن  بعض الناس بعضا وجب ذلك في اصول المعايش.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157320"/>
            <a:ext cx="105156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1f4e79"/>
                </a:solidFill>
                <a:latin typeface="Calibri Light"/>
              </a:rPr>
              <a:t>مقياس الأموال الربوية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35080" y="797040"/>
            <a:ext cx="11756880" cy="53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198720" indent="-198720" algn="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</a:rPr>
              <a:t>كل ما نص الشرع على كونه كيلياً </a:t>
            </a:r>
            <a:r>
              <a:rPr b="1" lang="ar-SA" sz="2600" spc="-1" strike="noStrike">
                <a:solidFill>
                  <a:srgbClr val="1f4e79"/>
                </a:solidFill>
                <a:latin typeface="Calibri"/>
              </a:rPr>
              <a:t>كَـ(بُر و شعير و تمر وملح) 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</a:rPr>
              <a:t>, أو وزنياً </a:t>
            </a:r>
            <a:r>
              <a:rPr b="1" lang="ar-SA" sz="2600" spc="-1" strike="noStrike">
                <a:solidFill>
                  <a:srgbClr val="1f4e79"/>
                </a:solidFill>
                <a:latin typeface="Calibri"/>
              </a:rPr>
              <a:t>كـ(ذهب وفضه ) 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</a:rPr>
              <a:t>, فإنه يعتبر كذلك أبداً , وإن تغيرت واسطة بيعه عما كان في الماضي ؛ لقول النبي صلى الله عليه وسلم: </a:t>
            </a:r>
            <a:r>
              <a:rPr b="1" lang="ar-SA" sz="2600" spc="-1" strike="noStrike">
                <a:solidFill>
                  <a:srgbClr val="1f4e79"/>
                </a:solidFill>
                <a:latin typeface="Calibri"/>
              </a:rPr>
              <a:t>( المكيال مكيال أهل المدينه, والوزن وزن أهل مكه 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 algn="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0000"/>
                </a:solidFill>
                <a:latin typeface="Calibri"/>
              </a:rPr>
              <a:t>فلا يصح بيع الحنطة بالحنطة بوزن متساو, وإنما لابد من التساوي كيلاً, لا وزناً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 algn="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7030a0"/>
                </a:solidFill>
                <a:latin typeface="Calibri"/>
              </a:rPr>
              <a:t>ولا يصح بيع الذهب بالذهب أو الفضه بالفضه بكيل متساو, وإنما لابد من التساوي وزناً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</a:rPr>
              <a:t>؛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 algn="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2060"/>
                </a:solidFill>
                <a:uFillTx/>
                <a:latin typeface="Calibri"/>
              </a:rPr>
              <a:t>لأن النص أقوى من العرف, والأقوى لا يترك بالأدنى 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 algn="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 algn="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</a:rPr>
              <a:t>و ذهب </a:t>
            </a:r>
            <a:r>
              <a:rPr b="1" lang="ar-SA" sz="2600" spc="-1" strike="noStrike" u="sng">
                <a:solidFill>
                  <a:srgbClr val="00b050"/>
                </a:solidFill>
                <a:uFillTx/>
                <a:latin typeface="Calibri"/>
              </a:rPr>
              <a:t>أبو يوسف إلى أن المقياس المعتبر في الأموال الربويه, في المنصوص عليه وغيره هو المقياس العرفي,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</a:rPr>
              <a:t> وأنه يتبدل بتبدل العرف, ورأيه أقوى حجة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 algn="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</a:rPr>
              <a:t>ويجب الأنتباه إلى أن </a:t>
            </a:r>
            <a:r>
              <a:rPr b="1" lang="ar-SA" sz="2600" spc="-1" strike="noStrike">
                <a:solidFill>
                  <a:srgbClr val="c00000"/>
                </a:solidFill>
                <a:latin typeface="Calibri"/>
              </a:rPr>
              <a:t>المماثلة وعدمها بالنسبه للثمار والحبوب لا ينظر إليها إلا بعد جفافها, فلا يباع رطب برطب ولا بتمر, ولا عنب بعنب ولا زبيب؛ لأن الرطب والعنب بنقصان بالجفاف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 algn="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</a:rPr>
              <a:t>أما الذي </a:t>
            </a:r>
            <a:r>
              <a:rPr b="1" lang="ar-SA" sz="2600" spc="-1" strike="noStrike">
                <a:solidFill>
                  <a:srgbClr val="843c0c"/>
                </a:solidFill>
                <a:latin typeface="Calibri"/>
              </a:rPr>
              <a:t>لا يقبل الجفاف كـ(القثاء والخيار والزيتون ) فإن بيعه ببعضه ممنوع, لعدم التحقق من التماثل بسبب الرطوبة, وكذلك ما يعرض على النار لا يباع بعضه كالسمسم والخبز واللحم 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 algn="r" rtl="1">
              <a:lnSpc>
                <a:spcPct val="80000"/>
              </a:lnSpc>
              <a:spcBef>
                <a:spcPts val="1001"/>
              </a:spcBef>
              <a:buClr>
                <a:srgbClr val="843c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12880" y="221760"/>
            <a:ext cx="10515600" cy="6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1f4e79"/>
                </a:solidFill>
                <a:latin typeface="Calibri Light"/>
              </a:rPr>
              <a:t>اتفاق الجنس واختلافه :</a:t>
            </a:r>
            <a:br>
              <a:rPr sz="2500"/>
            </a:b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52080" y="731520"/>
            <a:ext cx="116125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يرى الأمام مالك أن </a:t>
            </a:r>
            <a:r>
              <a:rPr b="1" lang="ar-SA" sz="3200" spc="-1" strike="noStrike">
                <a:solidFill>
                  <a:srgbClr val="843c0c"/>
                </a:solidFill>
                <a:latin typeface="Calibri"/>
              </a:rPr>
              <a:t>القمح والشعير والسلت(</a:t>
            </a:r>
            <a:r>
              <a:rPr b="1" lang="ar-SA" sz="3200" spc="-1" strike="noStrike">
                <a:solidFill>
                  <a:srgbClr val="002060"/>
                </a:solidFill>
                <a:latin typeface="Calibri"/>
              </a:rPr>
              <a:t>نوع من الشعير ليس له قشر</a:t>
            </a:r>
            <a:r>
              <a:rPr b="1" lang="ar-SA" sz="3200" spc="-1" strike="noStrike">
                <a:solidFill>
                  <a:srgbClr val="843c0c"/>
                </a:solidFill>
                <a:latin typeface="Calibri"/>
              </a:rPr>
              <a:t>) صنف أو جنس واحد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وأن الذره والدخن</a:t>
            </a:r>
            <a:r>
              <a:rPr b="1" lang="ar-SA" sz="3200" spc="-1" strike="noStrike">
                <a:solidFill>
                  <a:srgbClr val="1f4e79"/>
                </a:solidFill>
                <a:latin typeface="Calibri"/>
              </a:rPr>
              <a:t>(</a:t>
            </a:r>
            <a:r>
              <a:rPr b="1" lang="ar-SA" sz="3200" spc="-1" strike="noStrike">
                <a:solidFill>
                  <a:srgbClr val="002060"/>
                </a:solidFill>
                <a:latin typeface="Calibri"/>
              </a:rPr>
              <a:t>نوع من أنواع الذره</a:t>
            </a:r>
            <a:r>
              <a:rPr b="1" lang="ar-SA" sz="3200" spc="-1" strike="noStrike">
                <a:solidFill>
                  <a:srgbClr val="1f4e79"/>
                </a:solidFill>
                <a:latin typeface="Calibri"/>
              </a:rPr>
              <a:t>) 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والأرز صنف واحد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وان البقول كالفول والعدس والحمص كلها صنف واحد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b050"/>
                </a:solidFill>
                <a:latin typeface="Calibri"/>
              </a:rPr>
              <a:t>فلا يجوز التفاضل عنده خلافاً لجمهور العلماء بين القمح والشعير , ويجوز بين القمح والذر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وأما اللحوم عنده فهي ثلاثة أصناف </a:t>
            </a:r>
            <a:r>
              <a:rPr b="1" lang="ar-SA" sz="3200" spc="-1" strike="noStrike">
                <a:solidFill>
                  <a:srgbClr val="1f4e79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1f4e79"/>
                </a:solidFill>
                <a:latin typeface="Calibri"/>
              </a:rPr>
              <a:t>-- لحم ذوات الأربع صنف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1f4e79"/>
                </a:solidFill>
                <a:latin typeface="Calibri"/>
              </a:rPr>
              <a:t>-- لحم الطيور صنف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1f4e79"/>
                </a:solidFill>
                <a:latin typeface="Calibri"/>
              </a:rPr>
              <a:t>-- لحم الأسماك (الحيتان) صنف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1f4e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JO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e79"/>
                </a:solidFill>
                <a:latin typeface="Calibri"/>
              </a:rPr>
              <a:t> -إعداد الطالبات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r" rtl="1">
              <a:lnSpc>
                <a:spcPct val="90000"/>
              </a:lnSpc>
              <a:spcBef>
                <a:spcPts val="499"/>
              </a:spcBef>
              <a:buClr>
                <a:srgbClr val="1f4e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e79"/>
                </a:solidFill>
                <a:latin typeface="Calibri"/>
              </a:rPr>
              <a:t>فهده القحطان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r" rtl="1">
              <a:lnSpc>
                <a:spcPct val="90000"/>
              </a:lnSpc>
              <a:spcBef>
                <a:spcPts val="499"/>
              </a:spcBef>
              <a:buClr>
                <a:srgbClr val="1f4e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e79"/>
                </a:solidFill>
                <a:latin typeface="Calibri"/>
              </a:rPr>
              <a:t>فاطمه الكثير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r" rtl="1">
              <a:lnSpc>
                <a:spcPct val="90000"/>
              </a:lnSpc>
              <a:spcBef>
                <a:spcPts val="499"/>
              </a:spcBef>
              <a:buClr>
                <a:srgbClr val="1f4e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e79"/>
                </a:solidFill>
                <a:latin typeface="Calibri"/>
              </a:rPr>
              <a:t>لمى الجنوبي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r" rtl="1">
              <a:lnSpc>
                <a:spcPct val="90000"/>
              </a:lnSpc>
              <a:spcBef>
                <a:spcPts val="499"/>
              </a:spcBef>
              <a:buClr>
                <a:srgbClr val="1f4e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e79"/>
                </a:solidFill>
                <a:latin typeface="Calibri"/>
              </a:rPr>
              <a:t>يارا التميمي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r" rtl="1">
              <a:lnSpc>
                <a:spcPct val="90000"/>
              </a:lnSpc>
              <a:spcBef>
                <a:spcPts val="499"/>
              </a:spcBef>
              <a:buClr>
                <a:srgbClr val="1f4e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e79"/>
                </a:solidFill>
                <a:latin typeface="Calibri"/>
              </a:rPr>
              <a:t>نوف ا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6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1f4e79"/>
                </a:solidFill>
                <a:latin typeface="Calibri Light"/>
              </a:rPr>
              <a:t>بعض أنواع البيع :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12480" y="979200"/>
            <a:ext cx="11496600" cy="55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ذكر القانون الاماراتي تحت عنوان ( الفرع الثاني من عقد البيع_ بيوع مختلفه ) اربع عشر نوعا من البيوع واقتصر القانون الاردني على ايراد ستة انواع فقط هي السلم والمخارجة والبيع في مرض الموت وبيع النائب لنفسه وبيع ملك الغير والمقايض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وسأوضح بحث الربا قبل بيان هذه الانواع :-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0000"/>
                </a:solidFill>
                <a:uFillTx/>
                <a:latin typeface="Calibri"/>
              </a:rPr>
              <a:t>الربا :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e79"/>
                </a:solidFill>
                <a:latin typeface="Calibri"/>
              </a:rPr>
              <a:t>نص القانون المدني الكويتي صراحة في المادة (</a:t>
            </a:r>
            <a:r>
              <a:rPr b="1" lang="ar-SA" sz="2800" spc="-1" strike="noStrike">
                <a:solidFill>
                  <a:srgbClr val="1f4e79"/>
                </a:solidFill>
                <a:latin typeface="Calibri"/>
              </a:rPr>
              <a:t>305</a:t>
            </a:r>
            <a:r>
              <a:rPr b="1" lang="ar-SA" sz="2800" spc="-1" strike="noStrike">
                <a:solidFill>
                  <a:srgbClr val="1f4e79"/>
                </a:solidFill>
                <a:latin typeface="Calibri"/>
              </a:rPr>
              <a:t>) على ما يأتي :-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1" lang="ar-SA" sz="2800" spc="-1" strike="noStrike">
                <a:solidFill>
                  <a:srgbClr val="ff0000"/>
                </a:solidFill>
                <a:latin typeface="Calibri"/>
              </a:rPr>
              <a:t>- يقع باطلا كل اتفاق على تقاضي فوائد مقابل الانتفاع بمبلغ من النقود او مقابل التأخير في الوفاء بالالتزام به 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b050"/>
                </a:solidFill>
                <a:latin typeface="Calibri"/>
              </a:rPr>
              <a:t>2</a:t>
            </a:r>
            <a:r>
              <a:rPr b="1" lang="ar-SA" sz="2800" spc="-1" strike="noStrike">
                <a:solidFill>
                  <a:srgbClr val="00b050"/>
                </a:solidFill>
                <a:latin typeface="Calibri"/>
              </a:rPr>
              <a:t>- ويعتبر في حكم الفائده كل منفعة او عمولة أيا كان نوعها اشترطها الدائن إذا ما ثبت أن ذلك لا يقابله خدمه حقيقيه متناسبه يكون الدائن قد اداها فعلا 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spcBef>
                <a:spcPts val="10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47320" y="339480"/>
            <a:ext cx="1170468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 وكان جديرا بالقانون الاماراتي ذي الصبغة الاسلامية وأصله القانون المدني الاردني النص الصريح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على تحريم الفوائد , كما فعل القانون الكويتي 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1f4e79"/>
                </a:solidFill>
                <a:uFillTx/>
                <a:latin typeface="Calibri"/>
              </a:rPr>
              <a:t>تعريف الربا وتحريمه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1f4e79"/>
                </a:solidFill>
                <a:uFillTx/>
                <a:latin typeface="Calibri"/>
              </a:rPr>
              <a:t>الربا في اللغة </a:t>
            </a: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</a:rPr>
              <a:t>: </a:t>
            </a:r>
            <a:r>
              <a:rPr b="1" lang="ar-SA" sz="2800" spc="-1" strike="noStrike" u="sng">
                <a:solidFill>
                  <a:srgbClr val="00b050"/>
                </a:solidFill>
                <a:uFillTx/>
                <a:latin typeface="Calibri"/>
              </a:rPr>
              <a:t>الزيادة</a:t>
            </a: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, كما جاء في قوله تعالى (( </a:t>
            </a:r>
            <a:r>
              <a:rPr b="1" lang="ar-SA" sz="2800" spc="-1" strike="noStrike">
                <a:solidFill>
                  <a:srgbClr val="1f4e79"/>
                </a:solidFill>
                <a:latin typeface="Calibri"/>
              </a:rPr>
              <a:t>فإذا انزلنا عليها الماء اهتزت وربت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)) أي زادت ونمت بنماء الزر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70c0"/>
                </a:solidFill>
                <a:uFillTx/>
                <a:latin typeface="Calibri"/>
              </a:rPr>
              <a:t>وهو في الشرع : </a:t>
            </a:r>
            <a:r>
              <a:rPr b="1" lang="ar-SA" sz="2800" spc="-1" strike="noStrike" u="sng">
                <a:solidFill>
                  <a:srgbClr val="ff0000"/>
                </a:solidFill>
                <a:uFillTx/>
                <a:latin typeface="Calibri"/>
              </a:rPr>
              <a:t>الزياده في اشياء مخصوصة , أو الزياده في احد العوضين عن الآخر او تأخير التقابض عن مجلس العقد في اشياء مخصوصة على نحو مخصوص </a:t>
            </a:r>
            <a:r>
              <a:rPr b="1" lang="ar-SA" sz="2800" spc="-1" strike="noStrike">
                <a:solidFill>
                  <a:srgbClr val="ff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2060"/>
                </a:solidFill>
                <a:latin typeface="Calibri"/>
              </a:rPr>
              <a:t>والربا محرم بالقرآن والسنة والاجماع :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اما القرآن فأصرح آية فيه تعم جميع انواع الربا وجنسه هي قوله تعالى : </a:t>
            </a:r>
            <a:r>
              <a:rPr b="1" lang="ar-SA" sz="2800" spc="-1" strike="noStrike">
                <a:solidFill>
                  <a:srgbClr val="1f4e79"/>
                </a:solidFill>
                <a:latin typeface="Calibri"/>
              </a:rPr>
              <a:t>( وأحل البيع وحرم الربا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) وكان تعاطي الربا شائعا بين عرب الجاهلية وبقدر فاحش يشبه الفوائد المركبه في المصارف الحالية 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70c0"/>
                </a:solidFill>
                <a:uFillTx/>
                <a:latin typeface="Calibri"/>
              </a:rPr>
              <a:t>واجمع العلماء على تحريم الربا لانه اكل اموال الناس بالباطل او الحرام لاخذ شيء ليس من حق الانسان ، وسلب انسان ما هو من خالص حقه واستغلال لحاجة الاخرين وجشع وخسارة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spcBef>
                <a:spcPts val="10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79080" y="247320"/>
            <a:ext cx="11442600" cy="621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لذا نهى القرآن الكريم عنه في المرحلة الثالثة من مراحل التدرج في تحريم الربا , علما بأن القيد الوارد فيه لبيان ذلك الواقع الظالم , فقال تعالى :(</a:t>
            </a:r>
            <a:r>
              <a:rPr b="1" lang="ar-SA" sz="3200" spc="-1" strike="noStrike">
                <a:solidFill>
                  <a:srgbClr val="1f4e79"/>
                </a:solidFill>
                <a:latin typeface="Calibri"/>
              </a:rPr>
              <a:t>ياأيها الذين آمنوا لا تأكلوا الربا اضعافا مضعفه واتقوا الله لعلكم تفلحون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) ولا يعني هذا ان الربا القليل غير المضاعف حلال , فقد جاء تحريم جنس الربا في الآية السابقة , واستقر تحريمه فيها وفي الآيه التاليه بعدها في سورة البقره :( </a:t>
            </a:r>
            <a:r>
              <a:rPr b="1" lang="ar-SA" sz="3200" spc="-1" strike="noStrike">
                <a:solidFill>
                  <a:srgbClr val="1f4e79"/>
                </a:solidFill>
                <a:latin typeface="Calibri"/>
              </a:rPr>
              <a:t>ياأيها الذين آمنوا اتقوا الله وذروا ما بقي من الربا ان كنتم مؤمنين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واما السنة : فقوله صلى الله عليه وسلم (</a:t>
            </a:r>
            <a:r>
              <a:rPr b="1" lang="ar-SA" sz="3200" spc="-1" strike="noStrike">
                <a:solidFill>
                  <a:srgbClr val="1f4e79"/>
                </a:solidFill>
                <a:latin typeface="Calibri"/>
              </a:rPr>
              <a:t>واجتنبوا السبع الموبقات – وذكر منها : اكل الربا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وقال ابن مسعود : ( </a:t>
            </a:r>
            <a:r>
              <a:rPr b="1" lang="ar-SA" sz="3200" spc="-1" strike="noStrike">
                <a:solidFill>
                  <a:srgbClr val="1f4e79"/>
                </a:solidFill>
                <a:latin typeface="Calibri"/>
              </a:rPr>
              <a:t>لعن رسول الله صلى الله عليه وسلم آكل الربا وموكله وشاهده وكاتب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98480" y="208080"/>
            <a:ext cx="10515600" cy="58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1f4e79"/>
                </a:solidFill>
                <a:latin typeface="Calibri Light"/>
              </a:rPr>
              <a:t>أنواع الربا: 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52080" y="914400"/>
            <a:ext cx="11587320" cy="55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03400" indent="-20340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- ربا القرض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03400" indent="-20340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- ربا البيو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03400" indent="-20340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1f4e79"/>
                </a:solidFill>
                <a:uFillTx/>
                <a:latin typeface="Calibri"/>
              </a:rPr>
              <a:t>اولا : ربا القرض </a:t>
            </a:r>
            <a:r>
              <a:rPr b="1" lang="ar-SA" sz="3200" spc="-1" strike="noStrike" u="sng">
                <a:solidFill>
                  <a:srgbClr val="000000"/>
                </a:solidFill>
                <a:uFillTx/>
                <a:latin typeface="Calibri"/>
              </a:rPr>
              <a:t>: 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فيحدث في قرض الاموال الربوية ببعضها مع زيادة في احدها , وهي الكيلات والموزونات عند الحنفية والحنابلة , والنقدان والاقوات عند المالكية , والنقدان والمطعومات عند الشافعية .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03400" indent="-20340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030a0"/>
                </a:solidFill>
                <a:latin typeface="Calibri"/>
              </a:rPr>
              <a:t>وكل قرض جر نفعاً حرام اذا كان النفع مشروطا او متعارفا عليه في القرض بين الناس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03400" indent="-20340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03400" indent="-20340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1f4e79"/>
                </a:solidFill>
                <a:latin typeface="Calibri"/>
              </a:rPr>
              <a:t>ثانيا : ربا البيوع </a:t>
            </a:r>
            <a:r>
              <a:rPr b="1" lang="ar-SA" sz="3200" spc="-1" strike="noStrike">
                <a:solidFill>
                  <a:srgbClr val="7f7f7f"/>
                </a:solidFill>
                <a:latin typeface="Calibri"/>
              </a:rPr>
              <a:t>: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فهو نوعان 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03400" indent="-20340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b050"/>
                </a:solidFill>
                <a:latin typeface="Calibri"/>
              </a:rPr>
              <a:t>1</a:t>
            </a:r>
            <a:r>
              <a:rPr b="1" lang="ar-SA" sz="3200" spc="-1" strike="noStrike">
                <a:solidFill>
                  <a:srgbClr val="00b050"/>
                </a:solidFill>
                <a:latin typeface="Calibri"/>
              </a:rPr>
              <a:t>- ربا النسيئة أو (ربا الجاهلية)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03400" indent="-20340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1" lang="ar-SA" sz="3200" spc="-1" strike="noStrike">
                <a:solidFill>
                  <a:srgbClr val="00b050"/>
                </a:solidFill>
                <a:latin typeface="Calibri"/>
              </a:rPr>
              <a:t>2</a:t>
            </a:r>
            <a:r>
              <a:rPr b="1" lang="ar-SA" sz="3200" spc="-1" strike="noStrike">
                <a:solidFill>
                  <a:srgbClr val="00b050"/>
                </a:solidFill>
                <a:latin typeface="Calibri"/>
              </a:rPr>
              <a:t>- ربا الفضل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03400" indent="-203400" algn="r" rtl="1">
              <a:lnSpc>
                <a:spcPct val="90000"/>
              </a:lnSpc>
              <a:spcBef>
                <a:spcPts val="10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99880" y="247680"/>
            <a:ext cx="11574720" cy="63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 algn="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1f4e79"/>
                </a:solidFill>
                <a:latin typeface="Calibri"/>
              </a:rPr>
              <a:t>اما ربا البيوع : 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فهو نوعان 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17080" indent="-217080" algn="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ar-SA" sz="3600" spc="-1" strike="noStrike">
                <a:solidFill>
                  <a:srgbClr val="1f4e79"/>
                </a:solidFill>
                <a:latin typeface="Calibri"/>
              </a:rPr>
              <a:t>ربا النسيئة او (ربا الجاهلية)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17080" indent="-217080" algn="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ar-SA" sz="3600" spc="-1" strike="noStrike">
                <a:solidFill>
                  <a:srgbClr val="1f4e79"/>
                </a:solidFill>
                <a:latin typeface="Calibri"/>
              </a:rPr>
              <a:t>ربا الفضل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17080" indent="-217080" algn="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وقد دل قوله تعالى ( </a:t>
            </a:r>
            <a:r>
              <a:rPr b="1" lang="ar-SA" sz="3600" spc="-1" strike="noStrike">
                <a:solidFill>
                  <a:srgbClr val="1f4e79"/>
                </a:solidFill>
                <a:latin typeface="Calibri"/>
              </a:rPr>
              <a:t>وحرم الربا 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) على تحريم جنس الربا , فيشمل كل انواع الربا </a:t>
            </a:r>
            <a:r>
              <a:rPr b="1" lang="ar-SA" sz="3600" spc="-1" strike="noStrike">
                <a:solidFill>
                  <a:srgbClr val="1f4e79"/>
                </a:solidFill>
                <a:latin typeface="Calibri"/>
              </a:rPr>
              <a:t>, بأجماع الفقهاء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17080" indent="-217080" algn="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17080" indent="-217080" algn="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1f4e79"/>
                </a:solidFill>
                <a:latin typeface="Calibri"/>
              </a:rPr>
              <a:t>ربا الفضل : </a:t>
            </a:r>
            <a:r>
              <a:rPr b="1" lang="ar-SA" sz="3600" spc="-1" strike="noStrike">
                <a:solidFill>
                  <a:srgbClr val="00b050"/>
                </a:solidFill>
                <a:latin typeface="Calibri"/>
              </a:rPr>
              <a:t>هو الزيادة في احد العوضين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17080" indent="-217080" algn="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17080" indent="-217080" algn="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1f4e79"/>
                </a:solidFill>
                <a:latin typeface="Calibri"/>
              </a:rPr>
              <a:t>وربا النسيئة </a:t>
            </a:r>
            <a:r>
              <a:rPr b="1" lang="ar-SA" sz="3600" spc="-1" strike="noStrike">
                <a:solidFill>
                  <a:srgbClr val="7f7f7f"/>
                </a:solidFill>
                <a:latin typeface="Calibri"/>
              </a:rPr>
              <a:t>: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3600" spc="-1" strike="noStrike">
                <a:solidFill>
                  <a:srgbClr val="ff0000"/>
                </a:solidFill>
                <a:latin typeface="Calibri"/>
              </a:rPr>
              <a:t>هو تأخير في قبض احد العوضين الى اجل معين , سواء كان بعيدا او قريبا , أي </a:t>
            </a:r>
            <a:r>
              <a:rPr b="1" lang="ar-SA" sz="3600" spc="-1" strike="noStrike">
                <a:solidFill>
                  <a:srgbClr val="7030a0"/>
                </a:solidFill>
                <a:latin typeface="Calibri"/>
              </a:rPr>
              <a:t>سواء كان البيع حالا , وحدث التأخير للقبض عن مجلس العقد في فترة قريبة من وقوع البيع , ام كان مؤجلا الى وقت في المستقبل , كأيام او اشهر أو سنة </a:t>
            </a:r>
            <a:r>
              <a:rPr b="1" lang="ar-SA" sz="36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17080" indent="-217080" algn="r" rtl="1">
              <a:lnSpc>
                <a:spcPct val="8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62080" y="182520"/>
            <a:ext cx="11717280" cy="637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algn="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وقد دل الحديث الصحيح الذي رواه مسلم وغيره عن عبادة بن صامت وغيره على تحريم ربا الفضل وربا النسيئة , وهو قوله صلى الله عليه وسلم : </a:t>
            </a:r>
            <a:r>
              <a:rPr b="1" lang="en-US" sz="3600" spc="-1" strike="noStrike" u="sng">
                <a:solidFill>
                  <a:srgbClr val="1f4e79"/>
                </a:solidFill>
                <a:uFillTx/>
                <a:latin typeface="Calibri"/>
              </a:rPr>
              <a:t>“ </a:t>
            </a:r>
            <a:r>
              <a:rPr b="1" lang="ar-SA" sz="3600" spc="-1" strike="noStrike" u="sng">
                <a:solidFill>
                  <a:srgbClr val="1f4e79"/>
                </a:solidFill>
                <a:uFillTx/>
                <a:latin typeface="Calibri"/>
              </a:rPr>
              <a:t>الذهب بالذهب , والفضة بالفضة , والبُرّ بالبُرّ , والشعير بالشعير , والتمر بالتمر , والملح بالملح , مثلا بمثل , سواءً بسواء , يداً بيد , </a:t>
            </a:r>
            <a:r>
              <a:rPr b="1" lang="ar-SA" sz="3600" spc="-1" strike="noStrike" u="sng">
                <a:solidFill>
                  <a:srgbClr val="c00000"/>
                </a:solidFill>
                <a:uFillTx/>
                <a:latin typeface="Calibri"/>
              </a:rPr>
              <a:t>فإذا اختلفت هذه الاصناف , فبيعوا كيف شئتم اذا كان يداً بيد </a:t>
            </a:r>
            <a:r>
              <a:rPr b="1" lang="en-US" sz="3600" spc="-1" strike="noStrike" u="sng">
                <a:solidFill>
                  <a:srgbClr val="1f4e79"/>
                </a:solidFill>
                <a:uFillTx/>
                <a:latin typeface="Calibri"/>
              </a:rPr>
              <a:t>“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ar-SA" sz="3600" spc="-1" strike="noStrike" u="sng">
                <a:solidFill>
                  <a:srgbClr val="000000"/>
                </a:solidFill>
                <a:uFillTx/>
                <a:latin typeface="Calibri"/>
              </a:rPr>
              <a:t> أي </a:t>
            </a:r>
            <a:r>
              <a:rPr b="1" lang="ar-SA" sz="3600" spc="-1" strike="noStrike" u="sng">
                <a:solidFill>
                  <a:srgbClr val="7030a0"/>
                </a:solidFill>
                <a:uFillTx/>
                <a:latin typeface="Calibri"/>
              </a:rPr>
              <a:t>مقابضة في مجلس العقد , فيدل على اشتراط الحلول وعدم التأجيل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وأما حديث </a:t>
            </a:r>
            <a:r>
              <a:rPr b="1" lang="en-US" sz="3600" spc="-1" strike="noStrike" u="sng">
                <a:solidFill>
                  <a:srgbClr val="1f4e79"/>
                </a:solidFill>
                <a:uFillTx/>
                <a:latin typeface="Calibri"/>
              </a:rPr>
              <a:t>“ </a:t>
            </a:r>
            <a:r>
              <a:rPr b="1" lang="ar-SA" sz="3600" spc="-1" strike="noStrike" u="sng">
                <a:solidFill>
                  <a:srgbClr val="1f4e79"/>
                </a:solidFill>
                <a:uFillTx/>
                <a:latin typeface="Calibri"/>
              </a:rPr>
              <a:t>لا ربا الا في النسيئة </a:t>
            </a:r>
            <a:r>
              <a:rPr b="1" lang="en-US" sz="3600" spc="-1" strike="noStrike" u="sng">
                <a:solidFill>
                  <a:srgbClr val="1f4e79"/>
                </a:solidFill>
                <a:uFillTx/>
                <a:latin typeface="Calibri"/>
              </a:rPr>
              <a:t>“ </a:t>
            </a:r>
            <a:r>
              <a:rPr b="1" lang="ar-SA" sz="3600" spc="-1" strike="noStrike" u="sng">
                <a:solidFill>
                  <a:srgbClr val="1f4e79"/>
                </a:solidFill>
                <a:uFillTx/>
                <a:latin typeface="Calibri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الذي فهم منه بعضهم تحريم ربا النسيئة فقط دون ربا الفضل , </a:t>
            </a:r>
            <a:r>
              <a:rPr b="1" lang="ar-SA" sz="3600" spc="-1" strike="noStrike" u="sng">
                <a:solidFill>
                  <a:srgbClr val="c55a11"/>
                </a:solidFill>
                <a:uFillTx/>
                <a:latin typeface="Calibri"/>
              </a:rPr>
              <a:t>فالمراد به بيان فحش ربا النسيئة , وانه الربا الاكمل الاعظم خطورة , الاكثر وقوعا , الاشد عقوبة , حتى لكأنه لا ربا غيره , أي ان المراد به نفي الاكمل , لا نفي اصل الربا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 . لذا رجع من عباس رضي الله عنه ومن وافقه عن القول بظاهر هذا الحديث الى قول جماعة الصحابة , فأصبح تحريم ربا الفضل بإجماع الصحابة , بعد اطلاعهم على حديث عبادة المتقدم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87280" y="326520"/>
            <a:ext cx="11639520" cy="621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algn="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0000"/>
                </a:solidFill>
                <a:uFillTx/>
                <a:latin typeface="Calibri"/>
              </a:rPr>
              <a:t>وربا </a:t>
            </a:r>
            <a:r>
              <a:rPr b="1" lang="ar-SA" sz="3200" spc="-1" strike="noStrike" u="sng">
                <a:solidFill>
                  <a:srgbClr val="1f4e79"/>
                </a:solidFill>
                <a:uFillTx/>
                <a:latin typeface="Calibri"/>
              </a:rPr>
              <a:t>المصارف الربوية 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التي تتعامل اليوم بالفائدة المقطوعة هو من </a:t>
            </a:r>
            <a:r>
              <a:rPr b="1" lang="ar-SA" sz="3200" spc="-1" strike="noStrike" u="sng">
                <a:solidFill>
                  <a:srgbClr val="1f4e79"/>
                </a:solidFill>
                <a:uFillTx/>
                <a:latin typeface="Calibri"/>
              </a:rPr>
              <a:t>ربا النسيئة 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, فهو </a:t>
            </a:r>
            <a:r>
              <a:rPr b="1" lang="ar-SA" sz="3200" spc="-1" strike="noStrike">
                <a:solidFill>
                  <a:srgbClr val="7f6000"/>
                </a:solidFill>
                <a:latin typeface="Calibri"/>
              </a:rPr>
              <a:t>اعطاء مال او قرض مال لأجل بفائدة شهرية او سنوية , فهو اكل لأموال الناس بالباطل , ومضارة كثيرة على الدولة والافراد , اذ هو سبب التضخم النقدي في العالم , وسبب لإبقاء الضعفاء في حالة دائمة من الجوع والحرمان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و ما قد </a:t>
            </a:r>
            <a:r>
              <a:rPr b="1" lang="ar-SA" sz="3200" spc="-1" strike="noStrike">
                <a:solidFill>
                  <a:srgbClr val="c00000"/>
                </a:solidFill>
                <a:latin typeface="Calibri"/>
              </a:rPr>
              <a:t>يروجه مبيحو ربا المصارف من أن الفوائد هي عوائد استثمار الاموال المودعة في المشروعات التي تمولها المصارف , هو محض افتراء وتضليل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 لان هذه الفوائد مقطوعة محددة بنسبة معينة مثل </a:t>
            </a:r>
            <a:r>
              <a:rPr b="1" lang="ar-SA" sz="3200" spc="-1" strike="noStrike">
                <a:solidFill>
                  <a:srgbClr val="1f4e79"/>
                </a:solidFill>
                <a:latin typeface="Calibri"/>
              </a:rPr>
              <a:t>4</a:t>
            </a:r>
            <a:r>
              <a:rPr b="1" lang="ar-SA" sz="3200" spc="-1" strike="noStrike">
                <a:solidFill>
                  <a:srgbClr val="1f4e79"/>
                </a:solidFill>
                <a:latin typeface="Calibri"/>
              </a:rPr>
              <a:t>% او </a:t>
            </a:r>
            <a:r>
              <a:rPr b="1" lang="ar-SA" sz="3200" spc="-1" strike="noStrike">
                <a:solidFill>
                  <a:srgbClr val="1f4e79"/>
                </a:solidFill>
                <a:latin typeface="Calibri"/>
              </a:rPr>
              <a:t>7</a:t>
            </a:r>
            <a:r>
              <a:rPr b="1" lang="ar-SA" sz="3200" spc="-1" strike="noStrike">
                <a:solidFill>
                  <a:srgbClr val="1f4e79"/>
                </a:solidFill>
                <a:latin typeface="Calibri"/>
              </a:rPr>
              <a:t>% او </a:t>
            </a:r>
            <a:r>
              <a:rPr b="1" lang="ar-SA" sz="3200" spc="-1" strike="noStrike">
                <a:solidFill>
                  <a:srgbClr val="1f4e79"/>
                </a:solidFill>
                <a:latin typeface="Calibri"/>
              </a:rPr>
              <a:t>9</a:t>
            </a:r>
            <a:r>
              <a:rPr b="1" lang="ar-SA" sz="3200" spc="-1" strike="noStrike">
                <a:solidFill>
                  <a:srgbClr val="1f4e79"/>
                </a:solidFill>
                <a:latin typeface="Calibri"/>
              </a:rPr>
              <a:t>%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او اكثر 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b050"/>
                </a:solidFill>
                <a:latin typeface="Calibri"/>
              </a:rPr>
              <a:t>-- فان كان ربح المشروع اكثر من مقدار الفائدة كان الباقي لدى ادارة المصرف حرمانا لحق التعامل معه 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843c0c"/>
                </a:solidFill>
                <a:latin typeface="Calibri"/>
              </a:rPr>
              <a:t>-- واذا كان اقل منها , فيأخذ الشخص ما ليس من حقه 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70c0"/>
                </a:solidFill>
                <a:latin typeface="Calibri"/>
              </a:rPr>
              <a:t>-- وقد يخسر المال ولا يحقق أي ربح , فلا يساهم المتعامل في الخسارة , بل يأخذ ربحه المقرر . وهذا مناف للعدل والمساواة واحترام حقوق الناس , وذلك من اصول الشريعة الاسلامي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80000"/>
              </a:lnSpc>
              <a:spcBef>
                <a:spcPts val="10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274680" y="299880"/>
            <a:ext cx="11625120" cy="63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algn="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0000"/>
                </a:solidFill>
                <a:uFillTx/>
                <a:latin typeface="Calibri"/>
              </a:rPr>
              <a:t>والطريق المشروع هو </a:t>
            </a:r>
            <a:r>
              <a:rPr b="1" lang="ar-SA" sz="3600" spc="-1" strike="noStrike" u="sng">
                <a:solidFill>
                  <a:srgbClr val="00b050"/>
                </a:solidFill>
                <a:uFillTx/>
                <a:latin typeface="Calibri"/>
              </a:rPr>
              <a:t>نظام المضاربة </a:t>
            </a:r>
            <a:r>
              <a:rPr b="1" lang="ar-SA" sz="3600" spc="-1" strike="noStrike" u="sng">
                <a:solidFill>
                  <a:srgbClr val="000000"/>
                </a:solidFill>
                <a:uFillTx/>
                <a:latin typeface="Calibri"/>
              </a:rPr>
              <a:t>المعروف الذي تقوم المصارف الاسلامية الان بتطبيقه 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, وقد نجحت نجاحا طيبا مبشرا بالخير , وهذا النظام يقوم على 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Calibri"/>
              </a:rPr>
              <a:t>المشاركة في الربح مهما كان , والخسارة مهما قلّت , ولا يتحدد فيه ربح ثابت مقطوع , كما هو الشأن , في نظام المصارف الربوية , وهذا هو العدل والحق , وهو الطريق المنسجم مع مبدأ الاسلام في الاستثمار بالطرق الحلال , والحفاظ على الحقوق , وعدم اهدارها مهما قلّت 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70c0"/>
                </a:solidFill>
                <a:latin typeface="Calibri"/>
              </a:rPr>
              <a:t>ولا فرق في تحريم الربا او الفائدة والتعامل به بين الافراد وبين الجماعات والدول والهيئات كالمصارف والمؤسسات 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كما لا فرق بين </a:t>
            </a:r>
            <a:r>
              <a:rPr b="1" lang="ar-SA" sz="3600" spc="-1" strike="noStrike">
                <a:solidFill>
                  <a:srgbClr val="1f4e79"/>
                </a:solidFill>
                <a:latin typeface="Calibri"/>
              </a:rPr>
              <a:t>القرض الانتاجي 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الذي قيل : انه غير حرام </a:t>
            </a:r>
            <a:r>
              <a:rPr b="1" lang="ar-SA" sz="3600" spc="-1" strike="noStrike">
                <a:solidFill>
                  <a:srgbClr val="1f4e79"/>
                </a:solidFill>
                <a:latin typeface="Calibri"/>
              </a:rPr>
              <a:t>والقرض الاستهلاكي 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الذي حصر التحريم فيه 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3600" spc="-1" strike="noStrike">
                <a:solidFill>
                  <a:srgbClr val="7030a0"/>
                </a:solidFill>
                <a:latin typeface="Calibri"/>
              </a:rPr>
              <a:t>فالكل في شرع الله ودينه حرام , مادام معنى الربا قائما فيه , وهو الزيادة في احد العوضين , او تأخير التقابض عن مجلس العقد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80000"/>
              </a:lnSpc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10T10:14:57Z</dcterms:created>
  <dc:creator>Sony</dc:creator>
  <dc:description/>
  <dc:language>en-US</dc:language>
  <cp:lastModifiedBy>eman</cp:lastModifiedBy>
  <dcterms:modified xsi:type="dcterms:W3CDTF">2016-11-29T01:06:39Z</dcterms:modified>
  <cp:revision>35</cp:revision>
  <dc:subject/>
  <dc:title>عرض تقديمي في PowerPoint</dc:title>
</cp:coreProperties>
</file>