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94B7EF-B922-451E-8533-794B299F1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4E190F-3DD4-40DD-8381-BCBB5D652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E2ABBA1-ECE3-4D6F-BAC7-13A3E7F6B1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807BE7-9947-4D34-A4F7-6EEFFBD09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8E8723B-0439-4629-BB83-0A2646D40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0CF1A1-1C2C-40B4-A2C2-0B9013AE1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DB3B1A-84D1-45BB-AE48-963C0959E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68161E5-C502-4878-8420-8F700F96C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5EA956-D6CF-4F12-AFF8-41414BAA9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173401-5E3C-44BB-98DC-BA3F33615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37D2B9-8D11-46AD-8905-AD771D93A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7B48DC-5D76-42C8-B218-5F61A8FC2A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1503-7B23-4E93-B81C-586F2731FADA}" type="slidenum">
              <a:rPr b="0" lang="ar-SA"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000" y="764640"/>
            <a:ext cx="7620120" cy="4800600"/>
          </a:xfrm>
          <a:prstGeom prst="rect">
            <a:avLst/>
          </a:prstGeom>
          <a:noFill/>
          <a:ln w="0">
            <a:noFill/>
          </a:ln>
        </p:spPr>
        <p:txBody>
          <a:bodyPr anchor="t">
            <a:normAutofit fontScale="79000"/>
          </a:bodyPr>
          <a:p>
            <a:pPr marL="270720" indent="-180360" algn="ct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ea typeface="Akhbar MT"/>
              </a:rPr>
              <a:t> فرع التأمين ضد التعطل عن العمل </a:t>
            </a:r>
            <a:endParaRPr b="0" lang="en-US" sz="3200" spc="-1" strike="noStrike">
              <a:solidFill>
                <a:srgbClr val="2f2b20"/>
              </a:solidFill>
              <a:latin typeface="Calibri"/>
            </a:endParaRPr>
          </a:p>
          <a:p>
            <a:pPr marL="270720" indent="-18036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Calibri"/>
                <a:cs typeface="Akhbar MT"/>
              </a:rPr>
              <a:t>يعتبر العمل هدفاً يسعى إليه الإنسان ليوفر لنفسه وأسرته حياة كريمة في مجتمعه،</a:t>
            </a:r>
            <a:r>
              <a:rPr b="0" lang="en-US" sz="3200" spc="-1" strike="noStrike">
                <a:solidFill>
                  <a:srgbClr val="2f2b20"/>
                </a:solidFill>
                <a:latin typeface="Calibri"/>
                <a:ea typeface="Akhbar MT"/>
              </a:rPr>
              <a:t> </a:t>
            </a:r>
            <a:r>
              <a:rPr b="0" lang="ar-SA" sz="3200" spc="-1" strike="noStrike">
                <a:solidFill>
                  <a:srgbClr val="2f2b20"/>
                </a:solidFill>
                <a:latin typeface="Calibri"/>
                <a:cs typeface="Akhbar MT"/>
              </a:rPr>
              <a:t>ولايوجد ما هو أصعب على الإنسان من الشعور بالحاجة المادية والعوز من الأخرين خاصة حينما يكون مسؤولاً عن أسرة وعليه تأمين وإشباع احتياجاتها الأساسية ،وتمثل البطالة إحدى المشكلات الأساسية التي تواجه معظم دول العالم . </a:t>
            </a:r>
            <a:endParaRPr b="0" lang="en-US" sz="3200" spc="-1" strike="noStrike">
              <a:solidFill>
                <a:srgbClr val="2f2b20"/>
              </a:solidFill>
              <a:latin typeface="Calibri"/>
            </a:endParaRPr>
          </a:p>
          <a:p>
            <a:pPr marL="270720" indent="-18036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2b20"/>
                </a:solidFill>
                <a:latin typeface="Calibri"/>
                <a:ea typeface="Akhbar MT"/>
              </a:rPr>
              <a:t> وتعتبر البطالة أحد الأسباب الرئيسية لمعظم المشاكل الاجتماعية وتهديداً واضحاً للاستقرار السياسي والترابط الاجتماعي ، بناء على ذلك تدخل المنظم السعودي وأصدر نظام للتأمين ضد خطر التعطل عن العمل . </a:t>
            </a: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6840" y="691920"/>
            <a:ext cx="7715160" cy="5708520"/>
          </a:xfrm>
          <a:prstGeom prst="rect">
            <a:avLst/>
          </a:prstGeom>
          <a:noFill/>
          <a:ln w="0">
            <a:noFill/>
          </a:ln>
        </p:spPr>
        <p:txBody>
          <a:bodyPr anchor="t">
            <a:normAutofit fontScale="76000"/>
          </a:bodyPr>
          <a:p>
            <a:pPr marL="260640" indent="-17352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سادساً: التعويض المقرر بمقتضى النظام : </a:t>
            </a:r>
            <a:endParaRPr b="0" lang="en-US" sz="2800" spc="-1" strike="noStrike">
              <a:solidFill>
                <a:srgbClr val="2f2b20"/>
              </a:solidFill>
              <a:latin typeface="Calibri"/>
            </a:endParaRPr>
          </a:p>
          <a:p>
            <a:pPr marL="260640" indent="-17352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يستحق المستفيد التعويض إذا عمل في عمل خاضع لهذا النظام وفقا للآتي: </a:t>
            </a:r>
            <a:br>
              <a:rPr sz="2800"/>
            </a:br>
            <a:r>
              <a:rPr b="0" lang="ar-SA" sz="2800" spc="-1" strike="noStrike">
                <a:solidFill>
                  <a:srgbClr val="2f2b20"/>
                </a:solidFill>
                <a:latin typeface="Calibri"/>
                <a:cs typeface="Akhbar MT"/>
              </a:rPr>
              <a:t>١</a:t>
            </a:r>
            <a:r>
              <a:rPr b="0" lang="ar-SA" sz="2800" spc="-1" strike="noStrike">
                <a:solidFill>
                  <a:srgbClr val="2f2b20"/>
                </a:solidFill>
                <a:latin typeface="Calibri"/>
                <a:ea typeface="Akhbar MT"/>
              </a:rPr>
              <a:t>- التعويض للمرة الأولى إذا عمل مدة لا تقل عن اثني عشر شهراً خلال الستة والثلاثين شهراً التي تسبق المطالبة الأولى.</a:t>
            </a:r>
            <a:br>
              <a:rPr sz="2800"/>
            </a:br>
            <a:r>
              <a:rPr b="0" lang="ar-SA" sz="2800" spc="-1" strike="noStrike">
                <a:solidFill>
                  <a:srgbClr val="2f2b20"/>
                </a:solidFill>
                <a:latin typeface="Calibri"/>
                <a:cs typeface="Akhbar MT"/>
              </a:rPr>
              <a:t>٢</a:t>
            </a:r>
            <a:r>
              <a:rPr b="0" lang="ar-SA" sz="2800" spc="-1" strike="noStrike">
                <a:solidFill>
                  <a:srgbClr val="2f2b20"/>
                </a:solidFill>
                <a:latin typeface="Calibri"/>
                <a:ea typeface="Akhbar MT"/>
              </a:rPr>
              <a:t>- التعويض للمرة الثانية إذا عمل مرة أخرى مدة لا تقل عن ثمانية عشر شهراً خلال الستة والثلاثين شهراً التي تسبق المطالبة الثانية.</a:t>
            </a:r>
            <a:br>
              <a:rPr sz="2800"/>
            </a:br>
            <a:r>
              <a:rPr b="0" lang="ar-SA" sz="2800" spc="-1" strike="noStrike">
                <a:solidFill>
                  <a:srgbClr val="2f2b20"/>
                </a:solidFill>
                <a:latin typeface="Calibri"/>
                <a:cs typeface="Akhbar MT"/>
              </a:rPr>
              <a:t>٣</a:t>
            </a:r>
            <a:r>
              <a:rPr b="0" lang="ar-SA" sz="2800" spc="-1" strike="noStrike">
                <a:solidFill>
                  <a:srgbClr val="2f2b20"/>
                </a:solidFill>
                <a:latin typeface="Calibri"/>
                <a:ea typeface="Akhbar MT"/>
              </a:rPr>
              <a:t>- التعويض للمرة الثالثة إذا عمل مرة أخرى مدة لا تقل عن أربعة وعشرين شهراً خلال الستة والثلاثين شهراً التي تسبق المطالبة الثالثة.</a:t>
            </a:r>
            <a:br>
              <a:rPr sz="2800"/>
            </a:br>
            <a:r>
              <a:rPr b="0" lang="ar-SA" sz="2800" spc="-1" strike="noStrike">
                <a:solidFill>
                  <a:srgbClr val="2f2b20"/>
                </a:solidFill>
                <a:latin typeface="Calibri"/>
                <a:cs typeface="Akhbar MT"/>
              </a:rPr>
              <a:t>٤</a:t>
            </a:r>
            <a:r>
              <a:rPr b="0" lang="ar-SA" sz="2800" spc="-1" strike="noStrike">
                <a:solidFill>
                  <a:srgbClr val="2f2b20"/>
                </a:solidFill>
                <a:latin typeface="Calibri"/>
                <a:ea typeface="Akhbar MT"/>
              </a:rPr>
              <a:t>- التعويض في أي مرة لاحقة إذا عمل مرة أخرى مدة لا تقل عن ستة وثلاثين شهراً خلال الثمانية والأربعين شهراً التي تسبق المطالبة الأخيرة.</a:t>
            </a:r>
            <a:br>
              <a:rPr sz="2800"/>
            </a:br>
            <a:r>
              <a:rPr b="0" lang="ar-SA" sz="2800" spc="-1" strike="noStrike">
                <a:solidFill>
                  <a:srgbClr val="2f2b20"/>
                </a:solidFill>
                <a:latin typeface="Calibri"/>
                <a:cs typeface="Akhbar MT"/>
              </a:rPr>
              <a:t>ولأغراض هذه المادة، تعد المطالبة بالتعويض لمرة جديدة كلما صرف للمستفيد تعويض للمدة القصوى المنصوص عليها في المادة (الثالثة عشرة) من هذا النظام.</a:t>
            </a:r>
            <a:endParaRPr b="0" lang="en-US" sz="2800" spc="-1" strike="noStrike">
              <a:solidFill>
                <a:srgbClr val="2f2b20"/>
              </a:solidFill>
              <a:latin typeface="Calibri"/>
            </a:endParaRPr>
          </a:p>
          <a:p>
            <a:pPr marL="260640" indent="-17352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60" y="549360"/>
            <a:ext cx="8388360" cy="6308640"/>
          </a:xfrm>
          <a:prstGeom prst="rect">
            <a:avLst/>
          </a:prstGeom>
          <a:noFill/>
          <a:ln w="0">
            <a:noFill/>
          </a:ln>
        </p:spPr>
        <p:txBody>
          <a:bodyPr anchor="t">
            <a:normAutofit fontScale="91000"/>
          </a:bodyPr>
          <a:p>
            <a:pPr marL="312120" indent="-20772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سابعاً: حالات وقف التعويض المقرر بمقتضى النظام عن المستفيد: </a:t>
            </a:r>
            <a:endParaRPr b="0" lang="en-US" sz="2800" spc="-1" strike="noStrike">
              <a:solidFill>
                <a:srgbClr val="2f2b20"/>
              </a:solidFill>
              <a:latin typeface="Calibri"/>
            </a:endParaRPr>
          </a:p>
          <a:p>
            <a:pPr marL="312120" indent="-207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12120" indent="-207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يوقف صرف التعويض عن المستفيد بشكل فوري في أي من الحالات الآتية:</a:t>
            </a:r>
            <a:endParaRPr b="0" lang="en-US" sz="2800" spc="-1" strike="noStrike">
              <a:solidFill>
                <a:srgbClr val="2f2b20"/>
              </a:solidFill>
              <a:latin typeface="Calibri"/>
            </a:endParaRPr>
          </a:p>
          <a:p>
            <a:pPr marL="312120" indent="-207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أ- الوفاة.</a:t>
            </a:r>
            <a:br>
              <a:rPr sz="2800"/>
            </a:br>
            <a:r>
              <a:rPr b="0" lang="ar-SA" sz="2800" spc="-1" strike="noStrike">
                <a:solidFill>
                  <a:srgbClr val="2f2b20"/>
                </a:solidFill>
                <a:latin typeface="Calibri"/>
                <a:cs typeface="Akhbar MT"/>
              </a:rPr>
              <a:t>ب- إذا كان له دخل شهري من عمل.</a:t>
            </a:r>
            <a:br>
              <a:rPr sz="2800"/>
            </a:br>
            <a:r>
              <a:rPr b="0" lang="ar-SA" sz="2800" spc="-1" strike="noStrike">
                <a:solidFill>
                  <a:srgbClr val="2f2b20"/>
                </a:solidFill>
                <a:latin typeface="Calibri"/>
                <a:cs typeface="Akhbar MT"/>
              </a:rPr>
              <a:t>جـ- إذا أصبح غير قادر على العمل.</a:t>
            </a:r>
            <a:br>
              <a:rPr sz="2800"/>
            </a:br>
            <a:r>
              <a:rPr b="0" lang="ar-SA" sz="2800" spc="-1" strike="noStrike">
                <a:solidFill>
                  <a:srgbClr val="2f2b20"/>
                </a:solidFill>
                <a:latin typeface="Calibri"/>
                <a:cs typeface="Akhbar MT"/>
              </a:rPr>
              <a:t>د- إذا لم يعد مسجلاً لدى الوزارة.</a:t>
            </a:r>
            <a:br>
              <a:rPr sz="2800"/>
            </a:br>
            <a:r>
              <a:rPr b="0" lang="ar-SA" sz="2800" spc="-1" strike="noStrike">
                <a:solidFill>
                  <a:srgbClr val="2f2b20"/>
                </a:solidFill>
                <a:latin typeface="Calibri"/>
                <a:cs typeface="Akhbar MT"/>
              </a:rPr>
              <a:t>هـ- إذا لم يعد يبحث عن عمل بجد ونشاط.</a:t>
            </a:r>
            <a:br>
              <a:rPr sz="2800"/>
            </a:br>
            <a:r>
              <a:rPr b="0" lang="ar-SA" sz="2800" spc="-1" strike="noStrike">
                <a:solidFill>
                  <a:srgbClr val="2f2b20"/>
                </a:solidFill>
                <a:latin typeface="Calibri"/>
                <a:cs typeface="Akhbar MT"/>
              </a:rPr>
              <a:t>و- إذا لم يلتزم بالتدريب دون مسوغ مقبول.</a:t>
            </a:r>
            <a:br>
              <a:rPr sz="2800"/>
            </a:br>
            <a:r>
              <a:rPr b="0" lang="ar-SA" sz="2800" spc="-1" strike="noStrike">
                <a:solidFill>
                  <a:srgbClr val="2f2b20"/>
                </a:solidFill>
                <a:latin typeface="Calibri"/>
                <a:cs typeface="Akhbar MT"/>
              </a:rPr>
              <a:t>ز- إذا لم يتقيد بالتعليمات والتوجيهات التي تصدرها الوزارة.</a:t>
            </a:r>
            <a:br>
              <a:rPr sz="2800"/>
            </a:br>
            <a:r>
              <a:rPr b="0" lang="ar-SA" sz="2800" spc="-1" strike="noStrike">
                <a:solidFill>
                  <a:srgbClr val="2f2b20"/>
                </a:solidFill>
                <a:latin typeface="Calibri"/>
                <a:cs typeface="Akhbar MT"/>
              </a:rPr>
              <a:t>ح- إذا غادر المملكة العربية السعودية.</a:t>
            </a:r>
            <a:br>
              <a:rPr sz="2800"/>
            </a:br>
            <a:r>
              <a:rPr b="0" lang="ar-SA" sz="2800" spc="-1" strike="noStrike">
                <a:solidFill>
                  <a:srgbClr val="2f2b20"/>
                </a:solidFill>
                <a:latin typeface="Calibri"/>
                <a:cs typeface="Akhbar MT"/>
              </a:rPr>
              <a:t>ط-إذا بلغت سنه الستين وكان مستحقاً لمعاش بموجب نظام التأمينات الاجتماعية.</a:t>
            </a:r>
            <a:br>
              <a:rPr sz="2800"/>
            </a:br>
            <a:r>
              <a:rPr b="0" lang="ar-SA" sz="2800" spc="-1" strike="noStrike">
                <a:solidFill>
                  <a:srgbClr val="2f2b20"/>
                </a:solidFill>
                <a:latin typeface="Calibri"/>
                <a:cs typeface="Akhbar MT"/>
              </a:rPr>
              <a:t>ي- زوال أي شرط من شروط الاستحقاق الأخرى المنصوص عليها في المادة (الثامنة) من هذا النظام.</a:t>
            </a:r>
            <a:endParaRPr b="0" lang="en-US" sz="2800" spc="-1" strike="noStrike">
              <a:solidFill>
                <a:srgbClr val="2f2b20"/>
              </a:solidFill>
              <a:latin typeface="Calibri"/>
            </a:endParaRPr>
          </a:p>
          <a:p>
            <a:pPr marL="312120" indent="-207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60" y="404280"/>
            <a:ext cx="8388360" cy="6193080"/>
          </a:xfrm>
          <a:prstGeom prst="rect">
            <a:avLst/>
          </a:prstGeom>
          <a:noFill/>
          <a:ln w="0">
            <a:noFill/>
          </a:ln>
        </p:spPr>
        <p:txBody>
          <a:bodyPr anchor="t">
            <a:normAutofit fontScale="83000"/>
          </a:bodyPr>
          <a:p>
            <a:pPr marL="284400" indent="-18972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وفقاً ‏للمادة </a:t>
            </a:r>
            <a:r>
              <a:rPr b="1" lang="ar-SA" sz="2400" spc="-1" strike="noStrike">
                <a:solidFill>
                  <a:srgbClr val="c00000"/>
                </a:solidFill>
                <a:latin typeface="Calibri"/>
                <a:cs typeface="Akhbar MT"/>
              </a:rPr>
              <a:t>١٣</a:t>
            </a:r>
            <a:r>
              <a:rPr b="1" lang="ar-SA" sz="2400" spc="-1" strike="noStrike">
                <a:solidFill>
                  <a:srgbClr val="c00000"/>
                </a:solidFill>
                <a:latin typeface="Calibri"/>
                <a:ea typeface="Akhbar MT"/>
              </a:rPr>
              <a:t> من اللائحة التنفيذية للنظام ‏يتم إيقاف صر التعويض عن المستفيد لكل مرة من مرات الاستحقاق في أي من الحالات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الوفا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إذا لم يعد سعودي الجنسية وفق المستند الصادر من الجهة المختصة نظاماً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إذا تجاوزت فترة بقائه خارج العربية السعودية </a:t>
            </a:r>
            <a:r>
              <a:rPr b="0" lang="ar-SA" sz="2400" spc="-1" strike="noStrike">
                <a:solidFill>
                  <a:srgbClr val="2f2b20"/>
                </a:solidFill>
                <a:latin typeface="Calibri"/>
                <a:ea typeface="Akhbar MT"/>
              </a:rPr>
              <a:t>60</a:t>
            </a:r>
            <a:r>
              <a:rPr b="0" lang="ar-SA" sz="2400" spc="-1" strike="noStrike">
                <a:solidFill>
                  <a:srgbClr val="2f2b20"/>
                </a:solidFill>
                <a:latin typeface="Calibri"/>
                <a:ea typeface="Akhbar MT"/>
              </a:rPr>
              <a:t> يوما متصلة أو منقطعة خلال مدة الصرف التعويض</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إذا بلغ سن الستين وكان مستحق لمعاش وفقا لأحكام نظام التأمينات الاجتماعية ، ‏و يعتبر في حكم المستحق للمعاش من توافرت لديه المدة المؤهلة لاستحقاق المعاش بإضافة مدة اعتبارية </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٥</a:t>
            </a:r>
            <a:r>
              <a:rPr b="0" lang="ar-SA" sz="2400" spc="-1" strike="noStrike">
                <a:solidFill>
                  <a:srgbClr val="2f2b20"/>
                </a:solidFill>
                <a:latin typeface="Calibri"/>
                <a:ea typeface="Akhbar MT"/>
              </a:rPr>
              <a:t>/ اذا اصبح له نشاط خاص أو دخل من عمل وفق أحكام الفقرتين </a:t>
            </a: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و </a:t>
            </a:r>
            <a:r>
              <a:rPr b="0" lang="ar-SA" sz="2400" spc="-1" strike="noStrike">
                <a:solidFill>
                  <a:srgbClr val="2f2b20"/>
                </a:solidFill>
                <a:latin typeface="Calibri"/>
                <a:cs typeface="Akhbar MT"/>
              </a:rPr>
              <a:t>٥</a:t>
            </a:r>
            <a:r>
              <a:rPr b="0" lang="ar-SA" sz="2400" spc="-1" strike="noStrike">
                <a:solidFill>
                  <a:srgbClr val="2f2b20"/>
                </a:solidFill>
                <a:latin typeface="Calibri"/>
                <a:ea typeface="Akhbar MT"/>
              </a:rPr>
              <a:t> من المادة </a:t>
            </a: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من هذه اللائح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اذا اصبح غير قادر على العمل وفق أحكام الفقرة </a:t>
            </a:r>
            <a:r>
              <a:rPr b="0" lang="ar-SA" sz="2400" spc="-1" strike="noStrike">
                <a:solidFill>
                  <a:srgbClr val="2f2b20"/>
                </a:solidFill>
                <a:latin typeface="Calibri"/>
                <a:cs typeface="Akhbar MT"/>
              </a:rPr>
              <a:t>٨</a:t>
            </a:r>
            <a:r>
              <a:rPr b="0" lang="ar-SA" sz="2400" spc="-1" strike="noStrike">
                <a:solidFill>
                  <a:srgbClr val="2f2b20"/>
                </a:solidFill>
                <a:latin typeface="Calibri"/>
                <a:ea typeface="Akhbar MT"/>
              </a:rPr>
              <a:t> من المادة </a:t>
            </a:r>
            <a:r>
              <a:rPr b="0" lang="ar-SA" sz="2400" spc="-1" strike="noStrike">
                <a:solidFill>
                  <a:srgbClr val="2f2b20"/>
                </a:solidFill>
                <a:latin typeface="Calibri"/>
                <a:cs typeface="Akhbar MT"/>
              </a:rPr>
              <a:t>٦</a:t>
            </a:r>
            <a:r>
              <a:rPr b="0" lang="ar-SA" sz="2400" spc="-1" strike="noStrike">
                <a:solidFill>
                  <a:srgbClr val="2f2b20"/>
                </a:solidFill>
                <a:latin typeface="Calibri"/>
                <a:ea typeface="Akhbar MT"/>
              </a:rPr>
              <a:t> من هذه اللائحة</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٧</a:t>
            </a:r>
            <a:r>
              <a:rPr b="0" lang="ar-SA" sz="2400" spc="-1" strike="noStrike">
                <a:solidFill>
                  <a:srgbClr val="2f2b20"/>
                </a:solidFill>
                <a:latin typeface="Calibri"/>
                <a:ea typeface="Akhbar MT"/>
              </a:rPr>
              <a:t>/ اذا لم يعد مسجلاً لدى الصندوق ، ويعتبر غير مسجل في أي من الحالات الموجبة لإيقاف صرف التعويض.</a:t>
            </a:r>
            <a:endParaRPr b="0" lang="en-US" sz="2400" spc="-1" strike="noStrike">
              <a:solidFill>
                <a:srgbClr val="2f2b20"/>
              </a:solidFill>
              <a:latin typeface="Calibri"/>
            </a:endParaRPr>
          </a:p>
          <a:p>
            <a:pPr marL="284400" indent="-189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٨</a:t>
            </a:r>
            <a:r>
              <a:rPr b="0" lang="ar-SA" sz="2400" spc="-1" strike="noStrike">
                <a:solidFill>
                  <a:srgbClr val="2f2b20"/>
                </a:solidFill>
                <a:latin typeface="Calibri"/>
                <a:ea typeface="Akhbar MT"/>
              </a:rPr>
              <a:t>/ ‏رفض ثلاثة عروض مناسبة للعمل ‏متتالية أو متفرقة ‏تعرض عليه من الصندوق أو أي جهة مكلفة من الصندوق وفق مايحدده الصندوق</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60" y="260280"/>
            <a:ext cx="8388360" cy="6453360"/>
          </a:xfrm>
          <a:prstGeom prst="rect">
            <a:avLst/>
          </a:prstGeom>
          <a:noFill/>
          <a:ln w="0">
            <a:noFill/>
          </a:ln>
        </p:spPr>
        <p:txBody>
          <a:bodyPr anchor="t">
            <a:normAutofit fontScale="76000"/>
          </a:bodyPr>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٩</a:t>
            </a:r>
            <a:r>
              <a:rPr b="0" lang="ar-SA" sz="2400" spc="-1" strike="noStrike">
                <a:solidFill>
                  <a:srgbClr val="2f2b20"/>
                </a:solidFill>
                <a:latin typeface="Calibri"/>
                <a:ea typeface="Akhbar MT"/>
              </a:rPr>
              <a:t>/ ‏في حال عدم التحاقه او عدم اتمامه نجاح أي دورة تعليمية وتدريبية ‏بما في ذلك التدريب عن بعد أربع مرات متتالية أو متفرقة دون عذر يقبله الصندوق أو المفوض من الصندوق ‏ويجوز للمستفيد الاعتذار مسبقا على الإلتحاق بالدورة تعليمية أو تدريبية ‏طالب منه الصندوق أو المفوض من الصندوق الإلتحاق بها ‏على أن يكون اعتذار مبني على أسباب مقبولة وفق مايراه الصندوق ‏أو المفوض من الصندوق في هذا الخصوص ‏ومع ذلك لا يجوز للمستفيد الاعتذار لاكثر من مرتين خلال مدة الصرف التعويض.</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٠</a:t>
            </a:r>
            <a:r>
              <a:rPr b="0" lang="ar-SA" sz="2400" spc="-1" strike="noStrike">
                <a:solidFill>
                  <a:srgbClr val="2f2b20"/>
                </a:solidFill>
                <a:latin typeface="Calibri"/>
                <a:ea typeface="Akhbar MT"/>
              </a:rPr>
              <a:t>/ ‏في حال عدم حضوره في المواعيد التي يحددها الصندوق للمقابلات الشخصية ‏مع اصحاب العمل والجهات الحكومية والخاصة أربع مرات متتالية أو متفرقة ‏بدون عذر يقبله الصندوق أو المفوض من الصندوق ‏ويجوز للمستفيد الاعتذار مسبقاً عن الحضور الشخصي للموعد الذي حدده الصندوق أو المفوض من الصندوق ‏على أن يكون اعتذاره مبنى على أسباب مقبولة وفق ما يراه الصندوق أو المفوض من الصندوق ‏ومع ذلك لا يجوز للمستفيد الاعتذار لاكثر من مرتين خلال مدة الصرف التعويض</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١</a:t>
            </a:r>
            <a:r>
              <a:rPr b="0" lang="ar-SA" sz="2400" spc="-1" strike="noStrike">
                <a:solidFill>
                  <a:srgbClr val="2f2b20"/>
                </a:solidFill>
                <a:latin typeface="Calibri"/>
                <a:ea typeface="Akhbar MT"/>
              </a:rPr>
              <a:t>/ ‏في حال عدم زيارته لملفه الإكتروني ‏في قاعدة بيانات طالبي العمل مرة واحدة على الأقل في الأسبوع لمدة ست أسابيع متتالية أو متفرقة دون عذر يقبله الصندوق</a:t>
            </a:r>
            <a:endParaRPr b="0" lang="en-US" sz="2400" spc="-1" strike="noStrike">
              <a:solidFill>
                <a:srgbClr val="2f2b20"/>
              </a:solidFill>
              <a:latin typeface="Calibri"/>
            </a:endParaRPr>
          </a:p>
          <a:p>
            <a:pPr marL="260640" indent="-1735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٢</a:t>
            </a:r>
            <a:r>
              <a:rPr b="0" lang="ar-SA" sz="2400" spc="-1" strike="noStrike">
                <a:solidFill>
                  <a:srgbClr val="2f2b20"/>
                </a:solidFill>
                <a:latin typeface="Calibri"/>
                <a:ea typeface="Akhbar MT"/>
              </a:rPr>
              <a:t>/ ‏عدم الحضور لدى الصندوق أو أي جهة مفوضه من قبل الصندوق ‏للحصول على التأهيل أو التدريب أو خدمات التوظيف في أربع مرات ‏متتالية أو متفرقة دون عذر يقبله الصندوق أو المفوض من الصندوق ‏ويجوز للمستفيد الاعتذار مسبقا عن الحضور للصندوق أو المفوض من الصندوق لأسباب مقبولة وفق مايراه الصندوق أو المفوض في هذا الخصوص ، ‏ومع ذلك لا يجوز للمستفيد الاعتذار لاكثر من مرتين خلال مدة صرف التعويض</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60" y="333360"/>
            <a:ext cx="8388360" cy="6191280"/>
          </a:xfrm>
          <a:prstGeom prst="rect">
            <a:avLst/>
          </a:prstGeom>
          <a:noFill/>
          <a:ln w="0">
            <a:noFill/>
          </a:ln>
        </p:spPr>
        <p:txBody>
          <a:bodyPr anchor="t">
            <a:normAutofit fontScale="85000"/>
          </a:bodyPr>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٣</a:t>
            </a:r>
            <a:r>
              <a:rPr b="0" lang="ar-SA" sz="2600" spc="-1" strike="noStrike">
                <a:solidFill>
                  <a:srgbClr val="2f2b20"/>
                </a:solidFill>
                <a:latin typeface="Calibri"/>
                <a:ea typeface="Akhbar MT"/>
              </a:rPr>
              <a:t>/ ‏أي حالة تظهر فيها عدم جدية المستفيد في البحث عن عمل او التأهيل وفقاً مايحدده الصندوق</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٤</a:t>
            </a:r>
            <a:r>
              <a:rPr b="0" lang="ar-SA" sz="2600" spc="-1" strike="noStrike">
                <a:solidFill>
                  <a:srgbClr val="2f2b20"/>
                </a:solidFill>
                <a:latin typeface="Calibri"/>
                <a:ea typeface="Akhbar MT"/>
              </a:rPr>
              <a:t>/ ‏في حال زوال أي شرط من شروط استحقاق التعويض.</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جدير بالذكر أن المادة </a:t>
            </a:r>
            <a:r>
              <a:rPr b="0" lang="ar-SA" sz="2600" spc="-1" strike="noStrike">
                <a:solidFill>
                  <a:srgbClr val="2f2b20"/>
                </a:solidFill>
                <a:latin typeface="Calibri"/>
                <a:ea typeface="Akhbar MT"/>
              </a:rPr>
              <a:t>15</a:t>
            </a:r>
            <a:r>
              <a:rPr b="0" lang="ar-SA" sz="2600" spc="-1" strike="noStrike">
                <a:solidFill>
                  <a:srgbClr val="2f2b20"/>
                </a:solidFill>
                <a:latin typeface="Calibri"/>
                <a:ea typeface="Akhbar MT"/>
              </a:rPr>
              <a:t> من النظام قررت انه إذا أوقفت صرف   التعويض في أي من الحالات المحددة وفق الفقرة الأولى من هذه المادة  ‏ثم زال المانع الذي أوقف الصرف بمقتضاه فيستأنف الصرف من أول الشهر التالي لتاريخ اشعار الوزارة بذلك، ‏بشرط أن يكون هذا الأشعار خلال </a:t>
            </a:r>
            <a:r>
              <a:rPr b="0" lang="ar-SA" sz="2600" spc="-1" strike="noStrike">
                <a:solidFill>
                  <a:srgbClr val="2f2b20"/>
                </a:solidFill>
                <a:latin typeface="Calibri"/>
                <a:ea typeface="Akhbar MT"/>
              </a:rPr>
              <a:t>90</a:t>
            </a:r>
            <a:r>
              <a:rPr b="0" lang="ar-SA" sz="2600" spc="-1" strike="noStrike">
                <a:solidFill>
                  <a:srgbClr val="2f2b20"/>
                </a:solidFill>
                <a:latin typeface="Calibri"/>
                <a:ea typeface="Akhbar MT"/>
              </a:rPr>
              <a:t> يوما من تاريخ زوال ذلك المانع ‏ويراعي في ذلك الأحكام التالية التي وردت في المادة </a:t>
            </a:r>
            <a:r>
              <a:rPr b="0" lang="ar-SA" sz="2600" spc="-1" strike="noStrike">
                <a:solidFill>
                  <a:srgbClr val="2f2b20"/>
                </a:solidFill>
                <a:latin typeface="Calibri"/>
                <a:ea typeface="Akhbar MT"/>
              </a:rPr>
              <a:t>14</a:t>
            </a:r>
            <a:r>
              <a:rPr b="0" lang="ar-SA" sz="2600" spc="-1" strike="noStrike">
                <a:solidFill>
                  <a:srgbClr val="2f2b20"/>
                </a:solidFill>
                <a:latin typeface="Calibri"/>
                <a:ea typeface="Akhbar MT"/>
              </a:rPr>
              <a:t> من اللائحة التنفيذيه للنظام : </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١</a:t>
            </a:r>
            <a:r>
              <a:rPr b="0" lang="ar-SA" sz="2600" spc="-1" strike="noStrike">
                <a:solidFill>
                  <a:srgbClr val="2f2b20"/>
                </a:solidFill>
                <a:latin typeface="Calibri"/>
                <a:ea typeface="Akhbar MT"/>
              </a:rPr>
              <a:t>/ ‏إذا كان إيقاف صرف التعويض بسبب الوفاة أو بلوغ سن </a:t>
            </a:r>
            <a:r>
              <a:rPr b="0" lang="ar-SA" sz="2600" spc="-1" strike="noStrike">
                <a:solidFill>
                  <a:srgbClr val="2f2b20"/>
                </a:solidFill>
                <a:latin typeface="Calibri"/>
                <a:ea typeface="Akhbar MT"/>
              </a:rPr>
              <a:t>60</a:t>
            </a:r>
            <a:r>
              <a:rPr b="0" lang="ar-SA" sz="2600" spc="-1" strike="noStrike">
                <a:solidFill>
                  <a:srgbClr val="2f2b20"/>
                </a:solidFill>
                <a:latin typeface="Calibri"/>
                <a:ea typeface="Akhbar MT"/>
              </a:rPr>
              <a:t> ‏مع استحقاق المعاش في نظام التأمينات الاجتماعية ‏أو البقاء خارج المملكة لاكثر من </a:t>
            </a:r>
            <a:r>
              <a:rPr b="0" lang="ar-SA" sz="2600" spc="-1" strike="noStrike">
                <a:solidFill>
                  <a:srgbClr val="2f2b20"/>
                </a:solidFill>
                <a:latin typeface="Calibri"/>
                <a:ea typeface="Akhbar MT"/>
              </a:rPr>
              <a:t>60</a:t>
            </a:r>
            <a:r>
              <a:rPr b="0" lang="ar-SA" sz="2600" spc="-1" strike="noStrike">
                <a:solidFill>
                  <a:srgbClr val="2f2b20"/>
                </a:solidFill>
                <a:latin typeface="Calibri"/>
                <a:ea typeface="Akhbar MT"/>
              </a:rPr>
              <a:t> يوم متقطعة او متصلة ‏أو تحقيق أي من الحالات المحددة في الفقرات </a:t>
            </a:r>
            <a:r>
              <a:rPr b="0" lang="ar-SA" sz="2600" spc="-1" strike="noStrike">
                <a:solidFill>
                  <a:srgbClr val="2f2b20"/>
                </a:solidFill>
                <a:latin typeface="Calibri"/>
                <a:ea typeface="Akhbar MT"/>
              </a:rPr>
              <a:t>13</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12</a:t>
            </a:r>
            <a:r>
              <a:rPr b="0" lang="ar-SA" sz="2600" spc="-1" strike="noStrike">
                <a:solidFill>
                  <a:srgbClr val="2f2b20"/>
                </a:solidFill>
                <a:latin typeface="Calibri"/>
                <a:cs typeface="Akhbar MT"/>
              </a:rPr>
              <a:t>، </a:t>
            </a:r>
            <a:r>
              <a:rPr b="0" lang="ar-SA" sz="2600" spc="-1" strike="noStrike">
                <a:solidFill>
                  <a:srgbClr val="2f2b20"/>
                </a:solidFill>
                <a:latin typeface="Calibri"/>
                <a:ea typeface="Akhbar MT"/>
              </a:rPr>
              <a:t>11</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10</a:t>
            </a:r>
            <a:r>
              <a:rPr b="0" lang="ar-SA" sz="2600" spc="-1" strike="noStrike">
                <a:solidFill>
                  <a:srgbClr val="2f2b20"/>
                </a:solidFill>
                <a:latin typeface="Calibri"/>
                <a:ea typeface="Akhbar MT"/>
              </a:rPr>
              <a:t> ،</a:t>
            </a:r>
            <a:r>
              <a:rPr b="0" lang="ar-SA" sz="2600" spc="-1" strike="noStrike">
                <a:solidFill>
                  <a:srgbClr val="2f2b20"/>
                </a:solidFill>
                <a:latin typeface="Calibri"/>
                <a:ea typeface="Akhbar MT"/>
              </a:rPr>
              <a:t>9</a:t>
            </a:r>
            <a:r>
              <a:rPr b="0" lang="ar-SA" sz="2600" spc="-1" strike="noStrike">
                <a:solidFill>
                  <a:srgbClr val="2f2b20"/>
                </a:solidFill>
                <a:latin typeface="Calibri"/>
                <a:cs typeface="Akhbar MT"/>
              </a:rPr>
              <a:t>، </a:t>
            </a:r>
            <a:r>
              <a:rPr b="0" lang="ar-SA" sz="2600" spc="-1" strike="noStrike">
                <a:solidFill>
                  <a:srgbClr val="2f2b20"/>
                </a:solidFill>
                <a:latin typeface="Calibri"/>
                <a:ea typeface="Akhbar MT"/>
              </a:rPr>
              <a:t>8</a:t>
            </a:r>
            <a:r>
              <a:rPr b="0" lang="ar-SA" sz="2600" spc="-1" strike="noStrike">
                <a:solidFill>
                  <a:srgbClr val="2f2b20"/>
                </a:solidFill>
                <a:latin typeface="Calibri"/>
                <a:ea typeface="Akhbar MT"/>
              </a:rPr>
              <a:t>  من المادة </a:t>
            </a:r>
            <a:r>
              <a:rPr b="0" lang="ar-SA" sz="2600" spc="-1" strike="noStrike">
                <a:solidFill>
                  <a:srgbClr val="2f2b20"/>
                </a:solidFill>
                <a:latin typeface="Calibri"/>
                <a:ea typeface="Akhbar MT"/>
              </a:rPr>
              <a:t>13</a:t>
            </a:r>
            <a:r>
              <a:rPr b="0" lang="ar-SA" sz="2600" spc="-1" strike="noStrike">
                <a:solidFill>
                  <a:srgbClr val="2f2b20"/>
                </a:solidFill>
                <a:latin typeface="Calibri"/>
                <a:ea typeface="Akhbar MT"/>
              </a:rPr>
              <a:t> ‏من هذه اللائحة ‏ويعد ذلك منهياً لعلاقة فيما بين المؤسسة والمشترك في ما يخص المدة المتبقية لصرف التعويض.</a:t>
            </a:r>
            <a:endParaRPr b="0" lang="en-US" sz="2600" spc="-1" strike="noStrike">
              <a:solidFill>
                <a:srgbClr val="2f2b20"/>
              </a:solidFill>
              <a:latin typeface="Calibri"/>
            </a:endParaRPr>
          </a:p>
          <a:p>
            <a:pPr marL="291600" indent="-19404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٢</a:t>
            </a:r>
            <a:r>
              <a:rPr b="0" lang="ar-SA" sz="2600" spc="-1" strike="noStrike">
                <a:solidFill>
                  <a:srgbClr val="2f2b20"/>
                </a:solidFill>
                <a:latin typeface="Calibri"/>
                <a:ea typeface="Akhbar MT"/>
              </a:rPr>
              <a:t>/ ‏إذا كان إيقاف صرف التعويض بسبب وجود دخل من عمل أو عدم القدرة على العمل ‏فيلزم الإعتداد بزوال المانع في هذه الحالة أن يقوم المشترك بالتسجيل لدى لصندوق خلال </a:t>
            </a:r>
            <a:r>
              <a:rPr b="0" lang="ar-SA" sz="2600" spc="-1" strike="noStrike">
                <a:solidFill>
                  <a:srgbClr val="2f2b20"/>
                </a:solidFill>
                <a:latin typeface="Calibri"/>
                <a:ea typeface="Akhbar MT"/>
              </a:rPr>
              <a:t>90</a:t>
            </a:r>
            <a:r>
              <a:rPr b="0" lang="ar-SA" sz="2600" spc="-1" strike="noStrike">
                <a:solidFill>
                  <a:srgbClr val="2f2b20"/>
                </a:solidFill>
                <a:latin typeface="Calibri"/>
                <a:ea typeface="Akhbar MT"/>
              </a:rPr>
              <a:t> يوما من تاريخ ترك العمل أو تاريخ استعادة قدرته على العمل حسب الحال ‏ويتم استئناف الصرف في هذه الحالة ‏بعد التحقق من توافر بقية الشروط الأخرى ‏من أول الشهر التالي للتسجيل .</a:t>
            </a:r>
            <a:endParaRPr b="0" lang="en-US" sz="2600" spc="-1" strike="noStrike">
              <a:solidFill>
                <a:srgbClr val="2f2b20"/>
              </a:solidFill>
              <a:latin typeface="Calibri"/>
            </a:endParaRPr>
          </a:p>
          <a:p>
            <a:pPr marL="291600" indent="-194040">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7640" y="764640"/>
            <a:ext cx="8280360" cy="5688360"/>
          </a:xfrm>
          <a:prstGeom prst="rect">
            <a:avLst/>
          </a:prstGeom>
          <a:noFill/>
          <a:ln w="0">
            <a:noFill/>
          </a:ln>
        </p:spPr>
        <p:txBody>
          <a:bodyPr anchor="t">
            <a:normAutofit fontScale="84000"/>
          </a:bodyPr>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٣</a:t>
            </a:r>
            <a:r>
              <a:rPr b="0" lang="ar-SA" sz="2800" spc="-1" strike="noStrike">
                <a:solidFill>
                  <a:srgbClr val="2f2b20"/>
                </a:solidFill>
                <a:latin typeface="Calibri"/>
                <a:ea typeface="Akhbar MT"/>
              </a:rPr>
              <a:t>/ ‏إذا كان إيقاف صرف التعويض بسبب انه لم يعد سعودي الجنسية ‏فيلزم للاعتداد بزوال المانع في هذه الحالة أن يقوم المشترك بالتسجيل لدى الصندوق خلال </a:t>
            </a:r>
            <a:r>
              <a:rPr b="0" lang="ar-SA" sz="2800" spc="-1" strike="noStrike">
                <a:solidFill>
                  <a:srgbClr val="2f2b20"/>
                </a:solidFill>
                <a:latin typeface="Calibri"/>
                <a:ea typeface="Akhbar MT"/>
              </a:rPr>
              <a:t>90</a:t>
            </a:r>
            <a:r>
              <a:rPr b="0" lang="ar-SA" sz="2800" spc="-1" strike="noStrike">
                <a:solidFill>
                  <a:srgbClr val="2f2b20"/>
                </a:solidFill>
                <a:latin typeface="Calibri"/>
                <a:ea typeface="Akhbar MT"/>
              </a:rPr>
              <a:t> يوما من تاريخ المستند المثبت لاستراده  الجنسية  ‏الصادر من الجهة المختصة ويتم الاستئناف الصادر في هذه الحالة بعد التحقق من توافر بقية الشروط الأخرى من أول الشهر التالي للتسجيل.</a:t>
            </a:r>
            <a:endParaRPr b="0" lang="en-US" sz="2800" spc="-1" strike="noStrike">
              <a:solidFill>
                <a:srgbClr val="2f2b20"/>
              </a:solidFill>
              <a:latin typeface="Calibri"/>
            </a:endParaRPr>
          </a:p>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٤</a:t>
            </a:r>
            <a:r>
              <a:rPr b="0" lang="ar-SA" sz="2800" spc="-1" strike="noStrike">
                <a:solidFill>
                  <a:srgbClr val="2f2b20"/>
                </a:solidFill>
                <a:latin typeface="Calibri"/>
                <a:ea typeface="Akhbar MT"/>
              </a:rPr>
              <a:t>/ ‏إذا كان إيقاف صرف التعويض بسبب وجود نشاط خاص في فيلزم للإعتداد بزوال المانع في هذه الحالة أن يقوم المشترك بالتسجيل لدى الصندوق خلال ‏</a:t>
            </a:r>
            <a:r>
              <a:rPr b="0" lang="ar-SA" sz="2800" spc="-1" strike="noStrike">
                <a:solidFill>
                  <a:srgbClr val="2f2b20"/>
                </a:solidFill>
                <a:latin typeface="Calibri"/>
                <a:ea typeface="Akhbar MT"/>
              </a:rPr>
              <a:t>90</a:t>
            </a:r>
            <a:r>
              <a:rPr b="0" lang="ar-SA" sz="2800" spc="-1" strike="noStrike">
                <a:solidFill>
                  <a:srgbClr val="2f2b20"/>
                </a:solidFill>
                <a:latin typeface="Calibri"/>
                <a:ea typeface="Akhbar MT"/>
              </a:rPr>
              <a:t> يوم من تاريخ المستند المثبت لانتهاء علاقته بهذا النشاط الصادر من الجهة المختصة ‏ويتم الاستئناف الصادر في هذه الحالة بعد التحقق من توافر بقية الشروط الأخرى من أول الشهر التالي للتسجيل.</a:t>
            </a:r>
            <a:endParaRPr b="0" lang="en-US" sz="2800" spc="-1" strike="noStrike">
              <a:solidFill>
                <a:srgbClr val="2f2b20"/>
              </a:solidFill>
              <a:latin typeface="Calibri"/>
            </a:endParaRPr>
          </a:p>
          <a:p>
            <a:pPr marL="288000" indent="-19188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٥</a:t>
            </a:r>
            <a:r>
              <a:rPr b="0" lang="ar-SA" sz="2800" spc="-1" strike="noStrike">
                <a:solidFill>
                  <a:srgbClr val="2f2b20"/>
                </a:solidFill>
                <a:latin typeface="Calibri"/>
                <a:ea typeface="Akhbar MT"/>
              </a:rPr>
              <a:t>/ يلزم على المشترك لاستئناف الصرف في أي من الحالات الواردة في الفقرات (</a:t>
            </a:r>
            <a:r>
              <a:rPr b="0" lang="ar-SA" sz="2800" spc="-1" strike="noStrike">
                <a:solidFill>
                  <a:srgbClr val="2f2b20"/>
                </a:solidFill>
                <a:latin typeface="Calibri"/>
                <a:cs typeface="Akhbar MT"/>
              </a:rPr>
              <a:t>٤،٣،٢</a:t>
            </a:r>
            <a:r>
              <a:rPr b="0" lang="ar-SA" sz="2800" spc="-1" strike="noStrike">
                <a:solidFill>
                  <a:srgbClr val="2f2b20"/>
                </a:solidFill>
                <a:latin typeface="Calibri"/>
                <a:ea typeface="Akhbar MT"/>
              </a:rPr>
              <a:t>) من هذه المادة التقدم للمؤسسة بطلب صرف التعويض وفق الآليه الي يحددها المحافظ.</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08000" y="593280"/>
            <a:ext cx="8424720" cy="6264360"/>
          </a:xfrm>
          <a:prstGeom prst="rect">
            <a:avLst/>
          </a:prstGeom>
          <a:noFill/>
          <a:ln w="0">
            <a:noFill/>
          </a:ln>
        </p:spPr>
        <p:txBody>
          <a:bodyPr anchor="t">
            <a:normAutofit fontScale="88000"/>
          </a:bodyPr>
          <a:p>
            <a:pPr marL="301680" indent="-20088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ثامناً : مراقبة تطبيق النظام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حددت المادة الثانية والعشرون أحكام مراقبة تطبيق نظام التأمين ضد التعطل عن العمل ، وذلك وفقاً للضوابط التالية:</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يراقب تطبيق هذا النظام واللائحة مفتشو الوزارة والمؤسسة بحسب مايحدده هذا النظام وعلى أصحاب العمل وممثليهم أن يسمحوا للمفتشين بالحصول على المعلومات والوثائق اللازمة لتسهيل قيامهم بمهامهم والاطلاع على السجلات المتعلقة بطبيعة العمل واعداد العمال واجورهم وطريقة حسابها ودفعها وتطبق في كل ممانعه او عرقلة ترتكب ضد المفتشين أثناء ممارستهم لعملهم العقوبات المنصوص عليها في حالات ممناعة وعرقلة ممارسة وظائف مفتشي العمل في نظام العمل.</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يقدم المفتشون تقارير الى المؤسسة أو الوزارة عن المخالفات او وجدت وتتخذ الوزارة او المؤسسة جميع الاجراءات للتحقق من هذه المخالفات والتحقيق فيها وتتخذ مايلزم في شأنها</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يلتزم مفتشو المؤسسة والوزارة و موظفو هاتين الجهتين بحسن المعاملة وبالمحافظة على سرية المعلومات التي يطلعون عليها أثناء ممارستهم وظائفهم ولايجوز لهم بأي حال من الاحوال إفشاء أي من هذه الأسرار أو نقلها إلى غير الاجهزة المختصه في المؤسسة أو الوزارة العقوبات اللازمة. بحسب الانظمة. على من يخالف ذلك من موظفيها.</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6200" y="475920"/>
            <a:ext cx="8604360" cy="6381720"/>
          </a:xfrm>
          <a:prstGeom prst="rect">
            <a:avLst/>
          </a:prstGeom>
          <a:noFill/>
          <a:ln w="0">
            <a:noFill/>
          </a:ln>
        </p:spPr>
        <p:txBody>
          <a:bodyPr anchor="t">
            <a:normAutofit fontScale="89000"/>
          </a:bodyPr>
          <a:p>
            <a:pPr marL="305280" indent="-20340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تاسعاً : الجزاءات المترتبة على مخالفة أحكام النظام :</a:t>
            </a:r>
            <a:endParaRPr b="0" lang="en-US" sz="2400" spc="-1" strike="noStrike">
              <a:solidFill>
                <a:srgbClr val="2f2b20"/>
              </a:solidFill>
              <a:latin typeface="Calibri"/>
            </a:endParaRPr>
          </a:p>
          <a:p>
            <a:pPr marL="305280" indent="-203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وضحت المادة </a:t>
            </a:r>
            <a:r>
              <a:rPr b="0" lang="ar-SA" sz="2400" spc="-1" strike="noStrike">
                <a:solidFill>
                  <a:srgbClr val="2f2b20"/>
                </a:solidFill>
                <a:latin typeface="Calibri"/>
                <a:ea typeface="Akhbar MT"/>
              </a:rPr>
              <a:t>25</a:t>
            </a:r>
            <a:r>
              <a:rPr b="0" lang="ar-SA" sz="2400" spc="-1" strike="noStrike">
                <a:solidFill>
                  <a:srgbClr val="2f2b20"/>
                </a:solidFill>
                <a:latin typeface="Calibri"/>
                <a:ea typeface="Akhbar MT"/>
              </a:rPr>
              <a:t> من النظام الجزاءات التي تطبق في حالة مخالفة أحكامه وذلك على النحو التالي :</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١</a:t>
            </a:r>
            <a:r>
              <a:rPr b="0" lang="ar-SA" sz="2400" spc="-1" strike="noStrike">
                <a:solidFill>
                  <a:srgbClr val="2f2b20"/>
                </a:solidFill>
                <a:latin typeface="Calibri"/>
                <a:ea typeface="Akhbar MT"/>
              </a:rPr>
              <a:t>/ ‏تفرض على صاحب العمل الذي يخالف أي حكم من أحكام هذا النظام واللائحة غرامه لا تزيد على </a:t>
            </a:r>
            <a:r>
              <a:rPr b="0" lang="ar-SA" sz="2400" spc="-1" strike="noStrike">
                <a:solidFill>
                  <a:srgbClr val="2f2b20"/>
                </a:solidFill>
                <a:latin typeface="Calibri"/>
                <a:ea typeface="Akhbar MT"/>
              </a:rPr>
              <a:t>10,000</a:t>
            </a:r>
            <a:r>
              <a:rPr b="0" lang="ar-SA" sz="2400" spc="-1" strike="noStrike">
                <a:solidFill>
                  <a:srgbClr val="2f2b20"/>
                </a:solidFill>
                <a:latin typeface="Calibri"/>
                <a:ea typeface="Akhbar MT"/>
              </a:rPr>
              <a:t> ريال ‏ويضاعف هذا الحد في حالة تكرار ، ‏وتعدد الغرامة بتعدد العمال المشتركين الذين ارتكب صاحب العمل بصددهم مخالفة أو أكثر.</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٢</a:t>
            </a:r>
            <a:r>
              <a:rPr b="0" lang="ar-SA" sz="2400" spc="-1" strike="noStrike">
                <a:solidFill>
                  <a:srgbClr val="2f2b20"/>
                </a:solidFill>
                <a:latin typeface="Calibri"/>
                <a:ea typeface="Akhbar MT"/>
              </a:rPr>
              <a:t>/ ‏مع عدم الإخلال بأي عقوبة أشد يقررها نظام آخر، ‏تفرض على كل شخص يقدم معتمداً بيانات غير صحيحه لأجل افادة غيره من التعويضات بغير وجه حق - غرامة لاتزيد على ألفي ريال ، ويضاعف هذا الحد في حال التكرار.</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٣</a:t>
            </a:r>
            <a:r>
              <a:rPr b="0" lang="ar-SA" sz="2400" spc="-1" strike="noStrike">
                <a:solidFill>
                  <a:srgbClr val="2f2b20"/>
                </a:solidFill>
                <a:latin typeface="Calibri"/>
                <a:ea typeface="Akhbar MT"/>
              </a:rPr>
              <a:t>/ ‏مع عدم الإخلال باي عقوبة أشد يقررها نظام آخر ، تفرض ‏على الشخص الذي يقدم بيانات غير صحيحة لأجل الاستفادة من التعويضات - غرامة لا تتجاوز قيمتها قيمة التعويض التي دفعت له دون وجه حق إضافه الى الزامه برد ما دفع من تلك التعويضات.</a:t>
            </a:r>
            <a:endParaRPr b="0" lang="en-US" sz="2400" spc="-1" strike="noStrike">
              <a:solidFill>
                <a:srgbClr val="2f2b20"/>
              </a:solidFill>
              <a:latin typeface="Calibri"/>
            </a:endParaRPr>
          </a:p>
          <a:p>
            <a:pPr marL="305280" indent="-20340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٤</a:t>
            </a:r>
            <a:r>
              <a:rPr b="0" lang="ar-SA" sz="2400" spc="-1" strike="noStrike">
                <a:solidFill>
                  <a:srgbClr val="2f2b20"/>
                </a:solidFill>
                <a:latin typeface="Calibri"/>
                <a:ea typeface="Akhbar MT"/>
              </a:rPr>
              <a:t>/ تكوّن لجان للتحقيق في مكاتب المؤسسة أو الوزارة للنظر في المخالفات وتحديد العقوبات.</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fontScale="96000"/>
          </a:bodyPr>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٥</a:t>
            </a:r>
            <a:r>
              <a:rPr b="0" lang="ar-SA" sz="2800" spc="-1" strike="noStrike">
                <a:solidFill>
                  <a:srgbClr val="2f2b20"/>
                </a:solidFill>
                <a:latin typeface="Calibri"/>
                <a:ea typeface="Akhbar MT"/>
              </a:rPr>
              <a:t>/ يصدر القرار بفرض الغرامة المنصوص عليها في الفقرات السابقة من الوزير أو محافظ المؤسسة بحسب الاختصاص ، ولا يجوز لصاحب الشأن الاعتراض على القرار خلال ثلاثين يوما من تاريخ إبلاغه بالقرار وفق أحكام المادتين </a:t>
            </a:r>
            <a:r>
              <a:rPr b="0" lang="ar-SA" sz="2800" spc="-1" strike="noStrike">
                <a:solidFill>
                  <a:srgbClr val="2f2b20"/>
                </a:solidFill>
                <a:latin typeface="Calibri"/>
                <a:cs typeface="Akhbar MT"/>
              </a:rPr>
              <a:t>٢٣</a:t>
            </a:r>
            <a:r>
              <a:rPr b="0" lang="ar-SA" sz="2800" spc="-1" strike="noStrike">
                <a:solidFill>
                  <a:srgbClr val="2f2b20"/>
                </a:solidFill>
                <a:latin typeface="Calibri"/>
                <a:ea typeface="Akhbar MT"/>
              </a:rPr>
              <a:t> و </a:t>
            </a:r>
            <a:r>
              <a:rPr b="0" lang="ar-SA" sz="2800" spc="-1" strike="noStrike">
                <a:solidFill>
                  <a:srgbClr val="2f2b20"/>
                </a:solidFill>
                <a:latin typeface="Calibri"/>
                <a:cs typeface="Akhbar MT"/>
              </a:rPr>
              <a:t>٢٤</a:t>
            </a:r>
            <a:r>
              <a:rPr b="0" lang="ar-SA" sz="2800" spc="-1" strike="noStrike">
                <a:solidFill>
                  <a:srgbClr val="2f2b20"/>
                </a:solidFill>
                <a:latin typeface="Calibri"/>
                <a:ea typeface="Akhbar MT"/>
              </a:rPr>
              <a:t> من هذا النظام ، بحسب الحال.</a:t>
            </a:r>
            <a:endParaRPr b="0" lang="en-US" sz="2800" spc="-1" strike="noStrike">
              <a:solidFill>
                <a:srgbClr val="2f2b20"/>
              </a:solidFill>
              <a:latin typeface="Calibri"/>
            </a:endParaRPr>
          </a:p>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٦</a:t>
            </a:r>
            <a:r>
              <a:rPr b="0" lang="ar-SA" sz="2800" spc="-1" strike="noStrike">
                <a:solidFill>
                  <a:srgbClr val="2f2b20"/>
                </a:solidFill>
                <a:latin typeface="Calibri"/>
                <a:ea typeface="Akhbar MT"/>
              </a:rPr>
              <a:t>/ لا يجوز فرض أي من الغرامات المنصوص عليها في هذه المادة عن المخالفات التي مضى عليها خمس سنوات فأكثر.</a:t>
            </a:r>
            <a:endParaRPr b="0" lang="en-US" sz="2800" spc="-1" strike="noStrike">
              <a:solidFill>
                <a:srgbClr val="2f2b20"/>
              </a:solidFill>
              <a:latin typeface="Calibri"/>
            </a:endParaRPr>
          </a:p>
          <a:p>
            <a:pPr marL="329040" indent="-2192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٧</a:t>
            </a:r>
            <a:r>
              <a:rPr b="0" lang="ar-SA" sz="2800" spc="-1" strike="noStrike">
                <a:solidFill>
                  <a:srgbClr val="2f2b20"/>
                </a:solidFill>
                <a:latin typeface="Calibri"/>
                <a:ea typeface="Akhbar MT"/>
              </a:rPr>
              <a:t>/ تؤول مبالغ الغرامات المنصوص عليها في هذه المادة للحاسب الخاص بهذا النظام. </a:t>
            </a:r>
            <a:endParaRPr b="0" lang="en-US" sz="2800" spc="-1" strike="noStrike">
              <a:solidFill>
                <a:srgbClr val="2f2b20"/>
              </a:solidFill>
              <a:latin typeface="Calibri"/>
            </a:endParaRPr>
          </a:p>
          <a:p>
            <a:pPr marL="329040" indent="-21924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360" y="404640"/>
            <a:ext cx="7920000" cy="6337440"/>
          </a:xfrm>
          <a:prstGeom prst="rect">
            <a:avLst/>
          </a:prstGeom>
          <a:noFill/>
          <a:ln w="0">
            <a:noFill/>
          </a:ln>
        </p:spPr>
        <p:txBody>
          <a:bodyPr anchor="t">
            <a:normAutofit fontScale="82000"/>
          </a:bodyPr>
          <a:p>
            <a:pPr marL="281160" indent="-187200" algn="ct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Akhbar MT"/>
              </a:rPr>
              <a:t>نظام ضد التعطل عن العمل في المملكة العربية السعودية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سعياً نحو تكامل منظومة التأمين الاجتماعي بالمملكة ، فقد صدر مرسوم ملكي يقر بالموافقة على نظام التأمين ضد التعطل عن العمل ، الذي يطبق على جميع السعوديين دون سن التاسعة والخمسين الخاضعون لفرع المعاشات بموجب نظام التأمينات الاجتماعية ، ويوم هذا النظام على رعاية العامل السعودي وأسرته خلال فترة تعطله عن العمل لظروف خارجة عن إرادته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يهدف هذا النظام الذي أطلق عليه (برنامج ساند) إلى سد الفجوة الانتقالية خلال الفترة بين الوظيفة السابقة وفرصة الحصول على الوظيفة الجديدة عن طريق توفير حد أدنى من الدخل يكفل العامل وأسرته للعيش بحياة كريمة ،إلى توفير التدريب اللازم ومساعدته بالبحث عن عمل اخر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يحقق هذا النظام إيجابيات إجتماعية ذات أبعاد أمنية وإقتصادية متعددة ويساعد في معالجة الكثير من الآثار السلبية لمشكلة التعطل عن العمل . </a:t>
            </a:r>
            <a:endParaRPr b="0" lang="en-US" sz="2600" spc="-1" strike="noStrike">
              <a:solidFill>
                <a:srgbClr val="2f2b20"/>
              </a:solidFill>
              <a:latin typeface="Calibri"/>
            </a:endParaRPr>
          </a:p>
          <a:p>
            <a:pPr marL="281160" indent="-187200" algn="r" rtl="1">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قررت المادة (</a:t>
            </a:r>
            <a:r>
              <a:rPr b="0" lang="ar-SA" sz="2600" spc="-1" strike="noStrike">
                <a:solidFill>
                  <a:srgbClr val="2f2b20"/>
                </a:solidFill>
                <a:latin typeface="Calibri"/>
                <a:ea typeface="Akhbar MT"/>
              </a:rPr>
              <a:t>28</a:t>
            </a:r>
            <a:r>
              <a:rPr b="0" lang="ar-SA" sz="2600" spc="-1" strike="noStrike">
                <a:solidFill>
                  <a:srgbClr val="2f2b20"/>
                </a:solidFill>
                <a:latin typeface="Calibri"/>
                <a:ea typeface="Akhbar MT"/>
              </a:rPr>
              <a:t>) من النظام أن يصدر الوزير اللائحة التنفيذية بناءً على موافقة مجلس الإدارة / خلال ستين يوما من تاريخ نشر هذا النظام ، وتنشر في الجريدة الرسمية وبالفعل صدرت اللائحة التنفيذية لنظام التأمين ضد التعطل عن العمل بقرار وزير العمل ونشر بجريدة أم القرى. </a:t>
            </a:r>
            <a:endParaRPr b="0" lang="en-US" sz="2600" spc="-1" strike="noStrike">
              <a:solidFill>
                <a:srgbClr val="2f2b20"/>
              </a:solidFill>
              <a:latin typeface="Calibri"/>
            </a:endParaRPr>
          </a:p>
          <a:p>
            <a:pPr marL="281160" indent="-187200">
              <a:lnSpc>
                <a:spcPct val="9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836640"/>
            <a:ext cx="7620120" cy="5616720"/>
          </a:xfrm>
          <a:prstGeom prst="rect">
            <a:avLst/>
          </a:prstGeom>
          <a:noFill/>
          <a:ln w="0">
            <a:noFill/>
          </a:ln>
        </p:spPr>
        <p:txBody>
          <a:bodyPr anchor="t">
            <a:normAutofit fontScale="83000"/>
          </a:bodyPr>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تمثل الهدف الرئيس من نظام التأمين ضد التعطل عن العمل في التخفيف من اثار البطالة على العامل وأسرته ، وذلك من خلال بسط الحماية الاجتماعية لهم وتقديم المعونة المالية له أثناء فترة بحثه عن العمل الجديد خلال مرة زمنية محددة نظاماً ، فضلاً عن تحقيق أهداف أخرى تتمثل في دعم القدرة الشرائية للمتعطل عن العمل مما يعود بالنفع على الاقتصاد الوطني .  </a:t>
            </a:r>
            <a:endParaRPr b="0" lang="en-US" sz="2800" spc="-1" strike="noStrike">
              <a:solidFill>
                <a:srgbClr val="2f2b20"/>
              </a:solidFill>
              <a:latin typeface="Calibri"/>
            </a:endParaRPr>
          </a:p>
          <a:p>
            <a:pPr marL="284400" indent="-1897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عد التأمين ضد التعطل عن العمل فرعاً من فروع التأمينات الاجتماعية حيث يكفل تقديم التعويض للمشتركين المتعطلين عن العمل وفق الأحكام المحددة بموجب النظام ، ويقصد بالتعطل عن العمل وفقاً لمفهوم النظام هو فقدان العامل لعمله بسبب ظروف خارجه عن إرادته مع قدرته على العمل ورغبته فيه وبحثه عنه ، وهذا النظام يطبق بصورة إلزامية على جميع العمال الموجودين دون أي تمييز في الجنس ،بشرط أن تكو سن العامل عند بد تطبيق النظام دون التاسعة والخمسين حيث يوقف اشتراكه إذا بلغ المشترك الذي على رأس العمل سن الستين . </a:t>
            </a:r>
            <a:endParaRPr b="0" lang="en-US" sz="2800" spc="-1" strike="noStrike">
              <a:solidFill>
                <a:srgbClr val="2f2b20"/>
              </a:solidFill>
              <a:latin typeface="Calibri"/>
            </a:endParaRPr>
          </a:p>
          <a:p>
            <a:pPr marL="284400" indent="-189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9000"/>
            <a:ext cx="8388360" cy="6480000"/>
          </a:xfrm>
          <a:prstGeom prst="rect">
            <a:avLst/>
          </a:prstGeom>
          <a:noFill/>
          <a:ln w="0">
            <a:noFill/>
          </a:ln>
        </p:spPr>
        <p:txBody>
          <a:bodyPr anchor="t">
            <a:normAutofit fontScale="74000"/>
          </a:bodyPr>
          <a:p>
            <a:pPr marL="253800" indent="-16884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a:t>
            </a:r>
            <a:r>
              <a:rPr b="0" lang="ar-SA" sz="2800" spc="-1" strike="noStrike">
                <a:solidFill>
                  <a:srgbClr val="c00000"/>
                </a:solidFill>
                <a:latin typeface="Calibri"/>
                <a:cs typeface="Akhbar MT"/>
              </a:rPr>
              <a:t>أولاً : مفهوم التعطل عن العم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قصد بالتعطل عن العمل أو البطالة بأنه التوقف عن العمل بصفة مستمرة لإنتهاء علاقة العمل لأسباب خارجة عن الإرداة ولصعوبة الحصول على عم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ويكون الشخص عاطلاً عن العمل بالمفهوم القانوني إذا توافرت فيه هذه الشروط </a:t>
            </a:r>
            <a:r>
              <a:rPr b="0" lang="en-US" sz="2800" spc="-1" strike="noStrike">
                <a:solidFill>
                  <a:srgbClr val="2f2b20"/>
                </a:solidFill>
                <a:latin typeface="Calibri"/>
                <a:ea typeface="Akhbar MT"/>
              </a:rPr>
              <a:t>:</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أن يكون المؤمن عليه قادراً على العمل : ولايشترط أن يكون المؤمن عليه قادراً على أداء نفس نوع العمل الذي كان يزاوله قبل التعطل ، بل يكفي أن يكون قادراً على القيام بأي عمل يتناسب مع قدراته وخبراته وحالته الصحية، وإن لم يكن العامل قادراً على العمل بسبب المرض أو العجز فإنه يستحق الإستفادة من التأمينات التي يمنحها تأمين العجز أو المرض أو الشيخوخة بحسب الأحوال والشروط المقررة نظاماً في هذا الشأن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أن يكون راغباً في العمل : يجب على العامل إثبات حالة التعطل عن العمل وإظهار رغبته في العمل عن طريق تسجيل اسمه لدى المكاتب المختصة نظاماً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 </a:t>
            </a: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 أن يبحث عن العمل عن طريق مكاتب التشغيل : </a:t>
            </a:r>
            <a:endParaRPr b="0" lang="en-US" sz="2800" spc="-1" strike="noStrike">
              <a:solidFill>
                <a:srgbClr val="2f2b20"/>
              </a:solidFill>
              <a:latin typeface="Calibri"/>
            </a:endParaRPr>
          </a:p>
          <a:p>
            <a:pPr marL="253800" indent="-16884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هدف هذا الشرط  إلى بيان رغبة المؤمن عليه في العمل ، ولايشترط التردد الدائم عليها . </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11280" y="691920"/>
            <a:ext cx="7619760" cy="4800600"/>
          </a:xfrm>
          <a:prstGeom prst="rect">
            <a:avLst/>
          </a:prstGeom>
          <a:noFill/>
          <a:ln w="0">
            <a:noFill/>
          </a:ln>
        </p:spPr>
        <p:txBody>
          <a:bodyPr anchor="t">
            <a:normAutofit fontScale="86000"/>
          </a:bodyPr>
          <a:p>
            <a:pPr marL="294840" indent="-196560" algn="ct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ea typeface="Akhbar MT"/>
              </a:rPr>
              <a:t> ثانياً: دور نظام التأمين ضد التعطل عن العمل : </a:t>
            </a:r>
            <a:endParaRPr b="0" lang="en-US" sz="2800" spc="-1" strike="noStrike">
              <a:solidFill>
                <a:srgbClr val="2f2b20"/>
              </a:solidFill>
              <a:latin typeface="Calibri"/>
            </a:endParaRPr>
          </a:p>
          <a:p>
            <a:pPr marL="294840" indent="-19656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294840" indent="-196560" algn="r" rtl="1">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يتعين التفرقة بين الدور الذي تقوم به الدولة في مواجهة ظاهرة البطالة بصفة عامة وبين دور التأمينات في ذلك .  </a:t>
            </a:r>
            <a:endParaRPr b="0" lang="en-US" sz="2800" spc="-1" strike="noStrike">
              <a:solidFill>
                <a:srgbClr val="2f2b20"/>
              </a:solidFill>
              <a:latin typeface="Calibri"/>
            </a:endParaRPr>
          </a:p>
          <a:p>
            <a:pPr marL="294840" indent="-196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حيث أن الدولة تلتزم بوضع برامج للحد من خطر البطالة وذلك عن طريق فتح آفاق عمل جديدة عن طريق إقامة المشروعات في المجالات المختلفة ، صناعية وتجارية وزراعية ؛ بهدف القضاء على  أسباب البطالة من جذورها ومن جهة أخرى يلعب التأمين ضد التعطل عن العمل دوراً حيوياً وإن كان مؤقتاً وليس علاجا شاملا في تخفيف الآثار الناجمة عن تعطل العامل وانتهاء علاقة العمل لأسباب خارجة عن إرادته . </a:t>
            </a:r>
            <a:endParaRPr b="0" lang="en-US" sz="2800" spc="-1" strike="noStrike">
              <a:solidFill>
                <a:srgbClr val="2f2b20"/>
              </a:solidFill>
              <a:latin typeface="Calibri"/>
            </a:endParaRPr>
          </a:p>
          <a:p>
            <a:pPr marL="294840" indent="-19656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6840" y="765000"/>
            <a:ext cx="7620120" cy="5112000"/>
          </a:xfrm>
          <a:prstGeom prst="rect">
            <a:avLst/>
          </a:prstGeom>
          <a:noFill/>
          <a:ln w="0">
            <a:noFill/>
          </a:ln>
        </p:spPr>
        <p:txBody>
          <a:bodyPr anchor="t">
            <a:normAutofit fontScale="83000"/>
          </a:bodyPr>
          <a:p>
            <a:pPr marL="284400" indent="-18972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ثالثاً : الخاضعون لأحكام نظام التأمين ضد التعطل عن العمل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cs typeface="Akhbar MT"/>
              </a:rPr>
              <a:t>حددت المادة الثانية من اللائحة التنفيذية لنظام التأمين ضد التعطل عن العمل الخاضعين لأحكام النظام بالفئات التالية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العمال الذين تربطهم بصاحب العمل علاقة تعاقدية ، لأداء عمل بصورة رئيسة داخل المملكة بمقابل اجر ، أيا كانت طبيعة هذه العلاقة و شكلها أو مدتها، ومهما يكن مبلغ الأجر المدفوع أو نوعه والمتدرب لايعتبر عاملاً بهذا المفهوم إلا إذا كان تدربيه يقصر بالتدرج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العمال الذين يعملون خارج المملكة لحساب صاحب عمل مقره الرئيس داخل المملك ، متى ثبت قيام علاقة عمل بينهم وبين صاحب العمل . </a:t>
            </a:r>
            <a:endParaRPr b="0" lang="en-US" sz="2800" spc="-1" strike="noStrike">
              <a:solidFill>
                <a:srgbClr val="2f2b20"/>
              </a:solidFill>
              <a:latin typeface="Calibri"/>
            </a:endParaRPr>
          </a:p>
          <a:p>
            <a:pPr marL="284400" indent="-18972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العاملون بالأجهزة الحكومية والمؤسسات العامة ، الذين لايخضعون لنظام التعاقد المدني أو العسكري . </a:t>
            </a:r>
            <a:endParaRPr b="0" lang="en-US" sz="2800" spc="-1" strike="noStrike">
              <a:solidFill>
                <a:srgbClr val="2f2b20"/>
              </a:solidFill>
              <a:latin typeface="Calibri"/>
            </a:endParaRPr>
          </a:p>
          <a:p>
            <a:pPr marL="284400" indent="-18972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0920" y="549360"/>
            <a:ext cx="8137440" cy="6308640"/>
          </a:xfrm>
          <a:prstGeom prst="rect">
            <a:avLst/>
          </a:prstGeom>
          <a:noFill/>
          <a:ln w="0">
            <a:noFill/>
          </a:ln>
        </p:spPr>
        <p:txBody>
          <a:bodyPr anchor="t">
            <a:normAutofit fontScale="88000"/>
          </a:bodyPr>
          <a:p>
            <a:pPr marL="301680" indent="-200880" algn="ct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cs typeface="Akhbar MT"/>
              </a:rPr>
              <a:t>رابعاً :</a:t>
            </a:r>
            <a:r>
              <a:rPr b="0" lang="ar-SA" sz="2400" spc="-1" strike="noStrike">
                <a:solidFill>
                  <a:srgbClr val="c00000"/>
                </a:solidFill>
                <a:latin typeface="Calibri"/>
                <a:ea typeface="Akhbar MT"/>
              </a:rPr>
              <a:t> الفئات المستثناة من تطبيق أحكام النظام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1</a:t>
            </a:r>
            <a:r>
              <a:rPr b="0" lang="ar-SA" sz="2400" spc="-1" strike="noStrike">
                <a:solidFill>
                  <a:srgbClr val="2f2b20"/>
                </a:solidFill>
                <a:latin typeface="Calibri"/>
                <a:ea typeface="Akhbar MT"/>
              </a:rPr>
              <a:t>- موظفو الدولة المدنيون والعسكريون الذين تسريعليهم أنظمة التقاعد ، ولايمتد هذا الإستثناء إلى المتقاعدين منهم الذين تتوافر فيهم شروط الإشتراك في النظام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2</a:t>
            </a:r>
            <a:r>
              <a:rPr b="0" lang="ar-SA" sz="2400" spc="-1" strike="noStrike">
                <a:solidFill>
                  <a:srgbClr val="2f2b20"/>
                </a:solidFill>
                <a:latin typeface="Calibri"/>
                <a:ea typeface="Akhbar MT"/>
              </a:rPr>
              <a:t>- العمال في أي من دول مجلس التعاون لدول الخليج العربية الخاضعين للنظام الموحد لمد الحماية التأمينية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ea typeface="Akhbar MT"/>
              </a:rPr>
              <a:t>3</a:t>
            </a:r>
            <a:r>
              <a:rPr b="0" lang="ar-SA" sz="2400" spc="-1" strike="noStrike">
                <a:solidFill>
                  <a:srgbClr val="2f2b20"/>
                </a:solidFill>
                <a:latin typeface="Calibri"/>
                <a:ea typeface="Akhbar MT"/>
              </a:rPr>
              <a:t>- العمال المستخدمون في الأعمال الزراعية أو الحراجية أو الرعي: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يقصد به كل من عمل في الغابات أو فلاحة الأرض أو حراصة المحصول أو تشغيل الالات الزراعية أو إصلاحها ، ولايمتد هذا الإستثناء إلى العمال الذين يعملون في تلك الأنشطة إذا كانوا من الفئات التالية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أ- الذين يشتغلون في المنشآت الزراعية التي تقوم بتصنيع منتجاتها .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ب- الخاضعون لنظام العمل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ج- العاملون في الجهات الحكومية والمؤسسات العامة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د- العاملون في الشركات المنشأة وفق أحكام نظام الشركات أو نظام الإستثمار الأجنبي .</a:t>
            </a:r>
            <a:endParaRPr b="0" lang="en-US" sz="2400" spc="-1" strike="noStrike">
              <a:solidFill>
                <a:srgbClr val="2f2b20"/>
              </a:solidFill>
              <a:latin typeface="Calibri"/>
            </a:endParaRPr>
          </a:p>
          <a:p>
            <a:pPr marL="301680" indent="-20088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cs typeface="Akhbar MT"/>
              </a:rPr>
              <a:t>هـ-  العاملون في المؤسسات الفردية وفق الضوابط التي يحددها المحافظ .</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475920"/>
            <a:ext cx="8388360" cy="6381720"/>
          </a:xfrm>
          <a:prstGeom prst="rect">
            <a:avLst/>
          </a:prstGeom>
          <a:noFill/>
          <a:ln w="0">
            <a:noFill/>
          </a:ln>
        </p:spPr>
        <p:txBody>
          <a:bodyPr anchor="t">
            <a:normAutofit fontScale="84000"/>
          </a:bodyPr>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4</a:t>
            </a:r>
            <a:r>
              <a:rPr b="0" lang="ar-SA" sz="2600" spc="-1" strike="noStrike">
                <a:solidFill>
                  <a:srgbClr val="2f2b20"/>
                </a:solidFill>
                <a:latin typeface="Calibri"/>
                <a:ea typeface="Akhbar MT"/>
              </a:rPr>
              <a:t>- البحارة : يقصد بهم العاملون الذين يعملون فوق السفن البحرية للتنقل أو الصيد ،ولايمتد هذا الإستثناء إلى العاملين في تلك الأنشطة إذا كانوا من الفئات التالية :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أ- العاملون في مقر صاحب العمل ،الذي اتخذ الأعمال البحرية أو الصيد حرفة له ، ةفي حالة نقل أي منهم إلى الأعمال البحرية لدى صاحب العمل نفسه ، فإنه يستمر منتفعاً بالنظام متى كان قد طبق بشأنه .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ب-  البحارة الذين يعملون في منشآت بحرية تقوم بتصنيع ماتصطاده سفنها ، ويحدد المحافظ مفهوم التصنيع المقصود بهذا الحكم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ج- الخاضعون لنظام العمل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د- العاملون في الجهات الحكومية والمؤسسات العامة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هـ- العاملون في الشركات المنشأة وفق أحكام نظام الشركات أو نظام الإستثمار الأجنبي.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cs typeface="Akhbar MT"/>
              </a:rPr>
              <a:t>و- العاملون في المؤسسات الفردية وفق الضوابط التي يحددها المحافظ.</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5</a:t>
            </a:r>
            <a:r>
              <a:rPr b="0" lang="ar-SA" sz="2600" spc="-1" strike="noStrike">
                <a:solidFill>
                  <a:srgbClr val="2f2b20"/>
                </a:solidFill>
                <a:latin typeface="Calibri"/>
                <a:ea typeface="Akhbar MT"/>
              </a:rPr>
              <a:t>-  خدم المنازل ويقصد بهم العمال الذين يعملون بالخدمة المنزلية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6</a:t>
            </a:r>
            <a:r>
              <a:rPr b="0" lang="ar-SA" sz="2600" spc="-1" strike="noStrike">
                <a:solidFill>
                  <a:srgbClr val="2f2b20"/>
                </a:solidFill>
                <a:latin typeface="Calibri"/>
                <a:ea typeface="Akhbar MT"/>
              </a:rPr>
              <a:t>- عمال الإستصناع : هم العمال المستلون الذين يعملون لحساب أنفسهم ولايستخدمون أي عمال ، ومقر عملهم هو مقر سكنهم. </a:t>
            </a:r>
            <a:endParaRPr b="0" lang="en-US" sz="2600" spc="-1" strike="noStrike">
              <a:solidFill>
                <a:srgbClr val="2f2b20"/>
              </a:solidFill>
              <a:latin typeface="Calibri"/>
            </a:endParaRPr>
          </a:p>
          <a:p>
            <a:pPr marL="288000" indent="-191880" algn="r" rtl="1">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f2b20"/>
                </a:solidFill>
                <a:latin typeface="Calibri"/>
                <a:ea typeface="Akhbar MT"/>
              </a:rPr>
              <a:t>7</a:t>
            </a:r>
            <a:r>
              <a:rPr b="0" lang="ar-SA" sz="2600" spc="-1" strike="noStrike">
                <a:solidFill>
                  <a:srgbClr val="2f2b20"/>
                </a:solidFill>
                <a:latin typeface="Calibri"/>
                <a:ea typeface="Akhbar MT"/>
              </a:rPr>
              <a:t>- أفراد أسرة صاحب العمل الذين يعملون في المنشآت العائلية التي لايعمل بها سواهم من العمال : هم أفراد العائلة المنصوص عليهم في الفقرة(</a:t>
            </a:r>
            <a:r>
              <a:rPr b="0" lang="ar-SA" sz="2600" spc="-1" strike="noStrike">
                <a:solidFill>
                  <a:srgbClr val="2f2b20"/>
                </a:solidFill>
                <a:latin typeface="Calibri"/>
                <a:ea typeface="Akhbar MT"/>
              </a:rPr>
              <a:t>8</a:t>
            </a:r>
            <a:r>
              <a:rPr b="0" lang="ar-SA" sz="2600" spc="-1" strike="noStrike">
                <a:solidFill>
                  <a:srgbClr val="2f2b20"/>
                </a:solidFill>
                <a:latin typeface="Calibri"/>
                <a:ea typeface="Akhbar MT"/>
              </a:rPr>
              <a:t>) من المادة(</a:t>
            </a:r>
            <a:r>
              <a:rPr b="0" lang="ar-SA" sz="2600" spc="-1" strike="noStrike">
                <a:solidFill>
                  <a:srgbClr val="2f2b20"/>
                </a:solidFill>
                <a:latin typeface="Calibri"/>
                <a:ea typeface="Akhbar MT"/>
              </a:rPr>
              <a:t>2</a:t>
            </a:r>
            <a:r>
              <a:rPr b="0" lang="ar-SA" sz="2600" spc="-1" strike="noStrike">
                <a:solidFill>
                  <a:srgbClr val="2f2b20"/>
                </a:solidFill>
                <a:latin typeface="Calibri"/>
                <a:ea typeface="Akhbar MT"/>
              </a:rPr>
              <a:t>) ، من نظام التأمينات الاجتماعية .</a:t>
            </a:r>
            <a:endParaRPr b="0" lang="en-US" sz="2600" spc="-1" strike="noStrike">
              <a:solidFill>
                <a:srgbClr val="2f2b20"/>
              </a:solidFill>
              <a:latin typeface="Calibri"/>
            </a:endParaRPr>
          </a:p>
          <a:p>
            <a:pPr marL="288000" indent="-191880">
              <a:lnSpc>
                <a:spcPct val="80000"/>
              </a:lnSpc>
              <a:spcBef>
                <a:spcPts val="64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33360"/>
            <a:ext cx="7620120" cy="6067440"/>
          </a:xfrm>
          <a:prstGeom prst="rect">
            <a:avLst/>
          </a:prstGeom>
          <a:noFill/>
          <a:ln w="0">
            <a:noFill/>
          </a:ln>
        </p:spPr>
        <p:txBody>
          <a:bodyPr anchor="t">
            <a:normAutofit fontScale="90000"/>
          </a:bodyPr>
          <a:p>
            <a:pPr marL="308520" indent="-205560" algn="ct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alibri"/>
                <a:cs typeface="Akhbar MT"/>
              </a:rPr>
              <a:t>خامساً: شروط الإستفادة من التعويض المقرر بمقتضى النظام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a:t>
            </a:r>
            <a:r>
              <a:rPr b="0" lang="ar-SA" sz="2800" spc="-1" strike="noStrike">
                <a:solidFill>
                  <a:srgbClr val="2f2b20"/>
                </a:solidFill>
                <a:latin typeface="Calibri"/>
                <a:ea typeface="Akhbar MT"/>
              </a:rPr>
              <a:t>- أن يكون سعودي الجنسية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2</a:t>
            </a:r>
            <a:r>
              <a:rPr b="0" lang="ar-SA" sz="2800" spc="-1" strike="noStrike">
                <a:solidFill>
                  <a:srgbClr val="2f2b20"/>
                </a:solidFill>
                <a:latin typeface="Calibri"/>
                <a:ea typeface="Akhbar MT"/>
              </a:rPr>
              <a:t>- أن يكمل المدد المحددة في المادة (الرابعة عشر ) من هذا النظام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3</a:t>
            </a:r>
            <a:r>
              <a:rPr b="0" lang="ar-SA" sz="2800" spc="-1" strike="noStrike">
                <a:solidFill>
                  <a:srgbClr val="2f2b20"/>
                </a:solidFill>
                <a:latin typeface="Calibri"/>
                <a:ea typeface="Akhbar MT"/>
              </a:rPr>
              <a:t>- ألا يكون مفصولاً عن العمل بسبب راجع إليه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4</a:t>
            </a:r>
            <a:r>
              <a:rPr b="0" lang="ar-SA" sz="2800" spc="-1" strike="noStrike">
                <a:solidFill>
                  <a:srgbClr val="2f2b20"/>
                </a:solidFill>
                <a:latin typeface="Calibri"/>
                <a:ea typeface="Akhbar MT"/>
              </a:rPr>
              <a:t>- ألا يكون له دخل من عمل أو نشاط خاص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5</a:t>
            </a:r>
            <a:r>
              <a:rPr b="0" lang="ar-SA" sz="2800" spc="-1" strike="noStrike">
                <a:solidFill>
                  <a:srgbClr val="2f2b20"/>
                </a:solidFill>
                <a:latin typeface="Calibri"/>
                <a:ea typeface="Akhbar MT"/>
              </a:rPr>
              <a:t>- ألا يكون قد ترك العمل بمحض إرادته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6</a:t>
            </a:r>
            <a:r>
              <a:rPr b="0" lang="ar-SA" sz="2800" spc="-1" strike="noStrike">
                <a:solidFill>
                  <a:srgbClr val="2f2b20"/>
                </a:solidFill>
                <a:latin typeface="Calibri"/>
                <a:ea typeface="Akhbar MT"/>
              </a:rPr>
              <a:t>- ألا يكون قادراً على العمل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7</a:t>
            </a:r>
            <a:r>
              <a:rPr b="0" lang="ar-SA" sz="2800" spc="-1" strike="noStrike">
                <a:solidFill>
                  <a:srgbClr val="2f2b20"/>
                </a:solidFill>
                <a:latin typeface="Calibri"/>
                <a:ea typeface="Akhbar MT"/>
              </a:rPr>
              <a:t>- ألا يكون قد بلغ سن الستين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8</a:t>
            </a:r>
            <a:r>
              <a:rPr b="0" lang="ar-SA" sz="2800" spc="-1" strike="noStrike">
                <a:solidFill>
                  <a:srgbClr val="2f2b20"/>
                </a:solidFill>
                <a:latin typeface="Calibri"/>
                <a:ea typeface="Akhbar MT"/>
              </a:rPr>
              <a:t>- التسجيل في الوزارة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9</a:t>
            </a:r>
            <a:r>
              <a:rPr b="0" lang="ar-SA" sz="2800" spc="-1" strike="noStrike">
                <a:solidFill>
                  <a:srgbClr val="2f2b20"/>
                </a:solidFill>
                <a:latin typeface="Calibri"/>
                <a:ea typeface="Akhbar MT"/>
              </a:rPr>
              <a:t>- البحث الجاد عن العمل . </a:t>
            </a:r>
            <a:endParaRPr b="0" lang="en-US" sz="2800" spc="-1" strike="noStrike">
              <a:solidFill>
                <a:srgbClr val="2f2b20"/>
              </a:solidFill>
              <a:latin typeface="Calibri"/>
            </a:endParaRPr>
          </a:p>
          <a:p>
            <a:pPr marL="308520" indent="-205560" algn="r" rtl="1">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0</a:t>
            </a:r>
            <a:r>
              <a:rPr b="0" lang="ar-SA" sz="2800" spc="-1" strike="noStrike">
                <a:solidFill>
                  <a:srgbClr val="2f2b20"/>
                </a:solidFill>
                <a:latin typeface="Calibri"/>
                <a:ea typeface="Akhbar MT"/>
              </a:rPr>
              <a:t>- الإلتزام بالتدريب الذي تحدده الوزارة . </a:t>
            </a:r>
            <a:endParaRPr b="0" lang="en-US" sz="2800" spc="-1" strike="noStrike">
              <a:solidFill>
                <a:srgbClr val="2f2b20"/>
              </a:solidFill>
              <a:latin typeface="Calibri"/>
            </a:endParaRPr>
          </a:p>
          <a:p>
            <a:pPr marL="308520" indent="-205560" algn="r">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ea typeface="Akhbar MT"/>
              </a:rPr>
              <a:t>11- </a:t>
            </a:r>
            <a:r>
              <a:rPr b="0" lang="ar-SA" sz="2800" spc="-1" strike="noStrike">
                <a:solidFill>
                  <a:srgbClr val="2f2b20"/>
                </a:solidFill>
                <a:latin typeface="Calibri"/>
                <a:cs typeface="Akhbar MT"/>
              </a:rPr>
              <a:t>التقيد بالتعليمات والتوجيهات التي تصدرها الوزارة</a:t>
            </a:r>
            <a:r>
              <a:rPr b="0" lang="ar-SA" sz="2800" spc="-1" strike="noStrike">
                <a:solidFill>
                  <a:srgbClr val="2f2b20"/>
                </a:solidFill>
                <a:latin typeface="Calibri"/>
                <a:ea typeface="Akhbar MT"/>
              </a:rPr>
              <a:t> </a:t>
            </a:r>
            <a:r>
              <a:rPr b="0" lang="ar-SA"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00:21Z</dcterms:created>
  <dc:creator>sMs</dc:creator>
  <dc:description/>
  <dc:language>en-US</dc:language>
  <cp:lastModifiedBy>eman</cp:lastModifiedBy>
  <dcterms:modified xsi:type="dcterms:W3CDTF">2016-10-01T20:00:36Z</dcterms:modified>
  <cp:revision>4</cp:revision>
  <dc:subject/>
  <dc:title>عرض تقديمي في PowerPoint</dc:title>
</cp:coreProperties>
</file>