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DE3D-AA52-4597-BADC-8FB143327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AA346-0B69-482A-B50F-92C4E866C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654A2-556B-4180-84FB-DDE56CDF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B7C48-A8C2-42AD-8D90-6D4B46F64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86688-9462-4BE7-B0D7-55FF89817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95BCD-0B47-4562-90CA-06BBC93E0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B2F0E-8802-4DD2-AAF6-75A08845F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84307-2B08-4554-A5E5-41FFE56B5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98448-988F-4ABA-BF9A-900D52D37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F2F4-4166-41D0-BC0D-425F38A00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F1AE-FC76-4AED-B55F-89F92092E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04E93-4509-41B1-93E3-AFFADCF1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F07C9-8DAC-4F80-B94F-EC8D47E6B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23565-8172-45BA-865C-1C447D5D5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D4604-733B-437E-9503-FCF69C862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FE935-60CA-4941-BF30-0F5668B50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A76F7-0666-4309-A674-CC3361518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8C9BE-6A31-4B1C-9502-A2A0CB568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ABCFC-6BD6-45D6-88F5-C70C37FF4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F4149-957A-4F92-ABA7-487FB5F39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EC121-4E09-4F3D-9645-3C2FED626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A352E-3642-4C7A-A21F-348EEA379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522F-4D4B-4E34-B51A-AA29542D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F7707-29F1-4301-B4BC-FFB3FDEC0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3B4BB-CA9E-440D-98B8-4FA2F00DE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29A2C-48A0-43A8-9A72-EEB1B2C83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F97A8-C67A-485D-81AB-57E1C337E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FA5C3-27C0-4559-9840-D8485C074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27448-0E88-4C0F-AE86-D2E9092217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1D12C-7A87-44D5-99F1-0957573F17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AAE39-3D79-48D0-A92A-D3BBFCA132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5399D-028E-4AE9-BACF-FE1D05A19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262D0-094E-4F28-8136-3E8739791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182A9-77F2-4183-813B-6634C9E9C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CBB0E-B357-4316-A7E0-40BC6CF92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3DA21-162C-4DF3-8824-16412D1E0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B830D-6932-471A-9C2F-C92EA78C0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7E1F7-7654-4D02-B597-D9E070495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695C7-3347-4584-A521-C24E8E3A9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8F910-C203-4738-86E8-F9E0936A1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8F4A7-A3B3-4075-8A53-3953812D6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EF3FD-CA48-46B7-A858-2B317CBC0F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2B0EF-35DC-4A5E-91D7-1C186D528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6A09B4-6ACC-4183-AEC7-32A6FFB26B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E453-E337-4BBB-8105-888DB3AD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CD2BA-4111-4F87-A7EB-5DA89CBAA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03C4F-9B31-475B-80CA-94B2BC3F7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2BC19-ED2C-46FA-A462-B9B9889A2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7E7FC-EFD7-4452-BD20-7E0FA7DBE2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10601B-1128-4A35-804C-73D56F325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32BC8-B99A-4A86-9771-EE0489674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976AE-9424-4236-B5D3-937824463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45E43-081A-4C47-A9FC-90ACC2A88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419D6-BF26-430F-A29F-260C10CD9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5F1796-1DF5-4F87-AE58-FC2304C98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E537-E3AB-4204-92D1-EADB9B25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9C657-F92D-4185-8500-E20BAE1DB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779D-65CD-428E-B524-69A685CC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6537-648E-4630-82B9-8DA7B1E0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22A2-0268-4A23-B94D-723B9954A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C12C-ACC6-4698-9927-013E63836939}"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رابط مستقيم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73A9-B86A-49CF-8EFD-6FAD51E4903E}"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985C-979E-4AA3-AF14-FD66A7FE041E}"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مستطيل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42C0-C75B-4B92-9006-B69FCA7004CC}"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5A96-6FA0-46AF-8325-EBC8112AFB25}"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عنوان 1" descr=""/>
          <p:cNvPicPr/>
          <p:nvPr/>
        </p:nvPicPr>
        <p:blipFill>
          <a:blip r:embed="rId1"/>
          <a:stretch/>
        </p:blipFill>
        <p:spPr>
          <a:xfrm>
            <a:off x="3029040" y="530280"/>
            <a:ext cx="5816520" cy="2878200"/>
          </a:xfrm>
          <a:prstGeom prst="rect">
            <a:avLst/>
          </a:prstGeom>
          <a:ln w="0">
            <a:noFill/>
          </a:ln>
        </p:spPr>
      </p:pic>
      <p:sp>
        <p:nvSpPr>
          <p:cNvPr id="221" name="PlaceHolder 1"/>
          <p:cNvSpPr>
            <a:spLocks noGrp="1"/>
          </p:cNvSpPr>
          <p:nvPr>
            <p:ph type="subTitle"/>
          </p:nvPr>
        </p:nvSpPr>
        <p:spPr>
          <a:xfrm>
            <a:off x="785520" y="3886200"/>
            <a:ext cx="6986520" cy="254304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إعداد /</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هيفاء السلمي</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أمجاد السهلي</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ريما الجماز</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أستاذة المقرر /</a:t>
            </a:r>
            <a:endParaRPr b="0" lang="en-US" sz="28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إيمان الشلول </a:t>
            </a:r>
            <a:endParaRPr b="0" lang="en-US" sz="2400" spc="-1" strike="noStrike">
              <a:solidFill>
                <a:srgbClr val="000000"/>
              </a:solidFill>
              <a:latin typeface="Trebuchet MS"/>
            </a:endParaRPr>
          </a:p>
        </p:txBody>
      </p:sp>
      <p:pic>
        <p:nvPicPr>
          <p:cNvPr id="222" name="صورة 3" descr="600px-KSU_Logo_COLORED_PNGP-24.png"/>
          <p:cNvPicPr/>
          <p:nvPr/>
        </p:nvPicPr>
        <p:blipFill>
          <a:blip r:embed="rId2"/>
          <a:stretch/>
        </p:blipFill>
        <p:spPr>
          <a:xfrm>
            <a:off x="357120" y="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عنوان 1" descr=""/>
          <p:cNvPicPr/>
          <p:nvPr/>
        </p:nvPicPr>
        <p:blipFill>
          <a:blip r:embed="rId1"/>
          <a:stretch/>
        </p:blipFill>
        <p:spPr>
          <a:xfrm>
            <a:off x="420840" y="901800"/>
            <a:ext cx="7254720" cy="1317600"/>
          </a:xfrm>
          <a:prstGeom prst="rect">
            <a:avLst/>
          </a:prstGeom>
          <a:ln w="0">
            <a:noFill/>
          </a:ln>
        </p:spPr>
      </p:pic>
      <p:sp>
        <p:nvSpPr>
          <p:cNvPr id="237" name=""/>
          <p:cNvSpPr txBox="1"/>
          <p:nvPr/>
        </p:nvSpPr>
        <p:spPr>
          <a:xfrm>
            <a:off x="356760" y="2499840"/>
            <a:ext cx="7239240" cy="196236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Akhbar MT"/>
              </a:rPr>
              <a:t>المعاشات</a:t>
            </a:r>
            <a:endParaRPr b="0" lang="en-US" sz="3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Akhbar MT"/>
              </a:rPr>
              <a:t>المساعدات الاجتماعية.</a:t>
            </a:r>
            <a:endParaRPr b="0" lang="en-US" sz="3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14200" y="57168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المعاشات : المعاش يتمثل في مبلغ مالي مقدم من جانب المؤسسة لمستحق الضمان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graphicFrame>
        <p:nvGraphicFramePr>
          <p:cNvPr id="239" name=""/>
          <p:cNvGraphicFramePr/>
          <p:nvPr/>
        </p:nvGraphicFramePr>
        <p:xfrm>
          <a:off x="642960" y="1928880"/>
          <a:ext cx="7072200" cy="4383000"/>
        </p:xfrm>
        <a:graphic>
          <a:graphicData uri="http://schemas.openxmlformats.org/drawingml/2006/table">
            <a:tbl>
              <a:tblPr/>
              <a:tblGrid>
                <a:gridCol w="7072200"/>
              </a:tblGrid>
              <a:tr h="13737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يستفيد من المعاش كل من الأفراد أو الأسر الآتية</a:t>
                      </a:r>
                      <a:endParaRPr b="0" lang="en-US" sz="2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8d3d"/>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يتامى - شرط أن لايكون بلغ </a:t>
                      </a:r>
                      <a:r>
                        <a:rPr b="1" lang="ar-SA" sz="2800" spc="-1" strike="noStrike">
                          <a:solidFill>
                            <a:srgbClr val="000000"/>
                          </a:solidFill>
                          <a:latin typeface="Trebuchet MS"/>
                          <a:ea typeface="Akhbar MT"/>
                        </a:rPr>
                        <a:t>18</a:t>
                      </a:r>
                      <a:r>
                        <a:rPr b="1" lang="ar-SA" sz="2800" spc="-1" strike="noStrike">
                          <a:solidFill>
                            <a:srgbClr val="000000"/>
                          </a:solidFill>
                          <a:latin typeface="Trebuchet MS"/>
                          <a:ea typeface="Akhbar MT"/>
                        </a:rPr>
                        <a:t> سنة ولايكون له عائل مقتدر ماليا-</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dbce"/>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عاجزون عن العمل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ee8"/>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من بلغ سن الشيخوخة</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dbce"/>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نساء اللاتي لاعائل لهن</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ee8"/>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أسرة غير المعولة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dbce"/>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42960" y="213840"/>
            <a:ext cx="7238880" cy="5715000"/>
          </a:xfrm>
          <a:prstGeom prst="rect">
            <a:avLst/>
          </a:prstGeom>
          <a:noFill/>
          <a:ln w="0">
            <a:noFill/>
          </a:ln>
        </p:spPr>
        <p:txBody>
          <a:bodyPr lIns="90000" rIns="90000" tIns="46800" bIns="46800" anchor="t">
            <a:normAutofit fontScale="90000"/>
          </a:bodyPr>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اليتامى :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يتيم هو كل من توفي أباه يستوي في ذلك أن يكون ذكر أو أنثى , شرط أن لايكون بلغ </a:t>
            </a:r>
            <a:r>
              <a:rPr b="0" lang="ar-SA" sz="2800" spc="-1" strike="noStrike">
                <a:solidFill>
                  <a:srgbClr val="000000"/>
                </a:solidFill>
                <a:latin typeface="Trebuchet MS"/>
                <a:ea typeface="Akhbar MT"/>
              </a:rPr>
              <a:t>18</a:t>
            </a:r>
            <a:r>
              <a:rPr b="0" lang="ar-SA" sz="2800" spc="-1" strike="noStrike">
                <a:solidFill>
                  <a:srgbClr val="000000"/>
                </a:solidFill>
                <a:latin typeface="Trebuchet MS"/>
                <a:ea typeface="Akhbar MT"/>
              </a:rPr>
              <a:t> سنة ولايكون له عائل مقتدر ماليا , و أن لايكون لديه مصدر كاف للعيش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العاجزون عن العمل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هو من ثبت طبيا أنه غير قادر - بصفة دائمة أو مؤقتة- على القيام بأي عمل , أو نقصت قدرته على آداء العمل المناسب بسبب مرض أو عاهة وليس له عائل مقتدر أو مصدر كاف للعيش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من بلغ سن الشيخوخة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كل من تجاوز سن الستين من العمر وليس له عائل مقتدر أو مصدر كاف للعيش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Akhbar MT"/>
              </a:rPr>
              <a:t> ويجب توافر شرطين مجتمعين لحصول العاجز عن العمل على معاش الضمان وهو أن يثبت فعليا عن العمل بخضوعه للفحص الطبي , فضلا عن عدم وجود من يعوله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428760"/>
            <a:ext cx="8229600" cy="5214960"/>
          </a:xfrm>
          <a:prstGeom prst="rect">
            <a:avLst/>
          </a:prstGeom>
          <a:noFill/>
          <a:ln w="0">
            <a:noFill/>
          </a:ln>
        </p:spPr>
        <p:txBody>
          <a:bodyPr lIns="90000" rIns="90000" tIns="46800" bIns="46800" anchor="t">
            <a:normAutofit fontScale="86000"/>
          </a:bodyPr>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52f74"/>
                </a:solidFill>
                <a:latin typeface="Trebuchet MS"/>
                <a:cs typeface="Akhbar MT"/>
              </a:rPr>
              <a:t>النساء اللاتي لاعائل لهن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النساء اللاتي تجاوزن </a:t>
            </a:r>
            <a:r>
              <a:rPr b="0" lang="ar-SA" sz="3000" spc="-1" strike="noStrike">
                <a:solidFill>
                  <a:srgbClr val="000000"/>
                </a:solidFill>
                <a:latin typeface="Trebuchet MS"/>
                <a:ea typeface="Akhbar MT"/>
              </a:rPr>
              <a:t>18</a:t>
            </a:r>
            <a:r>
              <a:rPr b="0" lang="ar-SA" sz="3000" spc="-1" strike="noStrike">
                <a:solidFill>
                  <a:srgbClr val="000000"/>
                </a:solidFill>
                <a:latin typeface="Trebuchet MS"/>
                <a:ea typeface="Akhbar MT"/>
              </a:rPr>
              <a:t> ولا عائل لهن , كالأرملة والمطلقة التي لم تتزوج سواء كان لها أولاد أم لا , ويدخل فيهن كذلك البنت والاخت متى فقدن العائل وبلغن السن المقررة نظاما ولايوجد لأي منهن اباء وابناء قادرين وليس لهن مصدر كاف للعيش .</a:t>
            </a:r>
            <a:endParaRPr b="0" lang="en-US" sz="3000" spc="-1" strike="noStrike">
              <a:solidFill>
                <a:srgbClr val="000000"/>
              </a:solidFill>
              <a:latin typeface="Trebuchet MS"/>
            </a:endParaRPr>
          </a:p>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52f74"/>
                </a:solidFill>
                <a:latin typeface="Trebuchet MS"/>
                <a:cs typeface="Akhbar MT"/>
              </a:rPr>
              <a:t>الأسرة غير المعولة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أي أسرة ليس لها عائل بسبب وفاة أو طلاق أو فقد أو سجن وغير ذلك ولم يكن لها مصدر كاف للعيش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ولايستحق المعاش إلا إذا لم توجد أماكن في دور الرعاية والملاجئ لاستقبالهم , ويسقط حق المعاش في حالة رفض مستحقه دخول مثل تلك الاماكن المخصصة لهم . وهي دور الرعاية الاجتماعية أو المستشفيات ومافي حكمهما .</a:t>
            </a:r>
            <a:endParaRPr b="0" lang="en-US" sz="3000" spc="-1" strike="noStrike">
              <a:solidFill>
                <a:srgbClr val="000000"/>
              </a:solidFill>
              <a:latin typeface="Trebuchet MS"/>
            </a:endParaRPr>
          </a:p>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1" descr=""/>
          <p:cNvPicPr/>
          <p:nvPr/>
        </p:nvPicPr>
        <p:blipFill>
          <a:blip r:embed="rId1"/>
          <a:stretch/>
        </p:blipFill>
        <p:spPr>
          <a:xfrm>
            <a:off x="-255600" y="109440"/>
            <a:ext cx="8545680" cy="147024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سعوديون المقيمون إقامة دائمة في المملكة</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ارملة الاجنبية التي لها اولاد من زوجها السعودي المتوفى عنها</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مراة الاجنبية المتزوجة من سعودي</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بناء المرأة السعودية المتزوجة من أجنبي</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معوقون والارامل ذوات الايتام والايتام ممن لاتتوافر لديهم وثائق اثبات الجنسية الغربية السعودية ولديهم بطاقات تنقل</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450720" y="152280"/>
            <a:ext cx="7255080" cy="1316160"/>
          </a:xfrm>
          <a:prstGeom prst="rect">
            <a:avLst/>
          </a:prstGeom>
          <a:ln w="0">
            <a:noFill/>
          </a:ln>
        </p:spPr>
      </p:pic>
      <p:sp>
        <p:nvSpPr>
          <p:cNvPr id="245" name=""/>
          <p:cNvSpPr txBox="1"/>
          <p:nvPr/>
        </p:nvSpPr>
        <p:spPr>
          <a:xfrm>
            <a:off x="428760" y="121392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يختلف بحسب عدد المستفيدين مبلغ </a:t>
            </a:r>
            <a:r>
              <a:rPr b="0" lang="ar-SA" sz="2800" spc="-1" strike="noStrike">
                <a:solidFill>
                  <a:srgbClr val="000000"/>
                </a:solidFill>
                <a:latin typeface="Trebuchet MS"/>
                <a:ea typeface="Akhbar MT"/>
              </a:rPr>
              <a:t>9400</a:t>
            </a:r>
            <a:r>
              <a:rPr b="0" lang="ar-SA" sz="2800" spc="-1" strike="noStrike">
                <a:solidFill>
                  <a:srgbClr val="000000"/>
                </a:solidFill>
                <a:latin typeface="Trebuchet MS"/>
                <a:ea typeface="Akhbar MT"/>
              </a:rPr>
              <a:t> سنويا للمستفيد الأول , ويتم زيادة هذا المبلغ بواقع </a:t>
            </a:r>
            <a:r>
              <a:rPr b="0" lang="ar-SA" sz="2800" spc="-1" strike="noStrike">
                <a:solidFill>
                  <a:srgbClr val="000000"/>
                </a:solidFill>
                <a:latin typeface="Trebuchet MS"/>
                <a:ea typeface="Akhbar MT"/>
              </a:rPr>
              <a:t>3100</a:t>
            </a:r>
            <a:r>
              <a:rPr b="0" lang="ar-SA" sz="2800" spc="-1" strike="noStrike">
                <a:solidFill>
                  <a:srgbClr val="000000"/>
                </a:solidFill>
                <a:latin typeface="Trebuchet MS"/>
                <a:ea typeface="Akhbar MT"/>
              </a:rPr>
              <a:t> لكل فرد إضافي شريطة لايتاجاوز مقدار ما تتقضاه الاسرة التي تتكون من ثمانية افراد على </a:t>
            </a:r>
            <a:r>
              <a:rPr b="0" lang="ar-SA" sz="2800" spc="-1" strike="noStrike">
                <a:solidFill>
                  <a:srgbClr val="000000"/>
                </a:solidFill>
                <a:latin typeface="Trebuchet MS"/>
                <a:ea typeface="Akhbar MT"/>
              </a:rPr>
              <a:t>31100</a:t>
            </a:r>
            <a:r>
              <a:rPr b="0" lang="ar-SA" sz="2800" spc="-1" strike="noStrike">
                <a:solidFill>
                  <a:srgbClr val="000000"/>
                </a:solidFill>
                <a:latin typeface="Trebuchet MS"/>
                <a:ea typeface="Akhbar MT"/>
              </a:rPr>
              <a:t> ويجوز زيادة المبلغ بقرار من مجلس الوزراء بناء على اقتراح من الوزير .</a:t>
            </a:r>
            <a:endParaRPr b="0" lang="en-US" sz="28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55080" cy="118728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6205"/>
                </a:solidFill>
                <a:latin typeface="Trebuchet MS"/>
                <a:cs typeface="Akhbar MT"/>
              </a:rPr>
              <a:t>تتنوع المساعدات التي قد يحصل عليها الأشخاص المستفيدة منها , فقد تكون مساعدات اجتماعيه , صحيه أو برامج رعايه اسره الايتام , بالنسبه للمساعدات الاجتماعيه قد تكون لاسر المسجونين وفي الظروف الطارئة , وهي عباره عن مساهمة مالية تدفع مرة واحده شرط الا تتجاوز </a:t>
            </a:r>
            <a:r>
              <a:rPr b="1" lang="ar-SA" sz="2800" spc="-1" strike="noStrike">
                <a:solidFill>
                  <a:srgbClr val="956205"/>
                </a:solidFill>
                <a:latin typeface="Trebuchet MS"/>
                <a:ea typeface="Akhbar MT"/>
              </a:rPr>
              <a:t>30</a:t>
            </a:r>
            <a:r>
              <a:rPr b="1" lang="ar-SA" sz="2800" spc="-1" strike="noStrike">
                <a:solidFill>
                  <a:srgbClr val="956205"/>
                </a:solidFill>
                <a:latin typeface="Trebuchet MS"/>
                <a:ea typeface="Akhbar MT"/>
              </a:rPr>
              <a:t> الف ريال .</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6205"/>
                </a:solidFill>
                <a:latin typeface="Trebuchet MS"/>
                <a:cs typeface="Akhbar MT"/>
              </a:rPr>
              <a:t>نص النظام السعودي ان المساعدة هي – المبلغ المقطوع الذي يتقررر للمستفيد بموجب حكم المادة الثالثة عشر -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334800" y="317520"/>
            <a:ext cx="741852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9307"/>
                </a:solidFill>
                <a:latin typeface="Trebuchet MS"/>
                <a:cs typeface="Akhbar MT"/>
              </a:rPr>
              <a:t>يمكن ان يستفيد من اعانات الضمان الاجتماعي كل محتاج بعكس التامينات الاجتماعيه فلا يستفيد منها الا من يقع عليه احد المخاطر الاجتماعيه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9307"/>
                </a:solidFill>
                <a:latin typeface="Trebuchet MS"/>
                <a:cs typeface="Akhbar MT"/>
              </a:rPr>
              <a:t>المساعدات الضمان الاجتماعي تعتمد في تمويلها على مايتم ادراجة من اعنمادات في ميزانية الدولة بخلاف التامينات فانها تحدد على اساس اجر العامل قبل تعرضة للحطر ومدة اشتراكة في التامين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55080" cy="1187280"/>
          </a:xfrm>
          <a:prstGeom prst="rect">
            <a:avLst/>
          </a:prstGeom>
          <a:ln w="0">
            <a:noFill/>
          </a:ln>
        </p:spPr>
      </p:pic>
      <p:sp>
        <p:nvSpPr>
          <p:cNvPr id="251" name=""/>
          <p:cNvSpPr txBox="1"/>
          <p:nvPr/>
        </p:nvSpPr>
        <p:spPr>
          <a:xfrm>
            <a:off x="857160" y="1785960"/>
            <a:ext cx="6842160" cy="411480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1</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كل مايجئ من زكاة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2</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اموال التي تخصص من الخزانة العامة</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3</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تبرعات</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4</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دخول الناتجة عن سائر الاموال الواقعه تحت ادارة المؤسس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71680" y="785520"/>
            <a:ext cx="7238880" cy="4846680"/>
          </a:xfrm>
          <a:prstGeom prst="rect">
            <a:avLst/>
          </a:prstGeom>
          <a:noFill/>
          <a:ln w="0">
            <a:noFill/>
          </a:ln>
        </p:spPr>
        <p:txBody>
          <a:bodyPr lIns="90000" rIns="90000" tIns="46800" bIns="46800" anchor="t">
            <a:normAutofit fontScale="84000"/>
          </a:bodyPr>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Akhbar MT"/>
              </a:rPr>
              <a:t>تعني كلمة الزكاة في الاصطلاح : حصة مقدرة من المال فرضها الله سبحانه وتعالى للمستحقين المحددين في كتابه الكريم الشريف .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b13f9a"/>
                </a:solidFill>
                <a:latin typeface="Trebuchet MS"/>
                <a:cs typeface="Akhbar MT"/>
              </a:rPr>
              <a:t>كما أن هي الصدقة : كل مايعطى توطعا للفقير من مال او لبس او طعام بخلاف الزكاة المحددة شرعا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a34b73"/>
                </a:solidFill>
                <a:latin typeface="Trebuchet MS"/>
                <a:cs typeface="Akhbar MT"/>
              </a:rPr>
              <a:t>ويقصد بالتبرع والأوقاف : أن التبرع هو كل مايقدمة الفرد من اموال في الحال والمآل دون مقابل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52f74"/>
                </a:solidFill>
                <a:latin typeface="Trebuchet MS"/>
                <a:cs typeface="Akhbar MT"/>
              </a:rPr>
              <a:t>الأوقاف : الحبس والمنع , حبس مايمكن الانتفاع به مع بقاء عينه على مصرف مباح وتسبيل منفعه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1253a"/>
                </a:solidFill>
                <a:latin typeface="Trebuchet MS"/>
                <a:cs typeface="Akhbar MT"/>
              </a:rPr>
              <a:t>كما أن عوائد مايتم استثمارة من اموال الضمال من خلال مجلس مخصص لاستثمار تلك الاموال من خلال اتخاذ القرارات اللازمة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642600"/>
            <a:ext cx="8143920" cy="5483160"/>
          </a:xfrm>
          <a:prstGeom prst="rect">
            <a:avLst/>
          </a:prstGeom>
          <a:noFill/>
          <a:ln w="0">
            <a:noFill/>
          </a:ln>
        </p:spPr>
        <p:txBody>
          <a:bodyPr lIns="90000" rIns="90000" tIns="46800" bIns="46800" anchor="t">
            <a:normAutofit fontScale="79000"/>
          </a:bodyPr>
          <a:p>
            <a:pPr marL="215280" indent="-2152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يمكن القول أن الضمان الاجتماعي هو نظام احتماعي سياسي اقتصادي ، يهدف بصورة مباشرة إلى حماية الأفراد وقاية وعلاجاً من مخاطر الجهل والمرض والفقر ، ويؤمن لهم عند الاقتضاء سبل العيش والراحة بمستوى لائق كريم .</a:t>
            </a:r>
            <a:br>
              <a:rPr sz="3000"/>
            </a:br>
            <a:r>
              <a:rPr b="0" lang="ar-SA" sz="3000" spc="-1" strike="noStrike">
                <a:solidFill>
                  <a:srgbClr val="956205"/>
                </a:solidFill>
                <a:latin typeface="Trebuchet MS"/>
              </a:rPr>
              <a:t> </a:t>
            </a:r>
            <a:endParaRPr b="0" lang="en-US" sz="3000" spc="-1" strike="noStrike">
              <a:solidFill>
                <a:srgbClr val="000000"/>
              </a:solidFill>
              <a:latin typeface="Trebuchet MS"/>
            </a:endParaRPr>
          </a:p>
          <a:p>
            <a:pPr marL="215280" indent="-2152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تجدر الاشارة إلى أن الضمان الاجتماعي أصبح في وقتنا المعاصر قيمة إنسانية وفكرة قومية عامة، حيث ظهرت اتجاهات دولية حديثة تدعو إلى تعميمه باعتباره الوسيلة الفعالة لكفالة الأمن الاقتصادي والاجتماعي للمواطن بصفة عامة وليس لفئة معينة من المواطنين . لذلك يمكن القول أن نظم الضمان الاجتماعي الحديثة لا تهتم بفئة من فئات المجتمع دون غيرها ، وإنما تمتد جبراً وتعمل على مستوى قومي يشمل كافة أفراد المجتمع .</a:t>
            </a:r>
            <a:br>
              <a:rPr sz="2400"/>
            </a:br>
            <a:br>
              <a:rPr sz="2400"/>
            </a:br>
            <a:r>
              <a:rPr b="0" lang="ar-SA" sz="2400" spc="-1" strike="noStrike">
                <a:solidFill>
                  <a:srgbClr val="956205"/>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420840" y="-6480"/>
            <a:ext cx="7254720" cy="1158840"/>
          </a:xfrm>
          <a:prstGeom prst="rect">
            <a:avLst/>
          </a:prstGeom>
          <a:ln w="0">
            <a:noFill/>
          </a:ln>
        </p:spPr>
      </p:pic>
      <p:sp>
        <p:nvSpPr>
          <p:cNvPr id="225" name=""/>
          <p:cNvSpPr txBox="1"/>
          <p:nvPr/>
        </p:nvSpPr>
        <p:spPr>
          <a:xfrm>
            <a:off x="428760" y="1357200"/>
            <a:ext cx="7238880" cy="5214960"/>
          </a:xfrm>
          <a:prstGeom prst="rect">
            <a:avLst/>
          </a:prstGeom>
          <a:noFill/>
          <a:ln w="0">
            <a:noFill/>
          </a:ln>
        </p:spPr>
        <p:txBody>
          <a:bodyPr lIns="90000" rIns="90000" tIns="46800" bIns="46800" anchor="t">
            <a:normAutofit fontScale="81000"/>
          </a:bodyPr>
          <a:p>
            <a:pPr marL="220680" indent="-2206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Trebuchet MS"/>
                <a:ea typeface="Akhbar MT"/>
              </a:rPr>
              <a:t>    </a:t>
            </a:r>
            <a:r>
              <a:rPr b="0" lang="ar-SA" sz="3000" spc="-1" strike="noStrike">
                <a:solidFill>
                  <a:srgbClr val="404040"/>
                </a:solidFill>
                <a:latin typeface="Trebuchet MS"/>
                <a:cs typeface="Akhbar MT"/>
              </a:rPr>
              <a:t>ولا يعد الضمان الاجتماعي مظهراً من مظاهر الحضارة فحسب ، بل هو أيضاً أحد مبادئ الدين الإسلامي الحنيف ، عرفته الدولة الاسلامية منذ بدء قيامها .</a:t>
            </a:r>
            <a:br>
              <a:rPr sz="3000"/>
            </a:br>
            <a:r>
              <a:rPr b="0" lang="ar-SA" sz="3000" spc="-1" strike="noStrike">
                <a:solidFill>
                  <a:srgbClr val="404040"/>
                </a:solidFill>
                <a:latin typeface="Trebuchet MS"/>
                <a:cs typeface="Akhbar MT"/>
              </a:rPr>
              <a:t>والشريعة الإسلامية كانت سباقة في هذا المجال ، فقد أولته اهتماماً بالغاً وقررت له عدة عوامل مساعدة من أجل إقامته وتعميمه بين أبناء المجتمع الواحد . فالضمان الاجتماعي في الإسلام -رغم عدم إستعمال هذا مصطلح الضمان الاجتماعي أو التأمينات الاجتماعية - يقوم أساساً على مبدأ التكامل والتعاون ذلك المبدأ الذي يجد صداه في القران المريم والسنة ، ويمكن القول أن الشريعة الإسلامية أقامت نظاماً متكاملاً في رعاية الفقراء تحت اسم ( التكافل) ، الذي يقصد به التعاطف والرعاية والعطاء الذي يستهدف إقامة مجتمع متماسك .</a:t>
            </a:r>
            <a:br>
              <a:rPr sz="2800"/>
            </a:b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14200" y="928800"/>
            <a:ext cx="8229600" cy="4525920"/>
          </a:xfrm>
          <a:prstGeom prst="rect">
            <a:avLst/>
          </a:prstGeom>
          <a:noFill/>
          <a:ln w="0">
            <a:noFill/>
          </a:ln>
        </p:spPr>
        <p:txBody>
          <a:bodyPr lIns="90000" rIns="90000" tIns="46800" bIns="46800" anchor="t">
            <a:normAutofit fontScale="87000"/>
          </a:bodyPr>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على ذلك يتضح أن فكرة الضمان الاجتماعي تستمد جذورها الأصيلة من مبادئ </a:t>
            </a:r>
            <a:endParaRPr b="0" lang="en-US" sz="3000" spc="-1" strike="noStrike">
              <a:solidFill>
                <a:srgbClr val="000000"/>
              </a:solidFill>
              <a:latin typeface="Trebuchet MS"/>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تعاليم الاسلام . </a:t>
            </a:r>
            <a:br>
              <a:rPr sz="3000"/>
            </a:br>
            <a:r>
              <a:rPr b="0" lang="ar-SA" sz="3000" spc="-1" strike="noStrike">
                <a:solidFill>
                  <a:srgbClr val="956205"/>
                </a:solidFill>
                <a:latin typeface="Trebuchet MS"/>
                <a:cs typeface="Akhbar MT"/>
              </a:rPr>
              <a:t>كما أنها أوجبت هذا الضمان الاجتماعي في بيت مال المسلمين لمن احتاج إليه ، كما أوردت عدة أنظمة مساعدة من أجل إقامة نظام الضمان الاجتماعي بين أبناء المجتمع الواحد ، ومن قبيل ذلك الوقف والكفارات بمختلف أنواعها ، وتعتبر الزكاة أول تشريع عرفته الإنسانية للضمان الاجتماعي لكل فئات المحتاجين ، وتعد من أهم مصادر الضمان الاجتماعي في المجتمع الاسلامي .</a:t>
            </a:r>
            <a:endParaRPr b="0" lang="en-US" sz="3000" spc="-1" strike="noStrike">
              <a:solidFill>
                <a:srgbClr val="000000"/>
              </a:solidFill>
              <a:latin typeface="Trebuchet MS"/>
            </a:endParaRPr>
          </a:p>
          <a:p>
            <a:pPr marL="237240" indent="-23724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7953480" cy="6858000"/>
          </a:xfrm>
          <a:prstGeom prst="rect">
            <a:avLst/>
          </a:prstGeom>
          <a:noFill/>
          <a:ln w="0">
            <a:noFill/>
          </a:ln>
        </p:spPr>
        <p:txBody>
          <a:bodyPr lIns="90000" rIns="90000" tIns="46800" bIns="46800" anchor="t">
            <a:normAutofit fontScale="82000"/>
          </a:bodyPr>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كما نجد أن أنظمة التأمينات والضمان الاجتماعي الوضعية تتفق في غاياتها مع مايقرره التشريع الإسلامي من التكافل الاجتماعي بين القادرين والعاجزين تحقيقا للتوجيه الإلهي من فعل الاإحسان والتعاون على البر والتقوى والتراحم بين الناس , ويمكن القول أن الشريعة الإسلامية تتميز عن أنظمة الضمان والتأمينات الاجتماعية بأنها لاتقتصر على تأمين أخطار معينة كالإصابات المهنية في مجال العمل والأمراض المهنية أو غير المهنية والعجز والبطالة والوفاة , بل تزيد بذلك على العمل على تلبية الحاجات الأساسية لمستحق الرعاية الاجتماعية أيا كان نوع الخطر الذي يتهدده وهو أمر يتفوق على ماوصلت إليه كل الأنظمة الوضعية .</a:t>
            </a:r>
            <a:endParaRPr b="0" lang="en-US" sz="2800" spc="-1" strike="noStrike">
              <a:solidFill>
                <a:srgbClr val="000000"/>
              </a:solidFill>
              <a:latin typeface="Trebuchet MS"/>
            </a:endParaRPr>
          </a:p>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Akhbar MT"/>
              </a:rPr>
              <a:t>وقد كانت المملكة العربية السعودية سباقة في تبني نظام مميز للحماية الاجتماعية والتضامن لاجتماعي يرتكز على تشريعين متكاملين ومستقلين في ذات الوقت يجمعان بين الـتامين الاجتماعي والمساعدات  الاجتماعية , ويتمثل أحدهما في نظام التأمينات الاجتماعية , ويتمثل الثاني في نظام الضمان الاجتماعي .</a:t>
            </a:r>
            <a:endParaRPr b="0" lang="en-US" sz="2600" spc="-1" strike="noStrike">
              <a:solidFill>
                <a:srgbClr val="000000"/>
              </a:solidFill>
              <a:latin typeface="Trebuchet MS"/>
            </a:endParaRPr>
          </a:p>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Akhbar MT"/>
              </a:rPr>
              <a:t>ومما لاشك فيه أن المملكة تنفرد بخصوصية نظامها القانوني المستمد من أحكام الشريعة الإسلامية , ونتيجة لذلك تمتد الرعاية الاجتماعية في المملكة إلى نطاق واسع شامل يعتمد في أساسه على روح التكافل في الإسلام .</a:t>
            </a:r>
            <a:endParaRPr b="0" lang="en-US" sz="2600" spc="-1" strike="noStrike">
              <a:solidFill>
                <a:srgbClr val="000000"/>
              </a:solidFill>
              <a:latin typeface="Trebuchet MS"/>
            </a:endParaRPr>
          </a:p>
          <a:p>
            <a:pPr marL="223560" indent="-22356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450720" y="23760"/>
            <a:ext cx="7255080" cy="144468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أولا : تعريف الضمان الاجتماع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ثانيا : أهداف الضمان الاجتماع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ثالثا :  سمات نظام الضمان الاجتماعي السعود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رابعا : المبادئ التي بني عليها نظام الضمان الاجتماعي السعودي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85480" y="213840"/>
            <a:ext cx="8443800" cy="6357960"/>
          </a:xfrm>
          <a:prstGeom prst="rect">
            <a:avLst/>
          </a:prstGeom>
          <a:noFill/>
          <a:ln w="0">
            <a:noFill/>
          </a:ln>
        </p:spPr>
        <p:txBody>
          <a:bodyPr lIns="90000" rIns="90000" tIns="46800" bIns="46800" anchor="t">
            <a:normAutofit/>
          </a:bodyPr>
          <a:p>
            <a:pPr marL="272880" indent="-272880" algn="ct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52f74"/>
                </a:solidFill>
                <a:latin typeface="Trebuchet MS"/>
                <a:cs typeface="Akhbar MT"/>
              </a:rPr>
              <a:t>أولا : تعريف الضمان الاجتماعي :</a:t>
            </a:r>
            <a:endParaRPr b="0" lang="en-US" sz="24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ea typeface="Akhbar MT"/>
              </a:rPr>
              <a:t>       حق كل مواطن في كفالة الدولة له ولمن يعول برعايتهم عند الحاجة . ويهدف الضمان الاجتماعي إلى مساعدة الأفراد بعائلاتهم بما يتلاءم مع حاجاتهم وظروفهم . </a:t>
            </a:r>
            <a:endParaRPr b="0" lang="en-US" sz="2400" spc="-1" strike="noStrike">
              <a:solidFill>
                <a:srgbClr val="000000"/>
              </a:solidFill>
              <a:latin typeface="Trebuchet MS"/>
            </a:endParaRPr>
          </a:p>
          <a:p>
            <a:pPr marL="272880" indent="-272880" algn="ct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52f74"/>
                </a:solidFill>
                <a:latin typeface="Trebuchet MS"/>
                <a:cs typeface="Akhbar MT"/>
              </a:rPr>
              <a:t>ثانيا : أهداف الضمان الاجتماعي :</a:t>
            </a:r>
            <a:endParaRPr b="0" lang="en-US" sz="24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231" name=""/>
          <p:cNvGraphicFramePr/>
          <p:nvPr/>
        </p:nvGraphicFramePr>
        <p:xfrm>
          <a:off x="214200" y="2071800"/>
          <a:ext cx="7786800" cy="4572000"/>
        </p:xfrm>
        <a:graphic>
          <a:graphicData uri="http://schemas.openxmlformats.org/drawingml/2006/table">
            <a:tbl>
              <a:tblPr/>
              <a:tblGrid>
                <a:gridCol w="7786800"/>
              </a:tblGrid>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تقديم الرعاية الاجتماعية الشاملة لكافة المواطنين , وذلك من خلال تحقيق مستوى دخل ثابت يفي بالمطالب الأساسية للمواط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254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السعي الدائم للقضاء على الفقر والحرمان والعوز , ومن ثم توفي الأمن الاقتصادي للمواط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ربط فلسفة الضمان الاجتماعي بسياسة التشغيل , ومحاولة توفير فرص عمل مناسبة , وذلك من خلال مراكز التدريب والتأهيل الاجتماعي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557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تحقيق التكافل الاجتماعي بين جميع فئات المجتمع , وتقديم مساعدة الضمان الاجتماعي باعتباره حقا طبيعيا ومكفولا لكافة الفئات المحتاجة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لعمل على تحقيق تكامل خدمات الضمان الاجتماعي بمختلف أهدافه , وتوافقهما مع وعادات المواطني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عنوان 1" descr=""/>
          <p:cNvPicPr/>
          <p:nvPr/>
        </p:nvPicPr>
        <p:blipFill>
          <a:blip r:embed="rId1"/>
          <a:stretch/>
        </p:blipFill>
        <p:spPr>
          <a:xfrm>
            <a:off x="420840" y="334800"/>
            <a:ext cx="7254720" cy="131796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lIns="90000" rIns="90000" tIns="46800" bIns="46800" anchor="t">
            <a:normAutofit fontScale="86000"/>
          </a:bodyPr>
          <a:p>
            <a:pPr marL="234360" indent="-2343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13f9a"/>
                </a:solidFill>
                <a:latin typeface="Trebuchet MS"/>
                <a:cs typeface="Akhbar MT"/>
              </a:rPr>
              <a:t>يتضمن النظام جانبين أساسين :</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6205"/>
                </a:solidFill>
                <a:latin typeface="Trebuchet MS"/>
                <a:cs typeface="Akhbar MT"/>
              </a:rPr>
              <a:t>ينظم الجانب الأول صرف الزكاة من خلال تخصيص معاشات دورية لغير القادرين على العمل من الفقراء وكبار السن والعجزة والأيتام والأرامل والمطلقات والفتيات التي لاعائل لهن </a:t>
            </a:r>
            <a:r>
              <a:rPr b="0" lang="ar-SA" sz="3200" spc="-1" strike="noStrike">
                <a:solidFill>
                  <a:srgbClr val="000000"/>
                </a:solidFill>
                <a:latin typeface="Trebuchet MS"/>
                <a:ea typeface="Akhbar MT"/>
              </a:rPr>
              <a:t>.</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6205"/>
                </a:solidFill>
                <a:latin typeface="Trebuchet MS"/>
                <a:cs typeface="Akhbar MT"/>
              </a:rPr>
              <a:t>يقوم الجانب الثاني  على تأهيل القادرين على العمل من الفقراء في أقسام مهنية تلحق بمكاتب الضمان الاجتماعي وذلك بقصد التأهيل على العمل في الصناعات اليدوية المنتشرة في المملكة . </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عنوان 1" descr=""/>
          <p:cNvPicPr/>
          <p:nvPr/>
        </p:nvPicPr>
        <p:blipFill>
          <a:blip r:embed="rId1"/>
          <a:stretch/>
        </p:blipFill>
        <p:spPr>
          <a:xfrm>
            <a:off x="420840" y="55440"/>
            <a:ext cx="7254720" cy="1949400"/>
          </a:xfrm>
          <a:prstGeom prst="rect">
            <a:avLst/>
          </a:prstGeom>
          <a:ln w="0">
            <a:noFill/>
          </a:ln>
        </p:spPr>
      </p:pic>
      <p:graphicFrame>
        <p:nvGraphicFramePr>
          <p:cNvPr id="235" name=""/>
          <p:cNvGraphicFramePr/>
          <p:nvPr/>
        </p:nvGraphicFramePr>
        <p:xfrm>
          <a:off x="357120" y="1785960"/>
          <a:ext cx="7572600" cy="4444920"/>
        </p:xfrm>
        <a:graphic>
          <a:graphicData uri="http://schemas.openxmlformats.org/drawingml/2006/table">
            <a:tbl>
              <a:tblPr/>
              <a:tblGrid>
                <a:gridCol w="7572600"/>
              </a:tblGrid>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اعتبار الفرد جزء من المجتمع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قوة المجتمع وسلامته تكمن في قوة وسلامة أفراد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يجب توفير فرص العمل المناسبة للقادرين علي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مد يد العون والمساعدة للعاجزين عن العمل وعدم تركهم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d3e7"/>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قديم الحد الأدنى من الدخل للفرد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أهيل العاجزين عن العمل مهنيا</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d3e7"/>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تخذ التدابير الضرورية لتنظيمه وتوفير الرعاية اللازمة لأفراد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09:57:04Z</dcterms:created>
  <dc:creator>Q</dc:creator>
  <dc:description/>
  <dc:language>en-US</dc:language>
  <cp:lastModifiedBy>eman</cp:lastModifiedBy>
  <dcterms:modified xsi:type="dcterms:W3CDTF">2016-10-08T11:31:50Z</dcterms:modified>
  <cp:revision>19</cp:revision>
  <dc:subject/>
  <dc:title>أحكام نظام الضمان الاجتماعي في المملكة العربية السعودية</dc:title>
</cp:coreProperties>
</file>