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A07-D0A8-48D9-935A-999EE1E5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21F-CB23-4D66-AC16-6BF0343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383-D0AF-4BCD-ACB9-AA736ADE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583-410E-4CC6-9FC3-54470534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BAC-B681-4C5A-9A0E-9515C748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F46-6CE7-43E3-893D-138C4AB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65D-76FA-459D-A9CF-AAAFB268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FBC-E267-4CBE-8B13-84FE4059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D86-FC95-4DAA-B9D1-2A6545F6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C73-269B-4D96-95AE-3068879B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193-0E2E-43CC-81B7-BFED58C5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9DA-D4A3-4667-81C0-4F1AB74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776D-0CA5-4426-8688-294E849C2B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ثار</a:t>
            </a: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لالتزام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تنفيذ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عين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ف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فقه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اسلامي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797040"/>
            <a:ext cx="78868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28560" y="142560"/>
            <a:ext cx="78868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قصود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اثا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ترتب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ي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نتائج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قانونية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جوب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تنفيذ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ص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نف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ختارا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لك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رف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طواعي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ف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لجأ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جبا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ينصب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ين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ؤد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ي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ز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جب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سم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اذ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ل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ك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فان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ت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ادا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تعوي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دل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جب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سم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مقاب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عوي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28560" y="76320"/>
            <a:ext cx="7886880" cy="61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حيث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يفي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قوع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جبري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قو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ان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حيث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ضم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لاد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يني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مقاب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عويض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ل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تخا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د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سائ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ه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نتيج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حتمي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ختيار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شك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ث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يض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سب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انقض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تنفيذ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عيني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941040"/>
            <a:ext cx="788688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غين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ب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ين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قد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و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جبا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جبر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ي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ك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رت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شأن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جع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جب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ان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بحس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ص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طال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ب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ح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دن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ولي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بيع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ا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ن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يكو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ل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جبر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بيع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قد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تمك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ول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ل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التزام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مدن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وتنفيذه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جبريا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789120"/>
            <a:ext cx="788688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كام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شتم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تصر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ه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اج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وف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ه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ح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قه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جبر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ظ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حر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الاص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واف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ص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مد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شك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سا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غا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سيل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ضم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تحقي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شتم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ق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جو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ناق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ذ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ق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وج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سم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طبيع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ك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صو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جو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ضم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بتداء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ستمرار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ذ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نش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دا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طبيعي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ك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تعه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ص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هذ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عه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مدني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3000" y="312480"/>
            <a:ext cx="78865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شروط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تنفيذ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التزام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مدن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تنفيذا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عينيا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جبريا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000080"/>
            <a:ext cx="78868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ك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يستطي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يلج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لالتز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دن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ب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تواف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شرو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ع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هنا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سن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تنفيذ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بي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يثب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حق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يع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سند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نفيذ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قضائ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حكمي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ف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نظ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حكي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عقو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محرر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رسم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وثق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عن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كات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عد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اورا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جار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محاض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صل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جه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ختص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قضائ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حكمي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اجنب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فالسند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نفيذ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تختص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لجو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لقضا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لحصو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حك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فيت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لجو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به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قاض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تفي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28560" y="96480"/>
            <a:ext cx="788688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حر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رسم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رق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يحر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وظ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خت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كات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عد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ينف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واسطت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حر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عرف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رق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يحر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وظ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خت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لك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ر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افرا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وقعو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لي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هن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ثبا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ح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للجو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قضا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ان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غي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ابل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بصدو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ك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ضائ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نهائ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صب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سن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اب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باش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اورا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جار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عتب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نظ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سندا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ابل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تت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د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لض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اج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جو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قضا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ل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و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ن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نظ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جو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ي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عذا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ب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لجو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قصو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لاعذا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جع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ال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أخ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زام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يكو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اغذا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نذار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ورق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رسم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عل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تض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دعوت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زام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دلي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خلف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زام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يتمك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جبار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28560" y="212400"/>
            <a:ext cx="788688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ثالث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رها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ذل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التال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***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قي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ذات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ل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ستحي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قي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ل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سنخال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رج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خط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ص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عين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ثا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هلا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شي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عد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نشو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تسلي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شي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ع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الذا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ستحيل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***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رهق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رهق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ح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ظ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ر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قيذ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قتص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ح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عويض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لك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يض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هم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صلح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ترت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يض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د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دائ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عل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واز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صي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ل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صي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28560" y="228240"/>
            <a:ext cx="788688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ل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(&gt;  )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كب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خ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حك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تعويض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ل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(&lt;=)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ق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ساو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ق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قاعد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اصل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يحك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وجو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جبري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تقدي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ذلك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سأل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ةضوع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تتوقف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ظروف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ح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ل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شترط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بائ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نشتر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عد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رتفا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با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حد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ع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خالف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شتر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ذلك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طل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بائ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هد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با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زائد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؛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رها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قص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ص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بظا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تعويض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نقد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كب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حيث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حيث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عقا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ملك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قيمت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تفو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قيم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با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ضاف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راد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هدمه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حك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ه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راب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ساس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حر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شخص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ستوج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تدخ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شخصي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ل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مك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غير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س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ه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ذلك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ندم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شخص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ح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عتبا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عم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؛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ث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رس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رس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وح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طبيب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معالج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ريض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9:39:18Z</dcterms:created>
  <dc:creator>Kingsoft Office</dc:creator>
  <dc:description/>
  <dc:language>en-US</dc:language>
  <cp:lastModifiedBy>eman</cp:lastModifiedBy>
  <dcterms:modified xsi:type="dcterms:W3CDTF">2016-10-22T08:15:10Z</dcterms:modified>
  <cp:revision>5</cp:revision>
  <dc:subject/>
  <dc:title>عرض تقديمي في PowerPoint</dc:title>
</cp:coreProperties>
</file>