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6F4-AE0E-4780-8259-E5B25185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A90-3771-4BCC-B2CF-B28E75D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E8F-6C63-4088-B56E-CCA9835C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D4C-580A-48A3-8926-A591A527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361-47F0-47FA-9961-19CFAC94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6A6-8A69-4914-B9A3-68C5329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BB2-3426-4D77-8574-FD4BEF7B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351-7F92-421C-8613-1DB90567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2B5-F37E-4331-95EC-526E846E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ADB-0FB9-4DB3-BE1C-C86C7205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B9A-0CE2-4563-9315-8F44DCC7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10C-9402-4EDC-93F8-BD6AB02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A020-12C3-47C0-AB10-60A0F076B91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ثار</a:t>
            </a: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لالتزام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تنفيذ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عيني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في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فقه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اسلامي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797040"/>
            <a:ext cx="78868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28560" y="142560"/>
            <a:ext cx="78868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قصود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اثا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ترتب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لي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نتائج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قانونية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ي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جوب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تنفيذ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ص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نف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ختارا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لك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رف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طواعية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فا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لجأ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جبا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ينصب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ذا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ين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ا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ؤدي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لي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ز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ختيار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جبر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سم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اذ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ل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ك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مكن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ذا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فان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ت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طري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زام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ادا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تعوي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دل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ختيار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جبر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يسمى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بمقاب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طري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600" spc="-1" strike="noStrike">
                <a:solidFill>
                  <a:srgbClr val="000000"/>
                </a:solidFill>
                <a:latin typeface="Calibri"/>
              </a:rPr>
              <a:t>التعويض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28560" y="76320"/>
            <a:ext cx="7886880" cy="61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حيث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كيفي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قوع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ختياري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جبري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قو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ان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حيث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مضم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لادا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يني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مقاب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طري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عويض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للدائ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تخا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د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سائ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وفا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ه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نتيج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حتمي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ختيار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شك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ث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يض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سب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انقضا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تنفيذ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عيني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8560" y="941040"/>
            <a:ext cx="788688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غين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ب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ذات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ين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قد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ختيار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و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فللدائ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جبا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ذات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جبر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ي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ك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متن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ختيار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رت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شأن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جع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جبر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ان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بحس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ص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لدائ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طال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ب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جبر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ح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ختيار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زام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مدن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ولي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زام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طبيع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فا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ن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تنفيذ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ختيار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فيكو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لدائ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طل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جبر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م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طبيعي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فقد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تمك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ول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للدائ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طل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500" spc="-1" strike="noStrike">
                <a:solidFill>
                  <a:srgbClr val="000000"/>
                </a:solidFill>
                <a:latin typeface="Calibri"/>
              </a:rPr>
              <a:t>الجبري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التزام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مدني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وتنفيذه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جبريا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789120"/>
            <a:ext cx="788688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ه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لكام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شتم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تصر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ون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لمسؤول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ون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ه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واج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الوف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سؤول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ه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ح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ال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قه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وفا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جبر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وفا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ختيار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متن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ظ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وفا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تحر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ثان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سؤو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الاص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تواف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يصي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مدن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شك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سا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لغا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ثان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سيل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لضما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تحقي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شتم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ق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ون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دو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جو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ثان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سؤول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ناق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هذ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ق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وج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يسمى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طبيع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لك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تصو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جو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يتضم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سؤول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دو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عنص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ون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بتداء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واستمرار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ذ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نش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داي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زام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طبيعي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لك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تعه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الوفا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فيصي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بهذ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عه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التزام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000" spc="-1" strike="noStrike">
                <a:solidFill>
                  <a:srgbClr val="000000"/>
                </a:solidFill>
                <a:latin typeface="Calibri"/>
              </a:rPr>
              <a:t>مدنيا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3000" y="312480"/>
            <a:ext cx="788652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شروط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تنفيذ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التزام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المدني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تنفيذا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عينيا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Calibri Light"/>
              </a:rPr>
              <a:t>جبريا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000080"/>
            <a:ext cx="78868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ك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يستطي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يلج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جبر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لالتز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مدن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ب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تواف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شرو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ع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شر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هنا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سن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تنفيذ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بي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يثب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حق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يع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سند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نفيذ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احك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قضائ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حك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محكمي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ف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نظ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حكي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لعقو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لمحرر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رسم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موثق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عن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كات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عد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لاورا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جار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محاض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صل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جه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ختص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لاحك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قضائ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واحكا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محكمي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اجنب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فالسند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نفيذي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تختص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طري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لجو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لقضا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للحصو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حك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فيت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لجو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به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قاض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التتفي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Calibri"/>
              </a:rPr>
              <a:t>مباش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28560" y="96480"/>
            <a:ext cx="788688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حر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رسم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رق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يحرر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وظ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خت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ه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كات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عد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فينف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واسطت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باشر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حر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عرف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رق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يحرر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وظ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خت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لك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حرر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افرا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وقعو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لي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هن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ثبا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ح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اللجو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قضا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ان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غي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ابل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باشر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فبصدو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حك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ضائ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نهائ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صب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سن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نفيذ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اب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باش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اورا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جار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عتبر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نظ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سندات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نفيذ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ابل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تت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د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لض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باشر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دو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حاج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جو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قضا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فله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و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ن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نظ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شر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ثان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جو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ي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اعذا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قب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لجو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جبر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قصو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الاعذا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جع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حال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أخ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زام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يكو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اغذا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انذار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بورق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رسمي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عل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تض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دعوت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زام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ودلي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خلف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نفي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زام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ليتمك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جبار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28560" y="212400"/>
            <a:ext cx="7886880" cy="59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شر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ثالث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مكن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د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رها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ذل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كالتال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***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مكن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قي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ذات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ل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ستحي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قي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لو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سنخال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رج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خط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ل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ص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عين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ثا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هلا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شي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عد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نشو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تسلي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شي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ع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الذا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ستحيل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****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رهق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مكن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يكو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رهق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ذ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ح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مظ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ضر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را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قيذ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يقتص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ح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عويض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لك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يض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تهم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مصلحة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ل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ترت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يضا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عد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ضر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للدائ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فعل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قاض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واز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ب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صي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والضر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يصيب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7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28560" y="228240"/>
            <a:ext cx="7886880" cy="59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ل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لح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(&gt;  )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كب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لخ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حك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اض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لتعويض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ل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لح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(&lt;=)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ق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ساو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لح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قض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اض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لقاعد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اصلي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يحك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وجو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جبري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تقدي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ذلك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سأل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ةضوعي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تتوقف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ظروف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ح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ل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شترط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بائع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لى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نشتر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عد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رتفاع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با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حد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ع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خالف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شتر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ذلك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طل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بائع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هد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با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زائد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؛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هد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رها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ل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قص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اص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ح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بظا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لتعويض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نقد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ضر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للدائ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كب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حيث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حيث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ك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عقا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ذ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ملكه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دائ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قيمته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تفو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قيم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با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ضاف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راد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هدمه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حك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اض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له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شرط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رابع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كو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عين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ه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ساس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حري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شخصي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ا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ستوج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تنفي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تدخ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شخصي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ل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مك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لغيره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قسا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ه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وذلك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عندما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يكو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شخص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مدين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ح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عتبا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في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التزا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عم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؛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ثل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لتزا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رسا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رسم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لوح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او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طبيبب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بمعالجة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AE" sz="2300" spc="-1" strike="noStrike">
                <a:solidFill>
                  <a:srgbClr val="000000"/>
                </a:solidFill>
                <a:latin typeface="Calibri"/>
              </a:rPr>
              <a:t>مريض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9:39:18Z</dcterms:created>
  <dc:creator>Kingsoft Office</dc:creator>
  <dc:description/>
  <dc:language>en-US</dc:language>
  <cp:lastModifiedBy>eman</cp:lastModifiedBy>
  <dcterms:modified xsi:type="dcterms:W3CDTF">2016-10-22T08:15:10Z</dcterms:modified>
  <cp:revision>5</cp:revision>
  <dc:subject/>
  <dc:title>عرض تقديمي في PowerPoint</dc:title>
</cp:coreProperties>
</file>