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3C8-B57D-4930-A0A1-4706C308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36A-5A49-4663-8E56-76A1408F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E33-F062-4CA7-B3D4-6F9B7FAC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75F-E627-4A2C-8046-C8080999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F2F9-E26A-45BF-A9FE-3561F62D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0EC2-8CC2-40F8-B707-821834C4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9125-D8BA-4FCF-9DE6-EE0909FA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04E7-CBD4-437A-B92C-0DB5A3A0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22A7-933F-4F38-A620-1668F2E3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C30F-CA3F-48FA-80F1-E0A73E39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27EA-B42A-4963-A292-280F2D97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3A1-22E5-4410-A8AF-3F2C65D3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61D8-6E28-4762-A978-AA51CB81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380F-AE7F-49ED-8807-84446C6F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AB2E-8466-4ABD-B774-C15E8E0C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D112-7C60-4115-9C59-E08A71F1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9FD0-66AA-4B43-94FD-B9CAEE40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3BD31-B42F-4989-B8D0-F0CDE491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484079-4EC9-4412-B562-FC0D78A7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D4988-430C-49E8-B621-5FF47235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DF9A6-78EC-4AF3-89BE-818508B6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77EB5-D373-460B-8C05-2F79DE59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448-2834-457D-9516-2D37CF40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DE418-C6D3-4863-8B48-CB6F8410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9346B-1569-442A-A774-970D6BA9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DCA81-FB65-4CA8-9917-66FC2BE4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6A028-2197-445B-BEE3-961492C0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48570-99AD-43FA-BB20-A0862D39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BCE5E-B5FE-4045-AB9D-9EA999B5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8C6CF-F3B0-4680-A34A-0598C2D8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0504E-2336-43E6-AA72-C8947889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4AB21E-B943-4559-88FA-07D8C497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FB323-9BC9-40B0-B422-16878E78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BD3-24B6-4E75-AEB1-C14910F2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9B9A09-FB01-45B3-B53E-D6D28CD3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342C4A-78C1-4D73-8C24-F11B349B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15013E-DE2B-4AB7-87E1-97D5C868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88EA66-1AB7-41CC-9E3C-89455E55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8BD4E7-22D2-4CA2-B289-912BC072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5DB9C-C91A-49EC-9AD8-B0F6301D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5FE57-AFDF-43DD-8742-2EF67868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C278A-458A-477C-B626-1EC099D2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70F62-E0B0-4061-AAE4-D4B85A16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333E8-F931-4004-B930-DE66B962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D87-F181-473F-ABED-48E4CEEC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1A341-BE4B-4B65-B65C-45F796B2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439C4-9F6E-46AE-8496-D0C5CE13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57D685-4789-409C-A343-874BA7C2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8D2360-5433-4714-BFFD-45442D4C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B3C303-C566-45D6-8301-3415AF5A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1CD85-DFE7-4246-8CD4-2BDC4B4F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2261F9-E1B9-40B0-9B02-B93BB791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25C11-22ED-458A-A63D-F33D0D31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05825-FFE8-41C6-8D71-67E710A8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EA527-DCC1-46AB-AFD6-36ABF980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EFB-2F9B-4DF3-ACC3-0315402C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D2AE9-0A2F-4BDB-BBA9-D4D24BDF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E0DBD-4CD6-429D-83E3-7E0B5DCD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ABECE-1209-456D-BB26-3496260D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EB0A3-72E6-43FC-8516-E0E7FC78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D44D4-8729-4485-8B78-6ED0E468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B3DB6-E085-4B96-B407-72D2C66B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C35A8-2347-4B1F-A703-3742548A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12056-1065-482B-99E9-450CF758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1A102-ACC8-4C04-88F0-B4FE5031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13F53-5E45-4C23-B701-F042ADEC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C8D-8B6E-4A83-B968-AAB714AB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72F70-671C-4B67-AE18-BA8888E7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3201C-EDAE-4C1E-8694-3929C91E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2DA1C-AE1B-4DEE-A511-992FB508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7E54E-4589-469D-881E-E6DC0971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394E2B-A90D-4BCD-A4A1-00E61D0A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56345B-EA53-4235-ACEE-769AB6F2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85E8E0-9343-46CF-B010-FFA5AEE7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C5D840-B878-4CA7-955C-67E04B69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6D41B-5EEF-4B83-8C28-BE763541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1774A5-DE0A-4C0C-8164-D4DBC3DE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830-E07E-49C0-BD09-90339809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AAF2D-A749-4A5C-BC69-3EF3310D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0BCDBF-9C4F-4E11-92BF-2B73C3F8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668D0-7F26-4BCF-8285-BFA05CCD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478187-9124-49DE-BB0D-B8358AD3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9DE43-C67D-4DD3-8203-54E65E58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4E875-8DEE-4EBC-A7BB-7A9CDF1C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F2E5F-8981-4C3F-A7C8-5390A003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AC7CE-624D-4BA4-B22D-2260159C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C58EA-A908-470D-9F66-24155ABB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2FA24-2BE3-40B3-998C-2526B65B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BC6-1E01-4AE0-9E74-C44B7BE7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AB297-6C76-406E-8E53-11F6F653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F04FA-E649-4DC9-B04C-8C0DD779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C3C5E-7B37-47C6-91C3-3C1091E3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3D96C-9FA3-4D5D-9EC5-35F0FBEB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CA266-49ED-4B87-A9F1-FAF05963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B8D2A-1C84-4ED0-A56B-2DC5D286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ED63F-CEE8-4AD4-8C1B-65DB2581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493D-46CC-400C-AD9A-9DC7127E226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مستطيل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مستطيل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5E0D-1815-45FF-B745-D087ED9004C2}" type="slidenum">
              <a:rPr b="1" lang="ar-SA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مستطيل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مستطيل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03F7-6E97-41D0-B209-76178B5EFA1F}" type="slidenum"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57EC-CBB6-4822-8ED1-9109EFE0010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7A4C-3CAE-4232-827B-0B1288EE87F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0F2C-7191-4B40-848C-21003C829146}" type="slidenum">
              <a:rPr b="1" lang="ar-SA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ستطيل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مستطيل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مستطيل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مستطيل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7BEF-F35B-4A12-9A4C-F57A2B5F9D67}" type="slidenum"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مستطيل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مستطيل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D5BE-6D4E-46AD-AC14-CD2FF69AFC0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7129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dc3"/>
                </a:solidFill>
                <a:latin typeface="Tw Cen MT"/>
              </a:rPr>
              <a:t>المطلب الثاني </a:t>
            </a:r>
            <a:br>
              <a:rPr sz="4400"/>
            </a:br>
            <a:r>
              <a:rPr b="0" lang="ar-SA" sz="4400" spc="-1" strike="noStrike">
                <a:solidFill>
                  <a:srgbClr val="ebddc3"/>
                </a:solidFill>
                <a:latin typeface="Tw Cen MT"/>
              </a:rPr>
              <a:t>أنواع الكفالة باعتبارها صيغتها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رسم تخطيطي 4" descr=""/>
          <p:cNvPicPr/>
          <p:nvPr/>
        </p:nvPicPr>
        <p:blipFill>
          <a:blip r:embed="rId1"/>
          <a:stretch/>
        </p:blipFill>
        <p:spPr>
          <a:xfrm>
            <a:off x="1792440" y="2487600"/>
            <a:ext cx="58147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3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-الكفالة المعجل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كون الكفالة معجلة إذا التزم الكفيل معجلاً بالوفاء بدين الأصيل المؤجل . فيصبح الكفيل ملتزماً بأجل سابق على أجل الدين الأصلي، سواء التزم بالوفاء حالاً أو مؤجلاً إلى أجل أقرب من أجل الد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و الكفالة المعجلة لا تعتبر باطلة في القانون إنما يؤجل التزام الكفيل المعجل إلى وقت استحقاق الدين على أساس القاعدة أنه لا يجوز أن يلتزم الكفيل بشروط أشد من المديم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4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-الكفالة المؤجل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يراد بتأجيل الكفالة أن يلتزم الكفيل في وقت لاحق لأجل الدين المضمون سواء الدين حالاً أو مؤجلاً إلى وقت أقرب من أجل الكفيل و يلتزم الدائن في هذه الحالة بمطالبة الكفيل من اجل الكفالة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في القانون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صح الكفالة المؤجلة من الناحية القانونية ، إذا كان أجل الكفيل أبعد من أجل المدين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في الفقه الإسلامي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يجوز انعقاد الضمان مؤجلاً، فإذا ضمن الكفيل الدين الحال إلى اجل ، لزمه هذا الأجل ، و تكون الكفالة حالة على المدين مؤجلة على الكفيل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7129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dc3"/>
                </a:solidFill>
                <a:latin typeface="Tw Cen MT"/>
              </a:rPr>
              <a:t>المطلب الرابع </a:t>
            </a:r>
            <a:br>
              <a:rPr sz="4400"/>
            </a:br>
            <a:r>
              <a:rPr b="0" lang="ar-SA" sz="4400" spc="-1" strike="noStrike">
                <a:solidFill>
                  <a:srgbClr val="ebddc3"/>
                </a:solidFill>
                <a:latin typeface="Tw Cen MT"/>
              </a:rPr>
              <a:t>أنواع الكفالة باعتبار محلها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79" name="رسم تخطيطي 4" descr=""/>
          <p:cNvPicPr/>
          <p:nvPr/>
        </p:nvPicPr>
        <p:blipFill>
          <a:blip r:embed="rId1"/>
          <a:stretch/>
        </p:blipFill>
        <p:spPr>
          <a:xfrm>
            <a:off x="1792440" y="2481120"/>
            <a:ext cx="5760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الفرع الاول: الكفالة المالية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ويعبر عنها في النظام السعودي بكفالة الغرم والاداء وهي على نوعين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كفالة دين: يلزم الكفيل بموجبها بأداء ما على الاصيل من دين: نقود او مثليات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كفالة عين: يلزم الكفيل بمقتضاها تسليم العين المضمونة اذا كانت قائمة او اداء قيمتها او مثلها اذا هلكت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كفالة الاعيان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اعيان ثلاثة انواع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عيان مضمونة بذاتها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عيان مضمونة بغيرها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عيان غير مضمون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الاعيان المضمونة بذاتها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هي التي تكون يد المدين عليها يد ضمان لا يد امانة بحيث يترتب على المدين بأدائها أي تسليمها مادامت قائمة او ضمان قيمتها الى صاحبها اذا هلكت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كالعين المغصوبة في يد الغاصب او المهر في يد الزوج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fc000"/>
                </a:solidFill>
                <a:latin typeface="Tw Cen MT"/>
              </a:rPr>
              <a:t>2</a:t>
            </a:r>
            <a:r>
              <a:rPr b="0" lang="ar-SA" sz="2900" spc="-1" strike="noStrike">
                <a:solidFill>
                  <a:srgbClr val="ffc000"/>
                </a:solidFill>
                <a:latin typeface="Tw Cen MT"/>
              </a:rPr>
              <a:t>.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كفالة الاعيان المضمونة بغيرها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كون الاعيان مضمونة بغيرها اذا وجد لها مقابل مضمونة به كالمرهون في يد المرتهن والمبيع في يد البائع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fc000"/>
                </a:solidFill>
                <a:latin typeface="Tw Cen MT"/>
              </a:rPr>
              <a:t>3</a:t>
            </a:r>
            <a:r>
              <a:rPr b="0" lang="ar-SA" sz="2900" spc="-1" strike="noStrike">
                <a:solidFill>
                  <a:srgbClr val="ffc000"/>
                </a:solidFill>
                <a:latin typeface="Tw Cen MT"/>
              </a:rPr>
              <a:t>.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كفالة الاعيان الغير مضمونة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هي الامانات في يد حائزها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كالمأجور و الوديعة والشركة والمضاربة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تجاهات الفقهية حول كفالة الاعيان غير المضمونة 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اتجاه يقول بجواز كفالة تسليم هذه الاعيان مادامت واجبة الرد على حائزها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ويذهب الفهة الحنفي الى جواز تسليم هذه الاعيان, الامانات بيد حائزها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واتجاه يقول بعدم صحة كفالة الاعيان غير المضمونة مطلقا أي سواء كانت واجبة الاداء كالمأجور او غير واجبة كالوديعة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ويقول به الفقة الحنبلي فلا تصح كفالة الاعيان الامانات بيد حائزها مطلقا سواء اكانت واجبة التسليم ام لا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فلا تصح الكفالة وفقا لهذا الرأي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1280" y="22050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عمل الطالبات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أضواء الدريس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سارة التمام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وف الزهران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- الكفالة المنجزة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هي الكفالة التي تدل صيغتها المنشئة لها على أنه , أريد إنشاؤها في الحال وترتيب آثارها فور تمامها دون أن تكون مرتبطة بشرط التعليق أو مضافة إلى المستقبل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وتجدر الملاحظة , هنا إلى أن صفة التنجيز في الكفالة , لا تتأثر بكون الدين المكفولة به مؤجلاً , فتنعقد الكفالة في هذه الحالة منجزة لكنها تتأجل إلى وقت حلول الدين , فتتقيد بصفته من الحلول والتأجيل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الفرع الاول: الكفالة المالية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ويعبر عنها في النظام السعودي بكفالة الغرم والاداء وهي على نوعين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كفالة دين: يلزم الكفيل بموجبها بأداء ما على الاصيل من دين: نقود او مثليات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كفالة عين: يلزم الكفيل بمقتضاها تسليم العين المضمونة اذا كانت قائمة او اداء قيمتها او مثلها اذا هلكت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1" lang="ar-SA" sz="2700" spc="-1" strike="noStrike">
                <a:solidFill>
                  <a:srgbClr val="000000"/>
                </a:solidFill>
                <a:latin typeface="Tw Cen MT"/>
              </a:rPr>
              <a:t>- الكفالة المعلقة على شرط 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قد تعلق الكفالة على شرط واقف أو على شرط فاسخ , من الناحية القانونية 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</a:rPr>
              <a:t>في الحالة الأولى : 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يعلق وجود الكفالة على وجود شيء آخر , كما لو علق الكفيل التزامه بضمان الثمن للمشتري على شرط واقف , هو استحقاق المبيع 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</a:rPr>
              <a:t>في الحالة الثانية : 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تعليق الكفالة على شرط فاسخ 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في هذه الحالة , يزول وجود الكفالة بعد قيامها بوجود شيء آخر من ذلك : لو علق الكفيل إلتزامه بالضمان على شرط فاسخ , هو أن يتصرف المدين بالقبض الذي أقترضه في الوجوه والأغراض التي حددها في العقد , فإذا لم يفعل يتحقق الشرط الفاسخ للكفالة , وتزول بأثر رجعي 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</a:rPr>
              <a:t>الفقه الإسلامي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يرى الحنابلة , في الرأي الراجح عندهم , ومعهم جمهور الشافعية والأمام محمد  من الحنفية , عدم جواز تعليق الكفالة – الضمان – على شرط تحت طائلة البطلان 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ويحتجون لذلك , أن الكفالة تثبت حقاً لآدمي معين , فلم يجز تعليق ثبوته على شرط , مالم يكن التعليق لسبب الحق أو مقتضى الضمان 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ولأن في تعليق الكفالة على شرط , تعليق الضمان بخطر , فلم يصح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73960" indent="-273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w Cen MT"/>
              </a:rPr>
              <a:t>3</a:t>
            </a:r>
            <a:r>
              <a:rPr b="1" lang="ar-SA" sz="2700" spc="-1" strike="noStrike">
                <a:solidFill>
                  <a:srgbClr val="000000"/>
                </a:solidFill>
                <a:latin typeface="Tw Cen MT"/>
              </a:rPr>
              <a:t>- الكفالة المقترنة بأجل مستقبل : أجل واقف أو فاسخ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w Cen MT"/>
              </a:rPr>
              <a:t>في القانون :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يذهب الفقه القانوني إلى جواز الكفالة المقترنة بأجل معين 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 وقد يقرن الكفيل التزامه بأجل واقف أو بأجل فاسخ 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w Cen MT"/>
              </a:rPr>
              <a:t>في الفقه الإسلامي 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تصح الكفالة المضافة إلى أجل مستقبل عند جمهور الفقهاء , فتنعقد في الحال , لكن الكفيل لا يطالب بالوفاء بالتزامه إلا عند تحقق الأجل 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w Cen MT"/>
              </a:rPr>
              <a:t>فالكفالة في الفقه الإسلامي , عقد تبرع دون عوض , محدد له أجل معلوم أو مجهول , لا يمنع من حصول مقصود الكفالة 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7129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bddc3"/>
                </a:solidFill>
                <a:latin typeface="Tw Cen MT"/>
              </a:rPr>
              <a:t>المطلب الثالث </a:t>
            </a:r>
            <a:br>
              <a:rPr sz="4000"/>
            </a:br>
            <a:r>
              <a:rPr b="0" lang="ar-SA" sz="4000" spc="-1" strike="noStrike">
                <a:solidFill>
                  <a:srgbClr val="ebddc3"/>
                </a:solidFill>
                <a:latin typeface="Tw Cen MT"/>
              </a:rPr>
              <a:t>أنواع الكفالة باعتبار ما يرد عليها من قيود و أوصاف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63" name="رسم تخطيطي 4" descr=""/>
          <p:cNvPicPr/>
          <p:nvPr/>
        </p:nvPicPr>
        <p:blipFill>
          <a:blip r:embed="rId1"/>
          <a:stretch/>
        </p:blipFill>
        <p:spPr>
          <a:xfrm>
            <a:off x="1828800" y="2487600"/>
            <a:ext cx="5797440" cy="3498840"/>
          </a:xfrm>
          <a:prstGeom prst="rect">
            <a:avLst/>
          </a:prstGeom>
          <a:ln w="0">
            <a:noFill/>
          </a:ln>
        </p:spPr>
      </p:pic>
      <p:sp>
        <p:nvSpPr>
          <p:cNvPr id="364" name="مربع نص 3"/>
          <p:cNvSpPr/>
          <p:nvPr/>
        </p:nvSpPr>
        <p:spPr>
          <a:xfrm>
            <a:off x="2101680" y="347508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الكفالة المؤجلة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- الكفالة المطلقة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هي الكفالة التي تكون صياغتها مطلقة من أي قيد . كقيد التأجيل و التعجيل و التأقيت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ويثبت الدين في هذه الكفالة في ذمة الكفيل بالصفة التي تثبت بها الدين في ذمة الأصيل ، لأن التزام الكفيل التزام تابع لالتزام الأصيل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- الكفالة المؤقتة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نعقد الكفالة المؤقتة في القانون إذا حدد الكفيل مسؤوليته في العقد بمدة محددة ينقضي التزامه بعد هذه المد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في الفقة الإسلامي 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يرى جمهور الفقهاء جواز توقيت الكفالة بنوعيها المالية و البدنية مع بعض الاختلاف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بالنسبة للكفالة المالية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ن السائد في الفقه الحنبلي عدم جواز توقيت الكفالة المالية و البدنية قياساً على شرط ، لأنه يثبت بها حق لآدمي مع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بالنسبة للكفالة البدنية ( كفالة حضورية)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يرى المتأخرون من فقهاء الحنابلة صحة الكفالة المؤقتة ، سواء كانت بإحضار من عليه الدين أو بإحضار من عليه غرم السرقة أو الد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15:38:50Z</dcterms:created>
  <dc:creator>XPS</dc:creator>
  <dc:description/>
  <dc:language>en-US</dc:language>
  <cp:lastModifiedBy>eman</cp:lastModifiedBy>
  <dcterms:modified xsi:type="dcterms:W3CDTF">2016-09-28T17:32:17Z</dcterms:modified>
  <cp:revision>8</cp:revision>
  <dc:subject/>
  <dc:title>المطلب الثاني  أنواع الكفالة باعتبارها صيغتها</dc:title>
</cp:coreProperties>
</file>