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5A3-C5B4-47EF-AF94-07296AE1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A8F-F1EB-4CF8-8C25-A3B65C83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823-C7D2-4276-9103-0C00D9FF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6E0-582B-4146-B372-853417E5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67E8-E6CA-42C2-81F6-1357B513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E03C-3A18-4363-A191-7645BDA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30D9-001F-4F26-B04C-3F639CF1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ECE-A3F8-473B-8E25-E1F9D0D5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ABE-D917-4513-A044-8CFFA1E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5CC-29D1-4364-90BC-D8455983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143-5897-43F1-8A8E-526FA86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2DB-0AC7-4FFA-83DA-BF0E2F5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A238-DF64-47B5-9680-68752CA4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8BE7-8C57-4882-B4A0-5AAFBAD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C07-8267-40E3-AD36-075D0BC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074-FA6E-4083-B4B8-2C80DA4E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F76-5F9A-44BD-8503-8E6C040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B83FF-839E-4DE8-9A79-542E8B9A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18205-D04A-4906-80DA-AF35F1F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040E1-D25D-4051-B8EA-5437B1B9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80256-A2B9-4F3A-9B02-5C2DF77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761DC-86E5-4D9A-A6BC-71AB516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3F7-FF38-4CE1-9D96-1D9BA8E6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12041-A633-417D-AC7D-EB0A12C0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BD433-B991-4FDC-B621-0A9BB9E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EBD3-F935-4407-B8D6-923CFD0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CA32A-D946-44B0-B844-5C8395A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764DD-FA97-49C3-9EA9-CC88076E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1A847-5A50-466F-946B-B6A85B13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0DB27-EBB6-4D56-A3A1-3A5ED6AF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A5BE4-6D18-4794-9668-CE8FC67F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D43CD-5E57-4164-AD6D-1D4E75F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54097-F049-4A0C-88B7-ED9BC71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8EB-532F-4423-9E87-20B7D23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69564-0496-470C-9502-E8D4FBB1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F4A55-613E-4822-A72A-733D990A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BF78D-2583-4839-B60D-3A52835A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F16A6-8D42-48F0-825E-0B59CCB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A61A0-E4F1-4D90-9A68-016FD9C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956DA-94C4-41D6-9384-D2A2780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B8A4E-EB0F-42D5-A846-898F318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08F07-2014-4F4D-9A26-7D7DA52B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3B5FE-410C-4812-AABA-0763D88A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6CB7C-3B2F-4183-B8A5-A4107249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798-31AE-450D-9E90-B283F2E4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AF2DC-710D-45CE-AC82-BEFD4227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6C768-0300-4DE6-AB19-DEF66CFB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2A3E0-6654-481E-B5EB-E3A62185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B19FB-8B8C-4AF9-AABB-704749A2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31EF6-F6A8-486C-9048-09107C9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F78E7-6E86-46A5-B739-D554FC2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B06C6-82F3-49BD-84E4-1FED525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DABA2-609C-4D79-87C7-AF69391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DE0C7-C44C-4B24-A315-8E56B60D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D47C5-6535-4613-83BB-E9143D3C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0C1-A0F4-4230-92E9-F297A99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BC16F-D3F3-4484-8423-6C44C053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92C9-024D-401C-8AE6-E936BE1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24F8-A403-4566-AD38-16EE9887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97421-DE5F-48A4-B19C-4747AFB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CC81-324F-4D3F-AED8-6EC5A0DD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A732-58EE-46BB-8EDC-4FBE745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8D59-7213-4880-A0D6-8D2DCA90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47FB-3E88-43C3-80AF-B699624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D7BD-1229-4F4D-9EDC-609FF83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3932-10BE-48A4-A128-E8E151C1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C18-73EF-4ECE-BF49-15E7FB2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AC2B-AF79-4435-9E22-2FDD9B07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F19B-12AF-4EFC-8A26-C436C1E0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61A2-809D-4741-B776-EFF5C933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7C5D6-14F6-46AB-B661-D352D6A0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C2A64-746E-4B11-BBCB-523465C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CDE6F-4762-4AF6-B6AD-538294B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8CEED-0043-47B5-8AE5-035DAC67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44799-5FE3-4BB1-9039-C65BEA8C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44494-6995-4A32-BA27-2CD282B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89EE9-3658-4FA2-AFB9-3F04357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998-A135-46E6-B2C5-592AC324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1E31D-B1D8-4D74-88BD-896F608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D6D8B-90F2-4A79-AD92-BA82D83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9764F-CF09-43E5-8CD0-5B48B09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33D11-218E-4FC6-B1BA-A69BE279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C482E-06A9-4C29-B5F0-489B48AA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C1A8E-B7DE-4941-A85C-6310DE20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610C-E393-4985-ABA9-A857EC41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C61A-92F1-4698-8BAA-E534978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6572F-B96C-4EB8-8706-F4A3446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CEECF-257E-4581-A18B-131453D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330-232C-42CD-8B8E-CEDF794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34452-6DA9-4B67-92FE-1075A54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F6F9-870E-45A1-8535-F62FB7C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DDA7B-9FEB-482B-92AA-CAB967D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E4AE3-44A2-4DF8-94CF-3F159CA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7D72F-8E18-46BF-AC55-D050061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71A5-EF33-4738-B500-79311B5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63160-D46F-4172-A5E9-760D1BBA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D11-3236-4893-ABB4-724B8D50891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مستطيل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مستطيل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E2B-2F79-44B8-BC6A-18DEFAAE76EA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مستطيل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مستطيل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FEED-22FF-4AB2-A3EF-71F606BE1025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E40-6E7A-4BEF-9312-71F903E7D10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FEF-0FE2-48D6-95A6-5DA6E74CA8B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521-9261-4A71-AFCD-D85DC42A5E3F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مستطيل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مستطيل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مستطيل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B94-1350-4ACD-813F-7505D64322DE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مستطيل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مستطيل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6609-69D9-42AB-80AD-BEAA2E37751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مطلب الثاني </a:t>
            </a:r>
            <a:br>
              <a:rPr sz="4400"/>
            </a:b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أنواع الكفالة باعتبارها صيغتها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رسم تخطيطي 4" descr=""/>
          <p:cNvPicPr/>
          <p:nvPr/>
        </p:nvPicPr>
        <p:blipFill>
          <a:blip r:embed="rId1"/>
          <a:stretch/>
        </p:blipFill>
        <p:spPr>
          <a:xfrm>
            <a:off x="1792440" y="2487600"/>
            <a:ext cx="5814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الكفالة المعجل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كون الكفالة معجلة إذا التزم الكفيل معجلاً بالوفاء بدين الأصيل المؤجل . فيصبح الكفيل ملتزماً بأجل سابق على أجل الدين الأصلي، سواء التزم بالوفاء حالاً أو مؤجلاً إلى أجل أقرب من أجل الد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 الكفالة المعجلة لا تعتبر باطلة في القانون إنما يؤجل التزام الكفيل المعجل إلى وقت استحقاق الدين على أساس القاعدة أنه لا يجوز أن يلتزم الكفيل بشروط أشد من المديم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الكفالة المؤجل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اد بتأجيل الكفالة أن يلتزم الكفيل في وقت لاحق لأجل الدين المضمون سواء الدين حالاً أو مؤجلاً إلى وقت أقرب من أجل الكفيل و يلتزم الدائن في هذه الحالة بمطالبة الكفيل من اجل الكفالة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قانون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صح الكفالة المؤجلة من الناحية القانونية ، إذا كان أجل الكفيل أبعد من أجل المدين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فقه الإسلام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جوز انعقاد الضمان مؤجلاً، فإذا ضمن الكفيل الدين الحال إلى اجل ، لزمه هذا الأجل ، و تكون الكفالة حالة على المدين مؤجلة على الكفيل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مطلب الرابع </a:t>
            </a:r>
            <a:br>
              <a:rPr sz="4400"/>
            </a:b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أنواع الكفالة باعتبار محلها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9" name="رسم تخطيطي 4" descr=""/>
          <p:cNvPicPr/>
          <p:nvPr/>
        </p:nvPicPr>
        <p:blipFill>
          <a:blip r:embed="rId1"/>
          <a:stretch/>
        </p:blipFill>
        <p:spPr>
          <a:xfrm>
            <a:off x="1792440" y="2481120"/>
            <a:ext cx="57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فرع الاول: الكفالة المال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ويعبر عنها في النظام السعودي بكفالة الغرم والاداء وهي على نوعين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دين: يلزم الكفيل بموجبها بأداء ما على الاصيل من دين: نقود او مثليا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عين: يلزم الكفيل بمقتضاها تسليم العين المضمونة اذا كانت قائمة او اداء قيمتها او مثل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عيان ثلاثة انواع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مضمونة بذاتها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مضمونة بغيرها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غير مضمون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اعيان المضمونة بذاتها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هي التي تكون يد المدين عليها يد ضمان لا يد امانة بحيث يترتب على المدين بأدائها أي تسليمها مادامت قائمة او ضمان قيمتها الى صاحب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العين المغصوبة في يد الغاصب او المهر في يد الزوج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2</a:t>
            </a: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.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 المضمونة بغيرها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كون الاعيان مضمونة بغيرها اذا وجد لها مقابل مضمونة به كالمرهون في يد المرتهن والمبيع في يد البائ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3</a:t>
            </a: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.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 الغير مضمون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امانات في يد حائز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المأجور و الوديعة والشركة والمضاربة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تجاهات الفقهية حول كفالة الاعيان غير المضمونة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تجاه يقول بجواز كفالة تسليم هذه الاعيان مادامت واجبة الرد على حائزها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يذهب الفهة الحنفي الى جواز تسليم هذه الاعيان, الامانات بيد حائزها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اتجاه يقول بعدم صحة كفالة الاعيان غير المضمونة مطلقا أي سواء كانت واجبة الاداء كالمأجور او غير واجبة كالوديعة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يقول به الفقة الحنبلي فلا تصح كفالة الاعيان الامانات بيد حائزها مطلقا سواء اكانت واجبة التسليم ام لا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فلا تصح الكفالة وفقا لهذا الرأي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1280" y="2205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مل الطالب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أضواء الدريس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سارة التمام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وف الزهران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نجز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كفالة التي تدل صيغتها المنشئة لها على أنه , أريد إنشاؤها في الحال وترتيب آثارها فور تمامها دون أن تكون مرتبطة بشرط التعليق أو مضافة إلى المستقبل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تجدر الملاحظة , هنا إلى أن صفة التنجيز في الكفالة , لا تتأثر بكون الدين المكفولة به مؤجلاً , فتنعقد الكفالة في هذه الحالة منجزة لكنها تتأجل إلى وقت حلول الدين , فتتقيد بصفته من الحلول والتأجيل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فرع الاول: الكفالة المال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ويعبر عنها في النظام السعودي بكفالة الغرم والاداء وهي على نوعين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دين: يلزم الكفيل بموجبها بأداء ما على الاصيل من دين: نقود او مثليا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عين: يلزم الكفيل بمقتضاها تسليم العين المضمونة اذا كانت قائمة او اداء قيمتها او مثل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- الكفالة المعلقة على شرط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قد تعلق الكفالة على شرط واقف أو على شرط فاسخ , من الناحية القانونية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في الحالة الأولى :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علق وجود الكفالة على وجود شيء آخر , كما لو علق الكفيل التزامه بضمان الثمن للمشتري على شرط واقف , هو استحقاق المبيع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في الحالة الثانية :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عليق الكفالة على شرط فاسخ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في هذه الحالة , يزول وجود الكفالة بعد قيامها بوجود شيء آخر من ذلك : لو علق الكفيل إلتزامه بالضمان على شرط فاسخ , هو أن يتصرف المدين بالقبض الذي أقترضه في الوجوه والأغراض التي حددها في العقد , فإذا لم يفعل يتحقق الشرط الفاسخ للكفالة , وتزول بأثر رجعي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</a:rPr>
              <a:t>الفقه الإسلامي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رى الحنابلة , في الرأي الراجح عندهم , ومعهم جمهور الشافعية والأمام محمد  من الحنفية , عدم جواز تعليق الكفالة – الضمان – على شرط تحت طائلة البطلان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ويحتجون لذلك , أن الكفالة تثبت حقاً لآدمي معين , فلم يجز تعليق ثبوته على شرط , مالم يكن التعليق لسبب الحق أو مقتضى الضمان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ولأن في تعليق الكفالة على شرط , تعليق الضمان بخطر , فلم يصح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- الكفالة المقترنة بأجل مستقبل : أجل واقف أو فاسخ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في القانون 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يذهب الفقه القانوني إلى جواز الكفالة المقترنة بأجل معين 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 وقد يقرن الكفيل التزامه بأجل واقف أو بأجل فاسخ 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في الفقه الإسلامي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صح الكفالة المضافة إلى أجل مستقبل عند جمهور الفقهاء , فتنعقد في الحال , لكن الكفيل لا يطالب بالوفاء بالتزامه إلا عند تحقق الأجل 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فالكفالة في الفقه الإسلامي , عقد تبرع دون عوض , محدد له أجل معلوم أو مجهول , لا يمنع من حصول مقصود الكفالة 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dc3"/>
                </a:solidFill>
                <a:latin typeface="Tw Cen MT"/>
              </a:rPr>
              <a:t>المطلب الثالث </a:t>
            </a:r>
            <a:br>
              <a:rPr sz="4000"/>
            </a:br>
            <a:r>
              <a:rPr b="0" lang="ar-SA" sz="4000" spc="-1" strike="noStrike">
                <a:solidFill>
                  <a:srgbClr val="ebddc3"/>
                </a:solidFill>
                <a:latin typeface="Tw Cen MT"/>
              </a:rPr>
              <a:t>أنواع الكفالة باعتبار ما يرد عليها من قيود و أوصاف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3" name="رسم تخطيطي 4" descr=""/>
          <p:cNvPicPr/>
          <p:nvPr/>
        </p:nvPicPr>
        <p:blipFill>
          <a:blip r:embed="rId1"/>
          <a:stretch/>
        </p:blipFill>
        <p:spPr>
          <a:xfrm>
            <a:off x="1828800" y="2487600"/>
            <a:ext cx="5797440" cy="3498840"/>
          </a:xfrm>
          <a:prstGeom prst="rect">
            <a:avLst/>
          </a:prstGeom>
          <a:ln w="0">
            <a:noFill/>
          </a:ln>
        </p:spPr>
      </p:pic>
      <p:sp>
        <p:nvSpPr>
          <p:cNvPr id="364" name="مربع نص 3"/>
          <p:cNvSpPr/>
          <p:nvPr/>
        </p:nvSpPr>
        <p:spPr>
          <a:xfrm>
            <a:off x="2101680" y="34750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الكفالة المؤجل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طلق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كفالة التي تكون صياغتها مطلقة من أي قيد . كقيد التأجيل و التعجيل و التأقيت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يثبت الدين في هذه الكفالة في ذمة الكفيل بالصفة التي تثبت بها الدين في ذمة الأصيل ، لأن التزام الكفيل التزام تابع لالتزام الأصيل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ؤقت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نعقد الكفالة المؤقتة في القانون إذا حدد الكفيل مسؤوليته في العقد بمدة محددة ينقضي التزامه بعد هذه المد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فقة الإسلامي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ى جمهور الفقهاء جواز توقيت الكفالة بنوعيها المالية و البدنية مع بعض الاختلاف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النسبة للكفالة المالي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ن السائد في الفقه الحنبلي عدم جواز توقيت الكفالة المالية و البدنية قياساً على شرط ، لأنه يثبت بها حق لآدمي مع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النسبة للكفالة البدنية ( كفالة حضورية)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ى المتأخرون من فقهاء الحنابلة صحة الكفالة المؤقتة ، سواء كانت بإحضار من عليه الدين أو بإحضار من عليه غرم السرقة أو الد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5:38:50Z</dcterms:created>
  <dc:creator>XPS</dc:creator>
  <dc:description/>
  <dc:language>en-US</dc:language>
  <cp:lastModifiedBy>eman</cp:lastModifiedBy>
  <dcterms:modified xsi:type="dcterms:W3CDTF">2016-09-28T17:32:17Z</dcterms:modified>
  <cp:revision>8</cp:revision>
  <dc:subject/>
  <dc:title>المطلب الثاني  أنواع الكفالة باعتبارها صيغتها</dc:title>
</cp:coreProperties>
</file>