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45E73A-F9EC-470C-A2FD-AB6A37E19A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8292D-D477-41F6-9854-D6F8F7C8B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E0F769-4454-4944-9999-858E432E88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22E4B5-8BE7-41C8-B352-064A17B947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4C1ED2-EDAA-4062-8E1D-D16D79DBCE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9D5D4C-8110-405A-B042-360FBDAE06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1613DD-948E-4377-974F-8B07630221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7B4EEC-EB6F-432B-AE64-12865900CC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2B84DD-6D90-49EE-BB6A-04B4F11288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4B3B1F-ADD9-48B4-A923-B479C5D9C9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C87C1-D0D6-4B60-9398-7E97806D81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F24EE-8CB5-4EB6-A928-FC5E4F73B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45E239-DA6A-4B67-8759-CCD4D3BCE6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EC380-3495-4979-9EF9-91B6DE47F8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5AF310-0C64-456F-A5BE-9447819A98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3EE8D5-853E-4F66-AB7B-A345B8E891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6D90E4-F317-418C-B8FA-3F60BFF944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68CDF6-30DC-4A75-9030-039B00EB7D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19E365-5CC4-4B50-948E-8992439FA4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73943B-A4C8-4D62-97F9-9B8EFB7ABC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3EF5D4-EF6F-4315-AA3A-E2E94F59B0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2BB1A9-D763-49CE-960F-753713A655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D42C1-A1FA-43AF-8A59-541FEC4F1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B950DA-B34C-4E85-A007-0D6492D27A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DFC842-D30A-4349-BBCF-126CAA81B4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8C3DC0-0DD9-41CD-B693-2CA9BF6D2D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20F68B-ECE2-4801-A9B7-F6015377DC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CC274C-8B58-4DCC-B1B0-F70120AF96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B11606-F79E-4850-96A0-1B15A2B688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176FB8-F7F4-4430-B577-BC205879FE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A31638-EB59-4B58-A929-8B781DF745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AFD437-6D37-4B94-987E-DF58F1B0E7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6B1DE2-3135-4D81-961C-5144B5A356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95FF5-A531-4E96-941F-C4FBA96E8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221214-4C27-4F0A-B222-A48774E92D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63E68A-2D81-4C81-A47B-9ED9D389B6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07CD72-2FE5-4109-A22A-3EA8CF6C77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A73E3D-4837-4A57-A611-976FC65AEA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5A7305-F9F8-4EEF-9403-3ACF59683B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3AF7B2-E64E-4A23-A469-AB7336A262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18EFD4-6812-48C9-A8D3-B63708A6A1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1ADD34-239C-4913-87A8-66DECA3A9D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99C086-FD7F-4B4E-8B96-324F858B03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CA4533E-0EBD-453A-8EB0-023D6CA530E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11CF0-A76E-4E0D-89F0-34E8F67C1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21CD0F-BF06-4397-8A56-3CA96AB6B0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95267C-82E6-4377-AB4A-1BC64D0F3F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6878FB-47D4-4A05-8B16-6E50407CF1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9980DB-1098-4BBF-BB9F-9CACB4997B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3E8BB3-13BD-48E9-BFDD-905A7A9D83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52FF48-03BA-4BD8-BDCD-7739DF2619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057951-53FC-4644-A8E1-BC7232C132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38D28D-0B54-4563-805D-C1DA8E7F8F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2F472F-FE9C-4C57-A3AD-0842950103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821B7A-2723-4CA2-B733-7225B8FABA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EEA05-449D-490F-884F-ADE79E3F5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194C5B1-E477-4060-AA1E-9CFC561DA7D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C6B05-3785-44E7-BD92-4F3CD79FA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A5B0B-4AD5-4044-90CD-14FADCF2E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21DCB-5711-4549-9A02-EC6395298C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5051520"/>
            <a:ext cx="3575160" cy="180648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Freeform 7"/>
          <p:cNvSpPr/>
          <p:nvPr/>
        </p:nvSpPr>
        <p:spPr>
          <a:xfrm>
            <a:off x="-1440" y="5051520"/>
            <a:ext cx="9145440" cy="180648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lgn="r" rtl="1">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lgn="r" rtl="1">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 name="PlaceHolder 3"/>
          <p:cNvSpPr>
            <a:spLocks noGrp="1"/>
          </p:cNvSpPr>
          <p:nvPr>
            <p:ph type="dt" idx="1"/>
          </p:nvPr>
        </p:nvSpPr>
        <p:spPr>
          <a:xfrm rot="19140000">
            <a:off x="201600" y="5870520"/>
            <a:ext cx="2176560" cy="20160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Franklin Gothic Book"/>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Franklin Gothic Book"/>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Franklin Gothic Book"/>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D4D0F-3EBA-4F9D-A90F-31969F7787DD}" type="slidenum">
              <a:rPr b="0" lang="ar-SA" sz="1600" spc="-1" strike="noStrike">
                <a:solidFill>
                  <a:srgbClr val="ffffff"/>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Freeform 9"/>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lgn="r" rtl="1">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lgn="r" rtl="1">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7" name="PlaceHolder 3"/>
          <p:cNvSpPr>
            <a:spLocks noGrp="1"/>
          </p:cNvSpPr>
          <p:nvPr>
            <p:ph type="dt" idx="4"/>
          </p:nvPr>
        </p:nvSpPr>
        <p:spPr>
          <a:xfrm rot="19140000">
            <a:off x="201600" y="5870520"/>
            <a:ext cx="2176560" cy="20160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Franklin Gothic Book"/>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Franklin Gothic Book"/>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Franklin Gothic Book"/>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E5F5F-7783-4996-9455-DF739BDC3443}" type="slidenum">
              <a:rPr b="0" lang="ar-SA" sz="1600" spc="-1" strike="noStrike">
                <a:solidFill>
                  <a:srgbClr val="ffffff"/>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8"/>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Right Triangle 9"/>
          <p:cNvSpPr/>
          <p:nvPr/>
        </p:nvSpPr>
        <p:spPr>
          <a:xfrm>
            <a:off x="0" y="2647800"/>
            <a:ext cx="3571920" cy="421020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lgn="r" rtl="1">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lgn="r" rtl="1">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90" name="PlaceHolder 3"/>
          <p:cNvSpPr>
            <a:spLocks noGrp="1"/>
          </p:cNvSpPr>
          <p:nvPr>
            <p:ph type="dt" idx="7"/>
          </p:nvPr>
        </p:nvSpPr>
        <p:spPr>
          <a:xfrm rot="19140000">
            <a:off x="201600" y="5870520"/>
            <a:ext cx="2176560" cy="20160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Franklin Gothic Book"/>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Franklin Gothic Book"/>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Franklin Gothic Book"/>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4F68E-7BA1-4181-A7D3-6D0AD375A079}" type="slidenum">
              <a:rPr b="0" lang="ar-SA" sz="1600" spc="-1" strike="noStrike">
                <a:solidFill>
                  <a:srgbClr val="ffffff"/>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ight Triangle 9"/>
          <p:cNvSpPr/>
          <p:nvPr/>
        </p:nvSpPr>
        <p:spPr>
          <a:xfrm rot="5400000">
            <a:off x="433440" y="-433440"/>
            <a:ext cx="6858000" cy="772488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lgn="r" rtl="1">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lgn="r" rtl="1">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33" name="PlaceHolder 3"/>
          <p:cNvSpPr>
            <a:spLocks noGrp="1"/>
          </p:cNvSpPr>
          <p:nvPr>
            <p:ph type="dt" idx="10"/>
          </p:nvPr>
        </p:nvSpPr>
        <p:spPr>
          <a:xfrm rot="19140000">
            <a:off x="201600" y="5870520"/>
            <a:ext cx="2176560" cy="20160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Franklin Gothic Book"/>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Franklin Gothic Book"/>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5"/>
          <p:cNvSpPr>
            <a:spLocks noGrp="1"/>
          </p:cNvSpPr>
          <p:nvPr>
            <p:ph type="sldNum" idx="12"/>
          </p:nvPr>
        </p:nvSpPr>
        <p:spPr>
          <a:xfrm>
            <a:off x="8474400" y="6243840"/>
            <a:ext cx="356400" cy="356040"/>
          </a:xfrm>
          <a:prstGeom prst="rect">
            <a:avLst/>
          </a:prstGeom>
          <a:noFill/>
          <a:ln w="19080">
            <a:solidFill>
              <a:srgbClr val="434342"/>
            </a:solidFill>
            <a:miter/>
          </a:ln>
        </p:spPr>
        <p:txBody>
          <a:bodyPr lIns="9000" rIns="9000" tIns="9000" bIns="90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434342"/>
                </a:solidFill>
                <a:latin typeface="Franklin Gothic Book"/>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B4577-47C3-469C-A4B8-D9161271E492}" type="slidenum">
              <a:rPr b="0" lang="ar-SA" sz="1600" spc="-1" strike="noStrike">
                <a:solidFill>
                  <a:srgbClr val="434342"/>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9"/>
          <p:cNvSpPr/>
          <p:nvPr/>
        </p:nvSpPr>
        <p:spPr>
          <a:xfrm>
            <a:off x="0" y="5048280"/>
            <a:ext cx="3571920" cy="1809720"/>
          </a:xfrm>
          <a:custGeom>
            <a:avLst/>
            <a:gdLst/>
            <a:ahLst/>
            <a:rect l="l" t="t" r="r" b="b"/>
            <a:pathLst>
              <a:path w="3571875" h="1809750">
                <a:moveTo>
                  <a:pt x="0" y="1809750"/>
                </a:moveTo>
                <a:lnTo>
                  <a:pt x="2038350" y="0"/>
                </a:lnTo>
                <a:lnTo>
                  <a:pt x="3571875" y="1809750"/>
                </a:lnTo>
                <a:lnTo>
                  <a:pt x="0" y="1809750"/>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lgn="r" rtl="1">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lgn="r" rtl="1">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76" name="PlaceHolder 3"/>
          <p:cNvSpPr>
            <a:spLocks noGrp="1"/>
          </p:cNvSpPr>
          <p:nvPr>
            <p:ph type="dt" idx="13"/>
          </p:nvPr>
        </p:nvSpPr>
        <p:spPr>
          <a:xfrm rot="19140000">
            <a:off x="201600" y="5870520"/>
            <a:ext cx="2176560" cy="20160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Franklin Gothic Book"/>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Franklin Gothic Book"/>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Franklin Gothic Book"/>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38FA4-E2E3-4D56-8842-44FD459DFC3E}" type="slidenum">
              <a:rPr b="0" lang="ar-SA" sz="1600" spc="-1" strike="noStrike">
                <a:solidFill>
                  <a:srgbClr val="ffffff"/>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صورة 1" descr="images (7).jpg"/>
          <p:cNvPicPr/>
          <p:nvPr/>
        </p:nvPicPr>
        <p:blipFill>
          <a:blip r:embed="rId1"/>
          <a:stretch/>
        </p:blipFill>
        <p:spPr>
          <a:xfrm>
            <a:off x="0" y="0"/>
            <a:ext cx="9144000" cy="6858000"/>
          </a:xfrm>
          <a:prstGeom prst="rect">
            <a:avLst/>
          </a:prstGeom>
          <a:ln w="0">
            <a:noFill/>
          </a:ln>
        </p:spPr>
      </p:pic>
      <p:sp>
        <p:nvSpPr>
          <p:cNvPr id="216" name="مربع نص 2"/>
          <p:cNvSpPr/>
          <p:nvPr/>
        </p:nvSpPr>
        <p:spPr>
          <a:xfrm>
            <a:off x="1981080" y="1828800"/>
            <a:ext cx="4876920" cy="39333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Franklin Gothic Book"/>
              </a:rPr>
              <a:t>النظام القانوني للتأمينات والضمان الأجتماعي في المملكة العربية السعودية . </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Franklin Gothic Book"/>
              </a:rPr>
              <a:t>أ. أيمان الشلول </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Franklin Gothic Book"/>
              </a:rPr>
              <a:t>_ حنين الحميد </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Franklin Gothic Book"/>
              </a:rPr>
              <a:t>_ الهنوف الشريدي </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Franklin Gothic Book"/>
              </a:rPr>
              <a:t>_ مها اليوسف </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Franklin Gothic Book"/>
              </a:rPr>
              <a:t>_ العنود تركي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rot="19140000">
            <a:off x="784080" y="1576080"/>
            <a:ext cx="5213520" cy="1089000"/>
          </a:xfrm>
          <a:prstGeom prst="rect">
            <a:avLst/>
          </a:prstGeom>
          <a:noFill/>
          <a:ln w="0">
            <a:noFill/>
          </a:ln>
        </p:spPr>
        <p:txBody>
          <a:bodyPr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Franklin Gothic Medium"/>
              </a:rPr>
              <a:t>نقد ذلك الرأي .. </a:t>
            </a:r>
            <a:endParaRPr b="0" lang="en-US" sz="4400" spc="-1" strike="noStrike">
              <a:solidFill>
                <a:srgbClr val="000000"/>
              </a:solidFill>
              <a:latin typeface="Franklin Gothic Medium"/>
            </a:endParaRPr>
          </a:p>
        </p:txBody>
      </p:sp>
      <p:sp>
        <p:nvSpPr>
          <p:cNvPr id="235" name=""/>
          <p:cNvSpPr txBox="1"/>
          <p:nvPr/>
        </p:nvSpPr>
        <p:spPr>
          <a:xfrm>
            <a:off x="4114800" y="1980720"/>
            <a:ext cx="4441680" cy="3962520"/>
          </a:xfrm>
          <a:prstGeom prst="rect">
            <a:avLst/>
          </a:prstGeom>
          <a:noFill/>
          <a:ln w="0">
            <a:noFill/>
          </a:ln>
        </p:spPr>
        <p:txBody>
          <a:bodyPr anchor="t">
            <a:normAutofit fontScale="90000"/>
          </a:bodyPr>
          <a:p>
            <a:pPr marL="308520" indent="-30852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Franklin Gothic Book"/>
            </a:endParaRPr>
          </a:p>
          <a:p>
            <a:pPr marL="308520" indent="-30852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Franklin Gothic Book"/>
              </a:rPr>
              <a:t>1</a:t>
            </a:r>
            <a:r>
              <a:rPr b="1" lang="ar-SA" sz="2200" spc="-1" strike="noStrike">
                <a:solidFill>
                  <a:srgbClr val="000000"/>
                </a:solidFill>
                <a:latin typeface="Franklin Gothic Book"/>
              </a:rPr>
              <a:t>) </a:t>
            </a:r>
            <a:r>
              <a:rPr b="1" lang="ar-SA" sz="2200" spc="-1" strike="noStrike">
                <a:solidFill>
                  <a:srgbClr val="002060"/>
                </a:solidFill>
                <a:latin typeface="Franklin Gothic Book"/>
              </a:rPr>
              <a:t>انه لا يحدد فكرة الخطر الاجتماعي بدقة بل يتركها مطلقه بل جعل مفهوم الخطر الاجتماعي مفهوم اقتصادي اكثر منه مفهوم اجتماعي .</a:t>
            </a:r>
            <a:endParaRPr b="1" lang="en-US" sz="2200" spc="-1" strike="noStrike">
              <a:solidFill>
                <a:srgbClr val="000000"/>
              </a:solidFill>
              <a:latin typeface="Franklin Gothic Book"/>
            </a:endParaRPr>
          </a:p>
          <a:p>
            <a:pPr marL="308520" indent="-30852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00000"/>
                </a:solidFill>
                <a:latin typeface="Franklin Gothic Book"/>
              </a:rPr>
              <a:t>2</a:t>
            </a:r>
            <a:r>
              <a:rPr b="1" lang="ar-SA" sz="2200" spc="-1" strike="noStrike">
                <a:solidFill>
                  <a:srgbClr val="c00000"/>
                </a:solidFill>
                <a:latin typeface="Franklin Gothic Book"/>
              </a:rPr>
              <a:t>)انظمة التأمينات الاجتماعية لا تواجه سوى بعض الاخطار التي تؤثر على الذمة المالية للأفراد مثل الشيخوخة والعجز ولا تغطي اخطارا أخرى مثل الحروب .</a:t>
            </a:r>
            <a:endParaRPr b="1" lang="en-US" sz="2200" spc="-1" strike="noStrike">
              <a:solidFill>
                <a:srgbClr val="000000"/>
              </a:solidFill>
              <a:latin typeface="Franklin Gothic Book"/>
            </a:endParaRPr>
          </a:p>
          <a:p>
            <a:pPr marL="308520" indent="-30852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Franklin Gothic Book"/>
              </a:rPr>
              <a:t>3</a:t>
            </a:r>
            <a:r>
              <a:rPr b="1" lang="ar-SA" sz="2200" spc="-1" strike="noStrike">
                <a:solidFill>
                  <a:srgbClr val="000000"/>
                </a:solidFill>
                <a:latin typeface="Franklin Gothic Book"/>
              </a:rPr>
              <a:t>) </a:t>
            </a:r>
            <a:r>
              <a:rPr b="1" lang="ar-SA" sz="2200" spc="-1" strike="noStrike">
                <a:solidFill>
                  <a:srgbClr val="002060"/>
                </a:solidFill>
                <a:latin typeface="Franklin Gothic Book"/>
              </a:rPr>
              <a:t>قد يؤدي الى الخلط بين التأمينات الاجتماعية والسياسة الاجتماعية رغم استقلالية كل منهما.</a:t>
            </a:r>
            <a:endParaRPr b="1" lang="en-US" sz="2200" spc="-1" strike="noStrike">
              <a:solidFill>
                <a:srgbClr val="000000"/>
              </a:solidFill>
              <a:latin typeface="Franklin Gothic Book"/>
            </a:endParaRPr>
          </a:p>
          <a:p>
            <a:pPr marL="308520" indent="-30852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Franklin Gothic Book"/>
            </a:endParaRPr>
          </a:p>
        </p:txBody>
      </p:sp>
      <p:sp>
        <p:nvSpPr>
          <p:cNvPr id="236" name="PlaceHolder 2"/>
          <p:cNvSpPr>
            <a:spLocks noGrp="1"/>
          </p:cNvSpPr>
          <p:nvPr>
            <p:ph/>
          </p:nvPr>
        </p:nvSpPr>
        <p:spPr>
          <a:xfrm>
            <a:off x="1298520" y="2252160"/>
            <a:ext cx="5794560" cy="6238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مربع نص 1"/>
          <p:cNvSpPr/>
          <p:nvPr/>
        </p:nvSpPr>
        <p:spPr>
          <a:xfrm>
            <a:off x="304920" y="152280"/>
            <a:ext cx="8305560" cy="8140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a4b05"/>
                </a:solidFill>
                <a:latin typeface="Franklin Gothic Book"/>
              </a:rPr>
              <a:t>الرأي الرابع: تعريف الخطر الإجتماعي بالنظر الى مضمونه:</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rPr>
              <a:t>من الصعوبة وضع تعريف جامع لفكرة الخطر الاجتماعي للتلازم بين الحياة الاقتصادية والاجتماعية للانسان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rPr>
              <a:t>وبالتالي من استقراء انظمة التأمينات الاجتماعية الوضعية نجد تعريف للخطر بأنه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Franklin Gothic Book"/>
              </a:rPr>
              <a:t>كل حدث او ظرف يؤدي الى فقد العمل او التوقف عنه بصورة مؤقته او دائمة او يؤدي الى نقص قدرة الانسان على العمل</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Franklin Gothic Book"/>
              </a:rPr>
              <a:t>او ينتج عنه انخفاض مستواه المعيشي بسبب خارج عن ارادته</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rPr>
              <a:t>وبالرجوع الى </a:t>
            </a:r>
            <a:r>
              <a:rPr b="1" lang="ar-SA" sz="2400" spc="-1" strike="noStrike">
                <a:solidFill>
                  <a:srgbClr val="c00000"/>
                </a:solidFill>
                <a:latin typeface="Franklin Gothic Book"/>
              </a:rPr>
              <a:t>نظام التأمينات الاجتماعية السعودي نجده يغطي عدة مخاطر تتعلق بفقد العمل وتقتصرعلى العمال دون غيرهم كإصابات العمل والامراض المهنية ويطلق عليها فرع المعاشات وان كان المنظم السعودي قد ترك الباب مفتوحا لقرار يصدر من مجلس الوزراء بتوسيع الحماية لمواجهة اخطار اخرى وهي المرض والامومه والاعباء العائليه والتعطل عن العمل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8" name="صورة 2" descr="images (10).jpg"/>
          <p:cNvPicPr/>
          <p:nvPr/>
        </p:nvPicPr>
        <p:blipFill>
          <a:blip r:embed="rId1"/>
          <a:stretch/>
        </p:blipFill>
        <p:spPr>
          <a:xfrm>
            <a:off x="0" y="3429000"/>
            <a:ext cx="685800" cy="1600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مربع نص 1"/>
          <p:cNvSpPr/>
          <p:nvPr/>
        </p:nvSpPr>
        <p:spPr>
          <a:xfrm>
            <a:off x="533520" y="228600"/>
            <a:ext cx="8381880" cy="2838240"/>
          </a:xfrm>
          <a:prstGeom prst="rect">
            <a:avLst/>
          </a:prstGeom>
          <a:solidFill>
            <a:srgbClr val="c8effd"/>
          </a:solid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a4b05"/>
                </a:solidFill>
                <a:uFillTx/>
                <a:latin typeface="Franklin Gothic Book"/>
              </a:rPr>
              <a:t>تعريف التأمينات الاجتماعية بالنظر إلى الهدف العام الذي تسعى إلى تحقيقه </a:t>
            </a:r>
            <a:r>
              <a:rPr b="1" lang="ar-SA" sz="2000" spc="-1" strike="noStrike">
                <a:solidFill>
                  <a:srgbClr val="ca4b05"/>
                </a:solidFill>
                <a:latin typeface="Franklin Gothic Book"/>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rPr>
              <a:t>يجب تعريف التأمينات الإجتماعية عن طريق الربط بينها وبين المخاطر الاجتماعية على اساس العنصرالمشترك بين هذه المخاطر وبالتالي تعريفها بأنها عباره عن [</a:t>
            </a:r>
            <a:r>
              <a:rPr b="1" lang="ar-SA" sz="2000" spc="-1" strike="noStrike">
                <a:solidFill>
                  <a:srgbClr val="c00000"/>
                </a:solidFill>
                <a:latin typeface="Franklin Gothic Book"/>
              </a:rPr>
              <a:t>مجموعة الوسائل الفنية الخاصة التي تهدف الى مواجهة بعض المخاطر الاججتماعية التي يعطيها المجتمع اهتماما خاصا في سبيل حماية الافراد ضد المخاطر الاجتماعية التي عددتها اتفاقية العمل الدولية رقم </a:t>
            </a:r>
            <a:r>
              <a:rPr b="1" lang="ar-SA" sz="2000" spc="-1" strike="noStrike">
                <a:solidFill>
                  <a:srgbClr val="c00000"/>
                </a:solidFill>
                <a:latin typeface="Franklin Gothic Book"/>
              </a:rPr>
              <a:t>102</a:t>
            </a:r>
            <a:r>
              <a:rPr b="1" lang="ar-SA" sz="2000" spc="-1" strike="noStrike">
                <a:solidFill>
                  <a:srgbClr val="c00000"/>
                </a:solidFill>
                <a:latin typeface="Franklin Gothic Book"/>
              </a:rPr>
              <a:t>]</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مربع نص 2"/>
          <p:cNvSpPr/>
          <p:nvPr/>
        </p:nvSpPr>
        <p:spPr>
          <a:xfrm>
            <a:off x="304920" y="2590920"/>
            <a:ext cx="8458200" cy="4362840"/>
          </a:xfrm>
          <a:prstGeom prst="rect">
            <a:avLst/>
          </a:prstGeom>
          <a:noFill/>
          <a:ln w="38160">
            <a:solidFill>
              <a:srgbClr val="f96a1b"/>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Franklin Gothic Book"/>
              </a:rPr>
              <a:t>نقد هذا الإتجاه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Franklin Gothic Book"/>
              </a:rPr>
              <a:t>لم يسلم التعريف السابق من سهام هذا النقد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Franklin Gothic Book"/>
              </a:rPr>
              <a:t>--  لأنه يفقد نظام التأمين الاجتماعي ذاتيته ، فهذا التعريف يتسع ليشمل كافة الأنظمة التي تعمل على تحقيق السياسات الاجتماعية للدول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Franklin Gothic Book"/>
              </a:rPr>
              <a:t>--  فضلا عن أن ذلك الرأي يؤدي الى الخلط الواضح بين نظام التأمينات الاجتماعية وبين السياسة الاجتماعية بصفة عامة ، وذلك لأن الدول بالمفهوم الحديث تعمل جاهدة على حل المشاكل الاقصادية والاجتماعية لمواطنيها ، وذلك انطلاقاً من ارتباط الأمن الاجتماعي بالوسائل التي تستهدف تشجيع النمو الاقتصادي وتوجيهه ورقابته.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Franklin Gothic Book"/>
              </a:rPr>
              <a:t>-- ويتضح مما سبق أن تعريف التأمينات الاجتماعية بالنظر الى الهدف التي تسعى الى تحقيقه تعريفاً واسعاً فضفاضا يفقدها ذاتيتها واستقلالها.</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مربع نص 1"/>
          <p:cNvSpPr/>
          <p:nvPr/>
        </p:nvSpPr>
        <p:spPr>
          <a:xfrm>
            <a:off x="152280" y="304920"/>
            <a:ext cx="8763120" cy="8936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a4b05"/>
                </a:solidFill>
                <a:uFillTx/>
                <a:latin typeface="Franklin Gothic Book"/>
              </a:rPr>
              <a:t>تعريف التأمينات الاجتماعية بالنظر الى الوسائل والسياسات التبعي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rPr>
              <a:t>يذهب أنصار ذلك الاتجاه الى تعريف التأمينات الاجتماعية من خلال الوسائل والسياسات المتبعة لتحقيق وضمان الأمن الاجتماعي والاقتصادي لأفراد المجتمع من خلال مواجهة المخاطر الاجتماعية. وتعتبر التأمينات الاجتماعية وفقاً لهذا الاتجاه " </a:t>
            </a:r>
            <a:r>
              <a:rPr b="1" lang="ar-SA" sz="2000" spc="-1" strike="noStrike">
                <a:solidFill>
                  <a:srgbClr val="c00000"/>
                </a:solidFill>
                <a:latin typeface="Franklin Gothic Book"/>
              </a:rPr>
              <a:t>مجموعة الوسائل والسياسات المالية الوقائية والعلاجية المقررة نظاماً لحماية العاملين من المخاطر الاجتماعية ، وتأمين مستقبلهم ومستقبل ذويهم الاقتصادي</a:t>
            </a:r>
            <a:r>
              <a:rPr b="1" lang="ar-SA" sz="2000" spc="-1" strike="noStrike">
                <a:solidFill>
                  <a:srgbClr val="000000"/>
                </a:solidFill>
                <a:latin typeface="Franklin Gothic Book"/>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rPr>
              <a:t>ويتضح من هذا التعريف أنه يربط بين التأمينات الاجتماعية والوسائل العلاجية والوقائية لحماية الأفراد من المخاطر ، مما يجعله تعريفاً واسعاً لدرجة امكانية ادخال اقامة المستشفيات وحماية البيئة من التلوث وغيرها من السياسات العلاجية والوقائية. في إطار شمولي ضمن نظام التأمينات الاجتماعي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a4b05"/>
                </a:solidFill>
                <a:uFillTx/>
                <a:latin typeface="Franklin Gothic Book"/>
              </a:rPr>
              <a:t>نقد هذا الإتجاه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rPr>
              <a:t>-- يبدو من إستخلاص هذه النتيجة أن هذا الإتجاه </a:t>
            </a:r>
            <a:r>
              <a:rPr b="1" lang="ar-SA" sz="2000" spc="-1" strike="noStrike">
                <a:solidFill>
                  <a:srgbClr val="002060"/>
                </a:solidFill>
                <a:latin typeface="Franklin Gothic Book"/>
              </a:rPr>
              <a:t>يعتبر من ناحية غير واقعي ومن ناحية اخرى غير منطقي ، حيث تهدف السياسة الإجتماعية للدولة إلى تحقيق الأمن الاقتصادي للمواطنين ،وتلجأ في سبيل ذلك إلى أنظمة متعددة منها التأمينات الاجتماعية التي تهدف الى تحقيق الهدف نفسه </a:t>
            </a:r>
            <a:r>
              <a:rPr b="1" lang="ar-SA" sz="2000" spc="-1" strike="noStrike">
                <a:solidFill>
                  <a:srgbClr val="000000"/>
                </a:solidFill>
                <a:latin typeface="Franklin Gothic Book"/>
              </a:rPr>
              <a:t>ولكنها لايمكنها تحقيقه وحدها دون سائر الأنظمة الأخرى.</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rPr>
              <a:t>-- ويلاحظ أن هذا الاتجاه الفقهي لا يختلف عن سابقه ، من حيث </a:t>
            </a:r>
            <a:r>
              <a:rPr b="1" lang="ar-SA" sz="2000" spc="-1" strike="noStrike">
                <a:solidFill>
                  <a:srgbClr val="002060"/>
                </a:solidFill>
                <a:latin typeface="Franklin Gothic Book"/>
              </a:rPr>
              <a:t>التوسعة في تعريف نظام التأمينات الاجتماعية ، ومن ثم فقد الذاتية والاستقلال التي تميز هذا النظام ، وذلك لانه يربط بين التامينات الاجتماعية وماتستخدمها من وسائل علاجية لحماية الافراد من المخاطر الاجتماعية </a:t>
            </a:r>
            <a:r>
              <a:rPr b="1" lang="ar-SA" sz="2000" spc="-1" strike="noStrike">
                <a:solidFill>
                  <a:srgbClr val="000000"/>
                </a:solidFill>
                <a:latin typeface="Franklin Gothic Book"/>
              </a:rPr>
              <a:t>، ووفقا لهذا الرأي فالتأمينات الاجتماعية ضد الامراض تتناول السياسة الصحية بوجه عام ، وسياسة إقامة وتنظيم المستشفيات والعلاج الوقائي ، فضلا عن كل مايتعلق بحماية والحفاظ على صحة الافراد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مربع نص 1"/>
          <p:cNvSpPr/>
          <p:nvPr/>
        </p:nvSpPr>
        <p:spPr>
          <a:xfrm>
            <a:off x="304920" y="228600"/>
            <a:ext cx="8610480" cy="619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a4b05"/>
                </a:solidFill>
                <a:latin typeface="Franklin Gothic Book"/>
              </a:rPr>
              <a:t>تعريف التأمينات الاجتماعية بالنظر الى الأهداف المبتغاة والوسائل الخاصة المتبع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rPr>
              <a:t>يذهب أنصار هذا الرأي الى تعريف التأمينات الاجتماعية بالنظر الى الهدف المنشود منها وكذلك الى الوسائل الخاصة المتبعة في نفس الوقت ، فيقوم انصار هذا الرأي </a:t>
            </a:r>
            <a:r>
              <a:rPr b="1" lang="ar-SA" sz="1800" spc="-1" strike="noStrike">
                <a:solidFill>
                  <a:srgbClr val="002060"/>
                </a:solidFill>
                <a:latin typeface="Franklin Gothic Book"/>
              </a:rPr>
              <a:t>بدمج التعريفين السابقين معاً ، مع إعطاء التأمينات الاجتماعية مضموناً محددا لتلافي العيوب التي شابت التعريفين السابقين</a:t>
            </a:r>
            <a:r>
              <a:rPr b="1" lang="ar-SA" sz="1800" spc="-1" strike="noStrike">
                <a:solidFill>
                  <a:srgbClr val="000000"/>
                </a:solidFill>
                <a:latin typeface="Franklin Gothic Book"/>
              </a:rPr>
              <a:t> ، من حيث التوسع الذي شاب التعريفين السابقين ، او من حيث فقد هذا النظام لذاتيته واختلاطه بأنظمة اخرى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ca4b05"/>
                </a:solidFill>
                <a:uFillTx/>
                <a:latin typeface="Franklin Gothic Book"/>
              </a:rPr>
              <a:t>ويرى أنصار هذا الاتجاه بأن ,,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2060"/>
                </a:solidFill>
                <a:latin typeface="Franklin Gothic Book"/>
              </a:rPr>
              <a:t>التأمينات الاجتماعية هي </a:t>
            </a:r>
            <a:r>
              <a:rPr b="1" lang="ar-SA" sz="1800" spc="-1" strike="noStrike">
                <a:solidFill>
                  <a:srgbClr val="000000"/>
                </a:solidFill>
                <a:latin typeface="Franklin Gothic Book"/>
              </a:rPr>
              <a:t>" </a:t>
            </a:r>
            <a:r>
              <a:rPr b="1" lang="ar-SA" sz="1800" spc="-1" strike="noStrike">
                <a:solidFill>
                  <a:srgbClr val="ff0000"/>
                </a:solidFill>
                <a:latin typeface="Franklin Gothic Book"/>
              </a:rPr>
              <a:t>نظام اجتماعي وقانوني يعمل على تحقيق الأمن الاقتصادي للأفراد في حالة تعرضهم لأحد المخاطر المهنية اوالاجتماعية الواردة بالاتفاقية الدولية رقم </a:t>
            </a:r>
            <a:r>
              <a:rPr b="1" lang="ar-SA" sz="1800" spc="-1" strike="noStrike">
                <a:solidFill>
                  <a:srgbClr val="ff0000"/>
                </a:solidFill>
                <a:latin typeface="Franklin Gothic Book"/>
              </a:rPr>
              <a:t>102</a:t>
            </a:r>
            <a:r>
              <a:rPr b="1" lang="ar-SA" sz="1800" spc="-1" strike="noStrike">
                <a:solidFill>
                  <a:srgbClr val="ff0000"/>
                </a:solidFill>
                <a:latin typeface="Franklin Gothic Book"/>
              </a:rPr>
              <a:t> الصادرة عن منظمة العمل الدولية ، وذلك عن طريق استخدام مجموعة من الأساليب الفنية الخاصة بهذا النظام والتي تعمل على إعادة توزيع الدخل القومي بشكل أكثر عدال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Franklin Gothic Book"/>
              </a:rPr>
              <a:t> </a:t>
            </a:r>
            <a:r>
              <a:rPr b="1" lang="ar-SA" sz="1800" spc="-1" strike="noStrike">
                <a:solidFill>
                  <a:srgbClr val="000000"/>
                </a:solidFill>
                <a:latin typeface="Franklin Gothic Book"/>
              </a:rPr>
              <a:t>ويذهب البعض من أنصار هذا الاتجاه الى انها عبارة </a:t>
            </a:r>
            <a:r>
              <a:rPr b="1" lang="ar-SA" sz="1800" spc="-1" strike="noStrike">
                <a:solidFill>
                  <a:srgbClr val="002060"/>
                </a:solidFill>
                <a:latin typeface="Franklin Gothic Book"/>
              </a:rPr>
              <a:t>عن نظام يعمل على حماية الأفراد ايا كان مصدر دخلهم من بعض المخاطر الاجتماعية التي يوليها المجتمع اهتماماً خاصاً باستخدام مجموعة من الحلول والأساليب الفنية الخاصة بهذا النظام.</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3" name="صورة 2" descr="images (11).jpg"/>
          <p:cNvPicPr/>
          <p:nvPr/>
        </p:nvPicPr>
        <p:blipFill>
          <a:blip r:embed="rId1"/>
          <a:stretch/>
        </p:blipFill>
        <p:spPr>
          <a:xfrm>
            <a:off x="533520" y="3657600"/>
            <a:ext cx="2390760" cy="1914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مربع نص 1"/>
          <p:cNvSpPr/>
          <p:nvPr/>
        </p:nvSpPr>
        <p:spPr>
          <a:xfrm>
            <a:off x="0" y="152280"/>
            <a:ext cx="8915400" cy="6951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rPr>
              <a:t>وعلى ذلك لايعدو التأمين الاجتماعي –وفقاً لهذا التعريف- أن </a:t>
            </a:r>
            <a:r>
              <a:rPr b="1" lang="ar-SA" sz="1800" spc="-1" strike="noStrike">
                <a:solidFill>
                  <a:srgbClr val="c00000"/>
                </a:solidFill>
                <a:latin typeface="Franklin Gothic Book"/>
              </a:rPr>
              <a:t>يكون نظاماً شبه تعاونياً </a:t>
            </a:r>
            <a:r>
              <a:rPr b="1" lang="ar-SA" sz="1800" spc="-1" strike="noStrike">
                <a:solidFill>
                  <a:srgbClr val="000000"/>
                </a:solidFill>
                <a:latin typeface="Franklin Gothic Book"/>
              </a:rPr>
              <a:t>للتخفيف من حدة المخاطر الاجتماعية في ظروف معينة ، الا أنه </a:t>
            </a:r>
            <a:r>
              <a:rPr b="1" lang="ar-SA" sz="1800" spc="-1" strike="noStrike">
                <a:solidFill>
                  <a:srgbClr val="c00000"/>
                </a:solidFill>
                <a:latin typeface="Franklin Gothic Book"/>
              </a:rPr>
              <a:t>يبتعد كثيراً عن أن يكون نظاماً للمساعدات الاجتماعية او للضمان الاجتماعي </a:t>
            </a:r>
            <a:r>
              <a:rPr b="1" lang="ar-SA" sz="1800" spc="-1" strike="noStrike">
                <a:solidFill>
                  <a:srgbClr val="000000"/>
                </a:solidFill>
                <a:latin typeface="Franklin Gothic Book"/>
              </a:rPr>
              <a:t>. ويرى انصار هذا الرأي انه لا يمكن الاعتماد في تعريف التامينات الاجتماعية على الوسائل والسياسات المتبعة لمواجهة المخاطر ، حيث تختلف هذه الوسائل والسياسات وتتنوع وتتطور بحسب تطور المجتمعات ، كما أنه لايمكن التعويل على مصدر المخاطر وذلك لتنوع هذه المخاطر فضلا عن اختلاف مصادرها من حالة الى اخرى.</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rPr>
              <a:t>وعلى ذلك ، </a:t>
            </a:r>
            <a:r>
              <a:rPr b="1" lang="ar-SA" sz="1800" spc="-1" strike="noStrike">
                <a:solidFill>
                  <a:srgbClr val="c00000"/>
                </a:solidFill>
                <a:latin typeface="Franklin Gothic Book"/>
              </a:rPr>
              <a:t>تعتبر التأمينات الاجتماعية نوع من التأمين ذو صبغة اجبارية ، يتقرر حماية للعاملين حال حياتهم من مخاطر اصابات العمل والمرض والبطالة ، وحماية لمستقبل ذويهم من مخاطر وفاة عائلهم </a:t>
            </a:r>
            <a:r>
              <a:rPr b="1" lang="ar-SA" sz="1800" spc="-1" strike="noStrike">
                <a:solidFill>
                  <a:srgbClr val="000000"/>
                </a:solidFill>
                <a:latin typeface="Franklin Gothic Book"/>
              </a:rPr>
              <a:t>. وتجدر الاشارة الا انه يجب الربط بين المخاطر الاجتماعية وبين التأمينات الاجتماعية ، وذلك على اساس العنصر المشترك بين هذه المخاطر وهو أثرها على ذوى الشأن ، وهذا الأثر المشترك يتمثل في تهديد الأمن الاقتصادي لمن أصابه الخطر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rPr>
              <a:t>ومن جانبنا ، نعتقد مع البعض أن </a:t>
            </a:r>
            <a:r>
              <a:rPr b="1" lang="ar-SA" sz="1800" spc="-1" strike="noStrike">
                <a:solidFill>
                  <a:srgbClr val="002060"/>
                </a:solidFill>
                <a:latin typeface="Franklin Gothic Book"/>
              </a:rPr>
              <a:t>التأمينات الاجتماعية عبارة عن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Franklin Gothic Book"/>
              </a:rPr>
              <a:t>مجموعة من القواعد القانونية اللازمة لحماية الشخص الطبيعي واسرته كإنسان بصفة عامة ، وكممتهن لنشاط أو عمل معين بصفة خاصة ، إذا ما تعرض لمخاطر اجتماعية معينة تفقده القدرة على ادائه ومن ثم تحرمه من الأجر أو الدخل المقابل له وذلك بصفة كلية أو جزئية ، دائمة أو مؤقتة ، أو تحمله بأعباء تضعف من دخله ومن ثم تهدد من مستوى معيشته ، ويتم توفير هذه الحماية باستخدام وسائل فنية معينة تمكن هؤلاء الاشخاص عند تعرضهم لتلك المخاطر من مواجهة مضاعفاتها أو التخفيف من حدتها قدر الإمكان ، وتتولى السلطة العامة بنفسها أمر تطبيق التأمينات الاجتماعية بقواعد قانونية آمر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مستطيل 1" descr=""/>
          <p:cNvPicPr/>
          <p:nvPr/>
        </p:nvPicPr>
        <p:blipFill>
          <a:blip r:embed="rId1"/>
          <a:stretch/>
        </p:blipFill>
        <p:spPr>
          <a:xfrm>
            <a:off x="285840" y="1573200"/>
            <a:ext cx="8394480" cy="1109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مربع نص 1"/>
          <p:cNvSpPr/>
          <p:nvPr/>
        </p:nvSpPr>
        <p:spPr>
          <a:xfrm>
            <a:off x="228600" y="304920"/>
            <a:ext cx="8686800" cy="7500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ca4b05"/>
                </a:solidFill>
                <a:uFillTx/>
                <a:latin typeface="Franklin Gothic Book"/>
              </a:rPr>
              <a:t>أولاً:مزايا التأمينات الاجتماعية:</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rPr>
              <a:t>تعتبر التأمينات الاجتماعية عاملاً </a:t>
            </a:r>
            <a:r>
              <a:rPr b="1" lang="ar-SA" sz="1800" spc="-1" strike="noStrike">
                <a:solidFill>
                  <a:srgbClr val="c00000"/>
                </a:solidFill>
                <a:latin typeface="Franklin Gothic Book"/>
              </a:rPr>
              <a:t>من عوامل الأمان حيث توفر تأميناً ضد أخطار المرض وإصابات العمل والعجز والشيخوخة والبطالة وغيرها ، وتحقق للمستفيد شعوراً ملموساً بالأمان </a:t>
            </a:r>
            <a:r>
              <a:rPr b="1" lang="ar-SA" sz="1800" spc="-1" strike="noStrike">
                <a:solidFill>
                  <a:srgbClr val="000000"/>
                </a:solidFill>
                <a:latin typeface="Franklin Gothic Book"/>
              </a:rPr>
              <a:t>حيث يطمئن أنه سيتقاضى ما يعوضه عن النقص في دخله اذا تعرض لخطر من هذه الأخطار.</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rPr>
              <a:t>تساهم التأمينات الاجتماعية في </a:t>
            </a:r>
            <a:r>
              <a:rPr b="1" lang="ar-SA" sz="1800" spc="-1" strike="noStrike">
                <a:solidFill>
                  <a:srgbClr val="002060"/>
                </a:solidFill>
                <a:latin typeface="Franklin Gothic Book"/>
              </a:rPr>
              <a:t>كفالة مستوى مناسب من الحياة الكريمة للإنسان في مواجهة العديد من الأخطار الاجتماعية التي تؤثر على حياته .</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rPr>
              <a:t>تساعد التأمينات الاجتماعية على </a:t>
            </a:r>
            <a:r>
              <a:rPr b="1" lang="ar-SA" sz="1800" spc="-1" strike="noStrike">
                <a:solidFill>
                  <a:srgbClr val="c00000"/>
                </a:solidFill>
                <a:latin typeface="Franklin Gothic Book"/>
              </a:rPr>
              <a:t>بث روح التضامن بين العمال واصحاب الأعمال وتساهم في تحقيق العدالة الاجتماعية حيث تفرض على اصحاب الاعمال المساهمة في رعاية العمال بمشاركتهم بجزء من ارباحهم في اشتراكات التأمينات الاجتماعية .</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rPr>
              <a:t>تعمل التأمينات الاجتماعية على </a:t>
            </a:r>
            <a:r>
              <a:rPr b="1" lang="ar-SA" sz="1800" spc="-1" strike="noStrike">
                <a:solidFill>
                  <a:srgbClr val="002060"/>
                </a:solidFill>
                <a:latin typeface="Franklin Gothic Book"/>
              </a:rPr>
              <a:t>زيادة الانتاج لما توفره من شعور العمال بالطمأنينة والإستقرار مما ينعكس على روحهم المعنوية فيقبلون على العمل بنشاط وايجابية .</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rPr>
              <a:t>تساعد التأمينات الاجتماعية على </a:t>
            </a:r>
            <a:r>
              <a:rPr b="1" lang="ar-SA" sz="1800" spc="-1" strike="noStrike">
                <a:solidFill>
                  <a:srgbClr val="c00000"/>
                </a:solidFill>
                <a:latin typeface="Franklin Gothic Book"/>
              </a:rPr>
              <a:t>تكوين رؤوس أموال يتم توظيفها من خلال الاستثمار في خدمة المجتمع والتنمية الاقتصادي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rPr>
              <a:t>* </a:t>
            </a:r>
            <a:r>
              <a:rPr b="1" lang="ar-SA" sz="1800" spc="-1" strike="noStrike">
                <a:solidFill>
                  <a:srgbClr val="002060"/>
                </a:solidFill>
                <a:latin typeface="Franklin Gothic Book"/>
              </a:rPr>
              <a:t>تحقيق الاستقرار الاجتماعي للفرد وللأسرة ، حيث تساهم التأمينات الاجتماعية على محاربة الفقر لأنها تجنب الفرد العوز والحاجة ، بما يضمنه له من تعويض مادي يضمن له ولأسرته الحد الأدنى لمستوى المعيشة عن طريق تعويضه عن الخسائر التي تحدث له في دخله نتيجة مرضه أو بلوغه سن التقاعد أو تعرضه للبطال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مربع نص 1"/>
          <p:cNvSpPr/>
          <p:nvPr/>
        </p:nvSpPr>
        <p:spPr>
          <a:xfrm>
            <a:off x="228600" y="2209680"/>
            <a:ext cx="8686800" cy="3385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ca4b05"/>
                </a:solidFill>
                <a:uFillTx/>
                <a:latin typeface="Franklin Gothic Book"/>
              </a:rPr>
              <a:t>ثانياً : عيوب التأمينات الاجتماعي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2060"/>
                </a:solidFill>
                <a:latin typeface="Franklin Gothic Book"/>
              </a:rPr>
              <a:t>* تؤدي التأمينات الاجتماعية الى الانتقاض من دخل العامل وخفض مستوى معيشته ، حيث يشارك العامل بجزء من دخله في دفع الاشتراكات.</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rPr>
              <a:t>* </a:t>
            </a:r>
            <a:r>
              <a:rPr b="1" lang="ar-SA" sz="1800" spc="-1" strike="noStrike">
                <a:solidFill>
                  <a:srgbClr val="ff0000"/>
                </a:solidFill>
                <a:latin typeface="Franklin Gothic Book"/>
              </a:rPr>
              <a:t>تؤدي التأمينات الاجتماعية الى زيادة نفقات الانتاج وبالتالي الى ارتفاع الاسعار على المستهلك ، نظراً لانها تلزم اصحاب الأعمال بالمساهمة في دفع الاشتراكات ، ونتيجة لذلك يقوم أصحاب العمال بإضافة ما يدفعونه إلى نفقات الانتاج.</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rPr>
              <a:t>* </a:t>
            </a:r>
            <a:r>
              <a:rPr b="1" lang="ar-SA" sz="1800" spc="-1" strike="noStrike">
                <a:solidFill>
                  <a:srgbClr val="002060"/>
                </a:solidFill>
                <a:latin typeface="Franklin Gothic Book"/>
              </a:rPr>
              <a:t>تضعف التأمينات لدى العمال حس الاحتياط للمستقبل وروح الإدخار وهذا جانب سلبي للوجه الآخر من شعوره بالاطمئنان إلى ما سيحصل عليه من التأمينات من حقوق في حال تحقق سبب من اسباب الاخطار الاجتماعية التي تغطيها.</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8" name="صورة 2" descr="download (2).jpg"/>
          <p:cNvPicPr/>
          <p:nvPr/>
        </p:nvPicPr>
        <p:blipFill>
          <a:blip r:embed="rId1"/>
          <a:stretch/>
        </p:blipFill>
        <p:spPr>
          <a:xfrm>
            <a:off x="0" y="4876920"/>
            <a:ext cx="1952640" cy="1981080"/>
          </a:xfrm>
          <a:prstGeom prst="rect">
            <a:avLst/>
          </a:prstGeom>
          <a:ln w="0">
            <a:noFill/>
          </a:ln>
        </p:spPr>
      </p:pic>
      <p:sp>
        <p:nvSpPr>
          <p:cNvPr id="249" name="Rectangle 3"/>
          <p:cNvSpPr/>
          <p:nvPr/>
        </p:nvSpPr>
        <p:spPr>
          <a:xfrm>
            <a:off x="609480" y="228600"/>
            <a:ext cx="8229600" cy="2837160"/>
          </a:xfrm>
          <a:prstGeom prst="rect">
            <a:avLst/>
          </a:prstGeom>
          <a:noFill/>
          <a:ln w="0">
            <a:noFill/>
          </a:ln>
        </p:spPr>
        <p:style>
          <a:lnRef idx="0"/>
          <a:fillRef idx="0"/>
          <a:effectRef idx="0"/>
          <a:fontRef idx="minor"/>
        </p:style>
        <p:txBody>
          <a:bodyPr lIns="90000" rIns="90000" tIns="46800" bIns="46800" anchor="t">
            <a:spAutoFit/>
          </a:bodyPr>
          <a:p>
            <a:pPr algn="r" rtl="1">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rPr>
              <a:t>تعمل التأمينات الاجتماعية على تحقيق التوازن بين العرض والطلب في الحياة الاقتصادية ، ففي اثناء الرواج الاقتصادي ، يمكن للدولة التوسع في نطاق التغطية التأمينية بالنسبة للتأمينات الاجتماعية الإلزامية من حيث شمولها لفئات جديدة </a:t>
            </a:r>
            <a:r>
              <a:rPr b="1" lang="ar-SA" sz="1800" spc="-1" strike="noStrike">
                <a:solidFill>
                  <a:srgbClr val="000000"/>
                </a:solidFill>
                <a:latin typeface="Arial"/>
              </a:rPr>
              <a:t>، حيث يساعد ذلك على </a:t>
            </a:r>
            <a:r>
              <a:rPr b="1" lang="ar-SA" sz="1800" spc="-1" strike="noStrike">
                <a:solidFill>
                  <a:srgbClr val="ff0000"/>
                </a:solidFill>
                <a:latin typeface="Arial"/>
              </a:rPr>
              <a:t>زيادة المدخرات الإجبارية وتقليل الطلب على السلع الاستهلاكية وبالتالي الحد من الموجه التضخمية </a:t>
            </a:r>
            <a:r>
              <a:rPr b="1" lang="ar-SA" sz="1800" spc="-1" strike="noStrike">
                <a:solidFill>
                  <a:srgbClr val="000000"/>
                </a:solidFill>
                <a:latin typeface="Arial"/>
              </a:rPr>
              <a:t>. وفي فترات الكساد تعمل التأمينات الاجتماعية على زيادة التعويضات التي تستحق للمؤمن عليهم في حالات التعطل والمرض والإصابة أو لمستحقيهم من أرامل ويتامى في حالة الوفاة بما يساعد على زيادة مستوى إنفاقهم على السلع والخدمات وبالتالي يساعد على زيادة الطلب الفعال عليها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Box 1"/>
          <p:cNvSpPr/>
          <p:nvPr/>
        </p:nvSpPr>
        <p:spPr>
          <a:xfrm>
            <a:off x="395280" y="189000"/>
            <a:ext cx="8353440" cy="8326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Franklin Gothic Book"/>
              </a:rPr>
              <a:t>ماهية التأمينات الإجتماعي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Franklin Gothic Book"/>
              </a:rPr>
              <a:t>العمال هم أشد الفئات حاجة الى نظام يحقق لهم الأمان المنشود ضد مخاطر العمل, ومن أهم هذه المخاطر الإجتماعية التي يتعرض لها العامل خلال حياته الوظيفية مجموعة الأخطار المهنية التي قد يواجهها أثناء وبسبب عمله وهو ما يطلق عليه </a:t>
            </a:r>
            <a:r>
              <a:rPr b="1" lang="ar-SA" sz="2000" spc="-1" strike="noStrike" u="sng">
                <a:solidFill>
                  <a:srgbClr val="002060"/>
                </a:solidFill>
                <a:uFillTx/>
                <a:latin typeface="Franklin Gothic Book"/>
              </a:rPr>
              <a:t>بإصابات العمل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rPr>
              <a:t>ومما لا شك فيه أن تمكين العامل من المشاركة في التنمية الإقتصادية وإحاطته بسياج من الضمانات يحقق له الانتماء للمجتمع والمساهمه في نشاطه.بالإضافة الى الالتزامات التي يفرضها القانون على صاحب العمل من توفير خدمات صحية واجتماعية تدعم العلاقة بين طرفي الإنتاج,العمال وأصحاب العمل.</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Franklin Gothic Book"/>
              </a:rPr>
              <a:t>اللجوء سابقا لنظام الترابط الاسري كاحد صور الضمان الاجتماعي لم يدم طويلا لاسباب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Franklin Gothic Book"/>
              </a:rPr>
              <a:t>--بسبب تطور المجتمع وانتشار الصناع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Franklin Gothic Book"/>
              </a:rPr>
              <a:t>-- زيادة الهجرة من الريف الى المدينة وتفكك الانظمة الاسري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Franklin Gothic Book"/>
              </a:rPr>
              <a:t>--ظهور النزعة الفردية وصعوبة تأمين متطلبات الفرد اليومية وعد شعوره بالامان.</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rPr>
              <a:t>وقد ظهر في العصر الحديث إتجاه لتقرير </a:t>
            </a:r>
            <a:r>
              <a:rPr b="1" lang="ar-SA" sz="2000" spc="-1" strike="noStrike">
                <a:solidFill>
                  <a:srgbClr val="002060"/>
                </a:solidFill>
                <a:latin typeface="Franklin Gothic Book"/>
              </a:rPr>
              <a:t>مسئولية صاحب العمل عن الحوادث التي تصيب العمل أو بسببه.و رغم ذلك أظهرت حوادث العمل أن قواعد المسئولية المدنية التقليدية لا تؤدي وظيفتها </a:t>
            </a:r>
            <a:r>
              <a:rPr b="1" lang="ar-SA" sz="2000" spc="-1" strike="noStrike">
                <a:solidFill>
                  <a:srgbClr val="000000"/>
                </a:solidFill>
                <a:latin typeface="Franklin Gothic Book"/>
              </a:rPr>
              <a:t>التعويضية بشكل فعال لمواجهة هذا النوع من الحوادث.فقد أدى تطبيق القواعد العامة في كثير من الحالات الى حرمان الضحايا من العمال من حقهم في الحصول على تعويض عادل يتناسب مع خصوصية حوادث العمل.</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rPr>
              <a:t> </a:t>
            </a:r>
            <a:r>
              <a:rPr b="1" lang="ar-SA" sz="2000" spc="-1" strike="noStrike">
                <a:solidFill>
                  <a:srgbClr val="c00000"/>
                </a:solidFill>
                <a:latin typeface="Franklin Gothic Book"/>
              </a:rPr>
              <a:t>وقد دفع هذا الوضع الدول المختلفة الى تبني قوانين خاصة لإرساء أنظمة تعويض أكثر فعالية لتوفير أكبر قدر ممكن من الحماية للعمال وذلك استقلالا عن القواعد التقليدية للمسئولية المدني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Box 1"/>
          <p:cNvSpPr/>
          <p:nvPr/>
        </p:nvSpPr>
        <p:spPr>
          <a:xfrm>
            <a:off x="108000" y="476280"/>
            <a:ext cx="8640720" cy="9237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rPr>
              <a:t>و جدير بالملاحظة أن </a:t>
            </a:r>
            <a:r>
              <a:rPr b="1" lang="ar-SA" sz="2400" spc="-1" strike="noStrike">
                <a:solidFill>
                  <a:srgbClr val="c00000"/>
                </a:solidFill>
                <a:latin typeface="Franklin Gothic Book"/>
              </a:rPr>
              <a:t>معظم الأنظمة التقليدية قد فشلت في تحقيق الأمان للطبقة العامله كالادخار والمساعدات الإجتماعية و نظام التأمين التجاري و إحاطة مسؤولية صاحب العمل المدنية بالنسبة لما قد يتعرض له العامل من إصابات قواعد المسؤولية المدنية التقليدية ، </a:t>
            </a:r>
            <a:r>
              <a:rPr b="1" lang="ar-SA" sz="2400" spc="-1" strike="noStrike">
                <a:solidFill>
                  <a:srgbClr val="000000"/>
                </a:solidFill>
                <a:latin typeface="Franklin Gothic Book"/>
              </a:rPr>
              <a:t>فتم </a:t>
            </a:r>
            <a:r>
              <a:rPr b="1" lang="ar-SA" sz="2400" spc="-1" strike="noStrike">
                <a:solidFill>
                  <a:srgbClr val="002060"/>
                </a:solidFill>
                <a:latin typeface="Franklin Gothic Book"/>
              </a:rPr>
              <a:t>تحديد مبلغ تعويض ولم يتم تركه لتقدير المحاكم ثم تطورت أحكام المسؤولية على أساس تحمل التبعة فأصبحت المسؤولية عامة يستفيد منها جميع العمال حتى لو كانت أعمالهم غير خطرة.</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rPr>
              <a:t>و أثبت الواقع العملي </a:t>
            </a:r>
            <a:r>
              <a:rPr b="1" lang="ar-SA" sz="2400" spc="-1" strike="noStrike">
                <a:solidFill>
                  <a:srgbClr val="c00000"/>
                </a:solidFill>
                <a:latin typeface="Franklin Gothic Book"/>
              </a:rPr>
              <a:t>عجز كافة الأشكال والأدوات السابق الإشارة إليها عن تأمين حماية اجتماعية لمختلف فئات المجتمع وبصفة خاصة الطبقة العاملة </a:t>
            </a:r>
            <a:r>
              <a:rPr b="1" lang="ar-SA" sz="2400" spc="-1" strike="noStrike">
                <a:solidFill>
                  <a:srgbClr val="000000"/>
                </a:solidFill>
                <a:latin typeface="Franklin Gothic Book"/>
              </a:rPr>
              <a:t>,</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rPr>
              <a:t>وقد تضافرت مجموعة من العوامل والمعطيات التي ساعدت على ميلاد التشريعات الاجتماعيه بهدف ضمان حد أدنى من الحماية للطبقة العاملة وتكللت هذه الجهود بإصدار </a:t>
            </a:r>
            <a:r>
              <a:rPr b="1" lang="ar-SA" sz="2400" spc="-1" strike="noStrike">
                <a:solidFill>
                  <a:srgbClr val="002060"/>
                </a:solidFill>
                <a:latin typeface="Franklin Gothic Book"/>
              </a:rPr>
              <a:t>القواعد المنظمة لعلاقات العمل بصفة عامه والتي تضمنت بعض الأحكام التأمينية المتعلقة بإصابات العمل ولم تجد حلها إلا في نظام مستحدث هو نظام التأمينات الإجتماعية.</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rPr>
              <a:t>يتضح من ذلك أن فكرة التأمينات الإجتماعية نشأ نتيجة شعور الإنسان بالحاجة إلى الأمان لمواجهة الأأخطار التي تهدده ويتمثل جوهر نظام التأمينات الإجتماعية في فكرة مؤداها:</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rPr>
              <a:t>( تحمل المجتمع ككل نتائج التي تترتب على تحقق خطر من الأخطار التي تهدد أفراد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Box 1"/>
          <p:cNvSpPr/>
          <p:nvPr/>
        </p:nvSpPr>
        <p:spPr>
          <a:xfrm>
            <a:off x="468360" y="333360"/>
            <a:ext cx="8280360" cy="6311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rPr>
              <a:t>أن </a:t>
            </a:r>
            <a:r>
              <a:rPr b="1" lang="ar-SA" sz="2400" spc="-1" strike="noStrike">
                <a:solidFill>
                  <a:srgbClr val="002060"/>
                </a:solidFill>
                <a:latin typeface="Franklin Gothic Book"/>
              </a:rPr>
              <a:t>نظام التأمين الإجتماعي نشأ </a:t>
            </a:r>
            <a:r>
              <a:rPr b="1" lang="ar-SA" sz="2400" spc="-1" strike="noStrike">
                <a:solidFill>
                  <a:srgbClr val="000000"/>
                </a:solidFill>
                <a:latin typeface="Franklin Gothic Book"/>
              </a:rPr>
              <a:t>في كنف نظام العمل فأصبح الإرتباط بينهما وثيقًا الى حد كان فيه نظام التأمين الإجتماعي </a:t>
            </a:r>
            <a:r>
              <a:rPr b="1" lang="ar-SA" sz="2400" spc="-1" strike="noStrike">
                <a:solidFill>
                  <a:srgbClr val="c00000"/>
                </a:solidFill>
                <a:latin typeface="Franklin Gothic Book"/>
              </a:rPr>
              <a:t>يقتصر في بدايته على كل ما يعمل في الصناعة دون أن يمتد إلى من يعمل في الأنشطة الأخرى </a:t>
            </a:r>
            <a:r>
              <a:rPr b="1" lang="ar-SA" sz="2400" spc="-1" strike="noStrike">
                <a:solidFill>
                  <a:srgbClr val="000000"/>
                </a:solidFill>
                <a:latin typeface="Franklin Gothic Book"/>
              </a:rPr>
              <a:t>ثم ما لبث أن تطور نظام التأمين الإجتماعي </a:t>
            </a:r>
            <a:r>
              <a:rPr b="1" lang="ar-SA" sz="2400" spc="-1" strike="noStrike">
                <a:solidFill>
                  <a:srgbClr val="002060"/>
                </a:solidFill>
                <a:latin typeface="Franklin Gothic Book"/>
              </a:rPr>
              <a:t>ليمتد ويغطي أنواعا عديدة من المخاطر و أنشطة مهنية غير الصناعة كالتجارة والزراعة والمهن الحرة </a:t>
            </a:r>
            <a:r>
              <a:rPr b="1" lang="ar-SA" sz="2400" spc="-1" strike="noStrike">
                <a:solidFill>
                  <a:srgbClr val="000000"/>
                </a:solidFill>
                <a:latin typeface="Franklin Gothic Book"/>
              </a:rPr>
              <a:t>وشمل أيضا نتيجة ذلك تغطية فئات جديدة من افراد المجتمع.</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rPr>
              <a:t>و </a:t>
            </a:r>
            <a:r>
              <a:rPr b="1" lang="ar-SA" sz="2400" spc="-1" strike="noStrike">
                <a:solidFill>
                  <a:srgbClr val="c00000"/>
                </a:solidFill>
                <a:latin typeface="Franklin Gothic Book"/>
              </a:rPr>
              <a:t>أصبح نظام التأمين الإجتماعي في الوقت المعاصر </a:t>
            </a:r>
            <a:r>
              <a:rPr b="1" lang="ar-SA" sz="2400" spc="-1" strike="noStrike">
                <a:solidFill>
                  <a:srgbClr val="000000"/>
                </a:solidFill>
                <a:latin typeface="Franklin Gothic Book"/>
              </a:rPr>
              <a:t>يمثل قيمة إنسانية سامية باعتباره </a:t>
            </a:r>
            <a:r>
              <a:rPr b="1" lang="ar-SA" sz="2400" spc="-1" strike="noStrike">
                <a:solidFill>
                  <a:srgbClr val="c00000"/>
                </a:solidFill>
                <a:latin typeface="Franklin Gothic Book"/>
              </a:rPr>
              <a:t>وسيلة فعاله لكفالة الأمن الإقتصادي والإجتماعي للمواطن </a:t>
            </a:r>
            <a:r>
              <a:rPr b="1" lang="ar-SA" sz="2400" spc="-1" strike="noStrike">
                <a:solidFill>
                  <a:srgbClr val="000000"/>
                </a:solidFill>
                <a:latin typeface="Franklin Gothic Book"/>
              </a:rPr>
              <a:t>بعد أن مست الحاجة إلية الرغبة في تأمين مستقبل أفراد المتجمع كافة دون أن يقتصر على فئة معينة.</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rPr>
              <a:t>وتعتبر </a:t>
            </a:r>
            <a:r>
              <a:rPr b="1" lang="ar-SA" sz="2400" spc="-1" strike="noStrike">
                <a:solidFill>
                  <a:srgbClr val="c00000"/>
                </a:solidFill>
                <a:latin typeface="Franklin Gothic Book"/>
              </a:rPr>
              <a:t>التأمينات الإجتماعية كنظام قانوني فرع متميز ومستقل من فروع القانون الوضعي بصفة عامه والقانون الإجتماعي بصفة خاصة.</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0" name="صورة 2" descr="images (9).jpg"/>
          <p:cNvPicPr/>
          <p:nvPr/>
        </p:nvPicPr>
        <p:blipFill>
          <a:blip r:embed="rId1"/>
          <a:stretch/>
        </p:blipFill>
        <p:spPr>
          <a:xfrm>
            <a:off x="838080" y="4495680"/>
            <a:ext cx="2143080" cy="2143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Box 1"/>
          <p:cNvSpPr/>
          <p:nvPr/>
        </p:nvSpPr>
        <p:spPr>
          <a:xfrm>
            <a:off x="179280" y="260280"/>
            <a:ext cx="8640720" cy="88722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Franklin Gothic Book"/>
              </a:rPr>
              <a:t>مفهوم التأمينات الإجتماعي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rPr>
              <a:t>يعتبر نظام التأمينات الإجتماعية أداة توجيهية في يد الدولة لتحقيق النفع العام وإقامة العدل الإجتماعي بين أفراد المجتمع.</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rPr>
              <a:t>ويهدف هذا النظام في مختلف دول العالم إلى حماية الإنسان من آثار المخاطر التي يتعرض لها في وجوده في معبشته وهو التي يطلق عليها (المخاطر الإجتماعية)</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rPr>
              <a:t>سواء بالقضاء على هذه الآثار أو على الأقل بالتخفيف منها.</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rPr>
              <a:t>لذلك يتميز نظام التأمينات الإجتماعية بالطابع الإنساني حيث الى الاهتمام بالإنسان وإنقاذه من العوز والحاجة بتقديم بديل عن الدخل في حالة عدم القدرة على استحقاقه.</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rPr>
              <a:t>وعلى ذلك تعتبر التأمينات الإجتماعية هي (الدخل البديل|) الذي يحصل عليه المؤمن عليه اذا انقطع دخله من العمل بسبب أحد (المخاطر الإجتماعية) التي يقوم نظام التأمينات الإجتماعية لتغطيتها سواء كان هذا الخطر فيسلوجيا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rPr>
              <a:t>(المرض,الحمل,الولادة,الشيخوخة,العجز) أو كان خطرا مهنيا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rPr>
              <a:t>(إصابات العمل,الأمراض المهني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rPr>
              <a:t>ولا تقتصر الحماية على العمال فقط بل تمتد لتشمل الإنسان بصفة عامة,وتقصتر التأمينات الإجتماعية على نوع معين من الأخطار ألا وهو الأخطار الإجتماعية حيث تغطي التأمينات ما يسمى بالأخطار الإجتماعية.</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مربع نص 4"/>
          <p:cNvSpPr/>
          <p:nvPr/>
        </p:nvSpPr>
        <p:spPr>
          <a:xfrm>
            <a:off x="380880" y="380880"/>
            <a:ext cx="845820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مربع نص 5"/>
          <p:cNvSpPr/>
          <p:nvPr/>
        </p:nvSpPr>
        <p:spPr>
          <a:xfrm>
            <a:off x="228600" y="457200"/>
            <a:ext cx="8610480" cy="533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Franklin Gothic Book"/>
              </a:rPr>
              <a:t>تقتصر التأمينات الاجتماعية على نوع واحد من الاخطار وهو الاخطار الاجتماعية</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a4b05"/>
                </a:solidFill>
                <a:latin typeface="Franklin Gothic Book"/>
              </a:rPr>
              <a:t> الاخطار الاجتماعية ..</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rPr>
              <a:t>يمكن تعريف الخطر بصفه عامة , بأنه </a:t>
            </a:r>
            <a:r>
              <a:rPr b="0" lang="ar-SA" sz="2400" spc="-1" strike="noStrike">
                <a:solidFill>
                  <a:srgbClr val="c00000"/>
                </a:solidFill>
                <a:latin typeface="Franklin Gothic Book"/>
              </a:rPr>
              <a:t>حادثه محتمله لا يتوقف تحقيقها إلى على أرادة احد طرفيها في العلاقة التأمينية وخاصة أداره المؤمن له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rPr>
              <a:t>وجرت عدة محاولات لبيان مقصود الاخطار الاجتماعيه ومحاوله وضع تعريف جامع لها ” الاخطار الاجتماعية التي تغطيها مظلة التأمينات الاجتماعية متمثله في كل ما يتعرض له الانسان ككائن اجتماعي , سواء كان مصدرها فسيولوجي أو مهني . ويكون تعريف الخطر الاجتماعي على اراء , وهي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4" name="صورة 3" descr="images (6).jpg"/>
          <p:cNvPicPr/>
          <p:nvPr/>
        </p:nvPicPr>
        <p:blipFill>
          <a:blip r:embed="rId1"/>
          <a:stretch/>
        </p:blipFill>
        <p:spPr>
          <a:xfrm>
            <a:off x="762120" y="4267080"/>
            <a:ext cx="2438280" cy="20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rot="19140000">
            <a:off x="99360" y="2234880"/>
            <a:ext cx="5825880" cy="1089000"/>
          </a:xfrm>
          <a:prstGeom prst="rect">
            <a:avLst/>
          </a:prstGeom>
          <a:noFill/>
          <a:ln w="0">
            <a:noFill/>
          </a:ln>
        </p:spPr>
        <p:txBody>
          <a:bodyPr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Franklin Gothic Medium"/>
              </a:rPr>
              <a:t>الرأي الاول : التعريف بالنظر الى سببه:</a:t>
            </a:r>
            <a:br>
              <a:rPr sz="2000"/>
            </a:br>
            <a:r>
              <a:rPr b="1" lang="ar-SA" sz="2000" spc="-1" strike="noStrike">
                <a:solidFill>
                  <a:srgbClr val="ffffff"/>
                </a:solidFill>
                <a:latin typeface="Franklin Gothic Medium"/>
              </a:rPr>
              <a:t> يعرف فيه الخطر الاجتماعي على انه الخطر الناشئ عن الحياة في المجتمع أي أن الخطر يلازم الحياة الاجتماعية , والتأمينات الاجتماعية تواجه أساساٌ تلك الاخطار اللصيقة بالمعيشة والوجود في المجتمع .  </a:t>
            </a:r>
            <a:endParaRPr b="0" lang="en-US" sz="2000" spc="-1" strike="noStrike">
              <a:solidFill>
                <a:srgbClr val="000000"/>
              </a:solidFill>
              <a:latin typeface="Franklin Gothic Medium"/>
            </a:endParaRPr>
          </a:p>
        </p:txBody>
      </p:sp>
      <p:sp>
        <p:nvSpPr>
          <p:cNvPr id="226" name=""/>
          <p:cNvSpPr txBox="1"/>
          <p:nvPr/>
        </p:nvSpPr>
        <p:spPr>
          <a:xfrm>
            <a:off x="4571640" y="914040"/>
            <a:ext cx="4341960" cy="5715000"/>
          </a:xfrm>
          <a:prstGeom prst="rect">
            <a:avLst/>
          </a:prstGeom>
          <a:noFill/>
          <a:ln w="0">
            <a:noFill/>
          </a:ln>
        </p:spPr>
        <p:txBody>
          <a:bodyPr anchor="t">
            <a:normAutofit fontScale="86000"/>
          </a:bodyPr>
          <a:p>
            <a:pPr marL="294840" indent="-2948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Franklin Gothic Book"/>
              </a:rPr>
              <a:t>وانتقاد ذلك الرأي , انه :</a:t>
            </a:r>
            <a:endParaRPr b="1" lang="en-US" sz="2400" spc="-1" strike="noStrike">
              <a:solidFill>
                <a:srgbClr val="000000"/>
              </a:solidFill>
              <a:latin typeface="Franklin Gothic Book"/>
            </a:endParaRPr>
          </a:p>
          <a:p>
            <a:pPr marL="294840" indent="-2948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rPr>
              <a:t>-- </a:t>
            </a:r>
            <a:r>
              <a:rPr b="1" lang="ar-SA" sz="2400" spc="-1" strike="noStrike">
                <a:solidFill>
                  <a:srgbClr val="002060"/>
                </a:solidFill>
                <a:latin typeface="Franklin Gothic Book"/>
              </a:rPr>
              <a:t>يؤدي الى اتساع نطاق الخطر الاجتماعي وعدم تطابقه مع مختلف التأمينات الاجتماعية في مختلف الانظمه القانونيه فلا تغطي اخطار الحرب والكوارث .</a:t>
            </a:r>
            <a:endParaRPr b="1" lang="en-US" sz="2400" spc="-1" strike="noStrike">
              <a:solidFill>
                <a:srgbClr val="000000"/>
              </a:solidFill>
              <a:latin typeface="Franklin Gothic Book"/>
            </a:endParaRPr>
          </a:p>
          <a:p>
            <a:pPr marL="294840" indent="-2948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rPr>
              <a:t>--</a:t>
            </a:r>
            <a:r>
              <a:rPr b="1" lang="ar-SA" sz="2400" spc="-1" strike="noStrike">
                <a:solidFill>
                  <a:srgbClr val="00b050"/>
                </a:solidFill>
                <a:latin typeface="Franklin Gothic Book"/>
              </a:rPr>
              <a:t>هناك اخطار تصيب الانسان رغم عزلته عن الحياة الاجتماعية .</a:t>
            </a:r>
            <a:endParaRPr b="1" lang="en-US" sz="2400" spc="-1" strike="noStrike">
              <a:solidFill>
                <a:srgbClr val="000000"/>
              </a:solidFill>
              <a:latin typeface="Franklin Gothic Book"/>
            </a:endParaRPr>
          </a:p>
          <a:p>
            <a:pPr marL="294840" indent="-2948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rPr>
              <a:t>-- </a:t>
            </a:r>
            <a:r>
              <a:rPr b="1" lang="ar-SA" sz="2400" spc="-1" strike="noStrike">
                <a:solidFill>
                  <a:srgbClr val="c00000"/>
                </a:solidFill>
                <a:latin typeface="Franklin Gothic Book"/>
              </a:rPr>
              <a:t>أضف الى ذلك أن أن ذلك التعريف لا يشمل بعض الاخطار التي يغطيها نظام التأمينات الاجتماعية , كالشيخوخه والموت . وهي غير مرتبطة بصوره وثيقه بالحياة الاجتماعية للفرد . </a:t>
            </a:r>
            <a:endParaRPr b="1" lang="en-US" sz="2400" spc="-1" strike="noStrike">
              <a:solidFill>
                <a:srgbClr val="000000"/>
              </a:solidFill>
              <a:latin typeface="Franklin Gothic Book"/>
            </a:endParaRPr>
          </a:p>
        </p:txBody>
      </p:sp>
      <p:pic>
        <p:nvPicPr>
          <p:cNvPr id="227" name="صورة 4" descr="images (8).jpg"/>
          <p:cNvPicPr/>
          <p:nvPr/>
        </p:nvPicPr>
        <p:blipFill>
          <a:blip r:embed="rId1"/>
          <a:stretch/>
        </p:blipFill>
        <p:spPr>
          <a:xfrm>
            <a:off x="1752480" y="4714920"/>
            <a:ext cx="214308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rot="19140000">
            <a:off x="-774360" y="2114280"/>
            <a:ext cx="6770880" cy="868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Franklin Gothic Medium"/>
              </a:rPr>
              <a:t>الرأي الثاني ,</a:t>
            </a:r>
            <a:br>
              <a:rPr sz="1800"/>
            </a:br>
            <a:r>
              <a:rPr b="1" lang="ar-SA" sz="1800" spc="-1" strike="noStrike">
                <a:solidFill>
                  <a:srgbClr val="c00000"/>
                </a:solidFill>
                <a:latin typeface="Franklin Gothic Medium"/>
              </a:rPr>
              <a:t> تعريف الخطر الاجتماعي بالنظر الى النشاط المهني :</a:t>
            </a:r>
            <a:br>
              <a:rPr sz="1800"/>
            </a:br>
            <a:r>
              <a:rPr b="1" lang="ar-SA" sz="1800" spc="-1" strike="noStrike">
                <a:solidFill>
                  <a:srgbClr val="000000"/>
                </a:solidFill>
                <a:latin typeface="Franklin Gothic Medium"/>
              </a:rPr>
              <a:t> وفقاٌ للرأي أن كل حدث يؤدي إلى فقد العمل أو لخفض مسوى معيشة أي شخص يمارس نشاطاٌ مهنياٌ أي كانت طبيعة ذلك النشاظ </a:t>
            </a:r>
            <a:endParaRPr b="0" lang="en-US" sz="1800" spc="-1" strike="noStrike">
              <a:solidFill>
                <a:srgbClr val="000000"/>
              </a:solidFill>
              <a:latin typeface="Franklin Gothic Medium"/>
            </a:endParaRPr>
          </a:p>
        </p:txBody>
      </p:sp>
      <p:sp>
        <p:nvSpPr>
          <p:cNvPr id="229" name="PlaceHolder 2"/>
          <p:cNvSpPr>
            <a:spLocks noGrp="1"/>
          </p:cNvSpPr>
          <p:nvPr>
            <p:ph/>
          </p:nvPr>
        </p:nvSpPr>
        <p:spPr>
          <a:xfrm rot="19140000">
            <a:off x="-709560" y="2638440"/>
            <a:ext cx="8121600" cy="976320"/>
          </a:xfrm>
          <a:prstGeom prst="rect">
            <a:avLst/>
          </a:prstGeom>
          <a:noFill/>
          <a:ln w="0">
            <a:noFill/>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Franklin Gothic Book"/>
              </a:rPr>
              <a:t>ويعتبر الخطر الاجتماعي لذلك الاتجاه هو كل حدث يجبر الانسان عن التوقف كلياٌ  أو جزئياٌ , </a:t>
            </a:r>
            <a:endParaRPr b="1" lang="en-US" sz="2000" spc="-1" strike="noStrike">
              <a:solidFill>
                <a:srgbClr val="00000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Franklin Gothic Book"/>
              </a:rPr>
              <a:t>نهائياٌ أو مؤقتنا عن أداء عمله . أو أن يؤدي ذلك إلى زيادة أعباءة ومن ثم خفض مستوى المعيشة .</a:t>
            </a:r>
            <a:endParaRPr b="1" lang="en-US" sz="2000" spc="-1" strike="noStrike">
              <a:solidFill>
                <a:srgbClr val="00000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p:txBody>
      </p:sp>
      <p:pic>
        <p:nvPicPr>
          <p:cNvPr id="230" name="صورة 8" descr="images (8).jpg"/>
          <p:cNvPicPr/>
          <p:nvPr/>
        </p:nvPicPr>
        <p:blipFill>
          <a:blip r:embed="rId1"/>
          <a:stretch/>
        </p:blipFill>
        <p:spPr>
          <a:xfrm>
            <a:off x="152280" y="0"/>
            <a:ext cx="1676520" cy="1676520"/>
          </a:xfrm>
          <a:prstGeom prst="rect">
            <a:avLst/>
          </a:prstGeom>
          <a:ln w="0">
            <a:noFill/>
          </a:ln>
        </p:spPr>
      </p:pic>
      <p:sp>
        <p:nvSpPr>
          <p:cNvPr id="231" name="Rectangle 6"/>
          <p:cNvSpPr/>
          <p:nvPr/>
        </p:nvSpPr>
        <p:spPr>
          <a:xfrm>
            <a:off x="4343400" y="2209680"/>
            <a:ext cx="4572000" cy="6192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2060"/>
                </a:solidFill>
                <a:uFillTx/>
                <a:latin typeface="Franklin Gothic Book"/>
              </a:rPr>
              <a:t>نقد ذلك الرأي , على الرغم من تميز ذلك الرأي بالوضوح والتحديد إلا أنه يؤخذ عليه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Franklin Gothic Book"/>
              </a:rPr>
              <a:t>--الربط بين فكره الخطر الجتماعي وبين فكرة  ممارسة النشاط المهني , وهذه المخالفة لما تتجه إلية الانظمه الحديثة من التأمينات الاجتماعية  ، حيث انها تسعى إلى تأمين جميع أفراد المجتمع سواء كان يمارس نشاطاٌ مهنياٌ أو لا يمارس , أذ اصبحت أن الاستفادة التأمينات الاجتماعية  مرتبطه بصفة الشخص كمواطن وليس بصفته صاحب نشاط مهني </a:t>
            </a:r>
            <a:r>
              <a:rPr b="1" lang="ar-SA" sz="2000" spc="-1" strike="noStrike">
                <a:solidFill>
                  <a:srgbClr val="000000"/>
                </a:solidFill>
                <a:latin typeface="Franklin Gothic Book"/>
              </a:rPr>
              <a:t>.</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Franklin Gothic Book"/>
              </a:rPr>
              <a:t>-- كذلك أن نطاق التأمينات الاجتماعية امتد من حيث المخاطر , فلم يعد يواجه حالات العمل فقط , بل امتد ليغطي الحالات التي ينخفض فيها المستوى المعيشي للفرد بسبب زيادة اعبائه العائلية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8080" y="2895480"/>
            <a:ext cx="7521840" cy="549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a4b05"/>
                </a:solidFill>
                <a:latin typeface="Franklin Gothic Medium"/>
              </a:rPr>
              <a:t>الرأي الثالث: تعريف الخطر الإجتماعي بالنظر إلى اثاره ونتائجه الإقتصادية:</a:t>
            </a:r>
            <a:br>
              <a:rPr sz="1800"/>
            </a:br>
            <a:r>
              <a:rPr b="1" lang="ar-SA" sz="1800" spc="-1" strike="noStrike">
                <a:solidFill>
                  <a:srgbClr val="000000"/>
                </a:solidFill>
                <a:latin typeface="Franklin Gothic Medium"/>
              </a:rPr>
              <a:t>ذهب أصحاب هذ الرأي إلى ان الخطر الاجتماعي يتمثل في جميع المخاطر التي يمكن ان يتعرض لها الانسان وتؤثر على مركزه الاقتصادي ايا كانت اسبابها ’ يستوي ان يكون هذا السبب شخصيا او مهنيا او اجتماعيا .</a:t>
            </a:r>
            <a:br>
              <a:rPr sz="1800"/>
            </a:br>
            <a:br>
              <a:rPr sz="1800"/>
            </a:br>
            <a:r>
              <a:rPr b="1" lang="ar-SA" sz="1800" spc="-1" strike="noStrike">
                <a:solidFill>
                  <a:srgbClr val="000000"/>
                </a:solidFill>
                <a:latin typeface="Franklin Gothic Medium"/>
              </a:rPr>
              <a:t>يعني ذلك ان الخطر الاجتماعي </a:t>
            </a:r>
            <a:r>
              <a:rPr b="1" lang="ar-SA" sz="1800" spc="-1" strike="noStrike">
                <a:solidFill>
                  <a:srgbClr val="ff0000"/>
                </a:solidFill>
                <a:latin typeface="Franklin Gothic Medium"/>
              </a:rPr>
              <a:t>هو ذلك الحادث الذي يؤثر سلبا في المركز الاقتصادي للشخص سواء من حيث نقص دخله او انقطاعه او زيادة أ أعبائه </a:t>
            </a:r>
            <a:r>
              <a:rPr b="1" lang="ar-SA" sz="1800" spc="-1" strike="noStrike">
                <a:solidFill>
                  <a:srgbClr val="000000"/>
                </a:solidFill>
                <a:latin typeface="Franklin Gothic Medium"/>
              </a:rPr>
              <a:t>وقد يرجع ذلك التأثير لأسباب </a:t>
            </a:r>
            <a:br>
              <a:rPr sz="1800"/>
            </a:br>
            <a:r>
              <a:rPr b="1" lang="ar-SA" sz="1800" spc="-1" strike="noStrike">
                <a:solidFill>
                  <a:srgbClr val="000000"/>
                </a:solidFill>
                <a:latin typeface="Franklin Gothic Medium"/>
              </a:rPr>
              <a:t>فسيولوجية كالمرض وقد يتمثل هذا التأثير في اسباب </a:t>
            </a:r>
            <a:br>
              <a:rPr sz="1800"/>
            </a:br>
            <a:r>
              <a:rPr b="1" lang="ar-SA" sz="1800" spc="-1" strike="noStrike">
                <a:solidFill>
                  <a:srgbClr val="000000"/>
                </a:solidFill>
                <a:latin typeface="Franklin Gothic Medium"/>
              </a:rPr>
              <a:t>تتعلق بظروف خارجية عن الشخص مثل </a:t>
            </a:r>
            <a:r>
              <a:rPr b="1" lang="ar-SA" sz="1800" spc="-1" strike="noStrike">
                <a:solidFill>
                  <a:srgbClr val="002060"/>
                </a:solidFill>
                <a:latin typeface="Franklin Gothic Medium"/>
              </a:rPr>
              <a:t>زيادة الاعباء </a:t>
            </a:r>
            <a:br>
              <a:rPr sz="1800"/>
            </a:br>
            <a:r>
              <a:rPr b="1" lang="ar-SA" sz="1800" spc="-1" strike="noStrike">
                <a:solidFill>
                  <a:srgbClr val="002060"/>
                </a:solidFill>
                <a:latin typeface="Franklin Gothic Medium"/>
              </a:rPr>
              <a:t>العائلية التي قد تتمثل في زيادة عدد الاطفال وما</a:t>
            </a:r>
            <a:br>
              <a:rPr sz="1800"/>
            </a:br>
            <a:r>
              <a:rPr b="1" lang="ar-SA" sz="1800" spc="-1" strike="noStrike">
                <a:solidFill>
                  <a:srgbClr val="002060"/>
                </a:solidFill>
                <a:latin typeface="Franklin Gothic Medium"/>
              </a:rPr>
              <a:t> يستلزمه ذلك من مصاريف ونفقات تعليم ونفقات </a:t>
            </a:r>
            <a:br>
              <a:rPr sz="1800"/>
            </a:br>
            <a:r>
              <a:rPr b="1" lang="ar-SA" sz="1800" spc="-1" strike="noStrike">
                <a:solidFill>
                  <a:srgbClr val="002060"/>
                </a:solidFill>
                <a:latin typeface="Franklin Gothic Medium"/>
              </a:rPr>
              <a:t>العلاج الطبي او ظروف اقتصادية تؤدي الى البطالة</a:t>
            </a:r>
            <a:br>
              <a:rPr sz="1800"/>
            </a:br>
            <a:r>
              <a:rPr b="1" lang="ar-SA" sz="1800" spc="-1" strike="noStrike">
                <a:solidFill>
                  <a:srgbClr val="002060"/>
                </a:solidFill>
                <a:latin typeface="Franklin Gothic Medium"/>
              </a:rPr>
              <a:t> في المجتمع</a:t>
            </a:r>
            <a:r>
              <a:rPr b="1" lang="ar-SA" sz="1800" spc="-1" strike="noStrike">
                <a:solidFill>
                  <a:srgbClr val="000000"/>
                </a:solidFill>
                <a:latin typeface="Franklin Gothic Medium"/>
              </a:rPr>
              <a:t> وبناء على ذلك اصبح الخطر الاجتماعي هو الخطر الذي يهدد الفرد في كيانه الاقتصادي .</a:t>
            </a:r>
            <a:br>
              <a:rPr sz="1800"/>
            </a:br>
            <a:br>
              <a:rPr sz="1800"/>
            </a:br>
            <a:r>
              <a:rPr b="1" lang="ar-SA" sz="1800" spc="-1" strike="noStrike">
                <a:solidFill>
                  <a:srgbClr val="000000"/>
                </a:solidFill>
                <a:latin typeface="Franklin Gothic Medium"/>
              </a:rPr>
              <a:t>ويحاول هذا الرأي البحث عن اساس مشترك يجمع كافة الأخطار الإجتماعية التي تواجه الانسان حيث تشترك جميع الاخطار مهما اختلفت في انها تؤثر على المركز الاقتصادي للشخص سواء بنقص الدخل او فقدانه .</a:t>
            </a:r>
            <a:br>
              <a:rPr sz="1800"/>
            </a:br>
            <a:endParaRPr b="0" lang="en-US" sz="1800" spc="-1" strike="noStrike">
              <a:solidFill>
                <a:srgbClr val="000000"/>
              </a:solidFill>
              <a:latin typeface="Franklin Gothic Medium"/>
            </a:endParaRPr>
          </a:p>
        </p:txBody>
      </p:sp>
      <p:pic>
        <p:nvPicPr>
          <p:cNvPr id="233" name="صورة 6" descr="download (2).jpg"/>
          <p:cNvPicPr/>
          <p:nvPr/>
        </p:nvPicPr>
        <p:blipFill>
          <a:blip r:embed="rId1"/>
          <a:stretch/>
        </p:blipFill>
        <p:spPr>
          <a:xfrm>
            <a:off x="533520" y="2209680"/>
            <a:ext cx="1952640" cy="1981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30T09:22:24Z</dcterms:created>
  <dc:creator>win7</dc:creator>
  <dc:description/>
  <dc:language>en-US</dc:language>
  <cp:lastModifiedBy>eman</cp:lastModifiedBy>
  <dcterms:modified xsi:type="dcterms:W3CDTF">2016-10-02T22:44:56Z</dcterms:modified>
  <cp:revision>50</cp:revision>
  <dc:subject/>
  <dc:title>PowerPoint Presentation</dc:title>
</cp:coreProperties>
</file>