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85B-1701-47B6-8BFE-61EF39E2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19C-7713-408E-ADB1-5056345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461-7328-4541-9E0B-CDC75AF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395-8AD3-4A6D-A863-70C1A3A7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476A5-049D-44D1-BBAF-E91578E528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8003F-9C42-44A2-8A3D-9A818BAC6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4051C-EBB5-47E1-B693-B74E40A7D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0998-12B8-42CE-9AAD-1EEEB07F2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FD8A-9E81-4AE1-8628-45E474100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1D6C-7876-4888-8EC7-BA2CE41FE6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BE6D-A8FE-4708-B4F7-4ED30CA15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B26-20DE-4BAB-85F8-8F6919B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F8CEF-4D79-4C57-B20D-9BF5B2DCB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151AF-040B-4DAC-ABEA-267AC772B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D8A58-0325-4228-8593-70ADF17C4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77B46-8AC4-4DC1-A42E-C3825C5D12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0C37C-A8B0-4C91-BF0B-0CDDD62E80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FE781-7FAD-48E6-89BE-17FFCD0BD3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7D0CC-C7BB-4CDF-82B1-96A14CF611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BD89F-FA6C-42FB-B1C6-CE03ACCC83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740F6-5BBD-4052-AA95-1CA239DE86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61BD-B38D-4607-87A6-67C9D33EC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08E-ED7C-4116-BC43-16F59D2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E522-7E66-42C1-8AB9-91638969B2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6827-6FD1-4D6E-8CEE-73A76946FB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D6630-4000-4EE9-91E3-4BC873A70B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58A6F-4C7D-41D7-95EC-D67508176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F6CF-CC07-4575-91ED-EA81516D58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7F20E-DD8F-4560-A0EF-621A6DCC7A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5F0FE-CCFA-420A-BF21-967C7B9E1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B99-82EB-4F4E-B5D8-0DDB09B3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26F-905C-41B0-9C38-5CF3DDF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B47-7011-4F18-8867-963C977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5FB-6CF4-4E61-A2EA-F8F69987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9B7-4B0F-431B-9979-11B2D89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567-D3A9-4323-BD84-8BB2841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A4AE-37EC-488D-8087-15FA9B8F3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444560" y="6505200"/>
            <a:ext cx="244440" cy="266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A04-66BB-4D93-9E69-64BA56476EAC}" type="slidenum">
              <a: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4444560" y="6505200"/>
            <a:ext cx="244440" cy="266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0E1B-074D-41D1-9921-56E3558F2D53}" type="slidenum">
              <a: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hape 205"/>
          <p:cNvSpPr/>
          <p:nvPr/>
        </p:nvSpPr>
        <p:spPr>
          <a:xfrm>
            <a:off x="1625760" y="2170080"/>
            <a:ext cx="55972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4f81bd"/>
                </a:solidFill>
                <a:latin typeface="Century Schoolbook"/>
              </a:rPr>
              <a:t>شروط المبيع</a:t>
            </a: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(</a:t>
            </a:r>
            <a:r>
              <a:rPr b="0" lang="ar-SA" sz="6900" spc="-1" strike="noStrike">
                <a:solidFill>
                  <a:srgbClr val="4f81bd"/>
                </a:solidFill>
                <a:latin typeface="Century Schoolbook"/>
              </a:rPr>
              <a:t>المعقود عليه</a:t>
            </a: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)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hape 206"/>
          <p:cNvSpPr/>
          <p:nvPr/>
        </p:nvSpPr>
        <p:spPr>
          <a:xfrm>
            <a:off x="279360" y="0"/>
            <a:ext cx="549360" cy="6858000"/>
          </a:xfrm>
          <a:prstGeom prst="rect">
            <a:avLst/>
          </a:prstGeom>
          <a:solidFill>
            <a:srgbClr val="ad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07"/>
          <p:cNvSpPr/>
          <p:nvPr/>
        </p:nvSpPr>
        <p:spPr>
          <a:xfrm>
            <a:off x="9058320" y="0"/>
            <a:ext cx="57240" cy="6858000"/>
          </a:xfrm>
          <a:prstGeom prst="rect">
            <a:avLst/>
          </a:prstGeom>
          <a:solidFill>
            <a:srgbClr val="ae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208"/>
          <p:cNvSpPr/>
          <p:nvPr/>
        </p:nvSpPr>
        <p:spPr>
          <a:xfrm>
            <a:off x="7526160" y="4886280"/>
            <a:ext cx="941400" cy="912960"/>
          </a:xfrm>
          <a:prstGeom prst="ellipse">
            <a:avLst/>
          </a:prstGeom>
          <a:solidFill>
            <a:srgbClr val="6f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hape 209"/>
          <p:cNvSpPr/>
          <p:nvPr/>
        </p:nvSpPr>
        <p:spPr>
          <a:xfrm>
            <a:off x="7612200" y="5838840"/>
            <a:ext cx="498240" cy="500040"/>
          </a:xfrm>
          <a:prstGeom prst="ellipse">
            <a:avLst/>
          </a:prstGeom>
          <a:solidFill>
            <a:srgbClr val="a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8000" y="243000"/>
            <a:ext cx="8092800" cy="64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Muna Bold"/>
                <a:cs typeface="Muna Bold"/>
              </a:rPr>
              <a:t>شرائط صحة البيع</a:t>
            </a:r>
            <a:r>
              <a:rPr b="1" lang="en-US" sz="29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2060"/>
                </a:solidFill>
                <a:latin typeface="Muna Regular"/>
                <a:cs typeface="Muna Regular"/>
              </a:rPr>
              <a:t>الأركان اللازمة لانعقاد العقد هي:</a:t>
            </a:r>
            <a:br>
              <a:rPr sz="2900"/>
            </a:br>
            <a:r>
              <a:rPr b="1" lang="ar-SA" sz="29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* </a:t>
            </a:r>
            <a:r>
              <a:rPr b="1" lang="en-US" sz="29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أن يتم تراضي طرفي العقد على العناصر الأساسية</a:t>
            </a:r>
            <a:r>
              <a:rPr b="1" lang="ar-SA" sz="29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، وان يكون الرضا سليما من العيوب . </a:t>
            </a:r>
            <a:br>
              <a:rPr sz="2900"/>
            </a:br>
            <a:br>
              <a:rPr sz="2900"/>
            </a:br>
            <a:r>
              <a:rPr b="1" lang="en-US" sz="25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فالتراضي </a:t>
            </a: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من أهم شروط صحة العقد و يلزم أن </a:t>
            </a:r>
            <a:r>
              <a:rPr b="1" lang="en-US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يتعلق بمبيع و ثمن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ea typeface="Muna Regular"/>
              </a:rPr>
              <a:t>.</a:t>
            </a:r>
            <a:br>
              <a:rPr sz="2500"/>
            </a:br>
            <a:r>
              <a:rPr b="1" lang="ar-SA" sz="2500" spc="-1" strike="noStrike">
                <a:solidFill>
                  <a:srgbClr val="002060"/>
                </a:solidFill>
                <a:latin typeface="Muna Regular"/>
                <a:ea typeface="Muna Regular"/>
              </a:rPr>
              <a:t>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عقد البيع </a:t>
            </a:r>
            <a:r>
              <a:rPr b="1" lang="ar-JO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من العقود الرضائية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، </a:t>
            </a: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و التراضي بين البائع و المشتري و يعبر </a:t>
            </a:r>
            <a:br>
              <a:rPr sz="2500"/>
            </a:b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عنه بالإيجاب و القبول</a:t>
            </a:r>
            <a:br>
              <a:rPr sz="2900"/>
            </a:br>
            <a:r>
              <a:rPr b="1" lang="en-US" sz="2200" spc="-1" strike="noStrike">
                <a:solidFill>
                  <a:srgbClr val="ff0000"/>
                </a:solidFill>
                <a:latin typeface="Muna Regular"/>
                <a:cs typeface="Muna Regular"/>
              </a:rPr>
              <a:t>إذا اتفق العاقدان على المبيع </a:t>
            </a:r>
            <a:r>
              <a:rPr b="1" lang="ar-SA" sz="2200" spc="-1" strike="noStrike">
                <a:solidFill>
                  <a:srgbClr val="ff0000"/>
                </a:solidFill>
                <a:latin typeface="Muna Regular"/>
                <a:ea typeface="Muna Regular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Muna Regular"/>
                <a:cs typeface="Muna Regular"/>
              </a:rPr>
              <a:t>و الثمن و على العناصر الأساسية في البيع </a:t>
            </a:r>
            <a:r>
              <a:rPr b="1" lang="en-US" sz="2200" spc="-1" strike="noStrike">
                <a:solidFill>
                  <a:srgbClr val="00b0f0"/>
                </a:solidFill>
                <a:latin typeface="Muna Regular"/>
                <a:cs typeface="Muna Regular"/>
              </a:rPr>
              <a:t>صح العقد 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Muna Regular"/>
                <a:cs typeface="Muna Regular"/>
              </a:rPr>
              <a:t>و القانون اكتفى لإتمام العقد بالاتفاق على العناصر الأساسية و الجوهرية فيه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Muna Regular"/>
                <a:ea typeface="Muna Regular"/>
              </a:rPr>
              <a:t> </a:t>
            </a:r>
            <a:r>
              <a:rPr b="1" lang="en-US" sz="2200" spc="-1" strike="noStrike">
                <a:solidFill>
                  <a:srgbClr val="00b050"/>
                </a:solidFill>
                <a:latin typeface="Muna Regular"/>
                <a:cs typeface="Muna Regular"/>
              </a:rPr>
              <a:t>فإذا لم يوجد الرضا في العقد المعبر عنه بالإيجاب و القبول بطل العقد</a:t>
            </a:r>
            <a:r>
              <a:rPr b="1" lang="ar-SA" sz="2200" spc="-1" strike="noStrike">
                <a:solidFill>
                  <a:srgbClr val="00b050"/>
                </a:solidFill>
                <a:latin typeface="Muna Regular"/>
                <a:ea typeface="Muna Regular"/>
              </a:rPr>
              <a:t> ولا يترتب عليه اثار البيع </a:t>
            </a:r>
            <a:r>
              <a:rPr b="1" lang="en-US" sz="2200" spc="-1" strike="noStrike">
                <a:solidFill>
                  <a:srgbClr val="002060"/>
                </a:solidFill>
                <a:latin typeface="Muna Regular"/>
                <a:ea typeface="Muna Regular"/>
              </a:rPr>
              <a:t>.</a:t>
            </a:r>
            <a:br>
              <a:rPr sz="2200"/>
            </a:br>
            <a:br>
              <a:rPr sz="22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*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و لا يكفي الرضا فقط بل لابد أن يكون سليمًا من العيوب</a:t>
            </a:r>
            <a:r>
              <a:rPr b="1" lang="ar-SA" sz="28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</a:t>
            </a:r>
            <a:br>
              <a:rPr sz="2800"/>
            </a:br>
            <a:r>
              <a:rPr b="1" lang="ar-SA" sz="2000" spc="-1" strike="noStrike">
                <a:solidFill>
                  <a:srgbClr val="002060"/>
                </a:solidFill>
                <a:latin typeface="Muna Regular"/>
                <a:cs typeface="Muna Regular"/>
              </a:rPr>
              <a:t>اي يجب ان يكون هناك تطابق الارادة الظاهرة بالايجاب والقبول مع الارادة الباطنة بسلامة الرضا ، </a:t>
            </a:r>
            <a:r>
              <a:rPr b="1" lang="en-US" sz="2000" spc="-1" strike="noStrike">
                <a:solidFill>
                  <a:srgbClr val="002060"/>
                </a:solidFill>
                <a:latin typeface="Muna Regular"/>
                <a:ea typeface="Muna Regular"/>
              </a:rPr>
              <a:t> فإذا لم يكن سليم كان العقد مختلا قابلا للإبطا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hape 223"/>
          <p:cNvSpPr/>
          <p:nvPr/>
        </p:nvSpPr>
        <p:spPr>
          <a:xfrm>
            <a:off x="7920" y="1219320"/>
            <a:ext cx="9128160" cy="3743280"/>
          </a:xfrm>
          <a:prstGeom prst="rect">
            <a:avLst/>
          </a:prstGeom>
          <a:solidFill>
            <a:srgbClr val="3e6697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224"/>
          <p:cNvSpPr/>
          <p:nvPr/>
        </p:nvSpPr>
        <p:spPr>
          <a:xfrm>
            <a:off x="341280" y="1579680"/>
            <a:ext cx="8461440" cy="302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225"/>
          <p:cNvSpPr/>
          <p:nvPr/>
        </p:nvSpPr>
        <p:spPr>
          <a:xfrm>
            <a:off x="2261880" y="2295720"/>
            <a:ext cx="43819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عيوب الرضا هي ثلاثة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 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١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إكراه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٢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تغرير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٣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غلط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227"/>
          <p:cNvSpPr/>
          <p:nvPr/>
        </p:nvSpPr>
        <p:spPr>
          <a:xfrm>
            <a:off x="87480" y="2707200"/>
            <a:ext cx="89690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42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</a:t>
            </a:r>
            <a:r>
              <a:rPr b="1" lang="ar-SA" sz="42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الإكراه</a:t>
            </a:r>
            <a:r>
              <a:rPr b="1" lang="en-US" sz="42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: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ar-SA" sz="24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إجبار شخص بغير حق على أن يعمل عملا دون رضاه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ar-SA" sz="24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ويكون الإكراه ملجئا أو غير ملجئ ، كما يكون ماديا او معنويا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228"/>
          <p:cNvSpPr/>
          <p:nvPr/>
        </p:nvSpPr>
        <p:spPr>
          <a:xfrm>
            <a:off x="-11160" y="1552680"/>
            <a:ext cx="9166320" cy="4842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229"/>
          <p:cNvSpPr/>
          <p:nvPr/>
        </p:nvSpPr>
        <p:spPr>
          <a:xfrm>
            <a:off x="-11160" y="4714920"/>
            <a:ext cx="9166320" cy="3985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231"/>
          <p:cNvSpPr/>
          <p:nvPr/>
        </p:nvSpPr>
        <p:spPr>
          <a:xfrm>
            <a:off x="4954680" y="1855800"/>
            <a:ext cx="3728880" cy="45910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232"/>
          <p:cNvSpPr/>
          <p:nvPr/>
        </p:nvSpPr>
        <p:spPr>
          <a:xfrm>
            <a:off x="1170000" y="608400"/>
            <a:ext cx="680364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3e6697"/>
                </a:solidFill>
                <a:latin typeface="Geeza Pro Bold"/>
                <a:cs typeface="Geeza Pro Bold"/>
              </a:rPr>
              <a:t>وقد فرق القانون بين أنواع الإكراه بمذهب الحنفية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233"/>
          <p:cNvSpPr/>
          <p:nvPr/>
        </p:nvSpPr>
        <p:spPr>
          <a:xfrm>
            <a:off x="460440" y="1855800"/>
            <a:ext cx="3728880" cy="45910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234"/>
          <p:cNvSpPr/>
          <p:nvPr/>
        </p:nvSpPr>
        <p:spPr>
          <a:xfrm>
            <a:off x="4932360" y="1393200"/>
            <a:ext cx="381636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(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الإكراه الملجئ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هو التهديد بخطر جسيم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يلحق بالنفس أو المال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،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ويسق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الرضا والقدرة والاختيار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يعدم الرضا ويفسد الإختيا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كالتهديد بالقتل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او الضرب الذي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يخشى منه ضياع عضو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235"/>
          <p:cNvSpPr/>
          <p:nvPr/>
        </p:nvSpPr>
        <p:spPr>
          <a:xfrm>
            <a:off x="468360" y="1037880"/>
            <a:ext cx="36720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(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الإكراه وغير اللمجئ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هو التهديد بما دون ذلك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،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فيسقط الرضا دون القدرة والاختيار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يعدم الرضا ولا يفسد الإختيار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كالتهديد بالحبس أو الضرب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أو ايقاع الظلم به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236"/>
          <p:cNvSpPr/>
          <p:nvPr/>
        </p:nvSpPr>
        <p:spPr>
          <a:xfrm>
            <a:off x="65160" y="85680"/>
            <a:ext cx="9013680" cy="6686640"/>
          </a:xfrm>
          <a:prstGeom prst="rect">
            <a:avLst/>
          </a:prstGeom>
          <a:noFill/>
          <a:ln w="50760">
            <a:solidFill>
              <a:srgbClr val="a685cf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409320"/>
            <a:ext cx="856908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سائل الاكراه تتعدد :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-- مادية ؛ كشهر مسدس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-- معنوية ؛ تلحق ضرر بالسمعة والشهرة والشرف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قد يكون بنفس المستكره ، او بذويه .</a:t>
            </a:r>
            <a:br>
              <a:rPr sz="3700"/>
            </a:b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يتحقق الاكراه سواء وقع من سلطان او من غير سلطان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يشترط ان يكون المكره قادرا على تنفيذ ما هدد به المستكره</a:t>
            </a: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 </a:t>
            </a: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.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 </a:t>
            </a:r>
            <a:br>
              <a:rPr sz="3700"/>
            </a:br>
            <a:r>
              <a:rPr b="0" lang="en-US" sz="2000" spc="-1" strike="noStrike">
                <a:solidFill>
                  <a:srgbClr val="1f497d"/>
                </a:solidFill>
                <a:latin typeface="Geeza Pro Regular"/>
                <a:ea typeface="Geeza Pro Regular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8000" y="1243080"/>
            <a:ext cx="8389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cs typeface="Geeza Pro Bold"/>
              </a:rPr>
              <a:t>اثر الاكراه في العقد</a:t>
            </a: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ea typeface="Geeza Pro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200" spc="-1" strike="noStrike" u="sng">
                <a:solidFill>
                  <a:srgbClr val="c00000"/>
                </a:solidFill>
                <a:uFillTx/>
                <a:latin typeface="Geeza Pro Regular"/>
                <a:cs typeface="Geeza Pro Regular"/>
              </a:rPr>
              <a:t>عند الحنفية : </a:t>
            </a:r>
            <a:r>
              <a:rPr b="1" lang="ar-JO" sz="2200" spc="-1" strike="noStrike" u="sng">
                <a:solidFill>
                  <a:srgbClr val="00b050"/>
                </a:solidFill>
                <a:uFillTx/>
                <a:latin typeface="Geeza Pro Regular"/>
                <a:cs typeface="Geeza Pro Regular"/>
              </a:rPr>
              <a:t>هو جعل العقد غير نافذ او موقوف ، فلو أجاز المكره او ورثته بعد زوال الإكراه صراحة او دلالة ، يصبح العقد نافذ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 u="sng">
                <a:solidFill>
                  <a:srgbClr val="c00000"/>
                </a:solidFill>
                <a:uFillTx/>
                <a:latin typeface="Geeza Pro Bold"/>
                <a:cs typeface="Geeza Pro Bold"/>
              </a:rPr>
              <a:t>عند المالكية :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cs typeface="Geeza Pro Bold"/>
              </a:rPr>
              <a:t>جعل العقد غير لازم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 u="sng">
                <a:solidFill>
                  <a:srgbClr val="c00000"/>
                </a:solidFill>
                <a:uFillTx/>
                <a:latin typeface="Geeza Pro Bold"/>
                <a:cs typeface="Geeza Pro Bold"/>
              </a:rPr>
              <a:t>عند الشافعية والحنابلة :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cs typeface="Geeza Pro Bold"/>
              </a:rPr>
              <a:t>يبطل العقد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أثر التفرقه بين الرضا </a:t>
            </a:r>
            <a:r>
              <a:rPr b="1" lang="ar-SA" sz="21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والإختيار عند الحنفية</a:t>
            </a: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الرضا : هو الرغبة في حكم العقثد واثاره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 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والاختيار : هو اصدار العبارة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يظهر في التفرقة في حكم الإكراه بين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العقود التي تحتمل الفسخ كالبيع والهبه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العقود التي لا تحتمل الفسخ كالزواج والطلاق .</a:t>
            </a: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ar-JO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جائزه مع الإكراه ولا اثر له في انعقادها وصحتها ونفاذها ولزومها</a:t>
            </a:r>
            <a:r>
              <a:rPr b="1" lang="ar-JO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eeza Pro Regular"/>
                <a:ea typeface="Geeza Pro Regular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ثر التفرقة بين الاكراه الملجئ وغير الملجئ في التصرفات القانونية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b050"/>
                </a:solidFill>
                <a:uFillTx/>
                <a:latin typeface="Calibri"/>
                <a:cs typeface="Arial"/>
              </a:rPr>
              <a:t>اولا : التصرفات الفعلية: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يؤثر فيها الاكراه الملجئ ، اما الاكراه غير الملجئ فلا يؤثر فيها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ومنها ؛ القتل وشرب الخمر واتلاف مال الغير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لو قام (أ) باكراه شخص وهو (ب) اكراه ملجئ على قتل شخص اخر فالمسؤولية تكون على من قام بالاكراه (أ)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لو قام (أ) باكراه شخص وهو (ب) اكراه غير ملجئ على قتل شخص اخر فالمسؤولية تكون على من تم اكراه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b050"/>
                </a:solidFill>
                <a:uFillTx/>
                <a:latin typeface="Calibri"/>
                <a:cs typeface="Arial"/>
              </a:rPr>
              <a:t>ثانيا : التصرفات القولية : 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cs typeface="Arial"/>
              </a:rPr>
              <a:t>جمهور الفقهاء قالوا ، انها تتأثر بالاكراه مطلقا، سواء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70c0"/>
                </a:solidFill>
                <a:latin typeface="Calibri"/>
                <a:cs typeface="Arial"/>
              </a:rPr>
              <a:t>ملجئا او غير ملجئ ، ومنها الطلاق والزواج والعتق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70c0"/>
                </a:solidFill>
                <a:latin typeface="Calibri"/>
                <a:cs typeface="Arial"/>
              </a:rPr>
              <a:t>وعند الحنفية نفسر كالتالي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rial"/>
              </a:rPr>
              <a:t>تصرفات لا تحتمل الفسخ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: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طلاق والزواج والعتق، فالتصرف صحيح لا يتأثر بالاكراه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rial"/>
              </a:rPr>
              <a:t>تصرفات تحتمل الفسخ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الاقرارات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هي الاعتراف بالطلاق او الاعتراف بالبيع ، يبطلها الاكراه ولا يعتد ب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العقود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كالبيع والاجارة : يفسدها الاكراه ولا يبطل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عند المالكي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Calibri"/>
                <a:cs typeface="Arial"/>
              </a:rPr>
              <a:t>يغالوا بالاعتداد بالاكراه ولو حصل مصاد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لو لم يكن الطرف الاخر عالما بالاكراه ،وذلك لتأثيره على استقرار المعاملات ، وذلك ما سمي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  <a:cs typeface="Arial"/>
              </a:rPr>
              <a:t>بيع المضغوط: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وهو عندما يكون الاكراه واقعا على البيع نفسه او دفع مال ظلما ، فيضطر المكره لبيع متاعه لدفع المال ، فلا يكون البيع لازما ولو لم يكن المشتري يعلم بالاكراه الذي وقع ودفع البائع للبيع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3e6697"/>
                </a:solidFill>
                <a:latin typeface="Geeza Pro Bold"/>
                <a:ea typeface="Geeza Pro Bold"/>
              </a:rPr>
              <a:t>* </a:t>
            </a: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بيع التلجئة :</a:t>
            </a:r>
            <a:r>
              <a:rPr b="1" lang="ar-JO" sz="2000" spc="-1" strike="noStrike">
                <a:solidFill>
                  <a:srgbClr val="3e6697"/>
                </a:solidFill>
                <a:latin typeface="Geeza Pro Bold"/>
                <a:ea typeface="Geeza Pro Bold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هو التظاهر بالبيع لشخص ثالث فرارا من اعتداء ظالم على بعض مايملك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c00000"/>
                </a:solidFill>
                <a:latin typeface="Geeza Pro Regular"/>
                <a:cs typeface="Geeza Pro Regular"/>
              </a:rPr>
              <a:t>وهو بيع باطل عند الحنابلة </a:t>
            </a:r>
            <a:r>
              <a:rPr b="1" lang="ar-JO" sz="2000" spc="-1" strike="noStrike">
                <a:solidFill>
                  <a:srgbClr val="0070c0"/>
                </a:solidFill>
                <a:latin typeface="Geeza Pro Regular"/>
                <a:cs typeface="Geeza Pro Regular"/>
              </a:rPr>
              <a:t>وفاسد عند الحنفية </a:t>
            </a:r>
            <a:r>
              <a:rPr b="1" lang="ar-JO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، </a:t>
            </a:r>
            <a:r>
              <a:rPr b="1" lang="ar-JO" sz="2000" spc="-1" strike="noStrike">
                <a:solidFill>
                  <a:srgbClr val="c00000"/>
                </a:solidFill>
                <a:latin typeface="Geeza Pro Regular"/>
                <a:cs typeface="Geeza Pro Regular"/>
              </a:rPr>
              <a:t>صحيح عند الشافعية</a:t>
            </a:r>
            <a:r>
              <a:rPr b="1" lang="ar-JO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</a:t>
            </a:r>
            <a:r>
              <a:rPr b="1" lang="ar-JO" sz="2000" spc="-1" strike="noStrike">
                <a:solidFill>
                  <a:srgbClr val="0070c0"/>
                </a:solidFill>
                <a:latin typeface="Geeza Pro Regular"/>
                <a:cs typeface="Geeza Pro Regular"/>
              </a:rPr>
              <a:t>وغير لازم عند المالك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* بيع التغرير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هو التدليس وأن يخدع أحد المتعاقدين الآخر بوسائل إحتيالية قوليه او فعلية تحمله على الرض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بما لم يكن يرضى به بغيرها ، مثل ايهامه بان هذا القماش صوف انجليزي ، ثم يتبين انه ياباني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* الغبن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هو النقصان ، ولا يؤثر في رضا العاقد الا اذا كان فاحشا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وهو في العقار وغيره ما لا يدخل في تقويم الخبراء ؛ مثلا 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لو اشترى شخص شئ بمائة درهم ، فقدره مقوم بتسعين واخر بمائة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هنا يسير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لو اشترى شخص شئ بمائة درهم ، فقدره مقوم بتسعين واخر ب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85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ولم يقدره احد ب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00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،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فاحش بالنسبة للمشتري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لو اشترى شخص شئ بمائة درهم ، فقدر باكثر من مئة قليلا او كثيرا ،  فقدره مقوم ب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05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واخر وقدره اخرب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10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،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فاحش بالنسبة للبائع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51"/>
              </a:spcBef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51"/>
              </a:spcBef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ربع نص 2"/>
          <p:cNvSpPr/>
          <p:nvPr/>
        </p:nvSpPr>
        <p:spPr>
          <a:xfrm>
            <a:off x="179280" y="333360"/>
            <a:ext cx="8785440" cy="78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الغبن المؤثر في الرضا هو المصحوب بالتغرير وذلك ك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entury Schoolbook"/>
              </a:rPr>
              <a:t>اولا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التغرير مع الغبن الفاحش : يجوز لمن غرر به فسخ العق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entury Schoolbook"/>
              </a:rPr>
              <a:t>ثانيا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الغبن دون تغرير: </a:t>
            </a: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الاصل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 انه يكون بظن خاطئ من صاحبه فهو المسؤول ع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الاستثناء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الغبن الفاحش بدون تغرير يفسخ العقد ف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مال المحج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ومال الوق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ومال الدو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ثالثا : ويؤثر الغبن اليسير في مال المجوز عليه للدين أو المريض مرض الموت وكان دينهما مستغرقاً ،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فالعقد موقوف على رفع الغبن او اجازته من الدائنين والا بط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أما الغلط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حالة تقوم بالنفس تحمل على توهم غير الواقع ، بان تكون هناك واقعة غير صحيحة يتوهم الانسان صحتها ، او واقعة صحيحة يتوهم عدم صحتها ، ومن امثلة ذل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-- الغلط في جنس محل العقد ،  كأن يشتري حلية ذهب فيتبين أنها نحا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-- الغلط في وصف محل العقد ، كأن يشتري ساعة على انها سويسري فتبين انها ياب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4912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0000"/>
                </a:solidFill>
                <a:uFillTx/>
                <a:latin typeface="Muna Bold"/>
                <a:cs typeface="Muna Bold"/>
              </a:rPr>
              <a:t>أن يكون موجود وقت التعاقد:</a:t>
            </a:r>
            <a:r>
              <a:rPr b="0" lang="ar-SA" sz="3500" spc="-1" strike="noStrike" u="sng">
                <a:solidFill>
                  <a:srgbClr val="ff0000"/>
                </a:solidFill>
                <a:uFillTx/>
                <a:latin typeface="Muna Bold"/>
                <a:cs typeface="Muna Bold"/>
              </a:rPr>
              <a:t>اولا</a:t>
            </a:r>
            <a:r>
              <a:rPr b="0" lang="ar-SA" sz="3500" spc="-1" strike="noStrike" u="sng">
                <a:solidFill>
                  <a:srgbClr val="ff0000"/>
                </a:solidFill>
                <a:uFillTx/>
                <a:latin typeface="Muna Bold"/>
                <a:ea typeface="Muna Bold"/>
              </a:rPr>
              <a:t> </a:t>
            </a:r>
            <a:r>
              <a:rPr b="0" lang="en-US" sz="3500" spc="-1" strike="noStrike" u="sng">
                <a:solidFill>
                  <a:srgbClr val="ff0000"/>
                </a:solidFill>
                <a:uFillTx/>
                <a:latin typeface="Muna Bold"/>
                <a:ea typeface="Muna Bold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فلا يصح التعاقد على معدوم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بيع الزرع قبل ظهوره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لاحتمال عدم نبا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لا يصح التعاقد على ما له خطر العدم بالوجود او عدم الوجود ؛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بيع</a:t>
            </a: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الحمل في بطن امه وبيع اللبن في الضرع واللؤلؤ في الصدف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.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لايصح التعاقد على مستحيل الوجود استحاله مطلقه في المستقبل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cs typeface="Muna Bold"/>
              </a:rPr>
              <a:t>،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التعاقد مع الطبيب على علاج مريض متوفي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2060"/>
                </a:solidFill>
                <a:uFillTx/>
                <a:latin typeface="Muna Bold"/>
                <a:cs typeface="Muna Bold"/>
              </a:rPr>
              <a:t>ويستثنى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من هذا الشرط في منع التصرف بالمعدوم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مع عدم وجود المحل المعقود عليه حين إنشاء العقد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استحسانًا لمراعاة حاجة الناس إليه وإقرار الشرع صراحة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مثل ؛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عقود السلم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(( هو بيع آجل بعاجل ، اي بيع شيء غير موجود حاليا وسيوجد في المستقبل بثمن حال ))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،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أجارة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،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مساقاه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،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مزارعه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--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ما اجيز بالاجماع مثل ؛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الاستصنا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entury Schoolbook"/>
                <a:cs typeface="Arial"/>
              </a:rPr>
              <a:t>يبطل العقد :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ذا وقع الغلط في ماهية العقد أو أحد شروط الانعقاد أو في المحل، فيكون البطلان نتيجة تخلف اهم اركان العقد واسبابه فتأثر وجوده كليا ، ويؤدي لانهاء وحل العلاقة القانونية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entury Schoolbook"/>
                <a:cs typeface="Arial"/>
              </a:rPr>
              <a:t>امثل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على اساس ان هناك شخص اراد بيع شيء لاخر ، والاخر تلقاه على انه هبه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يتفق شخص مع ورثة على قسمة  تركة لانه موصى له ، ثم تبين بطلان الوصية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entury Schoolbook"/>
                <a:cs typeface="Arial"/>
              </a:rPr>
              <a:t>يفسخ العقد :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إذا وقع من المتعاقد غلط في أمر مرغوب فيه كصفة المحل ، فالعقد نشأ صحيحا بتوافر اركانه وشروطه لكن يطلب احد الطرفين حل العقد وفسخ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entury Schoolbook"/>
                <a:cs typeface="Arial"/>
              </a:rPr>
              <a:t>امثلة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غلط في صفة في المحل : اشترى شخص ارضا ظانا انها تطل على  الشارع واكتشف انها محاطة بالابنية ، او اشترى قماشا على انه يغسل ثم تبين انه لا يمكن غسله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غلط في ذات المتعاقد  الاخر او في  صفة فيه : اراد شخص التبرع لرجل اسمه احمد واكتشف انه تبرع لخالد ، او اتفق مع طبيب على اساس انه مشهور وتبين انه اقل شهرة ، او تبرع لاحمد على فرض انه فقير واكتشف انه غني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Clr>
                <a:srgbClr val="76a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6a776"/>
                </a:solidFill>
                <a:latin typeface="Century Schoolbook"/>
                <a:cs typeface="Arial"/>
              </a:rPr>
              <a:t>والخلاصة</a:t>
            </a: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أن هذه االعيوب تخل بسلامة الرضا وتعيب الإرادة وتعطي من وقع بها حق فسخ العقد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عنصر نائب للمحتوى 2"/>
          <p:cNvSpPr/>
          <p:nvPr/>
        </p:nvSpPr>
        <p:spPr>
          <a:xfrm>
            <a:off x="179280" y="333360"/>
            <a:ext cx="88059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شروط النفا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- الملك أو الولا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الملك :</a:t>
            </a: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هو حيازة الشيء متى كان الحائز له قادر وحده على التصرف فيه عند عدم المانع الشرعي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والمانع الشرعي يتواجد في حالة المجنون والسفيه والقاصر ، هم مالكين لكن لا يتمتعون بالتصرف لانهم تحت ولاية غير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الولاية : 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سلطة شرعية بها ينعقد وينفذ العقد وهي إم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أصلية :</a:t>
            </a: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entury Schoolbook"/>
              </a:rPr>
              <a:t>أن يتولى الانسان أموره بنف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نيابة : </a:t>
            </a:r>
            <a:r>
              <a:rPr b="1" lang="ar-SA" sz="2400" spc="-1" strike="noStrike">
                <a:solidFill>
                  <a:srgbClr val="002060"/>
                </a:solidFill>
                <a:latin typeface="Century Schoolbook"/>
              </a:rPr>
              <a:t>أن يتولى الشخص أمور غيره كالوكيل أو الأولي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فبائع الشيء يجب ان يكون مالكا له ، اما اذا باع شخص شيء مملوك لغيره فيعد فضولي ، وتصرفه لا ينفذ باعتبار انعدام الولاية او الملك ، وبالتالي فإ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الحنفية والمالكية :  العقد موقوف على اجازة المال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 الحنابلة والشافعية العقد باطل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79280" y="836640"/>
            <a:ext cx="871380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6a776"/>
                </a:solidFill>
                <a:latin typeface="Century Schoolbook"/>
              </a:rPr>
              <a:t>ألا يكون في المبيع حق لغير البائع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واذا كان في المبيع حق لغير البائع كان العقد موقوف غير نافذ حتى يجيزه صاحب الح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فلا ينفذ بيع الراهن للمرهون لانه موقوف على اجازة المرته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 ولا ينفذ بيع المؤجر للمأجور لانه موقوف على اجازة المستأجر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تصرف الفضولي : </a:t>
            </a:r>
            <a:r>
              <a:rPr b="1" lang="ar-SA" sz="1800" spc="-1" strike="noStrike">
                <a:solidFill>
                  <a:srgbClr val="c00000"/>
                </a:solidFill>
                <a:latin typeface="Century Schoolbook"/>
              </a:rPr>
              <a:t>هو من يتصرف فيما يظهر ملكية غيره له . 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وتصرف الفضولي هو تصرفه في شيء أو قيامه بإبرام عقد دون أن يكون له ولاية على القيام ب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كمن يبيع أو يشتري للغير دون وكالة أص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ومن يؤجر او يستأجر لغيره دون وكالة او وصاية او ولاية ودون اذن من الغير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بيع ملك الغير ؛ كبيع الازواج ملك زوجاتهم ، او بيع الافراد ملك الحكومة ، او ملك من تغيب حتى طالت غيبت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وهناك اتجاها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الاول : الشافعية والحنابلة والظاهرية : 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اعتدوا ببطلان تصرف الفضولي ، لا يصح تصرفه ، ولا تلحق البيع  الاجازة ، لان الفضولي يتصرف في ملك الغير دون اذن المالك لانهم اعتبروا  الولاية شرط لانعقاد العق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الثاني : الحنفية والمالكية :  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اعتدوا بصحة بيع الفضولي موقوف على اجازة صاحب الحق المالك ، ان اجازه نفذ وان لم يجزه ابطل ، فاعتبروا الولاية في البائع شرط نفاذوليس انعقاد او صحة ، وتلحق به الاجازة خاصة ان اركان البيع متوافرة والفضولي كامل الاهلية ، ولا يتضرر احد من هذا العقد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133640"/>
            <a:ext cx="87854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b050"/>
                </a:solidFill>
                <a:uFillTx/>
                <a:latin typeface="Calibri"/>
              </a:rPr>
              <a:t>شروط لزوم البي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الأصل في العقود اللزوم ,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ويشترط للزوم العقد كالبيع و الإيجار 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Calibri"/>
              </a:rPr>
              <a:t>خلوه من أحد الخيارات التي تسوغ لآحد العاقدين فسخ العقد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الخيارات تثبت : 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إما باشتراط العاقد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، أو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بتقرير الشرع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، مثل ؛ </a:t>
            </a: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خيار الشرط و خيار التعيين و خيار العيب و خيار الرؤي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فإن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وجد في العقد خيار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كأحد هذه الخيارات </a:t>
            </a:r>
            <a:r>
              <a:rPr b="1" lang="ar-SA" sz="2000" spc="-1" strike="noStrike">
                <a:solidFill>
                  <a:srgbClr val="7030a0"/>
                </a:solidFill>
                <a:latin typeface="Calibri"/>
              </a:rPr>
              <a:t>منع لزومه في حق من له الخيار ,فكان له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أن يفسخ البيع أو ان يقبله ،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ما لم يحث مان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 قد نص القانون الامارتي و الاردني على ما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يكون </a:t>
            </a: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العقد غير لازم بالنسبه الى احد عاقديه أو لكليهما رغم صحته و نفاذه اذا شرط له حق فسخه دون تراض أو تقا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ولكل منهما أن يستقل بفسخه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؛ 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 اذا كان بطبيعته غير لازم بالنسبه اليه, 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 أو شرط لنفسه خيار فسخ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417240"/>
            <a:ext cx="878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70c0"/>
                </a:solidFill>
                <a:uFillTx/>
                <a:latin typeface="Calibri"/>
              </a:rPr>
              <a:t>و خيار الشر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هو ان يكون لأحد المتعاقدين أو لكليهما أو لغيرهما الحق في فسخ العقد أو امضائه خلال مده معلومه، </a:t>
            </a:r>
            <a:r>
              <a:rPr b="1" lang="ar-SA" sz="2200" spc="-1" strike="noStrike">
                <a:solidFill>
                  <a:srgbClr val="002060"/>
                </a:solidFill>
                <a:latin typeface="Calibri"/>
              </a:rPr>
              <a:t>وقد اجازه الشرع صراح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7030a0"/>
                </a:solidFill>
                <a:latin typeface="Calibri"/>
              </a:rPr>
              <a:t>ومن امثلته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-- يقول المشتري للبائع اشتري منك هذه السيارة ولي الخيار لمدة </a:t>
            </a: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3</a:t>
            </a: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 ايام لأتأكد من فحص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-- يقول البائع للمشتري ابيعك هذا المنزل ولي الخيار لمدة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 ايام لاعطي لنفسي فرصة المراجعة لاتمام هذا البيع كونه متردد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70c0"/>
                </a:solidFill>
                <a:uFillTx/>
                <a:latin typeface="Calibri"/>
              </a:rPr>
              <a:t>وخيار الرؤيه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هو أن يكون للمشتري الحق في امضاء العقد أو فسخه عند رؤية المعقود عليه , اذا لم يكن رآه عند انشاء العقد أو قبله بوقت لايتغير فيه عاده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</a:rPr>
              <a:t>واجازه جمهور الفقهاء ما عدا الشافعي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وسببه عدم رؤية محل العقد حين التعاقد او قبله وشراؤه بالوصف ، فبالرؤية يسقط الخيار .</a:t>
            </a:r>
            <a:r>
              <a:rPr b="1" lang="ar-SA" sz="2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79280" y="177336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الاصل رؤية المبيع عند التعاقد اوو قبله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 وتختلف الرؤية بحسب طبيعة المبي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كتاب تكون بالاطلاع ع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حديقة تكون بالذاب لمكانها ومشاهدة حدودها وسعتها الخ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بيت تكون بالدخول فيه ومعاينة محتوياته ومشتملات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ذا لم يتم رؤية المبيع ؛ فيجب النص في العقد على جنسه وصنفه ونوعه ، ويكون للمشتري حق الخيار عند رؤية المبيع في فسخ العقد او عدم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قد الخالي من الرؤية او بدي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95280" y="620640"/>
            <a:ext cx="8424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Calibri"/>
              </a:rPr>
              <a:t>و خيار التع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هو أن يكون للعاقد حق تعيين أحد الاشياء الثلاثه المختلفه في الثمن و الصفه التي ذكرت في العقد، فبالتعيين يصير محل العقد معلوما وانتفت الجه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وهذا الخيار اجازه الحنفية استحسانا لتلبية حاجات الناس ا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alibri"/>
              </a:rPr>
              <a:t>مثا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كأن يقول المشتري اشتري منك ثوب او ثوبين من ثلاثة ، دون ان يعين ايهما شاء ، وعلى ان يكون له الخيار ليومين ليعين المبيع الذي يشاء من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Calibri"/>
              </a:rPr>
              <a:t>و خيار العي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هو أن يكون لأحد العاقدين الحق في فسخ العقد أو امضائه اذا وجد عيب في احد البدلين و لم يكن صاحبه عالما به وقت العق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وعلة ذلك الخوف من ظهور عيب في المعقود عليه او بدله ، خاصة انه لم يكن المتعاقد قد اطلع او علم بالعيب عند التعاقد ، فان ثبت وجود هذا العيب ، اعطي له هذا الخيا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70c0"/>
                </a:solidFill>
                <a:latin typeface="Calibri"/>
                <a:cs typeface="Arial"/>
              </a:rPr>
              <a:t>عند الحنفية والحنابلة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Calibri"/>
                <a:cs typeface="Arial"/>
              </a:rPr>
              <a:t>هذا الشرط مطلوب في المعاوضات والتبرعات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، والنبي نهى عن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بيع حبل الحبلة (( ولد الناقة او ولد ولدها ))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وعن بيع المضامين ((ما في اصلاب ذكور الابل ونحوها ))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والملاقيح(( ما في بطون اناث الابل ونحوها 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بيع ما ليس عند الانسان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70c0"/>
                </a:solidFill>
                <a:latin typeface="Calibri"/>
                <a:cs typeface="Arial"/>
              </a:rPr>
              <a:t>عند المالكية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cs typeface="Arial"/>
              </a:rPr>
              <a:t>هذا الشرط يشترط في المعاوضات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  <a:cs typeface="Arial"/>
              </a:rPr>
              <a:t>لكن في التبرعات اجازوا ان لا يكون محل العقد موجودا حين التعاقد بل يكفي ان يكون محتمل الوجود في المستقبل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  <a:ea typeface="Arial"/>
              </a:rPr>
              <a:t>.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عند الحنابلة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اشترط الفقه الحنبلي خلو البيع من الغرر المنهي عنه ، مثل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بيع الحمل في البطن دون الا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وبيع اللبن في الضرع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وبيع الصوف على ظهر الغن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لا يجوز التعامل في تركة انسان على قيد الحياة ولو كان برضاه الا فيما نص عليه القانو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6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ثانيا : 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حل العقد مالاً متقومًا مملوكًا للبائع وقت العقد فإن لم يكن كذلك وإلا كان العقد باطلًا</a:t>
            </a:r>
            <a:r>
              <a:rPr b="0" lang="en-US" sz="3700" spc="-1" strike="noStrike">
                <a:solidFill>
                  <a:srgbClr val="002060"/>
                </a:solidFill>
                <a:latin typeface="Muna Bold"/>
                <a:ea typeface="Muna Bold"/>
              </a:rPr>
              <a:t>.</a:t>
            </a:r>
            <a:br>
              <a:rPr sz="3700"/>
            </a:b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فبيع الميته والدم  والخمر ولحم الخنزير في حق المسلم باطل، لإنهما غير متقومين شرعًا. 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بيع غير المملوك أو هبته باطل لأنها غير مملوكة لشخص أو غير متقبلة للتملك، كبيع الماء أو الهواء.</a:t>
            </a:r>
            <a:br>
              <a:rPr sz="2500"/>
            </a:b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محل العقد :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لايقتصر على الاعيان او الاشياء المادية بل يشمل ؛ المنافع والحقوق المالية كالدين في الذمة ، وحقوق الارتفاق كبيع العلو والسفل والمرور والمسيل ، ونقل الحق الادبي كالتأليف والملكية الصناعية كبراءة الاختراع .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يجوز ان يكون محل العقد ، عما كالبناء او الامتناع عن عمل كعدم المنافسة .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العقد الذي يخالف النظام العام والاداب العامةو يعتبر باطل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1122120"/>
            <a:ext cx="6960960" cy="38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Muna Bold"/>
                <a:cs typeface="Muna Bold"/>
              </a:rPr>
              <a:t>ثالثا : </a:t>
            </a:r>
            <a:r>
              <a:rPr b="0" lang="en-US" sz="32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قدور التسليم للمشتري وقت التعاقد.</a:t>
            </a:r>
            <a:r>
              <a:rPr b="0" lang="ar-SA" sz="3200" spc="-1" strike="noStrike">
                <a:solidFill>
                  <a:srgbClr val="ff0000"/>
                </a:solidFill>
                <a:latin typeface="Muna Bold"/>
                <a:ea typeface="Muna Bold"/>
              </a:rPr>
              <a:t> (( ممكنا ))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300" spc="-1" strike="noStrike">
                <a:solidFill>
                  <a:srgbClr val="3e6697"/>
                </a:solidFill>
                <a:latin typeface="Muna Bold"/>
                <a:ea typeface="Muna Bold"/>
              </a:rPr>
              <a:t> فلا ينعقد البيع إذا كان المبيع معجوز التلسيم حين التعاقد، وإن كان موجودًا أو مملوكًا للعاقد  فيكون العقد باطل كبيع الطير في الهواء والسمك في الماء.</a:t>
            </a:r>
            <a:br>
              <a:rPr sz="2300"/>
            </a:br>
            <a:r>
              <a:rPr b="0" lang="en-US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السبب في البطلان هو بيع الغرر الذي نهى عنه الرسول صلى عليه وسلم والغرر هنا: الجهالة، أي الجهالة وقت التسليم أو مكانه.</a:t>
            </a:r>
            <a:br>
              <a:rPr sz="2300"/>
            </a:br>
            <a:br>
              <a:rPr sz="2300"/>
            </a:br>
            <a:r>
              <a:rPr b="0" lang="ar-SA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في التبرعات عند غير المالكية </a:t>
            </a:r>
            <a:r>
              <a:rPr b="0" lang="en-US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هذا الشرط مطلوب في المعاوضات المالية باتفاق العلماء</a:t>
            </a:r>
            <a:r>
              <a:rPr b="0" lang="en-US" sz="2300" spc="-1" strike="noStrike">
                <a:solidFill>
                  <a:srgbClr val="3e6697"/>
                </a:solidFill>
                <a:latin typeface="Muna Bold"/>
                <a:ea typeface="Muna Bold"/>
              </a:rPr>
              <a:t>.</a:t>
            </a:r>
            <a:r>
              <a:rPr b="0" lang="en-US" sz="3200" spc="-1" strike="noStrike">
                <a:solidFill>
                  <a:srgbClr val="8986e9"/>
                </a:solidFill>
                <a:latin typeface="Muna Bold"/>
                <a:ea typeface="Mun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087640" y="739800"/>
            <a:ext cx="669744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رابعا : 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عينًا معلومًا للعاقدين علمًا يمنع من المنازعات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ea typeface="Muna Bold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فلا يصح بيع المجهول جهالة فاحشه مثل: بعتك مافي منزلي من أثاث أو بعتك أحد هذين البيتين، للنهي الوارد في السنه عن بيع الغرر والجهول 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هو بيع الحصاة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</a:t>
            </a:r>
            <a:r>
              <a:rPr b="0" lang="en-US" sz="2500" spc="-1" strike="noStrike" u="sng">
                <a:solidFill>
                  <a:srgbClr val="0070c0"/>
                </a:solidFill>
                <a:uFillTx/>
                <a:latin typeface="Muna Bold"/>
                <a:cs typeface="Muna Bold"/>
              </a:rPr>
              <a:t>الجهالة الفاحشة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: هي التي تفضي إلى المنازعة، ويكون العقد فاسداً عند الحنفية باطلًا عند الجمهور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تغتفر</a:t>
            </a:r>
            <a:r>
              <a:rPr b="0" lang="en-US" sz="2500" spc="-1" strike="noStrike" u="sng">
                <a:solidFill>
                  <a:srgbClr val="0070c0"/>
                </a:solidFill>
                <a:uFillTx/>
                <a:latin typeface="Muna Bold"/>
                <a:ea typeface="Muna Bold"/>
              </a:rPr>
              <a:t> الجهالة اليسيره :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وهي التي لا تؤدي إلى منازعة ويتسامح فيها الناس عادة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7120" y="522000"/>
            <a:ext cx="6870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una Bold"/>
                <a:cs typeface="Muna Bold"/>
              </a:rPr>
              <a:t>٥</a:t>
            </a:r>
            <a:r>
              <a:rPr b="1" lang="en-US" sz="2000" spc="-1" strike="noStrike">
                <a:solidFill>
                  <a:srgbClr val="ffffff"/>
                </a:solidFill>
                <a:latin typeface="Muna Bold"/>
                <a:ea typeface="Muna Bold"/>
              </a:rPr>
              <a:t>/ واشترط الجمهور غير الحنفية أن يكون المبيع طاهرًا ، لا نجسًا و لا متجنسًا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شافية والحنابلة :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طلبوا هذا الشرط في المعاوضات المالية كالبيع والايجار وغير المالية كالزواج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في التبرعات كالهبة والوصية والوقف 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حنفية :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مطلوب في المعاوضات المالية وغير المالية ولا يشترط في التبرعات كالوصية والكفالة ، 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فتصح فيهما الجهالة 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مالكية :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اشترطوه في المعاوضات المالية فقط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ويشترط العلم في المبيع يشترط كذلك في الثمن ، فيجب ان يكون معلوم القدر والجنس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، فلا يصح ان يقول اشتريت منك بما في يددي من دراهم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معرفة جنس الثمن ضروري اي نوع العملة ، وان حدث خلاف يرجع نقد البلد لانه هو الظاهر للتعامل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خامسا : اشترط الجمهور غير الحنفية ان يكون البيع طاهرا لا نجسا ولا متجنسا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ea typeface="Muna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لأن جواز البيع يتبع الطهارة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، بحيث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طاهر هو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: </a:t>
            </a:r>
            <a:r>
              <a:rPr b="1" lang="ar-SA" sz="2000" spc="-1" strike="noStrike">
                <a:solidFill>
                  <a:srgbClr val="00b050"/>
                </a:solidFill>
                <a:latin typeface="Muna Bold"/>
                <a:cs typeface="Muna Bold"/>
              </a:rPr>
              <a:t>ما يباح الانتفاع به شرعا ، ف</a:t>
            </a:r>
            <a:r>
              <a:rPr b="1" lang="en-US" sz="2000" spc="-1" strike="noStrike">
                <a:solidFill>
                  <a:srgbClr val="00b050"/>
                </a:solidFill>
                <a:latin typeface="Muna Bold"/>
                <a:cs typeface="Muna Bold"/>
              </a:rPr>
              <a:t>إذا كان مباح جاز الانتفاع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أما النجس و المتجنس كالكلب و الخنزير و الميتة.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.الخ فيبطل بيعه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و لم يشترط الحنفية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هذا الشرط ، فأجازوا بيع النجاسات كشعر الخنزير و الميتة للانتفاع بها إلا ما ورد النهي عن بيعه كالخمر و الخنزير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...الخ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 اشترط القانون الإماراتي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أن يكون محل العقد جائزًا التعامل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n</dc:creator>
  <dc:description/>
  <dc:language>en-US</dc:language>
  <cp:lastModifiedBy>eman</cp:lastModifiedBy>
  <dcterms:modified xsi:type="dcterms:W3CDTF">2016-10-10T23:45:15Z</dcterms:modified>
  <cp:revision>74</cp:revision>
  <dc:subject/>
  <dc:title>عرض تقديمي في PowerPoint</dc:title>
</cp:coreProperties>
</file>