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C53A-1A4B-4DE9-A3BE-C30276182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01A8-1293-4FA2-B32F-A34874204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65C1-4415-41EA-BE3D-827AFE964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3FCD-181F-4652-A661-5ACAA064C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1E5B01-62A2-44A6-A505-8184A9D2CD2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9107DC-FC45-4C1A-896A-401AF5C5B6B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049141-2FBD-4279-8B8F-AE771E7869B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E34A0B-E9D4-4EA8-B36B-B9C37A775D0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AE3296-C232-4E64-8DFD-C7ADF4EC825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3B25A2-DB28-4C76-B394-BD66CACF97D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E98A4D-E540-4005-A7F8-2909EAD5E4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DFB4-1434-4721-86D4-9C49408C8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A20A11-48C2-4B30-892B-B66E320B4EA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6E288F-BF0B-4E57-92C8-5C1429333ED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A55D65-CBF9-48C3-B135-6D2019D9059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0BD228-DE07-4FF3-BF9A-96A98708ED7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406AC0-36DF-4BDE-A91A-B1B04014DC7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FBA767-857D-47C5-8CE9-BBB06744B9A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8D56FE-19F5-4EF6-9795-ABFE4B78313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9E607B-813F-4BD0-BC2F-E4E6B64F053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13159D-A0AD-4034-BA87-035E7B810A9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E01FEF-2A1B-462E-A331-53CCA0A8B0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873C-8C77-4569-B1D9-B205B1DF1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31B997-76BA-4F4A-B116-6E4EB123307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EF366E-F4F4-4FC7-93BC-8929E9BD212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EAAFB7-5524-4E5B-9977-3ECE6DFD578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7B5A46-0C22-4F71-B672-060E205EC09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C3CACA-5425-4987-BB44-510AF2667E3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75B66A-FDAF-474F-B28B-F565442F550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E89BA9-5920-4E87-8DDF-1ECEE32AE0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3709-6D8A-4AC7-9433-2D743477C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E83C-2D9E-409B-A81A-ED9FDF9C6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1549-8295-40D0-A419-BFC03405B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C5A0-F108-443B-BBD2-282F51237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81EA-FCBC-4B68-B2E9-966266788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D034-182A-42DC-A495-3415EA39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84EB9-1A63-404D-8069-AC0AF7AB4E5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4444560" y="6505200"/>
            <a:ext cx="244440" cy="2667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Light"/>
                <a:ea typeface="Helvetica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7CDAB-E239-4B83-A879-EDC1F45DC5AB}" type="slidenum">
              <a:rPr b="0" lang="en-US" sz="1200" spc="-1" strike="noStrike">
                <a:solidFill>
                  <a:srgbClr val="000000"/>
                </a:solidFill>
                <a:latin typeface="Helvetica Light"/>
                <a:ea typeface="Helvetica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5"/>
          </p:nvPr>
        </p:nvSpPr>
        <p:spPr>
          <a:xfrm>
            <a:off x="4444560" y="6505200"/>
            <a:ext cx="244440" cy="2667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Light"/>
                <a:ea typeface="Helvetica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F248F-12F5-4269-BD47-9F7A416DC9ED}" type="slidenum">
              <a:rPr b="0" lang="en-US" sz="1200" spc="-1" strike="noStrike">
                <a:solidFill>
                  <a:srgbClr val="000000"/>
                </a:solidFill>
                <a:latin typeface="Helvetica Light"/>
                <a:ea typeface="Helvetica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hape 205"/>
          <p:cNvSpPr/>
          <p:nvPr/>
        </p:nvSpPr>
        <p:spPr>
          <a:xfrm>
            <a:off x="1625760" y="2170080"/>
            <a:ext cx="5597280" cy="21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900" spc="-1" strike="noStrike">
                <a:solidFill>
                  <a:srgbClr val="4f81bd"/>
                </a:solidFill>
                <a:latin typeface="Century Schoolbook"/>
              </a:rPr>
              <a:t>شروط المبيع</a:t>
            </a:r>
            <a:r>
              <a:rPr b="0" lang="en-US" sz="6900" spc="-1" strike="noStrike">
                <a:solidFill>
                  <a:srgbClr val="4f81bd"/>
                </a:solidFill>
                <a:latin typeface="Century Schoolbook"/>
              </a:rPr>
              <a:t> 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4f81bd"/>
                </a:solidFill>
                <a:latin typeface="Century Schoolbook"/>
              </a:rPr>
              <a:t>(</a:t>
            </a:r>
            <a:r>
              <a:rPr b="0" lang="ar-SA" sz="6900" spc="-1" strike="noStrike">
                <a:solidFill>
                  <a:srgbClr val="4f81bd"/>
                </a:solidFill>
                <a:latin typeface="Century Schoolbook"/>
              </a:rPr>
              <a:t>المعقود عليه</a:t>
            </a:r>
            <a:r>
              <a:rPr b="0" lang="en-US" sz="6900" spc="-1" strike="noStrike">
                <a:solidFill>
                  <a:srgbClr val="4f81bd"/>
                </a:solidFill>
                <a:latin typeface="Century Schoolbook"/>
              </a:rPr>
              <a:t>)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hape 206"/>
          <p:cNvSpPr/>
          <p:nvPr/>
        </p:nvSpPr>
        <p:spPr>
          <a:xfrm>
            <a:off x="279360" y="0"/>
            <a:ext cx="549360" cy="6858000"/>
          </a:xfrm>
          <a:prstGeom prst="rect">
            <a:avLst/>
          </a:prstGeom>
          <a:solidFill>
            <a:srgbClr val="adb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hape 207"/>
          <p:cNvSpPr/>
          <p:nvPr/>
        </p:nvSpPr>
        <p:spPr>
          <a:xfrm>
            <a:off x="9058320" y="0"/>
            <a:ext cx="57240" cy="6858000"/>
          </a:xfrm>
          <a:prstGeom prst="rect">
            <a:avLst/>
          </a:prstGeom>
          <a:solidFill>
            <a:srgbClr val="aeb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hape 208"/>
          <p:cNvSpPr/>
          <p:nvPr/>
        </p:nvSpPr>
        <p:spPr>
          <a:xfrm>
            <a:off x="7526160" y="4886280"/>
            <a:ext cx="941400" cy="912960"/>
          </a:xfrm>
          <a:prstGeom prst="ellipse">
            <a:avLst/>
          </a:prstGeom>
          <a:solidFill>
            <a:srgbClr val="6f7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hape 209"/>
          <p:cNvSpPr/>
          <p:nvPr/>
        </p:nvSpPr>
        <p:spPr>
          <a:xfrm>
            <a:off x="7612200" y="5838840"/>
            <a:ext cx="498240" cy="500040"/>
          </a:xfrm>
          <a:prstGeom prst="ellipse">
            <a:avLst/>
          </a:prstGeom>
          <a:solidFill>
            <a:srgbClr val="ada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78000" y="243000"/>
            <a:ext cx="8092800" cy="642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3300" spc="-1" strike="noStrike">
                <a:solidFill>
                  <a:srgbClr val="002060"/>
                </a:solidFill>
                <a:latin typeface="Muna Bold"/>
                <a:cs typeface="Muna Bold"/>
              </a:rPr>
              <a:t>شرائط صحة البيع</a:t>
            </a:r>
            <a:r>
              <a:rPr b="1" lang="en-US" sz="2900" spc="-1" strike="noStrike">
                <a:solidFill>
                  <a:srgbClr val="002060"/>
                </a:solidFill>
                <a:latin typeface="Muna Bold"/>
                <a:ea typeface="Muna Bold"/>
              </a:rPr>
              <a:t> </a:t>
            </a:r>
            <a:br>
              <a:rPr sz="2900"/>
            </a:br>
            <a:br>
              <a:rPr sz="2900"/>
            </a:br>
            <a:r>
              <a:rPr b="1" lang="en-US" sz="2900" spc="-1" strike="noStrike">
                <a:solidFill>
                  <a:srgbClr val="002060"/>
                </a:solidFill>
                <a:latin typeface="Muna Regular"/>
                <a:cs typeface="Muna Regular"/>
              </a:rPr>
              <a:t>الأركان اللازمة لانعقاد العقد هي:</a:t>
            </a:r>
            <a:br>
              <a:rPr sz="2900"/>
            </a:br>
            <a:r>
              <a:rPr b="1" lang="ar-SA" sz="2900" spc="-1" strike="noStrike" u="sng">
                <a:solidFill>
                  <a:srgbClr val="002060"/>
                </a:solidFill>
                <a:uFillTx/>
                <a:latin typeface="Muna Regular"/>
                <a:ea typeface="Muna Regular"/>
              </a:rPr>
              <a:t> * </a:t>
            </a:r>
            <a:r>
              <a:rPr b="1" lang="en-US" sz="2900" spc="-1" strike="noStrike" u="sng">
                <a:solidFill>
                  <a:srgbClr val="002060"/>
                </a:solidFill>
                <a:uFillTx/>
                <a:latin typeface="Muna Regular"/>
                <a:cs typeface="Muna Regular"/>
              </a:rPr>
              <a:t>أن يتم تراضي طرفي العقد على العناصر الأساسية</a:t>
            </a:r>
            <a:r>
              <a:rPr b="1" lang="ar-SA" sz="2900" spc="-1" strike="noStrike" u="sng">
                <a:solidFill>
                  <a:srgbClr val="002060"/>
                </a:solidFill>
                <a:uFillTx/>
                <a:latin typeface="Muna Regular"/>
                <a:ea typeface="Muna Regular"/>
              </a:rPr>
              <a:t> ، وان يكون الرضا سليما من العيوب . </a:t>
            </a:r>
            <a:br>
              <a:rPr sz="2900"/>
            </a:br>
            <a:br>
              <a:rPr sz="2900"/>
            </a:br>
            <a:r>
              <a:rPr b="1" lang="en-US" sz="2500" spc="-1" strike="noStrike" u="sng">
                <a:solidFill>
                  <a:srgbClr val="002060"/>
                </a:solidFill>
                <a:uFillTx/>
                <a:latin typeface="Muna Regular"/>
                <a:cs typeface="Muna Regular"/>
              </a:rPr>
              <a:t>فالتراضي </a:t>
            </a:r>
            <a:r>
              <a:rPr b="1" lang="en-US" sz="2500" spc="-1" strike="noStrike">
                <a:solidFill>
                  <a:srgbClr val="002060"/>
                </a:solidFill>
                <a:latin typeface="Muna Regular"/>
                <a:cs typeface="Muna Regular"/>
              </a:rPr>
              <a:t>من أهم شروط صحة العقد و يلزم أن </a:t>
            </a:r>
            <a:r>
              <a:rPr b="1" lang="en-US" sz="2500" spc="-1" strike="noStrike">
                <a:solidFill>
                  <a:srgbClr val="c00000"/>
                </a:solidFill>
                <a:latin typeface="Muna Regular"/>
                <a:cs typeface="Muna Regular"/>
              </a:rPr>
              <a:t>يتعلق بمبيع و ثمن </a:t>
            </a:r>
            <a:r>
              <a:rPr b="1" lang="ar-SA" sz="2500" spc="-1" strike="noStrike">
                <a:solidFill>
                  <a:srgbClr val="c00000"/>
                </a:solidFill>
                <a:latin typeface="Muna Regular"/>
                <a:ea typeface="Muna Regular"/>
              </a:rPr>
              <a:t>.</a:t>
            </a:r>
            <a:br>
              <a:rPr sz="2500"/>
            </a:br>
            <a:r>
              <a:rPr b="1" lang="ar-SA" sz="2500" spc="-1" strike="noStrike">
                <a:solidFill>
                  <a:srgbClr val="002060"/>
                </a:solidFill>
                <a:latin typeface="Muna Regular"/>
                <a:ea typeface="Muna Regular"/>
              </a:rPr>
              <a:t> </a:t>
            </a:r>
            <a:r>
              <a:rPr b="1" lang="ar-SA" sz="2500" spc="-1" strike="noStrike">
                <a:solidFill>
                  <a:srgbClr val="c00000"/>
                </a:solidFill>
                <a:latin typeface="Muna Regular"/>
                <a:cs typeface="Muna Regular"/>
              </a:rPr>
              <a:t>عقد البيع </a:t>
            </a:r>
            <a:r>
              <a:rPr b="1" lang="ar-JO" sz="2500" spc="-1" strike="noStrike">
                <a:solidFill>
                  <a:srgbClr val="c00000"/>
                </a:solidFill>
                <a:latin typeface="Muna Regular"/>
                <a:cs typeface="Muna Regular"/>
              </a:rPr>
              <a:t>من العقود الرضائية </a:t>
            </a:r>
            <a:r>
              <a:rPr b="1" lang="ar-SA" sz="2500" spc="-1" strike="noStrike">
                <a:solidFill>
                  <a:srgbClr val="c00000"/>
                </a:solidFill>
                <a:latin typeface="Muna Regular"/>
                <a:cs typeface="Muna Regular"/>
              </a:rPr>
              <a:t>، </a:t>
            </a:r>
            <a:r>
              <a:rPr b="1" lang="en-US" sz="2500" spc="-1" strike="noStrike">
                <a:solidFill>
                  <a:srgbClr val="002060"/>
                </a:solidFill>
                <a:latin typeface="Muna Regular"/>
                <a:cs typeface="Muna Regular"/>
              </a:rPr>
              <a:t>و التراضي بين البائع و المشتري و يعبر </a:t>
            </a:r>
            <a:br>
              <a:rPr sz="2500"/>
            </a:br>
            <a:r>
              <a:rPr b="1" lang="en-US" sz="2500" spc="-1" strike="noStrike">
                <a:solidFill>
                  <a:srgbClr val="002060"/>
                </a:solidFill>
                <a:latin typeface="Muna Regular"/>
                <a:cs typeface="Muna Regular"/>
              </a:rPr>
              <a:t>عنه بالإيجاب و القبول</a:t>
            </a:r>
            <a:br>
              <a:rPr sz="2900"/>
            </a:br>
            <a:r>
              <a:rPr b="1" lang="en-US" sz="2200" spc="-1" strike="noStrike">
                <a:solidFill>
                  <a:srgbClr val="ff0000"/>
                </a:solidFill>
                <a:latin typeface="Muna Regular"/>
                <a:cs typeface="Muna Regular"/>
              </a:rPr>
              <a:t>إذا اتفق العاقدان على المبيع </a:t>
            </a:r>
            <a:r>
              <a:rPr b="1" lang="ar-SA" sz="2200" spc="-1" strike="noStrike">
                <a:solidFill>
                  <a:srgbClr val="ff0000"/>
                </a:solidFill>
                <a:latin typeface="Muna Regular"/>
                <a:ea typeface="Muna Regular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Muna Regular"/>
                <a:cs typeface="Muna Regular"/>
              </a:rPr>
              <a:t>و الثمن و على العناصر الأساسية في البيع </a:t>
            </a:r>
            <a:r>
              <a:rPr b="1" lang="en-US" sz="2200" spc="-1" strike="noStrike">
                <a:solidFill>
                  <a:srgbClr val="00b0f0"/>
                </a:solidFill>
                <a:latin typeface="Muna Regular"/>
                <a:cs typeface="Muna Regular"/>
              </a:rPr>
              <a:t>صح العقد </a:t>
            </a:r>
            <a:br>
              <a:rPr sz="2200"/>
            </a:br>
            <a:r>
              <a:rPr b="1" lang="en-US" sz="2200" spc="-1" strike="noStrike">
                <a:solidFill>
                  <a:srgbClr val="002060"/>
                </a:solidFill>
                <a:latin typeface="Muna Regular"/>
                <a:cs typeface="Muna Regular"/>
              </a:rPr>
              <a:t>و القانون اكتفى لإتمام العقد بالاتفاق على العناصر الأساسية و الجوهرية فيه</a:t>
            </a:r>
            <a:br>
              <a:rPr sz="2200"/>
            </a:br>
            <a:r>
              <a:rPr b="1" lang="ar-SA" sz="2200" spc="-1" strike="noStrike">
                <a:solidFill>
                  <a:srgbClr val="002060"/>
                </a:solidFill>
                <a:latin typeface="Muna Regular"/>
                <a:ea typeface="Muna Regular"/>
              </a:rPr>
              <a:t> </a:t>
            </a:r>
            <a:r>
              <a:rPr b="1" lang="en-US" sz="2200" spc="-1" strike="noStrike">
                <a:solidFill>
                  <a:srgbClr val="00b050"/>
                </a:solidFill>
                <a:latin typeface="Muna Regular"/>
                <a:cs typeface="Muna Regular"/>
              </a:rPr>
              <a:t>فإذا لم يوجد الرضا في العقد المعبر عنه بالإيجاب و القبول بطل العقد</a:t>
            </a:r>
            <a:r>
              <a:rPr b="1" lang="ar-SA" sz="2200" spc="-1" strike="noStrike">
                <a:solidFill>
                  <a:srgbClr val="00b050"/>
                </a:solidFill>
                <a:latin typeface="Muna Regular"/>
                <a:ea typeface="Muna Regular"/>
              </a:rPr>
              <a:t> ولا يترتب عليه اثار البيع </a:t>
            </a:r>
            <a:r>
              <a:rPr b="1" lang="en-US" sz="2200" spc="-1" strike="noStrike">
                <a:solidFill>
                  <a:srgbClr val="002060"/>
                </a:solidFill>
                <a:latin typeface="Muna Regular"/>
                <a:ea typeface="Muna Regular"/>
              </a:rPr>
              <a:t>.</a:t>
            </a:r>
            <a:br>
              <a:rPr sz="2200"/>
            </a:br>
            <a:br>
              <a:rPr sz="2200"/>
            </a:br>
            <a:r>
              <a:rPr b="1" lang="ar-SA" sz="2800" spc="-1" strike="noStrike" u="sng">
                <a:solidFill>
                  <a:srgbClr val="002060"/>
                </a:solidFill>
                <a:uFillTx/>
                <a:latin typeface="Muna Regular"/>
                <a:ea typeface="Muna Regular"/>
              </a:rPr>
              <a:t>* </a:t>
            </a:r>
            <a:r>
              <a:rPr b="1" lang="en-US" sz="2800" spc="-1" strike="noStrike" u="sng">
                <a:solidFill>
                  <a:srgbClr val="002060"/>
                </a:solidFill>
                <a:uFillTx/>
                <a:latin typeface="Muna Regular"/>
                <a:cs typeface="Muna Regular"/>
              </a:rPr>
              <a:t>و لا يكفي الرضا فقط بل لابد أن يكون سليمًا من العيوب</a:t>
            </a:r>
            <a:r>
              <a:rPr b="1" lang="ar-SA" sz="2800" spc="-1" strike="noStrike" u="sng">
                <a:solidFill>
                  <a:srgbClr val="002060"/>
                </a:solidFill>
                <a:uFillTx/>
                <a:latin typeface="Muna Regular"/>
                <a:ea typeface="Muna Regular"/>
              </a:rPr>
              <a:t> </a:t>
            </a:r>
            <a:br>
              <a:rPr sz="2800"/>
            </a:br>
            <a:r>
              <a:rPr b="1" lang="ar-SA" sz="2000" spc="-1" strike="noStrike">
                <a:solidFill>
                  <a:srgbClr val="002060"/>
                </a:solidFill>
                <a:latin typeface="Muna Regular"/>
                <a:cs typeface="Muna Regular"/>
              </a:rPr>
              <a:t>اي يجب ان يكون هناك تطابق الارادة الظاهرة بالايجاب والقبول مع الارادة الباطنة بسلامة الرضا ، </a:t>
            </a:r>
            <a:r>
              <a:rPr b="1" lang="en-US" sz="2000" spc="-1" strike="noStrike">
                <a:solidFill>
                  <a:srgbClr val="002060"/>
                </a:solidFill>
                <a:latin typeface="Muna Regular"/>
                <a:ea typeface="Muna Regular"/>
              </a:rPr>
              <a:t> فإذا لم يكن سليم كان العقد مختلا قابلا للإبطال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hape 223"/>
          <p:cNvSpPr/>
          <p:nvPr/>
        </p:nvSpPr>
        <p:spPr>
          <a:xfrm>
            <a:off x="7920" y="1219320"/>
            <a:ext cx="9128160" cy="3743280"/>
          </a:xfrm>
          <a:prstGeom prst="rect">
            <a:avLst/>
          </a:prstGeom>
          <a:solidFill>
            <a:srgbClr val="3e6697"/>
          </a:solidFill>
          <a:ln w="0">
            <a:noFill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5640" rIns="3564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hape 224"/>
          <p:cNvSpPr/>
          <p:nvPr/>
        </p:nvSpPr>
        <p:spPr>
          <a:xfrm>
            <a:off x="341280" y="1579680"/>
            <a:ext cx="8461440" cy="30207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  <a:effectLst>
            <a:outerShdw dist="20160" dir="5400000" blurRad="0" rotWithShape="0">
              <a:srgbClr val="000000">
                <a:alpha val="4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5640" rIns="35640" tIns="35640" bIns="3564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hape 225"/>
          <p:cNvSpPr/>
          <p:nvPr/>
        </p:nvSpPr>
        <p:spPr>
          <a:xfrm>
            <a:off x="2261880" y="2295720"/>
            <a:ext cx="4381920" cy="22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5640" rIns="35640" tIns="35640" bIns="3564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r>
              <a:rPr b="0" lang="ar-SA" sz="3600" spc="-1" strike="noStrike">
                <a:solidFill>
                  <a:srgbClr val="8798ff"/>
                </a:solidFill>
                <a:latin typeface="Geeza Pro Regular"/>
                <a:cs typeface="Geeza Pro Regular"/>
              </a:rPr>
              <a:t>عيوب الرضا هي ثلاثة</a:t>
            </a:r>
            <a:r>
              <a:rPr b="0" lang="en-US" sz="3600" spc="-1" strike="noStrike">
                <a:solidFill>
                  <a:srgbClr val="8798ff"/>
                </a:solidFill>
                <a:latin typeface="Geeza Pro Regular"/>
                <a:ea typeface="Geeza Pro Regular"/>
              </a:rPr>
              <a:t> :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r>
              <a:rPr b="0" lang="ar-SA" sz="3600" spc="-1" strike="noStrike">
                <a:solidFill>
                  <a:srgbClr val="8798ff"/>
                </a:solidFill>
                <a:latin typeface="Geeza Pro Regular"/>
                <a:cs typeface="Geeza Pro Regular"/>
              </a:rPr>
              <a:t>١</a:t>
            </a:r>
            <a:r>
              <a:rPr b="0" lang="en-US" sz="3600" spc="-1" strike="noStrike">
                <a:solidFill>
                  <a:srgbClr val="8798ff"/>
                </a:solidFill>
                <a:latin typeface="Geeza Pro Regular"/>
                <a:ea typeface="Geeza Pro Regular"/>
              </a:rPr>
              <a:t>) </a:t>
            </a:r>
            <a:r>
              <a:rPr b="0" lang="ar-SA" sz="3600" spc="-1" strike="noStrike">
                <a:solidFill>
                  <a:srgbClr val="8798ff"/>
                </a:solidFill>
                <a:latin typeface="Geeza Pro Regular"/>
                <a:cs typeface="Geeza Pro Regular"/>
              </a:rPr>
              <a:t>الإكراه</a:t>
            </a:r>
            <a:r>
              <a:rPr b="0" lang="en-US" sz="3600" spc="-1" strike="noStrike">
                <a:solidFill>
                  <a:srgbClr val="8798ff"/>
                </a:solidFill>
                <a:latin typeface="Geeza Pro Regular"/>
                <a:ea typeface="Geeza Pro Regular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r>
              <a:rPr b="0" lang="ar-SA" sz="3600" spc="-1" strike="noStrike">
                <a:solidFill>
                  <a:srgbClr val="8798ff"/>
                </a:solidFill>
                <a:latin typeface="Geeza Pro Regular"/>
                <a:cs typeface="Geeza Pro Regular"/>
              </a:rPr>
              <a:t>٢</a:t>
            </a:r>
            <a:r>
              <a:rPr b="0" lang="en-US" sz="3600" spc="-1" strike="noStrike">
                <a:solidFill>
                  <a:srgbClr val="8798ff"/>
                </a:solidFill>
                <a:latin typeface="Geeza Pro Regular"/>
                <a:ea typeface="Geeza Pro Regular"/>
              </a:rPr>
              <a:t>) </a:t>
            </a:r>
            <a:r>
              <a:rPr b="0" lang="ar-SA" sz="3600" spc="-1" strike="noStrike">
                <a:solidFill>
                  <a:srgbClr val="8798ff"/>
                </a:solidFill>
                <a:latin typeface="Geeza Pro Regular"/>
                <a:cs typeface="Geeza Pro Regular"/>
              </a:rPr>
              <a:t>التغرير</a:t>
            </a:r>
            <a:r>
              <a:rPr b="0" lang="en-US" sz="3600" spc="-1" strike="noStrike">
                <a:solidFill>
                  <a:srgbClr val="8798ff"/>
                </a:solidFill>
                <a:latin typeface="Geeza Pro Regular"/>
                <a:ea typeface="Geeza Pro Regular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r>
              <a:rPr b="0" lang="ar-SA" sz="3600" spc="-1" strike="noStrike">
                <a:solidFill>
                  <a:srgbClr val="8798ff"/>
                </a:solidFill>
                <a:latin typeface="Geeza Pro Regular"/>
                <a:cs typeface="Geeza Pro Regular"/>
              </a:rPr>
              <a:t>٣</a:t>
            </a:r>
            <a:r>
              <a:rPr b="0" lang="en-US" sz="3600" spc="-1" strike="noStrike">
                <a:solidFill>
                  <a:srgbClr val="8798ff"/>
                </a:solidFill>
                <a:latin typeface="Geeza Pro Regular"/>
                <a:ea typeface="Geeza Pro Regular"/>
              </a:rPr>
              <a:t>) </a:t>
            </a:r>
            <a:r>
              <a:rPr b="0" lang="ar-SA" sz="3600" spc="-1" strike="noStrike">
                <a:solidFill>
                  <a:srgbClr val="8798ff"/>
                </a:solidFill>
                <a:latin typeface="Geeza Pro Regular"/>
                <a:cs typeface="Geeza Pro Regular"/>
              </a:rPr>
              <a:t>الغلط</a:t>
            </a:r>
            <a:r>
              <a:rPr b="0" lang="en-US" sz="3600" spc="-1" strike="noStrike">
                <a:solidFill>
                  <a:srgbClr val="8798ff"/>
                </a:solidFill>
                <a:latin typeface="Geeza Pro Regular"/>
                <a:ea typeface="Geeza Pro Regular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hape 227"/>
          <p:cNvSpPr/>
          <p:nvPr/>
        </p:nvSpPr>
        <p:spPr>
          <a:xfrm>
            <a:off x="87480" y="2707200"/>
            <a:ext cx="896904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5640" rIns="35640" tIns="35640" bIns="3564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r>
              <a:rPr b="1" lang="en-US" sz="4200" spc="-1" strike="noStrike">
                <a:solidFill>
                  <a:srgbClr val="8d67dc"/>
                </a:solidFill>
                <a:latin typeface="Geeza Pro Regular"/>
                <a:ea typeface="Geeza Pro Regular"/>
              </a:rPr>
              <a:t> </a:t>
            </a:r>
            <a:r>
              <a:rPr b="1" lang="ar-SA" sz="4200" spc="-1" strike="noStrike">
                <a:solidFill>
                  <a:srgbClr val="8d67dc"/>
                </a:solidFill>
                <a:latin typeface="Geeza Pro Regular"/>
                <a:cs typeface="Geeza Pro Regular"/>
              </a:rPr>
              <a:t>الإكراه</a:t>
            </a:r>
            <a:r>
              <a:rPr b="1" lang="en-US" sz="4200" spc="-1" strike="noStrike">
                <a:solidFill>
                  <a:srgbClr val="8d67dc"/>
                </a:solidFill>
                <a:latin typeface="Geeza Pro Regular"/>
                <a:ea typeface="Geeza Pro Regular"/>
              </a:rPr>
              <a:t> :</a:t>
            </a:r>
            <a:r>
              <a:rPr b="1" lang="en-US" sz="2400" spc="-1" strike="noStrike">
                <a:solidFill>
                  <a:srgbClr val="8d67dc"/>
                </a:solidFill>
                <a:latin typeface="Geeza Pro Regular"/>
                <a:ea typeface="Geeza Pro Regula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r>
              <a:rPr b="1" lang="ar-SA" sz="2400" spc="-1" strike="noStrike">
                <a:solidFill>
                  <a:srgbClr val="8d67dc"/>
                </a:solidFill>
                <a:latin typeface="Geeza Pro Regular"/>
                <a:cs typeface="Geeza Pro Regular"/>
              </a:rPr>
              <a:t>إجبار شخص بغير حق على أن يعمل عملا دون رضاه</a:t>
            </a:r>
            <a:r>
              <a:rPr b="1" lang="en-US" sz="2400" spc="-1" strike="noStrike">
                <a:solidFill>
                  <a:srgbClr val="8d67dc"/>
                </a:solidFill>
                <a:latin typeface="Geeza Pro Regular"/>
                <a:ea typeface="Geeza Pro Regular"/>
              </a:rPr>
              <a:t> 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r>
              <a:rPr b="1" lang="ar-SA" sz="2400" spc="-1" strike="noStrike">
                <a:solidFill>
                  <a:srgbClr val="8d67dc"/>
                </a:solidFill>
                <a:latin typeface="Geeza Pro Regular"/>
                <a:cs typeface="Geeza Pro Regular"/>
              </a:rPr>
              <a:t>ويكون الإكراه ملجئا أو غير ملجئ ، كما يكون ماديا او معنويا</a:t>
            </a:r>
            <a:r>
              <a:rPr b="1" lang="en-US" sz="2400" spc="-1" strike="noStrike">
                <a:solidFill>
                  <a:srgbClr val="8d67dc"/>
                </a:solidFill>
                <a:latin typeface="Geeza Pro Regular"/>
                <a:ea typeface="Geeza Pro Regular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hape 228"/>
          <p:cNvSpPr/>
          <p:nvPr/>
        </p:nvSpPr>
        <p:spPr>
          <a:xfrm>
            <a:off x="-11160" y="1552680"/>
            <a:ext cx="9166320" cy="484200"/>
          </a:xfrm>
          <a:prstGeom prst="rect">
            <a:avLst/>
          </a:prstGeom>
          <a:solidFill>
            <a:srgbClr val="c0504d"/>
          </a:solidFill>
          <a:ln w="0">
            <a:noFill/>
          </a:ln>
          <a:effectLst>
            <a:outerShdw dist="20160" dir="5400000" blurRad="0" rotWithShape="0">
              <a:srgbClr val="000000">
                <a:alpha val="4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5640" rIns="35640" tIns="35640" bIns="3564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hape 229"/>
          <p:cNvSpPr/>
          <p:nvPr/>
        </p:nvSpPr>
        <p:spPr>
          <a:xfrm>
            <a:off x="-11160" y="4714920"/>
            <a:ext cx="9166320" cy="398520"/>
          </a:xfrm>
          <a:prstGeom prst="rect">
            <a:avLst/>
          </a:prstGeom>
          <a:solidFill>
            <a:srgbClr val="c0504d"/>
          </a:solidFill>
          <a:ln w="0">
            <a:noFill/>
          </a:ln>
          <a:effectLst>
            <a:outerShdw dist="20160" dir="5400000" blurRad="0" rotWithShape="0">
              <a:srgbClr val="000000">
                <a:alpha val="4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5640" rIns="35640" tIns="35640" bIns="3564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hape 231"/>
          <p:cNvSpPr/>
          <p:nvPr/>
        </p:nvSpPr>
        <p:spPr>
          <a:xfrm>
            <a:off x="4954680" y="1855800"/>
            <a:ext cx="3728880" cy="4591080"/>
          </a:xfrm>
          <a:prstGeom prst="rect">
            <a:avLst/>
          </a:prstGeom>
          <a:gradFill rotWithShape="0">
            <a:gsLst>
              <a:gs pos="0">
                <a:srgbClr val="fbfbfb"/>
              </a:gs>
              <a:gs pos="100000">
                <a:srgbClr val="bebebe"/>
              </a:gs>
            </a:gsLst>
            <a:lin ang="5400000"/>
          </a:gradFill>
          <a:ln w="0">
            <a:noFill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5640" rIns="35640" tIns="35640" bIns="356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hape 232"/>
          <p:cNvSpPr/>
          <p:nvPr/>
        </p:nvSpPr>
        <p:spPr>
          <a:xfrm>
            <a:off x="1170000" y="608400"/>
            <a:ext cx="6803640" cy="12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5640" rIns="35640" tIns="35640" bIns="3564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r>
              <a:rPr b="0" lang="en-US" sz="2600" spc="-1" strike="noStrike">
                <a:solidFill>
                  <a:srgbClr val="3e6697"/>
                </a:solidFill>
                <a:latin typeface="Geeza Pro Bold"/>
                <a:cs typeface="Geeza Pro Bold"/>
              </a:rPr>
              <a:t>وقد فرق القانون بين أنواع الإكراه بمذهب الحنفية 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hape 233"/>
          <p:cNvSpPr/>
          <p:nvPr/>
        </p:nvSpPr>
        <p:spPr>
          <a:xfrm>
            <a:off x="460440" y="1855800"/>
            <a:ext cx="3728880" cy="4591080"/>
          </a:xfrm>
          <a:prstGeom prst="rect">
            <a:avLst/>
          </a:prstGeom>
          <a:gradFill rotWithShape="0">
            <a:gsLst>
              <a:gs pos="0">
                <a:srgbClr val="fbfbfb"/>
              </a:gs>
              <a:gs pos="100000">
                <a:srgbClr val="bebebe"/>
              </a:gs>
            </a:gsLst>
            <a:lin ang="5400000"/>
          </a:gradFill>
          <a:ln w="0">
            <a:noFill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5640" rIns="35640" tIns="35640" bIns="356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hape 234"/>
          <p:cNvSpPr/>
          <p:nvPr/>
        </p:nvSpPr>
        <p:spPr>
          <a:xfrm>
            <a:off x="4932360" y="1393200"/>
            <a:ext cx="3816360" cy="44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5640" rIns="35640" tIns="35640" bIns="3564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r>
              <a:rPr b="0" lang="ar-SA" sz="2600" spc="-1" strike="noStrike">
                <a:solidFill>
                  <a:srgbClr val="6e6dab"/>
                </a:solidFill>
                <a:latin typeface="Geeza Pro Regular"/>
                <a:ea typeface="Geeza Pro Regular"/>
              </a:rPr>
              <a:t>(</a:t>
            </a:r>
            <a:r>
              <a:rPr b="0" lang="en-US" sz="2600" spc="-1" strike="noStrike">
                <a:solidFill>
                  <a:srgbClr val="6e6dab"/>
                </a:solidFill>
                <a:latin typeface="Geeza Pro Regular"/>
                <a:ea typeface="Geeza Pro Regular"/>
              </a:rPr>
              <a:t> </a:t>
            </a:r>
            <a:r>
              <a:rPr b="0" lang="ar-SA" sz="2600" spc="-1" strike="noStrike">
                <a:solidFill>
                  <a:srgbClr val="6e6dab"/>
                </a:solidFill>
                <a:latin typeface="Geeza Pro Regular"/>
                <a:cs typeface="Geeza Pro Regular"/>
              </a:rPr>
              <a:t>الإكراه الملجئ</a:t>
            </a:r>
            <a:r>
              <a:rPr b="0" lang="en-US" sz="2600" spc="-1" strike="noStrike">
                <a:solidFill>
                  <a:srgbClr val="6e6dab"/>
                </a:solidFill>
                <a:latin typeface="Geeza Pro Regular"/>
                <a:ea typeface="Geeza Pro Regular"/>
              </a:rPr>
              <a:t> </a:t>
            </a:r>
            <a:r>
              <a:rPr b="0" lang="ar-SA" sz="2600" spc="-1" strike="noStrike">
                <a:solidFill>
                  <a:srgbClr val="6e6dab"/>
                </a:solidFill>
                <a:latin typeface="Geeza Pro Regular"/>
                <a:ea typeface="Geeza Pro Regular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r>
              <a:rPr b="0" lang="en-US" sz="2600" spc="-1" strike="noStrike">
                <a:solidFill>
                  <a:srgbClr val="6e6dab"/>
                </a:solidFill>
                <a:latin typeface="Geeza Pro Regular"/>
                <a:ea typeface="Geeza Pro Regular"/>
              </a:rPr>
              <a:t> </a:t>
            </a:r>
            <a:r>
              <a:rPr b="0" lang="ar-SA" sz="2600" spc="-1" strike="noStrike">
                <a:solidFill>
                  <a:srgbClr val="6e6dab"/>
                </a:solidFill>
                <a:latin typeface="Geeza Pro Regular"/>
                <a:cs typeface="Geeza Pro Regular"/>
              </a:rPr>
              <a:t>هو التهديد بخطر جسيم</a:t>
            </a:r>
            <a:r>
              <a:rPr b="0" lang="en-US" sz="2600" spc="-1" strike="noStrike">
                <a:solidFill>
                  <a:srgbClr val="6e6dab"/>
                </a:solidFill>
                <a:latin typeface="Geeza Pro Regular"/>
                <a:ea typeface="Geeza Pro Regular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r>
              <a:rPr b="0" lang="ar-SA" sz="2600" spc="-1" strike="noStrike">
                <a:solidFill>
                  <a:srgbClr val="6e6dab"/>
                </a:solidFill>
                <a:latin typeface="Geeza Pro Regular"/>
                <a:cs typeface="Geeza Pro Regular"/>
              </a:rPr>
              <a:t>يلحق بالنفس أو المال</a:t>
            </a:r>
            <a:r>
              <a:rPr b="0" lang="en-US" sz="2600" spc="-1" strike="noStrike">
                <a:solidFill>
                  <a:srgbClr val="6e6dab"/>
                </a:solidFill>
                <a:latin typeface="Geeza Pro Regular"/>
                <a:ea typeface="Geeza Pro Regular"/>
              </a:rPr>
              <a:t> ، </a:t>
            </a:r>
            <a:r>
              <a:rPr b="0" lang="ar-SA" sz="2600" spc="-1" strike="noStrike">
                <a:solidFill>
                  <a:srgbClr val="6e6dab"/>
                </a:solidFill>
                <a:latin typeface="Geeza Pro Regular"/>
                <a:cs typeface="Geeza Pro Regular"/>
              </a:rPr>
              <a:t>ويسقط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r>
              <a:rPr b="0" lang="ar-SA" sz="2600" spc="-1" strike="noStrike">
                <a:solidFill>
                  <a:srgbClr val="6e6dab"/>
                </a:solidFill>
                <a:latin typeface="Geeza Pro Regular"/>
                <a:cs typeface="Geeza Pro Regular"/>
              </a:rPr>
              <a:t>الرضا والقدرة والاختيار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Geeza Pro Regular"/>
                <a:cs typeface="Geeza Pro Regular"/>
              </a:rPr>
              <a:t>يعدم الرضا ويفسد الإختيا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r>
              <a:rPr b="0" lang="ar-SA" sz="2600" spc="-1" strike="noStrike">
                <a:solidFill>
                  <a:srgbClr val="6e6dab"/>
                </a:solidFill>
                <a:latin typeface="Geeza Pro Regular"/>
                <a:cs typeface="Geeza Pro Regular"/>
              </a:rPr>
              <a:t>كالتهديد بالقتل</a:t>
            </a:r>
            <a:r>
              <a:rPr b="0" lang="en-US" sz="2600" spc="-1" strike="noStrike">
                <a:solidFill>
                  <a:srgbClr val="6e6dab"/>
                </a:solidFill>
                <a:latin typeface="Geeza Pro Regular"/>
                <a:ea typeface="Geeza Pro Regular"/>
              </a:rPr>
              <a:t> </a:t>
            </a:r>
            <a:r>
              <a:rPr b="0" lang="ar-SA" sz="2600" spc="-1" strike="noStrike">
                <a:solidFill>
                  <a:srgbClr val="6e6dab"/>
                </a:solidFill>
                <a:latin typeface="Geeza Pro Regular"/>
                <a:ea typeface="Geeza Pro Regular"/>
              </a:rPr>
              <a:t> او الضرب الذي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r>
              <a:rPr b="0" lang="ar-SA" sz="2600" spc="-1" strike="noStrike">
                <a:solidFill>
                  <a:srgbClr val="6e6dab"/>
                </a:solidFill>
                <a:latin typeface="Geeza Pro Regular"/>
                <a:cs typeface="Geeza Pro Regular"/>
              </a:rPr>
              <a:t>يخشى منه ضياع عضو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hape 235"/>
          <p:cNvSpPr/>
          <p:nvPr/>
        </p:nvSpPr>
        <p:spPr>
          <a:xfrm>
            <a:off x="468360" y="1037880"/>
            <a:ext cx="3672000" cy="48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5640" rIns="35640" tIns="35640" bIns="3564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r>
              <a:rPr b="0" lang="ar-SA" sz="2600" spc="-1" strike="noStrike">
                <a:solidFill>
                  <a:srgbClr val="7d7ab7"/>
                </a:solidFill>
                <a:latin typeface="Geeza Pro Regular"/>
                <a:ea typeface="Geeza Pro Regular"/>
              </a:rPr>
              <a:t>(</a:t>
            </a:r>
            <a:r>
              <a:rPr b="0" lang="en-US" sz="2600" spc="-1" strike="noStrike">
                <a:solidFill>
                  <a:srgbClr val="7d7ab7"/>
                </a:solidFill>
                <a:latin typeface="Geeza Pro Regular"/>
                <a:ea typeface="Geeza Pro Regular"/>
              </a:rPr>
              <a:t> </a:t>
            </a:r>
            <a:r>
              <a:rPr b="0" lang="ar-SA" sz="2600" spc="-1" strike="noStrike">
                <a:solidFill>
                  <a:srgbClr val="7d7ab7"/>
                </a:solidFill>
                <a:latin typeface="Geeza Pro Regular"/>
                <a:cs typeface="Geeza Pro Regular"/>
              </a:rPr>
              <a:t>الإكراه وغير اللمجئ</a:t>
            </a:r>
            <a:r>
              <a:rPr b="0" lang="en-US" sz="2600" spc="-1" strike="noStrike">
                <a:solidFill>
                  <a:srgbClr val="7d7ab7"/>
                </a:solidFill>
                <a:latin typeface="Geeza Pro Regular"/>
                <a:ea typeface="Geeza Pro Regular"/>
              </a:rPr>
              <a:t> </a:t>
            </a:r>
            <a:r>
              <a:rPr b="0" lang="ar-SA" sz="2600" spc="-1" strike="noStrike">
                <a:solidFill>
                  <a:srgbClr val="7d7ab7"/>
                </a:solidFill>
                <a:latin typeface="Geeza Pro Regular"/>
                <a:ea typeface="Geeza Pro Regular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r>
              <a:rPr b="0" lang="ar-SA" sz="2600" spc="-1" strike="noStrike">
                <a:solidFill>
                  <a:srgbClr val="7d7ab7"/>
                </a:solidFill>
                <a:latin typeface="Geeza Pro Regular"/>
                <a:cs typeface="Geeza Pro Regular"/>
              </a:rPr>
              <a:t>هو التهديد بما دون ذلك</a:t>
            </a:r>
            <a:r>
              <a:rPr b="0" lang="en-US" sz="2600" spc="-1" strike="noStrike">
                <a:solidFill>
                  <a:srgbClr val="7d7ab7"/>
                </a:solidFill>
                <a:latin typeface="Geeza Pro Regular"/>
                <a:ea typeface="Geeza Pro Regular"/>
              </a:rPr>
              <a:t> ، </a:t>
            </a:r>
            <a:r>
              <a:rPr b="0" lang="ar-SA" sz="2600" spc="-1" strike="noStrike">
                <a:solidFill>
                  <a:srgbClr val="7d7ab7"/>
                </a:solidFill>
                <a:latin typeface="Geeza Pro Regular"/>
                <a:cs typeface="Geeza Pro Regular"/>
              </a:rPr>
              <a:t>فيسقط الرضا دون القدرة والاختيار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eza Pro Regular"/>
                <a:cs typeface="Geeza Pro Regular"/>
              </a:rPr>
              <a:t>يعدم الرضا ولا يفسد الإختيار </a:t>
            </a:r>
            <a:r>
              <a:rPr b="0" lang="ar-SA" sz="2600" spc="-1" strike="noStrike">
                <a:solidFill>
                  <a:srgbClr val="7d7ab7"/>
                </a:solidFill>
                <a:latin typeface="Geeza Pro Regular"/>
                <a:ea typeface="Geeza Pro Regular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r>
              <a:rPr b="0" lang="ar-SA" sz="2600" spc="-1" strike="noStrike">
                <a:solidFill>
                  <a:srgbClr val="7d7ab7"/>
                </a:solidFill>
                <a:latin typeface="Geeza Pro Regular"/>
                <a:cs typeface="Geeza Pro Regular"/>
              </a:rPr>
              <a:t>كالتهديد بالحبس أو الضرب</a:t>
            </a:r>
            <a:r>
              <a:rPr b="0" lang="en-US" sz="2600" spc="-1" strike="noStrike">
                <a:solidFill>
                  <a:srgbClr val="7d7ab7"/>
                </a:solidFill>
                <a:latin typeface="Geeza Pro Regular"/>
                <a:ea typeface="Geeza Pro Regular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r>
              <a:rPr b="0" lang="ar-SA" sz="2600" spc="-1" strike="noStrike">
                <a:solidFill>
                  <a:srgbClr val="7d7ab7"/>
                </a:solidFill>
                <a:latin typeface="Geeza Pro Regular"/>
                <a:cs typeface="Geeza Pro Regular"/>
              </a:rPr>
              <a:t>أو ايقاع الظلم به</a:t>
            </a:r>
            <a:r>
              <a:rPr b="0" lang="en-US" sz="2600" spc="-1" strike="noStrike">
                <a:solidFill>
                  <a:srgbClr val="7d7ab7"/>
                </a:solidFill>
                <a:latin typeface="Geeza Pro Regular"/>
                <a:ea typeface="Geeza Pro Regular"/>
              </a:rPr>
              <a:t> .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hape 236"/>
          <p:cNvSpPr/>
          <p:nvPr/>
        </p:nvSpPr>
        <p:spPr>
          <a:xfrm>
            <a:off x="65160" y="85680"/>
            <a:ext cx="9013680" cy="6686640"/>
          </a:xfrm>
          <a:prstGeom prst="rect">
            <a:avLst/>
          </a:prstGeom>
          <a:noFill/>
          <a:ln w="50760">
            <a:solidFill>
              <a:srgbClr val="a685cf"/>
            </a:solidFill>
            <a:miter/>
          </a:ln>
          <a:effectLst>
            <a:outerShdw dist="20160" dir="5400000" blurRad="0" rotWithShape="0">
              <a:srgbClr val="000000">
                <a:alpha val="4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3640" y="409320"/>
            <a:ext cx="8569080" cy="51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br>
              <a:rPr sz="3700"/>
            </a:br>
            <a:r>
              <a:rPr b="0" lang="ar-SA" sz="3700" spc="-1" strike="noStrike">
                <a:solidFill>
                  <a:srgbClr val="1f497d"/>
                </a:solidFill>
                <a:latin typeface="Geeza Pro Bold"/>
                <a:cs typeface="Geeza Pro Bold"/>
              </a:rPr>
              <a:t>وسائل الاكراه تتعدد :</a:t>
            </a:r>
            <a:br>
              <a:rPr sz="3700"/>
            </a:br>
            <a:r>
              <a:rPr b="0" lang="ar-SA" sz="3700" spc="-1" strike="noStrike">
                <a:solidFill>
                  <a:srgbClr val="1f497d"/>
                </a:solidFill>
                <a:latin typeface="Geeza Pro Bold"/>
                <a:ea typeface="Geeza Pro Bold"/>
              </a:rPr>
              <a:t>-- مادية ؛ كشهر مسدس</a:t>
            </a:r>
            <a:br>
              <a:rPr sz="3700"/>
            </a:br>
            <a:r>
              <a:rPr b="0" lang="ar-SA" sz="3700" spc="-1" strike="noStrike">
                <a:solidFill>
                  <a:srgbClr val="1f497d"/>
                </a:solidFill>
                <a:latin typeface="Geeza Pro Bold"/>
                <a:ea typeface="Geeza Pro Bold"/>
              </a:rPr>
              <a:t>-- معنوية ؛ تلحق ضرر بالسمعة والشهرة والشرف</a:t>
            </a:r>
            <a:br>
              <a:rPr sz="3700"/>
            </a:br>
            <a:r>
              <a:rPr b="0" lang="ar-SA" sz="3700" spc="-1" strike="noStrike">
                <a:solidFill>
                  <a:srgbClr val="1f497d"/>
                </a:solidFill>
                <a:latin typeface="Geeza Pro Bold"/>
                <a:cs typeface="Geeza Pro Bold"/>
              </a:rPr>
              <a:t>وقد يكون بنفس المستكره ، او بذويه .</a:t>
            </a:r>
            <a:br>
              <a:rPr sz="3700"/>
            </a:br>
            <a:br>
              <a:rPr sz="3700"/>
            </a:br>
            <a:r>
              <a:rPr b="0" lang="ar-SA" sz="3700" spc="-1" strike="noStrike">
                <a:solidFill>
                  <a:srgbClr val="1f497d"/>
                </a:solidFill>
                <a:latin typeface="Geeza Pro Bold"/>
                <a:cs typeface="Geeza Pro Bold"/>
              </a:rPr>
              <a:t>ويتحقق الاكراه سواء وقع من سلطان او من غير سلطان</a:t>
            </a:r>
            <a:br>
              <a:rPr sz="3700"/>
            </a:br>
            <a:r>
              <a:rPr b="0" lang="ar-SA" sz="3700" spc="-1" strike="noStrike">
                <a:solidFill>
                  <a:srgbClr val="1f497d"/>
                </a:solidFill>
                <a:latin typeface="Geeza Pro Bold"/>
                <a:cs typeface="Geeza Pro Bold"/>
              </a:rPr>
              <a:t>يشترط ان يكون المكره قادرا على تنفيذ ما هدد به المستكره</a:t>
            </a:r>
            <a:r>
              <a:rPr b="0" lang="ar-SA" sz="3700" spc="-1" strike="noStrike">
                <a:solidFill>
                  <a:srgbClr val="1f497d"/>
                </a:solidFill>
                <a:latin typeface="Geeza Pro Bold"/>
                <a:ea typeface="Geeza Pro Bold"/>
              </a:rPr>
              <a:t> </a:t>
            </a:r>
            <a:r>
              <a:rPr b="0" lang="ar-SA" sz="3700" spc="-1" strike="noStrike">
                <a:solidFill>
                  <a:srgbClr val="1f497d"/>
                </a:solidFill>
                <a:latin typeface="Geeza Pro Bold"/>
                <a:ea typeface="Geeza Pro Bold"/>
              </a:rPr>
              <a:t>.</a:t>
            </a:r>
            <a:br>
              <a:rPr sz="3700"/>
            </a:br>
            <a:r>
              <a:rPr b="0" lang="ar-SA" sz="3700" spc="-1" strike="noStrike">
                <a:solidFill>
                  <a:srgbClr val="1f497d"/>
                </a:solidFill>
                <a:latin typeface="Geeza Pro Bold"/>
                <a:ea typeface="Geeza Pro Bold"/>
              </a:rPr>
              <a:t> </a:t>
            </a:r>
            <a:br>
              <a:rPr sz="3700"/>
            </a:br>
            <a:r>
              <a:rPr b="0" lang="en-US" sz="2000" spc="-1" strike="noStrike">
                <a:solidFill>
                  <a:srgbClr val="1f497d"/>
                </a:solidFill>
                <a:latin typeface="Geeza Pro Regular"/>
                <a:ea typeface="Geeza Pro Regular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68000" y="1243080"/>
            <a:ext cx="83898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r>
              <a:rPr b="1" lang="ar-SA" sz="2200" spc="-1" strike="noStrike" u="sng">
                <a:solidFill>
                  <a:srgbClr val="1f497d"/>
                </a:solidFill>
                <a:uFillTx/>
                <a:latin typeface="Geeza Pro Bold"/>
                <a:cs typeface="Geeza Pro Bold"/>
              </a:rPr>
              <a:t>اثر الاكراه في العقد</a:t>
            </a:r>
            <a:r>
              <a:rPr b="1" lang="ar-SA" sz="2200" spc="-1" strike="noStrike" u="sng">
                <a:solidFill>
                  <a:srgbClr val="1f497d"/>
                </a:solidFill>
                <a:uFillTx/>
                <a:latin typeface="Geeza Pro Bold"/>
                <a:ea typeface="Geeza Pro Bold"/>
              </a:rPr>
              <a:t> </a:t>
            </a:r>
            <a:r>
              <a:rPr b="1" lang="ar-SA" sz="2200" spc="-1" strike="noStrike" u="sng">
                <a:solidFill>
                  <a:srgbClr val="1f497d"/>
                </a:solidFill>
                <a:uFillTx/>
                <a:latin typeface="Geeza Pro Bold"/>
                <a:ea typeface="Geeza Pro Bold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r>
              <a:rPr b="1" lang="ar-SA" sz="2200" spc="-1" strike="noStrike" u="sng">
                <a:solidFill>
                  <a:srgbClr val="c00000"/>
                </a:solidFill>
                <a:uFillTx/>
                <a:latin typeface="Geeza Pro Regular"/>
                <a:cs typeface="Geeza Pro Regular"/>
              </a:rPr>
              <a:t>عند الحنفية : </a:t>
            </a:r>
            <a:r>
              <a:rPr b="1" lang="ar-JO" sz="2200" spc="-1" strike="noStrike" u="sng">
                <a:solidFill>
                  <a:srgbClr val="00b050"/>
                </a:solidFill>
                <a:uFillTx/>
                <a:latin typeface="Geeza Pro Regular"/>
                <a:cs typeface="Geeza Pro Regular"/>
              </a:rPr>
              <a:t>هو جعل العقد غير نافذ او موقوف ، فلو أجاز المكره او ورثته بعد زوال الإكراه صراحة او دلالة ، يصبح العقد نافذا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r>
              <a:rPr b="1" lang="ar-SA" sz="2100" spc="-1" strike="noStrike" u="sng">
                <a:solidFill>
                  <a:srgbClr val="c00000"/>
                </a:solidFill>
                <a:uFillTx/>
                <a:latin typeface="Geeza Pro Bold"/>
                <a:cs typeface="Geeza Pro Bold"/>
              </a:rPr>
              <a:t>عند المالكية : </a:t>
            </a:r>
            <a:r>
              <a:rPr b="1" lang="ar-SA" sz="2100" spc="-1" strike="noStrike" u="sng">
                <a:solidFill>
                  <a:srgbClr val="00b050"/>
                </a:solidFill>
                <a:uFillTx/>
                <a:latin typeface="Geeza Pro Bold"/>
                <a:cs typeface="Geeza Pro Bold"/>
              </a:rPr>
              <a:t>جعل العقد غير لازم</a:t>
            </a:r>
            <a:r>
              <a:rPr b="1" lang="ar-SA" sz="2100" spc="-1" strike="noStrike" u="sng">
                <a:solidFill>
                  <a:srgbClr val="00b050"/>
                </a:solidFill>
                <a:uFillTx/>
                <a:latin typeface="Geeza Pro Bold"/>
                <a:ea typeface="Geeza Pro Bold"/>
              </a:rPr>
              <a:t> </a:t>
            </a:r>
            <a:r>
              <a:rPr b="1" lang="ar-SA" sz="2100" spc="-1" strike="noStrike" u="sng">
                <a:solidFill>
                  <a:srgbClr val="00b050"/>
                </a:solidFill>
                <a:uFillTx/>
                <a:latin typeface="Geeza Pro Bold"/>
                <a:ea typeface="Geeza Pro Bold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r>
              <a:rPr b="1" lang="ar-SA" sz="2100" spc="-1" strike="noStrike" u="sng">
                <a:solidFill>
                  <a:srgbClr val="c00000"/>
                </a:solidFill>
                <a:uFillTx/>
                <a:latin typeface="Geeza Pro Bold"/>
                <a:cs typeface="Geeza Pro Bold"/>
              </a:rPr>
              <a:t>عند الشافعية والحنابلة : </a:t>
            </a:r>
            <a:r>
              <a:rPr b="1" lang="ar-SA" sz="2100" spc="-1" strike="noStrike" u="sng">
                <a:solidFill>
                  <a:srgbClr val="00b050"/>
                </a:solidFill>
                <a:uFillTx/>
                <a:latin typeface="Geeza Pro Bold"/>
                <a:cs typeface="Geeza Pro Bold"/>
              </a:rPr>
              <a:t>يبطل العقد</a:t>
            </a:r>
            <a:r>
              <a:rPr b="1" lang="ar-SA" sz="2100" spc="-1" strike="noStrike" u="sng">
                <a:solidFill>
                  <a:srgbClr val="00b050"/>
                </a:solidFill>
                <a:uFillTx/>
                <a:latin typeface="Geeza Pro Bold"/>
                <a:ea typeface="Geeza Pro Bold"/>
              </a:rPr>
              <a:t> </a:t>
            </a:r>
            <a:r>
              <a:rPr b="1" lang="ar-SA" sz="2100" spc="-1" strike="noStrike" u="sng">
                <a:solidFill>
                  <a:srgbClr val="00b050"/>
                </a:solidFill>
                <a:uFillTx/>
                <a:latin typeface="Geeza Pro Bold"/>
                <a:ea typeface="Geeza Pro Bold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r>
              <a:rPr b="1" lang="en-US" sz="2100" spc="-1" strike="noStrike" u="sng">
                <a:solidFill>
                  <a:srgbClr val="3e6697"/>
                </a:solidFill>
                <a:uFillTx/>
                <a:latin typeface="Geeza Pro Bold"/>
                <a:cs typeface="Geeza Pro Bold"/>
              </a:rPr>
              <a:t>أثر التفرقه بين الرضا </a:t>
            </a:r>
            <a:r>
              <a:rPr b="1" lang="ar-SA" sz="2100" spc="-1" strike="noStrike" u="sng">
                <a:solidFill>
                  <a:srgbClr val="3e6697"/>
                </a:solidFill>
                <a:uFillTx/>
                <a:latin typeface="Geeza Pro Bold"/>
                <a:ea typeface="Geeza Pro Bold"/>
              </a:rPr>
              <a:t> </a:t>
            </a:r>
            <a:r>
              <a:rPr b="1" lang="en-US" sz="2100" spc="-1" strike="noStrike" u="sng">
                <a:solidFill>
                  <a:srgbClr val="3e6697"/>
                </a:solidFill>
                <a:uFillTx/>
                <a:latin typeface="Geeza Pro Bold"/>
                <a:cs typeface="Geeza Pro Bold"/>
              </a:rPr>
              <a:t>والإختيار عند الحنفية</a:t>
            </a:r>
            <a:r>
              <a:rPr b="1" lang="en-US" sz="2100" spc="-1" strike="noStrike" u="sng">
                <a:solidFill>
                  <a:srgbClr val="3e6697"/>
                </a:solidFill>
                <a:uFillTx/>
                <a:latin typeface="Geeza Pro Bold"/>
                <a:ea typeface="Geeza Pro Bold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r>
              <a:rPr b="1" lang="ar-SA" sz="2100" spc="-1" strike="noStrike">
                <a:solidFill>
                  <a:srgbClr val="00b050"/>
                </a:solidFill>
                <a:latin typeface="Geeza Pro Regular"/>
                <a:cs typeface="Geeza Pro Regular"/>
              </a:rPr>
              <a:t>الرضا : هو الرغبة في حكم العقثد واثاره</a:t>
            </a:r>
            <a:r>
              <a:rPr b="1" lang="ar-SA" sz="2100" spc="-1" strike="noStrike">
                <a:solidFill>
                  <a:srgbClr val="00b050"/>
                </a:solidFill>
                <a:latin typeface="Geeza Pro Regular"/>
                <a:ea typeface="Geeza Pro Regular"/>
              </a:rPr>
              <a:t> </a:t>
            </a:r>
            <a:r>
              <a:rPr b="1" lang="ar-SA" sz="2100" spc="-1" strike="noStrike">
                <a:solidFill>
                  <a:srgbClr val="00b050"/>
                </a:solidFill>
                <a:latin typeface="Geeza Pro Regular"/>
                <a:ea typeface="Geeza Pro Regular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r>
              <a:rPr b="1" lang="ar-SA" sz="2100" spc="-1" strike="noStrike">
                <a:solidFill>
                  <a:srgbClr val="00b050"/>
                </a:solidFill>
                <a:latin typeface="Geeza Pro Regular"/>
                <a:cs typeface="Geeza Pro Regular"/>
              </a:rPr>
              <a:t>والاختيار : هو اصدار العبارة</a:t>
            </a:r>
            <a:r>
              <a:rPr b="1" lang="ar-SA" sz="2100" spc="-1" strike="noStrike">
                <a:solidFill>
                  <a:srgbClr val="00b050"/>
                </a:solidFill>
                <a:latin typeface="Geeza Pro Regular"/>
                <a:ea typeface="Geeza Pro Regular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r>
              <a:rPr b="1" lang="ar-SA" sz="2100" spc="-1" strike="noStrike">
                <a:solidFill>
                  <a:srgbClr val="00b050"/>
                </a:solidFill>
                <a:latin typeface="Geeza Pro Regular"/>
                <a:ea typeface="Geeza Pro Regular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Geeza Pro Regular"/>
                <a:cs typeface="Geeza Pro Regular"/>
              </a:rPr>
              <a:t>يظهر في التفرقة في حكم الإكراه بين</a:t>
            </a:r>
            <a:r>
              <a:rPr b="1" lang="en-US" sz="2100" spc="-1" strike="noStrike">
                <a:solidFill>
                  <a:srgbClr val="ff0000"/>
                </a:solidFill>
                <a:latin typeface="Geeza Pro Regular"/>
                <a:ea typeface="Geeza Pro Regular"/>
              </a:rPr>
              <a:t> </a:t>
            </a:r>
            <a:r>
              <a:rPr b="1" lang="ar-SA" sz="2100" spc="-1" strike="noStrike">
                <a:solidFill>
                  <a:srgbClr val="ff0000"/>
                </a:solidFill>
                <a:latin typeface="Geeza Pro Regular"/>
                <a:ea typeface="Geeza Pro Regular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r>
              <a:rPr b="1" lang="ar-SA" sz="2100" spc="-1" strike="noStrike">
                <a:solidFill>
                  <a:srgbClr val="ff0000"/>
                </a:solidFill>
                <a:latin typeface="Geeza Pro Regular"/>
                <a:ea typeface="Geeza Pro Regular"/>
              </a:rPr>
              <a:t>-- </a:t>
            </a:r>
            <a:r>
              <a:rPr b="1" lang="en-US" sz="2100" spc="-1" strike="noStrike">
                <a:solidFill>
                  <a:srgbClr val="ff0000"/>
                </a:solidFill>
                <a:latin typeface="Geeza Pro Regular"/>
                <a:cs typeface="Geeza Pro Regular"/>
              </a:rPr>
              <a:t>العقود التي تحتمل الفسخ كالبيع والهبه</a:t>
            </a:r>
            <a:r>
              <a:rPr b="1" lang="en-US" sz="2100" spc="-1" strike="noStrike">
                <a:solidFill>
                  <a:srgbClr val="ff0000"/>
                </a:solidFill>
                <a:latin typeface="Geeza Pro Regular"/>
                <a:ea typeface="Geeza Pro Regular"/>
              </a:rPr>
              <a:t> ،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r>
              <a:rPr b="1" lang="ar-SA" sz="2100" spc="-1" strike="noStrike">
                <a:solidFill>
                  <a:srgbClr val="ff0000"/>
                </a:solidFill>
                <a:latin typeface="Geeza Pro Regular"/>
                <a:ea typeface="Geeza Pro Regular"/>
              </a:rPr>
              <a:t>--</a:t>
            </a:r>
            <a:r>
              <a:rPr b="1" lang="en-US" sz="2100" spc="-1" strike="noStrike">
                <a:solidFill>
                  <a:srgbClr val="ff0000"/>
                </a:solidFill>
                <a:latin typeface="Geeza Pro Regular"/>
                <a:ea typeface="Geeza Pro Regular"/>
              </a:rPr>
              <a:t> </a:t>
            </a:r>
            <a:r>
              <a:rPr b="1" lang="en-US" sz="2100" spc="-1" strike="noStrike">
                <a:solidFill>
                  <a:srgbClr val="ff0000"/>
                </a:solidFill>
                <a:latin typeface="Geeza Pro Regular"/>
                <a:cs typeface="Geeza Pro Regular"/>
              </a:rPr>
              <a:t>العقود التي لا تحتمل الفسخ كالزواج والطلاق .</a:t>
            </a:r>
            <a:r>
              <a:rPr b="1" lang="ar-SA" sz="2100" spc="-1" strike="noStrike">
                <a:solidFill>
                  <a:srgbClr val="ff0000"/>
                </a:solidFill>
                <a:latin typeface="Geeza Pro Regular"/>
                <a:ea typeface="Geeza Pro Regular"/>
              </a:rPr>
              <a:t> </a:t>
            </a:r>
            <a:r>
              <a:rPr b="1" lang="ar-JO" sz="2100" spc="-1" strike="noStrike">
                <a:solidFill>
                  <a:srgbClr val="ff0000"/>
                </a:solidFill>
                <a:latin typeface="Geeza Pro Regular"/>
                <a:cs typeface="Geeza Pro Regular"/>
              </a:rPr>
              <a:t>جائزه مع الإكراه ولا اثر له في انعقادها وصحتها ونفاذها ولزومها</a:t>
            </a:r>
            <a:r>
              <a:rPr b="1" lang="ar-JO" sz="2100" spc="-1" strike="noStrike">
                <a:solidFill>
                  <a:srgbClr val="ff0000"/>
                </a:solidFill>
                <a:latin typeface="Geeza Pro Regular"/>
                <a:ea typeface="Geeza Pro Regular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Geeza Pro Regular"/>
                <a:ea typeface="Geeza Pro Regular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250560" y="260280"/>
            <a:ext cx="87138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 u="sng">
                <a:solidFill>
                  <a:srgbClr val="000000"/>
                </a:solidFill>
                <a:uFillTx/>
                <a:latin typeface="Calibri"/>
                <a:cs typeface="Arial"/>
              </a:rPr>
              <a:t>اثر التفرقة بين الاكراه الملجئ وغير الملجئ في التصرفات القانونية</a:t>
            </a:r>
            <a:r>
              <a:rPr b="1" lang="ar-SA" sz="2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  </a:t>
            </a:r>
            <a:r>
              <a:rPr b="1" lang="ar-SA" sz="2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 u="sng">
                <a:solidFill>
                  <a:srgbClr val="00b050"/>
                </a:solidFill>
                <a:uFillTx/>
                <a:latin typeface="Calibri"/>
                <a:cs typeface="Arial"/>
              </a:rPr>
              <a:t>اولا : التصرفات الفعلية: </a:t>
            </a:r>
            <a:r>
              <a:rPr b="1" lang="ar-SA" sz="2000" spc="-1" strike="noStrike">
                <a:solidFill>
                  <a:srgbClr val="0070c0"/>
                </a:solidFill>
                <a:latin typeface="Calibri"/>
                <a:cs typeface="Arial"/>
              </a:rPr>
              <a:t>يؤثر فيها الاكراه الملجئ ، اما الاكراه غير الملجئ فلا يؤثر فيها</a:t>
            </a:r>
            <a:r>
              <a:rPr b="1" lang="ar-SA" sz="2000" spc="-1" strike="noStrike">
                <a:solidFill>
                  <a:srgbClr val="0070c0"/>
                </a:solidFill>
                <a:latin typeface="Calibri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70c0"/>
                </a:solidFill>
                <a:latin typeface="Calibri"/>
                <a:cs typeface="Arial"/>
              </a:rPr>
              <a:t>ومنها ؛ القتل وشرب الخمر واتلاف مال الغير</a:t>
            </a:r>
            <a:r>
              <a:rPr b="1" lang="ar-SA" sz="2000" spc="-1" strike="noStrike">
                <a:solidFill>
                  <a:srgbClr val="0070c0"/>
                </a:solidFill>
                <a:latin typeface="Calibri"/>
                <a:ea typeface="Arial"/>
              </a:rPr>
              <a:t> </a:t>
            </a:r>
            <a:r>
              <a:rPr b="1" lang="ar-SA" sz="2000" spc="-1" strike="noStrike">
                <a:solidFill>
                  <a:srgbClr val="0070c0"/>
                </a:solidFill>
                <a:latin typeface="Calibri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2060"/>
                </a:solidFill>
                <a:latin typeface="Calibri"/>
                <a:ea typeface="Arial"/>
              </a:rPr>
              <a:t>--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  <a:cs typeface="Arial"/>
              </a:rPr>
              <a:t>لو قام (أ) باكراه شخص وهو (ب) اكراه ملجئ على قتل شخص اخر فالمسؤولية تكون على من قام بالاكراه (أ)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  <a:ea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2060"/>
                </a:solidFill>
                <a:latin typeface="Calibri"/>
                <a:ea typeface="Arial"/>
              </a:rPr>
              <a:t>--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  <a:cs typeface="Arial"/>
              </a:rPr>
              <a:t>لو قام (أ) باكراه شخص وهو (ب) اكراه غير ملجئ على قتل شخص اخر فالمسؤولية تكون على من تم اكراهه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  <a:ea typeface="Arial"/>
              </a:rPr>
              <a:t>.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 u="sng">
                <a:solidFill>
                  <a:srgbClr val="00b050"/>
                </a:solidFill>
                <a:uFillTx/>
                <a:latin typeface="Calibri"/>
                <a:cs typeface="Arial"/>
              </a:rPr>
              <a:t>ثانيا : التصرفات القولية : </a:t>
            </a:r>
            <a:r>
              <a:rPr b="1" lang="ar-SA" sz="2200" spc="-1" strike="noStrike">
                <a:solidFill>
                  <a:srgbClr val="0070c0"/>
                </a:solidFill>
                <a:latin typeface="Calibri"/>
                <a:cs typeface="Arial"/>
              </a:rPr>
              <a:t>جمهور الفقهاء قالوا ، انها تتأثر بالاكراه مطلقا، سواء</a:t>
            </a:r>
            <a:r>
              <a:rPr b="1" lang="ar-SA" sz="2200" spc="-1" strike="noStrike">
                <a:solidFill>
                  <a:srgbClr val="0070c0"/>
                </a:solidFill>
                <a:latin typeface="Calibri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70c0"/>
                </a:solidFill>
                <a:latin typeface="Calibri"/>
                <a:cs typeface="Arial"/>
              </a:rPr>
              <a:t>ملجئا او غير ملجئ ، ومنها الطلاق والزواج والعتق</a:t>
            </a:r>
            <a:r>
              <a:rPr b="1" lang="ar-SA" sz="2200" spc="-1" strike="noStrike">
                <a:solidFill>
                  <a:srgbClr val="0070c0"/>
                </a:solidFill>
                <a:latin typeface="Calibri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>
                <a:solidFill>
                  <a:srgbClr val="0070c0"/>
                </a:solidFill>
                <a:latin typeface="Calibri"/>
                <a:cs typeface="Arial"/>
              </a:rPr>
              <a:t>وعند الحنفية نفسر كالتالي</a:t>
            </a:r>
            <a:r>
              <a:rPr b="1" lang="ar-SA" sz="1900" spc="-1" strike="noStrike">
                <a:solidFill>
                  <a:srgbClr val="0070c0"/>
                </a:solidFill>
                <a:latin typeface="Calibri"/>
                <a:ea typeface="Arial"/>
              </a:rPr>
              <a:t> </a:t>
            </a:r>
            <a:r>
              <a:rPr b="1" lang="ar-SA" sz="1900" spc="-1" strike="noStrike">
                <a:solidFill>
                  <a:srgbClr val="0070c0"/>
                </a:solidFill>
                <a:latin typeface="Calibri"/>
                <a:ea typeface="Arial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2060"/>
                </a:solidFill>
                <a:latin typeface="Calibri"/>
                <a:ea typeface="Arial"/>
              </a:rPr>
              <a:t>-- 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  <a:cs typeface="Arial"/>
              </a:rPr>
              <a:t>تصرفات لا تحتمل الفسخ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  <a:ea typeface="Arial"/>
              </a:rPr>
              <a:t> 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  <a:ea typeface="Arial"/>
              </a:rPr>
              <a:t>:</a:t>
            </a:r>
            <a:r>
              <a:rPr b="1" lang="ar-SA" sz="2000" spc="-1" strike="noStrike">
                <a:solidFill>
                  <a:srgbClr val="0070c0"/>
                </a:solidFill>
                <a:latin typeface="Calibri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70c0"/>
                </a:solidFill>
                <a:latin typeface="Calibri"/>
                <a:cs typeface="Arial"/>
              </a:rPr>
              <a:t>الطلاق والزواج والعتق، فالتصرف صحيح لا يتأثر بالاكراه</a:t>
            </a:r>
            <a:r>
              <a:rPr b="1" lang="ar-SA" sz="1900" spc="-1" strike="noStrike">
                <a:solidFill>
                  <a:srgbClr val="0070c0"/>
                </a:solidFill>
                <a:latin typeface="Calibri"/>
                <a:ea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2060"/>
                </a:solidFill>
                <a:latin typeface="Calibri"/>
                <a:ea typeface="Arial"/>
              </a:rPr>
              <a:t>-- 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  <a:cs typeface="Arial"/>
              </a:rPr>
              <a:t>تصرفات تحتمل الفسخ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  <a:ea typeface="Arial"/>
              </a:rPr>
              <a:t> 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alibri"/>
                <a:ea typeface="Arial"/>
              </a:rPr>
              <a:t>**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  <a:cs typeface="Arial"/>
              </a:rPr>
              <a:t>الاقرارات :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وهي الاعتراف بالطلاق او الاعتراف بالبيع ، يبطلها الاكراه ولا يعتد بها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alibri"/>
                <a:ea typeface="Arial"/>
              </a:rPr>
              <a:t>**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  <a:cs typeface="Arial"/>
              </a:rPr>
              <a:t>العقود :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كالبيع والاجارة : يفسدها الاكراه ولا يبطلها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178920" y="260280"/>
            <a:ext cx="87138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Calibri"/>
                <a:cs typeface="Arial"/>
              </a:rPr>
              <a:t>عند المالكية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030a0"/>
                </a:solidFill>
                <a:latin typeface="Calibri"/>
                <a:cs typeface="Arial"/>
              </a:rPr>
              <a:t>يغالوا بالاعتداد بالاكراه ولو حصل مصادفة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، ولو لم يكن الطرف الاخر عالما بالاكراه ،وذلك لتأثيره على استقرار المعاملات ، وذلك ما سمي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00000"/>
                </a:solidFill>
                <a:latin typeface="Calibri"/>
                <a:cs typeface="Arial"/>
              </a:rPr>
              <a:t>بيع المضغوط: </a:t>
            </a:r>
            <a:r>
              <a:rPr b="1" lang="ar-SA" sz="3200" spc="-1" strike="noStrike">
                <a:solidFill>
                  <a:srgbClr val="00b050"/>
                </a:solidFill>
                <a:latin typeface="Calibri"/>
                <a:cs typeface="Arial"/>
              </a:rPr>
              <a:t>وهو عندما يكون الاكراه واقعا على البيع نفسه او دفع مال ظلما ، فيضطر المكره لبيع متاعه لدفع المال ، فلا يكون البيع لازما ولو لم يكن المشتري يعلم بالاكراه الذي وقع ودفع البائع للبيع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  <a:tab algn="l" pos="673416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r" rtl="1">
              <a:lnSpc>
                <a:spcPct val="100000"/>
              </a:lnSpc>
              <a:tabLst>
                <a:tab algn="l" pos="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  <a:tab algn="l" pos="6734160"/>
              </a:tabLst>
            </a:pPr>
            <a:r>
              <a:rPr b="1" lang="ar-JO" sz="2000" spc="-1" strike="noStrike">
                <a:solidFill>
                  <a:srgbClr val="3e6697"/>
                </a:solidFill>
                <a:latin typeface="Geeza Pro Bold"/>
                <a:ea typeface="Geeza Pro Bold"/>
              </a:rPr>
              <a:t>* </a:t>
            </a:r>
            <a:r>
              <a:rPr b="1" lang="ar-JO" sz="2000" spc="-1" strike="noStrike" u="sng">
                <a:solidFill>
                  <a:srgbClr val="3e6697"/>
                </a:solidFill>
                <a:uFillTx/>
                <a:latin typeface="Geeza Pro Bold"/>
                <a:cs typeface="Geeza Pro Bold"/>
              </a:rPr>
              <a:t>بيع التلجئة :</a:t>
            </a:r>
            <a:r>
              <a:rPr b="1" lang="ar-JO" sz="2000" spc="-1" strike="noStrike">
                <a:solidFill>
                  <a:srgbClr val="3e6697"/>
                </a:solidFill>
                <a:latin typeface="Geeza Pro Bold"/>
                <a:ea typeface="Geeza Pro Bold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r" rtl="1">
              <a:lnSpc>
                <a:spcPct val="100000"/>
              </a:lnSpc>
              <a:tabLst>
                <a:tab algn="l" pos="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  <a:tab algn="l" pos="6734160"/>
              </a:tabLst>
            </a:pPr>
            <a:r>
              <a:rPr b="1" lang="ar-JO" sz="2000" spc="-1" strike="noStrike">
                <a:solidFill>
                  <a:srgbClr val="00b050"/>
                </a:solidFill>
                <a:latin typeface="Geeza Pro Regular"/>
                <a:cs typeface="Geeza Pro Regular"/>
              </a:rPr>
              <a:t>هو التظاهر بالبيع لشخص ثالث فرارا من اعتداء ظالم على بعض مايملك 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r" rtl="1">
              <a:lnSpc>
                <a:spcPct val="100000"/>
              </a:lnSpc>
              <a:tabLst>
                <a:tab algn="l" pos="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  <a:tab algn="l" pos="6734160"/>
              </a:tabLst>
            </a:pPr>
            <a:r>
              <a:rPr b="1" lang="ar-JO" sz="2000" spc="-1" strike="noStrike">
                <a:solidFill>
                  <a:srgbClr val="c00000"/>
                </a:solidFill>
                <a:latin typeface="Geeza Pro Regular"/>
                <a:cs typeface="Geeza Pro Regular"/>
              </a:rPr>
              <a:t>وهو بيع باطل عند الحنابلة </a:t>
            </a:r>
            <a:r>
              <a:rPr b="1" lang="ar-JO" sz="2000" spc="-1" strike="noStrike">
                <a:solidFill>
                  <a:srgbClr val="0070c0"/>
                </a:solidFill>
                <a:latin typeface="Geeza Pro Regular"/>
                <a:cs typeface="Geeza Pro Regular"/>
              </a:rPr>
              <a:t>وفاسد عند الحنفية </a:t>
            </a:r>
            <a:r>
              <a:rPr b="1" lang="ar-JO" sz="2000" spc="-1" strike="noStrike">
                <a:solidFill>
                  <a:srgbClr val="000000"/>
                </a:solidFill>
                <a:latin typeface="Geeza Pro Regular"/>
                <a:cs typeface="Geeza Pro Regular"/>
              </a:rPr>
              <a:t>، </a:t>
            </a:r>
            <a:r>
              <a:rPr b="1" lang="ar-JO" sz="2000" spc="-1" strike="noStrike">
                <a:solidFill>
                  <a:srgbClr val="c00000"/>
                </a:solidFill>
                <a:latin typeface="Geeza Pro Regular"/>
                <a:cs typeface="Geeza Pro Regular"/>
              </a:rPr>
              <a:t>صحيح عند الشافعية</a:t>
            </a:r>
            <a:r>
              <a:rPr b="1" lang="ar-JO" sz="2000" spc="-1" strike="noStrike">
                <a:solidFill>
                  <a:srgbClr val="000000"/>
                </a:solidFill>
                <a:latin typeface="Geeza Pro Regular"/>
                <a:ea typeface="Geeza Pro Regular"/>
              </a:rPr>
              <a:t> </a:t>
            </a:r>
            <a:r>
              <a:rPr b="1" lang="ar-JO" sz="2000" spc="-1" strike="noStrike">
                <a:solidFill>
                  <a:srgbClr val="0070c0"/>
                </a:solidFill>
                <a:latin typeface="Geeza Pro Regular"/>
                <a:cs typeface="Geeza Pro Regular"/>
              </a:rPr>
              <a:t>وغير لازم عند المالكي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r" rtl="1">
              <a:lnSpc>
                <a:spcPct val="100000"/>
              </a:lnSpc>
              <a:tabLst>
                <a:tab algn="l" pos="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  <a:tab algn="l" pos="673416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r" rtl="1">
              <a:lnSpc>
                <a:spcPct val="100000"/>
              </a:lnSpc>
              <a:tabLst>
                <a:tab algn="l" pos="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  <a:tab algn="l" pos="6734160"/>
              </a:tabLst>
            </a:pPr>
            <a:r>
              <a:rPr b="1" lang="ar-JO" sz="2000" spc="-1" strike="noStrike" u="sng">
                <a:solidFill>
                  <a:srgbClr val="3e6697"/>
                </a:solidFill>
                <a:uFillTx/>
                <a:latin typeface="Geeza Pro Bold"/>
                <a:ea typeface="Geeza Pro Bold"/>
              </a:rPr>
              <a:t>* بيع التغرير :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r" rtl="1">
              <a:lnSpc>
                <a:spcPct val="100000"/>
              </a:lnSpc>
              <a:tabLst>
                <a:tab algn="l" pos="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  <a:tab algn="l" pos="6734160"/>
              </a:tabLst>
            </a:pPr>
            <a:r>
              <a:rPr b="1" lang="ar-JO" sz="2000" spc="-1" strike="noStrike">
                <a:solidFill>
                  <a:srgbClr val="00b050"/>
                </a:solidFill>
                <a:latin typeface="Geeza Pro Regular"/>
                <a:cs typeface="Geeza Pro Regular"/>
              </a:rPr>
              <a:t>هو التدليس وأن يخدع أحد المتعاقدين الآخر بوسائل إحتيالية قوليه او فعلية تحمله على الرضا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r" rtl="1">
              <a:lnSpc>
                <a:spcPct val="100000"/>
              </a:lnSpc>
              <a:tabLst>
                <a:tab algn="l" pos="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  <a:tab algn="l" pos="6734160"/>
              </a:tabLst>
            </a:pPr>
            <a:r>
              <a:rPr b="1" lang="ar-JO" sz="2000" spc="-1" strike="noStrike">
                <a:solidFill>
                  <a:srgbClr val="00b050"/>
                </a:solidFill>
                <a:latin typeface="Geeza Pro Regular"/>
                <a:cs typeface="Geeza Pro Regular"/>
              </a:rPr>
              <a:t>بما لم يكن يرضى به بغيرها ، مثل ايهامه بان هذا القماش صوف انجليزي ، ثم يتبين انه ياباني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  <a:tab algn="l" pos="673416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r" rtl="1">
              <a:lnSpc>
                <a:spcPct val="100000"/>
              </a:lnSpc>
              <a:tabLst>
                <a:tab algn="l" pos="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  <a:tab algn="l" pos="6734160"/>
              </a:tabLst>
            </a:pPr>
            <a:r>
              <a:rPr b="1" lang="ar-JO" sz="2000" spc="-1" strike="noStrike" u="sng">
                <a:solidFill>
                  <a:srgbClr val="3e6697"/>
                </a:solidFill>
                <a:uFillTx/>
                <a:latin typeface="Geeza Pro Bold"/>
                <a:ea typeface="Geeza Pro Bold"/>
              </a:rPr>
              <a:t>* الغبن :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r" rtl="1">
              <a:lnSpc>
                <a:spcPct val="100000"/>
              </a:lnSpc>
              <a:tabLst>
                <a:tab algn="l" pos="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  <a:tab algn="l" pos="6734160"/>
              </a:tabLst>
            </a:pPr>
            <a:r>
              <a:rPr b="1" lang="ar-JO" sz="2000" spc="-1" strike="noStrike">
                <a:solidFill>
                  <a:srgbClr val="ff0000"/>
                </a:solidFill>
                <a:latin typeface="Geeza Pro Regular"/>
                <a:cs typeface="Geeza Pro Regular"/>
              </a:rPr>
              <a:t>هو النقصان ، ولا يؤثر في رضا العاقد الا اذا كان فاحشا </a:t>
            </a:r>
            <a:r>
              <a:rPr b="1" lang="ar-SA" sz="2000" spc="-1" strike="noStrike">
                <a:solidFill>
                  <a:srgbClr val="ff0000"/>
                </a:solidFill>
                <a:latin typeface="Geeza Pro Regular"/>
                <a:cs typeface="Geeza Pro Regular"/>
              </a:rPr>
              <a:t>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r" rtl="1">
              <a:lnSpc>
                <a:spcPct val="100000"/>
              </a:lnSpc>
              <a:tabLst>
                <a:tab algn="l" pos="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  <a:tab algn="l" pos="673416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Geeza Pro Regular"/>
                <a:cs typeface="Geeza Pro Regular"/>
              </a:rPr>
              <a:t>وهو في العقار وغيره ما لا يدخل في تقويم الخبراء ؛ مثلا 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r" rtl="1">
              <a:lnSpc>
                <a:spcPct val="100000"/>
              </a:lnSpc>
              <a:tabLst>
                <a:tab algn="l" pos="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  <a:tab algn="l" pos="673416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Geeza Pro Regular"/>
                <a:ea typeface="Geeza Pro Regular"/>
              </a:rPr>
              <a:t>--</a:t>
            </a:r>
            <a:r>
              <a:rPr b="1" lang="ar-SA" sz="2000" spc="-1" strike="noStrike">
                <a:solidFill>
                  <a:srgbClr val="000000"/>
                </a:solidFill>
                <a:latin typeface="Geeza Pro Regular"/>
                <a:ea typeface="Geeza Pro Regular"/>
              </a:rPr>
              <a:t> لو اشترى شخص شئ بمائة درهم ، فقدره مقوم بتسعين واخر بمائة </a:t>
            </a:r>
            <a:r>
              <a:rPr b="1" lang="ar-SA" sz="2000" spc="-1" strike="noStrike">
                <a:solidFill>
                  <a:srgbClr val="ff0000"/>
                </a:solidFill>
                <a:latin typeface="Geeza Pro Regular"/>
                <a:cs typeface="Geeza Pro Regular"/>
              </a:rPr>
              <a:t>فالغبن هنا يسير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r" rtl="1">
              <a:lnSpc>
                <a:spcPct val="100000"/>
              </a:lnSpc>
              <a:tabLst>
                <a:tab algn="l" pos="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  <a:tab algn="l" pos="673416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Geeza Pro Regular"/>
                <a:ea typeface="Geeza Pro Regular"/>
              </a:rPr>
              <a:t>-- </a:t>
            </a:r>
            <a:r>
              <a:rPr b="1" lang="ar-SA" sz="2000" spc="-1" strike="noStrike">
                <a:solidFill>
                  <a:srgbClr val="000000"/>
                </a:solidFill>
                <a:latin typeface="Geeza Pro Regular"/>
                <a:cs typeface="Geeza Pro Regular"/>
              </a:rPr>
              <a:t>لو اشترى شخص شئ بمائة درهم ، فقدره مقوم بتسعين واخر ب</a:t>
            </a:r>
            <a:r>
              <a:rPr b="1" lang="ar-SA" sz="2000" spc="-1" strike="noStrike">
                <a:solidFill>
                  <a:srgbClr val="000000"/>
                </a:solidFill>
                <a:latin typeface="Geeza Pro Regular"/>
                <a:ea typeface="Geeza Pro Regular"/>
              </a:rPr>
              <a:t>85</a:t>
            </a:r>
            <a:r>
              <a:rPr b="1" lang="ar-SA" sz="2000" spc="-1" strike="noStrike">
                <a:solidFill>
                  <a:srgbClr val="000000"/>
                </a:solidFill>
                <a:latin typeface="Geeza Pro Regular"/>
                <a:ea typeface="Geeza Pro Regular"/>
              </a:rPr>
              <a:t> ولم يقدره احد ب </a:t>
            </a:r>
            <a:r>
              <a:rPr b="1" lang="ar-SA" sz="2000" spc="-1" strike="noStrike">
                <a:solidFill>
                  <a:srgbClr val="000000"/>
                </a:solidFill>
                <a:latin typeface="Geeza Pro Regular"/>
                <a:ea typeface="Geeza Pro Regular"/>
              </a:rPr>
              <a:t>100</a:t>
            </a:r>
            <a:r>
              <a:rPr b="1" lang="ar-SA" sz="2000" spc="-1" strike="noStrike">
                <a:solidFill>
                  <a:srgbClr val="000000"/>
                </a:solidFill>
                <a:latin typeface="Geeza Pro Regular"/>
                <a:ea typeface="Geeza Pro Regular"/>
              </a:rPr>
              <a:t> ، </a:t>
            </a:r>
            <a:r>
              <a:rPr b="1" lang="ar-SA" sz="2000" spc="-1" strike="noStrike">
                <a:solidFill>
                  <a:srgbClr val="ff0000"/>
                </a:solidFill>
                <a:latin typeface="Geeza Pro Regular"/>
                <a:cs typeface="Geeza Pro Regular"/>
              </a:rPr>
              <a:t>فالغبن فاحش بالنسبة للمشتري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r" rtl="1">
              <a:lnSpc>
                <a:spcPct val="100000"/>
              </a:lnSpc>
              <a:tabLst>
                <a:tab algn="l" pos="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  <a:tab algn="l" pos="673416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Geeza Pro Regular"/>
                <a:ea typeface="Geeza Pro Regular"/>
              </a:rPr>
              <a:t>-- </a:t>
            </a:r>
            <a:r>
              <a:rPr b="1" lang="ar-SA" sz="2000" spc="-1" strike="noStrike">
                <a:solidFill>
                  <a:srgbClr val="000000"/>
                </a:solidFill>
                <a:latin typeface="Geeza Pro Regular"/>
                <a:cs typeface="Geeza Pro Regular"/>
              </a:rPr>
              <a:t>لو اشترى شخص شئ بمائة درهم ، فقدر باكثر من مئة قليلا او كثيرا ،  فقدره مقوم ب</a:t>
            </a:r>
            <a:r>
              <a:rPr b="1" lang="ar-SA" sz="2000" spc="-1" strike="noStrike">
                <a:solidFill>
                  <a:srgbClr val="000000"/>
                </a:solidFill>
                <a:latin typeface="Geeza Pro Regular"/>
                <a:ea typeface="Geeza Pro Regular"/>
              </a:rPr>
              <a:t>105</a:t>
            </a:r>
            <a:r>
              <a:rPr b="1" lang="ar-SA" sz="2000" spc="-1" strike="noStrike">
                <a:solidFill>
                  <a:srgbClr val="000000"/>
                </a:solidFill>
                <a:latin typeface="Geeza Pro Regular"/>
                <a:ea typeface="Geeza Pro Regular"/>
              </a:rPr>
              <a:t> واخر وقدره اخرب </a:t>
            </a:r>
            <a:r>
              <a:rPr b="1" lang="ar-SA" sz="2000" spc="-1" strike="noStrike">
                <a:solidFill>
                  <a:srgbClr val="000000"/>
                </a:solidFill>
                <a:latin typeface="Geeza Pro Regular"/>
                <a:ea typeface="Geeza Pro Regular"/>
              </a:rPr>
              <a:t>110</a:t>
            </a:r>
            <a:r>
              <a:rPr b="1" lang="ar-SA" sz="2000" spc="-1" strike="noStrike">
                <a:solidFill>
                  <a:srgbClr val="000000"/>
                </a:solidFill>
                <a:latin typeface="Geeza Pro Regular"/>
                <a:ea typeface="Geeza Pro Regular"/>
              </a:rPr>
              <a:t> ، </a:t>
            </a:r>
            <a:r>
              <a:rPr b="1" lang="ar-SA" sz="2000" spc="-1" strike="noStrike">
                <a:solidFill>
                  <a:srgbClr val="ff0000"/>
                </a:solidFill>
                <a:latin typeface="Geeza Pro Regular"/>
                <a:cs typeface="Geeza Pro Regular"/>
              </a:rPr>
              <a:t>فالغبن فاحش بالنسبة للبائع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51"/>
              </a:spcBef>
              <a:tabLst>
                <a:tab algn="l" pos="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  <a:tab algn="l" pos="67341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51"/>
              </a:spcBef>
              <a:tabLst>
                <a:tab algn="l" pos="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  <a:tab algn="l" pos="67341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مربع نص 2"/>
          <p:cNvSpPr/>
          <p:nvPr/>
        </p:nvSpPr>
        <p:spPr>
          <a:xfrm>
            <a:off x="179280" y="333360"/>
            <a:ext cx="8785440" cy="78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entury Schoolbook"/>
              </a:rPr>
              <a:t>الغبن المؤثر في الرضا هو المصحوب بالتغرير وذلك كالتالي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030a0"/>
                </a:solidFill>
                <a:latin typeface="Century Schoolbook"/>
              </a:rPr>
              <a:t>اولا :</a:t>
            </a:r>
            <a:r>
              <a:rPr b="1" lang="ar-SA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ar-SA" sz="2400" spc="-1" strike="noStrike">
                <a:solidFill>
                  <a:srgbClr val="00b050"/>
                </a:solidFill>
                <a:latin typeface="Century Schoolbook"/>
              </a:rPr>
              <a:t>التغرير مع الغبن الفاحش : يجوز لمن غرر به فسخ العقد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030a0"/>
                </a:solidFill>
                <a:latin typeface="Century Schoolbook"/>
              </a:rPr>
              <a:t>ثانيا :</a:t>
            </a:r>
            <a:r>
              <a:rPr b="1" lang="ar-SA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ar-SA" sz="2400" spc="-1" strike="noStrike">
                <a:solidFill>
                  <a:srgbClr val="00b050"/>
                </a:solidFill>
                <a:latin typeface="Century Schoolbook"/>
              </a:rPr>
              <a:t>الغبن دون تغرير: </a:t>
            </a:r>
            <a:r>
              <a:rPr b="1" lang="ar-SA" sz="2400" spc="-1" strike="noStrike">
                <a:solidFill>
                  <a:srgbClr val="0070c0"/>
                </a:solidFill>
                <a:latin typeface="Century Schoolbook"/>
              </a:rPr>
              <a:t>الاصل</a:t>
            </a:r>
            <a:r>
              <a:rPr b="1" lang="ar-SA" sz="2400" spc="-1" strike="noStrike">
                <a:solidFill>
                  <a:srgbClr val="00b050"/>
                </a:solidFill>
                <a:latin typeface="Century Schoolbook"/>
              </a:rPr>
              <a:t> انه يكون بظن خاطئ من صاحبه فهو المسؤول عن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ar-SA" sz="2400" spc="-1" strike="noStrike">
                <a:solidFill>
                  <a:srgbClr val="0070c0"/>
                </a:solidFill>
                <a:latin typeface="Century Schoolbook"/>
              </a:rPr>
              <a:t>الاستثناء :</a:t>
            </a:r>
            <a:r>
              <a:rPr b="1" lang="ar-SA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Century Schoolbook"/>
              </a:rPr>
              <a:t>الغبن الفاحش بدون تغرير يفسخ العقد في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b0f0"/>
                </a:solidFill>
                <a:latin typeface="Century Schoolbook"/>
              </a:rPr>
              <a:t>-- مال المحجو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b0f0"/>
                </a:solidFill>
                <a:latin typeface="Century Schoolbook"/>
              </a:rPr>
              <a:t>-- ومال الوق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b0f0"/>
                </a:solidFill>
                <a:latin typeface="Century Schoolbook"/>
              </a:rPr>
              <a:t>-- ومال الدول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entury Schoolbook"/>
              </a:rPr>
              <a:t>ثالثا : ويؤثر الغبن اليسير في مال المجوز عليه للدين أو المريض مرض الموت وكان دينهما مستغرقاً ، </a:t>
            </a:r>
            <a:r>
              <a:rPr b="1" lang="ar-SA" sz="2400" spc="-1" strike="noStrike">
                <a:solidFill>
                  <a:srgbClr val="00b050"/>
                </a:solidFill>
                <a:latin typeface="Century Schoolbook"/>
              </a:rPr>
              <a:t>فالعقد موقوف على رفع الغبن او اجازته من الدائنين والا بطل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76a776"/>
                </a:solidFill>
                <a:uFillTx/>
                <a:latin typeface="Century Schoolbook"/>
              </a:rPr>
              <a:t>أما الغلط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: </a:t>
            </a:r>
            <a:r>
              <a:rPr b="1" lang="ar-SA" sz="2400" spc="-1" strike="noStrike">
                <a:solidFill>
                  <a:srgbClr val="000000"/>
                </a:solidFill>
                <a:latin typeface="Century Schoolbook"/>
              </a:rPr>
              <a:t>حالة تقوم بالنفس تحمل على توهم غير الواقع ، بان تكون هناك واقعة غير صحيحة يتوهم الانسان صحتها ، او واقعة صحيحة يتوهم عدم صحتها ، ومن امثلة ذل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entury Schoolbook"/>
              </a:rPr>
              <a:t>-- الغلط في جنس محل العقد ،  كأن يشتري حلية ذهب فيتبين أنها نحا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entury Schoolbook"/>
              </a:rPr>
              <a:t>-- الغلط في وصف محل العقد ، كأن يشتري ساعة على انها سويسري فتبين انها يابان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1331640" y="259920"/>
            <a:ext cx="749124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ff0000"/>
                </a:solidFill>
                <a:uFillTx/>
                <a:latin typeface="Muna Bold"/>
                <a:cs typeface="Muna Bold"/>
              </a:rPr>
              <a:t>أن يكون موجود وقت التعاقد:</a:t>
            </a:r>
            <a:r>
              <a:rPr b="0" lang="ar-SA" sz="3500" spc="-1" strike="noStrike" u="sng">
                <a:solidFill>
                  <a:srgbClr val="ff0000"/>
                </a:solidFill>
                <a:uFillTx/>
                <a:latin typeface="Muna Bold"/>
                <a:cs typeface="Muna Bold"/>
              </a:rPr>
              <a:t>اولا</a:t>
            </a:r>
            <a:r>
              <a:rPr b="0" lang="ar-SA" sz="3500" spc="-1" strike="noStrike" u="sng">
                <a:solidFill>
                  <a:srgbClr val="ff0000"/>
                </a:solidFill>
                <a:uFillTx/>
                <a:latin typeface="Muna Bold"/>
                <a:ea typeface="Muna Bold"/>
              </a:rPr>
              <a:t> </a:t>
            </a:r>
            <a:r>
              <a:rPr b="0" lang="en-US" sz="3500" spc="-1" strike="noStrike" u="sng">
                <a:solidFill>
                  <a:srgbClr val="ff0000"/>
                </a:solidFill>
                <a:uFillTx/>
                <a:latin typeface="Muna Bold"/>
                <a:ea typeface="Muna Bold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898989"/>
                </a:solidFill>
                <a:latin typeface="Muna Bold"/>
                <a:ea typeface="Muna Bold"/>
              </a:rPr>
              <a:t>-- </a:t>
            </a:r>
            <a:r>
              <a:rPr b="0" lang="en-US" sz="2500" spc="-1" strike="noStrike">
                <a:solidFill>
                  <a:srgbClr val="0070c0"/>
                </a:solidFill>
                <a:latin typeface="Muna Bold"/>
                <a:cs typeface="Muna Bold"/>
              </a:rPr>
              <a:t>فلا يصح التعاقد على معدوم</a:t>
            </a:r>
            <a:r>
              <a:rPr b="0" lang="en-US" sz="2500" spc="-1" strike="noStrike">
                <a:solidFill>
                  <a:srgbClr val="898989"/>
                </a:solidFill>
                <a:latin typeface="Muna Bold"/>
                <a:ea typeface="Muna Bold"/>
              </a:rPr>
              <a:t> </a:t>
            </a:r>
            <a:r>
              <a:rPr b="0" lang="en-US" sz="2500" spc="-1" strike="noStrike">
                <a:solidFill>
                  <a:srgbClr val="002060"/>
                </a:solidFill>
                <a:latin typeface="Muna Bold"/>
                <a:cs typeface="Muna Bold"/>
              </a:rPr>
              <a:t>كبيع الزرع قبل ظهوره</a:t>
            </a:r>
            <a:r>
              <a:rPr b="0" lang="en-US" sz="2500" spc="-1" strike="noStrike">
                <a:solidFill>
                  <a:srgbClr val="002060"/>
                </a:solidFill>
                <a:latin typeface="Muna Bold"/>
                <a:cs typeface="Muna Bold"/>
              </a:rPr>
              <a:t>،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2060"/>
                </a:solidFill>
                <a:latin typeface="Muna Bold"/>
                <a:cs typeface="Muna Bold"/>
              </a:rPr>
              <a:t>لاحتمال عدم نبات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898989"/>
                </a:solidFill>
                <a:latin typeface="Muna Bold"/>
                <a:ea typeface="Muna Bold"/>
              </a:rPr>
              <a:t>-- </a:t>
            </a:r>
            <a:r>
              <a:rPr b="0" lang="ar-SA" sz="2500" spc="-1" strike="noStrike">
                <a:solidFill>
                  <a:srgbClr val="0070c0"/>
                </a:solidFill>
                <a:latin typeface="Muna Bold"/>
                <a:cs typeface="Muna Bold"/>
              </a:rPr>
              <a:t>ولا يصح التعاقد على ما له خطر العدم بالوجود او عدم الوجود ؛ </a:t>
            </a:r>
            <a:r>
              <a:rPr b="0" lang="ar-SA" sz="2500" spc="-1" strike="noStrike">
                <a:solidFill>
                  <a:srgbClr val="002060"/>
                </a:solidFill>
                <a:latin typeface="Muna Bold"/>
                <a:cs typeface="Muna Bold"/>
              </a:rPr>
              <a:t>كبيع</a:t>
            </a:r>
            <a:r>
              <a:rPr b="0" lang="ar-SA" sz="2500" spc="-1" strike="noStrike">
                <a:solidFill>
                  <a:srgbClr val="898989"/>
                </a:solidFill>
                <a:latin typeface="Muna Bold"/>
                <a:ea typeface="Muna Bold"/>
              </a:rPr>
              <a:t> </a:t>
            </a:r>
            <a:r>
              <a:rPr b="0" lang="ar-SA" sz="2500" spc="-1" strike="noStrike">
                <a:solidFill>
                  <a:srgbClr val="002060"/>
                </a:solidFill>
                <a:latin typeface="Muna Bold"/>
                <a:cs typeface="Muna Bold"/>
              </a:rPr>
              <a:t>الحمل في بطن امه وبيع اللبن في الضرع واللؤلؤ في الصدف</a:t>
            </a:r>
            <a:r>
              <a:rPr b="0" lang="ar-SA" sz="2500" spc="-1" strike="noStrike">
                <a:solidFill>
                  <a:srgbClr val="002060"/>
                </a:solidFill>
                <a:latin typeface="Muna Bold"/>
                <a:ea typeface="Muna Bold"/>
              </a:rPr>
              <a:t> </a:t>
            </a:r>
            <a:r>
              <a:rPr b="0" lang="ar-SA" sz="2500" spc="-1" strike="noStrike">
                <a:solidFill>
                  <a:srgbClr val="002060"/>
                </a:solidFill>
                <a:latin typeface="Muna Bold"/>
                <a:ea typeface="Muna Bold"/>
              </a:rPr>
              <a:t>.</a:t>
            </a:r>
            <a:r>
              <a:rPr b="0" lang="en-US" sz="2500" spc="-1" strike="noStrike">
                <a:solidFill>
                  <a:srgbClr val="898989"/>
                </a:solidFill>
                <a:latin typeface="Muna Bold"/>
                <a:ea typeface="Muna Bold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898989"/>
                </a:solidFill>
                <a:latin typeface="Muna Bold"/>
                <a:ea typeface="Muna Bold"/>
              </a:rPr>
              <a:t>-- </a:t>
            </a:r>
            <a:r>
              <a:rPr b="0" lang="en-US" sz="2500" spc="-1" strike="noStrike">
                <a:solidFill>
                  <a:srgbClr val="0070c0"/>
                </a:solidFill>
                <a:latin typeface="Muna Bold"/>
                <a:cs typeface="Muna Bold"/>
              </a:rPr>
              <a:t>ولايصح التعاقد على مستحيل الوجود استحاله مطلقه في المستقبل</a:t>
            </a:r>
            <a:r>
              <a:rPr b="0" lang="en-US" sz="2500" spc="-1" strike="noStrike">
                <a:solidFill>
                  <a:srgbClr val="898989"/>
                </a:solidFill>
                <a:latin typeface="Muna Bold"/>
                <a:cs typeface="Muna Bold"/>
              </a:rPr>
              <a:t>، </a:t>
            </a:r>
            <a:r>
              <a:rPr b="0" lang="en-US" sz="2500" spc="-1" strike="noStrike">
                <a:solidFill>
                  <a:srgbClr val="002060"/>
                </a:solidFill>
                <a:latin typeface="Muna Bold"/>
                <a:cs typeface="Muna Bold"/>
              </a:rPr>
              <a:t>كالتعاقد مع الطبيب على علاج مريض متوفي</a:t>
            </a:r>
            <a:r>
              <a:rPr b="0" lang="en-US" sz="2500" spc="-1" strike="noStrike">
                <a:solidFill>
                  <a:srgbClr val="898989"/>
                </a:solidFill>
                <a:latin typeface="Muna Bold"/>
                <a:ea typeface="Muna Bold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2060"/>
                </a:solidFill>
                <a:uFillTx/>
                <a:latin typeface="Muna Bold"/>
                <a:cs typeface="Muna Bold"/>
              </a:rPr>
              <a:t>ويستثنى</a:t>
            </a:r>
            <a:r>
              <a:rPr b="0" lang="en-US" sz="2500" spc="-1" strike="noStrike">
                <a:solidFill>
                  <a:srgbClr val="002060"/>
                </a:solidFill>
                <a:latin typeface="Muna Bold"/>
                <a:ea typeface="Muna Bold"/>
              </a:rPr>
              <a:t> من هذا الشرط في منع التصرف بالمعدوم</a:t>
            </a:r>
            <a:r>
              <a:rPr b="0" lang="ar-SA" sz="2500" spc="-1" strike="noStrike">
                <a:solidFill>
                  <a:srgbClr val="002060"/>
                </a:solidFill>
                <a:latin typeface="Muna Bold"/>
                <a:ea typeface="Muna Bold"/>
              </a:rPr>
              <a:t> </a:t>
            </a:r>
            <a:r>
              <a:rPr b="0" lang="en-US" sz="2500" spc="-1" strike="noStrike">
                <a:solidFill>
                  <a:srgbClr val="002060"/>
                </a:solidFill>
                <a:latin typeface="Muna Bold"/>
                <a:cs typeface="Muna Bold"/>
              </a:rPr>
              <a:t>مع عدم وجود المحل المعقود عليه حين إنشاء العقد</a:t>
            </a:r>
            <a:r>
              <a:rPr b="0" lang="en-US" sz="2500" spc="-1" strike="noStrike">
                <a:solidFill>
                  <a:srgbClr val="002060"/>
                </a:solidFill>
                <a:latin typeface="Muna Bold"/>
                <a:ea typeface="Muna Bold"/>
              </a:rPr>
              <a:t> </a:t>
            </a:r>
            <a:r>
              <a:rPr b="0" lang="ar-SA" sz="2500" spc="-1" strike="noStrike">
                <a:solidFill>
                  <a:srgbClr val="002060"/>
                </a:solidFill>
                <a:latin typeface="Muna Bold"/>
                <a:ea typeface="Muna Bold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b050"/>
                </a:solidFill>
                <a:latin typeface="Muna Bold"/>
                <a:ea typeface="Muna Bold"/>
              </a:rPr>
              <a:t>-- </a:t>
            </a:r>
            <a:r>
              <a:rPr b="0" lang="en-US" sz="2500" spc="-1" strike="noStrike">
                <a:solidFill>
                  <a:srgbClr val="00b050"/>
                </a:solidFill>
                <a:latin typeface="Muna Bold"/>
                <a:cs typeface="Muna Bold"/>
              </a:rPr>
              <a:t>استحسانًا لمراعاة حاجة الناس إليه وإقرار الشرع صراحة </a:t>
            </a:r>
            <a:r>
              <a:rPr b="0" lang="ar-SA" sz="2500" spc="-1" strike="noStrike">
                <a:solidFill>
                  <a:srgbClr val="00b050"/>
                </a:solidFill>
                <a:latin typeface="Muna Bold"/>
                <a:cs typeface="Muna Bold"/>
              </a:rPr>
              <a:t>مثل ؛ </a:t>
            </a:r>
            <a:r>
              <a:rPr b="0" lang="en-US" sz="2500" spc="-1" strike="noStrike">
                <a:solidFill>
                  <a:srgbClr val="00b050"/>
                </a:solidFill>
                <a:latin typeface="Muna Bold"/>
                <a:cs typeface="Muna Bold"/>
              </a:rPr>
              <a:t>عقود السلم</a:t>
            </a:r>
            <a:r>
              <a:rPr b="0" lang="ar-SA" sz="2500" spc="-1" strike="noStrike">
                <a:solidFill>
                  <a:srgbClr val="00b050"/>
                </a:solidFill>
                <a:latin typeface="Muna Bold"/>
                <a:ea typeface="Muna Bold"/>
              </a:rPr>
              <a:t> (( هو بيع آجل بعاجل ، اي بيع شيء غير موجود حاليا وسيوجد في المستقبل بثمن حال )) </a:t>
            </a:r>
            <a:r>
              <a:rPr b="0" lang="en-US" sz="2500" spc="-1" strike="noStrike">
                <a:solidFill>
                  <a:srgbClr val="00b050"/>
                </a:solidFill>
                <a:latin typeface="Muna Bold"/>
                <a:cs typeface="Muna Bold"/>
              </a:rPr>
              <a:t>،</a:t>
            </a:r>
            <a:r>
              <a:rPr b="0" lang="ar-SA" sz="2500" spc="-1" strike="noStrike">
                <a:solidFill>
                  <a:srgbClr val="00b050"/>
                </a:solidFill>
                <a:latin typeface="Muna Bold"/>
                <a:ea typeface="Muna Bold"/>
              </a:rPr>
              <a:t>  </a:t>
            </a:r>
            <a:r>
              <a:rPr b="0" lang="en-US" sz="2500" spc="-1" strike="noStrike">
                <a:solidFill>
                  <a:srgbClr val="00b050"/>
                </a:solidFill>
                <a:latin typeface="Muna Bold"/>
                <a:cs typeface="Muna Bold"/>
              </a:rPr>
              <a:t>والأجارة </a:t>
            </a:r>
            <a:r>
              <a:rPr b="0" lang="ar-SA" sz="2500" spc="-1" strike="noStrike">
                <a:solidFill>
                  <a:srgbClr val="00b050"/>
                </a:solidFill>
                <a:latin typeface="Muna Bold"/>
                <a:cs typeface="Muna Bold"/>
              </a:rPr>
              <a:t>، </a:t>
            </a:r>
            <a:r>
              <a:rPr b="0" lang="en-US" sz="2500" spc="-1" strike="noStrike">
                <a:solidFill>
                  <a:srgbClr val="00b050"/>
                </a:solidFill>
                <a:latin typeface="Muna Bold"/>
                <a:cs typeface="Muna Bold"/>
              </a:rPr>
              <a:t>والمساقاه</a:t>
            </a:r>
            <a:r>
              <a:rPr b="0" lang="ar-SA" sz="2500" spc="-1" strike="noStrike">
                <a:solidFill>
                  <a:srgbClr val="00b050"/>
                </a:solidFill>
                <a:latin typeface="Muna Bold"/>
                <a:ea typeface="Muna Bold"/>
              </a:rPr>
              <a:t> ، </a:t>
            </a:r>
            <a:r>
              <a:rPr b="0" lang="en-US" sz="2500" spc="-1" strike="noStrike">
                <a:solidFill>
                  <a:srgbClr val="00b050"/>
                </a:solidFill>
                <a:latin typeface="Muna Bold"/>
                <a:cs typeface="Muna Bold"/>
              </a:rPr>
              <a:t>والمزارعه</a:t>
            </a:r>
            <a:r>
              <a:rPr b="0" lang="en-US" sz="2500" spc="-1" strike="noStrike">
                <a:solidFill>
                  <a:srgbClr val="00b050"/>
                </a:solidFill>
                <a:latin typeface="Muna Bold"/>
                <a:ea typeface="Muna Bold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b050"/>
                </a:solidFill>
                <a:latin typeface="Muna Bold"/>
                <a:ea typeface="Muna Bold"/>
              </a:rPr>
              <a:t>-- </a:t>
            </a:r>
            <a:r>
              <a:rPr b="0" lang="ar-SA" sz="2500" spc="-1" strike="noStrike">
                <a:solidFill>
                  <a:srgbClr val="00b050"/>
                </a:solidFill>
                <a:latin typeface="Muna Bold"/>
                <a:cs typeface="Muna Bold"/>
              </a:rPr>
              <a:t>ما اجيز بالاجماع مثل ؛ </a:t>
            </a:r>
            <a:r>
              <a:rPr b="0" lang="en-US" sz="2500" spc="-1" strike="noStrike">
                <a:solidFill>
                  <a:srgbClr val="00b050"/>
                </a:solidFill>
                <a:latin typeface="Muna Bold"/>
                <a:cs typeface="Muna Bold"/>
              </a:rPr>
              <a:t>الاستصناع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98989"/>
                </a:solidFill>
                <a:latin typeface="Muna Bold"/>
                <a:ea typeface="Muna Bold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r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b050"/>
                </a:solidFill>
                <a:latin typeface="Century Schoolbook"/>
                <a:cs typeface="Arial"/>
              </a:rPr>
              <a:t>يبطل العقد : </a:t>
            </a:r>
            <a:r>
              <a:rPr b="1" lang="ar-SA" sz="2000" spc="-1" strike="noStrike">
                <a:solidFill>
                  <a:srgbClr val="000000"/>
                </a:solidFill>
                <a:latin typeface="Century Schoolbook"/>
                <a:cs typeface="Arial"/>
              </a:rPr>
              <a:t>اذا وقع الغلط في ماهية العقد أو أحد شروط الانعقاد أو في المحل، فيكون البطلان نتيجة تخلف اهم اركان العقد واسبابه فتأثر وجوده كليا ، ويؤدي لانهاء وحل العلاقة القانونية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70c0"/>
                </a:solidFill>
                <a:latin typeface="Century Schoolbook"/>
                <a:cs typeface="Arial"/>
              </a:rPr>
              <a:t>امثلة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entury Schoolbook"/>
                <a:ea typeface="Arial"/>
              </a:rPr>
              <a:t>-- على اساس ان هناك شخص اراد بيع شيء لاخر ، والاخر تلقاه على انه هبه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entury Schoolbook"/>
                <a:ea typeface="Arial"/>
              </a:rPr>
              <a:t>-- يتفق شخص مع ورثة على قسمة  تركة لانه موصى له ، ثم تبين بطلان الوصية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b050"/>
                </a:solidFill>
                <a:latin typeface="Century Schoolbook"/>
                <a:cs typeface="Arial"/>
              </a:rPr>
              <a:t>يفسخ العقد : </a:t>
            </a:r>
            <a:r>
              <a:rPr b="1" lang="ar-SA" sz="2000" spc="-1" strike="noStrike">
                <a:solidFill>
                  <a:srgbClr val="000000"/>
                </a:solidFill>
                <a:latin typeface="Century Schoolbook"/>
                <a:cs typeface="Arial"/>
              </a:rPr>
              <a:t>إذا وقع من المتعاقد غلط في أمر مرغوب فيه كصفة المحل ، فالعقد نشأ صحيحا بتوافر اركانه وشروطه لكن يطلب احد الطرفين حل العقد وفسخه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70c0"/>
                </a:solidFill>
                <a:latin typeface="Century Schoolbook"/>
                <a:cs typeface="Arial"/>
              </a:rPr>
              <a:t>امثلة 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entury Schoolbook"/>
                <a:ea typeface="Arial"/>
              </a:rPr>
              <a:t>-- غلط في صفة في المحل : اشترى شخص ارضا ظانا انها تطل على  الشارع واكتشف انها محاطة بالابنية ، او اشترى قماشا على انه يغسل ثم تبين انه لا يمكن غسله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entury Schoolbook"/>
                <a:ea typeface="Arial"/>
              </a:rPr>
              <a:t>-- غلط في ذات المتعاقد  الاخر او في  صفة فيه : اراد شخص التبرع لرجل اسمه احمد واكتشف انه تبرع لخالد ، او اتفق مع طبيب على اساس انه مشهور وتبين انه اقل شهرة ، او تبرع لاحمد على فرض انه فقير واكتشف انه غني 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 rtl="1">
              <a:lnSpc>
                <a:spcPct val="80000"/>
              </a:lnSpc>
              <a:spcBef>
                <a:spcPts val="499"/>
              </a:spcBef>
              <a:buClr>
                <a:srgbClr val="76a7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76a776"/>
                </a:solidFill>
                <a:latin typeface="Century Schoolbook"/>
                <a:cs typeface="Arial"/>
              </a:rPr>
              <a:t>والخلاصة</a:t>
            </a:r>
            <a:r>
              <a:rPr b="1" lang="ar-SA" sz="2000" spc="-1" strike="noStrike">
                <a:solidFill>
                  <a:srgbClr val="c00000"/>
                </a:solidFill>
                <a:latin typeface="Century Schoolbook"/>
                <a:ea typeface="Arial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entury Schoolbook"/>
                <a:cs typeface="Arial"/>
              </a:rPr>
              <a:t>أن هذه االعيوب تخل بسلامة الرضا وتعيب الإرادة وتعطي من وقع بها حق فسخ العقد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عنصر نائب للمحتوى 2"/>
          <p:cNvSpPr/>
          <p:nvPr/>
        </p:nvSpPr>
        <p:spPr>
          <a:xfrm>
            <a:off x="179280" y="333360"/>
            <a:ext cx="8805960" cy="64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70c0"/>
                </a:solidFill>
                <a:latin typeface="Century Schoolbook"/>
              </a:rPr>
              <a:t>شروط النفاذ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6a776"/>
                </a:solidFill>
                <a:latin typeface="Century Schoolbook"/>
              </a:rPr>
              <a:t>- الملك أو الولاي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76a776"/>
                </a:solidFill>
                <a:uFillTx/>
                <a:latin typeface="Century Schoolbook"/>
              </a:rPr>
              <a:t>الملك :</a:t>
            </a:r>
            <a:r>
              <a:rPr b="1" lang="ar-SA" sz="2400" spc="-1" strike="noStrike">
                <a:solidFill>
                  <a:srgbClr val="76a776"/>
                </a:solidFill>
                <a:latin typeface="Century Schoolbook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Century Schoolbook"/>
              </a:rPr>
              <a:t>هو حيازة الشيء متى كان الحائز له قادر وحده على التصرف فيه عند عدم المانع الشرعي 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b050"/>
                </a:solidFill>
                <a:latin typeface="Century Schoolbook"/>
              </a:rPr>
              <a:t>والمانع الشرعي يتواجد في حالة المجنون والسفيه والقاصر ، هم مالكين لكن لا يتمتعون بالتصرف لانهم تحت ولاية غيره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76a776"/>
                </a:solidFill>
                <a:uFillTx/>
                <a:latin typeface="Century Schoolbook"/>
              </a:rPr>
              <a:t>الولاية :  </a:t>
            </a:r>
            <a:r>
              <a:rPr b="1" lang="ar-SA" sz="2400" spc="-1" strike="noStrike">
                <a:solidFill>
                  <a:srgbClr val="ff0000"/>
                </a:solidFill>
                <a:latin typeface="Century Schoolbook"/>
              </a:rPr>
              <a:t>سلطة شرعية بها ينعقد وينفذ العقد وهي إما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76a776"/>
                </a:solidFill>
                <a:uFillTx/>
                <a:latin typeface="Century Schoolbook"/>
              </a:rPr>
              <a:t>أصلية :</a:t>
            </a:r>
            <a:r>
              <a:rPr b="1" lang="ar-SA" sz="2400" spc="-1" strike="noStrike">
                <a:solidFill>
                  <a:srgbClr val="76a776"/>
                </a:solidFill>
                <a:latin typeface="Century Schoolbook"/>
              </a:rPr>
              <a:t> </a:t>
            </a:r>
            <a:r>
              <a:rPr b="1" lang="ar-SA" sz="2400" spc="-1" strike="noStrike">
                <a:solidFill>
                  <a:srgbClr val="002060"/>
                </a:solidFill>
                <a:latin typeface="Century Schoolbook"/>
              </a:rPr>
              <a:t>أن يتولى الانسان أموره بنفس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76a776"/>
                </a:solidFill>
                <a:uFillTx/>
                <a:latin typeface="Century Schoolbook"/>
              </a:rPr>
              <a:t>نيابة : </a:t>
            </a:r>
            <a:r>
              <a:rPr b="1" lang="ar-SA" sz="2400" spc="-1" strike="noStrike">
                <a:solidFill>
                  <a:srgbClr val="002060"/>
                </a:solidFill>
                <a:latin typeface="Century Schoolbook"/>
              </a:rPr>
              <a:t>أن يتولى الشخص أمور غيره كالوكيل أو الأولياء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entury Schoolbook"/>
              </a:rPr>
              <a:t>فبائع الشيء يجب ان يكون مالكا له ، اما اذا باع شخص شيء مملوك لغيره فيعد فضولي ، وتصرفه لا ينفذ باعتبار انعدام الولاية او الملك ، وبالتالي فإن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b0f0"/>
                </a:solidFill>
                <a:latin typeface="Century Schoolbook"/>
              </a:rPr>
              <a:t>--</a:t>
            </a:r>
            <a:r>
              <a:rPr b="1" lang="ar-SA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Century Schoolbook"/>
              </a:rPr>
              <a:t>الحنفية والمالكية :  العقد موقوف على اجازة المال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b0f0"/>
                </a:solidFill>
                <a:latin typeface="Century Schoolbook"/>
              </a:rPr>
              <a:t>--</a:t>
            </a:r>
            <a:r>
              <a:rPr b="1" lang="ar-SA" sz="2400" spc="-1" strike="noStrike">
                <a:solidFill>
                  <a:srgbClr val="c00000"/>
                </a:solidFill>
                <a:latin typeface="Century Schoolbook"/>
              </a:rPr>
              <a:t> الحنابلة والشافعية العقد باطلا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"/>
          <p:cNvSpPr/>
          <p:nvPr/>
        </p:nvSpPr>
        <p:spPr>
          <a:xfrm>
            <a:off x="179280" y="836640"/>
            <a:ext cx="8713800" cy="70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76a776"/>
                </a:solidFill>
                <a:latin typeface="Century Schoolbook"/>
              </a:rPr>
              <a:t>ألا يكون في المبيع حق لغير البائع </a:t>
            </a:r>
            <a:r>
              <a:rPr b="1" lang="ar-SA" sz="1800" spc="-1" strike="noStrike">
                <a:solidFill>
                  <a:srgbClr val="000000"/>
                </a:solidFill>
                <a:latin typeface="Century Schoolbook"/>
              </a:rPr>
              <a:t>: </a:t>
            </a:r>
            <a:r>
              <a:rPr b="1" lang="ar-SA" sz="1800" spc="-1" strike="noStrike">
                <a:solidFill>
                  <a:srgbClr val="ff0000"/>
                </a:solidFill>
                <a:latin typeface="Century Schoolbook"/>
              </a:rPr>
              <a:t>واذا كان في المبيع حق لغير البائع كان العقد موقوف غير نافذ حتى يجيزه صاحب الح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2060"/>
                </a:solidFill>
                <a:latin typeface="Century Schoolbook"/>
              </a:rPr>
              <a:t>--</a:t>
            </a:r>
            <a:r>
              <a:rPr b="1" lang="ar-SA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ar-SA" sz="1800" spc="-1" strike="noStrike">
                <a:solidFill>
                  <a:srgbClr val="0070c0"/>
                </a:solidFill>
                <a:latin typeface="Century Schoolbook"/>
              </a:rPr>
              <a:t>فلا ينفذ بيع الراهن للمرهون لانه موقوف على اجازة المرتهن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2060"/>
                </a:solidFill>
                <a:latin typeface="Century Schoolbook"/>
              </a:rPr>
              <a:t>--</a:t>
            </a:r>
            <a:r>
              <a:rPr b="1" lang="ar-SA" sz="1800" spc="-1" strike="noStrike">
                <a:solidFill>
                  <a:srgbClr val="0070c0"/>
                </a:solidFill>
                <a:latin typeface="Century Schoolbook"/>
              </a:rPr>
              <a:t> ولا ينفذ بيع المؤجر للمأجور لانه موقوف على اجازة المستأجر </a:t>
            </a:r>
            <a:r>
              <a:rPr b="1" lang="ar-SA" sz="1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7030a0"/>
                </a:solidFill>
                <a:uFillTx/>
                <a:latin typeface="Century Schoolbook"/>
              </a:rPr>
              <a:t>تصرف الفضولي : </a:t>
            </a:r>
            <a:r>
              <a:rPr b="1" lang="ar-SA" sz="1800" spc="-1" strike="noStrike">
                <a:solidFill>
                  <a:srgbClr val="c00000"/>
                </a:solidFill>
                <a:latin typeface="Century Schoolbook"/>
              </a:rPr>
              <a:t>هو من يتصرف فيما يظهر ملكية غيره له . </a:t>
            </a:r>
            <a:r>
              <a:rPr b="1" lang="ar-SA" sz="1800" spc="-1" strike="noStrike">
                <a:solidFill>
                  <a:srgbClr val="0070c0"/>
                </a:solidFill>
                <a:latin typeface="Century Schoolbook"/>
              </a:rPr>
              <a:t>وتصرف الفضولي هو تصرفه في شيء أو قيامه بإبرام عقد دون أن يكون له ولاية على القيام ب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Century Schoolbook"/>
              </a:rPr>
              <a:t>--</a:t>
            </a:r>
            <a:r>
              <a:rPr b="1" lang="ar-SA" sz="1800" spc="-1" strike="noStrike">
                <a:solidFill>
                  <a:srgbClr val="0070c0"/>
                </a:solidFill>
                <a:latin typeface="Century Schoolbook"/>
              </a:rPr>
              <a:t> </a:t>
            </a:r>
            <a:r>
              <a:rPr b="1" lang="ar-SA" sz="1800" spc="-1" strike="noStrike">
                <a:solidFill>
                  <a:srgbClr val="002060"/>
                </a:solidFill>
                <a:latin typeface="Century Schoolbook"/>
              </a:rPr>
              <a:t>كمن يبيع أو يشتري للغير دون وكالة أصلية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Century Schoolbook"/>
              </a:rPr>
              <a:t>--</a:t>
            </a:r>
            <a:r>
              <a:rPr b="1" lang="ar-SA" sz="1800" spc="-1" strike="noStrike">
                <a:solidFill>
                  <a:srgbClr val="002060"/>
                </a:solidFill>
                <a:latin typeface="Century Schoolbook"/>
              </a:rPr>
              <a:t> ومن يؤجر او يستأجر لغيره دون وكالة او وصاية او ولاية ودون اذن من الغير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Century Schoolbook"/>
              </a:rPr>
              <a:t>--</a:t>
            </a:r>
            <a:r>
              <a:rPr b="1" lang="ar-SA" sz="1800" spc="-1" strike="noStrike">
                <a:solidFill>
                  <a:srgbClr val="002060"/>
                </a:solidFill>
                <a:latin typeface="Century Schoolbook"/>
              </a:rPr>
              <a:t> بيع ملك الغير ؛ كبيع الازواج ملك زوجاتهم ، او بيع الافراد ملك الحكومة ، او ملك من تغيب حتى طالت غيبته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7030a0"/>
                </a:solidFill>
                <a:uFillTx/>
                <a:latin typeface="Century Schoolbook"/>
              </a:rPr>
              <a:t>وهناك اتجاهان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0000"/>
                </a:solidFill>
                <a:uFillTx/>
                <a:latin typeface="Century Schoolbook"/>
              </a:rPr>
              <a:t>الاول : الشافعية والحنابلة والظاهرية : </a:t>
            </a:r>
            <a:r>
              <a:rPr b="1" lang="ar-SA" sz="1800" spc="-1" strike="noStrike">
                <a:solidFill>
                  <a:srgbClr val="002060"/>
                </a:solidFill>
                <a:latin typeface="Century Schoolbook"/>
              </a:rPr>
              <a:t>اعتدوا ببطلان تصرف الفضولي ، لا يصح تصرفه ، ولا تلحق البيع  الاجازة ، لان الفضولي يتصرف في ملك الغير دون اذن المالك لانهم اعتبروا  الولاية شرط لانعقاد العقد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0000"/>
                </a:solidFill>
                <a:uFillTx/>
                <a:latin typeface="Century Schoolbook"/>
              </a:rPr>
              <a:t>الثاني : الحنفية والمالكية :  </a:t>
            </a:r>
            <a:r>
              <a:rPr b="1" lang="ar-SA" sz="1800" spc="-1" strike="noStrike" u="sng">
                <a:solidFill>
                  <a:srgbClr val="00b050"/>
                </a:solidFill>
                <a:uFillTx/>
                <a:latin typeface="Century Schoolbook"/>
              </a:rPr>
              <a:t>اعتدوا بصحة بيع الفضولي موقوف على اجازة صاحب الحق المالك ، ان اجازه نفذ وان لم يجزه ابطل ، فاعتبروا الولاية في البائع شرط نفاذوليس انعقاد او صحة ، وتلحق به الاجازة خاصة ان اركان البيع متوافرة والفضولي كامل الاهلية ، ولا يتضرر احد من هذا العقد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206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179280" y="1133640"/>
            <a:ext cx="8785440" cy="53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b050"/>
                </a:solidFill>
                <a:uFillTx/>
                <a:latin typeface="Calibri"/>
              </a:rPr>
              <a:t>شروط لزوم البي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الأصل في العقود اللزوم , </a:t>
            </a:r>
            <a:r>
              <a:rPr b="1" lang="ar-SA" sz="2000" spc="-1" strike="noStrike">
                <a:solidFill>
                  <a:srgbClr val="0070c0"/>
                </a:solidFill>
                <a:latin typeface="Calibri"/>
              </a:rPr>
              <a:t>ويشترط للزوم العقد كالبيع و الإيجار </a:t>
            </a:r>
            <a:r>
              <a:rPr b="1" lang="ar-SA" sz="2000" spc="-1" strike="noStrike" u="sng">
                <a:solidFill>
                  <a:srgbClr val="0070c0"/>
                </a:solidFill>
                <a:uFillTx/>
                <a:latin typeface="Calibri"/>
              </a:rPr>
              <a:t>خلوه من أحد الخيارات التي تسوغ لآحد العاقدين فسخ العقد </a:t>
            </a:r>
            <a:r>
              <a:rPr b="1" lang="ar-SA" sz="2000" spc="-1" strike="noStrike">
                <a:solidFill>
                  <a:srgbClr val="0070c0"/>
                </a:solidFill>
                <a:latin typeface="Calibri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والخيارات تثبت : 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إما باشتراط العاقد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، أو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بتقرير الشرع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، مثل ؛ </a:t>
            </a:r>
            <a:r>
              <a:rPr b="1" lang="ar-SA" sz="2000" spc="-1" strike="noStrike">
                <a:solidFill>
                  <a:srgbClr val="00b050"/>
                </a:solidFill>
                <a:latin typeface="Calibri"/>
              </a:rPr>
              <a:t>خيار الشرط و خيار التعيين و خيار العيب و خيار الرؤيه 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فإن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وجد في العقد خيار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كأحد هذه الخيارات </a:t>
            </a:r>
            <a:r>
              <a:rPr b="1" lang="ar-SA" sz="2000" spc="-1" strike="noStrike">
                <a:solidFill>
                  <a:srgbClr val="7030a0"/>
                </a:solidFill>
                <a:latin typeface="Calibri"/>
              </a:rPr>
              <a:t>منع لزومه في حق من له الخيار ,فكان له </a:t>
            </a:r>
            <a:r>
              <a:rPr b="1" lang="ar-SA" sz="2000" spc="-1" strike="noStrike">
                <a:solidFill>
                  <a:srgbClr val="0070c0"/>
                </a:solidFill>
                <a:latin typeface="Calibri"/>
              </a:rPr>
              <a:t>أن يفسخ البيع أو ان يقبله ، 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ما لم يحث مانع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و قد نص القانون الامارتي و الاردني على مايلي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يكون </a:t>
            </a:r>
            <a:r>
              <a:rPr b="1" lang="ar-SA" sz="2000" spc="-1" strike="noStrike">
                <a:solidFill>
                  <a:srgbClr val="00b050"/>
                </a:solidFill>
                <a:latin typeface="Calibri"/>
              </a:rPr>
              <a:t>العقد غير لازم بالنسبه الى احد عاقديه أو لكليهما رغم صحته و نفاذه اذا شرط له حق فسخه دون تراض أو تقا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2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ولكل منهما أن يستقل بفسخه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؛ </a:t>
            </a:r>
            <a:r>
              <a:rPr b="1" lang="ar-SA" sz="2000" spc="-1" strike="noStrike">
                <a:solidFill>
                  <a:srgbClr val="31859c"/>
                </a:solidFill>
                <a:latin typeface="Calibri"/>
              </a:rPr>
              <a:t>1</a:t>
            </a:r>
            <a:r>
              <a:rPr b="1" lang="ar-SA" sz="2000" spc="-1" strike="noStrike">
                <a:solidFill>
                  <a:srgbClr val="31859c"/>
                </a:solidFill>
                <a:latin typeface="Calibri"/>
              </a:rPr>
              <a:t>-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 اذا كان بطبيعته غير لازم بالنسبه اليه, </a:t>
            </a:r>
            <a:r>
              <a:rPr b="1" lang="ar-SA" sz="2000" spc="-1" strike="noStrike">
                <a:solidFill>
                  <a:srgbClr val="31859c"/>
                </a:solidFill>
                <a:latin typeface="Calibri"/>
              </a:rPr>
              <a:t>2</a:t>
            </a:r>
            <a:r>
              <a:rPr b="1" lang="ar-SA" sz="2000" spc="-1" strike="noStrike">
                <a:solidFill>
                  <a:srgbClr val="31859c"/>
                </a:solidFill>
                <a:latin typeface="Calibri"/>
              </a:rPr>
              <a:t>-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 أو شرط لنفسه خيار فسخ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"/>
          <p:cNvSpPr/>
          <p:nvPr/>
        </p:nvSpPr>
        <p:spPr>
          <a:xfrm>
            <a:off x="179280" y="417240"/>
            <a:ext cx="878544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 u="sng">
                <a:solidFill>
                  <a:srgbClr val="0070c0"/>
                </a:solidFill>
                <a:uFillTx/>
                <a:latin typeface="Calibri"/>
              </a:rPr>
              <a:t>و خيار الشرط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0000"/>
                </a:solidFill>
                <a:latin typeface="Calibri"/>
              </a:rPr>
              <a:t>هو ان يكون لأحد المتعاقدين أو لكليهما أو لغيرهما الحق في فسخ العقد أو امضائه خلال مده معلومه، </a:t>
            </a:r>
            <a:r>
              <a:rPr b="1" lang="ar-SA" sz="2200" spc="-1" strike="noStrike">
                <a:solidFill>
                  <a:srgbClr val="002060"/>
                </a:solidFill>
                <a:latin typeface="Calibri"/>
              </a:rPr>
              <a:t>وقد اجازه الشرع صراحة 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7030a0"/>
                </a:solidFill>
                <a:latin typeface="Calibri"/>
              </a:rPr>
              <a:t>ومن امثلته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b050"/>
                </a:solidFill>
                <a:latin typeface="Calibri"/>
              </a:rPr>
              <a:t>-- يقول المشتري للبائع اشتري منك هذه السيارة ولي الخيار لمدة </a:t>
            </a:r>
            <a:r>
              <a:rPr b="1" lang="ar-SA" sz="2200" spc="-1" strike="noStrike">
                <a:solidFill>
                  <a:srgbClr val="00b050"/>
                </a:solidFill>
                <a:latin typeface="Calibri"/>
              </a:rPr>
              <a:t>3</a:t>
            </a:r>
            <a:r>
              <a:rPr b="1" lang="ar-SA" sz="2200" spc="-1" strike="noStrike">
                <a:solidFill>
                  <a:srgbClr val="00b050"/>
                </a:solidFill>
                <a:latin typeface="Calibri"/>
              </a:rPr>
              <a:t> ايام لأتأكد من فحصها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0000"/>
                </a:solidFill>
                <a:latin typeface="Calibri"/>
              </a:rPr>
              <a:t>-- يقول البائع للمشتري ابيعك هذا المنزل ولي الخيار لمدة </a:t>
            </a:r>
            <a:r>
              <a:rPr b="1" lang="ar-SA" sz="22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1" lang="ar-SA" sz="2200" spc="-1" strike="noStrike">
                <a:solidFill>
                  <a:srgbClr val="ff0000"/>
                </a:solidFill>
                <a:latin typeface="Calibri"/>
              </a:rPr>
              <a:t> ايام لاعطي لنفسي فرصة المراجعة لاتمام هذا البيع كونه متردد 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 u="sng">
                <a:solidFill>
                  <a:srgbClr val="0070c0"/>
                </a:solidFill>
                <a:uFillTx/>
                <a:latin typeface="Calibri"/>
              </a:rPr>
              <a:t>وخيار الرؤيه 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0000"/>
                </a:solidFill>
                <a:latin typeface="Calibri"/>
              </a:rPr>
              <a:t>هو أن يكون للمشتري الحق في امضاء العقد أو فسخه عند رؤية المعقود عليه , اذا لم يكن رآه عند انشاء العقد أو قبله بوقت لايتغير فيه عاده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</a:rPr>
              <a:t> ، </a:t>
            </a:r>
            <a:r>
              <a:rPr b="1" lang="ar-SA" sz="2200" spc="-1" strike="noStrike">
                <a:solidFill>
                  <a:srgbClr val="0070c0"/>
                </a:solidFill>
                <a:latin typeface="Calibri"/>
              </a:rPr>
              <a:t>واجازه جمهور الفقهاء ما عدا الشافعية 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b050"/>
                </a:solidFill>
                <a:latin typeface="Calibri"/>
              </a:rPr>
              <a:t>وسببه عدم رؤية محل العقد حين التعاقد او قبله وشراؤه بالوصف ، فبالرؤية يسقط الخيار .</a:t>
            </a:r>
            <a:r>
              <a:rPr b="1" lang="ar-SA" sz="2200" spc="-1" strike="noStrike">
                <a:solidFill>
                  <a:srgbClr val="7030a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1"/>
          <p:cNvSpPr/>
          <p:nvPr/>
        </p:nvSpPr>
        <p:spPr>
          <a:xfrm>
            <a:off x="179280" y="1773360"/>
            <a:ext cx="8856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70c0"/>
                </a:solidFill>
                <a:latin typeface="Calibri"/>
              </a:rPr>
              <a:t>الاصل رؤية المبيع عند التعاقد اوو قبله 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70c0"/>
                </a:solidFill>
                <a:latin typeface="Calibri"/>
              </a:rPr>
              <a:t> وتختلف الرؤية بحسب طبيعة المبيع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b050"/>
                </a:solidFill>
                <a:latin typeface="Calibri"/>
              </a:rPr>
              <a:t>--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 رؤية الكتاب تكون بالاطلاع عليه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b050"/>
                </a:solidFill>
                <a:latin typeface="Calibri"/>
              </a:rPr>
              <a:t>--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 رؤية الحديقة تكون بالذاب لمكانها ومشاهدة حدودها وسعتها الخ 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b050"/>
                </a:solidFill>
                <a:latin typeface="Calibri"/>
              </a:rPr>
              <a:t>--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 رؤية البيت تكون بالدخول فيه ومعاينة محتوياته ومشتملاته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اذا لم يتم رؤية المبيع ؛ فيجب النص في العقد على جنسه وصنفه ونوعه ، ويكون للمشتري حق الخيار عند رؤية المبيع في فسخ العقد او عدمه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b050"/>
                </a:solidFill>
                <a:latin typeface="Calibri"/>
              </a:rPr>
              <a:t>العقد الخالي من الرؤية او بديلها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"/>
          <p:cNvSpPr/>
          <p:nvPr/>
        </p:nvSpPr>
        <p:spPr>
          <a:xfrm>
            <a:off x="395280" y="620640"/>
            <a:ext cx="842472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70c0"/>
                </a:solidFill>
                <a:uFillTx/>
                <a:latin typeface="Calibri"/>
              </a:rPr>
              <a:t>و خيار التعيين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هو أن يكون للعاقد حق تعيين أحد الاشياء الثلاثه المختلفه في الثمن و الصفه التي ذكرت في العقد، فبالتعيين يصير محل العقد معلوما وانتفت الجهال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b050"/>
                </a:solidFill>
                <a:latin typeface="Calibri"/>
              </a:rPr>
              <a:t>وهذا الخيار اجازه الحنفية استحسانا لتلبية حاجات الناس اليه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030a0"/>
                </a:solidFill>
                <a:latin typeface="Calibri"/>
              </a:rPr>
              <a:t>مثال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كأن يقول المشتري اشتري منك ثوب او ثوبين من ثلاثة ، دون ان يعين ايهما شاء ، وعلى ان يكون له الخيار ليومين ليعين المبيع الذي يشاء منهم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70c0"/>
                </a:solidFill>
                <a:uFillTx/>
                <a:latin typeface="Calibri"/>
              </a:rPr>
              <a:t>و خيار العيب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هو أن يكون لأحد العاقدين الحق في فسخ العقد أو امضائه اذا وجد عيب في احد البدلين و لم يكن صاحبه عالما به وقت العقد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2060"/>
                </a:solidFill>
                <a:latin typeface="Calibri"/>
              </a:rPr>
              <a:t>وعلة ذلك الخوف من ظهور عيب في المعقود عليه او بدله ، خاصة انه لم يكن المتعاقد قد اطلع او علم بالعيب عند التعاقد ، فان ثبت وجود هذا العيب ، اعطي له هذا الخيار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70c0"/>
                </a:solidFill>
                <a:latin typeface="Calibri"/>
                <a:cs typeface="Arial"/>
              </a:rPr>
              <a:t>عند الحنفية والحنابلة</a:t>
            </a:r>
            <a:r>
              <a:rPr b="0" lang="ar-SA" sz="3000" spc="-1" strike="noStrike">
                <a:solidFill>
                  <a:srgbClr val="0070c0"/>
                </a:solidFill>
                <a:latin typeface="Calibri"/>
                <a:ea typeface="Arial"/>
              </a:rPr>
              <a:t> </a:t>
            </a:r>
            <a:r>
              <a:rPr b="0" lang="ar-SA" sz="3000" spc="-1" strike="noStrike">
                <a:solidFill>
                  <a:srgbClr val="0070c0"/>
                </a:solidFill>
                <a:latin typeface="Calibri"/>
                <a:ea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7030a0"/>
                </a:solidFill>
                <a:latin typeface="Calibri"/>
                <a:cs typeface="Arial"/>
              </a:rPr>
              <a:t>هذا الشرط مطلوب في المعاوضات والتبرعات </a:t>
            </a:r>
            <a:r>
              <a:rPr b="0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، والنبي نهى عن</a:t>
            </a:r>
            <a:r>
              <a:rPr b="0" lang="ar-SA" sz="30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0000"/>
                </a:solidFill>
                <a:latin typeface="Calibri"/>
                <a:ea typeface="Arial"/>
              </a:rPr>
              <a:t>--</a:t>
            </a:r>
            <a:r>
              <a:rPr b="0" lang="ar-SA" sz="3000" spc="-1" strike="noStrike">
                <a:solidFill>
                  <a:srgbClr val="00b050"/>
                </a:solidFill>
                <a:latin typeface="Calibri"/>
                <a:ea typeface="Arial"/>
              </a:rPr>
              <a:t> </a:t>
            </a:r>
            <a:r>
              <a:rPr b="0" lang="ar-SA" sz="3000" spc="-1" strike="noStrike">
                <a:solidFill>
                  <a:srgbClr val="00b050"/>
                </a:solidFill>
                <a:latin typeface="Calibri"/>
                <a:cs typeface="Arial"/>
              </a:rPr>
              <a:t>بيع حبل الحبلة (( ولد الناقة او ولد ولدها ))</a:t>
            </a:r>
            <a:r>
              <a:rPr b="0" lang="ar-SA" sz="3000" spc="-1" strike="noStrike">
                <a:solidFill>
                  <a:srgbClr val="00b050"/>
                </a:solidFill>
                <a:latin typeface="Calibri"/>
                <a:ea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0000"/>
                </a:solidFill>
                <a:latin typeface="Calibri"/>
                <a:ea typeface="Arial"/>
              </a:rPr>
              <a:t>-- </a:t>
            </a:r>
            <a:r>
              <a:rPr b="0" lang="ar-SA" sz="3000" spc="-1" strike="noStrike">
                <a:solidFill>
                  <a:srgbClr val="00b050"/>
                </a:solidFill>
                <a:latin typeface="Calibri"/>
                <a:cs typeface="Arial"/>
              </a:rPr>
              <a:t>وعن بيع المضامين ((ما في اصلاب ذكور الابل ونحوها ))</a:t>
            </a:r>
            <a:r>
              <a:rPr b="0" lang="ar-SA" sz="3000" spc="-1" strike="noStrike">
                <a:solidFill>
                  <a:srgbClr val="00b050"/>
                </a:solidFill>
                <a:latin typeface="Calibri"/>
                <a:ea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0000"/>
                </a:solidFill>
                <a:latin typeface="Calibri"/>
                <a:ea typeface="Arial"/>
              </a:rPr>
              <a:t>--</a:t>
            </a:r>
            <a:r>
              <a:rPr b="0" lang="ar-SA" sz="3000" spc="-1" strike="noStrike">
                <a:solidFill>
                  <a:srgbClr val="00b050"/>
                </a:solidFill>
                <a:latin typeface="Calibri"/>
                <a:ea typeface="Arial"/>
              </a:rPr>
              <a:t> </a:t>
            </a:r>
            <a:r>
              <a:rPr b="0" lang="ar-SA" sz="3000" spc="-1" strike="noStrike">
                <a:solidFill>
                  <a:srgbClr val="00b050"/>
                </a:solidFill>
                <a:latin typeface="Calibri"/>
                <a:cs typeface="Arial"/>
              </a:rPr>
              <a:t>والملاقيح(( ما في بطون اناث الابل ونحوها )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0000"/>
                </a:solidFill>
                <a:latin typeface="Calibri"/>
                <a:ea typeface="Arial"/>
              </a:rPr>
              <a:t>--</a:t>
            </a:r>
            <a:r>
              <a:rPr b="0" lang="ar-SA" sz="3000" spc="-1" strike="noStrike">
                <a:solidFill>
                  <a:srgbClr val="00b050"/>
                </a:solidFill>
                <a:latin typeface="Calibri"/>
                <a:ea typeface="Arial"/>
              </a:rPr>
              <a:t> </a:t>
            </a:r>
            <a:r>
              <a:rPr b="0" lang="ar-SA" sz="3000" spc="-1" strike="noStrike">
                <a:solidFill>
                  <a:srgbClr val="00b050"/>
                </a:solidFill>
                <a:latin typeface="Calibri"/>
                <a:cs typeface="Arial"/>
              </a:rPr>
              <a:t>بيع ما ليس عند الانسان</a:t>
            </a:r>
            <a:r>
              <a:rPr b="0" lang="ar-SA" sz="3000" spc="-1" strike="noStrike">
                <a:solidFill>
                  <a:srgbClr val="00b050"/>
                </a:solidFill>
                <a:latin typeface="Calibri"/>
                <a:ea typeface="Arial"/>
              </a:rPr>
              <a:t> </a:t>
            </a:r>
            <a:r>
              <a:rPr b="0" lang="ar-SA" sz="3000" spc="-1" strike="noStrike">
                <a:solidFill>
                  <a:srgbClr val="00b050"/>
                </a:solidFill>
                <a:latin typeface="Calibri"/>
                <a:ea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70c0"/>
                </a:solidFill>
                <a:latin typeface="Calibri"/>
                <a:cs typeface="Arial"/>
              </a:rPr>
              <a:t>عند المالكية</a:t>
            </a:r>
            <a:r>
              <a:rPr b="0" lang="ar-SA" sz="3000" spc="-1" strike="noStrike">
                <a:solidFill>
                  <a:srgbClr val="0070c0"/>
                </a:solidFill>
                <a:latin typeface="Calibri"/>
                <a:ea typeface="Arial"/>
              </a:rPr>
              <a:t> </a:t>
            </a:r>
            <a:r>
              <a:rPr b="0" lang="ar-SA" sz="3000" spc="-1" strike="noStrike">
                <a:solidFill>
                  <a:srgbClr val="0070c0"/>
                </a:solidFill>
                <a:latin typeface="Calibri"/>
                <a:ea typeface="Arial"/>
              </a:rPr>
              <a:t>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0000"/>
                </a:solidFill>
                <a:latin typeface="Calibri"/>
                <a:cs typeface="Arial"/>
              </a:rPr>
              <a:t>هذا الشرط يشترط في المعاوضات </a:t>
            </a:r>
            <a:r>
              <a:rPr b="0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، </a:t>
            </a:r>
            <a:r>
              <a:rPr b="0" lang="ar-SA" sz="3000" spc="-1" strike="noStrike">
                <a:solidFill>
                  <a:srgbClr val="7030a0"/>
                </a:solidFill>
                <a:latin typeface="Calibri"/>
                <a:cs typeface="Arial"/>
              </a:rPr>
              <a:t>لكن في التبرعات اجازوا ان لا يكون محل العقد موجودا حين التعاقد بل يكفي ان يكون محتمل الوجود في المستقبل</a:t>
            </a:r>
            <a:r>
              <a:rPr b="0" lang="ar-SA" sz="3000" spc="-1" strike="noStrike">
                <a:solidFill>
                  <a:srgbClr val="7030a0"/>
                </a:solidFill>
                <a:latin typeface="Calibri"/>
                <a:ea typeface="Arial"/>
              </a:rPr>
              <a:t>.</a:t>
            </a:r>
            <a:r>
              <a:rPr b="0" lang="ar-SA" sz="3000" spc="-1" strike="noStrike">
                <a:solidFill>
                  <a:srgbClr val="000000"/>
                </a:solidFill>
                <a:latin typeface="Calibri"/>
                <a:ea typeface="Arial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70c0"/>
                </a:solidFill>
                <a:latin typeface="Calibri"/>
                <a:cs typeface="Arial"/>
              </a:rPr>
              <a:t>عند الحنابلة</a:t>
            </a:r>
            <a:r>
              <a:rPr b="1" lang="ar-SA" sz="3200" spc="-1" strike="noStrike">
                <a:solidFill>
                  <a:srgbClr val="0070c0"/>
                </a:solidFill>
                <a:latin typeface="Calibri"/>
                <a:ea typeface="Arial"/>
              </a:rPr>
              <a:t> </a:t>
            </a:r>
            <a:r>
              <a:rPr b="1" lang="ar-SA" sz="3200" spc="-1" strike="noStrike">
                <a:solidFill>
                  <a:srgbClr val="0070c0"/>
                </a:solidFill>
                <a:latin typeface="Calibri"/>
                <a:ea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b050"/>
                </a:solidFill>
                <a:latin typeface="Calibri"/>
                <a:cs typeface="Arial"/>
              </a:rPr>
              <a:t>اشترط الفقه الحنبلي خلو البيع من الغرر المنهي عنه ، مثل</a:t>
            </a:r>
            <a:r>
              <a:rPr b="1" lang="ar-SA" sz="3200" spc="-1" strike="noStrike">
                <a:solidFill>
                  <a:srgbClr val="00b050"/>
                </a:solidFill>
                <a:latin typeface="Calibri"/>
                <a:ea typeface="Arial"/>
              </a:rPr>
              <a:t> </a:t>
            </a:r>
            <a:r>
              <a:rPr b="1" lang="ar-SA" sz="3200" spc="-1" strike="noStrike">
                <a:solidFill>
                  <a:srgbClr val="00b050"/>
                </a:solidFill>
                <a:latin typeface="Calibri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70c0"/>
                </a:solidFill>
                <a:latin typeface="Calibri"/>
                <a:ea typeface="Arial"/>
              </a:rPr>
              <a:t>--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  <a:cs typeface="Arial"/>
              </a:rPr>
              <a:t>بيع الحمل في البطن دون الام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  <a:ea typeface="Arial"/>
              </a:rPr>
              <a:t> 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70c0"/>
                </a:solidFill>
                <a:latin typeface="Calibri"/>
                <a:ea typeface="Arial"/>
              </a:rPr>
              <a:t>--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  <a:cs typeface="Arial"/>
              </a:rPr>
              <a:t>وبيع اللبن في الضرع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  <a:ea typeface="Arial"/>
              </a:rPr>
              <a:t> 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70c0"/>
                </a:solidFill>
                <a:latin typeface="Calibri"/>
                <a:ea typeface="Arial"/>
              </a:rPr>
              <a:t>--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  <a:cs typeface="Arial"/>
              </a:rPr>
              <a:t>وبيع الصوف على ظهر الغنم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70c0"/>
                </a:solidFill>
                <a:latin typeface="Calibri"/>
                <a:ea typeface="Arial"/>
              </a:rPr>
              <a:t>--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  <a:cs typeface="Arial"/>
              </a:rPr>
              <a:t>لا يجوز التعامل في تركة انسان على قيد الحياة ولو كان برضاه الا فيما نص عليه القانون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68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700" spc="-1" strike="noStrike">
                <a:solidFill>
                  <a:srgbClr val="ff0000"/>
                </a:solidFill>
                <a:latin typeface="Muna Bold"/>
                <a:cs typeface="Muna Bold"/>
              </a:rPr>
              <a:t>ثانيا : </a:t>
            </a:r>
            <a:r>
              <a:rPr b="0" lang="en-US" sz="3700" spc="-1" strike="noStrike">
                <a:solidFill>
                  <a:srgbClr val="ff0000"/>
                </a:solidFill>
                <a:latin typeface="Muna Bold"/>
                <a:cs typeface="Muna Bold"/>
              </a:rPr>
              <a:t>أن يكون محل العقد مالاً متقومًا مملوكًا للبائع وقت العقد فإن لم يكن كذلك وإلا كان العقد باطلًا</a:t>
            </a:r>
            <a:r>
              <a:rPr b="0" lang="en-US" sz="3700" spc="-1" strike="noStrike">
                <a:solidFill>
                  <a:srgbClr val="002060"/>
                </a:solidFill>
                <a:latin typeface="Muna Bold"/>
                <a:ea typeface="Muna Bold"/>
              </a:rPr>
              <a:t>.</a:t>
            </a:r>
            <a:br>
              <a:rPr sz="3700"/>
            </a:br>
            <a:br>
              <a:rPr sz="2500"/>
            </a:br>
            <a:r>
              <a:rPr b="0" lang="ar-SA" sz="2500" spc="-1" strike="noStrike">
                <a:solidFill>
                  <a:srgbClr val="002060"/>
                </a:solidFill>
                <a:latin typeface="Muna Bold"/>
                <a:ea typeface="Muna Bold"/>
              </a:rPr>
              <a:t>-- </a:t>
            </a:r>
            <a:r>
              <a:rPr b="0" lang="en-US" sz="2500" spc="-1" strike="noStrike">
                <a:solidFill>
                  <a:srgbClr val="002060"/>
                </a:solidFill>
                <a:latin typeface="Muna Bold"/>
                <a:cs typeface="Muna Bold"/>
              </a:rPr>
              <a:t>فبيع الميته والدم  والخمر ولحم الخنزير في حق المسلم باطل، لإنهما غير متقومين شرعًا. </a:t>
            </a:r>
            <a:br>
              <a:rPr sz="2500"/>
            </a:br>
            <a:r>
              <a:rPr b="0" lang="ar-SA" sz="2500" spc="-1" strike="noStrike">
                <a:solidFill>
                  <a:srgbClr val="002060"/>
                </a:solidFill>
                <a:latin typeface="Muna Bold"/>
                <a:ea typeface="Muna Bold"/>
              </a:rPr>
              <a:t>-- </a:t>
            </a:r>
            <a:r>
              <a:rPr b="0" lang="en-US" sz="2500" spc="-1" strike="noStrike">
                <a:solidFill>
                  <a:srgbClr val="002060"/>
                </a:solidFill>
                <a:latin typeface="Muna Bold"/>
                <a:cs typeface="Muna Bold"/>
              </a:rPr>
              <a:t>وبيع غير المملوك أو هبته باطل لأنها غير مملوكة لشخص أو غير متقبلة للتملك، كبيع الماء أو الهواء.</a:t>
            </a:r>
            <a:br>
              <a:rPr sz="2500"/>
            </a:br>
            <a:br>
              <a:rPr sz="2500"/>
            </a:br>
            <a:r>
              <a:rPr b="0" lang="ar-SA" sz="2500" spc="-1" strike="noStrike">
                <a:solidFill>
                  <a:srgbClr val="002060"/>
                </a:solidFill>
                <a:latin typeface="Muna Bold"/>
                <a:cs typeface="Muna Bold"/>
              </a:rPr>
              <a:t>محل العقد :</a:t>
            </a:r>
            <a:br>
              <a:rPr sz="2500"/>
            </a:br>
            <a:r>
              <a:rPr b="0" lang="ar-SA" sz="2500" spc="-1" strike="noStrike">
                <a:solidFill>
                  <a:srgbClr val="002060"/>
                </a:solidFill>
                <a:latin typeface="Muna Bold"/>
                <a:cs typeface="Muna Bold"/>
              </a:rPr>
              <a:t>لايقتصر على الاعيان او الاشياء المادية بل يشمل ؛ المنافع والحقوق المالية كالدين في الذمة ، وحقوق الارتفاق كبيع العلو والسفل والمرور والمسيل ، ونقل الحق الادبي كالتأليف والملكية الصناعية كبراءة الاختراع .</a:t>
            </a:r>
            <a:br>
              <a:rPr sz="2500"/>
            </a:br>
            <a:r>
              <a:rPr b="0" lang="ar-SA" sz="2500" spc="-1" strike="noStrike">
                <a:solidFill>
                  <a:srgbClr val="002060"/>
                </a:solidFill>
                <a:latin typeface="Muna Bold"/>
                <a:cs typeface="Muna Bold"/>
              </a:rPr>
              <a:t>ويجوز ان يكون محل العقد ، عما كالبناء او الامتناع عن عمل كعدم المنافسة .</a:t>
            </a:r>
            <a:br>
              <a:rPr sz="2500"/>
            </a:br>
            <a:r>
              <a:rPr b="0" lang="ar-SA" sz="2500" spc="-1" strike="noStrike">
                <a:solidFill>
                  <a:srgbClr val="002060"/>
                </a:solidFill>
                <a:latin typeface="Muna Bold"/>
                <a:ea typeface="Muna Bold"/>
              </a:rPr>
              <a:t> </a:t>
            </a:r>
            <a:br>
              <a:rPr sz="2500"/>
            </a:br>
            <a:r>
              <a:rPr b="0" lang="ar-SA" sz="2500" spc="-1" strike="noStrike">
                <a:solidFill>
                  <a:srgbClr val="002060"/>
                </a:solidFill>
                <a:latin typeface="Muna Bold"/>
                <a:cs typeface="Muna Bold"/>
              </a:rPr>
              <a:t>والعقد الذي يخالف النظام العام والاداب العامةو يعتبر باطل</a:t>
            </a:r>
            <a:r>
              <a:rPr b="0" lang="ar-SA" sz="2500" spc="-1" strike="noStrike">
                <a:solidFill>
                  <a:srgbClr val="002060"/>
                </a:solidFill>
                <a:latin typeface="Muna Bold"/>
                <a:ea typeface="Muna Bold"/>
              </a:rPr>
              <a:t> </a:t>
            </a:r>
            <a:r>
              <a:rPr b="0" lang="ar-SA" sz="2500" spc="-1" strike="noStrike">
                <a:solidFill>
                  <a:srgbClr val="002060"/>
                </a:solidFill>
                <a:latin typeface="Muna Bold"/>
                <a:ea typeface="Muna Bold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05120" y="1122120"/>
            <a:ext cx="6960960" cy="389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Muna Bold"/>
                <a:cs typeface="Muna Bold"/>
              </a:rPr>
              <a:t>ثالثا : </a:t>
            </a:r>
            <a:r>
              <a:rPr b="0" lang="en-US" sz="3200" spc="-1" strike="noStrike">
                <a:solidFill>
                  <a:srgbClr val="ff0000"/>
                </a:solidFill>
                <a:latin typeface="Muna Bold"/>
                <a:cs typeface="Muna Bold"/>
              </a:rPr>
              <a:t>أن يكون مقدور التسليم للمشتري وقت التعاقد.</a:t>
            </a:r>
            <a:r>
              <a:rPr b="0" lang="ar-SA" sz="3200" spc="-1" strike="noStrike">
                <a:solidFill>
                  <a:srgbClr val="ff0000"/>
                </a:solidFill>
                <a:latin typeface="Muna Bold"/>
                <a:ea typeface="Muna Bold"/>
              </a:rPr>
              <a:t> (( ممكنا ))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2300" spc="-1" strike="noStrike">
                <a:solidFill>
                  <a:srgbClr val="3e6697"/>
                </a:solidFill>
                <a:latin typeface="Muna Bold"/>
                <a:ea typeface="Muna Bold"/>
              </a:rPr>
              <a:t> فلا ينعقد البيع إذا كان المبيع معجوز التلسيم حين التعاقد، وإن كان موجودًا أو مملوكًا للعاقد  فيكون العقد باطل كبيع الطير في الهواء والسمك في الماء.</a:t>
            </a:r>
            <a:br>
              <a:rPr sz="2300"/>
            </a:br>
            <a:r>
              <a:rPr b="0" lang="en-US" sz="2300" spc="-1" strike="noStrike">
                <a:solidFill>
                  <a:srgbClr val="3e6697"/>
                </a:solidFill>
                <a:latin typeface="Muna Bold"/>
                <a:cs typeface="Muna Bold"/>
              </a:rPr>
              <a:t>والسبب في البطلان هو بيع الغرر الذي نهى عنه الرسول صلى عليه وسلم والغرر هنا: الجهالة، أي الجهالة وقت التسليم أو مكانه.</a:t>
            </a:r>
            <a:br>
              <a:rPr sz="2300"/>
            </a:br>
            <a:br>
              <a:rPr sz="2300"/>
            </a:br>
            <a:r>
              <a:rPr b="0" lang="ar-SA" sz="2300" spc="-1" strike="noStrike">
                <a:solidFill>
                  <a:srgbClr val="3e6697"/>
                </a:solidFill>
                <a:latin typeface="Muna Bold"/>
                <a:cs typeface="Muna Bold"/>
              </a:rPr>
              <a:t>وفي التبرعات عند غير المالكية </a:t>
            </a:r>
            <a:r>
              <a:rPr b="0" lang="en-US" sz="2300" spc="-1" strike="noStrike">
                <a:solidFill>
                  <a:srgbClr val="3e6697"/>
                </a:solidFill>
                <a:latin typeface="Muna Bold"/>
                <a:cs typeface="Muna Bold"/>
              </a:rPr>
              <a:t>وهذا الشرط مطلوب في المعاوضات المالية باتفاق العلماء</a:t>
            </a:r>
            <a:r>
              <a:rPr b="0" lang="en-US" sz="2300" spc="-1" strike="noStrike">
                <a:solidFill>
                  <a:srgbClr val="3e6697"/>
                </a:solidFill>
                <a:latin typeface="Muna Bold"/>
                <a:ea typeface="Muna Bold"/>
              </a:rPr>
              <a:t>.</a:t>
            </a:r>
            <a:r>
              <a:rPr b="0" lang="en-US" sz="3200" spc="-1" strike="noStrike">
                <a:solidFill>
                  <a:srgbClr val="8986e9"/>
                </a:solidFill>
                <a:latin typeface="Muna Bold"/>
                <a:ea typeface="Muna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2087640" y="739800"/>
            <a:ext cx="6697440" cy="582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700" spc="-1" strike="noStrike">
                <a:solidFill>
                  <a:srgbClr val="ff0000"/>
                </a:solidFill>
                <a:latin typeface="Muna Bold"/>
                <a:cs typeface="Muna Bold"/>
              </a:rPr>
              <a:t>رابعا : </a:t>
            </a:r>
            <a:r>
              <a:rPr b="0" lang="en-US" sz="3700" spc="-1" strike="noStrike">
                <a:solidFill>
                  <a:srgbClr val="ff0000"/>
                </a:solidFill>
                <a:latin typeface="Muna Bold"/>
                <a:cs typeface="Muna Bold"/>
              </a:rPr>
              <a:t>أن يكون معينًا معلومًا للعاقدين علمًا يمنع من المنازعات</a:t>
            </a:r>
            <a:r>
              <a:rPr b="0" lang="en-US" sz="3700" spc="-1" strike="noStrike">
                <a:solidFill>
                  <a:srgbClr val="ff0000"/>
                </a:solidFill>
                <a:latin typeface="Muna Bold"/>
                <a:ea typeface="Muna Bold"/>
              </a:rPr>
              <a:t>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70c0"/>
                </a:solidFill>
                <a:latin typeface="Muna Bold"/>
                <a:ea typeface="Muna Bold"/>
              </a:rPr>
              <a:t> </a:t>
            </a:r>
            <a:r>
              <a:rPr b="0" lang="en-US" sz="2500" spc="-1" strike="noStrike">
                <a:solidFill>
                  <a:srgbClr val="0070c0"/>
                </a:solidFill>
                <a:latin typeface="Muna Bold"/>
                <a:cs typeface="Muna Bold"/>
              </a:rPr>
              <a:t>فلا يصح بيع المجهول جهالة فاحشه مثل: بعتك مافي منزلي من أثاث أو بعتك أحد هذين البيتين، للنهي الوارد في السنه عن بيع الغرر والجهول </a:t>
            </a:r>
            <a:r>
              <a:rPr b="0" lang="ar-SA" sz="2500" spc="-1" strike="noStrike">
                <a:solidFill>
                  <a:srgbClr val="0070c0"/>
                </a:solidFill>
                <a:latin typeface="Muna Bold"/>
                <a:cs typeface="Muna Bold"/>
              </a:rPr>
              <a:t>وهو بيع الحصاة</a:t>
            </a:r>
            <a:r>
              <a:rPr b="0" lang="ar-SA" sz="2500" spc="-1" strike="noStrike">
                <a:solidFill>
                  <a:srgbClr val="0070c0"/>
                </a:solidFill>
                <a:latin typeface="Muna Bold"/>
                <a:ea typeface="Muna Bold"/>
              </a:rPr>
              <a:t> </a:t>
            </a:r>
            <a:r>
              <a:rPr b="0" lang="en-US" sz="2500" spc="-1" strike="noStrike">
                <a:solidFill>
                  <a:srgbClr val="0070c0"/>
                </a:solidFill>
                <a:latin typeface="Muna Bold"/>
                <a:ea typeface="Muna Bold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70c0"/>
                </a:solidFill>
                <a:latin typeface="Muna Bold"/>
                <a:cs typeface="Muna Bold"/>
              </a:rPr>
              <a:t>و</a:t>
            </a:r>
            <a:r>
              <a:rPr b="0" lang="en-US" sz="2500" spc="-1" strike="noStrike" u="sng">
                <a:solidFill>
                  <a:srgbClr val="0070c0"/>
                </a:solidFill>
                <a:uFillTx/>
                <a:latin typeface="Muna Bold"/>
                <a:cs typeface="Muna Bold"/>
              </a:rPr>
              <a:t>الجهالة الفاحشة </a:t>
            </a:r>
            <a:r>
              <a:rPr b="0" lang="en-US" sz="2500" spc="-1" strike="noStrike">
                <a:solidFill>
                  <a:srgbClr val="0070c0"/>
                </a:solidFill>
                <a:latin typeface="Muna Bold"/>
                <a:ea typeface="Muna Bold"/>
              </a:rPr>
              <a:t>: هي التي تفضي إلى المنازعة، ويكون العقد فاسداً عند الحنفية باطلًا عند الجمهور</a:t>
            </a:r>
            <a:r>
              <a:rPr b="0" lang="en-US" sz="2500" spc="-1" strike="noStrike">
                <a:solidFill>
                  <a:srgbClr val="0070c0"/>
                </a:solidFill>
                <a:latin typeface="Muna Bold"/>
                <a:ea typeface="Muna Bold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70c0"/>
                </a:solidFill>
                <a:latin typeface="Muna Bold"/>
                <a:cs typeface="Muna Bold"/>
              </a:rPr>
              <a:t>وتغتفر</a:t>
            </a:r>
            <a:r>
              <a:rPr b="0" lang="en-US" sz="2500" spc="-1" strike="noStrike" u="sng">
                <a:solidFill>
                  <a:srgbClr val="0070c0"/>
                </a:solidFill>
                <a:uFillTx/>
                <a:latin typeface="Muna Bold"/>
                <a:ea typeface="Muna Bold"/>
              </a:rPr>
              <a:t> الجهالة اليسيره :</a:t>
            </a:r>
            <a:r>
              <a:rPr b="0" lang="en-US" sz="2500" spc="-1" strike="noStrike">
                <a:solidFill>
                  <a:srgbClr val="0070c0"/>
                </a:solidFill>
                <a:latin typeface="Muna Bold"/>
                <a:ea typeface="Muna Bold"/>
              </a:rPr>
              <a:t> وهي التي لا تؤدي إلى منازعة ويتسامح فيها الناس عادة</a:t>
            </a:r>
            <a:r>
              <a:rPr b="0" lang="en-US" sz="2500" spc="-1" strike="noStrike">
                <a:solidFill>
                  <a:srgbClr val="0070c0"/>
                </a:solidFill>
                <a:latin typeface="Muna Bold"/>
                <a:ea typeface="Muna Bold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57120" y="522000"/>
            <a:ext cx="687060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una Bold"/>
                <a:cs typeface="Muna Bold"/>
              </a:rPr>
              <a:t>٥</a:t>
            </a:r>
            <a:r>
              <a:rPr b="1" lang="en-US" sz="2000" spc="-1" strike="noStrike">
                <a:solidFill>
                  <a:srgbClr val="ffffff"/>
                </a:solidFill>
                <a:latin typeface="Muna Bold"/>
                <a:ea typeface="Muna Bold"/>
              </a:rPr>
              <a:t>/ واشترط الجمهور غير الحنفية أن يكون المبيع طاهرًا ، لا نجسًا و لا متجنسًا .</a:t>
            </a:r>
            <a:br>
              <a:rPr sz="2000"/>
            </a:br>
            <a:r>
              <a:rPr b="1" lang="ar-SA" sz="2000" spc="-1" strike="noStrike">
                <a:solidFill>
                  <a:srgbClr val="4f81bd"/>
                </a:solidFill>
                <a:latin typeface="Muna Bold"/>
                <a:ea typeface="Muna Bold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Muna Bold"/>
                <a:cs typeface="Muna Bold"/>
              </a:rPr>
              <a:t>الشافية والحنابلة :</a:t>
            </a:r>
            <a:r>
              <a:rPr b="1" lang="ar-SA" sz="2000" spc="-1" strike="noStrike">
                <a:solidFill>
                  <a:srgbClr val="4f81bd"/>
                </a:solidFill>
                <a:latin typeface="Muna Bold"/>
                <a:ea typeface="Muna Bold"/>
              </a:rPr>
              <a:t> طلبوا هذا الشرط في المعاوضات المالية كالبيع والايجار وغير المالية كالزواج .</a:t>
            </a:r>
            <a:br>
              <a:rPr sz="2000"/>
            </a:br>
            <a:r>
              <a:rPr b="1" lang="ar-SA" sz="2000" spc="-1" strike="noStrike">
                <a:solidFill>
                  <a:srgbClr val="4f81bd"/>
                </a:solidFill>
                <a:latin typeface="Muna Bold"/>
                <a:cs typeface="Muna Bold"/>
              </a:rPr>
              <a:t>وفي التبرعات كالهبة والوصية والوقف .</a:t>
            </a:r>
            <a:br>
              <a:rPr sz="2000"/>
            </a:br>
            <a:r>
              <a:rPr b="1" lang="ar-SA" sz="2000" spc="-1" strike="noStrike">
                <a:solidFill>
                  <a:srgbClr val="ff0000"/>
                </a:solidFill>
                <a:latin typeface="Muna Bold"/>
                <a:cs typeface="Muna Bold"/>
              </a:rPr>
              <a:t>الحنفية :</a:t>
            </a:r>
            <a:r>
              <a:rPr b="1" lang="ar-SA" sz="2000" spc="-1" strike="noStrike">
                <a:solidFill>
                  <a:srgbClr val="4f81bd"/>
                </a:solidFill>
                <a:latin typeface="Muna Bold"/>
                <a:ea typeface="Muna Bold"/>
              </a:rPr>
              <a:t> مطلوب في المعاوضات المالية وغير المالية ولا يشترط في التبرعات كالوصية والكفالة ، </a:t>
            </a:r>
            <a:br>
              <a:rPr sz="2000"/>
            </a:br>
            <a:r>
              <a:rPr b="1" lang="ar-SA" sz="2000" spc="-1" strike="noStrike">
                <a:solidFill>
                  <a:srgbClr val="4f81bd"/>
                </a:solidFill>
                <a:latin typeface="Muna Bold"/>
                <a:cs typeface="Muna Bold"/>
              </a:rPr>
              <a:t>فتصح فيهما الجهالة .</a:t>
            </a:r>
            <a:br>
              <a:rPr sz="2000"/>
            </a:br>
            <a:r>
              <a:rPr b="1" lang="ar-SA" sz="2000" spc="-1" strike="noStrike">
                <a:solidFill>
                  <a:srgbClr val="ff0000"/>
                </a:solidFill>
                <a:latin typeface="Muna Bold"/>
                <a:cs typeface="Muna Bold"/>
              </a:rPr>
              <a:t>المالكية : </a:t>
            </a:r>
            <a:r>
              <a:rPr b="1" lang="ar-SA" sz="2000" spc="-1" strike="noStrike">
                <a:solidFill>
                  <a:srgbClr val="4f81bd"/>
                </a:solidFill>
                <a:latin typeface="Muna Bold"/>
                <a:cs typeface="Muna Bold"/>
              </a:rPr>
              <a:t>اشترطوه في المعاوضات المالية فقط .</a:t>
            </a:r>
            <a:br>
              <a:rPr sz="2000"/>
            </a:br>
            <a:br>
              <a:rPr sz="2000"/>
            </a:br>
            <a:r>
              <a:rPr b="1" lang="ar-SA" sz="2000" spc="-1" strike="noStrike">
                <a:solidFill>
                  <a:srgbClr val="ff0000"/>
                </a:solidFill>
                <a:latin typeface="Muna Bold"/>
                <a:cs typeface="Muna Bold"/>
              </a:rPr>
              <a:t>ويشترط العلم في المبيع يشترط كذلك في الثمن ، فيجب ان يكون معلوم القدر والجنس </a:t>
            </a:r>
            <a:r>
              <a:rPr b="1" lang="ar-SA" sz="2000" spc="-1" strike="noStrike">
                <a:solidFill>
                  <a:srgbClr val="4f81bd"/>
                </a:solidFill>
                <a:latin typeface="Muna Bold"/>
                <a:cs typeface="Muna Bold"/>
              </a:rPr>
              <a:t>، فلا يصح ان يقول اشتريت منك بما في يددي من دراهم .</a:t>
            </a:r>
            <a:br>
              <a:rPr sz="2000"/>
            </a:br>
            <a:r>
              <a:rPr b="1" lang="ar-SA" sz="2000" spc="-1" strike="noStrike">
                <a:solidFill>
                  <a:srgbClr val="4f81bd"/>
                </a:solidFill>
                <a:latin typeface="Muna Bold"/>
                <a:cs typeface="Muna Bold"/>
              </a:rPr>
              <a:t>ومعرفة جنس الثمن ضروري اي نوع العملة ، وان حدث خلاف يرجع نقد البلد لانه هو الظاهر للتعامل</a:t>
            </a:r>
            <a:r>
              <a:rPr b="1" lang="ar-SA" sz="2000" spc="-1" strike="noStrike">
                <a:solidFill>
                  <a:srgbClr val="4f81bd"/>
                </a:solidFill>
                <a:latin typeface="Muna Bold"/>
                <a:ea typeface="Muna Bold"/>
              </a:rPr>
              <a:t> </a:t>
            </a:r>
            <a:r>
              <a:rPr b="1" lang="ar-SA" sz="2000" spc="-1" strike="noStrike">
                <a:solidFill>
                  <a:srgbClr val="4f81bd"/>
                </a:solidFill>
                <a:latin typeface="Muna Bold"/>
                <a:ea typeface="Muna Bold"/>
              </a:rPr>
              <a:t>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22160" y="1483920"/>
            <a:ext cx="7772400" cy="475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7000"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Muna Bold"/>
                <a:cs typeface="Muna Bold"/>
              </a:rPr>
              <a:t>خامسا : اشترط الجمهور غير الحنفية ان يكون البيع طاهرا لا نجسا ولا متجنسا</a:t>
            </a:r>
            <a:r>
              <a:rPr b="1" lang="ar-SA" sz="2000" spc="-1" strike="noStrike">
                <a:solidFill>
                  <a:srgbClr val="ff0000"/>
                </a:solidFill>
                <a:latin typeface="Muna Bold"/>
                <a:ea typeface="Muna Bold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Muna Bold"/>
                <a:ea typeface="Muna Bold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f81bd"/>
                </a:solidFill>
                <a:latin typeface="Muna Bold"/>
                <a:cs typeface="Muna Bold"/>
              </a:rPr>
              <a:t>لأن جواز البيع يتبع الطهارة </a:t>
            </a:r>
            <a:r>
              <a:rPr b="1" lang="ar-SA" sz="2000" spc="-1" strike="noStrike">
                <a:solidFill>
                  <a:srgbClr val="4f81bd"/>
                </a:solidFill>
                <a:latin typeface="Muna Bold"/>
                <a:cs typeface="Muna Bold"/>
              </a:rPr>
              <a:t>، بحيث </a:t>
            </a:r>
            <a:r>
              <a:rPr b="1" lang="ar-SA" sz="2000" spc="-1" strike="noStrike">
                <a:solidFill>
                  <a:srgbClr val="ff0000"/>
                </a:solidFill>
                <a:latin typeface="Muna Bold"/>
                <a:cs typeface="Muna Bold"/>
              </a:rPr>
              <a:t>الطاهر هو </a:t>
            </a:r>
            <a:r>
              <a:rPr b="1" lang="ar-SA" sz="2000" spc="-1" strike="noStrike">
                <a:solidFill>
                  <a:srgbClr val="4f81bd"/>
                </a:solidFill>
                <a:latin typeface="Muna Bold"/>
                <a:ea typeface="Muna Bold"/>
              </a:rPr>
              <a:t>: </a:t>
            </a:r>
            <a:r>
              <a:rPr b="1" lang="ar-SA" sz="2000" spc="-1" strike="noStrike">
                <a:solidFill>
                  <a:srgbClr val="00b050"/>
                </a:solidFill>
                <a:latin typeface="Muna Bold"/>
                <a:cs typeface="Muna Bold"/>
              </a:rPr>
              <a:t>ما يباح الانتفاع به شرعا ، ف</a:t>
            </a:r>
            <a:r>
              <a:rPr b="1" lang="en-US" sz="2000" spc="-1" strike="noStrike">
                <a:solidFill>
                  <a:srgbClr val="00b050"/>
                </a:solidFill>
                <a:latin typeface="Muna Bold"/>
                <a:cs typeface="Muna Bold"/>
              </a:rPr>
              <a:t>إذا كان مباح جاز الانتفاع ب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f81bd"/>
                </a:solidFill>
                <a:latin typeface="Muna Bold"/>
                <a:ea typeface="Muna Bold"/>
              </a:rPr>
              <a:t>.</a:t>
            </a:r>
            <a:br>
              <a:rPr sz="2000"/>
            </a:br>
            <a:r>
              <a:rPr b="1" lang="en-US" sz="2000" spc="-1" strike="noStrike">
                <a:solidFill>
                  <a:srgbClr val="4f81bd"/>
                </a:solidFill>
                <a:latin typeface="Muna Bold"/>
                <a:ea typeface="Muna Bold"/>
              </a:rPr>
              <a:t> </a:t>
            </a:r>
            <a:r>
              <a:rPr b="1" lang="en-US" sz="2000" spc="-1" strike="noStrike">
                <a:solidFill>
                  <a:srgbClr val="4f81bd"/>
                </a:solidFill>
                <a:latin typeface="Muna Bold"/>
                <a:cs typeface="Muna Bold"/>
              </a:rPr>
              <a:t>أما النجس و المتجنس كالكلب و الخنزير و الميتة.</a:t>
            </a:r>
            <a:br>
              <a:rPr sz="2000"/>
            </a:br>
            <a:r>
              <a:rPr b="1" lang="en-US" sz="2000" spc="-1" strike="noStrike">
                <a:solidFill>
                  <a:srgbClr val="4f81bd"/>
                </a:solidFill>
                <a:latin typeface="Muna Bold"/>
                <a:ea typeface="Muna Bold"/>
              </a:rPr>
              <a:t>..الخ فيبطل بيعه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Muna Bold"/>
                <a:cs typeface="Muna Bold"/>
              </a:rPr>
              <a:t>و لم يشترط الحنفية </a:t>
            </a:r>
            <a:r>
              <a:rPr b="1" lang="en-US" sz="2000" spc="-1" strike="noStrike">
                <a:solidFill>
                  <a:srgbClr val="4f81bd"/>
                </a:solidFill>
                <a:latin typeface="Muna Bold"/>
                <a:cs typeface="Muna Bold"/>
              </a:rPr>
              <a:t>هذا الشرط ، فأجازوا بيع النجاسات كشعر الخنزير و الميتة للانتفاع بها إلا ما ورد النهي عن بيعه كالخمر و الخنزير</a:t>
            </a:r>
            <a:br>
              <a:rPr sz="2000"/>
            </a:br>
            <a:r>
              <a:rPr b="1" lang="en-US" sz="2000" spc="-1" strike="noStrike">
                <a:solidFill>
                  <a:srgbClr val="4f81bd"/>
                </a:solidFill>
                <a:latin typeface="Muna Bold"/>
                <a:ea typeface="Muna Bold"/>
              </a:rPr>
              <a:t> ...الخ.</a:t>
            </a:r>
            <a:br>
              <a:rPr sz="2000"/>
            </a:br>
            <a:r>
              <a:rPr b="1" lang="ar-SA" sz="2000" spc="-1" strike="noStrike">
                <a:solidFill>
                  <a:srgbClr val="4f81bd"/>
                </a:solidFill>
                <a:latin typeface="Muna Bold"/>
                <a:ea typeface="Muna Bold"/>
              </a:rPr>
              <a:t> </a:t>
            </a:r>
            <a:r>
              <a:rPr b="1" lang="en-US" sz="2000" spc="-1" strike="noStrike">
                <a:solidFill>
                  <a:srgbClr val="4f81bd"/>
                </a:solidFill>
                <a:latin typeface="Muna Bold"/>
                <a:cs typeface="Muna Bold"/>
              </a:rPr>
              <a:t>و اشترط القانون الإماراتي</a:t>
            </a:r>
            <a:r>
              <a:rPr b="1" lang="ar-SA" sz="2000" spc="-1" strike="noStrike">
                <a:solidFill>
                  <a:srgbClr val="4f81bd"/>
                </a:solidFill>
                <a:latin typeface="Muna Bold"/>
                <a:ea typeface="Muna Bold"/>
              </a:rPr>
              <a:t> </a:t>
            </a:r>
            <a:r>
              <a:rPr b="1" lang="en-US" sz="2000" spc="-1" strike="noStrike">
                <a:solidFill>
                  <a:srgbClr val="4f81bd"/>
                </a:solidFill>
                <a:latin typeface="Muna Bold"/>
                <a:cs typeface="Muna Bold"/>
              </a:rPr>
              <a:t>أن يكون محل العقد جائزًا التعامل في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even</dc:creator>
  <dc:description/>
  <dc:language>en-US</dc:language>
  <cp:lastModifiedBy>eman</cp:lastModifiedBy>
  <dcterms:modified xsi:type="dcterms:W3CDTF">2016-10-10T23:45:15Z</dcterms:modified>
  <cp:revision>74</cp:revision>
  <dc:subject/>
  <dc:title>عرض تقديمي في PowerPoint</dc:title>
</cp:coreProperties>
</file>