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AFC0-9D6D-4208-AA94-8BC308408E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07" name="عنصر نائب للتذييل 3"/>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10"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348E-4D74-4E57-A14A-33D25217C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98AED-36BB-421D-B356-454852C3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0ABFA-CB50-47AF-B254-9C8FBB379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01F4C-98E6-4AEC-A2E1-589F67500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63419-6216-4D78-A4A2-E7F1B3DA6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EAF65-C064-464F-9A1F-9DAC6E5F1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E807-8A4A-40D7-A9A7-382F71B95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DE1F-A44D-442F-B00C-D66649E6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4A9A-0BF4-4AE2-A197-6B763811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04C4-8AAF-44E4-A19F-31AA9A25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0798-806F-454F-B50D-3D1DCEC6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6580-7B1C-4AA4-9866-2FC8C9AE1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alpha val="1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FE37-432F-475C-A9AE-998A2F8F6B0D}"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1C81-0529-4B46-B8EF-3CE9643EC9A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7640" y="174600"/>
            <a:ext cx="6400800" cy="57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84807"/>
                </a:solidFill>
                <a:latin typeface="Calibri"/>
              </a:rPr>
              <a:t>مرحلة التقاليد الدينية</a:t>
            </a:r>
            <a:endParaRPr b="0" lang="en-US" sz="4000" spc="-1" strike="noStrike">
              <a:solidFill>
                <a:srgbClr val="000000"/>
              </a:solidFill>
              <a:latin typeface="Arial"/>
            </a:endParaRPr>
          </a:p>
        </p:txBody>
      </p:sp>
      <p:sp>
        <p:nvSpPr>
          <p:cNvPr id="49" name=""/>
          <p:cNvSpPr txBox="1"/>
          <p:nvPr/>
        </p:nvSpPr>
        <p:spPr>
          <a:xfrm>
            <a:off x="179280" y="1341360"/>
            <a:ext cx="8661600" cy="4957920"/>
          </a:xfrm>
          <a:prstGeom prst="rect">
            <a:avLst/>
          </a:prstGeom>
          <a:noFill/>
          <a:ln w="0">
            <a:noFill/>
          </a:ln>
        </p:spPr>
        <p:txBody>
          <a:bodyPr anchor="t">
            <a:normAutofit fontScale="91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تسمى بمرحلة الوحي الإلهي أو الإحكام الإلهية </a:t>
            </a:r>
            <a:r>
              <a:rPr b="1" lang="ar-SA" sz="2600" spc="-1" strike="noStrike">
                <a:solidFill>
                  <a:srgbClr val="000000"/>
                </a:solidFill>
                <a:latin typeface="Calibri"/>
              </a:rPr>
              <a:t>, </a:t>
            </a:r>
            <a:r>
              <a:rPr b="1" lang="ar-SA" sz="2600" spc="-1" strike="noStrike">
                <a:solidFill>
                  <a:srgbClr val="002060"/>
                </a:solidFill>
                <a:latin typeface="Calibri"/>
              </a:rPr>
              <a:t>تبدأ من اواخر عهد القوة او بداية العصر الحجري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فقد وصل قدماء المصريين وبابل وأشور والهنود والصينيون من حوالي عشرة الآف سنة قبل الميلاد ، </a:t>
            </a:r>
            <a:r>
              <a:rPr b="1" lang="ar-SA" sz="2600" spc="-1" strike="noStrike">
                <a:solidFill>
                  <a:srgbClr val="000000"/>
                </a:solidFill>
                <a:latin typeface="Calibri"/>
              </a:rPr>
              <a:t>وقد </a:t>
            </a:r>
            <a:r>
              <a:rPr b="1" lang="ar-SA" sz="2600" spc="-1" strike="noStrike">
                <a:solidFill>
                  <a:srgbClr val="00b050"/>
                </a:solidFill>
                <a:latin typeface="Calibri"/>
              </a:rPr>
              <a:t>وصل إليها الرومان والإغريق من الألف الخامسة قبل الميلاد ، </a:t>
            </a:r>
            <a:r>
              <a:rPr b="1" lang="ar-SA" sz="2600" spc="-1" strike="noStrike">
                <a:solidFill>
                  <a:srgbClr val="000000"/>
                </a:solidFill>
                <a:latin typeface="Calibri"/>
              </a:rPr>
              <a:t>وقد </a:t>
            </a:r>
            <a:r>
              <a:rPr b="1" lang="ar-SA" sz="2600" spc="-1" strike="noStrike">
                <a:solidFill>
                  <a:srgbClr val="7030a0"/>
                </a:solidFill>
                <a:latin typeface="Calibri"/>
              </a:rPr>
              <a:t>وصل إليها الإنجليز قبيل ميلاد المسيح ، </a:t>
            </a:r>
            <a:r>
              <a:rPr b="1" lang="ar-SA" sz="2600" spc="-1" strike="noStrike">
                <a:solidFill>
                  <a:srgbClr val="c00000"/>
                </a:solidFill>
                <a:latin typeface="Calibri"/>
              </a:rPr>
              <a:t>وبعض القبائل منذ قرنين </a:t>
            </a:r>
            <a:r>
              <a:rPr b="1" lang="ar-SA" sz="2600" spc="-1" strike="noStrike">
                <a:solidFill>
                  <a:srgbClr val="7030a0"/>
                </a:solidFill>
                <a:latin typeface="Calibri"/>
              </a:rPr>
              <a:t>.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كما أن </a:t>
            </a:r>
            <a:r>
              <a:rPr b="1" lang="ar-SA" sz="2600" spc="-1" strike="noStrike">
                <a:solidFill>
                  <a:srgbClr val="002060"/>
                </a:solidFill>
                <a:latin typeface="Calibri"/>
              </a:rPr>
              <a:t>الخروج من تلك المرحلة اختلف من امه </a:t>
            </a:r>
            <a:r>
              <a:rPr b="1" lang="ar-SA" sz="2600" spc="-1" strike="noStrike">
                <a:solidFill>
                  <a:srgbClr val="000000"/>
                </a:solidFill>
                <a:latin typeface="Calibri"/>
              </a:rPr>
              <a:t>إلى أخرى فقد </a:t>
            </a:r>
            <a:r>
              <a:rPr b="1" lang="ar-SA" sz="2600" spc="-1" strike="noStrike">
                <a:solidFill>
                  <a:srgbClr val="00b050"/>
                </a:solidFill>
                <a:latin typeface="Calibri"/>
              </a:rPr>
              <a:t>خرج منها المصريين والبابليين من الألف الثالثة قبل الميلاد </a:t>
            </a:r>
            <a:r>
              <a:rPr b="1" lang="ar-SA" sz="2600" spc="-1" strike="noStrike">
                <a:solidFill>
                  <a:srgbClr val="000000"/>
                </a:solidFill>
                <a:latin typeface="Calibri"/>
              </a:rPr>
              <a:t>وقد تجاوزها </a:t>
            </a:r>
            <a:r>
              <a:rPr b="1" lang="ar-SA" sz="2600" spc="-1" strike="noStrike">
                <a:solidFill>
                  <a:srgbClr val="ff0000"/>
                </a:solidFill>
                <a:latin typeface="Calibri"/>
              </a:rPr>
              <a:t>الصينيون والهنود في القرن التاسع عشر</a:t>
            </a:r>
            <a:r>
              <a:rPr b="1" lang="ar-SA" sz="2600" spc="-1" strike="noStrike">
                <a:solidFill>
                  <a:srgbClr val="000000"/>
                </a:solidFill>
                <a:latin typeface="Calibri"/>
              </a:rPr>
              <a:t> </a:t>
            </a:r>
            <a:r>
              <a:rPr b="1" lang="ar-SA" sz="2600" spc="-1" strike="noStrike">
                <a:solidFill>
                  <a:srgbClr val="7030a0"/>
                </a:solidFill>
                <a:latin typeface="Calibri"/>
              </a:rPr>
              <a:t>وتجاوزها الرومان والإغريق من الألف الأولى قبل الميلاد </a:t>
            </a:r>
            <a:r>
              <a:rPr b="1" lang="ar-SA" sz="2600" spc="-1" strike="noStrike">
                <a:solidFill>
                  <a:srgbClr val="002060"/>
                </a:solidFill>
                <a:latin typeface="Calibri"/>
              </a:rPr>
              <a:t>والانجليز قبل إنتهاء العصور الوسطى بقليل ، </a:t>
            </a:r>
            <a:r>
              <a:rPr b="1" lang="ar-SA" sz="2600" spc="-1" strike="noStrike">
                <a:solidFill>
                  <a:srgbClr val="c00000"/>
                </a:solidFill>
                <a:latin typeface="Calibri"/>
              </a:rPr>
              <a:t>والقبائل المتأخرة لم تتجاوزها للان .</a:t>
            </a:r>
            <a:endParaRPr b="0" lang="en-US" sz="2600" spc="-1" strike="noStrike">
              <a:solidFill>
                <a:srgbClr val="000000"/>
              </a:solidFill>
              <a:latin typeface="Calibri"/>
            </a:endParaRPr>
          </a:p>
        </p:txBody>
      </p:sp>
      <p:sp>
        <p:nvSpPr>
          <p:cNvPr id="50" name="PlaceHolder 1"/>
          <p:cNvSpPr>
            <a:spLocks noGrp="1"/>
          </p:cNvSpPr>
          <p:nvPr>
            <p:ph type="title"/>
          </p:nvPr>
        </p:nvSpPr>
        <p:spPr>
          <a:xfrm>
            <a:off x="46836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ولاً : النطاق الزمني ل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5937120"/>
          </a:xfrm>
          <a:prstGeom prst="rect">
            <a:avLst/>
          </a:prstGeom>
          <a:noFill/>
          <a:ln w="0">
            <a:noFill/>
          </a:ln>
        </p:spPr>
        <p:txBody>
          <a:bodyPr anchor="t">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الأسباب التي أدت إلى تطابق الأحكام :</a:t>
            </a:r>
            <a:endParaRPr b="0" lang="en-US" sz="28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سلطة وضع القواعد القانونية وتطبيقها هي سلطة واحدة سلطة رجال الد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الميل الفطري للإنسان في تطبيق ما آلفه من أوضاع</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الأحكام السابقة والتي كانت تتخذ كسوابق قضائية كانت من عند الآلهة أيضاً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هنا </a:t>
            </a:r>
            <a:r>
              <a:rPr b="1" lang="ar-SA" sz="2000" spc="-1" strike="noStrike">
                <a:solidFill>
                  <a:srgbClr val="7030a0"/>
                </a:solidFill>
                <a:latin typeface="Calibri"/>
              </a:rPr>
              <a:t>انتقلت الاحكام من فردية خاصة الى احكام عامة ، فلا يلزم استطلاع رأي الالهة في كل حالة على حدة ، بل يسحب حكم سابق مماثل على واقهة مطروحة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3</a:t>
            </a:r>
            <a:r>
              <a:rPr b="1" lang="ar-SA" sz="2000" spc="-1" strike="noStrike">
                <a:solidFill>
                  <a:srgbClr val="c00000"/>
                </a:solidFill>
                <a:latin typeface="Calibri"/>
              </a:rPr>
              <a:t>- التقاليد الدينية : </a:t>
            </a:r>
            <a:r>
              <a:rPr b="1" lang="ar-SA" sz="2000" spc="-1" strike="noStrike">
                <a:solidFill>
                  <a:srgbClr val="0070c0"/>
                </a:solidFill>
                <a:latin typeface="Calibri"/>
              </a:rPr>
              <a:t>باعمال القاعدتين السابقتين ( الاحكام الالهية والسوابق القضائية )  وبمرور الزمن وتكرار الاحكام المتماثلة ، زادت ثروة الاحكام والاقوال المأثورة وصيغت باسلوب شكلي شعري موجز ، وتحولت لتقاليد معروفة لدى الناس تنتقل عبر الاجيال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د أدى تطبيق التقاليد الدينية </a:t>
            </a:r>
            <a:r>
              <a:rPr b="1" lang="ar-SA" sz="2000" spc="-1" strike="noStrike">
                <a:solidFill>
                  <a:srgbClr val="c00000"/>
                </a:solidFill>
                <a:latin typeface="Calibri"/>
              </a:rPr>
              <a:t>إلى ظهور عبارة ( الصيغ والطقوس الدينية هي التي تنشأ الحق وتحميه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هذا نلحظ أن </a:t>
            </a:r>
            <a:r>
              <a:rPr b="1" lang="ar-SA" sz="2000" spc="-1" strike="noStrike">
                <a:solidFill>
                  <a:srgbClr val="00b050"/>
                </a:solidFill>
                <a:latin typeface="Calibri"/>
              </a:rPr>
              <a:t>القواعد التي كانت تحكم السلوك أصبحت قواعد عامة ومجردة وبناء عليه يمكن القول بأن قاعدة السلوك قد تطورت من أحكام إلهية فردية إلى سوابق قضائية إلى صيغ قانونية عامة ومجردة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مطلب الثاني : النتائج التي ترتبت على النشأة الدينية للقانون </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أولاً : انحسار القانون في مصدر واحد : </a:t>
            </a:r>
            <a:r>
              <a:rPr b="1" lang="ar-SA" sz="3000" spc="-1" strike="noStrike">
                <a:solidFill>
                  <a:srgbClr val="000000"/>
                </a:solidFill>
                <a:latin typeface="Calibri"/>
              </a:rPr>
              <a:t>في ظل سيادة مرحل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ليد الدينية </a:t>
            </a:r>
            <a:r>
              <a:rPr b="1" lang="ar-SA" sz="3000" spc="-1" strike="noStrike">
                <a:solidFill>
                  <a:srgbClr val="ff0000"/>
                </a:solidFill>
                <a:latin typeface="Calibri"/>
              </a:rPr>
              <a:t>انحسر في مصدر واحد ومعين وهو الدين ، سواء بشكل احكام الهية او سوابق قضائي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ثانياً : ازدواجية الجزاء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أول : جزاء أخروي والثاني : دنيوي أو حا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Calibri"/>
                <a:ea typeface="Arial"/>
              </a:rPr>
              <a:t>1</a:t>
            </a:r>
            <a:r>
              <a:rPr b="1" lang="ar-SA" sz="3600" spc="-1" strike="noStrike" u="sng">
                <a:solidFill>
                  <a:srgbClr val="c00000"/>
                </a:solidFill>
                <a:uFillTx/>
                <a:latin typeface="Calibri"/>
                <a:ea typeface="Arial"/>
              </a:rPr>
              <a:t>- الجزاء الأخروي</a:t>
            </a:r>
            <a:endParaRPr b="0" lang="en-US" sz="3600" spc="-1" strike="noStrike">
              <a:solidFill>
                <a:srgbClr val="000000"/>
              </a:solidFill>
              <a:latin typeface="Calibri"/>
            </a:endParaRPr>
          </a:p>
        </p:txBody>
      </p:sp>
      <p:sp>
        <p:nvSpPr>
          <p:cNvPr id="69" name=""/>
          <p:cNvSpPr txBox="1"/>
          <p:nvPr/>
        </p:nvSpPr>
        <p:spPr>
          <a:xfrm>
            <a:off x="250560" y="836640"/>
            <a:ext cx="8713800" cy="568800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نفيذ الاحكام الصادرة من رجال الدين كان يتم تلقائيا من جانب الافراد لعمق الوازع الديني وخوفهم من غضب الاله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عمد </a:t>
            </a:r>
            <a:r>
              <a:rPr b="1" lang="ar-SA" sz="2400" spc="-1" strike="noStrike">
                <a:solidFill>
                  <a:srgbClr val="c00000"/>
                </a:solidFill>
                <a:latin typeface="Calibri"/>
              </a:rPr>
              <a:t>رجال الدين في هذه المرحلة إلى اتخاذ عدة وسائل لحفظ النظام في المجتمع وتتلخص في أمرين هم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أول : اتباع منهج الأساطير</a:t>
            </a:r>
            <a:r>
              <a:rPr b="1" lang="ar-IQ" sz="2400" spc="-1" strike="noStrike" u="sng">
                <a:solidFill>
                  <a:srgbClr val="002060"/>
                </a:solidFill>
                <a:uFillTx/>
                <a:latin typeface="Calibri"/>
              </a:rPr>
              <a:t> </a:t>
            </a:r>
            <a:r>
              <a:rPr b="1" lang="ar-SA" sz="2400" spc="-1" strike="noStrike">
                <a:solidFill>
                  <a:srgbClr val="000000"/>
                </a:solidFill>
                <a:latin typeface="Calibri"/>
              </a:rPr>
              <a:t>, حيث إظهار قدرة الآلهة على إنزال العقاب على الناس حين مخالفتهم للقواعد المحددة من قبل الديانة وبناء على هذه الأساطير أمتثل الإنسان لرجال الدين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ثاني : وضع كالتالوج للمحرمات </a:t>
            </a:r>
            <a:r>
              <a:rPr b="1" lang="ar-SA" sz="2400" spc="-1" strike="noStrike">
                <a:solidFill>
                  <a:srgbClr val="000000"/>
                </a:solidFill>
                <a:latin typeface="Calibri"/>
              </a:rPr>
              <a:t>ومن أمثلة ذلك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إقامة الشعائر في أوقات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في فصول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بطريقة السحر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زنا المحارم في طوال الع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ea typeface="Arial"/>
              </a:rPr>
              <a:t>2</a:t>
            </a:r>
            <a:r>
              <a:rPr b="1" lang="ar-SA" sz="3600" spc="-1" strike="noStrike">
                <a:solidFill>
                  <a:srgbClr val="c00000"/>
                </a:solidFill>
                <a:latin typeface="Calibri"/>
                <a:ea typeface="Arial"/>
              </a:rPr>
              <a:t>- الجزاء الدنيوي أو الحال</a:t>
            </a:r>
            <a:endParaRPr b="0" lang="en-US" sz="3600" spc="-1" strike="noStrike">
              <a:solidFill>
                <a:srgbClr val="000000"/>
              </a:solidFill>
              <a:latin typeface="Calibri"/>
            </a:endParaRPr>
          </a:p>
        </p:txBody>
      </p:sp>
      <p:sp>
        <p:nvSpPr>
          <p:cNvPr id="71" name=""/>
          <p:cNvSpPr txBox="1"/>
          <p:nvPr/>
        </p:nvSpPr>
        <p:spPr>
          <a:xfrm>
            <a:off x="178920" y="836640"/>
            <a:ext cx="8713800" cy="5688000"/>
          </a:xfrm>
          <a:prstGeom prst="rect">
            <a:avLst/>
          </a:prstGeom>
          <a:noFill/>
          <a:ln w="0">
            <a:noFill/>
          </a:ln>
        </p:spPr>
        <p:txBody>
          <a:bodyPr anchor="t">
            <a:normAutofit fontScale="81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م ارساء مبدأ الجزاء من خلال توقيع جزاء مادي وحال ومنظم على المخالفين والممتنعين عن تنفيذه </a:t>
            </a:r>
            <a:r>
              <a:rPr b="1" lang="ar-SA" sz="3000" spc="-1" strike="noStrike">
                <a:solidFill>
                  <a:srgbClr val="0070c0"/>
                </a:solidFill>
                <a:latin typeface="Calibri"/>
              </a:rPr>
              <a:t>، وقد اتخذ الجزاء الحال المنظم عدة صور لعل من أهمها الآتي:</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طرد : </a:t>
            </a:r>
            <a:r>
              <a:rPr b="1" lang="ar-SA" sz="3000" spc="-1" strike="noStrike">
                <a:solidFill>
                  <a:srgbClr val="000000"/>
                </a:solidFill>
                <a:latin typeface="Calibri"/>
              </a:rPr>
              <a:t>ومفاده </a:t>
            </a:r>
            <a:r>
              <a:rPr b="1" lang="ar-SA" sz="3000" spc="-1" strike="noStrike">
                <a:solidFill>
                  <a:srgbClr val="ff0000"/>
                </a:solidFill>
                <a:latin typeface="Calibri"/>
              </a:rPr>
              <a:t>طرد من يخالف أحكامهم أو من يخرج على التقاليد الدينية من رحمة الآلهة وإخراجه من حظيرة الديانة وإنزال لعنة الآلهة به</a:t>
            </a:r>
            <a:r>
              <a:rPr b="1" lang="ar-SA" sz="3000" spc="-1" strike="noStrike">
                <a:solidFill>
                  <a:srgbClr val="000000"/>
                </a:solidFill>
                <a:latin typeface="Calibri"/>
              </a:rPr>
              <a:t> وكان </a:t>
            </a:r>
            <a:r>
              <a:rPr b="1" lang="ar-SA" sz="3000" spc="-1" strike="noStrike">
                <a:solidFill>
                  <a:srgbClr val="92d050"/>
                </a:solidFill>
                <a:latin typeface="Calibri"/>
              </a:rPr>
              <a:t>موجود في الشرائع القديمة لكن بمسميات مختلفة </a:t>
            </a:r>
            <a:r>
              <a:rPr b="1" lang="ar-SA" sz="3000" spc="-1" strike="noStrike">
                <a:solidFill>
                  <a:srgbClr val="000000"/>
                </a:solidFill>
                <a:latin typeface="Calibri"/>
              </a:rPr>
              <a:t>فعند عرب الجاهلية عرفت بمسمى خلع الجاني والإغريق طريد آلهة العدالة واليهود السخط والمسيحين اللعن والسكسونية الخارج عن القانون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رهن والكفالة : </a:t>
            </a:r>
            <a:r>
              <a:rPr b="1" lang="ar-SA" sz="3000" spc="-1" strike="noStrike">
                <a:solidFill>
                  <a:srgbClr val="ff0000"/>
                </a:solidFill>
                <a:latin typeface="Calibri"/>
              </a:rPr>
              <a:t>وهو الزام المتخاصمين قبل نظر النزاع من قبل رجال الدين بأن يقدم كل منهما مال على سبيل الرهن أو تقديم كفيلاً موثوقاً بذمته وبناء عليه يستطيع من صدر الحكم لصالحه استيفاء حقه من المال المرهون أو من الكفيل .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533520" y="456840"/>
            <a:ext cx="8229600" cy="6211800"/>
          </a:xfrm>
          <a:prstGeom prst="rect">
            <a:avLst/>
          </a:prstGeom>
          <a:noFill/>
          <a:ln w="0">
            <a:noFill/>
          </a:ln>
        </p:spPr>
        <p:txBody>
          <a:bodyPr anchor="t">
            <a:normAutofit fontScale="80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تنفيذ المباشر وقد اتخذ ثلاث صور : </a:t>
            </a:r>
            <a:endParaRPr b="0" lang="en-US" sz="3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ما ساد لدى بعض القبائل الصلتية من </a:t>
            </a:r>
            <a:r>
              <a:rPr b="1" lang="ar-SA" sz="2800" spc="-1" strike="noStrike">
                <a:solidFill>
                  <a:srgbClr val="ff0000"/>
                </a:solidFill>
                <a:latin typeface="Calibri"/>
              </a:rPr>
              <a:t>اصطحاب رجل الدين للدائن إلى منزل المدين و أخذ بعض ما له ويتولى بيعه ويتقاضى الدائن من ثمن المبيع . ومن هنا نبع الاصل التاريخي لنظام الحجز على مال المدين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b0f0"/>
                </a:solidFill>
                <a:latin typeface="Calibri"/>
              </a:rPr>
              <a:t>قيام رجل الدين لدى بعض الشعوب بالوفاء بحقوق الدائن من ماله الخاص ثم يحل محل الدائن في مطالبه المدين بالوفاء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2060"/>
                </a:solidFill>
                <a:latin typeface="Calibri"/>
              </a:rPr>
              <a:t>قيام رجل الدين عند الهنود بنصح الدائن بملازمة باب منزل المدين والإضراب عن الطعام حتى يحصل على حق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توثيق الإتفاق باليمين :</a:t>
            </a: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حيث </a:t>
            </a:r>
            <a:r>
              <a:rPr b="1" lang="ar-SA" sz="3000" spc="-1" strike="noStrike">
                <a:solidFill>
                  <a:srgbClr val="ff0000"/>
                </a:solidFill>
                <a:latin typeface="Calibri"/>
              </a:rPr>
              <a:t>يقسم المدين أو اطراف الإلتزام بتنفيد كل منهما لالتزامه ومن يخالف ذلك يعتبر حانثاً في اليمين وهو ما يعرضه لغضب الآلهة وانتقامها منه ، واليمين انبثق كوسيلة اثبات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586584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ثالثاً : اتساع سلطة الحاكم لأنها مستمدة من الآلهة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 </a:t>
            </a:r>
            <a:r>
              <a:rPr b="1" lang="ar-SA" sz="2800" spc="-1" strike="noStrike">
                <a:solidFill>
                  <a:srgbClr val="000000"/>
                </a:solidFill>
                <a:latin typeface="Calibri"/>
              </a:rPr>
              <a:t>كان </a:t>
            </a:r>
            <a:r>
              <a:rPr b="1" lang="ar-SA" sz="2800" spc="-1" strike="noStrike">
                <a:solidFill>
                  <a:srgbClr val="ff0000"/>
                </a:solidFill>
                <a:latin typeface="Calibri"/>
              </a:rPr>
              <a:t>الحاكم إما إلهاً بين البشر أو ممثلاً للآلهة أو مفوضاً منها لحكم الشعب ومن ثم الشعب لا يد له في اختياره ولا يملك محاسبته أو مسائلته </a:t>
            </a:r>
            <a:r>
              <a:rPr b="1" lang="ar-SA" sz="2800" spc="-1" strike="noStrike">
                <a:solidFill>
                  <a:srgbClr val="000000"/>
                </a:solidFill>
                <a:latin typeface="Calibri"/>
              </a:rPr>
              <a:t>كما أن </a:t>
            </a:r>
            <a:r>
              <a:rPr b="1" lang="ar-SA" sz="2800" spc="-1" strike="noStrike">
                <a:solidFill>
                  <a:srgbClr val="0070c0"/>
                </a:solidFill>
                <a:latin typeface="Calibri"/>
              </a:rPr>
              <a:t>الحاكم كان يحكم بإسم الآلهة التي  نصبته الحكم وليس بحكم الشعب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رابعاً : جمود القواعد القانونية وعدم قابليتها للتعديل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ما كانت القواعد التي تطبق على المنازعات ؛ تعد قواعد دينية صادرة من الآلهة ؛ فقد </a:t>
            </a:r>
            <a:r>
              <a:rPr b="1" lang="ar-SA" sz="2800" spc="-1" strike="noStrike">
                <a:solidFill>
                  <a:srgbClr val="0070c0"/>
                </a:solidFill>
                <a:latin typeface="Calibri"/>
              </a:rPr>
              <a:t>سادت العقيدة في ذلك الوقت أنها قوانين من الآلهة يجب أن تتمتع بصفة الخلود أو الأبدية ؛</a:t>
            </a:r>
            <a:r>
              <a:rPr b="1" lang="ar-SA" sz="2800" spc="-1" strike="noStrike">
                <a:solidFill>
                  <a:srgbClr val="000000"/>
                </a:solidFill>
                <a:latin typeface="Calibri"/>
              </a:rPr>
              <a:t> ومن ثم فإنها ل</a:t>
            </a:r>
            <a:r>
              <a:rPr b="1" lang="ar-SA" sz="2800" spc="-1" strike="noStrike">
                <a:solidFill>
                  <a:srgbClr val="c00000"/>
                </a:solidFill>
                <a:latin typeface="Calibri"/>
              </a:rPr>
              <a:t>ا تعدل ولا يمكن نسخها أو إلغائها ؛ إلا بموجب إصدار أحكام جديدة من قبل الآلهة ؛ وقد أدى إلى جمود القواعد القانونية وعدم خضوعها لسنة التغيير والتطوير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ربع نص 6"/>
          <p:cNvSpPr/>
          <p:nvPr/>
        </p:nvSpPr>
        <p:spPr>
          <a:xfrm>
            <a:off x="324000" y="333360"/>
            <a:ext cx="8669160" cy="10396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خامساَ : سرية القواعد القانونية واحتكار رجال الدين للمعرف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كانت القواعد القانونية سراً مكنوناً ومحفوظاً في صدور الكهنة ؛ أو مدوناً في سجلاتهم بعد ظهور الكتابة </a:t>
            </a:r>
            <a:r>
              <a:rPr b="1" lang="ar-SA" sz="2400" spc="-1" strike="noStrike">
                <a:solidFill>
                  <a:srgbClr val="000000"/>
                </a:solidFill>
                <a:latin typeface="Calibri"/>
              </a:rPr>
              <a:t>, ومن ثم لم يكن باستطاعة أي شخص من غير </a:t>
            </a:r>
            <a:r>
              <a:rPr b="1" lang="ar-SA" sz="2400" spc="-1" strike="noStrike">
                <a:solidFill>
                  <a:srgbClr val="00b0f0"/>
                </a:solidFill>
                <a:latin typeface="Calibri"/>
              </a:rPr>
              <a:t>رجال الدين أن يفتي حيالها ,أو حتى يتكلم في القانون </a:t>
            </a:r>
            <a:r>
              <a:rPr b="1" lang="ar-SA" sz="2400" spc="-1" strike="noStrike">
                <a:solidFill>
                  <a:srgbClr val="000000"/>
                </a:solidFill>
                <a:latin typeface="Calibri"/>
              </a:rPr>
              <a:t>,وقد تكرست </a:t>
            </a:r>
            <a:r>
              <a:rPr b="1" lang="ar-SA" sz="2400" spc="-1" strike="noStrike">
                <a:solidFill>
                  <a:srgbClr val="ff0000"/>
                </a:solidFill>
                <a:latin typeface="Calibri"/>
              </a:rPr>
              <a:t>فلسفة رجال الدين حيال ذلك في أمر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7030a0"/>
                </a:solidFill>
                <a:uFillTx/>
                <a:latin typeface="Calibri"/>
              </a:rPr>
              <a:t>الأول ؛</a:t>
            </a:r>
            <a:r>
              <a:rPr b="1" lang="ar-SA" sz="2400" spc="-1" strike="noStrike">
                <a:solidFill>
                  <a:srgbClr val="7030a0"/>
                </a:solidFill>
                <a:latin typeface="Calibri"/>
              </a:rPr>
              <a:t> جعل الاشتغال في هذا المجال حكراً على رجال الدين ونسلهم من بعدهم . </a:t>
            </a:r>
            <a:r>
              <a:rPr b="1" lang="ar-SA" sz="2400" spc="-1" strike="noStrike" u="sng">
                <a:solidFill>
                  <a:srgbClr val="7030a0"/>
                </a:solidFill>
                <a:uFillTx/>
                <a:latin typeface="Calibri"/>
              </a:rPr>
              <a:t>والثاني ؛ </a:t>
            </a:r>
            <a:r>
              <a:rPr b="1" lang="ar-SA" sz="2400" spc="-1" strike="noStrike">
                <a:solidFill>
                  <a:srgbClr val="7030a0"/>
                </a:solidFill>
                <a:latin typeface="Calibri"/>
              </a:rPr>
              <a:t>الخوف على القواعد القانونية من التبديل , أو التحريف , أو الضي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سادساً : ارتباط الحقوق والواجبات بأوامر الديان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طبيعي ؛ لأن </a:t>
            </a:r>
            <a:r>
              <a:rPr b="1" lang="ar-SA" sz="2000" spc="-1" strike="noStrike">
                <a:solidFill>
                  <a:srgbClr val="ff0000"/>
                </a:solidFill>
                <a:latin typeface="Calibri"/>
              </a:rPr>
              <a:t>القواعد القانونية </a:t>
            </a:r>
            <a:r>
              <a:rPr b="1" lang="ar-SA" sz="2000" spc="-1" strike="noStrike">
                <a:solidFill>
                  <a:srgbClr val="000000"/>
                </a:solidFill>
                <a:latin typeface="Calibri"/>
              </a:rPr>
              <a:t>في ذلك الوقت هي </a:t>
            </a:r>
            <a:r>
              <a:rPr b="1" lang="ar-SA" sz="2000" spc="-1" strike="noStrike">
                <a:solidFill>
                  <a:srgbClr val="ff0000"/>
                </a:solidFill>
                <a:latin typeface="Calibri"/>
              </a:rPr>
              <a:t>قواعد دينية محضة أو مرتبطة ارتباطاً وثيقاً  بمضمون الديانة وقواعدها ؛</a:t>
            </a:r>
            <a:r>
              <a:rPr b="1" lang="ar-SA" sz="2000" spc="-1" strike="noStrike">
                <a:solidFill>
                  <a:srgbClr val="000000"/>
                </a:solidFill>
                <a:latin typeface="Calibri"/>
              </a:rPr>
              <a:t> وبالتالي فإن ما </a:t>
            </a:r>
            <a:r>
              <a:rPr b="1" lang="ar-SA" sz="2000" spc="-1" strike="noStrike">
                <a:solidFill>
                  <a:srgbClr val="7030a0"/>
                </a:solidFill>
                <a:latin typeface="Calibri"/>
              </a:rPr>
              <a:t>يعد حقاً هو ما تقره قواعد الدين </a:t>
            </a:r>
            <a:r>
              <a:rPr b="1" lang="ar-SA" sz="2000" spc="-1" strike="noStrike">
                <a:solidFill>
                  <a:srgbClr val="000000"/>
                </a:solidFill>
                <a:latin typeface="Calibri"/>
              </a:rPr>
              <a:t>, </a:t>
            </a:r>
            <a:r>
              <a:rPr b="1" lang="ar-SA" sz="2000" spc="-1" strike="noStrike">
                <a:solidFill>
                  <a:srgbClr val="00b0f0"/>
                </a:solidFill>
                <a:latin typeface="Calibri"/>
              </a:rPr>
              <a:t>وما يعد واحباً هو ماتأمر به تلك القواعد ؛</a:t>
            </a:r>
            <a:r>
              <a:rPr b="1" lang="ar-SA" sz="2000" spc="-1" strike="noStrike">
                <a:solidFill>
                  <a:srgbClr val="000000"/>
                </a:solidFill>
                <a:latin typeface="Calibri"/>
              </a:rPr>
              <a:t> وهذا الحق وتلك </a:t>
            </a:r>
            <a:r>
              <a:rPr b="1" lang="ar-SA" sz="2000" spc="-1" strike="noStrike">
                <a:solidFill>
                  <a:srgbClr val="ff0000"/>
                </a:solidFill>
                <a:latin typeface="Calibri"/>
              </a:rPr>
              <a:t>الواجبات مصدرها الوحيد هو الدين </a:t>
            </a:r>
            <a:r>
              <a:rPr b="1" lang="ar-SA" sz="2000" spc="-1" strike="noStrike">
                <a:solidFill>
                  <a:srgbClr val="000000"/>
                </a:solidFill>
                <a:latin typeface="Calibri"/>
              </a:rPr>
              <a:t>؛ وهو الضابط ايضا في الخروج عليها من عدم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لذلك يمكن القول بأن </a:t>
            </a:r>
            <a:r>
              <a:rPr b="1" lang="ar-SA" sz="2000" spc="-1" strike="noStrike">
                <a:solidFill>
                  <a:srgbClr val="00b050"/>
                </a:solidFill>
                <a:latin typeface="Calibri"/>
              </a:rPr>
              <a:t>القانون في هذه المرحلة لم يكن يهدف إلى تحقيق العدالة بقدر ما كان يصبو إلى إرضاء الآلهة . </a:t>
            </a:r>
            <a:r>
              <a:rPr b="1" lang="ar-SA" sz="2000" spc="-1" strike="noStrike">
                <a:solidFill>
                  <a:srgbClr val="0070c0"/>
                </a:solidFill>
                <a:latin typeface="Calibri"/>
              </a:rPr>
              <a:t>كما يمكن القول أيضاً بأن مخالفة القاعدة القانونية تعد مخالفة ديني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ربع نص 5"/>
          <p:cNvSpPr/>
          <p:nvPr/>
        </p:nvSpPr>
        <p:spPr>
          <a:xfrm>
            <a:off x="250920" y="260280"/>
            <a:ext cx="8683560" cy="1167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Calibri"/>
              </a:rPr>
              <a:t>سابعاً : اتخاذ الديانة كمعيار للتفرقة بين المواطن والأجن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كان </a:t>
            </a:r>
            <a:r>
              <a:rPr b="1" lang="ar-SA" sz="2400" spc="-1" strike="noStrike">
                <a:solidFill>
                  <a:srgbClr val="c00000"/>
                </a:solidFill>
                <a:latin typeface="Calibri"/>
              </a:rPr>
              <a:t>وصف الأجنبي يطلق على كل من لا يشترك مع الجماعة في دينها </a:t>
            </a:r>
            <a:r>
              <a:rPr b="1" lang="ar-SA" sz="2400" spc="-1" strike="noStrike">
                <a:solidFill>
                  <a:srgbClr val="0070c0"/>
                </a:solidFill>
                <a:latin typeface="Calibri"/>
              </a:rPr>
              <a:t>؛ بل الأكثر من ذلك أن </a:t>
            </a:r>
            <a:r>
              <a:rPr b="1" lang="ar-SA" sz="2400" spc="-1" strike="noStrike">
                <a:solidFill>
                  <a:srgbClr val="00b050"/>
                </a:solidFill>
                <a:latin typeface="Calibri"/>
              </a:rPr>
              <a:t>من ينتمي إلى جماعة تدين بدين مخالف يعد عدواً يحل قتله وسلب ماله </a:t>
            </a:r>
            <a:r>
              <a:rPr b="1" lang="ar-SA" sz="2400" spc="-1" strike="noStrike">
                <a:solidFill>
                  <a:srgbClr val="0070c0"/>
                </a:solidFill>
                <a:latin typeface="Calibri"/>
              </a:rPr>
              <a:t>, وعلى العكس من ذلك , يعتبر عضواً في الجماعة من يشترك معها في الدين ؛ حتى ولو كان مقيماً في إقليم آخر بعيداً عن الجماع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ثامناً : اصطباغ القانون بالشكل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أينا فيما سبق ؛ أن القواعد القانونية في ظل مرحلة التقاليد الدينية قد اختلطت بالقواعد الدينية ومن ثم بالقواعد الأخلاقية ؛ ومما ترتب على ذلك </a:t>
            </a:r>
            <a:r>
              <a:rPr b="1" lang="ar-SA" sz="2400" spc="-1" strike="noStrike">
                <a:solidFill>
                  <a:srgbClr val="ff0000"/>
                </a:solidFill>
                <a:latin typeface="Calibri"/>
              </a:rPr>
              <a:t>اصطباغ القانون بالشكلية من خلال ضرورة إتباع طقوس معينة في شكل معين وبآلية معينة , وكان استخدام عبارات محددة من الأقوال المأثورة والأشعار</a:t>
            </a:r>
            <a:r>
              <a:rPr b="1" lang="ar-SA" sz="2400" spc="-1" strike="noStrike">
                <a:solidFill>
                  <a:srgbClr val="000000"/>
                </a:solidFill>
                <a:latin typeface="Calibri"/>
              </a:rPr>
              <a:t> كما رأينا حيال عرض الصورة الثالثة من صور الأحكام التي كان يطبقها رجل الدين على المنازعات المطروحة علية ؛ </a:t>
            </a:r>
            <a:r>
              <a:rPr b="1" lang="ar-SA" sz="2400" spc="-1" strike="noStrike">
                <a:solidFill>
                  <a:srgbClr val="0070c0"/>
                </a:solidFill>
                <a:latin typeface="Calibri"/>
              </a:rPr>
              <a:t>فقد أصبح عرض المنازعة يجب أن يكون بشكل وصيغ محددة و بكل دقة ؛.  حتى تنتج أثرها و تؤتى أكلها , </a:t>
            </a:r>
            <a:r>
              <a:rPr b="1" lang="ar-SA" sz="2400" spc="-1" strike="noStrike">
                <a:solidFill>
                  <a:srgbClr val="000000"/>
                </a:solidFill>
                <a:latin typeface="Calibri"/>
              </a:rPr>
              <a:t>وقد كان من ثمار ذلك </a:t>
            </a:r>
            <a:r>
              <a:rPr b="1" lang="ar-SA" sz="2400" spc="-1" strike="noStrike">
                <a:solidFill>
                  <a:srgbClr val="7030a0"/>
                </a:solidFill>
                <a:latin typeface="Calibri"/>
              </a:rPr>
              <a:t>شيوع عبارة الصيغ والطقوس الدينية هي التي تنشـأ الحق وتحمي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6"/>
          <p:cNvSpPr/>
          <p:nvPr/>
        </p:nvSpPr>
        <p:spPr>
          <a:xfrm>
            <a:off x="250920" y="260280"/>
            <a:ext cx="8642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تاسعاً : الإثب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أصبحت قواعد الإثبات في هذه المرحلة ذات طابع ديني </a:t>
            </a:r>
            <a:r>
              <a:rPr b="1" lang="ar-SA" sz="2400" spc="-1" strike="noStrike">
                <a:solidFill>
                  <a:srgbClr val="000000"/>
                </a:solidFill>
                <a:latin typeface="Calibri"/>
              </a:rPr>
              <a:t>, ولذلك إذا </a:t>
            </a:r>
            <a:r>
              <a:rPr b="1" lang="ar-SA" sz="2400" spc="-1" strike="noStrike">
                <a:solidFill>
                  <a:srgbClr val="ff0000"/>
                </a:solidFill>
                <a:latin typeface="Calibri"/>
              </a:rPr>
              <a:t>انعدم الدل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يتم اللجوء إلى أسلوب المحنة </a:t>
            </a:r>
            <a:r>
              <a:rPr b="1" lang="ar-SA" sz="2400" spc="-1" strike="noStrike">
                <a:solidFill>
                  <a:srgbClr val="000000"/>
                </a:solidFill>
                <a:latin typeface="Calibri"/>
              </a:rPr>
              <a:t>في الإثبات تأسياً على أن الآلهة ستظهر رأيها في الوقوف إلى جانب صاحب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rPr>
              <a:t>-- وكذلك اللجوء إلى المبارزة القتالية التي كانت تتم في ساحة مكان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كما أن اليمين في ظل هذه المرحلة كانت اهم وسيلة من وسائل الإثب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عاشراً : اختيار الحا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لم يكن بمقدور الجماعات في ظل سيادة مرحلة التقاليد الدينية اختيار حكامها </a:t>
            </a:r>
            <a:r>
              <a:rPr b="1" lang="ar-SA" sz="2400" spc="-1" strike="noStrike">
                <a:solidFill>
                  <a:srgbClr val="000000"/>
                </a:solidFill>
                <a:latin typeface="Calibri"/>
              </a:rPr>
              <a:t>؛ إذ كان </a:t>
            </a:r>
            <a:r>
              <a:rPr b="1" lang="ar-SA" sz="2400" spc="-1" strike="noStrike">
                <a:solidFill>
                  <a:srgbClr val="c00000"/>
                </a:solidFill>
                <a:latin typeface="Calibri"/>
              </a:rPr>
              <a:t>يتم اختيار الحاكم من قبل الآلهة </a:t>
            </a:r>
            <a:r>
              <a:rPr b="1" lang="ar-SA" sz="2400" spc="-1" strike="noStrike">
                <a:solidFill>
                  <a:srgbClr val="000000"/>
                </a:solidFill>
                <a:latin typeface="Calibri"/>
              </a:rPr>
              <a:t>؛ </a:t>
            </a:r>
            <a:r>
              <a:rPr b="1" lang="ar-SA" sz="2400" spc="-1" strike="noStrike">
                <a:solidFill>
                  <a:srgbClr val="00b050"/>
                </a:solidFill>
                <a:latin typeface="Calibri"/>
              </a:rPr>
              <a:t>ولذلك انتشر المبدأ القائل بأن الحاكم لا يحكم باسم الشعب بل باسم الديان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3"/>
          <p:cNvSpPr/>
          <p:nvPr/>
        </p:nvSpPr>
        <p:spPr>
          <a:xfrm>
            <a:off x="1619280" y="160200"/>
            <a:ext cx="5854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نظم القانونية في مرحلة التقاليد الدينية</a:t>
            </a:r>
            <a:endParaRPr b="0" lang="en-US" sz="3200" spc="-1" strike="noStrike">
              <a:solidFill>
                <a:srgbClr val="000000"/>
              </a:solidFill>
              <a:latin typeface="Arial"/>
            </a:endParaRPr>
          </a:p>
        </p:txBody>
      </p:sp>
      <p:sp>
        <p:nvSpPr>
          <p:cNvPr id="78" name="مربع نص 4"/>
          <p:cNvSpPr/>
          <p:nvPr/>
        </p:nvSpPr>
        <p:spPr>
          <a:xfrm>
            <a:off x="-25560" y="744480"/>
            <a:ext cx="9144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فرع الأول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ظروف الاقتصادية والاجتماعية والدينية في مرحلة التقاليد الدينية </a:t>
            </a:r>
            <a:endParaRPr b="0" lang="en-US" sz="3200" spc="-1" strike="noStrike">
              <a:solidFill>
                <a:srgbClr val="000000"/>
              </a:solidFill>
              <a:latin typeface="Arial"/>
            </a:endParaRPr>
          </a:p>
        </p:txBody>
      </p:sp>
      <p:sp>
        <p:nvSpPr>
          <p:cNvPr id="79" name="مربع نص 5"/>
          <p:cNvSpPr/>
          <p:nvPr/>
        </p:nvSpPr>
        <p:spPr>
          <a:xfrm>
            <a:off x="6480" y="18223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عبت الظروف الاقتصادية والاجتماعية والدينية دوراً غير منكور في ظل مرحلة التقاليد الدينية ؛ حيث أثرت في البنيان القانوني ؛ وسنعرض فيما يلي هذه الظروف :  </a:t>
            </a:r>
            <a:endParaRPr b="0" lang="en-US" sz="2400" spc="-1" strike="noStrike">
              <a:solidFill>
                <a:srgbClr val="000000"/>
              </a:solidFill>
              <a:latin typeface="Arial"/>
            </a:endParaRPr>
          </a:p>
        </p:txBody>
      </p:sp>
      <p:sp>
        <p:nvSpPr>
          <p:cNvPr id="80" name="مربع نص 6"/>
          <p:cNvSpPr/>
          <p:nvPr/>
        </p:nvSpPr>
        <p:spPr>
          <a:xfrm>
            <a:off x="27000" y="2652840"/>
            <a:ext cx="914400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أولاً : الظروف الاقتصا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اهتداء الإنسان للزراعة : </a:t>
            </a:r>
            <a:r>
              <a:rPr b="1" lang="ar-SA" sz="2400" spc="-1" strike="noStrike">
                <a:solidFill>
                  <a:srgbClr val="000000"/>
                </a:solidFill>
                <a:latin typeface="Calibri"/>
              </a:rPr>
              <a:t>لقد اهتدى الإنسان الشرقي إلى الزراعة منذ الألف العاشرة قبل الميلاد , كما اهتدى إليها الإنسان الغربي اعتباراً من الألف الخامسة قبل الميلاد ؛ ومن ذلك الحين أصبحت الزراعة المورد الرئيس للرزق ؛ وقد تضاءل على أثر ذلك – دون أن يتلاشى – دور جمع القوت والقنص والصي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موقف الجماعات حول أولويات نشاطها بين امتهان الزراعة وتربية الماش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تبيان على الرغم من أن الإنسان قد جنح أيضاً في هذه الآونة إلى تربية الماشية ؛ إلا أن الجماعات لم تتحد كلمتها حول تحديد الأولويات بين الزراعة , ويأتي بعدها تربية الماشية , وعلى العكس من ذلك ؛ هناك بعض الجماعات جعلت دائرة اهتمامها مركزة بصفة أساسية في تربية الماشية ؛ ثم يلي ذلك الزراع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84807"/>
                </a:solidFill>
                <a:latin typeface="Calibri"/>
                <a:cs typeface="Arial"/>
              </a:rPr>
              <a:t>ثانياً: طبيعة القاعدة القانونية في مرحلة التقاليد الدينية مما يعني </a:t>
            </a:r>
            <a:r>
              <a:rPr b="1" lang="ar-SA" sz="2900" spc="-1" strike="noStrike">
                <a:solidFill>
                  <a:srgbClr val="c00000"/>
                </a:solidFill>
                <a:latin typeface="Calibri"/>
                <a:cs typeface="Arial"/>
              </a:rPr>
              <a:t>إختلاط القانون بالدين </a:t>
            </a:r>
            <a:endParaRPr b="0" lang="en-US" sz="2900" spc="-1" strike="noStrike">
              <a:solidFill>
                <a:srgbClr val="000000"/>
              </a:solidFill>
              <a:latin typeface="Calibri"/>
            </a:endParaRPr>
          </a:p>
        </p:txBody>
      </p:sp>
      <p:sp>
        <p:nvSpPr>
          <p:cNvPr id="52" name=""/>
          <p:cNvSpPr txBox="1"/>
          <p:nvPr/>
        </p:nvSpPr>
        <p:spPr>
          <a:xfrm>
            <a:off x="107640" y="1052640"/>
            <a:ext cx="8785080" cy="547200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اعدة القانونية كانت تتماشى مع الظروف الاقتصادية والاجتماعية والدينية ، وانتقل الانسان من مرحلة القوة لمرحلة التقاليد الديني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فكرة القانون قد </a:t>
            </a:r>
            <a:r>
              <a:rPr b="1" lang="ar-SA" sz="2400" spc="-1" strike="noStrike">
                <a:solidFill>
                  <a:srgbClr val="c00000"/>
                </a:solidFill>
                <a:latin typeface="Calibri"/>
              </a:rPr>
              <a:t>ظهرت في تلك المرحلة مصطبغة بصبغة دينية ومن ثم أصبح مصدر القاعدة القانونية مصدراً واحداً وهو الدين ، </a:t>
            </a:r>
            <a:r>
              <a:rPr b="1" lang="ar-SA" sz="2400" spc="-1" strike="noStrike">
                <a:solidFill>
                  <a:srgbClr val="0070c0"/>
                </a:solidFill>
                <a:latin typeface="Calibri"/>
              </a:rPr>
              <a:t>واصبح رجل الدين يطبق على المنازعات احكام الالهة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ظهرت القواعد القانونية في بداية تلك المرحلة على شكل صورة أحكام إلهية فقد كان الدين والوحي الإلهي هو المصدر الوحيد الذي يستمد منه القاعدة القانونية أحكامها واحترامها مما جعل رجل الدين السلطان الأول في المجتمع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ختلط القانون بالدين ثم بالاخلاق، واصطبغت القاعدة القانونية بصبغة دينية كامل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ذن يمكن القول أن الدين اصبح معيار أو أساس حسم المنازعات بين الأفراد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ربع نص 3"/>
          <p:cNvSpPr/>
          <p:nvPr/>
        </p:nvSpPr>
        <p:spPr>
          <a:xfrm>
            <a:off x="0" y="18900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حاجة أم الاختراع : </a:t>
            </a:r>
            <a:r>
              <a:rPr b="1" lang="ar-SA" sz="2400" spc="-1" strike="noStrike">
                <a:solidFill>
                  <a:srgbClr val="000000"/>
                </a:solidFill>
                <a:latin typeface="Calibri"/>
              </a:rPr>
              <a:t>لما كانت الحاجة أم الاختراع ؛ ولما كانت الزراعة قد أصبحت هي سيدة الموقف في تلك الآونة , ولما كان القيام بالنشاط الزراعي يستلزم بعض الأدوات التي تصنع من المعدن للزراعة ؛ فقد استطاع الإنسان تحت وطأة الحاجة أن يصنع الأدوات اللازمة للزراعة كالمحراث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تداعيت الزراعة على تحديد محل الإقامة والبعد العمراني : </a:t>
            </a:r>
            <a:r>
              <a:rPr b="1" lang="ar-SA" sz="2400" spc="-1" strike="noStrike">
                <a:solidFill>
                  <a:srgbClr val="000000"/>
                </a:solidFill>
                <a:latin typeface="Calibri"/>
              </a:rPr>
              <a:t>لقد أدى استقرار الإنسان إلى الاستغناء عن حياة التنقل والترحال , والاستعاضة عنها بالإقامة في أماكن محددة ؛ سواء في ذات الأرض التي يزرعها , أو في مكان قريب منها دون أن يبتعد عنها كثيراً . وقد اتخذ شكل الإقامة هذا من الوجهة العمرانية إما الإقامة في قرية أو مدينة بحسب الأحوال أو وفقاً للظروف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f6228"/>
                </a:solidFill>
                <a:uFillTx/>
                <a:latin typeface="Calibri"/>
              </a:rPr>
              <a:t>5</a:t>
            </a:r>
            <a:r>
              <a:rPr b="1" lang="ar-SA" sz="2400" spc="-1" strike="noStrike" u="sng">
                <a:solidFill>
                  <a:srgbClr val="4f6228"/>
                </a:solidFill>
                <a:uFillTx/>
                <a:latin typeface="Calibri"/>
              </a:rPr>
              <a:t>- تداعيت الزراعة على تبادل السلع وضرورة وجود قواعد قانونية : </a:t>
            </a:r>
            <a:r>
              <a:rPr b="1" lang="ar-SA" sz="2400" spc="-1" strike="noStrike">
                <a:solidFill>
                  <a:srgbClr val="000000"/>
                </a:solidFill>
                <a:latin typeface="Calibri"/>
              </a:rPr>
              <a:t>لقد كان من الطبيعي في ظل وجود منتجات زراعية وتربية الماشية , أن تقوم مبادلات خاصة بعد تحقيق الاكتفاء الذاتي , وتحقيق الفائض , وكان ذلك يتم تحت وطأة المقايضة وما حملته من عيوب لعل من أهمها : عدم قابلية السلعة للتجزئة , وكذا تعرض بعض السلع لمخاطر العطب والتلف ؛ ومع ذلك فكانت المقايضة أمراً لازماً ولا يمكن الفكاك منه ؛ نظراً لعدم ظهور العملة المسكوكة آنذاك . وبمرور الوقت ازدادت المبادلات التجارية مما استلزم ضرورة وجود قواعد قانونية تأطر للوضع الجديد ؛ فظهرت صور من العقود : مثل ؛ عقد المقايضة , وعقد البيع , كما ظهرت في وقت لاحق العملة المعدنية المسكوك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3"/>
          <p:cNvSpPr/>
          <p:nvPr/>
        </p:nvSpPr>
        <p:spPr>
          <a:xfrm>
            <a:off x="4284720" y="42840"/>
            <a:ext cx="4535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نياً : الظروف الاجتماعية : </a:t>
            </a:r>
            <a:endParaRPr b="0" lang="en-US" sz="3200" spc="-1" strike="noStrike">
              <a:solidFill>
                <a:srgbClr val="000000"/>
              </a:solidFill>
              <a:latin typeface="Arial"/>
            </a:endParaRPr>
          </a:p>
        </p:txBody>
      </p:sp>
      <p:sp>
        <p:nvSpPr>
          <p:cNvPr id="83" name="مربع نص 4"/>
          <p:cNvSpPr/>
          <p:nvPr/>
        </p:nvSpPr>
        <p:spPr>
          <a:xfrm>
            <a:off x="0" y="627120"/>
            <a:ext cx="914400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خلص الإنسان من بعض العادات السيئة : </a:t>
            </a:r>
            <a:r>
              <a:rPr b="1" lang="ar-SA" sz="2400" spc="-1" strike="noStrike">
                <a:solidFill>
                  <a:srgbClr val="000000"/>
                </a:solidFill>
                <a:latin typeface="Calibri"/>
              </a:rPr>
              <a:t>لقد استطاع الإنسان في ظل سيادة مرحلة التقاليد الدينية من التخلص من العادات السيئة , التي كانت تهون عليه فيها حياة النفس البشرية بسهولة ؛ مثل :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وأد البنات : حيث قلت هذه العاجة بعد أن تم نبذها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التضحية بحياة الإنسان للآلهة : وجاء التخلص من هذه العادة عبر تقديم قرابين وأضاحي من الحيوانات بدلاً من الإ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علو مكانة الرجل وتدني مركز المرأه : </a:t>
            </a:r>
            <a:r>
              <a:rPr b="1" lang="ar-SA" sz="2400" spc="-1" strike="noStrike">
                <a:solidFill>
                  <a:srgbClr val="000000"/>
                </a:solidFill>
                <a:latin typeface="Calibri"/>
              </a:rPr>
              <a:t>كانت المرأة تحتل مكانه مرموقه في ظل سيادة نظام الأسرة الأموية حيث كانت تضطلع بتدبير شؤون الأسرة ؛ نظراً لتفرغ الرجال للصيد والقنص والحروب ؛ واعتقاد بعض الجماعات في شان الجهل بالدور الفسيولوجي الذي كان يقوم به الرجل في التناسل ؛ حيث كانت هذه الجماعات تغزو الإنجاب إلى المرأة فقط ؛ مما وضع المرأة في مكانة الرجل في ذلك الوقت .  إلا ان هذا الوضع لم يدم؛ حيث ترتب على سيادة نظام الأسرة الأبوية ؛ تدني مكانة المرأة ؛ فأصبحت في حكم المال المملوك لصاحب السلطان عليها ؛ كالأب والأخ قبل زواجها والزوج بعد زواجها ؛ فكان لصاحب السلطة عليها ؛ بيعها , أو رهنها , أو إعارتها , وبزواجها كانت تنسب إلى عشيرة زوجها وتلتزم بالإقامة معهم , ولم يكن هناك آثار لقرابة الرحم , إلا في حالات محدودة كاعتبار هذه القرابة مانعاً من موانع الزواج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7920" y="260280"/>
            <a:ext cx="9144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تقسيم الطبقي للمجتمع : </a:t>
            </a:r>
            <a:r>
              <a:rPr b="1" lang="ar-SA" sz="2400" spc="-1" strike="noStrike">
                <a:solidFill>
                  <a:srgbClr val="000000"/>
                </a:solidFill>
                <a:latin typeface="Calibri"/>
              </a:rPr>
              <a:t>هذه المرحلة قد شهدت تطوراً مفاده تحول المجتمع إلى طبقات ومن ثم غياب مبدأ المساواة ؛ فقد انقسم المجتمع إلى صفوف متباينة ومتعددة ؛ فهناك الأحرار والأرقاء ؛ وانقسم الأحرار إلى مواطنين وأجانب ؛ وانقسم المواطنون إلى أغنياء وفقراء تبعاً للثروة أو أشراف تبعاً للحسب والنسب , وفي ظل هذا الوضع أختلف القانون من حيث تطبيقه على أرض الواقع باختلاف الوضع الطبقي ؛ ولذلك فإن الحقوق والواجبات قد اختلفت بحسب اختلاف الطبقة أو المكانة التي ينتمي </a:t>
            </a:r>
            <a:r>
              <a:rPr b="1" lang="ar-SA" sz="2000" spc="-1" strike="noStrike">
                <a:solidFill>
                  <a:srgbClr val="000000"/>
                </a:solidFill>
                <a:latin typeface="Calibri"/>
              </a:rPr>
              <a:t>لها الشخص </a:t>
            </a:r>
            <a:endParaRPr b="0" lang="en-US" sz="2000" spc="-1" strike="noStrike">
              <a:solidFill>
                <a:srgbClr val="000000"/>
              </a:solidFill>
              <a:latin typeface="Arial"/>
            </a:endParaRPr>
          </a:p>
        </p:txBody>
      </p:sp>
      <p:sp>
        <p:nvSpPr>
          <p:cNvPr id="85" name="مربع نص 4"/>
          <p:cNvSpPr/>
          <p:nvPr/>
        </p:nvSpPr>
        <p:spPr>
          <a:xfrm>
            <a:off x="7920" y="2624040"/>
            <a:ext cx="91360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لثاً : الظروف الدين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حول قناعات الإنسان في شأن المعتقد والعبادة : </a:t>
            </a:r>
            <a:r>
              <a:rPr b="1" lang="ar-SA" sz="2400" spc="-1" strike="noStrike">
                <a:solidFill>
                  <a:srgbClr val="000000"/>
                </a:solidFill>
                <a:latin typeface="Calibri"/>
              </a:rPr>
              <a:t>استطاع الإنسان في ظل هذه المرحلة أن يتخلى عن وسائل السحر كمعتقد ويستبدلها بقناعات اخرى ؛ سواء تحت وطأة رجال الدين , أو نزولاً على قناعاته الشخصية ؛ وهذه أو تلك , قد دفعت الإنسان إلى القيام بكل ما فية رضاء للآلهة , وفي المقابل البعد عن أمر من شأنه إغضابها . وكانت العبادة في هذه الآونة متجهة إلى أن الاعتقاد في الإلوهية منصباً على الظواهر الطبيعية ؛ فكان الإنسان يعبد الظواهر الكونية ؛ ويقوم بالتماس رضائها والتبرك بها بشتى الوسائل ؛ ومنها : إقامة أصنام وتماثيل لها وتقديم القرابين لها ويفعل ما في وسعه لتجنب غضبها ؛ لأنه أصبح مقتنعاً بأنه تحت رحمة ظواهر طبيع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4"/>
          <p:cNvSpPr/>
          <p:nvPr/>
        </p:nvSpPr>
        <p:spPr>
          <a:xfrm>
            <a:off x="11160" y="333360"/>
            <a:ext cx="9144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الاتجاه نحو تأليه الأفكار الفلسفية أو الخلقية المجردة : </a:t>
            </a:r>
            <a:r>
              <a:rPr b="1" lang="ar-SA" sz="2400" spc="-1" strike="noStrike">
                <a:solidFill>
                  <a:srgbClr val="000000"/>
                </a:solidFill>
                <a:latin typeface="Calibri"/>
              </a:rPr>
              <a:t>في تطور لاحق وصل تفكير الإنسان إلى تأليه بعض الأفكار الفلسفية أو الخلقية المجردة ؛ مثل : الحكمة , والجمال , والعدالة , والنظر إلى أي منها من منظور كونها آلهة . وقد يوجد في الجماعة الواحدة أكثر من آله في آن واحد . وقد يوجد ذات الإله في أكثر من مكان بمسمى مختلف ؛ فمثلاً آله العدالة عند الفراعنة كان يسمى معات ؛ وعند البابليون كان يسمى شمش ؛ وعند الإغريق كان يسمى تيميس . </a:t>
            </a:r>
            <a:endParaRPr b="0" lang="en-US" sz="2400" spc="-1" strike="noStrike">
              <a:solidFill>
                <a:srgbClr val="000000"/>
              </a:solidFill>
              <a:latin typeface="Arial"/>
            </a:endParaRPr>
          </a:p>
        </p:txBody>
      </p:sp>
      <p:sp>
        <p:nvSpPr>
          <p:cNvPr id="87" name="مربع نص 5"/>
          <p:cNvSpPr/>
          <p:nvPr/>
        </p:nvSpPr>
        <p:spPr>
          <a:xfrm>
            <a:off x="0" y="2730600"/>
            <a:ext cx="914400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خوف من الموتى وأثرة على فكرة العبادة داخل الخلية الاجتماعية ونشاة العبادة الخاصة : </a:t>
            </a:r>
            <a:r>
              <a:rPr b="1" lang="ar-SA" sz="2400" spc="-1" strike="noStrike">
                <a:solidFill>
                  <a:srgbClr val="000000"/>
                </a:solidFill>
                <a:latin typeface="Calibri"/>
              </a:rPr>
              <a:t>تولدت قناعة غريبة لدى الجماعات آنذاك مفادها أن الموت يترتب عليه مفارقة الروح للجسد فقط ؛ وأن هذه المفارقة لا يترتب عليها انقضاء الروح وانقطاعها عن شؤون الدنيا ؛ بل تظل موجودة على مقربة من المكان الذي كان يعيش في الإنسان قبل موته واذلك كانت تستطيع أن تصيب البشر بالأذى إذا خرجوا على السنن الموروثة ؛ لأنها أقرب إلى الآلهة من البشر ولأنها على اتصال دائم بالآلهة . ونزولاً على هذا الخوف ؛ وحرصاً من أفراد الجماعة على تجنب مايغضب المتوفى من الإسلاف؛ فقد تولدت وانتشرت عبادة الأسلاف في هذا العصر ؛ وظهر اهتمام الناس بتقديم الشعائر والقرابين للموتى ليشفعوا لهم لدى الآلهة , وقد ترتب على ذلك ظهور فكرة العبادة الخاصة ( عبادة الأسلاف ) في كل أسرة أو قبيلة ؛ وأصبح من ألزم واجبات رب الأسرة ؛ او شيخ القبيلة ؛ تقديم الشعائر والقرابين لأسلافه من الموتى لتجنب الأذى ونيل الشفاع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3"/>
          <p:cNvSpPr/>
          <p:nvPr/>
        </p:nvSpPr>
        <p:spPr>
          <a:xfrm>
            <a:off x="0" y="1890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ظهور فكرة تأليه الملك الحاكم : </a:t>
            </a:r>
            <a:r>
              <a:rPr b="1" lang="ar-SA" sz="2400" spc="-1" strike="noStrike">
                <a:solidFill>
                  <a:srgbClr val="000000"/>
                </a:solidFill>
                <a:latin typeface="Calibri"/>
              </a:rPr>
              <a:t>ظهرت فكرة عبادة أو تأليه الملك الحاكم حال حياتهم ؛ سواء بوصف كونه آله على الأرض ؛ أو بوصف كونه من نسل الآلهة , أو بوصف كونه حلقة وصل بين الناس والآلهة ؛ وقد اقيمت دور للعبادة لهم من المعابد وخلافه ؛ وقد تخصص فريق من رجال الدين في أداء تلك الشعائر الدينية الخاصة والازمة بهذه العبادة </a:t>
            </a:r>
            <a:endParaRPr b="0" lang="en-US" sz="2400" spc="-1" strike="noStrike">
              <a:solidFill>
                <a:srgbClr val="000000"/>
              </a:solidFill>
              <a:latin typeface="Arial"/>
            </a:endParaRPr>
          </a:p>
        </p:txBody>
      </p:sp>
      <p:sp>
        <p:nvSpPr>
          <p:cNvPr id="89" name="مربع نص 4"/>
          <p:cNvSpPr/>
          <p:nvPr/>
        </p:nvSpPr>
        <p:spPr>
          <a:xfrm>
            <a:off x="-3240" y="1766880"/>
            <a:ext cx="9144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5</a:t>
            </a:r>
            <a:r>
              <a:rPr b="1" lang="ar-SA" sz="2400" spc="-1" strike="noStrike" u="sng">
                <a:solidFill>
                  <a:srgbClr val="4f6228"/>
                </a:solidFill>
                <a:uFillTx/>
                <a:latin typeface="Calibri"/>
              </a:rPr>
              <a:t>- ظهور ديانات جديدة : </a:t>
            </a:r>
            <a:r>
              <a:rPr b="1" lang="ar-SA" sz="2400" spc="-1" strike="noStrike">
                <a:solidFill>
                  <a:srgbClr val="000000"/>
                </a:solidFill>
                <a:latin typeface="Calibri"/>
              </a:rPr>
              <a:t>لقد ظهرت في ظل سيادة هذه الحقبة ديانات جديدة من مثل ذلك : ديانة التوحيد في عهد إخناتون في مصر , وديانة مزدك في بابل , وديانة البرهمية والبوذية في الهند , وديانة كانفشيوس في الصين , وديانة زيوس لدى الإغريق , وديانة جوبيتر لدى الرومان .</a:t>
            </a:r>
            <a:endParaRPr b="0" lang="en-US" sz="2400" spc="-1" strike="noStrike">
              <a:solidFill>
                <a:srgbClr val="000000"/>
              </a:solidFill>
              <a:latin typeface="Arial"/>
            </a:endParaRPr>
          </a:p>
        </p:txBody>
      </p:sp>
      <p:sp>
        <p:nvSpPr>
          <p:cNvPr id="90" name="مربع نص 5"/>
          <p:cNvSpPr/>
          <p:nvPr/>
        </p:nvSpPr>
        <p:spPr>
          <a:xfrm>
            <a:off x="15840" y="3429000"/>
            <a:ext cx="91281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6</a:t>
            </a:r>
            <a:r>
              <a:rPr b="1" lang="ar-SA" sz="2400" spc="-1" strike="noStrike" u="sng">
                <a:solidFill>
                  <a:srgbClr val="4f6228"/>
                </a:solidFill>
                <a:uFillTx/>
                <a:latin typeface="Calibri"/>
              </a:rPr>
              <a:t>- اتساع مهام رجال الدين بسبب انتشار الجهل والأمية : </a:t>
            </a:r>
            <a:r>
              <a:rPr b="1" lang="ar-SA" sz="2400" spc="-1" strike="noStrike">
                <a:solidFill>
                  <a:srgbClr val="000000"/>
                </a:solidFill>
                <a:latin typeface="Calibri"/>
              </a:rPr>
              <a:t>لم تعد مهام رجل الدين مقصورة فقط على أداء الشعائر الدينية ؛ بل اتسعت بحيث شملت كل شئ يعد نافعاً للمجتمع ؛ ومن ضمن المهام التي أوكلت لرجل الدين إلى جوار عمله الأساسي ؛ نذكر الآت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 تعليم الناس القراءة والكتابة ب- عيادة المرضى ج- مساعدة المحتاجين د- القيام ببعض الوظائف في الدولة هـ - تقديم الاستشارات للملك . و- الفصل في الخصومات بعد نشأة الدولة .</a:t>
            </a:r>
            <a:endParaRPr b="0" lang="en-US" sz="2400" spc="-1" strike="noStrike">
              <a:solidFill>
                <a:srgbClr val="000000"/>
              </a:solidFill>
              <a:latin typeface="Arial"/>
            </a:endParaRPr>
          </a:p>
        </p:txBody>
      </p:sp>
      <p:sp>
        <p:nvSpPr>
          <p:cNvPr id="91" name="مربع نص 6"/>
          <p:cNvSpPr/>
          <p:nvPr/>
        </p:nvSpPr>
        <p:spPr>
          <a:xfrm>
            <a:off x="-3240" y="587700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7</a:t>
            </a:r>
            <a:r>
              <a:rPr b="1" lang="ar-SA" sz="2400" spc="-1" strike="noStrike" u="sng">
                <a:solidFill>
                  <a:srgbClr val="4f6228"/>
                </a:solidFill>
                <a:uFillTx/>
                <a:latin typeface="Calibri"/>
              </a:rPr>
              <a:t>- صيرورة الدين سبباً من أسباب الحروب : </a:t>
            </a:r>
            <a:r>
              <a:rPr b="1" lang="ar-SA" sz="2400" spc="-1" strike="noStrike">
                <a:solidFill>
                  <a:srgbClr val="000000"/>
                </a:solidFill>
                <a:latin typeface="Calibri"/>
              </a:rPr>
              <a:t>لم تعد تنشأ الحرب لأسباب اقتصادية ؛ أو لتحقيق مطامع سياسية فحسب ؛ بل كانت تنشب ايضاً لنشر ديانة معين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3"/>
          <p:cNvSpPr/>
          <p:nvPr/>
        </p:nvSpPr>
        <p:spPr>
          <a:xfrm>
            <a:off x="-96840" y="57240"/>
            <a:ext cx="9144000" cy="241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a:t>
            </a:r>
            <a:r>
              <a:rPr b="1" lang="ar-SA" sz="3200" spc="-1" strike="noStrike">
                <a:solidFill>
                  <a:srgbClr val="984807"/>
                </a:solidFill>
                <a:latin typeface="Calibri"/>
              </a:rPr>
              <a:t>الفرع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عض النظم القانونية التي كانت موجودة في عصر التقاليد الدينية , مثل: نظام الاسرة ,نظام الملكية ,نظام الحكم , نظام القضاء ,ونظام العقوبات وذلك على النحو الآت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مربع نص 4"/>
          <p:cNvSpPr/>
          <p:nvPr/>
        </p:nvSpPr>
        <p:spPr>
          <a:xfrm>
            <a:off x="-14400" y="1700280"/>
            <a:ext cx="9158400" cy="558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أولا : نظام الاس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عندما سادت الافكار الدينية زاد وعي الافراد عن ذي قبل وخاصة في العلاقات الاجتماعية وذلك على النحو الت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1</a:t>
            </a:r>
            <a:r>
              <a:rPr b="1" lang="ar-SA" sz="2000" spc="-1" strike="noStrike">
                <a:solidFill>
                  <a:srgbClr val="0070c0"/>
                </a:solidFill>
                <a:latin typeface="Calibri"/>
              </a:rPr>
              <a:t>-حلول نظام الاسرة الابوية محل الاسرة الاموية ، بسبب الاعتماد على الزراعة التي لا تقوى عليها المرأة فاستقل الرجل بالزعا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2</a:t>
            </a:r>
            <a:r>
              <a:rPr b="1" lang="ar-SA" sz="2000" spc="-1" strike="noStrike">
                <a:solidFill>
                  <a:srgbClr val="ff0000"/>
                </a:solidFill>
                <a:latin typeface="Calibri"/>
              </a:rPr>
              <a:t>-غياب عادة وأد البنات : لقد أدى الاستقرار وتوافر سبل الرزق وعدم تطلب الكفاح والقوة للحصول علية الى تراجع الجماعات عن وأد البنات , ومن ثم لم يعد هناك ندرة في النساء , واصبح هناك تعادل بين عدد النساء والرج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3</a:t>
            </a:r>
            <a:r>
              <a:rPr b="1" lang="ar-SA" sz="2000" spc="-1" strike="noStrike">
                <a:solidFill>
                  <a:srgbClr val="0070c0"/>
                </a:solidFill>
                <a:latin typeface="Calibri"/>
              </a:rPr>
              <a:t>- تدني مركز المرأة: من المعلوم ان المرأة كانت تتمتع بمكانة بارزه في ظل سيادة نظام الاسرة الاموية  ,حيث كانت هذه الجماعات تنسب الانجاب الى المرأة فقط  ، لكن بسيادة النظام الابوي تدنت مكانة المرأة فلصاحب السلطة بيعها ورهنها ، وتنسب لعشيرة زوجها بمجرد زواج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a:t>
            </a:r>
            <a:r>
              <a:rPr b="1" lang="ar-SA" sz="2000" spc="-1" strike="noStrike">
                <a:solidFill>
                  <a:srgbClr val="ff0000"/>
                </a:solidFill>
                <a:latin typeface="Calibri"/>
              </a:rPr>
              <a:t>-تكريس الزواج بالتراضي : تلاشت في هذه المرحلة صور الزواج التي كانت سائدة في ظل مرحلة القوة , واختفى زواج الخطف وقل زواج الشغار ، واصبحت الصورة السائدة للزواج هي الزواج بالتراضي . كما شاع تعدد الزوجات بهدف زيادة الايدي العاملة بعد تطور المجتم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250920" y="209520"/>
            <a:ext cx="8713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5</a:t>
            </a:r>
            <a:r>
              <a:rPr b="1" lang="ar-SA" sz="2400" spc="-1" strike="noStrike">
                <a:solidFill>
                  <a:srgbClr val="0070c0"/>
                </a:solidFill>
                <a:latin typeface="Calibri"/>
              </a:rPr>
              <a:t>- ظهور نظام المهر :فتحولت عادة تقديم الخدمات لاقارب المرأة لنظام المهر ، كمظهر لارتقاء مكانة المرأة وضمنها ضد سوء معاشرة زوج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اختلف في تكييف المهر :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ثمنا لشراء الزوجة من اهلها بموجب عقد بيع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ظهر من ارتفاع قدر المرأة كون سبب مورد لاهلها وضمانا لها من تصرفات زوجها.</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بلغ مقابل نقل طاقة الزوجة لجماعة الزوج .</a:t>
            </a:r>
            <a:endParaRPr b="0" lang="en-US" sz="24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في بلاد الشرق الزوج هو الملتزم بدفع المهر للزوجة ، وفي بلاد الغرب فالزوجة هي التي تدفعه لزوج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الإرث والوصية :ظهرت اعراف تقضي بحصر حق الارث في الابناء الذكور دون الاناث , وفي حالة عدم وجود ابناء ذكور تنتقل التركة الى العصبات كالأخوة او الأعمام , او الى البنات في بعض المجتمعات التي حظيت بقدر من المدنية . وكان نظام التركة واسعا ولم يكن مقصورا على الاموال فقط ، فكان يشمل السلطات التي يتمتع فيها المتوفي على زوجاته  ، فظهر نظام الخلافة على الارا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ا يجوز للوارث رفض الميراث ، وللفرد الحرية بتنظيم نقل تركته بشرط عدم مخالفة القواعد المرعية بشأن الميراث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9280" y="259920"/>
            <a:ext cx="8785440" cy="6193080"/>
          </a:xfrm>
          <a:prstGeom prst="rect">
            <a:avLst/>
          </a:prstGeom>
          <a:noFill/>
          <a:ln w="0">
            <a:noFill/>
          </a:ln>
        </p:spPr>
        <p:txBody>
          <a:bodyPr anchor="t">
            <a:normAutofit fontScale="83000"/>
          </a:bodyPr>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84807"/>
                </a:solidFill>
                <a:uFillTx/>
                <a:latin typeface="Calibri"/>
              </a:rPr>
              <a:t>ثانيا : نظام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جب في هذا الشأن التمييز بين نوعين من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لنوع الاول : </a:t>
            </a:r>
            <a:r>
              <a:rPr b="1" lang="ar-SA" sz="2400" spc="-1" strike="noStrike">
                <a:solidFill>
                  <a:srgbClr val="0070c0"/>
                </a:solidFill>
                <a:latin typeface="Calibri"/>
              </a:rPr>
              <a:t>ملكية المنقولات وهي كانت ملكية 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ما النوع الثاني </a:t>
            </a:r>
            <a:r>
              <a:rPr b="1" lang="ar-SA" sz="2400" spc="-1" strike="noStrike">
                <a:solidFill>
                  <a:srgbClr val="000000"/>
                </a:solidFill>
                <a:latin typeface="Calibri"/>
              </a:rPr>
              <a:t>: </a:t>
            </a:r>
            <a:r>
              <a:rPr b="1" lang="ar-SA" sz="2400" spc="-1" strike="noStrike">
                <a:solidFill>
                  <a:srgbClr val="0070c0"/>
                </a:solidFill>
                <a:latin typeface="Calibri"/>
              </a:rPr>
              <a:t>فهو ملكية العقارات وهذا النوع قد مر خلال فترة التقاليد الدينية بأربع مراحل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أولى : </a:t>
            </a:r>
            <a:r>
              <a:rPr b="1" lang="ar-SA" sz="2400" spc="-1" strike="noStrike">
                <a:solidFill>
                  <a:srgbClr val="000000"/>
                </a:solidFill>
                <a:latin typeface="Calibri"/>
              </a:rPr>
              <a:t>ملكية رئيس القبيله </a:t>
            </a:r>
            <a:r>
              <a:rPr b="1" lang="ar-SA" sz="2400" spc="-1" strike="noStrike">
                <a:solidFill>
                  <a:srgbClr val="ff0000"/>
                </a:solidFill>
                <a:latin typeface="Calibri"/>
              </a:rPr>
              <a:t>تبدأ من اكتشاف الانسان للزراعة والاعتماد عليها كمصدر للعيش , </a:t>
            </a:r>
            <a:r>
              <a:rPr b="1" lang="ar-SA" sz="2400" spc="-1" strike="noStrike">
                <a:solidFill>
                  <a:srgbClr val="000000"/>
                </a:solidFill>
                <a:latin typeface="Calibri"/>
              </a:rPr>
              <a:t>حيث ظهرت الاهمية البالغة للأرض بعد تغيير الشكل السياسي وحلول القبيلة محل العشيرة </a:t>
            </a:r>
            <a:r>
              <a:rPr b="1" lang="ar-SA" sz="2400" spc="-1" strike="noStrike">
                <a:solidFill>
                  <a:srgbClr val="ff0000"/>
                </a:solidFill>
                <a:latin typeface="Calibri"/>
              </a:rPr>
              <a:t>وحلت ملكية القبيلة محل الملكية الجماعية واعتبر رئيس القبيلة المالك لأرضها ,</a:t>
            </a:r>
            <a:r>
              <a:rPr b="1" lang="ar-SA" sz="2400" spc="-1" strike="noStrike">
                <a:solidFill>
                  <a:srgbClr val="00b0f0"/>
                </a:solidFill>
                <a:latin typeface="Calibri"/>
              </a:rPr>
              <a:t>وكان له حق توزيعها على الأسر دون ان تتملكها الاسر بل فقط لها حق الانتفاع ب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ثانية : </a:t>
            </a:r>
            <a:r>
              <a:rPr b="1" lang="ar-SA" sz="2400" spc="-1" strike="noStrike">
                <a:solidFill>
                  <a:srgbClr val="000000"/>
                </a:solidFill>
                <a:latin typeface="Calibri"/>
              </a:rPr>
              <a:t>ملكية رب الاسرة </a:t>
            </a:r>
            <a:r>
              <a:rPr b="1" lang="ar-SA" sz="2400" spc="-1" strike="noStrike">
                <a:solidFill>
                  <a:srgbClr val="ff0000"/>
                </a:solidFill>
                <a:latin typeface="Calibri"/>
              </a:rPr>
              <a:t>تبدأ من بداية سيادة نظام الاسرة الأبوية وحلولها محل القبيل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ثالثة :</a:t>
            </a:r>
            <a:r>
              <a:rPr b="1" lang="ar-SA" sz="2400" spc="-1" strike="noStrike">
                <a:solidFill>
                  <a:srgbClr val="ff0000"/>
                </a:solidFill>
                <a:latin typeface="Calibri"/>
              </a:rPr>
              <a:t>  </a:t>
            </a:r>
            <a:r>
              <a:rPr b="1" lang="ar-SA" sz="2400" spc="-1" strike="noStrike">
                <a:solidFill>
                  <a:srgbClr val="0070c0"/>
                </a:solidFill>
                <a:latin typeface="Calibri"/>
              </a:rPr>
              <a:t>الملكية الفردية : تبدأ منم تاريخ تفكك نظام الاسرة الابوية وتحول ملكية الاسرة الى ملكية خاصة فظهر نظام الملكية ال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رابعة :  </a:t>
            </a:r>
            <a:r>
              <a:rPr b="1" lang="ar-SA" sz="2400" spc="-1" strike="noStrike">
                <a:solidFill>
                  <a:srgbClr val="ff0000"/>
                </a:solidFill>
                <a:latin typeface="Calibri"/>
              </a:rPr>
              <a:t>ملكية الحاكم والملكية الفردية واحياء الموات : فنشأت ملكية الحاكم لاراضي الدولة مع بقاء بعض الملكيات الفردية ونشوء التملك عن طريق احياء اراضي اصلا كانت مملوكة للجامعة . وظهرت ملكية المعابد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3"/>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ثالثا نظام الحك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من القبيلة الى الدولة : </a:t>
            </a:r>
            <a:r>
              <a:rPr b="1" lang="ar-SA" sz="2800" spc="-1" strike="noStrike">
                <a:solidFill>
                  <a:srgbClr val="ff0000"/>
                </a:solidFill>
                <a:latin typeface="Calibri"/>
              </a:rPr>
              <a:t>اصبحت القبيلة الوحدة السياسية في المجتمع منذ اواخر عصر القوة , وبداية عصر التقاليد الدينية ، فتمتع شيخ القبيلة بسلطات باعتباره ؛ الوسيط بين الالهة والقبيلة ، والزعيم الحربي ، وممثل القبيلة امام القبائل الاخرى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بحلول نظام الاسرة الابوية محل القبيلة في التنظيم الاجتماعي انتقلت كافة السلطات من شيخ القبيلة الى رب الاسرة وبظهور نظام الدولة تولى الملوك الاختصاص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ar-SA" sz="2800" spc="-1" strike="noStrike" u="sng">
                <a:solidFill>
                  <a:srgbClr val="0070c0"/>
                </a:solidFill>
                <a:uFillTx/>
                <a:latin typeface="Calibri"/>
              </a:rPr>
              <a:t>نشأة الدولة : </a:t>
            </a:r>
            <a:r>
              <a:rPr b="1" lang="ar-SA" sz="2800" spc="-1" strike="noStrike">
                <a:solidFill>
                  <a:srgbClr val="000000"/>
                </a:solidFill>
                <a:latin typeface="Calibri"/>
              </a:rPr>
              <a:t>اختلفت رؤى الباحثين حول الطريقة التي نشأت بها الدولة , فمنهم من يرى انها نشأت عبر القوة ومنهم من يرى انها نشأت عبر فكرة وحدة الديانة ومنهم من قال انها نشأت عبر تطور نظرية الاسر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3"/>
          <p:cNvSpPr/>
          <p:nvPr/>
        </p:nvSpPr>
        <p:spPr>
          <a:xfrm>
            <a:off x="0" y="189000"/>
            <a:ext cx="9144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سنعرض فيما يلي بعض النظريات التي قيلت في هذا الشأ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قوة : </a:t>
            </a:r>
            <a:r>
              <a:rPr b="1" lang="ar-SA" sz="2400" spc="-1" strike="noStrike">
                <a:solidFill>
                  <a:srgbClr val="ff0000"/>
                </a:solidFill>
                <a:latin typeface="Calibri"/>
              </a:rPr>
              <a:t>يرى انصار هذه النظرية ان الدولة نشأت عن طريق القوة المتولدة عن الحرب ونقل سلطات زعيم الجماعة المهزومة الى المنتصرة . وترتب على ذلك اثا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كسب القبيلة المنتصرة لارض القبيلة المنه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حل روابط الخضوع والطاعة تحت القوة محل روابط كانت سائدة فيها قبل الهز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نقل سلطات زعيم الجماعة المهزومة الى الزعيم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صيرورة ابناء الجماعة المنتصرة فئة متميز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اعتماد لغة للدولة وسيادة عبادة له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تسمية الدولة باسم الشعب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ويعتبر الملك ملكا للشعب وليس فقط للاقل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00b050"/>
                </a:solidFill>
                <a:latin typeface="Calibri"/>
              </a:rPr>
              <a:t>وعلى الرغم من ان القوة هي الاساس في نشأة الدولة عند انصار هذه النظرية الا انهم لم ينكروا الدور الذي لعبة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طبيقات على نشأة الدولة وفق هذه النظ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ويلات جرمانية كونها الاسكندر المقدوني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رنسا سميت باسم قبيلة فرنج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نجلترا سميت باسم قبيلة الانجليز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0520" y="907920"/>
            <a:ext cx="8686800" cy="4525920"/>
          </a:xfrm>
          <a:prstGeom prst="rect">
            <a:avLst/>
          </a:prstGeom>
          <a:noFill/>
          <a:ln w="0">
            <a:noFill/>
          </a:ln>
        </p:spPr>
        <p:txBody>
          <a:bodyPr anchor="t">
            <a:normAutofit fontScale="7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الوقوف على مرحلة التقاليد الدينية بوصف كونها أحد مراحل نشأة القانون يقتضي منا بيان الأسباب التي دفعت الأفراد إلى الإحتكام لرجال الدين ويمكن أن يكون تقسيم تلك الأسباب على ثلاثة مطالب على النحو الآتي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أول : دور رجال الدين في مرحلة التقاليد الدي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ني : النتائج التي ترتبت على النشـأة الدينية للقانو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لث : النظم القانونية في 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3"/>
          <p:cNvSpPr/>
          <p:nvPr/>
        </p:nvSpPr>
        <p:spPr>
          <a:xfrm>
            <a:off x="0" y="189000"/>
            <a:ext cx="914400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عشيرة التوتمية : </a:t>
            </a:r>
            <a:r>
              <a:rPr b="1" lang="ar-SA" sz="2400" spc="-1" strike="noStrike">
                <a:solidFill>
                  <a:srgbClr val="0070c0"/>
                </a:solidFill>
                <a:latin typeface="Calibri"/>
              </a:rPr>
              <a:t>هنا سنهدف الى عرض هذه النظرية في سياقها السياسي وليس الاجتماعي , يرى انصار هذه النظرية ان الدولة انشات عبر العشيرة التوتمية وذلك عن طريق اجتماع عدة عشائر واتفاقها بالخضوع لرئيس احد العشائر لها مكانة مرموق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ن تطبيقاتها : الدولة المص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وحدة الديانة : </a:t>
            </a:r>
            <a:r>
              <a:rPr b="1" lang="ar-SA" sz="2400" spc="-1" strike="noStrike">
                <a:solidFill>
                  <a:srgbClr val="7030a0"/>
                </a:solidFill>
                <a:latin typeface="Calibri"/>
              </a:rPr>
              <a:t>يرى انصار هذه النظرية ان الدولة نشأت بصفة اساسية الى الدين , فكان الزعيم يستمد سلطته باسم الدين .فيتم تنظيم المصالح المشتركة بين القبائل ، </a:t>
            </a:r>
            <a:r>
              <a:rPr b="1" lang="ar-SA" sz="2400" spc="-1" strike="noStrike">
                <a:solidFill>
                  <a:srgbClr val="ff0000"/>
                </a:solidFill>
                <a:latin typeface="Calibri"/>
              </a:rPr>
              <a:t>وابراز شخصية احد هؤلاء الرؤسالء ، وتتلاشى سلطة رؤساء القبائل ويتحولون الى مجلس استشاري ل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a:t>
            </a:r>
            <a:r>
              <a:rPr b="1" lang="ar-SA" sz="2400" spc="-1" strike="noStrike">
                <a:solidFill>
                  <a:srgbClr val="000000"/>
                </a:solidFill>
                <a:latin typeface="Calibri"/>
              </a:rPr>
              <a:t>يستمد سلطته من الدين فهو يمثل الالهة لانه يملك ارض الدولة ،  او يكون ابنا لها وكاهنا و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دين له الشعب بالولاء والطاعة ولا يشاركونه في الح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لا يسأل عن اعماله وتصرفاته امام الشعب بل امام الاله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تجسد الدولة في شخص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طبيقاتها : الدولة اليهودية والدولة المص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مربع نص 1"/>
          <p:cNvSpPr/>
          <p:nvPr/>
        </p:nvSpPr>
        <p:spPr>
          <a:xfrm>
            <a:off x="0" y="189000"/>
            <a:ext cx="9144000" cy="947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a:t>
            </a:r>
            <a:r>
              <a:rPr b="1" lang="ar-SA" sz="2800" spc="-1" strike="noStrike" u="sng">
                <a:solidFill>
                  <a:srgbClr val="4f6228"/>
                </a:solidFill>
                <a:uFillTx/>
                <a:latin typeface="Arial"/>
              </a:rPr>
              <a:t>نظرية تطور الأسرة : </a:t>
            </a:r>
            <a:r>
              <a:rPr b="1" lang="ar-SA" sz="2800" spc="-1" strike="noStrike">
                <a:solidFill>
                  <a:srgbClr val="ff0000"/>
                </a:solidFill>
                <a:latin typeface="Arial"/>
              </a:rPr>
              <a:t>يرى انصار هذه النظرية ان الدولة نشأت عن طريق التطور التاريخي لنظام الأسرة الأبوية , </a:t>
            </a:r>
            <a:r>
              <a:rPr b="1" lang="ar-SA" sz="2800" spc="-1" strike="noStrike">
                <a:solidFill>
                  <a:srgbClr val="00b050"/>
                </a:solidFill>
                <a:latin typeface="Arial"/>
              </a:rPr>
              <a:t>فتعتبر رابطة القرابة ووحدة المصالح والمصير هي الاساس الذي يجمع بين ابناء الدولة ، وتظل العشائر محتفظة ببعض سلطاتها عن طريق مجالس الشيوخ والمجالس الشعب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على الرغم من اساس نشأة الدولة الا ان انصار النظرية لم ينكرو وجود جملة من الامور التي لا يمكن انكارها  كالقوة والد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ولم تكن السلطة حكرا بيد احد فافراد الشعب يختارون الحاكم ويحاسبونه ، ونشأت الديمقراطية والحرية والمساواة بين المواط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مصالح المشتركة : </a:t>
            </a:r>
            <a:r>
              <a:rPr b="1" lang="ar-SA" sz="2800" spc="-1" strike="noStrike">
                <a:solidFill>
                  <a:srgbClr val="000000"/>
                </a:solidFill>
                <a:latin typeface="Calibri"/>
              </a:rPr>
              <a:t>يرى البعض ان </a:t>
            </a:r>
            <a:r>
              <a:rPr b="1" lang="ar-SA" sz="2800" spc="-1" strike="noStrike">
                <a:solidFill>
                  <a:srgbClr val="c00000"/>
                </a:solidFill>
                <a:latin typeface="Calibri"/>
              </a:rPr>
              <a:t>الدولة نشأت عن طريق نظرية المصالح المشتركة , نشأت لضرورة اجتماعية اقتضتها ظروف العيش في جماعة واحد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وتعد هذه النظرية من ابداعات عالم الاجتماع الاسلامي العلامة ابن خلدون </a:t>
            </a:r>
            <a:r>
              <a:rPr b="1" lang="ar-SA" sz="2800" spc="-1" strike="noStrike">
                <a:solidFill>
                  <a:srgbClr val="000000"/>
                </a:solidFill>
                <a:latin typeface="Calibri"/>
              </a:rPr>
              <a:t>، </a:t>
            </a:r>
            <a:r>
              <a:rPr b="1" lang="ar-SA" sz="2800" spc="-1" strike="noStrike">
                <a:solidFill>
                  <a:srgbClr val="00b050"/>
                </a:solidFill>
                <a:latin typeface="Calibri"/>
              </a:rPr>
              <a:t>فلحل المنازعات يستلزم وجود شخص محنك ذكي ليحكم بين الافر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ربع نص 1"/>
          <p:cNvSpPr/>
          <p:nvPr/>
        </p:nvSpPr>
        <p:spPr>
          <a:xfrm>
            <a:off x="468360" y="189000"/>
            <a:ext cx="84247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تطور التاريخي :  </a:t>
            </a:r>
            <a:r>
              <a:rPr b="1" lang="ar-SA" sz="2800" spc="-1" strike="noStrike">
                <a:solidFill>
                  <a:srgbClr val="000000"/>
                </a:solidFill>
                <a:latin typeface="Calibri"/>
              </a:rPr>
              <a:t>يرى انصار هذه النظرية </a:t>
            </a:r>
            <a:r>
              <a:rPr b="1" lang="ar-SA" sz="2800" spc="-1" strike="noStrike">
                <a:solidFill>
                  <a:srgbClr val="00b050"/>
                </a:solidFill>
                <a:latin typeface="Calibri"/>
              </a:rPr>
              <a:t>ان الدولة لم تنشأ على اساس واحد إنما نشأت عبر عدة عوامل .</a:t>
            </a: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تنطلق هذه النظرية من نقطة تصنف الافراد في المجتمع الى نوع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اول : </a:t>
            </a:r>
            <a:r>
              <a:rPr b="1" lang="ar-SA" sz="2800" spc="-1" strike="noStrike">
                <a:solidFill>
                  <a:srgbClr val="0070c0"/>
                </a:solidFill>
                <a:latin typeface="Calibri"/>
              </a:rPr>
              <a:t>وهم القلة في المجتمع وهؤلاء استطاعوا فرض سلطتهم على باقي الافراد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ثاني : </a:t>
            </a:r>
            <a:r>
              <a:rPr b="1" lang="ar-SA" sz="2800" spc="-1" strike="noStrike">
                <a:solidFill>
                  <a:srgbClr val="000000"/>
                </a:solidFill>
                <a:latin typeface="Calibri"/>
              </a:rPr>
              <a:t> </a:t>
            </a:r>
            <a:r>
              <a:rPr b="1" lang="ar-SA" sz="2800" spc="-1" strike="noStrike">
                <a:solidFill>
                  <a:srgbClr val="0070c0"/>
                </a:solidFill>
                <a:latin typeface="Calibri"/>
              </a:rPr>
              <a:t>هم الاكثرية في المجتمع وهؤلاء خضعوا لسلطة النوع الاول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رى انصار هذه النظرية ان الرغبة في العيش معا وحدها لا تكفي وانما يجب ان يوجد </a:t>
            </a:r>
            <a:r>
              <a:rPr b="1" lang="ar-SA" sz="2800" spc="-1" strike="noStrike">
                <a:solidFill>
                  <a:srgbClr val="ff0000"/>
                </a:solidFill>
                <a:latin typeface="Calibri"/>
              </a:rPr>
              <a:t>بينهم قدر مشترك من وحدة الجنس واللغة والدين والعاد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القوة المؤثرة هنا هي : قوة مادية وفكرية وسياسية واقتصاد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1"/>
          <p:cNvSpPr/>
          <p:nvPr/>
        </p:nvSpPr>
        <p:spPr>
          <a:xfrm>
            <a:off x="0" y="115920"/>
            <a:ext cx="91440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رابعا : نظام القض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رجال الدين هم من كان يفصل في المنازعات ، وينفذون الاحكام ، ولم توجد قواعد محددة متبعة ولا اجراءات محاكمة محد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واقع في هذه المرحلة من اطلاق وصف القضاء يعد من باب المجاز وليس الحقيقة وذلك مرده الى ان التنظيم القضائي وقتها كان يعد اقرب الى التحكيم منه الى القضا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ختلفت الجهة المختصة بحسم النزاع تبعا لطبيعة النزاع او مكان وقوع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افراد اسرة واحدة ، فرب الاسرة هو المختص بنظر النز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عدة اسر تنتمي لعشيرة واحدة ، فالمختص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بعد ظهور الدولة كان المختص بالفصل فيها هو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فرد لم يكن له صفة في رفع النزاع لرجل الدين ، بل صاحب الاسرة هو الذي يرفعها او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كانت اجراءات التقاضي تتم شفاهة لعدم انتشار الكتابة ، فكان الدليل الرئيسي هو شهادة الشهود ، وكان ايضا يتم اللجوء  الى المحنة واليمين كوسائل اضاف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0" y="115920"/>
            <a:ext cx="9144000" cy="862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خامسا نظام العقوب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ن المتأمل في نظام العقوبات في ظل سيادة مرحلة التقاليد الدينية , يلحظ ان هذا النظام قد أسس لأطر عقابية لم تكن موجودة من قبل فبعد ان </a:t>
            </a:r>
            <a:r>
              <a:rPr b="1" lang="ar-SA" sz="2400" spc="-1" strike="noStrike">
                <a:solidFill>
                  <a:srgbClr val="ff0000"/>
                </a:solidFill>
                <a:latin typeface="Calibri"/>
              </a:rPr>
              <a:t>اهتدى الانسان الى تجنب الانتقام الجماعي الذي كان سائدا في مرحلة القوة , وذلك عن طريق اعتماد صور للتصالح </a:t>
            </a:r>
            <a:r>
              <a:rPr b="1" lang="ar-SA" sz="2400" spc="-1" strike="noStrike">
                <a:solidFill>
                  <a:srgbClr val="000000"/>
                </a:solidFill>
                <a:latin typeface="Calibri"/>
              </a:rPr>
              <a:t>. فقد شهدت مرحلة التقاليد الدينية </a:t>
            </a:r>
            <a:r>
              <a:rPr b="1" lang="ar-SA" sz="2400" spc="-1" strike="noStrike">
                <a:solidFill>
                  <a:srgbClr val="7030a0"/>
                </a:solidFill>
                <a:latin typeface="Calibri"/>
              </a:rPr>
              <a:t>ميلاد مجموعة من القواعد الجنائية منها ما هو سلبي و ايجابي , ومن هذه القواعد :</a:t>
            </a:r>
            <a:r>
              <a:rPr b="1" lang="ar-SA" sz="2400" spc="-1" strike="noStrike">
                <a:solidFill>
                  <a:srgbClr val="000000"/>
                </a:solidFill>
                <a:latin typeface="Calibri"/>
              </a:rPr>
              <a:t> </a:t>
            </a:r>
            <a:r>
              <a:rPr b="1" lang="ar-SA" sz="2400" spc="-1" strike="noStrike">
                <a:solidFill>
                  <a:srgbClr val="0070c0"/>
                </a:solidFill>
                <a:latin typeface="Calibri"/>
              </a:rPr>
              <a:t>التمييز بين الجرائم العامة والخاصة وعدم التعويل على قصد الجاني , وان تقرير العقوبة و تنفيذها كان احد صلاحيات رجل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سنعرض هذه الجوانب تباع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بقاء صور التصالح : </a:t>
            </a:r>
            <a:r>
              <a:rPr b="1" lang="ar-SA" sz="2400" spc="-1" strike="noStrike">
                <a:solidFill>
                  <a:srgbClr val="00b050"/>
                </a:solidFill>
                <a:latin typeface="Calibri"/>
              </a:rPr>
              <a:t>وسر بقائها هو توافقها مع مبادئ المنطق السليم وكرست مبدأ شخصية العقوبة بدلا من الانتقام الهمج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2</a:t>
            </a:r>
            <a:r>
              <a:rPr b="1" lang="ar-SA" sz="2400" spc="-1" strike="noStrike" u="sng">
                <a:solidFill>
                  <a:srgbClr val="ff0000"/>
                </a:solidFill>
                <a:uFillTx/>
                <a:latin typeface="Calibri"/>
              </a:rPr>
              <a:t>-التمييز بين الجرائم العامة والخاص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عامة :</a:t>
            </a:r>
            <a:r>
              <a:rPr b="1" lang="ar-SA" sz="2400" spc="-1" strike="noStrike">
                <a:solidFill>
                  <a:srgbClr val="0070c0"/>
                </a:solidFill>
                <a:latin typeface="Calibri"/>
              </a:rPr>
              <a:t>يقصد بها تلك الجرائم التي تعتبر ماسة بكيان الجماعة بأسرها ولايجوز فيها الصلح ولا الإبراء مثل: الزنا, والخيانة العظمى , والهروب من مسرح القت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خاصة : </a:t>
            </a:r>
            <a:r>
              <a:rPr b="1" lang="ar-SA" sz="2400" spc="-1" strike="noStrike">
                <a:solidFill>
                  <a:srgbClr val="c00000"/>
                </a:solidFill>
                <a:latin typeface="Calibri"/>
              </a:rPr>
              <a:t>يقصد بها تلك الجرائم التي تمس مصالح الأفراد ويجوز فيه الصلح والإبراء مثل : القتل , والجرح , والسرقة , واتهام الكاذ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1"/>
          <p:cNvSpPr/>
          <p:nvPr/>
        </p:nvSpPr>
        <p:spPr>
          <a:xfrm>
            <a:off x="0" y="0"/>
            <a:ext cx="8962920" cy="850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 لامجال للتفرقة بين الفعل العمد والخطأ.</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لم تختلف العقوبة باختلاف الوصف فلم يكن للقصد الجنائي دورا في وصف الجري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4</a:t>
            </a:r>
            <a:r>
              <a:rPr b="1" lang="ar-SA" sz="2400" spc="-1" strike="noStrike" u="sng">
                <a:solidFill>
                  <a:srgbClr val="ff0000"/>
                </a:solidFill>
                <a:uFillTx/>
                <a:latin typeface="Calibri"/>
              </a:rPr>
              <a:t>-اختلاف العقوبات باختلاف مركز الجاني والمجني عل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فالعقوبة التي توقع على من يعتدي على رجل حر اشد وطأة من التي ت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التعويض الذي يفرض على من يعتدي على رجل حر اشد وطأة من الذي ي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عقوبة السرقة الواقعة على معبد اشد من عقوبها بالسرقة على الطبقات الدني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5</a:t>
            </a:r>
            <a:r>
              <a:rPr b="1" lang="ar-SA" sz="2400" spc="-1" strike="noStrike" u="sng">
                <a:solidFill>
                  <a:srgbClr val="ff0000"/>
                </a:solidFill>
                <a:uFillTx/>
                <a:latin typeface="Calibri"/>
              </a:rPr>
              <a:t>-وظيفة العقوبة بين العقاب والضمان (التعوي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فلعبت العقوبة دورا مزدوجا :</a:t>
            </a:r>
            <a:r>
              <a:rPr b="1" lang="ar-SA" sz="2000" spc="-1" strike="noStrike">
                <a:solidFill>
                  <a:srgbClr val="ff0000"/>
                </a:solidFill>
                <a:latin typeface="Calibri"/>
              </a:rPr>
              <a:t> اولا : مقدارها كان يزيد عما يصيب المجني عليه من ضرر فالعقوبة لا تتناسب مع مقدار الضرر الواقع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ثانيا : التعويض او الضمان لانها تجبر الضرر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6</a:t>
            </a:r>
            <a:r>
              <a:rPr b="1" lang="ar-SA" sz="2400" spc="-1" strike="noStrike" u="sng">
                <a:solidFill>
                  <a:srgbClr val="ff0000"/>
                </a:solidFill>
                <a:uFillTx/>
                <a:latin typeface="Calibri"/>
              </a:rPr>
              <a:t>-سيادة مبدأ الغرم بالغنم والمسؤولية الج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a:t>
            </a:r>
            <a:r>
              <a:rPr b="1" lang="ar-SA" sz="2000" spc="-1" strike="noStrike">
                <a:solidFill>
                  <a:srgbClr val="0070c0"/>
                </a:solidFill>
                <a:latin typeface="Calibri"/>
              </a:rPr>
              <a:t>كان عبء العقوبة لايقع على الجاني وحده بل كان يقع على اقاربه ايضا , وبالتالي فالجماعة تساهم في تحمل عبء التعويض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بلغ التعويض لم يكن حقا للمجني عليه بل من حق جماعته ، فالافراد متضامنون في الانتقام وفي القصاص والمسؤو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7</a:t>
            </a:r>
            <a:r>
              <a:rPr b="1" lang="ar-SA" sz="2400" spc="-1" strike="noStrike" u="sng">
                <a:solidFill>
                  <a:srgbClr val="ff0000"/>
                </a:solidFill>
                <a:uFillTx/>
                <a:latin typeface="Calibri"/>
              </a:rPr>
              <a:t>- تنفيذ العقوب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على اموال الفرد وفاءا لغرامة </a:t>
            </a:r>
            <a:r>
              <a:rPr b="1" lang="ar-SA" sz="2000" spc="-1" strike="noStrike" u="sng">
                <a:solidFill>
                  <a:srgbClr val="ff0000"/>
                </a:solidFill>
                <a:uFillTx/>
                <a:latin typeface="Calibri"/>
              </a:rPr>
              <a:t>: كانت تنفذها السلطة العامة ممثلة برجل الد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بالقصاص : </a:t>
            </a:r>
            <a:r>
              <a:rPr b="1" lang="ar-SA" sz="2000" spc="-1" strike="noStrike" u="sng">
                <a:solidFill>
                  <a:srgbClr val="ff0000"/>
                </a:solidFill>
                <a:uFillTx/>
                <a:latin typeface="Calibri"/>
              </a:rPr>
              <a:t>كانت للمجني عليه او اقاربه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2"/>
          <p:cNvSpPr/>
          <p:nvPr/>
        </p:nvSpPr>
        <p:spPr>
          <a:xfrm>
            <a:off x="2843280" y="2421000"/>
            <a:ext cx="3459240" cy="3506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طالب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ره سعد الثاقب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يم علي الشهر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وف عبدالله الدوس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مطلب الأول : دور رجال الدين في مرحلة التقاليد الدينية </a:t>
            </a:r>
            <a:br>
              <a:rPr sz="36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واخر عصر القوة جنحت المجتمعات للتصالح بدلا من القوة ، واتجهوا للاحتكام لرجال الدين بعد ظهور الزرا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عل اللجوء إلى رجال الدين يشير إلى أن </a:t>
            </a:r>
            <a:r>
              <a:rPr b="1" lang="ar-SA" sz="3200" spc="-1" strike="noStrike">
                <a:solidFill>
                  <a:srgbClr val="ff0000"/>
                </a:solidFill>
                <a:latin typeface="Calibri"/>
              </a:rPr>
              <a:t>الأفراد قد أدركوا أن القوى تبتعد عن العدل ولا تعد دليلاً على الحق </a:t>
            </a:r>
            <a:r>
              <a:rPr b="1" lang="ar-SA" sz="3200" spc="-1" strike="noStrike">
                <a:solidFill>
                  <a:srgbClr val="000000"/>
                </a:solidFill>
                <a:latin typeface="Calibri"/>
              </a:rPr>
              <a:t>لأن </a:t>
            </a:r>
            <a:r>
              <a:rPr b="1" lang="ar-SA" sz="3200" spc="-1" strike="noStrike">
                <a:solidFill>
                  <a:srgbClr val="0070c0"/>
                </a:solidFill>
                <a:latin typeface="Calibri"/>
              </a:rPr>
              <a:t>القوى العضلية لا يمكن أن تتخد أساس لحسم المنازعات أو ثبوت الحقوق إلا في المجتمعات الهمجية </a:t>
            </a:r>
            <a:r>
              <a:rPr b="1" lang="ar-SA" sz="3200" spc="-1" strike="noStrike">
                <a:solidFill>
                  <a:srgbClr val="000000"/>
                </a:solidFill>
                <a:latin typeface="Calibri"/>
              </a:rPr>
              <a:t>ولعل ما يؤكد ذلك </a:t>
            </a:r>
            <a:r>
              <a:rPr b="1" lang="ar-SA" sz="3200" spc="-1" strike="noStrike">
                <a:solidFill>
                  <a:srgbClr val="c00000"/>
                </a:solidFill>
                <a:latin typeface="Calibri"/>
              </a:rPr>
              <a:t>الأسباب الإجتماعية والنفسية إلى نسبة القانون للديانة </a:t>
            </a:r>
            <a:r>
              <a:rPr b="1" lang="ar-SA" sz="3200" spc="-1" strike="noStrike">
                <a:solidFill>
                  <a:srgbClr val="000000"/>
                </a:solidFill>
                <a:latin typeface="Calibri"/>
              </a:rPr>
              <a:t>أو بعبارة أخرى للآله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سباب نسبة القانون للديانة في مرحلة التقاليد الدينية :</a:t>
            </a:r>
            <a:endParaRPr b="0" lang="en-US" sz="3200" spc="-1" strike="noStrike">
              <a:solidFill>
                <a:srgbClr val="000000"/>
              </a:solidFill>
              <a:latin typeface="Calibri"/>
            </a:endParaRPr>
          </a:p>
        </p:txBody>
      </p:sp>
      <p:sp>
        <p:nvSpPr>
          <p:cNvPr id="57" name=""/>
          <p:cNvSpPr txBox="1"/>
          <p:nvPr/>
        </p:nvSpPr>
        <p:spPr>
          <a:xfrm>
            <a:off x="178920" y="981000"/>
            <a:ext cx="8820360" cy="561672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يمكن تصنيف الأسباب الى نوعين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سباب إجتماع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أسباب نفسية</a:t>
            </a:r>
            <a:endParaRPr b="0" lang="en-US" sz="32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1</a:t>
            </a:r>
            <a:r>
              <a:rPr b="1" lang="ar-SA" sz="2800" spc="-1" strike="noStrike" u="sng">
                <a:solidFill>
                  <a:srgbClr val="4f6228"/>
                </a:solidFill>
                <a:uFillTx/>
                <a:latin typeface="Calibri"/>
              </a:rPr>
              <a:t>- الأسباب الإجتماعية تتمثل في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ar-SA" sz="3200" spc="-1" strike="noStrike">
                <a:solidFill>
                  <a:srgbClr val="c00000"/>
                </a:solidFill>
                <a:latin typeface="Calibri"/>
              </a:rPr>
              <a:t>عجز الشعوب القديمة عن إدراك أن القانون يمكن أن ينشـأ تحت تأثير البيئة السائدة ومتطلباتها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عجز الإنسان عن خلق قواعد قانونية لضبط السلوك في المجتمع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ظرتهم إلى القانون على نفس منوال نظرتهم إلى الظواهر الكو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طبيعية الأخرى ، ونسبة كل الظواهر الى الاله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أسباب النفسية وترجع إلى الآتي :</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امتثال الأفراد في تلك الحقبة لقواعد الدين دون مناقشة او مراج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ما ثبت في أذهان الرجال في ذلك الوقت من تصور أنهم طيعة في يد الآلهة ومن ثم فأنهم ينقلون عنها ما يؤمرون في شكل أوامر وتعليمات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أسباب الاحتكام لرجال الدين :</a:t>
            </a:r>
            <a:endParaRPr b="0" lang="en-US" sz="3600" spc="-1" strike="noStrike">
              <a:solidFill>
                <a:srgbClr val="000000"/>
              </a:solidFill>
              <a:latin typeface="Calibri"/>
            </a:endParaRPr>
          </a:p>
        </p:txBody>
      </p:sp>
      <p:sp>
        <p:nvSpPr>
          <p:cNvPr id="61" name=""/>
          <p:cNvSpPr txBox="1"/>
          <p:nvPr/>
        </p:nvSpPr>
        <p:spPr>
          <a:xfrm>
            <a:off x="179280" y="1267920"/>
            <a:ext cx="8785440" cy="5257800"/>
          </a:xfrm>
          <a:prstGeom prst="rect">
            <a:avLst/>
          </a:prstGeom>
          <a:noFill/>
          <a:ln w="0">
            <a:noFill/>
          </a:ln>
        </p:spPr>
        <p:txBody>
          <a:bodyPr anchor="t">
            <a:normAutofit fontScale="8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بذ القوة داخل الجماعة والبعد عن الفوضى : بعد أن إستقر الإنسان بسبب الإعتماد على الزراعة </a:t>
            </a:r>
            <a:r>
              <a:rPr b="1" lang="ar-SA" sz="3200" spc="-1" strike="noStrike">
                <a:solidFill>
                  <a:srgbClr val="00b0f0"/>
                </a:solidFill>
                <a:latin typeface="Calibri"/>
              </a:rPr>
              <a:t>بدأ الشعور باحترام حقوق الآخرين ينضج في ضمائر الناس وبدأ الناس ينبذون القوة ويرون انه لا بد اللجوء لرجال الدين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a:t>
            </a:r>
            <a:r>
              <a:rPr b="1" lang="ar-SA" sz="3200" spc="-1" strike="noStrike">
                <a:solidFill>
                  <a:srgbClr val="c00000"/>
                </a:solidFill>
                <a:latin typeface="Calibri"/>
              </a:rPr>
              <a:t>المركز المرموق لرجال الدين فقد كانوا يحملون صفه على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أقل من ثلاث صفات وهي </a:t>
            </a:r>
            <a:r>
              <a:rPr b="1" lang="ar-SA" sz="3200" spc="-1" strike="noStrike">
                <a:solidFill>
                  <a:srgbClr val="000000"/>
                </a:solidFill>
                <a:latin typeface="Calibri"/>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كونهم وسطاء بين الناس والآلهة , أنهم ممثلين للآلهة على الأرض , و أنهم ينحدرون من سلالة الآلهة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85800"/>
            <a:ext cx="8305920" cy="5440320"/>
          </a:xfrm>
          <a:prstGeom prst="rect">
            <a:avLst/>
          </a:prstGeom>
          <a:noFill/>
          <a:ln w="0">
            <a:noFill/>
          </a:ln>
        </p:spPr>
        <p:txBody>
          <a:bodyPr anchor="t">
            <a:normAutofit fontScale="85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3</a:t>
            </a:r>
            <a:r>
              <a:rPr b="1" lang="ar-SA" sz="3000" spc="-1" strike="noStrike">
                <a:solidFill>
                  <a:srgbClr val="00b050"/>
                </a:solidFill>
                <a:latin typeface="Calibri"/>
              </a:rPr>
              <a:t>- تطور الظروف الإقتصادية : </a:t>
            </a:r>
            <a:r>
              <a:rPr b="1" lang="ar-SA" sz="3000" spc="-1" strike="noStrike">
                <a:solidFill>
                  <a:srgbClr val="000000"/>
                </a:solidFill>
                <a:latin typeface="Calibri"/>
              </a:rPr>
              <a:t>أدى </a:t>
            </a:r>
            <a:r>
              <a:rPr b="1" lang="ar-SA" sz="3000" spc="-1" strike="noStrike">
                <a:solidFill>
                  <a:srgbClr val="ff0000"/>
                </a:solidFill>
                <a:latin typeface="Calibri"/>
              </a:rPr>
              <a:t>إعتماد الإنسان على الزراعة </a:t>
            </a:r>
            <a:r>
              <a:rPr b="1" lang="ar-SA" sz="3000" spc="-1" strike="noStrike">
                <a:solidFill>
                  <a:srgbClr val="000000"/>
                </a:solidFill>
                <a:latin typeface="Calibri"/>
              </a:rPr>
              <a:t>إلى تغير النشاطات الإقتصادية من القنص والصيد ومن ثم </a:t>
            </a:r>
            <a:r>
              <a:rPr b="1" lang="ar-SA" sz="3000" spc="-1" strike="noStrike">
                <a:solidFill>
                  <a:srgbClr val="ff0000"/>
                </a:solidFill>
                <a:latin typeface="Calibri"/>
              </a:rPr>
              <a:t>التنقل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والترحال إلى الزراعة  فكلما إستقر الإنسان فإنه يكون بحاجة إلى قواعد قانونية تتناسب مع الظروف الجديدة .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4</a:t>
            </a:r>
            <a:r>
              <a:rPr b="1" lang="ar-SA" sz="3000" spc="-1" strike="noStrike">
                <a:solidFill>
                  <a:srgbClr val="000000"/>
                </a:solidFill>
                <a:latin typeface="Calibri"/>
              </a:rPr>
              <a:t>- </a:t>
            </a:r>
            <a:r>
              <a:rPr b="1" lang="ar-SA" sz="3000" spc="-1" strike="noStrike">
                <a:solidFill>
                  <a:srgbClr val="0070c0"/>
                </a:solidFill>
                <a:latin typeface="Calibri"/>
              </a:rPr>
              <a:t>الإلتجاء لرجال الدين يعد عبادة : فقد ساد لدى الناس في تلك الحقبة ان اللجوء لرجال الدين لحسم المنازعات يعد نوع من أنواع إرضاء الآله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Calibri"/>
              </a:rPr>
              <a:t>5</a:t>
            </a:r>
            <a:r>
              <a:rPr b="1" lang="ar-SA" sz="3000" spc="-1" strike="noStrike">
                <a:solidFill>
                  <a:srgbClr val="c00000"/>
                </a:solidFill>
                <a:latin typeface="Calibri"/>
              </a:rPr>
              <a:t>- احتكار رجال الدين لعلم القانون : </a:t>
            </a:r>
            <a:r>
              <a:rPr b="1" lang="ar-SA" sz="3000" spc="-1" strike="noStrike">
                <a:solidFill>
                  <a:srgbClr val="7030a0"/>
                </a:solidFill>
                <a:latin typeface="Calibri"/>
              </a:rPr>
              <a:t>لم يكن خيار أمام الأطراف المتنازعة في ظل سيادة المرحلة الدينية سوى الإلتجاء لرجال الدين لأنهم اصبحوا المختصون دون غيرهم بكافة الأمور </a:t>
            </a:r>
            <a:r>
              <a:rPr b="1" lang="ar-SA" sz="3000" spc="-1" strike="noStrike">
                <a:solidFill>
                  <a:srgbClr val="c00000"/>
                </a:solidFill>
                <a:latin typeface="Calibri"/>
              </a:rPr>
              <a:t>ومن بينها القانون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أحكام التي كان يطبقها رجال الدين على المنازعات :</a:t>
            </a:r>
            <a:endParaRPr b="0" lang="en-US" sz="3200" spc="-1" strike="noStrike">
              <a:solidFill>
                <a:srgbClr val="000000"/>
              </a:solidFill>
              <a:latin typeface="Calibri"/>
            </a:endParaRPr>
          </a:p>
        </p:txBody>
      </p:sp>
      <p:sp>
        <p:nvSpPr>
          <p:cNvPr id="64" name=""/>
          <p:cNvSpPr txBox="1"/>
          <p:nvPr/>
        </p:nvSpPr>
        <p:spPr>
          <a:xfrm>
            <a:off x="179280" y="765000"/>
            <a:ext cx="8785440" cy="590400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1</a:t>
            </a:r>
            <a:r>
              <a:rPr b="1" lang="ar-SA" sz="2400" spc="-1" strike="noStrike">
                <a:solidFill>
                  <a:srgbClr val="c00000"/>
                </a:solidFill>
                <a:latin typeface="Calibri"/>
              </a:rPr>
              <a:t>- الأحكام الإلهية الفردية : </a:t>
            </a:r>
            <a:r>
              <a:rPr b="1" lang="ar-SA" sz="2400" spc="-1" strike="noStrike">
                <a:solidFill>
                  <a:srgbClr val="7030a0"/>
                </a:solidFill>
                <a:latin typeface="Calibri"/>
              </a:rPr>
              <a:t>انتهج رجال الدين نهجاً مفاده أن الحكم الصادر منهم حيال النزاع المعروض عليهم ليس منهم بل هو حكماً إلهي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فلم يكن حكما عاما بل خاصا يصدر بمناسبة كل حالة على حدة ، </a:t>
            </a:r>
            <a:r>
              <a:rPr b="1" lang="ar-SA" sz="2400" spc="-1" strike="noStrike">
                <a:solidFill>
                  <a:srgbClr val="00b050"/>
                </a:solidFill>
                <a:latin typeface="Calibri"/>
              </a:rPr>
              <a:t>وكان الاستطلاع برأي الالهة بشأن منازعات الافراد ، وفي  كل شؤون الجماعة كالحرب والزواج في الحال وفي اي وق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للشعوب القديمة في شأن استطلاع رأي الالهة دروب مختلفة :</a:t>
            </a:r>
            <a:endParaRPr b="0" lang="en-US" sz="24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مصريين القدامى كانت تعرض المنازعات على الالهة بشكل تماثيل فيأتي التمثال بحركة او اشارة يفهم منها منطوق الحكم في النزاع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اغريق والرومان رأي الالهة يظهر على احشاء الاضاحي والقراب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عرب في العصر الجاهلي : عن طريق الضرب والقدح والتطير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سوابق القضائية : </a:t>
            </a:r>
            <a:r>
              <a:rPr b="1" lang="ar-SA" sz="2400" spc="-1" strike="noStrike">
                <a:solidFill>
                  <a:srgbClr val="002060"/>
                </a:solidFill>
                <a:latin typeface="Calibri"/>
              </a:rPr>
              <a:t>كان المجتمع بسيطا والمنازعات تتشابه إلى حد كبير وكان رجال الدين من الذكاء بمكان ومن هنا كانوا يصدرون أحكامهم في الحوادث المتشابهه بنفس الأحكام التي سبق وأن أصدروها ومن ثم يكون رجل الدين طبق حكم الآلهة الذي سبق وصدر من قبل بشأن واقعة متماثلة حتى لا يتم التناقض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1:07:14Z</dcterms:created>
  <dc:creator>ƨɑrɑ ..</dc:creator>
  <dc:description/>
  <dc:language>en-US</dc:language>
  <cp:lastModifiedBy>eman</cp:lastModifiedBy>
  <dcterms:modified xsi:type="dcterms:W3CDTF">2016-10-10T21:40:28Z</dcterms:modified>
  <cp:revision>114</cp:revision>
  <dc:subject/>
  <dc:title>عرض تقديمي في PowerPoint</dc:title>
</cp:coreProperties>
</file>