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5E695-EB1D-45D5-A85B-F34BC9AD9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4FFC-03C5-450B-B8BD-EA7FD86C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59541-AA64-40CA-93A7-9EE63CD35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3C69D-1530-4973-98F3-50397A24D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56BA-DA85-4E36-B60D-F0EBDAAB0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D9B4-7093-4154-A41F-697E2ACFA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88AC-C787-4661-836E-D2B5DD77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50E6-C8CD-471E-916B-5B5689848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C2A8-6549-40BF-B743-247576E8B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1453-7474-46D6-96C1-C493ADCF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6D92-9236-483A-B12F-70AB796F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DAE0-921E-4E26-8858-313C6685C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2EF8-038A-40B6-8551-1A1A3FAE274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0000"/>
                </a:solidFill>
                <a:latin typeface="Adobe Arabic"/>
                <a:cs typeface="Adobe Arabic"/>
              </a:rPr>
              <a:t>إبرام الكفال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أن يكون المدين معروفا من قبل الكفيل​</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ميز فقهاء الشريعة بين كفالة النفس وكفالة المال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بالنسبة لكفالة المال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ذهب جمهور الفقهاء ومنهم الحنابلة خلافا للحنفية إلى صحة ​الكفالة مع جهالة الكفيل للمدين المكفول ووجه ذلك حديث أبي قتادة ​وعلي ( رضي الله عنهما ) فإنهما ضمنا الميت وهما يجهلانه , وأقر النبي صلى الله عليه وسلم ذلك دون اعتراض ولأن الكفالة عقد ​يشرع من قبل الكفيل فلا يشترط معرفته بالمتبرع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1412640"/>
            <a:ext cx="8229600" cy="3887640"/>
          </a:xfrm>
          <a:prstGeom prst="rect">
            <a:avLst/>
          </a:prstGeom>
          <a:noFill/>
          <a:ln w="0">
            <a:noFill/>
          </a:ln>
        </p:spPr>
        <p:txBody>
          <a:bodyPr anchor="t">
            <a:normAutofit fontScale="78000"/>
          </a:bodyPr>
          <a:p>
            <a:pPr marL="401040" indent="-401040" algn="r" rtl="1">
              <a:lnSpc>
                <a:spcPct val="100000"/>
              </a:lnSpc>
              <a:spcBef>
                <a:spcPts val="1001"/>
              </a:spcBef>
              <a:buClr>
                <a:srgbClr val="000000"/>
              </a:buClr>
              <a:buFont typeface="Adobe Arab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بالنسبة لكفالة النفس :​</a:t>
            </a:r>
            <a:endParaRPr b="0" lang="en-US" sz="4000" spc="-1" strike="noStrike">
              <a:solidFill>
                <a:srgbClr val="000000"/>
              </a:solidFill>
              <a:latin typeface="Calibri"/>
            </a:endParaRPr>
          </a:p>
          <a:p>
            <a:pPr marL="401040" indent="-40104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على خلاف الكفالة المالية يشترط جمهور الفقهاء لصحة كفالة النفس ​أن يكون المكفول عنه معروفا من قبل الكفيل لا مجهولا. سبب ذلك أن كفالة النفس هي بحسب الأصل ​كفالة إحضار وتسليم من عليه المال أو العقوبة .​</a:t>
            </a:r>
            <a:endParaRPr b="0" lang="en-US" sz="4000" spc="-1" strike="noStrike">
              <a:solidFill>
                <a:srgbClr val="000000"/>
              </a:solidFill>
              <a:latin typeface="Calibri"/>
            </a:endParaRPr>
          </a:p>
          <a:p>
            <a:pPr marL="401040" indent="-40104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رضا المدين بالكفالة أو إذنه بها</a:t>
            </a:r>
            <a:endParaRPr b="0" lang="en-US" sz="4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الفقه الإسلامي :​</a:t>
            </a:r>
            <a:endParaRPr b="0" lang="en-US" sz="3600" spc="-1" strike="noStrike">
              <a:solidFill>
                <a:srgbClr val="000000"/>
              </a:solidFill>
              <a:latin typeface="Calibri"/>
            </a:endParaRPr>
          </a:p>
          <a:p>
            <a:pPr marL="270720" indent="-2707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يذهب جمهور الفقهاء – ومنهم الحنابلة إلى عدم اشتراط رضاء المدين في الكفالة المالية أو إذنه بها ,ووجه ذلك أنه لما جاز قضاء دين المدين بغير إذنه جاز أيضا أن يضمن عنه الدين بدون رضاه هذا من ناحية ومن ناحية أخرى فإن أبا قتادة كفل دون اعتبار لرضاء المدين فالمدين ميت ولا يمكن أخذ رضاه وأجازه النبي عليه الصلاة والسلام . ​</a:t>
            </a:r>
            <a:endParaRPr b="0" lang="en-US" sz="3600" spc="-1" strike="noStrike">
              <a:solidFill>
                <a:srgbClr val="000000"/>
              </a:solidFill>
              <a:latin typeface="Calibri"/>
            </a:endParaRPr>
          </a:p>
          <a:p>
            <a:pPr marL="270720" indent="-2707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fontScale="81000"/>
          </a:bodyPr>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كفالة النفس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لفقه الحنبلي قولان في هذه المسألة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قول الأول : كالكفالة المالية أي لا يعتبر رضاء المدين وإذنه لصحة ​الكفالة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قول الثاني : اعتبار رضاء المدين بالكفالة كي يصح إلزامه بالحضور ​مع الكفيل فإذا ضمن الكفيل بغير إذن المدين لم يلزمه الحضور معه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جاء في مجلة الأحكام الشرعية على مذهب أحمد بن حنبل :​ (لا يشترط لصحة الضمان رضى المضمون ولا رضى المضمون له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260280"/>
            <a:ext cx="8229600" cy="586584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في القانون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تنعقد الكفالة في التشريعات المدنية العربية التي تأثرت بالفقه الغربي ​بإذن المدين أو بدون إذنه بل على الرغم من معارضته . ويكون للكفيل​ في جميع الأحوال أن يرجع على المدين المكفول بما يكون قد وفاه عنه​ للدائن .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أما المدين فليس طرفا في عقد الكفالة وبالتالي فليس ثمة حاجة إلى رضائه إو إذنه لصحة الكفالة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على أن الكفالة تعقد في الأحوال العادية بإذن المدين ويطلب منه ​فكثيرا ما يطلب المدين من الكفيل أن يضمنه قبل مباشرته العقد ​المزمع إنشاؤه مع الدائن أو يحصل في كثير من الأحيان أن يزيل الكفيل سند المديونية الموقع من قبل طرفيه : المدين والدائن , بتوقيعه على سبيل الضمان .​</a:t>
            </a:r>
            <a:endParaRPr b="0" lang="en-US" sz="3200" spc="-1" strike="noStrike">
              <a:solidFill>
                <a:srgbClr val="000000"/>
              </a:solidFill>
              <a:latin typeface="Calibri"/>
            </a:endParaRPr>
          </a:p>
          <a:p>
            <a:pPr marL="267480" indent="-2674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dobe Arabic"/>
                <a:cs typeface="Adobe Arabic"/>
              </a:rPr>
              <a:t>إعداد</a:t>
            </a:r>
            <a:endParaRPr b="0" lang="en-US" sz="5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رنا المقوشي</a:t>
            </a:r>
            <a:endParaRPr b="0" lang="en-US" sz="8000" spc="-1" strike="noStrike">
              <a:solidFill>
                <a:srgbClr val="000000"/>
              </a:solidFill>
              <a:latin typeface="Calibri"/>
            </a:endParaRPr>
          </a:p>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ملاك آل غنام </a:t>
            </a:r>
            <a:endParaRPr b="0" lang="en-US" sz="8000" spc="-1" strike="noStrike">
              <a:solidFill>
                <a:srgbClr val="000000"/>
              </a:solidFill>
              <a:latin typeface="Calibri"/>
            </a:endParaRPr>
          </a:p>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منى العسكر</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280" y="1484280"/>
            <a:ext cx="7642440" cy="4354560"/>
          </a:xfrm>
          <a:prstGeom prst="rect">
            <a:avLst/>
          </a:prstGeom>
          <a:noFill/>
          <a:ln w="0">
            <a:noFill/>
          </a:ln>
        </p:spPr>
        <p:txBody>
          <a:bodyPr anchor="t">
            <a:normAutofit fontScale="88000"/>
          </a:bodyPr>
          <a:p>
            <a:pPr marL="301680" indent="-3016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قيام الكفالة لابد من توافر أركان يجب توافرها بكافة العقود</a:t>
            </a:r>
            <a:endParaRPr b="0" lang="en-US" sz="3600" spc="-1" strike="noStrike">
              <a:solidFill>
                <a:srgbClr val="000000"/>
              </a:solidFill>
              <a:latin typeface="Calibri"/>
            </a:endParaRPr>
          </a:p>
          <a:p>
            <a:pPr marL="301680" indent="-3016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التصرفات القانونية وهي:</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تراضي العاقدين : </a:t>
            </a:r>
            <a:r>
              <a:rPr b="0" lang="ar-SA" sz="3600" spc="-1" strike="noStrike">
                <a:solidFill>
                  <a:srgbClr val="000000"/>
                </a:solidFill>
                <a:latin typeface="Adobe Arabic"/>
                <a:cs typeface="Adobe Arabic"/>
              </a:rPr>
              <a:t>من كفيل ودائن في القانون والكفيل وحده في الفقه الإسلامي.</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محل : </a:t>
            </a:r>
            <a:r>
              <a:rPr b="0" lang="ar-SA" sz="3600" spc="-1" strike="noStrike">
                <a:solidFill>
                  <a:srgbClr val="000000"/>
                </a:solidFill>
                <a:latin typeface="Adobe Arabic"/>
                <a:cs typeface="Adobe Arabic"/>
              </a:rPr>
              <a:t>المكفول به.</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سبب : </a:t>
            </a:r>
            <a:r>
              <a:rPr b="0" lang="ar-SA" sz="3600" spc="-1" strike="noStrike">
                <a:solidFill>
                  <a:srgbClr val="000000"/>
                </a:solidFill>
                <a:latin typeface="Adobe Arabic"/>
                <a:cs typeface="Adobe Arabic"/>
              </a:rPr>
              <a:t>الباعث على التعاقد شريطة أن يكون مشروع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dobe Arabic"/>
                <a:cs typeface="Adobe Arabic"/>
              </a:rPr>
              <a:t>رضا الكفيل والمكفول له</a:t>
            </a:r>
            <a:endParaRPr b="0" lang="en-US" sz="6600" spc="-1" strike="noStrike">
              <a:solidFill>
                <a:srgbClr val="000000"/>
              </a:solidFill>
              <a:latin typeface="Calibri"/>
            </a:endParaRPr>
          </a:p>
        </p:txBody>
      </p:sp>
      <p:sp>
        <p:nvSpPr>
          <p:cNvPr id="44" name=""/>
          <p:cNvSpPr txBox="1"/>
          <p:nvPr/>
        </p:nvSpPr>
        <p:spPr>
          <a:xfrm>
            <a:off x="468360" y="1915920"/>
            <a:ext cx="8229600" cy="3989160"/>
          </a:xfrm>
          <a:prstGeom prst="rect">
            <a:avLst/>
          </a:prstGeom>
          <a:noFill/>
          <a:ln w="0">
            <a:noFill/>
          </a:ln>
        </p:spPr>
        <p:txBody>
          <a:bodyPr anchor="t">
            <a:normAutofit fontScale="87000"/>
          </a:bodyPr>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فقه الاسلامي يعرف الكفالة بأنها تصرف رضائي يتم بإيجاب الكفيل وحده.</a:t>
            </a:r>
            <a:endParaRPr b="0" lang="en-US" sz="3600" spc="-1" strike="noStrike">
              <a:solidFill>
                <a:srgbClr val="000000"/>
              </a:solidFill>
              <a:latin typeface="Calibri"/>
            </a:endParaRPr>
          </a:p>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ينما القانون يعرفها بأنها عقد بين طرفين ( </a:t>
            </a:r>
            <a:r>
              <a:rPr b="0" lang="ar-SA" sz="3600" spc="-1" strike="noStrike">
                <a:solidFill>
                  <a:srgbClr val="000000"/>
                </a:solidFill>
                <a:latin typeface="Adobe Arabic"/>
                <a:cs typeface="Adobe Arabic"/>
              </a:rPr>
              <a:t>كفيل ودائن </a:t>
            </a:r>
            <a:r>
              <a:rPr b="1" lang="ar-SA" sz="3600" spc="-1" strike="noStrike">
                <a:solidFill>
                  <a:srgbClr val="000000"/>
                </a:solidFill>
                <a:latin typeface="Adobe Arabic"/>
                <a:ea typeface="Adobe Arabic"/>
              </a:rPr>
              <a:t>) لايقوم إلا بتوافقهما.</a:t>
            </a:r>
            <a:endParaRPr b="0" lang="en-US" sz="3600" spc="-1" strike="noStrike">
              <a:solidFill>
                <a:srgbClr val="000000"/>
              </a:solidFill>
              <a:latin typeface="Calibri"/>
            </a:endParaRPr>
          </a:p>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ا يشترط في الكفالة أي إجراء شكلي معي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dobe Arabic"/>
                <a:cs typeface="Adobe Arabic"/>
              </a:rPr>
              <a:t>التعبير عن الرضا</a:t>
            </a:r>
            <a:endParaRPr b="0" lang="en-US" sz="6600" spc="-1" strike="noStrike">
              <a:solidFill>
                <a:srgbClr val="000000"/>
              </a:solidFill>
              <a:latin typeface="Calibri"/>
            </a:endParaRPr>
          </a:p>
        </p:txBody>
      </p:sp>
      <p:sp>
        <p:nvSpPr>
          <p:cNvPr id="46" name=""/>
          <p:cNvSpPr txBox="1"/>
          <p:nvPr/>
        </p:nvSpPr>
        <p:spPr>
          <a:xfrm>
            <a:off x="468360" y="1700280"/>
            <a:ext cx="8229600" cy="4525920"/>
          </a:xfrm>
          <a:prstGeom prst="rect">
            <a:avLst/>
          </a:prstGeom>
          <a:noFill/>
          <a:ln w="0">
            <a:noFill/>
          </a:ln>
        </p:spPr>
        <p:txBody>
          <a:bodyPr anchor="t">
            <a:normAutofit fontScale="68000"/>
          </a:bodyPr>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شترط في التعبير من جانب الكفيل أن يكون التعبير واضحاً لا لبس فيه سواء كان صريح أو ضمني ولا خلاف في ذلك بين القانون والفقه الإسلامي.</a:t>
            </a:r>
            <a:endParaRPr b="0" lang="en-US" sz="3600" spc="-1" strike="noStrike">
              <a:solidFill>
                <a:srgbClr val="000000"/>
              </a:solidFill>
              <a:latin typeface="Calibri"/>
            </a:endParaRPr>
          </a:p>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أما من جانب المكفول له في القانون فيكفي التعبير الضمني وحتى السكوت في حالة اعتباره قبولاً.</a:t>
            </a:r>
            <a:endParaRPr b="0" lang="en-US" sz="3600" spc="-1" strike="noStrike">
              <a:solidFill>
                <a:srgbClr val="000000"/>
              </a:solidFill>
              <a:latin typeface="Calibri"/>
            </a:endParaRPr>
          </a:p>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تصح الكفالة بالكتابة المستبينة , وإشارة الأخرس المفهومة الدالة على الضمان , ويذهب الفقه الحنبلي لعدم ثبوت الكفالة في حالة الكتابة من الأخرس مالم تكن مقترنة بإشارة تدل على الضما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360" y="1341360"/>
            <a:ext cx="8229600" cy="4525920"/>
          </a:xfrm>
          <a:prstGeom prst="rect">
            <a:avLst/>
          </a:prstGeom>
          <a:noFill/>
          <a:ln w="0">
            <a:noFill/>
          </a:ln>
        </p:spPr>
        <p:txBody>
          <a:bodyPr anchor="t">
            <a:normAutofit fontScale="78000"/>
          </a:bodyPr>
          <a:p>
            <a:pPr marL="267480" indent="-2674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الفقه الإسلامي لا يشترط رضا الدائن لانعقاد الكفالة ,إلا أنها ترتد برده لها بعد انعقادها , وبهذا أخذ النظام السعودي.</a:t>
            </a:r>
            <a:endParaRPr b="0" lang="en-US" sz="4000" spc="-1" strike="noStrike">
              <a:solidFill>
                <a:srgbClr val="000000"/>
              </a:solidFill>
              <a:latin typeface="Calibri"/>
            </a:endParaRPr>
          </a:p>
          <a:p>
            <a:pPr marL="267480" indent="-2674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ولصحة الكفالة يجب أن يكون التراضي سليماً من العيوب فإذا كانت إرادة الكفيل أو الدائن مشوبة بعيب وقعت الكفالة صحيحة قابلة للإبطال لمصلحة من تعيبت إرادته فله الحق في إمساك العقد أو فسخه.</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dobe Arabic"/>
                <a:cs typeface="Adobe Arabic"/>
              </a:rPr>
              <a:t>أهلية الكفيل</a:t>
            </a:r>
            <a:endParaRPr b="0" lang="en-US" sz="6000" spc="-1" strike="noStrike">
              <a:solidFill>
                <a:srgbClr val="000000"/>
              </a:solidFill>
              <a:latin typeface="Calibri"/>
            </a:endParaRPr>
          </a:p>
        </p:txBody>
      </p:sp>
      <p:sp>
        <p:nvSpPr>
          <p:cNvPr id="49" name=""/>
          <p:cNvSpPr txBox="1"/>
          <p:nvPr/>
        </p:nvSpPr>
        <p:spPr>
          <a:xfrm>
            <a:off x="468360" y="1196640"/>
            <a:ext cx="8229600" cy="5111640"/>
          </a:xfrm>
          <a:prstGeom prst="rect">
            <a:avLst/>
          </a:prstGeom>
          <a:noFill/>
          <a:ln w="0">
            <a:noFill/>
          </a:ln>
        </p:spPr>
        <p:txBody>
          <a:bodyPr anchor="t">
            <a:normAutofit fontScale="70000"/>
          </a:bodyPr>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في القانون:</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يجب أن تكون أهليته كاملة, إذا كان ناقص الأهلية فالكفالة هنا باطلة (مطلقا) لأنها من</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التصرفات القانونية الضارة محضا التي لا يملك ناقص الأهلية مباشرتها.</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في الفقه الإسلامي:</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وجب على الكفيل أن يكون: بالغا,عاقلا,رشيدا ,غير محجور عليه لصغر أو سفه أو عته</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ونحو ذلك ولو كانت بإذن الولي لان الولي لا يملك التبرع فلأن لا يملك الإذن فيها فيها أولى.</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كذلك الحكم بالنسبة لكفالة المكره والسكران يعدم الإرادة بعنصريها (الرضا والاختيار).</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تصح كفالة المفلس المحجور عليه للفلس لأنه كامل الإدراك والاختيار لكنها في هذه الحالة غير نافذة أي موقوفة لا يترتب عليها اثر شرعي, حماية للدائن وأصحاب المصالح.</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كفالة المريض: مرض الموت ضمانه صحيح ويأخذ حكم الوصية ولا ينفذ إلا في حدود ثلث التركة مع  سائر تبرعاته.</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1341360"/>
            <a:ext cx="8229600" cy="4525920"/>
          </a:xfrm>
          <a:prstGeom prst="rect">
            <a:avLst/>
          </a:prstGeom>
          <a:noFill/>
          <a:ln w="0">
            <a:noFill/>
          </a:ln>
        </p:spPr>
        <p:txBody>
          <a:bodyPr anchor="t">
            <a:normAutofit fontScale="79000"/>
          </a:bodyPr>
          <a:p>
            <a:pPr marL="270720" indent="-27072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كفالة المرأة: يصح ضمان المرأة لأنها من التصرفات المالية الجائزة من المرأة والرجل على حد سواء.</a:t>
            </a:r>
            <a:endParaRPr b="0" lang="en-US" sz="4000" spc="-1" strike="noStrike">
              <a:solidFill>
                <a:srgbClr val="000000"/>
              </a:solidFill>
              <a:latin typeface="Calibri"/>
            </a:endParaRPr>
          </a:p>
          <a:p>
            <a:pPr marL="270720" indent="-27072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وفي القانون: يشترط القانون السعودي الملاءة وان يكون الكفيل سعوديا مقيما في المملكة ,يستهدف تحقيق مقصود الكفالة بحيث يكون الدائن أكثر أمنا وثقه على استيفاء حقه.</a:t>
            </a:r>
            <a:endParaRPr b="0" lang="en-US" sz="4000" spc="-1" strike="noStrike">
              <a:solidFill>
                <a:srgbClr val="000000"/>
              </a:solidFill>
              <a:latin typeface="Calibri"/>
            </a:endParaRPr>
          </a:p>
          <a:p>
            <a:pPr marL="270720" indent="-2707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6280"/>
            <a:ext cx="8229600" cy="5649840"/>
          </a:xfrm>
          <a:prstGeom prst="rect">
            <a:avLst/>
          </a:prstGeom>
          <a:noFill/>
          <a:ln w="0">
            <a:noFill/>
          </a:ln>
        </p:spPr>
        <p:txBody>
          <a:bodyPr anchor="t">
            <a:normAutofit fontScale="77000"/>
          </a:bodyPr>
          <a:p>
            <a:pPr marL="263880" indent="-2638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النظام السعودي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شترط في الكفيل أن يكون سعوديا مقيما بالمملكة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ألا يغادر الكفيل ومكفوله المملكة قبل أداء المكفول به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لا تقبل كفالة أي إنسان لأكثر من ثلاث كفالات إذا كان مليئا مقتدرا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إن كان الكفيل متوسط الحال فيجب ألا تقبل كفالته إلا لشخص واحد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لا تقبل كفالة الممثليات ​والبعثات الدبلوماسيات ​المعتمدة في المملكة ​لتمتعها بالحصانة الدبلوماسية ​والقضائ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fontScale="73000"/>
          </a:bodyPr>
          <a:p>
            <a:pPr marL="250200" indent="-25020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بالنسبة للكفالات التي تعقد لدى الإمارات وإدارات الحقوق</a:t>
            </a:r>
            <a:endParaRPr b="0" lang="en-US" sz="3600" spc="-1" strike="noStrike">
              <a:solidFill>
                <a:srgbClr val="000000"/>
              </a:solidFill>
              <a:latin typeface="Calibri"/>
            </a:endParaRPr>
          </a:p>
          <a:p>
            <a:pPr marL="250200" indent="-25020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مدنية​ في المملكة فقد نظمت على النحو التالي :​</a:t>
            </a:r>
            <a:endParaRPr b="0" lang="en-US" sz="3600" spc="-1" strike="noStrike">
              <a:solidFill>
                <a:srgbClr val="000000"/>
              </a:solidFill>
              <a:latin typeface="Calibri"/>
            </a:endParaRPr>
          </a:p>
          <a:p>
            <a:pPr marL="250200" indent="-25020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ا تقبل كفالة أي كفيل إلا إذا كانت جهة مالية مليئة أو شخصا مكفولا​ من قبل جهة مالية مليئة أو يكون لدى الكفيل عقارات توازي في ​قيمتها مبلغ الدين الذي يلتزم الكفيل بسداده ويرهن تلك العقارات لسداد ديون مكفولة على أن يقدم صكوكها إلى الجهة الحكومية التي ​يتقدم إليها بكفالته .</a:t>
            </a:r>
            <a:endParaRPr b="0" lang="en-US" sz="3600" spc="-1" strike="noStrike">
              <a:solidFill>
                <a:srgbClr val="000000"/>
              </a:solidFill>
              <a:latin typeface="Calibri"/>
            </a:endParaRPr>
          </a:p>
          <a:p>
            <a:pPr marL="250200" indent="-25020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في كل الحالات توثق الكفالة والرهن أمام كاتب​العدل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1:45:38Z</dcterms:created>
  <dc:creator>toshiba</dc:creator>
  <dc:description/>
  <dc:language>en-US</dc:language>
  <cp:lastModifiedBy>eman</cp:lastModifiedBy>
  <dcterms:modified xsi:type="dcterms:W3CDTF">2016-10-01T20:03:03Z</dcterms:modified>
  <cp:revision>5</cp:revision>
  <dc:subject/>
  <dc:title>إبرام الكفالة</dc:title>
</cp:coreProperties>
</file>