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85818-5624-4115-9A50-E7BD40BDC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B514C-3DCC-43C5-AA00-BB2704C12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7B43D-1661-421F-9941-3E2B07FF0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9AD0-FE17-4FE0-9DE9-61BF82E66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1D919-BA81-489B-B383-F11442527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5CDAE-E857-4953-90D2-14F87CFDA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6555E-0D96-4512-8853-E298B360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B2FE-71F0-4DCC-8599-31B717D14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EDACF-3324-4BEB-9EAB-60D5B9A4A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15451-9049-4F84-9B61-A967A395C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6E352-117F-4C9C-BC10-94A4DF9A0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D7134-124E-4870-9EB6-F7592BDC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46D3F-1638-40EA-8EC8-C971DCE07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B4E9E-DC0F-4CE4-A538-3BBAE1B7B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D0A3A-A40A-40AA-9A42-C008BC1BE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14245-8007-48DA-AC9E-5D4940AB7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716D8-E34F-48D0-BE2C-9CDAD3AEC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4D900CB-7350-4219-95CF-C110DFF49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7F4BE7-CFC8-4DFC-9E7F-82755CF79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20AD26-0131-4C3B-A245-C667ED221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57154E-C836-4804-8061-1349A6BD46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6B8CD9-F0F0-4B7C-9FC8-2E4BC9614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254C9-6D00-4ED8-8AB4-F7F900C9B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A60AF5-A8DF-4372-9D34-C175F5649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6CDD5C-24A4-4F15-B3BC-819D887AB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B5D7F2-3BB2-4CD9-83CC-1F527A097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839ED8-D3DC-4A5F-B50B-62B32EFD3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A626F4-B2F9-4F66-AB6D-C47AB8011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C1DEA2-AC38-4C9D-9D7C-35DB0DAE67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E5C8396-29B5-4B82-A52C-64582DD864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B1A739-FC14-4281-964B-3D082ECBC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0CA93-1F50-4D27-ADD9-1B7F6B2D00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DE66E-5BE5-40F1-B191-261D94B83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25D49-9112-422F-A105-F5B9BB583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34610-B784-4F99-9B44-E9CB5C085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0C89C-3CE8-4795-A577-A87603578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684A3-57B3-4763-AD8E-319B3C50D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4D6BD-9AF2-4F18-BAA0-95B409235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628F2-530D-4D23-929F-63BBC3196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72D5C-7C7B-4715-8630-0B647B28C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A7DF11-0D68-45D6-BF93-674DB339F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B3C195-B9DB-43C3-9098-3C57D0E99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4822EA-6A68-474A-B7AA-6DEA4287AD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C9D3C-147E-405F-A24A-3F1BF35B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003E-C918-415D-9E55-E9825DBB4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9EA2-2AC7-4ADB-8562-62EC2D9B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ECDE-DD1F-4CC1-9324-A94F4E63D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1C62-1C82-439F-987D-08E3BA15B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A883-D14E-4A7D-BA17-9CAEF8B133A6}"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D7C6-555A-40A0-B3A3-F100B9707BFB}"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5BBD-9C0A-46DA-A4D3-863772E7033A}"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Georgi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444F-99EE-48DD-9FA4-D4B9AC672E75}" type="slidenum">
              <a:rPr b="0" lang="en-US" sz="1800" spc="-1" strike="noStrike">
                <a:solidFill>
                  <a:srgbClr val="ffffff"/>
                </a:solidFill>
                <a:latin typeface="Georgia"/>
              </a:rPr>
              <a:t>&lt;number&gt;</a:t>
            </a:fld>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
          <p:cNvSpPr/>
          <p:nvPr/>
        </p:nvSpPr>
        <p:spPr>
          <a:xfrm>
            <a:off x="380880" y="990720"/>
            <a:ext cx="8077320" cy="44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406f8d"/>
                </a:solidFill>
                <a:latin typeface="Traditional Arabic"/>
                <a:cs typeface="Traditional Arabic"/>
              </a:rPr>
              <a:t>الكمبيالة</a:t>
            </a:r>
            <a:endParaRPr b="0" lang="en-US" sz="8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a:t>
            </a:r>
            <a:r>
              <a:rPr b="1" lang="ar-SA" sz="2000" spc="-1" strike="noStrike">
                <a:solidFill>
                  <a:srgbClr val="406f8d"/>
                </a:solidFill>
                <a:latin typeface="Traditional Arabic"/>
                <a:cs typeface="Traditional Arabic"/>
              </a:rPr>
              <a:t>تمهيد</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a:t>
            </a:r>
            <a:r>
              <a:rPr b="1" lang="ar-SA" sz="2000" spc="-1" strike="noStrike">
                <a:solidFill>
                  <a:srgbClr val="406f8d"/>
                </a:solidFill>
                <a:latin typeface="Traditional Arabic"/>
                <a:cs typeface="Traditional Arabic"/>
              </a:rPr>
              <a:t>إنشاء الكمبيالة</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عرض من صفحة </a:t>
            </a:r>
            <a:r>
              <a:rPr b="1" lang="ar-SA" sz="2000" spc="-1" strike="noStrike">
                <a:solidFill>
                  <a:srgbClr val="406f8d"/>
                </a:solidFill>
                <a:latin typeface="Traditional Arabic"/>
                <a:ea typeface="Traditional Arabic"/>
              </a:rPr>
              <a:t>41</a:t>
            </a:r>
            <a:r>
              <a:rPr b="1" lang="ar-SA" sz="2000" spc="-1" strike="noStrike">
                <a:solidFill>
                  <a:srgbClr val="406f8d"/>
                </a:solidFill>
                <a:latin typeface="Traditional Arabic"/>
                <a:ea typeface="Traditional Arabic"/>
              </a:rPr>
              <a:t> إلى صفحة </a:t>
            </a:r>
            <a:r>
              <a:rPr b="1" lang="ar-SA" sz="2000" spc="-1" strike="noStrike">
                <a:solidFill>
                  <a:srgbClr val="406f8d"/>
                </a:solidFill>
                <a:latin typeface="Traditional Arabic"/>
                <a:ea typeface="Traditional Arabic"/>
              </a:rPr>
              <a:t>51</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حصه التويجري</a:t>
            </a:r>
            <a:r>
              <a:rPr b="1" lang="ar-SA" sz="2000" spc="-1" strike="noStrike">
                <a:solidFill>
                  <a:srgbClr val="406f8d"/>
                </a:solidFill>
                <a:latin typeface="Traditional Arabic"/>
                <a:ea typeface="Traditional Arabic"/>
              </a:rPr>
              <a:t> </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434201251</a:t>
            </a:r>
            <a:endParaRPr b="0" lang="en-US" sz="2000" spc="-1" strike="noStrike">
              <a:solidFill>
                <a:srgbClr val="000000"/>
              </a:solidFill>
              <a:latin typeface="Georgi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114480" y="685800"/>
            <a:ext cx="8915400" cy="9417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2b4a5e"/>
                </a:solidFill>
                <a:uFillTx/>
                <a:latin typeface="Traditional Arabic"/>
                <a:cs typeface="Traditional Arabic"/>
              </a:rPr>
              <a:t>الكمبيالة</a:t>
            </a:r>
            <a:r>
              <a:rPr b="1" lang="ar-SA" sz="4000" spc="-1" strike="noStrike" u="sng">
                <a:solidFill>
                  <a:srgbClr val="2b4a5e"/>
                </a:solidFill>
                <a:uFillTx/>
                <a:latin typeface="Traditional Arabic"/>
                <a:ea typeface="Traditional Arabic"/>
              </a:rPr>
              <a:t> </a:t>
            </a:r>
            <a:r>
              <a:rPr b="1" lang="ar-SA" sz="4000" spc="-1" strike="noStrike" u="sng">
                <a:solidFill>
                  <a:srgbClr val="2b4a5e"/>
                </a:solidFill>
                <a:uFillTx/>
                <a:latin typeface="Traditional Arabic"/>
                <a:ea typeface="Traditional Arabic"/>
              </a:rPr>
              <a:t>:</a:t>
            </a:r>
            <a:endParaRPr b="0" lang="en-US" sz="4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cs typeface="Traditional Arabic"/>
              </a:rPr>
              <a:t>لم يضع نظام الأوراق التجارية تعريفاً للكمبيالة و لذلك جرى الفقه و القضاء على تعريفها بأنها " صك مكتوب طبقاً للأوضاع التي حددها النظام يتضمن أمراً من شخص يسمى (الساحب) موجه إلى شخص آخر يسمى (المسحوب عليه) طالباً منه أن يدفع مبلغاً معيناً من النقود لإذن أو لأمر شخص آخر يسمى (المستفيد) وذلك في تاريخ محدد أو لدى الإطلاع</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يتضح من ذلك أن الكمبيالة ورقة ثلاثية الأطراف ( الساحب و المستفيد و المسحوب عليه ) , و هي تنشأ لوجود علاقات قانونية سابقة حيث</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cs typeface="Traditional Arabic"/>
              </a:rPr>
              <a:t>توجد علاقة بين الساحب و المسحوب عليه بحيث أن المسحوب عليه يكون مديناً للساحب هي التي جعلت للساحب الحق في أن يسحب عليه الكمبيالة و يأمره بالوفاء بقيمتها ( و تسمى هذه العلاقة مقابل الوفاء )</a:t>
            </a:r>
            <a:r>
              <a:rPr b="1" lang="ar-SA" sz="2200" spc="-1" strike="noStrike">
                <a:solidFill>
                  <a:srgbClr val="406f8d"/>
                </a:solidFill>
                <a:latin typeface="Traditional Arabic"/>
                <a:ea typeface="Traditional Arabic"/>
              </a:rPr>
              <a:t> </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توجد أيضاً علاقة بين الساحب و المستفيد ( الساحب يكون مديناً للمستفيد ) هي التي جعلت الساحب يحرر الكمبيالة و يسلمها للمستفيد لكي يذهب بها إلى المسحوب عليه و يطالبه بالوفاء</a:t>
            </a:r>
            <a:r>
              <a:rPr b="1" lang="ar-SA" sz="2200" spc="-1" strike="noStrike">
                <a:solidFill>
                  <a:srgbClr val="406f8d"/>
                </a:solidFill>
                <a:latin typeface="Traditional Arabic"/>
                <a:ea typeface="Traditional Arabic"/>
              </a:rPr>
              <a:t> </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cs typeface="Traditional Arabic"/>
              </a:rPr>
              <a:t>بقيمتها</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قد لا يحتفظ المستفيد بالكمبيالة حتى تاريخ استحقاقها بسبب حاجته إلى قيمتها قبل تاريخ الاستحقاق , فيظهرها إلى شخص آخر –يحصل منه على قيمتها- يطالب بها في ميعاد الاستحقاق</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6f8d"/>
                </a:solidFill>
                <a:latin typeface="Traditional Arabic"/>
                <a:ea typeface="Traditional Arabic"/>
              </a:rPr>
              <a:t>-</a:t>
            </a:r>
            <a:r>
              <a:rPr b="1" lang="ar-SA" sz="2200" spc="-1" strike="noStrike">
                <a:solidFill>
                  <a:srgbClr val="406f8d"/>
                </a:solidFill>
                <a:latin typeface="Traditional Arabic"/>
                <a:cs typeface="Traditional Arabic"/>
              </a:rPr>
              <a:t>أما المسحوب عليه و المستفيد فلا توجد بينهما علاقة سابقة و من ثم لا يلتزم المسحوب عليه تجاه المستفيد إلا من تاريخ توقيعه على الكمبيالة بالقبول, فمنذ هذا الوقت تنشأ علاقة المسحوب عليه بالمستفيد و يصبح  مديناً له و ملتزماً بالوفاء بالكمبيالة</a:t>
            </a:r>
            <a:r>
              <a:rPr b="1" lang="ar-SA" sz="2200" spc="-1" strike="noStrike">
                <a:solidFill>
                  <a:srgbClr val="406f8d"/>
                </a:solidFill>
                <a:latin typeface="Traditional Arabic"/>
                <a:ea typeface="Traditional Arabic"/>
              </a:rPr>
              <a:t> </a:t>
            </a:r>
            <a:r>
              <a:rPr b="1" lang="ar-SA" sz="2200" spc="-1" strike="noStrike">
                <a:solidFill>
                  <a:srgbClr val="406f8d"/>
                </a:solidFill>
                <a:latin typeface="Traditional Arabic"/>
                <a:ea typeface="Traditional Arabic"/>
              </a:rPr>
              <a:t>.</a:t>
            </a:r>
            <a:endParaRPr b="0" lang="en-US" sz="2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457200" y="914400"/>
            <a:ext cx="8153280" cy="509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2b4a5e"/>
                </a:solidFill>
                <a:uFillTx/>
                <a:latin typeface="Traditional Arabic"/>
                <a:cs typeface="Traditional Arabic"/>
              </a:rPr>
              <a:t>إنشاء الكمبيالة</a:t>
            </a:r>
            <a:r>
              <a:rPr b="1" lang="ar-SA" sz="4000" spc="-1" strike="noStrike" u="sng">
                <a:solidFill>
                  <a:srgbClr val="2b4a5e"/>
                </a:solidFill>
                <a:uFillTx/>
                <a:latin typeface="Traditional Arabic"/>
                <a:ea typeface="Traditional Arabic"/>
              </a:rPr>
              <a:t> </a:t>
            </a:r>
            <a:r>
              <a:rPr b="1" lang="ar-SA" sz="4000" spc="-1" strike="noStrike" u="sng">
                <a:solidFill>
                  <a:srgbClr val="2b4a5e"/>
                </a:solidFill>
                <a:uFillTx/>
                <a:latin typeface="Traditional Arabic"/>
                <a:ea typeface="Traditional Arabic"/>
              </a:rPr>
              <a:t>:</a:t>
            </a:r>
            <a:endParaRPr b="0" lang="en-US" sz="4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6f8d"/>
                </a:solidFill>
                <a:latin typeface="Traditional Arabic"/>
                <a:cs typeface="Traditional Arabic"/>
              </a:rPr>
              <a:t>إنشاء الكمبيالة يعتبر تصرفاً قانونياً ينشأ بموجبه التزاماً صرفياً في ذمة الساحب</a:t>
            </a:r>
            <a:r>
              <a:rPr b="1" lang="ar-SA" sz="3200" spc="-1" strike="noStrike">
                <a:solidFill>
                  <a:srgbClr val="406f8d"/>
                </a:solidFill>
                <a:latin typeface="Traditional Arabic"/>
                <a:ea typeface="Traditional Arabic"/>
              </a:rPr>
              <a:t> </a:t>
            </a:r>
            <a:r>
              <a:rPr b="1" lang="ar-SA" sz="3200" spc="-1" strike="noStrike">
                <a:solidFill>
                  <a:srgbClr val="406f8d"/>
                </a:solidFill>
                <a:latin typeface="Traditional Arabic"/>
                <a:ea typeface="Traditional Arabic"/>
              </a:rPr>
              <a:t>.</a:t>
            </a: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6f8d"/>
                </a:solidFill>
                <a:latin typeface="Traditional Arabic"/>
                <a:ea typeface="Traditional Arabic"/>
              </a:rPr>
              <a:t>*</a:t>
            </a:r>
            <a:r>
              <a:rPr b="1" lang="ar-SA" sz="3200" spc="-1" strike="noStrike">
                <a:solidFill>
                  <a:srgbClr val="406f8d"/>
                </a:solidFill>
                <a:latin typeface="Traditional Arabic"/>
                <a:cs typeface="Traditional Arabic"/>
              </a:rPr>
              <a:t>يجب توافر الأركان الموضوعية العامة ( الرضا , المحل , السبب )</a:t>
            </a:r>
            <a:r>
              <a:rPr b="1" lang="ar-SA" sz="3200" spc="-1" strike="noStrike">
                <a:solidFill>
                  <a:srgbClr val="406f8d"/>
                </a:solidFill>
                <a:latin typeface="Traditional Arabic"/>
                <a:ea typeface="Traditional Arabic"/>
              </a:rPr>
              <a:t> .</a:t>
            </a: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6f8d"/>
                </a:solidFill>
                <a:latin typeface="Traditional Arabic"/>
                <a:ea typeface="Traditional Arabic"/>
              </a:rPr>
              <a:t>*</a:t>
            </a:r>
            <a:r>
              <a:rPr b="1" lang="ar-SA" sz="3200" spc="-1" strike="noStrike">
                <a:solidFill>
                  <a:srgbClr val="406f8d"/>
                </a:solidFill>
                <a:latin typeface="Traditional Arabic"/>
                <a:cs typeface="Traditional Arabic"/>
              </a:rPr>
              <a:t>يجب توافر الشكلية المحددة للالتزام المصرفي</a:t>
            </a:r>
            <a:r>
              <a:rPr b="1" lang="ar-SA" sz="3200" spc="-1" strike="noStrike">
                <a:solidFill>
                  <a:srgbClr val="406f8d"/>
                </a:solidFill>
                <a:latin typeface="Traditional Arabic"/>
                <a:ea typeface="Traditional Arabic"/>
              </a:rPr>
              <a:t> </a:t>
            </a:r>
            <a:r>
              <a:rPr b="1" lang="ar-SA" sz="3200" spc="-1" strike="noStrike">
                <a:solidFill>
                  <a:srgbClr val="406f8d"/>
                </a:solidFill>
                <a:latin typeface="Traditional Arabic"/>
                <a:ea typeface="Traditional Arabic"/>
              </a:rPr>
              <a:t>.</a:t>
            </a:r>
            <a:endParaRPr b="0" lang="en-US" sz="3200" spc="-1" strike="noStrike">
              <a:solidFill>
                <a:srgbClr val="000000"/>
              </a:solidFill>
              <a:latin typeface="Georgi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304920" y="457200"/>
            <a:ext cx="8534160" cy="9240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 </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2b4a5e"/>
                </a:solidFill>
                <a:uFillTx/>
                <a:latin typeface="Traditional Arabic"/>
                <a:cs typeface="Traditional Arabic"/>
              </a:rPr>
              <a:t>الأركان الموضوعية لإنشاء الكمبيالة</a:t>
            </a:r>
            <a:r>
              <a:rPr b="1" lang="ar-SA" sz="4000" spc="-1" strike="noStrike" u="sng">
                <a:solidFill>
                  <a:srgbClr val="2b4a5e"/>
                </a:solidFill>
                <a:uFillTx/>
                <a:latin typeface="Traditional Arabic"/>
                <a:ea typeface="Traditional Arabic"/>
              </a:rPr>
              <a:t> </a:t>
            </a:r>
            <a:r>
              <a:rPr b="1" lang="ar-SA" sz="4000" spc="-1" strike="noStrike" u="sng">
                <a:solidFill>
                  <a:srgbClr val="2b4a5e"/>
                </a:solidFill>
                <a:uFillTx/>
                <a:latin typeface="Traditional Arabic"/>
                <a:ea typeface="Traditional Arabic"/>
              </a:rPr>
              <a:t>:</a:t>
            </a:r>
            <a:endParaRPr b="0" lang="en-US" sz="4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b4a5e"/>
                </a:solidFill>
                <a:uFillTx/>
                <a:latin typeface="Traditional Arabic"/>
                <a:cs typeface="Traditional Arabic"/>
              </a:rPr>
              <a:t>أولاً / الرضا</a:t>
            </a:r>
            <a:r>
              <a:rPr b="1" lang="ar-SA" sz="2000" spc="-1" strike="noStrike" u="sng">
                <a:solidFill>
                  <a:srgbClr val="2b4a5e"/>
                </a:solidFill>
                <a:uFillTx/>
                <a:latin typeface="Traditional Arabic"/>
                <a:ea typeface="Traditional Arabic"/>
              </a:rPr>
              <a:t> </a:t>
            </a:r>
            <a:r>
              <a:rPr b="1" lang="ar-SA" sz="2000" spc="-1" strike="noStrike" u="sng">
                <a:solidFill>
                  <a:srgbClr val="2b4a5e"/>
                </a:solidFill>
                <a:uFillTx/>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أي أن يكون توقيع الساحب عبارة عن إرادة حقيقية تعبر عن رغبته في الالتزام بدفع قيمته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إذا انعدم رضا ساحب الكمبيالة كان الالتزام الصرفي باطلاً و يقوم دليلاً على انعدام الرضا أن يثبت تزوير توقيعه عليه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جب أن يكون الرضا صحيحاً خالياً من العيوب و هي الغلط و الإكراه و الاستغلال و التدليس , فإذا شاب الرضا أيّ من هذه العيوب كان الالتزام الصرفي قابلاً للإبطال بناء على طلب الساحب و هذا البطلان لا يجوز التمسك به إلا في مواجهة الحامل الذي تربطه علاقة مباشرة مع من يتمسك به مثل الساحب و المستفيد أو المظهر و المظهر إليه , أما إذا ظهرت الكمبيالة إلى حامل حسن النية فلا يجوز للساحب أن يتمسك في مواجهته بهذا البطلان لإن التظهير يطهره</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عتبر التوقيع الصحيح على الكمبيالة قرينة على صحة الرضا ولكنها قرينة بسيطة و من ثم يجوز للساحب إثبات عكسه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ea typeface="Traditional Arabic"/>
              </a:rPr>
              <a:t> </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b4a5e"/>
                </a:solidFill>
                <a:uFillTx/>
                <a:latin typeface="Traditional Arabic"/>
                <a:cs typeface="Traditional Arabic"/>
              </a:rPr>
              <a:t>ثانياً / المحل</a:t>
            </a:r>
            <a:r>
              <a:rPr b="1" lang="ar-SA" sz="2000" spc="-1" strike="noStrike" u="sng">
                <a:solidFill>
                  <a:srgbClr val="2b4a5e"/>
                </a:solidFill>
                <a:uFillTx/>
                <a:latin typeface="Traditional Arabic"/>
                <a:ea typeface="Traditional Arabic"/>
              </a:rPr>
              <a:t> </a:t>
            </a:r>
            <a:r>
              <a:rPr b="1" lang="ar-SA" sz="2000" spc="-1" strike="noStrike" u="sng">
                <a:solidFill>
                  <a:srgbClr val="2b4a5e"/>
                </a:solidFill>
                <a:uFillTx/>
                <a:latin typeface="Traditional Arabic"/>
                <a:ea typeface="Traditional Arabic"/>
              </a:rPr>
              <a:t>: </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تمثل محل الكمبيالة في إلتزام الساحب بدفع مبلغ نقدي سواء كان نقداً وطنياً أو أجنبياً مسموح التعامل به داخل المملكة ولذلك فهو التزام مشروع دائماً</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يشترط أن يكون محدداً تحديداً دقيقاً في الكمبيالة تطبيقاً لمبدأ الكفاية الذاتية</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6f8d"/>
                </a:solidFill>
                <a:latin typeface="Traditional Arabic"/>
                <a:cs typeface="Traditional Arabic"/>
              </a:rPr>
              <a:t>إذا كان محل الالتزام أي شيء غير النقود أو كان المبلغ غير محدد أو أن تحديده يحتاج الرجوع إلى مستند آخر غير الكمبيالة , فإنها تفقد صفتها كورقة تجارية و أصبحت مستند مديونية تنطبق عليه القواعد العامة</a:t>
            </a:r>
            <a:r>
              <a:rPr b="1" lang="ar-SA" sz="2000" spc="-1" strike="noStrike">
                <a:solidFill>
                  <a:srgbClr val="406f8d"/>
                </a:solidFill>
                <a:latin typeface="Traditional Arabic"/>
                <a:ea typeface="Traditional Arabic"/>
              </a:rPr>
              <a:t> </a:t>
            </a:r>
            <a:r>
              <a:rPr b="1" lang="ar-SA" sz="2000" spc="-1" strike="noStrike">
                <a:solidFill>
                  <a:srgbClr val="406f8d"/>
                </a:solidFill>
                <a:latin typeface="Traditional Arabic"/>
                <a:ea typeface="Traditional Arabic"/>
              </a:rPr>
              <a:t>.</a:t>
            </a:r>
            <a:endParaRPr b="0" lang="en-US" sz="2000" spc="-1" strike="noStrike">
              <a:solidFill>
                <a:srgbClr val="000000"/>
              </a:solidFill>
              <a:latin typeface="Georgi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380880" y="1066680"/>
            <a:ext cx="8458200" cy="88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ثالثاً / السبب</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سبب الالتزام الصرفي الثابت في الكمبيالة هو العلاقة الأصلية التي توجد بين الساحب و المستفيد , و يستوي أن يكون هذا الالتزام الأصلي ذو طبيعة تجارية أو مدنية . ولم يشترط نظام الأوراق التجارية ذكر سبب الالتزام كأحد البيانات الالزامية في الكمبيالة</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ولكي ينشأ الالتزام الصرفي صحيحاً يجب أن يكون له سبب فإذا انعدم السبب كأن يقضى ببطلان عقد البيع الذي تحررت الكمبيالة للوفاء بالثمن فيه فيكون الالتزام الصرفي باطلاً لانتفاء السبب , ولا يكفي وجود السبب ولكن يجب أن يكون مشروعاً فإذا كان غير مشروع فإن الالتزام الصرفي يعد باطلاً</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استقر الرأي في الفقه و القضاء على أن مجرد إصدار الكمبيالة يعتبر دليلاً على وجود و مشروعية سببها و من ثم لا يلتزم المستفيد بإثبات وجود السبب و مشروعيته ولكن هذا لا يمنع الساحب من إثبات انتفاء أو عدم مشروعية سبب الكمبيالة و بالتالي بطلان الالتزام الصرفي و يجوز له إثبات ذلك بكافة طرق الإثبات وهذا لا يمنع المستفيد من نقض دليل الساحب بكافة طرق الإثبات أيضاً لكي يظل الالتزام الصرفي صحيحاً . أما إذا ذكر السبب في الورقة التجارية (كأحد البيانات الاختيارية) فإنه يعتبر السبب الحقيقي مالم يثبت عكس ذلك</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457200" y="914400"/>
            <a:ext cx="8381880" cy="7409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رابعا / أهلية الالتزام الصرفي</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نصت المادة السابعة على أن "تتحدد أهلية الملتزم بالكمبيالة وفقاً لنظام موطنه و مع ذلك لا يعتبر السعودي أهلاً للالتزام بالكمبيالة إلا إذا بلغ من العمر ثماني عشرة سنة</a:t>
            </a: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و إذا كان الشخص ناقص الأهلية وفقاً لنظامه الوطني فإن التزامه يظل مع ذلك صحيحاً إذا وقع</a:t>
            </a: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توقيعه في إقليم دولة يعتبره نظامها كامل الأهلية</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ea typeface="Traditional Arabic"/>
              </a:rPr>
              <a:t>*</a:t>
            </a:r>
            <a:r>
              <a:rPr b="1" lang="ar-SA" sz="2400" spc="-1" strike="noStrike" u="sng">
                <a:solidFill>
                  <a:srgbClr val="2b4a5e"/>
                </a:solidFill>
                <a:uFillTx/>
                <a:latin typeface="Traditional Arabic"/>
                <a:cs typeface="Traditional Arabic"/>
              </a:rPr>
              <a:t>توقيع ناقص أو عديم الأهلية على الكمبيالة</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cs typeface="Traditional Arabic"/>
              </a:rPr>
              <a:t>تنص المادة الثامنة من نظام الأوراق التجارية على أن "التزامات القصر الذين ليسوا تجاراً و التزامات عديمي الأهلية الناشئة من توقيعاتهم على الكمبيالة , تكون باطلة بالنسبة إليهم فقط , و يجوز لهم التمسك بهذا البطلان في مواجهة كل حامل للكمبيالة ولو كان حسن النية</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6f8d"/>
                </a:solidFill>
                <a:latin typeface="Traditional Arabic"/>
                <a:ea typeface="Traditional Arabic"/>
              </a:rPr>
              <a:t> </a:t>
            </a:r>
            <a:endParaRPr b="0" lang="en-US" sz="2400" spc="-1" strike="noStrike">
              <a:solidFill>
                <a:srgbClr val="000000"/>
              </a:solidFill>
              <a:latin typeface="Georgi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228600" y="971640"/>
            <a:ext cx="8763120" cy="88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يتضمن هذا النص الأحكام الآتية</a:t>
            </a:r>
            <a:r>
              <a:rPr b="1" lang="ar-SA" sz="2400" spc="-1" strike="noStrike" u="sng">
                <a:solidFill>
                  <a:srgbClr val="2b4a5e"/>
                </a:solidFill>
                <a:uFillTx/>
                <a:latin typeface="Traditional Arabic"/>
                <a:ea typeface="Traditional Arabic"/>
              </a:rPr>
              <a:t> </a:t>
            </a:r>
            <a:r>
              <a:rPr b="1" lang="ar-SA" sz="2400" spc="-1" strike="noStrike" u="sng">
                <a:solidFill>
                  <a:srgbClr val="2b4a5e"/>
                </a:solidFill>
                <a:uFillTx/>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أولاً / </a:t>
            </a:r>
            <a:r>
              <a:rPr b="1" lang="ar-SA" sz="2400" spc="-1" strike="noStrike">
                <a:solidFill>
                  <a:srgbClr val="406f8d"/>
                </a:solidFill>
                <a:latin typeface="Traditional Arabic"/>
                <a:cs typeface="Traditional Arabic"/>
              </a:rPr>
              <a:t>صحة الالتزام الناشئ عن توقيع القاصر المأذون له بممارسة التجارة , حيث قصر المنظم البطلان على التزامات القصار الذين ليسوا تجاراً . و لكن يشترط أن يكون إصدار الكمبيالة متعلقاً بالنشاط التجاري المأذون له بممارسته , و يعتبر هذا الارتباط مفترضاً مالم يثبت القاصر أن إصدار الكمبيالة كان لشؤؤنه الخاصة التي لا تتعلق بتجارته</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ثانياً / </a:t>
            </a:r>
            <a:r>
              <a:rPr b="1" lang="ar-SA" sz="2400" spc="-1" strike="noStrike">
                <a:solidFill>
                  <a:srgbClr val="406f8d"/>
                </a:solidFill>
                <a:latin typeface="Traditional Arabic"/>
                <a:cs typeface="Traditional Arabic"/>
              </a:rPr>
              <a:t>قصر أثر البطلان على ناقص أو عديم الأهلية فقط فلا يجوز لغيرهم من الموقعين على الكمبيالة أن يتمسك بهذا البطلان لكي يتحلل من التزامه الصرفي الناشئ عن توقيعه الصحيح و ذلك تطبيقاً لمبدأ استقلال التوقيعات الواردة على الكمبيالة , و في هذا النص خروج عن بعض ما تقرره القواعد العامة بشأن البطلان الناتج عن انعدام الأهلية حيث يعتبر بطلاناً مطلقاً و يجوز لكل ذي مصلحة أن يتمسك به</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b4a5e"/>
                </a:solidFill>
                <a:uFillTx/>
                <a:latin typeface="Traditional Arabic"/>
                <a:cs typeface="Traditional Arabic"/>
              </a:rPr>
              <a:t>ثالثاً / </a:t>
            </a:r>
            <a:r>
              <a:rPr b="1" lang="ar-SA" sz="2400" spc="-1" strike="noStrike">
                <a:solidFill>
                  <a:srgbClr val="406f8d"/>
                </a:solidFill>
                <a:latin typeface="Traditional Arabic"/>
                <a:cs typeface="Traditional Arabic"/>
              </a:rPr>
              <a:t>أن البطلان الناتج عن نقص أو انعدام الأهلية يجوز التمسك به في مواجهة كل حامل للكمبيالة ولو كان حسن النية . أي أنه عيب لا يطهره تظهير الكمبيالة إلى شخص حسن النية , و الحكمة من ذلك هي حماية ناقص أو عديم الأهلية على أساس أن مصلحتهم تعتبر أولى بالرعاية من مصلحة الحامل ولو كان حسن النية</a:t>
            </a:r>
            <a:r>
              <a:rPr b="1" lang="ar-SA" sz="2400" spc="-1" strike="noStrike">
                <a:solidFill>
                  <a:srgbClr val="406f8d"/>
                </a:solidFill>
                <a:latin typeface="Traditional Arabic"/>
                <a:ea typeface="Traditional Arabic"/>
              </a:rPr>
              <a:t> </a:t>
            </a:r>
            <a:r>
              <a:rPr b="1" lang="ar-SA" sz="2400" spc="-1" strike="noStrike">
                <a:solidFill>
                  <a:srgbClr val="406f8d"/>
                </a:solidFill>
                <a:latin typeface="Traditional Arabic"/>
                <a:ea typeface="Traditional Arabic"/>
              </a:rPr>
              <a:t>.</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6f8d"/>
                </a:solidFill>
                <a:latin typeface="Traditional Arabic"/>
                <a:ea typeface="Traditional Arabic"/>
              </a:rPr>
              <a:t>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5:30:48Z</dcterms:created>
  <dc:creator>hessa.twaijri@gmail.com</dc:creator>
  <dc:description/>
  <dc:language>en-US</dc:language>
  <cp:lastModifiedBy>eman</cp:lastModifiedBy>
  <dcterms:modified xsi:type="dcterms:W3CDTF">2016-10-03T17:02:26Z</dcterms:modified>
  <cp:revision>2</cp:revision>
  <dc:subject/>
  <dc:title>PowerPoint Presentation</dc:title>
</cp:coreProperties>
</file>