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7E8-A0A4-40CA-A447-943E66F9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D09-5E6A-4B5B-BB04-B186B403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28E-162A-446F-A737-AD163B8C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C5D-994F-4B29-96AE-CA1928A5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11FC-EF37-45D9-9FE3-BB6C6537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2714-9875-4AF8-A8C6-749BB9AE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F01B-244F-4C41-B751-39FF827C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BC0B-A48C-419B-9961-34E6F66C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EA4A-F526-4617-8685-0738E963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79BD-5524-47D6-8826-011A962F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9300-7F95-4A2C-9EA7-BB3730F0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33C-89E7-4A4C-84B7-3B6F8618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865B-F363-4584-B5D8-266C902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7EF1-8E23-430E-82DD-67D0470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0000-2452-4989-98D6-07B162FF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FFD1-20CD-4881-8BB9-4D5E2E1F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01D4-62C8-4221-843F-560104D6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6E457-E701-48DB-894A-8B36E474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F85D-0026-4946-A72C-703EED71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98A1-4C00-48D7-A57C-9EBD893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DF86-CBF3-40FC-A630-1241E2EE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73B2-8FF4-4465-921A-0D1EA320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CD3-4A5F-4672-AA6D-1B647931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6F8C9-B129-4F8D-AFF6-D8345F3E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6827-D84E-4B8C-B144-1E26768A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D013-9C86-4F0F-A8ED-7BBC84BF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7426-4F00-4EDC-971F-77E25D7D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DC464-ADAD-4C02-AB32-2841DD8E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0FB1-AAFA-4A2B-A305-1D09D6EF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28F7-8FC6-49B8-A12E-FA7CE2C5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AFC8-AA18-4F88-96EB-B64FADEC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601B-E8C0-4A38-87F4-62655D17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3433-95A7-451F-8E4B-5AF1A102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9D6-8A53-4129-A5CF-7BA72C92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6F415-1117-4807-9AFB-E0285A4C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B0288-E4C9-40FA-BD24-92CBBB40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6CED-2C6D-4933-AD4D-27D73F4D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AFF55-8FFA-4877-AB57-6672E838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C819C-C661-4C69-9901-31126070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B56C-38D0-4EA7-B73F-08A6C605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1425-E757-4615-9C03-888BF4C8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FC23F-10AF-4508-A5B5-B29A9544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19E1E-959B-484A-AA73-B2D91BBB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68B73-84A7-4974-A116-BE59DC93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D38-8CA2-4B7F-9919-2F126F2B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1FC14-DA6A-40B8-BA78-83B816CC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B1539-0287-44FE-8D93-41A49724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C35E-6DF1-427D-BD31-E76D7CA2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FE2A2-1FFA-4AA8-98D4-95BFA3A2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76EFD-1EB5-435A-858E-9F32EC22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D5DE8-28B6-479F-A4ED-A18445D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C3EC1-D098-4E7C-AE82-CD00F201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8561A-3A68-4C05-9EBE-E2AB3A6D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3D19A-594C-4D6A-B35B-5927DD74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FADE5-5D9A-470C-9003-41956FCE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D39-04BD-4E98-A2D3-4738CA1D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126A6-E146-4F79-8DE3-3F2889B7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C7731-D247-4723-915A-60ABEA47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A59E7-EC45-40AD-882F-D09B4AD1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375A2-10DC-44E9-A58F-193ECD22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856C5-4272-42F8-ABCE-0A2D8E1C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39098-08D4-43B3-ACAB-7A6E1D44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4A423-0231-47D8-B384-D4BEA887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02E16-1AB2-402F-BED8-E06EDAA7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7A9BF-73F4-4447-9434-FEA784D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F0624-CC5C-4596-BD38-5B6C18C3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B29-ECFD-4EC3-8D5B-8DD301C8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51E20-D985-4AB7-A6BC-27A3628B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C0C0A-C49F-40FB-849B-F845B2C9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368E4-C8CC-4555-A25C-53334B62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86FA2-94A7-4BA0-8980-F25F88F8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AC4B9-F4CA-4550-BA81-86F38332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F629D-915E-46AE-B350-AE3CADD7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6713D-F96C-4C22-AEA5-5D3D24CD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261C6-2261-487E-AEA9-C5C67AFF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7C28-D749-4DBC-BCF1-0BC73350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31917-178F-4E81-8024-8E1D460C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506-9AB7-44CF-ACC5-C8915F3A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275AB-D9DB-4DCE-A77D-F5150851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FE996-9C06-49A6-B485-AB39ED94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35BB4-1A90-4074-AB8A-115B7ADF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B7C5C-F808-4EE3-93F6-39EB4FD7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77382-414D-4994-8287-6DD1D921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815-0DE5-4D35-9674-4B68142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5E26-14B0-4C3C-BCB1-F2FB3C9985CD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C4EF-6530-4CBF-B7F1-64FF4D97E5DA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5AAB-E8D2-4E29-AFB1-88CC60F2D0C3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8E77-77C9-4C4D-A5B8-3D597C2F149F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2E86-FF97-4D5E-8059-E170E87BEF8D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2E81-8754-4EFB-B27D-5D8680AB64C1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C67D-AB50-41FC-9A8B-C1D54B15CB0E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72314"/>
                </a:solidFill>
                <a:latin typeface="Gill Sans MT"/>
              </a:rPr>
              <a:t>                                         </a:t>
            </a:r>
            <a:r>
              <a:rPr b="1" lang="ar-SA" sz="3200" spc="-1" strike="noStrike" u="sng">
                <a:solidFill>
                  <a:srgbClr val="572314"/>
                </a:solidFill>
                <a:uFillTx/>
                <a:latin typeface="Gill Sans MT"/>
              </a:rPr>
              <a:t>المبيع والثمن</a:t>
            </a:r>
            <a:br>
              <a:rPr sz="3200"/>
            </a:br>
            <a:br>
              <a:rPr sz="20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المبيع :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هو الشيء المعين الذي يقع عليه البيع ، وتعينه 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إما </a:t>
            </a: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بالرؤية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أو بالوصف 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، كبيع سلعة أو بضاعة مشاهده ، أو موصوفة بأوصاف معينة.</a:t>
            </a: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الثمن :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هو مايتفق عليه المتبايعان ، سواء كان أكثر من تلقينه أو اقل أو مساوياً لها وهو لايتحقق إلا في عقد ، وهو المال أو المقابل النقدي المتفق عليه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ويختلف الثمن عن القيمه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؛ </a:t>
            </a: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فالثمن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هو الشيء المسمى المتفق عليه في العقد صراحة، </a:t>
            </a: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أما القيمة :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فهي مايساويه الشيء بين الناس ، أي في الأسواق وعزف التجار أول أهل الخبرة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أما الدين : </a:t>
            </a: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فهو كل ماثبت في الذمة من الأموال القابلة للثبوت فيها بأي سبب من أسباب الالتزام ؛ كالإتلاف والغصب والكفالة والقرض ونحوها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أما العين : </a:t>
            </a:r>
            <a:r>
              <a:rPr b="1" lang="ar-SA" sz="2400" spc="-1" strike="noStrike">
                <a:solidFill>
                  <a:srgbClr val="002060"/>
                </a:solidFill>
                <a:latin typeface="Gill Sans MT"/>
              </a:rPr>
              <a:t>فهو الشيء المعين بذاته ، المفرز عن أمثاله.</a:t>
            </a:r>
            <a:r>
              <a:rPr b="1" lang="ar-SA" sz="2000" spc="-1" strike="noStrike">
                <a:solidFill>
                  <a:srgbClr val="002060"/>
                </a:solidFill>
                <a:latin typeface="Gill Sans MT"/>
              </a:rPr>
              <a:t>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ff0000"/>
                </a:solidFill>
                <a:latin typeface="Gill Sans MT"/>
              </a:rPr>
              <a:t>البيع بشرط التجربة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مربع نص 2"/>
          <p:cNvSpPr/>
          <p:nvPr/>
        </p:nvSpPr>
        <p:spPr>
          <a:xfrm>
            <a:off x="1116000" y="765000"/>
            <a:ext cx="7818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هو البيع الذي يتم الاتفاق فيه على أن يكون للمشتري حق تجربة المبيع 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-- </a:t>
            </a:r>
            <a:r>
              <a:rPr b="1" lang="ar-SA" sz="2800" spc="-1" strike="noStrike">
                <a:solidFill>
                  <a:srgbClr val="c00000"/>
                </a:solidFill>
                <a:latin typeface="Gill Sans MT"/>
              </a:rPr>
              <a:t>للتعرف على صلاحيته للغرض الذي يقصد شراءه لأجله وتحقيقه للغاية المقصودة منه 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Gill Sans MT"/>
              </a:rPr>
              <a:t>-- </a:t>
            </a:r>
            <a:r>
              <a:rPr b="1" lang="ar-SA" sz="2800" spc="-1" strike="noStrike">
                <a:solidFill>
                  <a:srgbClr val="7030a0"/>
                </a:solidFill>
                <a:latin typeface="Gill Sans MT"/>
              </a:rPr>
              <a:t>أو ليتأكد أن المبيع هو الشيء الذي يطلبه ،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Gill Sans MT"/>
              </a:rPr>
              <a:t>-- او التأكد من ملاءمة المبيع لحاجات المشتري وظروفه ورغباته الذات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مثل : شراء سيارة بشرط ركوبها ، للتأكد من صلاحية المبيع 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ar-SA" sz="2200" spc="-1" strike="noStrike">
                <a:solidFill>
                  <a:srgbClr val="572314"/>
                </a:solidFill>
                <a:latin typeface="Gill Sans MT"/>
              </a:rPr>
              <a:t>وقد نصت المادة (</a:t>
            </a:r>
            <a:r>
              <a:rPr b="1" lang="ar-SA" sz="2200" spc="-1" strike="noStrike">
                <a:solidFill>
                  <a:srgbClr val="572314"/>
                </a:solidFill>
                <a:latin typeface="Gill Sans MT"/>
              </a:rPr>
              <a:t>494</a:t>
            </a:r>
            <a:r>
              <a:rPr b="1" lang="ar-SA" sz="2200" spc="-1" strike="noStrike">
                <a:solidFill>
                  <a:srgbClr val="572314"/>
                </a:solidFill>
                <a:latin typeface="Gill Sans MT"/>
              </a:rPr>
              <a:t>) من القانون الإماراتي والأردني على </a:t>
            </a:r>
            <a:r>
              <a:rPr b="1" lang="ar-SA" sz="2200" spc="-1" strike="noStrike" u="sng">
                <a:solidFill>
                  <a:srgbClr val="c00000"/>
                </a:solidFill>
                <a:uFillTx/>
                <a:latin typeface="Gill Sans MT"/>
              </a:rPr>
              <a:t>جواز هذا البيع ، بشرط الاتفاق على تحديد مدة معلومة لإجراء التجربة .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0070c0"/>
                </a:solidFill>
                <a:latin typeface="Gill Sans MT"/>
              </a:rPr>
              <a:t> -- </a:t>
            </a:r>
            <a:r>
              <a:rPr b="1" lang="ar-SA" sz="2200" spc="-1" strike="noStrike" u="sng">
                <a:solidFill>
                  <a:srgbClr val="0070c0"/>
                </a:solidFill>
                <a:uFillTx/>
                <a:latin typeface="Gill Sans MT"/>
              </a:rPr>
              <a:t>وإن سكت المتبايعان عن تحديدها في العقد ،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Gill Sans MT"/>
              </a:rPr>
              <a:t>-- حملت على المدة المعتادة .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Gill Sans MT"/>
              </a:rPr>
              <a:t>-- ويخير المشتري بين اجازة البيع او رفضه ولو لم يجرب المبيع 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Gill Sans MT"/>
              </a:rPr>
              <a:t>-- ويجب اعلام البائع بالرفض .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Gill Sans MT"/>
              </a:rPr>
              <a:t>-- فإن انتهت مدة التجربة وسكت المشتري ، أصبح البيع لازماً .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572314"/>
                </a:solidFill>
                <a:latin typeface="Gill Sans MT"/>
              </a:rPr>
              <a:t>والقانون المصري والسوري اعتبروه معلق على شرط واقف ، بان انعقاد العقد موقوف على قبول المشتري خلال مدة معينة ، ان قبل يعتبر البيع منعقدا باثر رجعي من وقت التعاقد ؛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ar-SA" sz="2200" spc="-1" strike="noStrike">
                <a:solidFill>
                  <a:srgbClr val="ff0000"/>
                </a:solidFill>
                <a:latin typeface="Gill Sans MT"/>
              </a:rPr>
              <a:t>والشرط الواقف هو الذي يتوقف عليه وجود الالتزام ، مثل ان جاء والدي ممن السفر ابيعك السيارة هذه . 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497720" cy="555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أما في الفقه الإسلامي فالأولى أن يعتبر معلقاً على شرط فاسخ ، أي أن العقد منعقد نافذ غير موقوف ولكن يجوز فسخه ، فهو بيع بشرط الخيار ، والبيع بشرط الخيار في الفقه معلق على شرط فاسخ .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 والشرط الواقف هو : ما يربط به زوال العقد كشراء بضاعة بشرط جعل عدم الرهن للمبيع لوقت اداء الثمن سببا للفسخ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فالبيع منعقد وينتج اثاره فورا ، لكنه غير لازم ، فيحق لصاحب الخيار ان يفسخه فيما بعد بارادته المنفردة ، فان اقرت انتقلت الملكية من تاريخ البيع .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977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   الطالبات : </a:t>
            </a:r>
            <a:br>
              <a:rPr sz="4300"/>
            </a:br>
            <a:r>
              <a:rPr b="0" lang="ar-SA" sz="4000" spc="-1" strike="noStrike">
                <a:solidFill>
                  <a:srgbClr val="572314"/>
                </a:solidFill>
                <a:latin typeface="Gill Sans MT"/>
              </a:rPr>
              <a:t>ساره الناصر – عهود الوثلان – نوره الغصن 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SA" sz="2800" spc="-1" strike="noStrike" u="sng">
                <a:solidFill>
                  <a:srgbClr val="002060"/>
                </a:solidFill>
                <a:uFillTx/>
                <a:latin typeface="Gill Sans MT"/>
              </a:rPr>
              <a:t>الوعد بالبيع : </a:t>
            </a:r>
            <a:r>
              <a:rPr b="1" lang="ar-SA" sz="2800" spc="-1" strike="noStrike">
                <a:solidFill>
                  <a:srgbClr val="c00000"/>
                </a:solidFill>
                <a:latin typeface="Gill Sans MT"/>
              </a:rPr>
              <a:t>هو أن يتم الاتفاق بين شخصين على إبرام عقد البيع في المستقبل إذا على ان يبدي الطرف الثاني رغبته في الموعد المحدد بينهما ، </a:t>
            </a:r>
            <a:br>
              <a:rPr sz="2800"/>
            </a:br>
            <a:r>
              <a:rPr b="1" lang="ar-SA" sz="2800" spc="-1" strike="noStrike">
                <a:solidFill>
                  <a:srgbClr val="7030a0"/>
                </a:solidFill>
                <a:latin typeface="Gill Sans MT"/>
              </a:rPr>
              <a:t>ومن امثلة ذلك :</a:t>
            </a:r>
            <a:br>
              <a:rPr sz="2800"/>
            </a:b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--كأن يقول </a:t>
            </a:r>
            <a:r>
              <a:rPr b="1" i="1" lang="ar-SA" sz="2800" spc="-1" strike="noStrike">
                <a:solidFill>
                  <a:srgbClr val="00b050"/>
                </a:solidFill>
                <a:latin typeface="Gill Sans MT"/>
              </a:rPr>
              <a:t>البائع</a:t>
            </a: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 للمشتري: سأبيعك الشيء الفلاني ، أو سوف أبيعك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2060"/>
                </a:solidFill>
                <a:latin typeface="Gill Sans MT"/>
              </a:rPr>
              <a:t>وحكمه: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-- أن البيع لا ينعقد بذلك ولو قبل الطرف الآخر قبولا باتا ، </a:t>
            </a:r>
            <a:br>
              <a:rPr sz="2800"/>
            </a:b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-- ولا ينشأ حق للموعود ، فليس له أن يجبر الواعد على تنفيذه بقوة القضاء 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-- انه يلزم الوفاء بالوعد ديانة. ( التزام طبيعي )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1042920" y="189000"/>
            <a:ext cx="79218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2060"/>
                </a:solidFill>
                <a:uFillTx/>
                <a:latin typeface="Arial"/>
              </a:rPr>
              <a:t>البيع الابتدائي :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هو الاتفاق على مشروع كامل لعقد البيع دون الالتزام به فوراً فهو في الواقع عقد نهائي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وينعقد البيع الابتدائي بنفس الأركان والشروط العقد النهائي وتترتب نفس الآثار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فارق أساسي : </a:t>
            </a:r>
            <a:r>
              <a:rPr b="1" lang="ar-SA" sz="2400" spc="-1" strike="noStrike">
                <a:solidFill>
                  <a:srgbClr val="c0654c"/>
                </a:solidFill>
                <a:latin typeface="Arial"/>
              </a:rPr>
              <a:t>هو أن الالتزامات لا تترتب على العقد </a:t>
            </a:r>
            <a:r>
              <a:rPr b="1" lang="ar-SA" sz="2400" spc="-1" strike="noStrike">
                <a:solidFill>
                  <a:srgbClr val="002060"/>
                </a:solidFill>
                <a:latin typeface="Arial"/>
              </a:rPr>
              <a:t>إلا</a:t>
            </a:r>
            <a:r>
              <a:rPr b="1" lang="ar-SA" sz="2400" spc="-1" strike="noStrike">
                <a:solidFill>
                  <a:srgbClr val="c0654c"/>
                </a:solidFill>
                <a:latin typeface="Arial"/>
              </a:rPr>
              <a:t> بعد إبرام العقد النهائي </a:t>
            </a:r>
            <a:r>
              <a:rPr b="1" lang="ar-SA" sz="2400" spc="-1" strike="noStrike">
                <a:solidFill>
                  <a:srgbClr val="002060"/>
                </a:solidFill>
                <a:latin typeface="Arial"/>
              </a:rPr>
              <a:t>فيما عدا </a:t>
            </a:r>
            <a:r>
              <a:rPr b="1" lang="ar-SA" sz="2400" spc="-1" strike="noStrike">
                <a:solidFill>
                  <a:srgbClr val="c0654c"/>
                </a:solidFill>
                <a:latin typeface="Arial"/>
              </a:rPr>
              <a:t>الالتزام بإبرام العقد في الوقت المتفق عليه 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اذا وجد وعد برهن رسمي ، وكان الوعد مستوفيا للشروط الشكلية ، وتخلف الواعد عن تنفيذ وعده ، يجوز اجباره على تنفيذ الوعد قضاءا ، فيقوم الحكم القضائي بالزام الواعد مقام العقد النهائي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Arial"/>
              </a:rPr>
              <a:t>البيع بالعربون :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هو أن يتم البيع الابتدائي ويقترن بدفع احد العاقدين وهو غالباً المشتري مبلغاً من المال إلى البائع على انه جزء من الثمن ، ولكن يحق لكل من العاقدين العدول عن العقد قبل تنفيذه مع خسارة العربون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Arial"/>
              </a:rPr>
              <a:t>الحنابلة والمالكية : </a:t>
            </a:r>
            <a:r>
              <a:rPr b="1" lang="ar-SA" sz="2400" spc="-1" strike="noStrike">
                <a:solidFill>
                  <a:srgbClr val="00b050"/>
                </a:solidFill>
                <a:latin typeface="Arial"/>
              </a:rPr>
              <a:t>اجازوا العربون في البيع والاجار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Arial"/>
              </a:rPr>
              <a:t>جمهور الفقهاء : </a:t>
            </a:r>
            <a:r>
              <a:rPr b="1" lang="ar-SA" sz="2400" spc="-1" strike="noStrike">
                <a:solidFill>
                  <a:srgbClr val="00b050"/>
                </a:solidFill>
                <a:latin typeface="Arial"/>
              </a:rPr>
              <a:t>منعوا ولم يجيزوا بيع العربون</a:t>
            </a:r>
            <a:r>
              <a:rPr b="1" lang="ar-SA" sz="2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b05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184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72314"/>
                </a:solidFill>
                <a:uFillTx/>
                <a:latin typeface="Gill Sans MT"/>
              </a:rPr>
              <a:t>احكام المبيع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يشترط ان يكونالمبيع معينا معلوما معروفا للعاقدين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تعيين المبيع : هو تحديده بالاوصاف والاسس الجوهرية وتقديره بالكيل او الوزن او القياس او العدد 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تتم المعلومية للمبيع : بالاطلاع عليه ومشاهدته والتعرف عليه وبحث مدى صلاحيته لتحقيق الرغبة والقصد منه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572314"/>
                </a:solidFill>
                <a:uFillTx/>
                <a:latin typeface="Gill Sans MT"/>
              </a:rPr>
              <a:t>عند جمهور الفقهاء : 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لا يبطل البيع اذا لم  يعلم المشتري بالمبيع، اي يكون منعقدا منتجا لاثاره ناقلا للملكية غير لازم ، يحق للمشتري ابطاله وفسخه باستخدام خيار الرؤية.</a:t>
            </a:r>
            <a:br>
              <a:rPr sz="2400"/>
            </a:br>
            <a:r>
              <a:rPr b="1" lang="ar-SA" sz="2400" spc="-1" strike="noStrike" u="sng">
                <a:solidFill>
                  <a:srgbClr val="572314"/>
                </a:solidFill>
                <a:uFillTx/>
                <a:latin typeface="Gill Sans MT"/>
              </a:rPr>
              <a:t>عند الشافعية : </a:t>
            </a: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يبطل البيع اذا لم  يعلم المشتري بالمبيع 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Gill Sans MT"/>
              </a:rPr>
              <a:t>اذا ذكر في عقد البيع ان المشتري عالم بالمبيع علما كافيا ، لايحق له ان يطلب ابطال العقد لعدم العلم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لكن استثناءا ؛ يجوز له طلب ابطال العقد اذا :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اثبت ان البائع قد غرر به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Gill Sans MT"/>
              </a:rPr>
              <a:t>وسائل العلم بالمبيع :</a:t>
            </a: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اولا : وسائل عامة ومنها : </a:t>
            </a: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-- رؤية المبيع .</a:t>
            </a: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-- الاشارة اليه .</a:t>
            </a: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-- تحديد اوصافه الاساسية في العقد 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00b050"/>
                </a:solidFill>
                <a:uFillTx/>
                <a:latin typeface="Gill Sans MT"/>
              </a:rPr>
              <a:t>ثانيا : وسائل خاصة .</a:t>
            </a: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-- البيع بالتجربة .</a:t>
            </a: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Gill Sans MT"/>
              </a:rPr>
              <a:t>-- البيع بالمذاق .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البيع بالنموذج ( العينة ) :</a:t>
            </a: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مربع نص 2"/>
          <p:cNvSpPr/>
          <p:nvPr/>
        </p:nvSpPr>
        <p:spPr>
          <a:xfrm>
            <a:off x="1042920" y="692280"/>
            <a:ext cx="7921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ذا كان البيع بالانموذج تكفي فيه رؤيته، ويجب ان يكون المبيع مطابقاً ل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فإذا ظهر أن المبيع غير مطابق للأنموذج كان المشتري مخيراً بين قبوله أو ر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تعريفه : هو مايدل على صفة الشيء ، كأنه يريد صاعاً مثلاً من صُبرة ( كومة حب ) ويبيعه الصبرة على أنها من جنسه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030a0"/>
                </a:solidFill>
                <a:uFillTx/>
                <a:latin typeface="Gill Sans MT"/>
              </a:rPr>
              <a:t>فالبيع بالنموذج يحدث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عندما يكون المبيع غائباً عن مجلس العقد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 ومن الاموال المثلية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وتقوم رؤية النموذج مقام رؤية المبيع كله اذ يتعذر احضار المبيع كله الى مجلس العقد. ويتحقق بذلك شرط العلم بالمبيع وتعيينه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184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وتغني رؤية النموذج عن :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--بيان اوصاف المبيع الاساسية : مثل القمح او القطن عند رؤية بعضه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،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Gill Sans MT"/>
              </a:rPr>
              <a:t>وبيع ما في الاوعية من سلع بناءا على اوصافها المكتوبة ؛ وهو ما يسمى ((البيع على ما في البرنامج ))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.</a:t>
            </a: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-- عن رؤية المبيع كله ويتحقق بشرط العلم بالمبيع وتعيينه 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وان تم التعاقد على اساس النموذج يترتب عليه انه :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-- يصبح وثيقة مادية يحتكم اليها عند التنازع ،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--  ويحتج بها المشتري في مواجهة البائع لتحقيق مطابقة المبيع للنموذج . 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Gill Sans MT"/>
              </a:rPr>
              <a:t>جمهور الفقهاء : </a:t>
            </a:r>
            <a:r>
              <a:rPr b="1" lang="ar-SA" sz="2400" spc="-1" strike="noStrike">
                <a:solidFill>
                  <a:srgbClr val="c00000"/>
                </a:solidFill>
                <a:latin typeface="Gill Sans MT"/>
              </a:rPr>
              <a:t>اجاز هذا البيع ، لتعذر رؤية جميع المبيع ورؤية جميعه غير مشروطة ، فيكفي رؤية ما يدل على العلم بالمقصود قبل الشراء ، مما يدل على سقوط خيار الرؤية . </a:t>
            </a: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Gill Sans MT"/>
              </a:rPr>
              <a:t>الحنابلة :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لم يجزه واعتبره غير صحيح لعدم رؤية المبيع عند التعاقد ؛لانهم اشترطوا وجود المبيع وعلم للبائع والمشتري برؤية ما تحصل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بها معرفته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81848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شروط صحة هذا البيع : </a:t>
            </a: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1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- ان يكون المرئي دالاً على المبيع دلالة كاملة.</a:t>
            </a: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2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- أن يأتي المبيع مطابقاً للنموذج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الاثار المترتبة 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اذا جاء المبيع مطابقاً للنموذج :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كان البيع تاماً نافذاً لازماً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يعتبر المبيع حاضرا معلوما غير غائبا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لا يثبت للمشتري خيار الرؤية في فسخ العقد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 تبرأ ذمة البائع بتنفيذ التزامه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--يجبر المشتري على قبول المبيع وتسلمه 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 الاثار المترتبة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 جاء المبيع غير مطابق للنموذج : 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-- </a:t>
            </a:r>
            <a:r>
              <a:rPr b="1" lang="ar-SA" sz="2400" spc="-1" strike="noStrike">
                <a:solidFill>
                  <a:srgbClr val="572314"/>
                </a:solidFill>
                <a:latin typeface="Gill Sans MT"/>
              </a:rPr>
              <a:t>فيثبت للمشتري حق الخيار بين قبوله او رده. مثل الحنطة والزيت 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مربع نص 4"/>
          <p:cNvSpPr/>
          <p:nvPr/>
        </p:nvSpPr>
        <p:spPr>
          <a:xfrm>
            <a:off x="1187280" y="189000"/>
            <a:ext cx="77058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اذا فقد الانموذج او هلك في يد احد المتابعين فالقول في المطابقة أن المغايرة للطرف الآخر، مالم يثبت خصمه العكس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واذا فقد النموذج او تلف وهو في يد شخص ثالث، ففيه تفصي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Gill Sans MT"/>
              </a:rPr>
              <a:t>ان كان معيناً بالذات او مشارا اليه او مفروزا عن غيره واتفق المتبايعات على ذاتية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 المبيع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Gill Sans MT"/>
              </a:rPr>
              <a:t> بانه هو المعقود عليه ، لكنهما اختلفا في مطابقته للنموذج الذي رآه المشتري، وهلك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ill Sans MT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ar-SA" sz="2400" spc="-1" strike="noStrike" u="sng">
                <a:solidFill>
                  <a:srgbClr val="00b050"/>
                </a:solidFill>
                <a:uFillTx/>
                <a:latin typeface="Gill Sans MT"/>
              </a:rPr>
              <a:t>فيقبل قول البائع في المطابقة لانه الثابت مع الاصل والظاهر ، ويلتزم بتسليم المبيع مالم يثبت المشتري العكس فإن ثبت كان له الحق في فسخ البي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Gill Sans MT"/>
              </a:rPr>
              <a:t>اما ان كان المبيع معيناً بالنوع كقماش هولندي ، او معيناً بالذات وغير متفق عليه انه هو المعقود عليه لان المشتري لم يراه ولم يتم تحديد المبيع بالعقد كالمعين بنوعه ووصفه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فيقبل قول المشتري مالم يثبت البائع العكس ، فان اثبت المطابقه لزم البيع لادعاء البائع صحة تسليم المبيع وينكره المشتر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4T13:45:33Z</dcterms:created>
  <dc:creator>User</dc:creator>
  <dc:description/>
  <dc:language>en-US</dc:language>
  <cp:lastModifiedBy>eman</cp:lastModifiedBy>
  <dcterms:modified xsi:type="dcterms:W3CDTF">2016-10-13T01:46:17Z</dcterms:modified>
  <cp:revision>41</cp:revision>
  <dc:subject/>
  <dc:title>المبيع والثمن    المبيع : هو الشيء المعين الذي يقع عليه البيع ، وتعينه إما بالرؤية أو بالوصف ، كبيع سلعة أو بضاعة مشاهده ، أو موصوفة بأوصاف معينة. الثمن : هو مايتفق عليه المتبايعان ، سواء كان أكثر من تلقينه أو اقل أو مساوياً لها وهو لايتحقق إلا في عقد ، وهو المال أو المقابل النقدي المتفق عليه . ويختلف الثمن عن تلقينه؛ فالثمن هو الشيء المسمى المتفق عليه في العقد صراحة، أما القيمة فهي مايساويه الشيء بين الناس ، أي في الأسواق وعزف التجار أول أهل الخبرة.  أما الدين : فهو كل ماثبت في الذمة من الأموال القابلة للثبوت فيها بأي سبب من أسباب الالتزام ؛ كالإتلاف والغصب والكفالة والقرض ونحوها.  أما العين فهو الشيء المعين بذاته ، المفرز عن أمثاله.</dc:title>
</cp:coreProperties>
</file>