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F0F-52EF-44DF-A01A-4947FBDD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933-EA37-4169-AE9E-04D9643F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210E-74A4-4611-91A9-3B7BBB46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BF4-04C6-4BE6-BD82-F61E6436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FBED-3DA8-4E54-8DAE-ED7E87FD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1FDB-6161-4BC2-8534-A8D423EC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7522-5A3C-4868-A8FB-563DA57A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3406-2640-4C24-87F4-087D5A37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1555-6419-470F-84FE-596FA57D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135D-058B-4B0B-878B-A59D8975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1C32-BEC8-4927-8EDC-1A7A5CE7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8E03-E0B6-407D-8D4D-4302EC76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273D-892C-4731-B783-6A6263F1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9DAE-A15C-46F8-BBE0-2B50E03E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A284-C698-4EBA-9B30-CAB6C37D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8725-0FB8-49AE-90B7-1C57F67E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3599-3869-4D40-96A3-42523195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24209-2AAE-4E0B-9ABE-C3A8BF80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E72D5-C3FD-4489-9C4F-B83FB53F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B5098-8D9E-451E-B6D5-27975B0E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F40C5-914C-4AFF-B08B-77641C6C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34BB6-1ABC-451B-9B26-377BDD1E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6B9-C72C-4063-85F5-E2FFFF0E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A5647-97BE-4BF8-BBD0-AC46BDD7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65031-CC7F-4DAB-A9F1-8C20818A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777F0-19AC-4A77-85F6-5E277CBF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B467A-04D5-4289-A666-3FA67EE9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AF6A3-C8D9-4ACD-8807-4FCAD512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DD3B9-B43E-4262-BD59-13D688CC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2A9F1-17C9-4C86-8952-0F447ABF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66510-7F20-4D41-B186-69363ECA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E82B3-4DBB-43D6-8C39-39C67AE9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09394-C6C2-4EC3-ADB3-E605CF19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7AE-C6D4-4AE5-8539-ED789FAB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401FB-22DB-475B-AEA4-9CDC72EE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CD04C-334A-4A82-9BE2-513369C0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DAE13-E4E9-4473-8C93-D9E7F635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E8477-EE99-4545-B754-3C6260E8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8CF5B-AC57-45ED-9C0D-B2821578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10F99-56E7-4866-AA75-96F73257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9D280-6DF1-4130-9657-1E512E80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48DA8-367D-4D52-ADD5-9358DDC7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EFDF0-891C-49F0-9521-37BE5AF7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8628A-593C-4D44-A6BE-DD6CB6FC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BAF-654E-4C72-A179-90CAD728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DB5AB-7254-49C0-9883-3E08E4C3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FE520-FF6F-43C1-B349-965364C9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CCD28-B0D1-4F1D-8713-278B8B18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26251-6664-4498-A690-F0E508DF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CD1B6-4D97-49C9-98D8-2965FDF1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F1A02-6BEE-4D2B-BD94-1F8DB452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77831-98D5-4844-B6E1-AA2F47DA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6C65A-CD0A-4C11-814F-E1B63D55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98864-804E-45E3-A5AF-A6F1E9CA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BD243-837B-4DE9-A1CA-282475BF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C90-34CC-4A24-BDD4-DCBB47CC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556E7-5210-470C-9A46-4D2B9556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7CF2B-3A50-44BE-A1D0-AA9AB1EB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62CE3-2B11-4980-BE54-E8142F46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3BCAB-4103-4F99-8F1F-5931E67E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C9793-E3AD-488D-94B9-26826CE3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7A3D5-AE0B-4797-8239-365F306B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8A1BB-6C83-48CF-AF0E-2049B417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8B272-ED3B-4AFB-A894-95798547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F5442-9A0E-48A8-BA66-69D0FC1F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BFB62-185D-4285-9C8C-E0B4EA03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39DB-1EAB-4D45-87BB-924DE1C1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83257-CE67-4AFD-A2EA-8E03FD9A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47AB6-6E08-4155-9434-6EEB4072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CE7C3-C5FF-4CA9-A9D1-D6777A98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4F178-8F24-4F79-B429-E493EA5B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9C5C4-EBE6-4F2D-BEFA-3915CBE5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FCF60-6BA2-4B18-B1C7-26AD3BE6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19645-50A8-48EC-BB64-18C87366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663EE-29A3-4F19-A1E2-3B68AF2D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8BF52-8828-46C1-B03B-2B0FE8C9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260AB-AF56-43EE-96E2-F3BF9506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48B-2B45-41BF-91AA-76D18A09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F55EB-0D04-416F-9965-506E1DCA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565BB-F50E-4472-B05B-0E540258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06785-CC42-4E98-9DA6-5F05D257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DCA4F-2191-4907-9A70-B811BBA4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81D79-32F4-4F6F-A142-7BB087AE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023-22AD-4196-AF71-0C3A0579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6308-CFF1-4EF9-9549-C047A3AB83C4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4E65-9C78-41D9-BD29-0D57713BA764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96EE-7EFC-4ECE-BA58-A0E09CFBEF65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5EED-7957-48C4-87EF-D216EDE86A48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1792-63F4-471B-A73C-01E955835F69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3391-541B-4207-864D-D0B40027D2B3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1EB5-5BF9-45C6-B053-0FD9D097F48C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72314"/>
                </a:solidFill>
                <a:latin typeface="Gill Sans MT"/>
              </a:rPr>
              <a:t>                                         </a:t>
            </a:r>
            <a:r>
              <a:rPr b="1" lang="ar-SA" sz="3200" spc="-1" strike="noStrike" u="sng">
                <a:solidFill>
                  <a:srgbClr val="572314"/>
                </a:solidFill>
                <a:uFillTx/>
                <a:latin typeface="Gill Sans MT"/>
              </a:rPr>
              <a:t>المبيع والثمن</a:t>
            </a:r>
            <a:br>
              <a:rPr sz="3200"/>
            </a:br>
            <a:br>
              <a:rPr sz="20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Gill Sans MT"/>
              </a:rPr>
              <a:t>المبيع :</a:t>
            </a: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هو الشيء المعين الذي يقع عليه البيع ، وتعينه </a:t>
            </a:r>
            <a:r>
              <a:rPr b="1" lang="ar-SA" sz="2400" spc="-1" strike="noStrike">
                <a:solidFill>
                  <a:srgbClr val="572314"/>
                </a:solidFill>
                <a:latin typeface="Gill Sans MT"/>
              </a:rPr>
              <a:t>إما </a:t>
            </a:r>
            <a:r>
              <a:rPr b="1" lang="ar-SA" sz="2400" spc="-1" strike="noStrike">
                <a:solidFill>
                  <a:srgbClr val="00b050"/>
                </a:solidFill>
                <a:latin typeface="Gill Sans MT"/>
              </a:rPr>
              <a:t>بالرؤية</a:t>
            </a:r>
            <a:r>
              <a:rPr b="1" lang="ar-SA" sz="24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أو بالوصف </a:t>
            </a:r>
            <a:r>
              <a:rPr b="1" lang="ar-SA" sz="2400" spc="-1" strike="noStrike">
                <a:solidFill>
                  <a:srgbClr val="572314"/>
                </a:solidFill>
                <a:latin typeface="Gill Sans MT"/>
              </a:rPr>
              <a:t>، كبيع سلعة أو بضاعة مشاهده ، أو موصوفة بأوصاف معينة.</a:t>
            </a:r>
            <a:br>
              <a:rPr sz="24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Gill Sans MT"/>
              </a:rPr>
              <a:t>الثمن :</a:t>
            </a:r>
            <a:r>
              <a:rPr b="1" lang="ar-SA" sz="24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هو مايتفق عليه المتبايعان ، سواء كان أكثر من تلقينه أو اقل أو مساوياً لها وهو لايتحقق إلا في عقد ، وهو المال أو المقابل النقدي المتفق عليه .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Gill Sans MT"/>
              </a:rPr>
              <a:t>ويختلف الثمن عن القيمه</a:t>
            </a:r>
            <a:r>
              <a:rPr b="1" lang="ar-SA" sz="2400" spc="-1" strike="noStrike">
                <a:solidFill>
                  <a:srgbClr val="572314"/>
                </a:solidFill>
                <a:latin typeface="Gill Sans MT"/>
              </a:rPr>
              <a:t>؛ </a:t>
            </a:r>
            <a:br>
              <a:rPr sz="2400"/>
            </a:br>
            <a:r>
              <a:rPr b="1" lang="ar-SA" sz="2400" spc="-1" strike="noStrike" u="sng">
                <a:solidFill>
                  <a:srgbClr val="0070c0"/>
                </a:solidFill>
                <a:uFillTx/>
                <a:latin typeface="Gill Sans MT"/>
              </a:rPr>
              <a:t>فالثمن</a:t>
            </a:r>
            <a:r>
              <a:rPr b="1" lang="ar-SA" sz="24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ar-SA" sz="2400" spc="-1" strike="noStrike">
                <a:solidFill>
                  <a:srgbClr val="00b050"/>
                </a:solidFill>
                <a:latin typeface="Gill Sans MT"/>
              </a:rPr>
              <a:t>هو الشيء المسمى المتفق عليه في العقد صراحة، </a:t>
            </a:r>
            <a:br>
              <a:rPr sz="2400"/>
            </a:br>
            <a:r>
              <a:rPr b="1" lang="ar-SA" sz="2400" spc="-1" strike="noStrike" u="sng">
                <a:solidFill>
                  <a:srgbClr val="0070c0"/>
                </a:solidFill>
                <a:uFillTx/>
                <a:latin typeface="Gill Sans MT"/>
              </a:rPr>
              <a:t>أما القيمة : </a:t>
            </a: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فهي مايساويه الشيء بين الناس ، أي في الأسواق وعزف التجار أول أهل الخبرة.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Gill Sans MT"/>
              </a:rPr>
              <a:t>أما الدين : </a:t>
            </a: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فهو كل ماثبت في الذمة من الأموال القابلة للثبوت فيها بأي سبب من أسباب الالتزام ؛ كالإتلاف والغصب والكفالة والقرض ونحوها.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Gill Sans MT"/>
              </a:rPr>
              <a:t>أما العين : </a:t>
            </a:r>
            <a:r>
              <a:rPr b="1" lang="ar-SA" sz="2400" spc="-1" strike="noStrike">
                <a:solidFill>
                  <a:srgbClr val="002060"/>
                </a:solidFill>
                <a:latin typeface="Gill Sans MT"/>
              </a:rPr>
              <a:t>فهو الشيء المعين بذاته ، المفرز عن أمثاله.</a:t>
            </a:r>
            <a:r>
              <a:rPr b="1" lang="ar-SA" sz="2000" spc="-1" strike="noStrike">
                <a:solidFill>
                  <a:srgbClr val="002060"/>
                </a:solidFill>
                <a:latin typeface="Gill Sans MT"/>
              </a:rPr>
              <a:t>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ff0000"/>
                </a:solidFill>
                <a:latin typeface="Gill Sans MT"/>
              </a:rPr>
              <a:t>البيع بشرط التجربة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مربع نص 2"/>
          <p:cNvSpPr/>
          <p:nvPr/>
        </p:nvSpPr>
        <p:spPr>
          <a:xfrm>
            <a:off x="1116000" y="765000"/>
            <a:ext cx="7818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Gill Sans MT"/>
              </a:rPr>
              <a:t>هو البيع الذي يتم الاتفاق فيه على أن يكون للمشتري حق تجربة المبيع </a:t>
            </a:r>
            <a:r>
              <a:rPr b="1" lang="ar-SA" sz="2800" spc="-1" strike="noStrike">
                <a:solidFill>
                  <a:srgbClr val="000000"/>
                </a:solidFill>
                <a:latin typeface="Gill Sans MT"/>
              </a:rPr>
              <a:t>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ill Sans MT"/>
              </a:rPr>
              <a:t>-- </a:t>
            </a:r>
            <a:r>
              <a:rPr b="1" lang="ar-SA" sz="2800" spc="-1" strike="noStrike">
                <a:solidFill>
                  <a:srgbClr val="c00000"/>
                </a:solidFill>
                <a:latin typeface="Gill Sans MT"/>
              </a:rPr>
              <a:t>للتعرف على صلاحيته للغرض الذي يقصد شراءه لأجله وتحقيقه للغاية المقصودة منه 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Gill Sans MT"/>
              </a:rPr>
              <a:t>-- </a:t>
            </a:r>
            <a:r>
              <a:rPr b="1" lang="ar-SA" sz="2800" spc="-1" strike="noStrike">
                <a:solidFill>
                  <a:srgbClr val="7030a0"/>
                </a:solidFill>
                <a:latin typeface="Gill Sans MT"/>
              </a:rPr>
              <a:t>أو ليتأكد أن المبيع هو الشيء الذي يطلبه ،</a:t>
            </a:r>
            <a:r>
              <a:rPr b="1" lang="ar-SA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Gill Sans MT"/>
              </a:rPr>
              <a:t>-- او التأكد من ملاءمة المبيع لحاجات المشتري وظروفه ورغباته الذات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Gill Sans MT"/>
              </a:rPr>
              <a:t>مثل : شراء سيارة بشرط ركوبها ، للتأكد من صلاحية المبيع </a:t>
            </a:r>
            <a:r>
              <a:rPr b="1" lang="ar-SA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89156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ar-SA" sz="2200" spc="-1" strike="noStrike">
                <a:solidFill>
                  <a:srgbClr val="572314"/>
                </a:solidFill>
                <a:latin typeface="Gill Sans MT"/>
              </a:rPr>
              <a:t>وقد نصت المادة (</a:t>
            </a:r>
            <a:r>
              <a:rPr b="1" lang="ar-SA" sz="2200" spc="-1" strike="noStrike">
                <a:solidFill>
                  <a:srgbClr val="572314"/>
                </a:solidFill>
                <a:latin typeface="Gill Sans MT"/>
              </a:rPr>
              <a:t>494</a:t>
            </a:r>
            <a:r>
              <a:rPr b="1" lang="ar-SA" sz="2200" spc="-1" strike="noStrike">
                <a:solidFill>
                  <a:srgbClr val="572314"/>
                </a:solidFill>
                <a:latin typeface="Gill Sans MT"/>
              </a:rPr>
              <a:t>) من القانون الإماراتي والأردني على </a:t>
            </a:r>
            <a:r>
              <a:rPr b="1" lang="ar-SA" sz="2200" spc="-1" strike="noStrike" u="sng">
                <a:solidFill>
                  <a:srgbClr val="c00000"/>
                </a:solidFill>
                <a:uFillTx/>
                <a:latin typeface="Gill Sans MT"/>
              </a:rPr>
              <a:t>جواز هذا البيع ، بشرط الاتفاق على تحديد مدة معلومة لإجراء التجربة .</a:t>
            </a:r>
            <a:br>
              <a:rPr sz="2200"/>
            </a:br>
            <a:br>
              <a:rPr sz="2200"/>
            </a:br>
            <a:r>
              <a:rPr b="1" lang="ar-SA" sz="2200" spc="-1" strike="noStrike">
                <a:solidFill>
                  <a:srgbClr val="0070c0"/>
                </a:solidFill>
                <a:latin typeface="Gill Sans MT"/>
              </a:rPr>
              <a:t> -- </a:t>
            </a:r>
            <a:r>
              <a:rPr b="1" lang="ar-SA" sz="2200" spc="-1" strike="noStrike" u="sng">
                <a:solidFill>
                  <a:srgbClr val="0070c0"/>
                </a:solidFill>
                <a:uFillTx/>
                <a:latin typeface="Gill Sans MT"/>
              </a:rPr>
              <a:t>وإن سكت المتبايعان عن تحديدها في العقد ،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Gill Sans MT"/>
              </a:rPr>
              <a:t>-- حملت على المدة المعتادة .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Gill Sans MT"/>
              </a:rPr>
              <a:t>-- ويخير المشتري بين اجازة البيع او رفضه ولو لم يجرب المبيع 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Gill Sans MT"/>
              </a:rPr>
              <a:t>-- ويجب اعلام البائع بالرفض .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Gill Sans MT"/>
              </a:rPr>
              <a:t>-- فإن انتهت مدة التجربة وسكت المشتري ، أصبح البيع لازماً .</a:t>
            </a:r>
            <a:br>
              <a:rPr sz="2200"/>
            </a:br>
            <a:br>
              <a:rPr sz="2200"/>
            </a:br>
            <a:r>
              <a:rPr b="1" lang="ar-SA" sz="2200" spc="-1" strike="noStrike">
                <a:solidFill>
                  <a:srgbClr val="572314"/>
                </a:solidFill>
                <a:latin typeface="Gill Sans MT"/>
              </a:rPr>
              <a:t>والقانون المصري والسوري اعتبروه معلق على شرط واقف ، بان انعقاد العقد موقوف على قبول المشتري خلال مدة معينة ، ان قبل يعتبر البيع منعقدا باثر رجعي من وقت التعاقد ؛</a:t>
            </a:r>
            <a:br>
              <a:rPr sz="2200"/>
            </a:br>
            <a:br>
              <a:rPr sz="2200"/>
            </a:br>
            <a:r>
              <a:rPr b="1" lang="ar-SA" sz="2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ar-SA" sz="2200" spc="-1" strike="noStrike">
                <a:solidFill>
                  <a:srgbClr val="ff0000"/>
                </a:solidFill>
                <a:latin typeface="Gill Sans MT"/>
              </a:rPr>
              <a:t>والشرط الواقف هو الذي يتوقف عليه وجود الالتزام ، مثل ان جاء والدي ممن السفر ابيعك السيارة هذه . 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02920" y="692280"/>
            <a:ext cx="7497720" cy="555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أما في الفقه الإسلامي فالأولى أن يعتبر معلقاً على شرط فاسخ ، أي أن العقد منعقد نافذ غير موقوف ولكن يجوز فسخه ، فهو بيع بشرط الخيار ، والبيع بشرط الخيار في الفقه معلق على شرط فاسخ . 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572314"/>
                </a:solidFill>
                <a:latin typeface="Gill Sans MT"/>
              </a:rPr>
              <a:t> والشرط الواقف هو : ما يربط به زوال العقد كشراء بضاعة بشرط جعل عدم الرهن للمبيع لوقت اداء الثمن سببا للفسخ 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فالبيع منعقد وينتج اثاره فورا ، لكنه غير لازم ، فيحق لصاحب الخيار ان يفسخه فيما بعد بارادته المنفردة ، فان اقرت انتقلت الملكية من تاريخ البيع .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4977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   الطالبات : </a:t>
            </a:r>
            <a:br>
              <a:rPr sz="4300"/>
            </a:br>
            <a:r>
              <a:rPr b="0" lang="ar-SA" sz="4000" spc="-1" strike="noStrike">
                <a:solidFill>
                  <a:srgbClr val="572314"/>
                </a:solidFill>
                <a:latin typeface="Gill Sans MT"/>
              </a:rPr>
              <a:t>ساره الناصر – عهود الوثلان – نوره الغصن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1516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ar-SA" sz="2800" spc="-1" strike="noStrike" u="sng">
                <a:solidFill>
                  <a:srgbClr val="002060"/>
                </a:solidFill>
                <a:uFillTx/>
                <a:latin typeface="Gill Sans MT"/>
              </a:rPr>
              <a:t>الوعد بالبيع : </a:t>
            </a:r>
            <a:r>
              <a:rPr b="1" lang="ar-SA" sz="2800" spc="-1" strike="noStrike">
                <a:solidFill>
                  <a:srgbClr val="c00000"/>
                </a:solidFill>
                <a:latin typeface="Gill Sans MT"/>
              </a:rPr>
              <a:t>هو أن يتم الاتفاق بين شخصين على إبرام عقد البيع في المستقبل إذا على ان يبدي الطرف الثاني رغبته في الموعد المحدد بينهما ، </a:t>
            </a:r>
            <a:br>
              <a:rPr sz="2800"/>
            </a:br>
            <a:r>
              <a:rPr b="1" lang="ar-SA" sz="2800" spc="-1" strike="noStrike">
                <a:solidFill>
                  <a:srgbClr val="7030a0"/>
                </a:solidFill>
                <a:latin typeface="Gill Sans MT"/>
              </a:rPr>
              <a:t>ومن امثلة ذلك :</a:t>
            </a:r>
            <a:br>
              <a:rPr sz="2800"/>
            </a:br>
            <a:r>
              <a:rPr b="1" lang="ar-SA" sz="2800" spc="-1" strike="noStrike">
                <a:solidFill>
                  <a:srgbClr val="00b050"/>
                </a:solidFill>
                <a:latin typeface="Gill Sans MT"/>
              </a:rPr>
              <a:t>--كأن يقول </a:t>
            </a:r>
            <a:r>
              <a:rPr b="1" i="1" lang="ar-SA" sz="2800" spc="-1" strike="noStrike">
                <a:solidFill>
                  <a:srgbClr val="00b050"/>
                </a:solidFill>
                <a:latin typeface="Gill Sans MT"/>
              </a:rPr>
              <a:t>البائع</a:t>
            </a:r>
            <a:r>
              <a:rPr b="1" lang="ar-SA" sz="2800" spc="-1" strike="noStrike">
                <a:solidFill>
                  <a:srgbClr val="00b050"/>
                </a:solidFill>
                <a:latin typeface="Gill Sans MT"/>
              </a:rPr>
              <a:t> للمشتري: سأبيعك الشيء الفلاني ، أو سوف أبيعك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2060"/>
                </a:solidFill>
                <a:latin typeface="Gill Sans MT"/>
              </a:rPr>
              <a:t>وحكمه:</a:t>
            </a:r>
            <a:br>
              <a:rPr sz="2800"/>
            </a:br>
            <a:r>
              <a:rPr b="1" lang="ar-SA" sz="2800" spc="-1" strike="noStrike">
                <a:solidFill>
                  <a:srgbClr val="ff0000"/>
                </a:solidFill>
                <a:latin typeface="Gill Sans MT"/>
              </a:rPr>
              <a:t>-- أن البيع لا ينعقد بذلك ولو قبل الطرف الآخر قبولا باتا ، </a:t>
            </a:r>
            <a:br>
              <a:rPr sz="2800"/>
            </a:br>
            <a:r>
              <a:rPr b="1" lang="ar-SA" sz="2800" spc="-1" strike="noStrike">
                <a:solidFill>
                  <a:srgbClr val="0070c0"/>
                </a:solidFill>
                <a:latin typeface="Gill Sans MT"/>
              </a:rPr>
              <a:t>-- ولا ينشأ حق للموعود ، فليس له أن يجبر الواعد على تنفيذه بقوة القضاء </a:t>
            </a:r>
            <a:br>
              <a:rPr sz="2800"/>
            </a:br>
            <a:r>
              <a:rPr b="1" lang="ar-SA" sz="2800" spc="-1" strike="noStrike">
                <a:solidFill>
                  <a:srgbClr val="ff0000"/>
                </a:solidFill>
                <a:latin typeface="Gill Sans MT"/>
              </a:rPr>
              <a:t>-- انه يلزم الوفاء بالوعد ديانة. ( التزام طبيعي )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1042920" y="189000"/>
            <a:ext cx="79218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Arial"/>
              </a:rPr>
              <a:t>البيع الابتدائي :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هو الاتفاق على مشروع كامل لعقد البيع دون الالتزام به فوراً فهو في الواقع عقد نهائي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</a:rPr>
              <a:t>وينعقد البيع الابتدائي بنفس الأركان والشروط العقد النهائي وتترتب نفس الآثار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فارق أساسي : </a:t>
            </a:r>
            <a:r>
              <a:rPr b="1" lang="ar-SA" sz="2400" spc="-1" strike="noStrike">
                <a:solidFill>
                  <a:srgbClr val="c0654c"/>
                </a:solidFill>
                <a:latin typeface="Arial"/>
              </a:rPr>
              <a:t>هو أن الالتزامات لا تترتب على العقد </a:t>
            </a:r>
            <a:r>
              <a:rPr b="1" lang="ar-SA" sz="2400" spc="-1" strike="noStrike">
                <a:solidFill>
                  <a:srgbClr val="002060"/>
                </a:solidFill>
                <a:latin typeface="Arial"/>
              </a:rPr>
              <a:t>إلا</a:t>
            </a:r>
            <a:r>
              <a:rPr b="1" lang="ar-SA" sz="2400" spc="-1" strike="noStrike">
                <a:solidFill>
                  <a:srgbClr val="c0654c"/>
                </a:solidFill>
                <a:latin typeface="Arial"/>
              </a:rPr>
              <a:t> بعد إبرام العقد النهائي </a:t>
            </a:r>
            <a:r>
              <a:rPr b="1" lang="ar-SA" sz="2400" spc="-1" strike="noStrike">
                <a:solidFill>
                  <a:srgbClr val="002060"/>
                </a:solidFill>
                <a:latin typeface="Arial"/>
              </a:rPr>
              <a:t>فيما عدا </a:t>
            </a:r>
            <a:r>
              <a:rPr b="1" lang="ar-SA" sz="2400" spc="-1" strike="noStrike">
                <a:solidFill>
                  <a:srgbClr val="c0654c"/>
                </a:solidFill>
                <a:latin typeface="Arial"/>
              </a:rPr>
              <a:t>الالتزام بإبرام العقد في الوقت المتفق عليه 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Arial"/>
              </a:rPr>
              <a:t>اذا وجد وعد برهن رسمي ، وكان الوعد مستوفيا للشروط الشكلية ، وتخلف الواعد عن تنفيذ وعده ، يجوز اجباره على تنفيذ الوعد قضاءا ، فيقوم الحكم القضائي بالزام الواعد مقام العقد النهائي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 u="sng">
                <a:solidFill>
                  <a:srgbClr val="002060"/>
                </a:solidFill>
                <a:uFillTx/>
                <a:latin typeface="Arial"/>
              </a:rPr>
              <a:t>البيع بالعربون :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هو أن يتم البيع الابتدائي ويقترن بدفع احد العاقدين وهو غالباً المشتري مبلغاً من المال إلى البائع على انه جزء من الثمن ، ولكن يحق لكل من العاقدين العدول عن العقد قبل تنفيذه مع خسارة العربون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Arial"/>
              </a:rPr>
              <a:t>الحنابلة والمالكية : </a:t>
            </a:r>
            <a:r>
              <a:rPr b="1" lang="ar-SA" sz="2400" spc="-1" strike="noStrike">
                <a:solidFill>
                  <a:srgbClr val="00b050"/>
                </a:solidFill>
                <a:latin typeface="Arial"/>
              </a:rPr>
              <a:t>اجازوا العربون في البيع والاجار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Arial"/>
              </a:rPr>
              <a:t>جمهور الفقهاء : </a:t>
            </a:r>
            <a:r>
              <a:rPr b="1" lang="ar-SA" sz="2400" spc="-1" strike="noStrike">
                <a:solidFill>
                  <a:srgbClr val="00b050"/>
                </a:solidFill>
                <a:latin typeface="Arial"/>
              </a:rPr>
              <a:t>منعوا ولم يجيزوا بيع العربون</a:t>
            </a:r>
            <a:r>
              <a:rPr b="1" lang="ar-SA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b05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81848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572314"/>
                </a:solidFill>
                <a:uFillTx/>
                <a:latin typeface="Gill Sans MT"/>
              </a:rPr>
              <a:t>احكام المبيع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00b050"/>
                </a:solidFill>
                <a:latin typeface="Gill Sans MT"/>
              </a:rPr>
              <a:t>يشترط ان يكونالمبيع معينا معلوما معروفا للعاقدين .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تعيين المبيع : هو تحديده بالاوصاف والاسس الجوهرية وتقديره بالكيل او الوزن او القياس او العدد 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تتم المعلومية للمبيع : بالاطلاع عليه ومشاهدته والتعرف عليه وبحث مدى صلاحيته لتحقيق الرغبة والقصد منه .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572314"/>
                </a:solidFill>
                <a:uFillTx/>
                <a:latin typeface="Gill Sans MT"/>
              </a:rPr>
              <a:t>عند جمهور الفقهاء : </a:t>
            </a: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لا يبطل البيع اذا لم  يعلم المشتري بالمبيع، اي يكون منعقدا منتجا لاثاره ناقلا للملكية غير لازم ، يحق للمشتري ابطاله وفسخه باستخدام خيار الرؤية.</a:t>
            </a:r>
            <a:br>
              <a:rPr sz="2400"/>
            </a:br>
            <a:r>
              <a:rPr b="1" lang="ar-SA" sz="2400" spc="-1" strike="noStrike" u="sng">
                <a:solidFill>
                  <a:srgbClr val="572314"/>
                </a:solidFill>
                <a:uFillTx/>
                <a:latin typeface="Gill Sans MT"/>
              </a:rPr>
              <a:t>عند الشافعية : </a:t>
            </a:r>
            <a:r>
              <a:rPr b="1" lang="ar-SA" sz="2400" spc="-1" strike="noStrike">
                <a:solidFill>
                  <a:srgbClr val="00b050"/>
                </a:solidFill>
                <a:latin typeface="Gill Sans MT"/>
              </a:rPr>
              <a:t>يبطل البيع اذا لم  يعلم المشتري بالمبيع 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Gill Sans MT"/>
              </a:rPr>
              <a:t>اذا ذكر في عقد البيع ان المشتري عالم بالمبيع علما كافيا ، لايحق له ان يطلب ابطال العقد لعدم العلم .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لكن استثناءا ؛ يجوز له طلب ابطال العقد اذا : </a:t>
            </a:r>
            <a:r>
              <a:rPr b="1" lang="ar-SA" sz="2400" spc="-1" strike="noStrike" u="sng">
                <a:solidFill>
                  <a:srgbClr val="0070c0"/>
                </a:solidFill>
                <a:uFillTx/>
                <a:latin typeface="Gill Sans MT"/>
              </a:rPr>
              <a:t>اثبت ان البائع قد غرر به .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002060"/>
                </a:solidFill>
                <a:uFillTx/>
                <a:latin typeface="Gill Sans MT"/>
              </a:rPr>
              <a:t>وسائل العلم بالمبيع :</a:t>
            </a:r>
            <a:br>
              <a:rPr sz="24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Gill Sans MT"/>
              </a:rPr>
              <a:t>اولا : وسائل عامة ومنها : </a:t>
            </a:r>
            <a:br>
              <a:rPr sz="2400"/>
            </a:br>
            <a:r>
              <a:rPr b="1" lang="ar-SA" sz="2400" spc="-1" strike="noStrike" u="sng">
                <a:solidFill>
                  <a:srgbClr val="0070c0"/>
                </a:solidFill>
                <a:uFillTx/>
                <a:latin typeface="Gill Sans MT"/>
              </a:rPr>
              <a:t>-- رؤية المبيع .</a:t>
            </a:r>
            <a:br>
              <a:rPr sz="2400"/>
            </a:br>
            <a:r>
              <a:rPr b="1" lang="ar-SA" sz="2400" spc="-1" strike="noStrike" u="sng">
                <a:solidFill>
                  <a:srgbClr val="0070c0"/>
                </a:solidFill>
                <a:uFillTx/>
                <a:latin typeface="Gill Sans MT"/>
              </a:rPr>
              <a:t>-- الاشارة اليه .</a:t>
            </a:r>
            <a:br>
              <a:rPr sz="2400"/>
            </a:br>
            <a:r>
              <a:rPr b="1" lang="ar-SA" sz="2400" spc="-1" strike="noStrike" u="sng">
                <a:solidFill>
                  <a:srgbClr val="0070c0"/>
                </a:solidFill>
                <a:uFillTx/>
                <a:latin typeface="Gill Sans MT"/>
              </a:rPr>
              <a:t>-- تحديد اوصافه الاساسية في العقد .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00b050"/>
                </a:solidFill>
                <a:uFillTx/>
                <a:latin typeface="Gill Sans MT"/>
              </a:rPr>
              <a:t>ثانيا : وسائل خاصة .</a:t>
            </a:r>
            <a:br>
              <a:rPr sz="24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Gill Sans MT"/>
              </a:rPr>
              <a:t>-- البيع بالتجربة .</a:t>
            </a:r>
            <a:br>
              <a:rPr sz="24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Gill Sans MT"/>
              </a:rPr>
              <a:t>-- البيع بالمذاق .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74995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572314"/>
                </a:solidFill>
                <a:latin typeface="Gill Sans MT"/>
              </a:rPr>
              <a:t>البيع بالنموذج ( العينة ) :</a:t>
            </a:r>
            <a:r>
              <a:rPr b="0" lang="ar-SA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ar-SA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ar-SA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مربع نص 2"/>
          <p:cNvSpPr/>
          <p:nvPr/>
        </p:nvSpPr>
        <p:spPr>
          <a:xfrm>
            <a:off x="1042920" y="692280"/>
            <a:ext cx="7921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اذا كان البيع بالانموذج تكفي فيه رؤيته، ويجب ان يكون المبيع مطابقاً ل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فإذا ظهر أن المبيع غير مطابق للأنموذج كان المشتري مخيراً بين قبوله أو رد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تعريفه : هو مايدل على صفة الشيء ، كأنه يريد صاعاً مثلاً من صُبرة ( كومة حب ) ويبيعه الصبرة على أنها من جنسه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030a0"/>
                </a:solidFill>
                <a:uFillTx/>
                <a:latin typeface="Gill Sans MT"/>
              </a:rPr>
              <a:t>فالبيع بالنموذج يحدث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--عندما يكون المبيع غائباً عن مجلس العقد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-- ومن الاموال المثلية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وتقوم رؤية النموذج مقام رؤية المبيع كله اذ يتعذر احضار المبيع كله الى مجلس العقد. ويتحقق بذلك شرط العلم بالمبيع وتعيينه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81848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وتغني رؤية النموذج عن :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--بيان اوصاف المبيع الاساسية : مثل القمح او القطن عند رؤية بعضه </a:t>
            </a: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، </a:t>
            </a:r>
            <a:r>
              <a:rPr b="1" lang="ar-SA" sz="2400" spc="-1" strike="noStrike" u="sng">
                <a:solidFill>
                  <a:srgbClr val="0070c0"/>
                </a:solidFill>
                <a:uFillTx/>
                <a:latin typeface="Gill Sans MT"/>
              </a:rPr>
              <a:t>وبيع ما في الاوعية من سلع بناءا على اوصافها المكتوبة ؛ وهو ما يسمى ((البيع على ما في البرنامج ))</a:t>
            </a: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.</a:t>
            </a:r>
            <a:br>
              <a:rPr sz="2400"/>
            </a:b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-- عن رؤية المبيع كله ويتحقق بشرط العلم بالمبيع وتعيينه 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وان تم التعاقد على اساس النموذج يترتب عليه انه :</a:t>
            </a:r>
            <a:br>
              <a:rPr sz="2400"/>
            </a:br>
            <a:r>
              <a:rPr b="1" lang="ar-SA" sz="2400" spc="-1" strike="noStrike">
                <a:solidFill>
                  <a:srgbClr val="00b050"/>
                </a:solidFill>
                <a:latin typeface="Gill Sans MT"/>
              </a:rPr>
              <a:t>-- يصبح وثيقة مادية يحتكم اليها عند التنازع ،</a:t>
            </a:r>
            <a:br>
              <a:rPr sz="2400"/>
            </a:br>
            <a:r>
              <a:rPr b="1" lang="ar-SA" sz="2400" spc="-1" strike="noStrike">
                <a:solidFill>
                  <a:srgbClr val="00b050"/>
                </a:solidFill>
                <a:latin typeface="Gill Sans MT"/>
              </a:rPr>
              <a:t>--  ويحتج بها المشتري في مواجهة البائع لتحقيق مطابقة المبيع للنموذج . 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002060"/>
                </a:solidFill>
                <a:uFillTx/>
                <a:latin typeface="Gill Sans MT"/>
              </a:rPr>
              <a:t>جمهور الفقهاء : </a:t>
            </a:r>
            <a:r>
              <a:rPr b="1" lang="ar-SA" sz="2400" spc="-1" strike="noStrike">
                <a:solidFill>
                  <a:srgbClr val="c00000"/>
                </a:solidFill>
                <a:latin typeface="Gill Sans MT"/>
              </a:rPr>
              <a:t>اجاز هذا البيع ، لتعذر رؤية جميع المبيع ورؤية جميعه غير مشروطة ، فيكفي رؤية ما يدل على العلم بالمقصود قبل الشراء ، مما يدل على سقوط خيار الرؤية . </a:t>
            </a:r>
            <a:br>
              <a:rPr sz="2400"/>
            </a:br>
            <a:r>
              <a:rPr b="1" lang="ar-SA" sz="2400" spc="-1" strike="noStrike" u="sng">
                <a:solidFill>
                  <a:srgbClr val="002060"/>
                </a:solidFill>
                <a:uFillTx/>
                <a:latin typeface="Gill Sans MT"/>
              </a:rPr>
              <a:t>الحنابلة : </a:t>
            </a: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لم يجزه واعتبره غير صحيح لعدم رؤية المبيع عند التعاقد ؛لانهم اشترطوا وجود المبيع وعلم للبائع والمشتري برؤية ما تحصل </a:t>
            </a: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بها معرفته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1848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شروط صحة هذا البيع : </a:t>
            </a:r>
            <a:br>
              <a:rPr sz="2400"/>
            </a:b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1</a:t>
            </a: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- ان يكون المرئي دالاً على المبيع دلالة كاملة.</a:t>
            </a:r>
            <a:br>
              <a:rPr sz="2400"/>
            </a:b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2</a:t>
            </a: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- أن يأتي المبيع مطابقاً للنموذج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الاثار المترتبة </a:t>
            </a: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اذا جاء المبيع مطابقاً للنموذج :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--كان البيع تاماً نافذاً لازماً .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--يعتبر المبيع حاضرا معلوما غير غائبا .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--لا يثبت للمشتري خيار الرؤية في فسخ العقد .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-- تبرأ ذمة البائع بتنفيذ التزامه .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--يجبر المشتري على قبول المبيع وتسلمه 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 الاثار المترتبة</a:t>
            </a: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 جاء المبيع غير مطابق للنموذج : 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-- </a:t>
            </a:r>
            <a:r>
              <a:rPr b="1" lang="ar-SA" sz="2400" spc="-1" strike="noStrike">
                <a:solidFill>
                  <a:srgbClr val="572314"/>
                </a:solidFill>
                <a:latin typeface="Gill Sans MT"/>
              </a:rPr>
              <a:t>فيثبت للمشتري حق الخيار بين قبوله او رده. مثل الحنطة والزيت 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مربع نص 4"/>
          <p:cNvSpPr/>
          <p:nvPr/>
        </p:nvSpPr>
        <p:spPr>
          <a:xfrm>
            <a:off x="1187280" y="189000"/>
            <a:ext cx="77058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اذا فقد الانموذج او هلك في يد احد المتابعين فالقول في المطابقة أن المغايرة للطرف الآخر، مالم يثبت خصمه العكس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واذا فقد النموذج او تلف وهو في يد شخص ثالث، ففيه تفصي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Gill Sans MT"/>
              </a:rPr>
              <a:t>ان كان معيناً بالذات او مشارا اليه او مفروزا عن غيره واتفق المتبايعات على ذاتية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 المبيع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Gill Sans MT"/>
              </a:rPr>
              <a:t> بانه هو المعقود عليه ، لكنهما اختلفا في مطابقته للنموذج الذي رآه المشتري، وهلك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Gill Sans MT"/>
              </a:rPr>
              <a:t>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ar-SA" sz="2400" spc="-1" strike="noStrike" u="sng">
                <a:solidFill>
                  <a:srgbClr val="00b050"/>
                </a:solidFill>
                <a:uFillTx/>
                <a:latin typeface="Gill Sans MT"/>
              </a:rPr>
              <a:t>فيقبل قول البائع في المطابقة لانه الثابت مع الاصل والظاهر ، ويلتزم بتسليم المبيع مالم يثبت المشتري العكس فإن ثبت كان له الحق في فسخ البي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Gill Sans MT"/>
              </a:rPr>
              <a:t>اما ان كان المبيع معيناً بالنوع كقماش هولندي ، او معيناً بالذات وغير متفق عليه انه هو المعقود عليه لان المشتري لم يراه ولم يتم تحديد المبيع بالعقد كالمعين بنوعه ووصفه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فيقبل قول المشتري مالم يثبت البائع العكس ، فان اثبت المطابقه لزم البيع لادعاء البائع صحة تسليم المبيع وينكره المشتري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4T13:45:33Z</dcterms:created>
  <dc:creator>User</dc:creator>
  <dc:description/>
  <dc:language>en-US</dc:language>
  <cp:lastModifiedBy>eman</cp:lastModifiedBy>
  <dcterms:modified xsi:type="dcterms:W3CDTF">2016-10-13T01:46:17Z</dcterms:modified>
  <cp:revision>41</cp:revision>
  <dc:subject/>
  <dc:title>المبيع والثمن    المبيع : هو الشيء المعين الذي يقع عليه البيع ، وتعينه إما بالرؤية أو بالوصف ، كبيع سلعة أو بضاعة مشاهده ، أو موصوفة بأوصاف معينة. الثمن : هو مايتفق عليه المتبايعان ، سواء كان أكثر من تلقينه أو اقل أو مساوياً لها وهو لايتحقق إلا في عقد ، وهو المال أو المقابل النقدي المتفق عليه . ويختلف الثمن عن تلقينه؛ فالثمن هو الشيء المسمى المتفق عليه في العقد صراحة، أما القيمة فهي مايساويه الشيء بين الناس ، أي في الأسواق وعزف التجار أول أهل الخبرة.  أما الدين : فهو كل ماثبت في الذمة من الأموال القابلة للثبوت فيها بأي سبب من أسباب الالتزام ؛ كالإتلاف والغصب والكفالة والقرض ونحوها.  أما العين فهو الشيء المعين بذاته ، المفرز عن أمثاله.</dc:title>
</cp:coreProperties>
</file>