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5EF19-B424-450C-A653-B15146C1A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F4EC5-B4A3-428E-AC54-88511A16C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E6967-81CB-41C1-A12E-B103AAEE0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3ED2A-D073-4F24-96FD-160883A6C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F0107-5F6E-4C9C-BB80-E5461CC2D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5A3AA-E5F9-426D-BF41-BAA19FD65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79CC6-6D1E-4EA1-A096-FFC7DE51A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E612-6E9C-4722-9C8C-6F9A1AA49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62A70-D85D-4838-AC31-6B98EE45D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A50D-6039-4CC6-8FBD-551E26D7C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F5992-D7F3-4BDB-A910-2922D4016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1C82B-D7E9-4BEE-9F14-FCAF20D26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E924-A190-442A-98A3-40DBF55285F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57200" y="1600200"/>
            <a:ext cx="8229600" cy="4525920"/>
          </a:xfrm>
          <a:prstGeom prst="rect">
            <a:avLst/>
          </a:prstGeom>
          <a:noFill/>
          <a:ln w="0">
            <a:noFill/>
          </a:ln>
        </p:spPr>
        <p:txBody>
          <a:bodyPr anchor="t">
            <a:normAutofit/>
          </a:bodyPr>
          <a:p>
            <a:pPr marL="343080" indent="-343080" algn="ctr" rtl="1">
              <a:lnSpc>
                <a:spcPct val="115000"/>
              </a:lnSpc>
              <a:spcBef>
                <a:spcPts val="799"/>
              </a:spcBef>
              <a:spcAft>
                <a:spcPts val="10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Calibri"/>
              </a:rPr>
              <a:t>الأركان الشكلية لأنشاء الكمبيالة</a:t>
            </a:r>
            <a:endParaRPr b="0" lang="en-US" sz="3200" spc="-1" strike="noStrike">
              <a:solidFill>
                <a:srgbClr val="000000"/>
              </a:solidFill>
              <a:latin typeface="Calibri"/>
            </a:endParaRPr>
          </a:p>
          <a:p>
            <a:pPr marL="343080" indent="-343080" algn="ctr" rtl="1">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lnSpc>
                <a:spcPct val="115000"/>
              </a:lnSpc>
              <a:spcBef>
                <a:spcPts val="700"/>
              </a:spcBef>
              <a:spcAft>
                <a:spcPts val="10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Calibri"/>
              </a:rPr>
              <a:t>ضرورة الكتابة</a:t>
            </a:r>
            <a:r>
              <a:rPr b="1" lang="ar-SA" sz="3200" spc="-1" strike="noStrike">
                <a:solidFill>
                  <a:srgbClr val="000000"/>
                </a:solidFill>
                <a:latin typeface="Calibri"/>
                <a:ea typeface="Calibri"/>
              </a:rPr>
              <a:t>: </a:t>
            </a:r>
            <a:r>
              <a:rPr b="0" lang="ar-SA" sz="2800" spc="-1" strike="noStrike">
                <a:solidFill>
                  <a:srgbClr val="000000"/>
                </a:solidFill>
                <a:latin typeface="Calibri"/>
                <a:cs typeface="Calibri"/>
              </a:rPr>
              <a:t>نظرا لان الالتزام الصرفي يعتبر شكلي فان هذا يقتضي ان تكون الكمبيالة مكتوبه.</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404280"/>
            <a:ext cx="8229600" cy="5721480"/>
          </a:xfrm>
          <a:prstGeom prst="rect">
            <a:avLst/>
          </a:prstGeom>
          <a:noFill/>
          <a:ln w="0">
            <a:noFill/>
          </a:ln>
        </p:spPr>
        <p:txBody>
          <a:bodyPr anchor="t">
            <a:normAutofit fontScale="92000"/>
          </a:bodyPr>
          <a:p>
            <a:pPr marL="315360" indent="-31536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الانابه في اصدار الكمبيالة ؛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اصل ان تصدر الكمبياله وهي تحمل توقيع ساحبها شخصياً ،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لان اصدار الكمبياله يعتبر تصرف قانوني ، فإنه يجوز للشخص ان ينيب شخص اخر في اصدار الكمبياله نيابه عنه .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نيابه القنونيه للولي او الوصي او القيم على ناقص اهليه او عديمها لا تخوله صلاحيه اصدار اوراق تجاريه باسم اي من هؤلاء ، والا فإنها تعتبر باطله بالنسبه لهم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نظراً لأن نظام الاوراق التجاريه لم يضع قواعد خاصه للنيابه في اصدار هذه الاوراق ، فإنه يتم تطبيق القواعد العامه للإنابه .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5360" indent="-31536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تجاوز حدود الانابة:-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نائب الذي يتجاوز حدود نيابتة ، وكذلك من وقع كمبيالة نيابة عن آخر بغير تفويض منه ، يكون ملتزم شخصياً بالآثار القانونيه الناشئة عن التوقيع على هذه الكمبيالة ؛ اما الاصيل او من ادُعِى النيابة عنه فلا يلتزم صرفياً بموجب هذة الكمبيالة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260280"/>
            <a:ext cx="8229600" cy="5865840"/>
          </a:xfrm>
          <a:prstGeom prst="rect">
            <a:avLst/>
          </a:prstGeom>
          <a:noFill/>
          <a:ln w="0">
            <a:noFill/>
          </a:ln>
        </p:spPr>
        <p:txBody>
          <a:bodyPr anchor="t">
            <a:normAutofit fontScale="92000"/>
          </a:bodyPr>
          <a:p>
            <a:pPr marL="315360" indent="-3153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إصدار الكمبيالة لحساب الغير :- </a:t>
            </a:r>
            <a:endParaRPr b="0" lang="en-US" sz="2200" spc="-1" strike="noStrike">
              <a:solidFill>
                <a:srgbClr val="000000"/>
              </a:solidFill>
              <a:latin typeface="Calibri"/>
            </a:endParaRPr>
          </a:p>
          <a:p>
            <a:pPr marL="315360" indent="-3153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جازت المادة الثالثه من نظام الاوراق التجاريه سحب الكمبياله " لحساب شخص اخر " في هاذه الحاله يسمى الشخص الذي وقع على الكمبيالة باسمة (الساحب الظاهر ) ويسمى الشخص الذي سحبت الكمبيالة لحسابه (الساحب الحقيقي)</a:t>
            </a:r>
            <a:endParaRPr b="0" lang="en-US" sz="2200" spc="-1" strike="noStrike">
              <a:solidFill>
                <a:srgbClr val="000000"/>
              </a:solidFill>
              <a:latin typeface="Calibri"/>
            </a:endParaRPr>
          </a:p>
          <a:p>
            <a:pPr marL="315360" indent="-3153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5360" indent="-31536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رق بين عدد من العلاقات : </a:t>
            </a:r>
            <a:endParaRPr b="0" lang="en-US" sz="2400" spc="-1" strike="noStrike">
              <a:solidFill>
                <a:srgbClr val="000000"/>
              </a:solidFill>
              <a:latin typeface="Calibri"/>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1</a:t>
            </a:r>
            <a:r>
              <a:rPr b="0" lang="ar-SA" sz="2400" spc="-1" strike="noStrike">
                <a:solidFill>
                  <a:srgbClr val="000000"/>
                </a:solidFill>
                <a:latin typeface="Calibri"/>
              </a:rPr>
              <a:t>.علاقة الساحب الظاهر بحامل الكمبياله ؛ هنا يلتزم الساحب الظاهر (صرفياً) بضمان قبول الكمبيالة والرفاء بها في مواجة المستفيد والمظهر اليهم ( وكأن الساحب الحقيقي غير الموجود بالنسبة لهؤلاء) وعلى ذالك نصت الماده ( لا يعفى الساحب لحساب غيرة من مسؤلية شخصياً قبل مظهريها وحاملها </a:t>
            </a:r>
            <a:endParaRPr b="0" lang="en-US" sz="2400" spc="-1" strike="noStrike">
              <a:solidFill>
                <a:srgbClr val="000000"/>
              </a:solidFill>
              <a:latin typeface="Calibri"/>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a:t>
            </a:r>
            <a:r>
              <a:rPr b="0" lang="ar-SA" sz="2400" spc="-1" strike="noStrike">
                <a:solidFill>
                  <a:srgbClr val="000000"/>
                </a:solidFill>
                <a:latin typeface="Calibri"/>
              </a:rPr>
              <a:t>	</a:t>
            </a:r>
            <a:r>
              <a:rPr b="0" lang="ar-SA" sz="2400" spc="-1" strike="noStrike">
                <a:solidFill>
                  <a:srgbClr val="000000"/>
                </a:solidFill>
                <a:latin typeface="Calibri"/>
              </a:rPr>
              <a:t>علاقة الساحب الظاهر بالساحب الحقيقي ؛ هي علاقة وكيل (ساحب ظاهر ) وموكلة( ساحب حقيقي ) </a:t>
            </a:r>
            <a:endParaRPr b="0" lang="en-US" sz="2400" spc="-1" strike="noStrike">
              <a:solidFill>
                <a:srgbClr val="000000"/>
              </a:solidFill>
              <a:latin typeface="Calibri"/>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r>
              <a:rPr b="0" lang="ar-SA" sz="2400" spc="-1" strike="noStrike">
                <a:solidFill>
                  <a:srgbClr val="000000"/>
                </a:solidFill>
                <a:latin typeface="Calibri"/>
              </a:rPr>
              <a:t>.علاقة الساحب الظاهر والمسحوب عليه ؛ وهذه ينظمها اتفاق بين الساحب الحقيقي والمسحوب عليه ، ولا يعلمه المستفيد من الكمبياله ولا شأن له بها ، واذا اوفى المسحوب عليه الكمبياله فليس له اي حق تجاه الساحب الظاهر ، ولكن تكون علاقته بالساحب الحقيقي الذي يلتزم بتوصيل مقابل الوفاء الي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71640" y="333000"/>
            <a:ext cx="7772400" cy="1469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جزاء القانوني على تخلف أحد البيانات ال</a:t>
            </a:r>
            <a:br>
              <a:rPr sz="3600"/>
            </a:br>
            <a:br>
              <a:rPr sz="3600"/>
            </a:br>
            <a:br>
              <a:rPr sz="3600"/>
            </a:br>
            <a:br>
              <a:rPr sz="3600"/>
            </a:br>
            <a:br>
              <a:rPr sz="3600"/>
            </a:br>
            <a:br>
              <a:rPr sz="3600"/>
            </a:br>
            <a:br>
              <a:rPr sz="3600"/>
            </a:br>
            <a:br>
              <a:rPr sz="3600"/>
            </a:br>
            <a:br>
              <a:rPr sz="3600"/>
            </a:br>
            <a:br>
              <a:rPr sz="3600"/>
            </a:br>
            <a:br>
              <a:rPr sz="3600"/>
            </a:br>
            <a:br>
              <a:rPr sz="3600"/>
            </a:br>
            <a:br>
              <a:rPr sz="3600"/>
            </a:br>
            <a:r>
              <a:rPr b="0" lang="ar-SA" sz="3600" spc="-1" strike="noStrike">
                <a:solidFill>
                  <a:srgbClr val="ff0000"/>
                </a:solidFill>
                <a:latin typeface="Calibri"/>
              </a:rPr>
              <a:t>المطلب الثاني </a:t>
            </a:r>
            <a:r>
              <a:rPr b="0" lang="ar-SA" sz="3600" spc="-1" strike="noStrike">
                <a:solidFill>
                  <a:srgbClr val="000000"/>
                </a:solidFill>
                <a:latin typeface="Calibri"/>
              </a:rPr>
              <a:t>:</a:t>
            </a:r>
            <a:r>
              <a:rPr b="0" lang="ar-SA" sz="3600" spc="-1" strike="noStrike">
                <a:solidFill>
                  <a:srgbClr val="ff0000"/>
                </a:solidFill>
                <a:latin typeface="Calibri"/>
              </a:rPr>
              <a:t>الجزاء القانوني على تخلف أحد البيانات الإلزامية</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55" name="PlaceHolder 2"/>
          <p:cNvSpPr>
            <a:spLocks noGrp="1"/>
          </p:cNvSpPr>
          <p:nvPr>
            <p:ph type="subTitle"/>
          </p:nvPr>
        </p:nvSpPr>
        <p:spPr>
          <a:xfrm>
            <a:off x="324000" y="1341360"/>
            <a:ext cx="8416800" cy="468000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2f2f2"/>
                </a:solidFill>
                <a:latin typeface="Calibri"/>
              </a:rPr>
              <a:t>نص النظام:</a:t>
            </a: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إذا خلت الكمبيالة من ميعاد الاستحقاق اعتبرت مستحقة الوفاء لدى الاطلاع.</a:t>
            </a: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وإذا خلت من مكان الوفاء أو مكان المسحوب عليه اعتبر المكان المبين بجانب اسم المسحوب عليه مكان وفائها للمسحوب عليه</a:t>
            </a: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وإذا خلت من بيان مكان إنشائها اعتبر منشأها مكان الساحب</a:t>
            </a: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أولا: القاعدة العامة للجزاء (فقدان الصك وصف كمبيالة)</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جزاء هو فقدان الصك وصف كمبيالة وليس البطلان وذلك لأن الكمبيالة ورقه شكليه تكتسب هذي الشكلية بتوفر بيانات التي حددها النظام  وتزول عنها هذي الصفة أذا تخلف عنها أحد هذي البيانات .</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المحكمة تحكم به من تلقاء نفسها ولو لم يتمسك به الخصوم بل ولو تنازلوا عنها صراحة لأنه جزاء وجوبي متعلق بالنظام العام فالمحكمة لا تملك سلطة تقديرية بشأن الحكم به طالما ثبت تخلف البيان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الأثر المترتب على فقدان الصك وصف الكمبيالة</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ثر القانوني الذي سيترتب من الفقدان يختلف من صك إلى آخر حسب نوع البيان الذي خلى منه الصك.</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إذا تضمن الصك توقيع الساحب والمبلغ الذي التزم به وأسم الدائن فصك يعتبر سند مديونية عادي لا يخضع لنظام الاوراق  التجارية بل يخضع لقواعد القانون التجاري او القانون المدني وهذا تبعا لطبية العمل الذي أنشاء عنه الدين وهو لا يؤثر على الالتزام الاصلي .</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3500280"/>
            <a:ext cx="8229600" cy="2376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هل يمكن أن يتحول الصك إلى سند لأمر؟</a:t>
            </a:r>
            <a:r>
              <a:rPr b="0" lang="ar-SA" sz="2800" spc="-1" strike="noStrike">
                <a:solidFill>
                  <a:srgbClr val="000000"/>
                </a:solidFill>
                <a:latin typeface="Calibri"/>
              </a:rPr>
              <a:t> يرى الفقه أن الكمبيالة التي لا تتضمن اسم المسحوب عليه قد تتحول إلى سند لأمر أذا تضمنت شرط الامر او عبارة سند لأمر مع توافر كافة البيانات الازمة لصحة السند لأمر</a:t>
            </a:r>
            <a:br>
              <a:rPr sz="2800"/>
            </a:br>
            <a:r>
              <a:rPr b="0" lang="ar-SA" sz="2800" spc="-1" strike="noStrike">
                <a:solidFill>
                  <a:srgbClr val="000000"/>
                </a:solidFill>
                <a:latin typeface="Calibri"/>
              </a:rPr>
              <a:t>ولكن النظام لا يؤيد ذلك.</a:t>
            </a:r>
            <a:br>
              <a:rPr sz="2800"/>
            </a:br>
            <a:endParaRPr b="0" lang="en-US" sz="2800" spc="-1" strike="noStrike">
              <a:solidFill>
                <a:srgbClr val="000000"/>
              </a:solidFill>
              <a:latin typeface="Calibri"/>
            </a:endParaRPr>
          </a:p>
        </p:txBody>
      </p:sp>
      <p:sp>
        <p:nvSpPr>
          <p:cNvPr id="61" name=""/>
          <p:cNvSpPr txBox="1"/>
          <p:nvPr/>
        </p:nvSpPr>
        <p:spPr>
          <a:xfrm>
            <a:off x="611280" y="404640"/>
            <a:ext cx="8229600" cy="27655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ما أذا خلى الصك من توقيع الساحب أو بيان المبلغ الواجب دفعة أو اسم الدائن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ff0000"/>
                </a:solidFill>
                <a:latin typeface="Calibri"/>
              </a:rPr>
              <a:t>فهنا الصك يفقد فيمته القانونية ومع ذلك ممكن أن نطبق القواعد العامة التي تقرر  اعتبار الصك كمبدأ ثبوت بالكتابة لأثبات الالتزام الاصلي إذا كان الصك مكتوب بخط المدين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هل يجوز تكملة البيان الناقص وتصحيح الكمبيالة؟</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نظام الاوراق التجارية السعودي لا يجيز تصحيح الكمبيالة بإضافة البيان الناقص لان عدم أخذ المنظم بحكم المادة </a:t>
            </a:r>
            <a:r>
              <a:rPr b="0" lang="ar-SA" sz="3200" spc="-1" strike="noStrike">
                <a:solidFill>
                  <a:srgbClr val="000000"/>
                </a:solidFill>
                <a:latin typeface="Calibri"/>
              </a:rPr>
              <a:t>10</a:t>
            </a:r>
            <a:r>
              <a:rPr b="0" lang="ar-SA" sz="3200" spc="-1" strike="noStrike">
                <a:solidFill>
                  <a:srgbClr val="000000"/>
                </a:solidFill>
                <a:latin typeface="Calibri"/>
              </a:rPr>
              <a:t> لاتفاقية جنيف يدل على عدم رغبته في نظامية هذا الحل وذلك لأنه فيه تجاهل للطابع الشكلي للأوراق التجار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ثانياً: الاستثناءات على جزاء نقص بيانات الكمبيالة</a:t>
            </a: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2200" spc="-1" strike="noStrike">
                <a:solidFill>
                  <a:srgbClr val="000000"/>
                </a:solidFill>
                <a:latin typeface="Calibri"/>
              </a:rPr>
              <a:t>- خلو الكمبيالة من بيان ميعاد الاستحقاق في هذي الحالة تعتبر الكمبيالة مستحقة الوفاء لدى الاطلاع عليها اما اذا وجد فيها اكثر من يعاد استحقاق فأنها تفقد صفتها ككمبيالة لأنه يتعارض مع وحدة تاريخ الورقة التجارية</a:t>
            </a:r>
            <a:endParaRPr b="0" lang="en-US" sz="2200" spc="-1" strike="noStrike">
              <a:solidFill>
                <a:srgbClr val="000000"/>
              </a:solidFill>
              <a:latin typeface="Calibri"/>
            </a:endParaRPr>
          </a:p>
          <a:p>
            <a:pPr marL="318960" indent="-31896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2</a:t>
            </a:r>
            <a:r>
              <a:rPr b="0" lang="ar-SA" sz="2200" spc="-1" strike="noStrike">
                <a:solidFill>
                  <a:srgbClr val="000000"/>
                </a:solidFill>
                <a:latin typeface="Calibri"/>
              </a:rPr>
              <a:t>- خلو الكمبيالة من مكان الوفاء أو موطن المسحوب عليه فالصك يفقد صفته ككمبيالة لان البيانات لا تكفي لكي يصل الصك لحاملها وهو يتعارض مع مبدأ الكفاية الذاتية الذي تقوم عليه الورقة التجارية.</a:t>
            </a:r>
            <a:endParaRPr b="0" lang="en-US" sz="22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ما اذا وجد مكان بجوار </a:t>
            </a:r>
            <a:r>
              <a:rPr b="0" lang="ar-SA" sz="2400" spc="-1" strike="noStrike">
                <a:solidFill>
                  <a:srgbClr val="000000"/>
                </a:solidFill>
                <a:latin typeface="Calibri"/>
              </a:rPr>
              <a:t>المسحوب عليه فلا تفقد الكمبيالة صفتها</a:t>
            </a:r>
            <a:endParaRPr b="0" lang="en-US" sz="2400" spc="-1" strike="noStrike">
              <a:solidFill>
                <a:srgbClr val="000000"/>
              </a:solidFill>
              <a:latin typeface="Calibri"/>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2800" spc="-1" strike="noStrike">
                <a:solidFill>
                  <a:srgbClr val="000000"/>
                </a:solidFill>
                <a:latin typeface="Calibri"/>
              </a:rPr>
              <a:t>خلو الكمبيالة من بيان أنشائها: اذا وجد مكان مبين بجانب اسم الساحب فلا تفقد الكمبيالة صفتها اما أذا خلت الكمبيالة من ذكر أي مكان فانة يفقد صفة الكمبيالة لأنه لا يتحقق شرط الكفاية الذات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0000"/>
                </a:solidFill>
                <a:latin typeface="Calibri"/>
              </a:rPr>
              <a:t>المطلب الثالث: البيانات الاختياريه للكمبيالة</a:t>
            </a:r>
            <a:endParaRPr b="0" lang="en-US" sz="3100" spc="-1" strike="noStrike">
              <a:solidFill>
                <a:srgbClr val="000000"/>
              </a:solidFill>
              <a:latin typeface="Calibri"/>
            </a:endParaRPr>
          </a:p>
        </p:txBody>
      </p:sp>
      <p:sp>
        <p:nvSpPr>
          <p:cNvPr id="67" name=""/>
          <p:cNvSpPr txBox="1"/>
          <p:nvPr/>
        </p:nvSpPr>
        <p:spPr>
          <a:xfrm>
            <a:off x="457200" y="17398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ق اضافة بيانات في الكمبيالة : </a:t>
            </a:r>
            <a:endParaRPr b="0" lang="en-US" sz="3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تعتبر البيانات الالزاميه التي حددتها الماده الاولى من نظام الاوراق التجاريه بمثابة الحد الادنى من البيانات التي تحدد مبدأ الكفايه الذاتيه ومن ثم يجب ان يتضمنها صك لكي يكتسب صفة الكمبيالة </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ذا الغايه من وجود وتنظيم الاوراق التجاريه هي تحقيق مصالح اصاب الشأن فيها ، فمن المنطقي الاعتراف لهم بحق اضافة بيانات اخرى (</a:t>
            </a:r>
            <a:r>
              <a:rPr b="0" lang="ar-SA" sz="2200" spc="-1" strike="noStrike">
                <a:solidFill>
                  <a:srgbClr val="ff0000"/>
                </a:solidFill>
                <a:latin typeface="Calibri"/>
              </a:rPr>
              <a:t>اختياريه </a:t>
            </a:r>
            <a:r>
              <a:rPr b="0" lang="ar-SA" sz="2200" spc="-1" strike="noStrike">
                <a:solidFill>
                  <a:srgbClr val="000000"/>
                </a:solidFill>
                <a:latin typeface="Calibri"/>
              </a:rPr>
              <a:t>) طالما انها لا تتعارض مع القواعد التي وضعها النظام ،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أ) بيان موطن مختار للوفاء بالكمبيالة</a:t>
            </a:r>
            <a:endParaRPr b="0" lang="en-US" sz="22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الاصل ان تقدم الكمبيالة للوفاء في موطن المسحوب عليه او في المكان المبين الى جوار اسم المسحوب عليه ،</a:t>
            </a:r>
            <a:endParaRPr b="0" lang="en-US" sz="2500" spc="-1" strike="noStrike">
              <a:solidFill>
                <a:srgbClr val="000000"/>
              </a:solidFill>
              <a:latin typeface="Calibri"/>
            </a:endParaRPr>
          </a:p>
          <a:p>
            <a:pPr marL="329040" indent="-3290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في حال عدم تواجد المسحوب عليه في موطنه وقت استحقاق الكمبيالة لاي سبب من الاسباب وتجنب مايترتب عليه من اثار فانه اجاز النظام للساحب ان يضيق في الكمبيالة بيانا يحدد المكان الذي يجب على الحامل انزيقدمها فيه الوفاء ، سواء كان هذا المكان موطن طبيعي او بنك يتعامل معه المسحوب عليه </a:t>
            </a:r>
            <a:endParaRPr b="0" lang="en-US" sz="2500" spc="-1" strike="noStrike">
              <a:solidFill>
                <a:srgbClr val="000000"/>
              </a:solidFill>
              <a:latin typeface="Calibri"/>
            </a:endParaRPr>
          </a:p>
          <a:p>
            <a:pPr marL="329040" indent="-3290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اذا عين الساحب في الكمبيالة مكان للوفاء اير موطن المسحوب عليه دون ان يعين من يجب الوفاء عنده ، جاز للمسحوب عليه تعيينه عند القبول ، فإذا لن يعينه اعتبر ملزماً بالدفع في مكان الوفاء ،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8360" y="907920"/>
            <a:ext cx="8229600" cy="5289840"/>
          </a:xfrm>
          <a:prstGeom prst="rect">
            <a:avLst/>
          </a:prstGeom>
          <a:noFill/>
          <a:ln w="0">
            <a:noFill/>
          </a:ln>
        </p:spPr>
        <p:txBody>
          <a:bodyPr anchor="t">
            <a:normAutofit fontScale="87000"/>
          </a:bodyPr>
          <a:p>
            <a:pPr marL="298440" indent="-298440" algn="ctr" rtl="1">
              <a:lnSpc>
                <a:spcPct val="115000"/>
              </a:lnSpc>
              <a:spcBef>
                <a:spcPts val="799"/>
              </a:spcBef>
              <a:spcAft>
                <a:spcPts val="10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Calibri"/>
              </a:rPr>
              <a:t>المطلب الاول: البيانات الإلزامية   </a:t>
            </a:r>
            <a:endParaRPr b="0" lang="en-US" sz="32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تعداد البيانات الالزامية:</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يجب ان تتضمن الكمبيالة البيانات التالية:</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1</a:t>
            </a:r>
            <a:r>
              <a:rPr b="0" lang="ar-SA" sz="2000" spc="-1" strike="noStrike">
                <a:solidFill>
                  <a:srgbClr val="000000"/>
                </a:solidFill>
                <a:latin typeface="Calibri"/>
              </a:rPr>
              <a:t>.</a:t>
            </a:r>
            <a:r>
              <a:rPr b="0" lang="ar-SA" sz="2000" spc="-1" strike="noStrike">
                <a:solidFill>
                  <a:srgbClr val="000000"/>
                </a:solidFill>
                <a:latin typeface="Calibri"/>
              </a:rPr>
              <a:t>	</a:t>
            </a:r>
            <a:r>
              <a:rPr b="0" lang="ar-SA" sz="2000" spc="-1" strike="noStrike">
                <a:solidFill>
                  <a:srgbClr val="000000"/>
                </a:solidFill>
                <a:latin typeface="Calibri"/>
              </a:rPr>
              <a:t>اسم الصك: اوجب النظام ان يتضمن الصك كلمة كمبيالة لكي يمكن للمتعاملين به ان يميزوه عن الاوراق التجارية الاخرى وبالتالي يدركون الالتزامات التي تقع عليهم و لهذا يجب ان تكتب كلمة الكمبيالة بنفس اللغة التي كتب بها وفي متن الصك.</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2</a:t>
            </a:r>
            <a:r>
              <a:rPr b="0" lang="ar-SA" sz="2000" spc="-1" strike="noStrike">
                <a:solidFill>
                  <a:srgbClr val="000000"/>
                </a:solidFill>
                <a:latin typeface="Calibri"/>
              </a:rPr>
              <a:t>.</a:t>
            </a:r>
            <a:r>
              <a:rPr b="0" lang="ar-SA" sz="2000" spc="-1" strike="noStrike">
                <a:solidFill>
                  <a:srgbClr val="000000"/>
                </a:solidFill>
                <a:latin typeface="Calibri"/>
              </a:rPr>
              <a:t>	</a:t>
            </a:r>
            <a:r>
              <a:rPr b="0" lang="ar-SA" sz="2000" spc="-1" strike="noStrike">
                <a:solidFill>
                  <a:srgbClr val="000000"/>
                </a:solidFill>
                <a:latin typeface="Calibri"/>
              </a:rPr>
              <a:t>امر غير معلق على شرط بوفاء مبلغ معين من النقود: تتضمن الكمبيالة امر من الساحب الى المسحوب علية ولهذا يجب ان يكون الامر منجز , وان يكون محل الامر دفع مبلغ من النقود ومن الضروري تحديد المبلغ تحديد دقيق مع تحديد العملة .                         </a:t>
            </a:r>
            <a:endParaRPr b="0" lang="en-US" sz="2000" spc="-1" strike="noStrike">
              <a:solidFill>
                <a:srgbClr val="000000"/>
              </a:solidFill>
              <a:latin typeface="Calibri"/>
            </a:endParaRPr>
          </a:p>
          <a:p>
            <a:pPr marL="298440" indent="-298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ويحضر شرط الفائدة كما نص علية النظام ( اشتراط فائدة الكمبيالة يعتبر كأن لم يكن)  </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3</a:t>
            </a:r>
            <a:r>
              <a:rPr b="0" lang="ar-SA" sz="2000" spc="-1" strike="noStrike">
                <a:solidFill>
                  <a:srgbClr val="000000"/>
                </a:solidFill>
                <a:latin typeface="Calibri"/>
              </a:rPr>
              <a:t>.اسم من يلزمه الوفاء بالكمبيالة(المسحوب علية) : يجب ان يكون المسحوب علية شخص حقيقي سواء كان طبيعي او معنوي , ومن ثم لا يصح ان يتم السحب على شخص وهمي والا تفقد صفتها وتصبح سند مديونية.</a:t>
            </a:r>
            <a:endParaRPr b="0" lang="en-US" sz="2000" spc="-1" strike="noStrike">
              <a:solidFill>
                <a:srgbClr val="000000"/>
              </a:solidFill>
              <a:latin typeface="Calibri"/>
            </a:endParaRPr>
          </a:p>
          <a:p>
            <a:pPr marL="298440" indent="-29844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93760" y="11361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0000"/>
                </a:solidFill>
                <a:latin typeface="Calibri"/>
              </a:rPr>
              <a:t>يترتب على تحديد موطن الوفاء عدد من الأثار القانونيه الهامه ، اهمها ؟ </a:t>
            </a:r>
            <a:br>
              <a:rPr sz="2900"/>
            </a:br>
            <a:endParaRPr b="0" lang="en-US" sz="2900" spc="-1" strike="noStrike">
              <a:solidFill>
                <a:srgbClr val="000000"/>
              </a:solidFill>
              <a:latin typeface="Calibri"/>
            </a:endParaRPr>
          </a:p>
        </p:txBody>
      </p:sp>
      <p:sp>
        <p:nvSpPr>
          <p:cNvPr id="71" name=""/>
          <p:cNvSpPr txBox="1"/>
          <p:nvPr/>
        </p:nvSpPr>
        <p:spPr>
          <a:xfrm>
            <a:off x="293760" y="2647800"/>
            <a:ext cx="8229600" cy="2941920"/>
          </a:xfrm>
          <a:prstGeom prst="rect">
            <a:avLst/>
          </a:prstGeom>
          <a:noFill/>
          <a:ln w="0">
            <a:noFill/>
          </a:ln>
        </p:spPr>
        <p:txBody>
          <a:bodyPr anchor="t">
            <a:normAutofit/>
          </a:bodyPr>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على حامل الكمبيالة تقديمها للوفاء في محل الوفاء المختار ؛فإذا لم يتم الوفاء بعا وحب على الحامل عمل احتجاح عدم الوفاء في مكتب الأحتجاج التابع لهذا المكان </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 الشخص الذي عين للوفاظ (وطنت لديه) بالكمبيالة ، لا يعتبر. من الملتزمين الصرفيين ، لأنه لم يوقع على الكمبيالة بقصد الوفاء بقيمتها ؛ ولكنه يفي بها بعتباره وكيلاً عن المسحوب علي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079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ب) شرط الرجوع بلا مصاريف </a:t>
            </a:r>
            <a:endParaRPr b="0" lang="en-US" sz="2500" spc="-1" strike="noStrike">
              <a:solidFill>
                <a:srgbClr val="000000"/>
              </a:solidFill>
              <a:latin typeface="Calibri"/>
            </a:endParaRPr>
          </a:p>
        </p:txBody>
      </p:sp>
      <p:sp>
        <p:nvSpPr>
          <p:cNvPr id="73" name=""/>
          <p:cNvSpPr txBox="1"/>
          <p:nvPr/>
        </p:nvSpPr>
        <p:spPr>
          <a:xfrm>
            <a:off x="457200" y="2887200"/>
            <a:ext cx="8229600" cy="3522600"/>
          </a:xfrm>
          <a:prstGeom prst="rect">
            <a:avLst/>
          </a:prstGeom>
          <a:noFill/>
          <a:ln w="0">
            <a:noFill/>
          </a:ln>
        </p:spPr>
        <p:txBody>
          <a:bodyPr anchor="t">
            <a:normAutofit fontScale="94000"/>
          </a:bodyPr>
          <a:p>
            <a:pPr marL="322200" indent="-32220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علا حامل الكمبيالة ان يثبت الامتناع عن قبولها او عن وفائها في ورقة رسميه تسمى ( احتجاح عدم القبول ) او (احتجاج عدم الوفاء ) ولا يغني اي اجراء اخر على هذا الأحتجاج ، وتحرر ورقة الأحتجاج بواسطه جهه يعينها وزير التجاره والصناعه ، ويعتبر هذا بمثابة شرط لكي يمارس الحامل حقه في الرجوع الصرفي دون ان يدفع في مواجهه بالسقوط باعتباره حاملا مهملا </a:t>
            </a:r>
            <a:endParaRPr b="0" lang="en-US" sz="2100" spc="-1" strike="noStrike">
              <a:solidFill>
                <a:srgbClr val="000000"/>
              </a:solidFill>
              <a:latin typeface="Calibri"/>
            </a:endParaRPr>
          </a:p>
          <a:p>
            <a:pPr marL="322200" indent="-32220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  يعفى حامل الكمبيال من عمل احتجاج عدم القبول او عدم الوفاء عند مباشره حقه فس ادرجوع </a:t>
            </a:r>
            <a:endParaRPr b="0" lang="en-US" sz="2100" spc="-1" strike="noStrike">
              <a:solidFill>
                <a:srgbClr val="000000"/>
              </a:solidFill>
              <a:latin typeface="Calibri"/>
            </a:endParaRPr>
          </a:p>
          <a:p>
            <a:pPr marL="322200" indent="-32220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rPr>
              <a:t>لا بعفى هذا الشرط الحامل من تقديم الكمبياله في المواعيد المقرره ،  وعلى من يتمسك في مواحهه الحامل بعدم مراعاة هذه المواعيد إثبات. ذلك </a:t>
            </a:r>
            <a:endParaRPr b="0" lang="en-US" sz="2100" spc="-1" strike="noStrike">
              <a:solidFill>
                <a:srgbClr val="000000"/>
              </a:solidFill>
              <a:latin typeface="Calibri"/>
            </a:endParaRPr>
          </a:p>
          <a:p>
            <a:pPr marL="322200" indent="-32220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212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ج) شرط عدم الضمان </a:t>
            </a:r>
            <a:endParaRPr b="0" lang="en-US" sz="2800" spc="-1" strike="noStrike">
              <a:solidFill>
                <a:srgbClr val="000000"/>
              </a:solidFill>
              <a:latin typeface="Calibri"/>
            </a:endParaRPr>
          </a:p>
        </p:txBody>
      </p:sp>
      <p:sp>
        <p:nvSpPr>
          <p:cNvPr id="75" name=""/>
          <p:cNvSpPr txBox="1"/>
          <p:nvPr/>
        </p:nvSpPr>
        <p:spPr>
          <a:xfrm>
            <a:off x="457200" y="2831760"/>
            <a:ext cx="8229600" cy="2795400"/>
          </a:xfrm>
          <a:prstGeom prst="rect">
            <a:avLst/>
          </a:prstGeom>
          <a:noFill/>
          <a:ln w="0">
            <a:noFill/>
          </a:ln>
        </p:spPr>
        <p:txBody>
          <a:bodyPr anchor="t">
            <a:normAutofit fontScale="81000"/>
          </a:bodyPr>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الاصل ان يضمن ساحب الكمبيالة ومظهرها قبولها والوفاء بها في ميعاد الاستحقاق </a:t>
            </a:r>
            <a:endParaRPr b="0" lang="en-US" sz="2300" spc="-1" strike="noStrike">
              <a:solidFill>
                <a:srgbClr val="000000"/>
              </a:solidFill>
              <a:latin typeface="Calibri"/>
            </a:endParaRPr>
          </a:p>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واحاز هاذ النظام الخروج عن هذا الاصل بوصع شرط عدم الصمان </a:t>
            </a:r>
            <a:endParaRPr b="0" lang="en-US" sz="2300" spc="-1" strike="noStrike">
              <a:solidFill>
                <a:srgbClr val="000000"/>
              </a:solidFill>
              <a:latin typeface="Calibri"/>
            </a:endParaRPr>
          </a:p>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لمن نطاق شرط عدم الضمان يختلف يالنسبه للساحب عن المظهر ؛ حيث يجوز للساحب ان يضع شروط عدم ضمان القبول فقط ولا تحوز له الضمان بالوفاء لان الساحب هو المدين الاصلي. </a:t>
            </a:r>
            <a:endParaRPr b="0" lang="en-US" sz="2300" spc="-1" strike="noStrike">
              <a:solidFill>
                <a:srgbClr val="000000"/>
              </a:solidFill>
              <a:latin typeface="Calibri"/>
            </a:endParaRPr>
          </a:p>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انا المطهر فيحوز له عند التظهير ان يضع شرط عدم الضمان القبول والوفاء </a:t>
            </a:r>
            <a:endParaRPr b="0" lang="en-US" sz="2300" spc="-1" strike="noStrike">
              <a:solidFill>
                <a:srgbClr val="000000"/>
              </a:solidFill>
              <a:latin typeface="Calibri"/>
            </a:endParaRPr>
          </a:p>
          <a:p>
            <a:pPr marL="277560" indent="-27756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alibri"/>
              </a:rPr>
              <a:t>ومع ذلك فانه لا بعفى المظهر من كل الضمان لكنه يضمن وجود الدين وقت التظهير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869760"/>
            <a:ext cx="8229600" cy="6615000"/>
          </a:xfrm>
          <a:prstGeom prst="rect">
            <a:avLst/>
          </a:prstGeom>
          <a:noFill/>
          <a:ln w="0">
            <a:noFill/>
          </a:ln>
        </p:spPr>
        <p:txBody>
          <a:bodyPr anchor="t">
            <a:normAutofit/>
          </a:bodyPr>
          <a:p>
            <a:pPr marL="343080" indent="-343080" algn="r" rtl="1">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د) شرط القبول او عدم القبول : </a:t>
            </a:r>
            <a:r>
              <a:rPr b="0" lang="ar-SA" sz="2300" spc="-1" strike="noStrike">
                <a:solidFill>
                  <a:srgbClr val="000000"/>
                </a:solidFill>
                <a:latin typeface="Calibri"/>
              </a:rPr>
              <a:t> الاصل ان تقديم الكمبيالة الى المسحوب عليه للقبول هوزحق لحاملها ؛ ومع ذلك يجوز للساحب ان يضع في الكمبيالة شرطا يفرض علىزالحامل تقديم الكمبيالة للقبول في وقت معين ،</a:t>
            </a:r>
            <a:endParaRPr b="0" lang="en-US" sz="2300" spc="-1" strike="noStrike">
              <a:solidFill>
                <a:srgbClr val="000000"/>
              </a:solidFill>
              <a:latin typeface="Calibri"/>
            </a:endParaRPr>
          </a:p>
          <a:p>
            <a:pPr marL="343080" indent="-343080" algn="r" rtl="1">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هـ) شرط الاخطار : </a:t>
            </a:r>
            <a:r>
              <a:rPr b="0" lang="ar-SA" sz="2300" spc="-1" strike="noStrike">
                <a:solidFill>
                  <a:srgbClr val="000000"/>
                </a:solidFill>
                <a:latin typeface="Calibri"/>
              </a:rPr>
              <a:t>الاصل ان يقوم المسحوب عليه بقبول الكمبيالة أو الوفاء بها عندما يتقدم اليه الحامل ، لكن الساحب قد يخشى من تزوير كمبيااك عليه او تحريف بياناتها ، لذلك يجوز له ان يضع في الكمبيالة شرطا يلزم المسحوب عليه بعدم قبول او الوفاء بها قبل ان يتلقى من الساحب اخطار يفسد بإصدارها </a:t>
            </a:r>
            <a:endParaRPr b="0" lang="en-US" sz="2300" spc="-1" strike="noStrike">
              <a:solidFill>
                <a:srgbClr val="000000"/>
              </a:solidFill>
              <a:latin typeface="Calibri"/>
            </a:endParaRPr>
          </a:p>
          <a:p>
            <a:pPr marL="343080" indent="-343080" algn="r" rtl="1">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و) شرط حظر التظهير : </a:t>
            </a:r>
            <a:r>
              <a:rPr b="0" lang="ar-SA" sz="2300" spc="-1" strike="noStrike">
                <a:solidFill>
                  <a:srgbClr val="000000"/>
                </a:solidFill>
                <a:latin typeface="Calibri"/>
              </a:rPr>
              <a:t>قابلية التداول ب(التظهير ) من خصائص الورقة التجاريه فاذا صدرت الورقه لامر شخص معين فالاصل انها قابله للتداول بالتظهير </a:t>
            </a:r>
            <a:r>
              <a:rPr b="0" lang="en-US" sz="2300" spc="-1" strike="noStrike">
                <a:solidFill>
                  <a:srgbClr val="000000"/>
                </a:solidFill>
                <a:latin typeface="Calibri"/>
              </a:rPr>
              <a:t>,</a:t>
            </a:r>
            <a:r>
              <a:rPr b="0" lang="ar-SA" sz="2300" spc="-1" strike="noStrike">
                <a:solidFill>
                  <a:srgbClr val="000000"/>
                </a:solidFill>
                <a:latin typeface="Calibri"/>
              </a:rPr>
              <a:t>مالم تتضمن شرط يقرر غير ذلك ، فاذا تضمنت الكمبياله. عذا الشرط فان اثره يختلف تبعاً لما اذا كان قد كتبه الساحب او احد المطهرين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ماذج للكمبيالة</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1454040" y="1600200"/>
            <a:ext cx="623592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ownloads\112472dreamjordan.com.gif"/>
          <p:cNvPicPr/>
          <p:nvPr/>
        </p:nvPicPr>
        <p:blipFill>
          <a:blip r:embed="rId1"/>
          <a:stretch/>
        </p:blipFill>
        <p:spPr>
          <a:xfrm>
            <a:off x="384120" y="1133640"/>
            <a:ext cx="8229600" cy="459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36480" y="1819440"/>
            <a:ext cx="7772400" cy="2836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عمل الطالبات:</a:t>
            </a:r>
            <a:r>
              <a:rPr b="0" lang="ar-SA" sz="3400" spc="-1" strike="noStrike">
                <a:solidFill>
                  <a:srgbClr val="ff0000"/>
                </a:solidFill>
                <a:latin typeface="Calibri"/>
              </a:rPr>
              <a:t>  امل العتيبي  //  دلال القحطاني</a:t>
            </a:r>
            <a:br>
              <a:rPr sz="3400"/>
            </a:br>
            <a:r>
              <a:rPr b="0" lang="ar-SA" sz="3400" spc="-1" strike="noStrike">
                <a:solidFill>
                  <a:srgbClr val="000000"/>
                </a:solidFill>
                <a:latin typeface="Calibri"/>
              </a:rPr>
              <a:t>اشراف الاستاذه :</a:t>
            </a:r>
            <a:r>
              <a:rPr b="0" lang="ar-SA" sz="3400" spc="-1" strike="noStrike">
                <a:solidFill>
                  <a:srgbClr val="ff0000"/>
                </a:solidFill>
                <a:latin typeface="Calibri"/>
              </a:rPr>
              <a:t>  ايمان الشلول</a:t>
            </a:r>
            <a:br>
              <a:rPr sz="3400"/>
            </a:br>
            <a:r>
              <a:rPr b="0" lang="ar-SA" sz="3400" spc="-1" strike="noStrike">
                <a:solidFill>
                  <a:srgbClr val="000000"/>
                </a:solidFill>
                <a:latin typeface="Calibri"/>
              </a:rPr>
              <a:t>المقرر :</a:t>
            </a:r>
            <a:r>
              <a:rPr b="0" lang="ar-SA" sz="3400" spc="-1" strike="noStrike">
                <a:solidFill>
                  <a:srgbClr val="ff0000"/>
                </a:solidFill>
                <a:latin typeface="Calibri"/>
              </a:rPr>
              <a:t> اوراق تجاريه والأفلاس  </a:t>
            </a:r>
            <a:br>
              <a:rPr sz="3400"/>
            </a:br>
            <a:r>
              <a:rPr b="0" lang="ar-SA" sz="3400" spc="-1" strike="noStrike">
                <a:solidFill>
                  <a:srgbClr val="ff0000"/>
                </a:solidFill>
                <a:latin typeface="Calibri"/>
              </a:rPr>
              <a:t>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836280"/>
            <a:ext cx="8229600" cy="5289480"/>
          </a:xfrm>
          <a:prstGeom prst="rect">
            <a:avLst/>
          </a:prstGeom>
          <a:noFill/>
          <a:ln w="0">
            <a:noFill/>
          </a:ln>
        </p:spPr>
        <p:txBody>
          <a:bodyPr anchor="t">
            <a:normAutofit fontScale="90000"/>
          </a:bodyPr>
          <a:p>
            <a:pPr marL="308520" indent="-30852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امكانية سحب الكمبيالة على ساحبها:</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العادة ان يكون ساحب الكمبيالة شخص اخر غبر المسحوب علية الا ان النظام اجاز "سحبها على ساحبها" أي ان يكون الساحب هو المسحوب علية .</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a:t>
            </a:r>
            <a:r>
              <a:rPr b="0" lang="ar-SA" sz="3000" spc="-1" strike="noStrike">
                <a:solidFill>
                  <a:srgbClr val="ff0000"/>
                </a:solidFill>
                <a:latin typeface="Calibri"/>
              </a:rPr>
              <a:t>	</a:t>
            </a:r>
            <a:r>
              <a:rPr b="0" lang="ar-SA" sz="3000" spc="-1" strike="noStrike">
                <a:solidFill>
                  <a:srgbClr val="ff0000"/>
                </a:solidFill>
                <a:latin typeface="Calibri"/>
              </a:rPr>
              <a:t>ميعاد الاستحقاق</a:t>
            </a:r>
            <a:r>
              <a:rPr b="0" lang="ar-SA" sz="3000" spc="-1" strike="noStrike">
                <a:solidFill>
                  <a:srgbClr val="000000"/>
                </a:solidFill>
                <a:latin typeface="Calibri"/>
              </a:rPr>
              <a:t>: اوجب النظام على الساحب ان يحدد التاريخ الذي يجب فيه الوفاء بالمبلغ الثابت في الكمبيالة.</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طرق تحديد ميعاد الاستحقاق: </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000000"/>
                </a:solidFill>
                <a:latin typeface="Calibri"/>
              </a:rPr>
              <a:t>ان تكون الكمبيالة مستحقة لدى الاطلاع .</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000000"/>
                </a:solidFill>
                <a:latin typeface="Calibri"/>
              </a:rPr>
              <a:t>ان تكون الكمبيالة مستحقة بعد مدة معينه من الاطلاع.</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000000"/>
                </a:solidFill>
                <a:latin typeface="Calibri"/>
              </a:rPr>
              <a:t>ان تكون مستحقة بعد مدة معينة من تاريخ انشائها.</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a:t>
            </a:r>
            <a:r>
              <a:rPr b="0" lang="ar-SA" sz="3000" spc="-1" strike="noStrike">
                <a:solidFill>
                  <a:srgbClr val="000000"/>
                </a:solidFill>
                <a:latin typeface="Calibri"/>
              </a:rPr>
              <a:t>	</a:t>
            </a:r>
            <a:r>
              <a:rPr b="0" lang="ar-SA" sz="3000" spc="-1" strike="noStrike">
                <a:solidFill>
                  <a:srgbClr val="000000"/>
                </a:solidFill>
                <a:latin typeface="Calibri"/>
              </a:rPr>
              <a:t>ان تكون مستحقة في يوم .</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جزاء مخالفة طرق تعيين ميعاد الاستحقاق او تعدده</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 يجوز ان تشمل الكمبيالة على مواعيد استحقاق اخرى او مواعيد متعاقبة والا كانت باطلة ,والبطلان بختيار الفقه والقضاء هنا يعود على صفة الكمبيالة فتصبح سند مديون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كان الوفاء</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يجب ان تتضمن الكمبيالة بياناً  يحدد المكان الذي يتجة اليه الحامل لاستيفاء قيمتها في تاريخ الاستحقاق . ويجب تحديد المكان بطريقة واضحه تمكن الحامل من الوصول اليه ، طبقاً لما جرى عليه العرف في هذا الشأن .</a:t>
            </a: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الأصل أن يكون مكان الوفاء هو موطن المسحوب عليه ، سواء كان عام او خاص بمهنته </a:t>
            </a: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مع ذلك اجازت الماده </a:t>
            </a:r>
            <a:r>
              <a:rPr b="0" lang="ar-SA" sz="2500" spc="-1" strike="noStrike">
                <a:solidFill>
                  <a:srgbClr val="000000"/>
                </a:solidFill>
                <a:latin typeface="Calibri"/>
              </a:rPr>
              <a:t>4</a:t>
            </a:r>
            <a:r>
              <a:rPr b="0" lang="ar-SA" sz="2500" spc="-1" strike="noStrike">
                <a:solidFill>
                  <a:srgbClr val="000000"/>
                </a:solidFill>
                <a:latin typeface="Calibri"/>
              </a:rPr>
              <a:t>من النظام الاوراق التجاريه للساحب ان يشترط وفاء الكمبيالة في موطن شخص اخر غير المسحوب عليه ، ويعرف هذا الشرط بشرط توطين الكمبيالة . </a:t>
            </a: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اذا خلت الكمبيالة من تحديد مكان الوفاء ، فلا يؤثر ذلك على صحتها ، حيث يعتبر المكان المبين بجانب المسحوب عليه مكان وفائها وموطنا للمسحوب عليه . </a:t>
            </a: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اسم</a:t>
            </a:r>
            <a:r>
              <a:rPr b="0" lang="ar-SA" sz="3600" spc="-1" strike="noStrike">
                <a:solidFill>
                  <a:srgbClr val="000000"/>
                </a:solidFill>
                <a:latin typeface="Calibri"/>
              </a:rPr>
              <a:t> </a:t>
            </a:r>
            <a:r>
              <a:rPr b="0" lang="ar-SA" sz="3600" spc="-1" strike="noStrike">
                <a:solidFill>
                  <a:srgbClr val="ff0000"/>
                </a:solidFill>
                <a:latin typeface="Calibri"/>
              </a:rPr>
              <a:t>المستفيد</a:t>
            </a:r>
            <a:r>
              <a:rPr b="0" lang="ar-SA" sz="3600" spc="-1" strike="noStrike">
                <a:solidFill>
                  <a:srgbClr val="000000"/>
                </a:solidFill>
                <a:latin typeface="Calibri"/>
              </a:rPr>
              <a:t>   </a:t>
            </a:r>
            <a:br>
              <a:rPr sz="3600"/>
            </a:br>
            <a:endParaRPr b="0" lang="en-US" sz="3600" spc="-1" strike="noStrike">
              <a:solidFill>
                <a:srgbClr val="000000"/>
              </a:solidFill>
              <a:latin typeface="Calibri"/>
            </a:endParaRPr>
          </a:p>
        </p:txBody>
      </p:sp>
      <p:sp>
        <p:nvSpPr>
          <p:cNvPr id="48" name=""/>
          <p:cNvSpPr txBox="1"/>
          <p:nvPr/>
        </p:nvSpPr>
        <p:spPr>
          <a:xfrm>
            <a:off x="395280" y="1125000"/>
            <a:ext cx="8229600" cy="4526280"/>
          </a:xfrm>
          <a:prstGeom prst="rect">
            <a:avLst/>
          </a:prstGeom>
          <a:noFill/>
          <a:ln w="0">
            <a:noFill/>
          </a:ln>
        </p:spPr>
        <p:txBody>
          <a:bodyPr anchor="t">
            <a:normAutofit fontScale="86000"/>
          </a:bodyPr>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وجب النظام ان يحدد الساحب اسم الشخص الذي يجب الوفاء له أو لأمره بالمبلغ الثابت في الكمبيالة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 يستنتج من ذلك أنه لا يجوز إصدار الكمبيالة لحامله طبقاً لنظام الاوراق التجارية السعودي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يجب ان يذكر اسم المستفيد من الكمبيالة بطريقة واضحه ، ومن ثم لا يجوز الاكتفاء بذكر صفته إلا إذا كان ممثلا لشخص اعتباري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ذا ذكر اسم المستفيد بطريقة غامضه أو مبهمة أو إذا كانت معرفته تحتاج الى رجوع الى مستند خارج عن الكمبياله فأنها تفقده شرط الكفاية الذاتية وبالتالي صفتها ككمبيالة . </a:t>
            </a:r>
            <a:endParaRPr b="0" lang="en-US" sz="2700" spc="-1" strike="noStrike">
              <a:solidFill>
                <a:srgbClr val="000000"/>
              </a:solidFill>
              <a:latin typeface="Calibri"/>
            </a:endParaRPr>
          </a:p>
          <a:p>
            <a:pPr marL="294840" indent="-2948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الرأي الراجح : يجوز ان يذكر اسم عدد من الأشخاص كمستفيد من الكمبيالة ؛ في هاذه الحاله يجب تحديد كيفية الوفاء لهم بقيمة الكمبياله </a:t>
            </a:r>
            <a:endParaRPr b="0" lang="en-US" sz="2700" spc="-1" strike="noStrike">
              <a:solidFill>
                <a:srgbClr val="000000"/>
              </a:solidFill>
              <a:latin typeface="Calibri"/>
            </a:endParaRPr>
          </a:p>
          <a:p>
            <a:pPr marL="294840" indent="-2948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981000"/>
            <a:ext cx="8229600" cy="4525920"/>
          </a:xfrm>
          <a:prstGeom prst="rect">
            <a:avLst/>
          </a:prstGeom>
          <a:noFill/>
          <a:ln w="0">
            <a:noFill/>
          </a:ln>
        </p:spPr>
        <p:txBody>
          <a:bodyPr anchor="t">
            <a:normAutofit fontScale="95000"/>
          </a:bodyPr>
          <a:p>
            <a:pPr marL="325800" indent="-32580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إمكانية سحب الكمبيالة لمصلحه ساحبها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أصل أن يختلف شخص الساحب عن شخص المستفيد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مع ذلك اجازت الماده الثالثه من نظام الاوراق التجاريه " سحب الكمبياله لأمر الساحب نفسه " وبذلك يقوم الساحب بصفتين الأولى صفة الساحب والثانية صفة المستفيد .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a:t>
            </a:r>
            <a:r>
              <a:rPr b="0" lang="ar-SA" sz="2700" spc="-1" strike="noStrike">
                <a:solidFill>
                  <a:srgbClr val="ff0000"/>
                </a:solidFill>
                <a:latin typeface="Calibri"/>
              </a:rPr>
              <a:t>٧</a:t>
            </a:r>
            <a:r>
              <a:rPr b="0" lang="ar-SA" sz="2700" spc="-1" strike="noStrike">
                <a:solidFill>
                  <a:srgbClr val="ff0000"/>
                </a:solidFill>
                <a:latin typeface="Calibri"/>
              </a:rPr>
              <a:t>) تاريخ ومكان انشاء الكمبيالة :-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وجب نظام الأوراق التجاريه أن يتصمن متن الكمبياله بيانا يحدد بطريقه واضحه تاريخ ومكان انشائها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60280"/>
            <a:ext cx="8229600" cy="5865840"/>
          </a:xfrm>
          <a:prstGeom prst="rect">
            <a:avLst/>
          </a:prstGeom>
          <a:noFill/>
          <a:ln w="0">
            <a:noFill/>
          </a:ln>
        </p:spPr>
        <p:txBody>
          <a:bodyPr anchor="t">
            <a:normAutofit fontScale="94000"/>
          </a:bodyPr>
          <a:p>
            <a:pPr marL="322200" indent="-322200" algn="r" rtl="1">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وتبدو اهمية مكان التاريخ في انه : </a:t>
            </a:r>
            <a:endParaRPr b="0" lang="en-US" sz="22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1</a:t>
            </a:r>
            <a:r>
              <a:rPr b="0" lang="ar-SA" sz="2200" spc="-1" strike="noStrike">
                <a:solidFill>
                  <a:srgbClr val="000000"/>
                </a:solidFill>
                <a:latin typeface="Calibri"/>
              </a:rPr>
              <a:t> </a:t>
            </a:r>
            <a:r>
              <a:rPr b="0" lang="ar-SA" sz="2400" spc="-1" strike="noStrike">
                <a:solidFill>
                  <a:srgbClr val="000000"/>
                </a:solidFill>
                <a:latin typeface="Calibri"/>
              </a:rPr>
              <a:t>ييسر معرفة ما اذا كان الساحب كامل الأهلية أو ناقصها أو عديمها وقت اصدار الكمبيالة ،</a:t>
            </a: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انه على اساس هاذا التاريخ يتحدد تاريخ استحقاق الكمبيالة المستحقه بعد مده من تاريخ انشائها ، </a:t>
            </a: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r>
              <a:rPr b="0" lang="ar-SA" sz="2400" spc="-1" strike="noStrike">
                <a:solidFill>
                  <a:srgbClr val="000000"/>
                </a:solidFill>
                <a:latin typeface="Calibri"/>
              </a:rPr>
              <a:t>.</a:t>
            </a:r>
            <a:r>
              <a:rPr b="0" lang="ar-SA" sz="2400" spc="-1" strike="noStrike">
                <a:solidFill>
                  <a:srgbClr val="000000"/>
                </a:solidFill>
                <a:latin typeface="Calibri"/>
              </a:rPr>
              <a:t>	</a:t>
            </a:r>
            <a:r>
              <a:rPr b="0" lang="ar-SA" sz="2400" spc="-1" strike="noStrike">
                <a:solidFill>
                  <a:srgbClr val="000000"/>
                </a:solidFill>
                <a:latin typeface="Calibri"/>
              </a:rPr>
              <a:t>ان هذا التاريخ يتخذ اساس لفص تزاحم المستفيدين على مقابل الوفاء الذي لا يكفي للوفاء بالكمبيالات المستحقه في يوم واحد ، حيث يتم تفضيل الكمبياله الأسبق تاريخاً </a:t>
            </a: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a:t>
            </a:r>
            <a:r>
              <a:rPr b="0" lang="ar-SA" sz="2400" spc="-1" strike="noStrike">
                <a:solidFill>
                  <a:srgbClr val="000000"/>
                </a:solidFill>
                <a:latin typeface="Calibri"/>
              </a:rPr>
              <a:t>.</a:t>
            </a:r>
            <a:r>
              <a:rPr b="0" lang="ar-SA" sz="2400" spc="-1" strike="noStrike">
                <a:solidFill>
                  <a:srgbClr val="000000"/>
                </a:solidFill>
                <a:latin typeface="Calibri"/>
              </a:rPr>
              <a:t>	</a:t>
            </a:r>
            <a:r>
              <a:rPr b="0" lang="ar-SA" sz="2400" spc="-1" strike="noStrike">
                <a:solidFill>
                  <a:srgbClr val="000000"/>
                </a:solidFill>
                <a:latin typeface="Calibri"/>
              </a:rPr>
              <a:t>يبين هذا التاريخ ما اذا كانت الكمبياله قد سحبت قبل صدور الحكم بشهر إفلاس الساحب ، وبالتالي تكون صحيحه ونافذه في مواجه دائنيه ؛ أو انها سحبت بعد صدور هذا الحكم وبالتالي تكون غير نافذه في مواجهة هؤلاء الدائنين . </a:t>
            </a: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ان يكتب تاريخ الكمبيالة متضمنا اليوم والشهر والسنه ويكون لها تاريخ انشاء وتحد ولو تعدد السحبين للكمبياله، </a:t>
            </a:r>
            <a:endParaRPr b="0" lang="en-US" sz="2400" spc="-1" strike="noStrike">
              <a:solidFill>
                <a:srgbClr val="000000"/>
              </a:solidFill>
              <a:latin typeface="Calibri"/>
            </a:endParaRPr>
          </a:p>
          <a:p>
            <a:pPr marL="322200" indent="-322200" algn="r" rtl="1">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وتبدو اهمية تحديد مكان انشاء الكمبياله اذا كان في دوله اجنبيه حيث تعتبر اساس لتحديد القانون الواحب التطبيق على صحة الكمبياله من حيث الشكل بحيث تخضع لقانون الدوله التي انشأت فيها </a:t>
            </a:r>
            <a:endParaRPr b="0" lang="en-US" sz="2400" spc="-1" strike="noStrike">
              <a:solidFill>
                <a:srgbClr val="000000"/>
              </a:solidFill>
              <a:latin typeface="Calibri"/>
            </a:endParaRPr>
          </a:p>
          <a:p>
            <a:pPr marL="322200" indent="-322200" algn="r" rtl="1">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r" rtl="1">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a:t>
            </a:r>
            <a:r>
              <a:rPr b="0" lang="ar-SA" sz="2700" spc="-1" strike="noStrike">
                <a:solidFill>
                  <a:srgbClr val="ff0000"/>
                </a:solidFill>
                <a:latin typeface="Calibri"/>
              </a:rPr>
              <a:t>٨</a:t>
            </a:r>
            <a:r>
              <a:rPr b="0" lang="ar-SA" sz="2700" spc="-1" strike="noStrike">
                <a:solidFill>
                  <a:srgbClr val="ff0000"/>
                </a:solidFill>
                <a:latin typeface="Calibri"/>
              </a:rPr>
              <a:t>) توقيع الساحب :- </a:t>
            </a: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يجب ان تتضمن الكمبيالة بيانا يحدد شخصية من انشأها (الساحب) . وتبذو اهميه بسان التوقيع انه هو اول الملتزمين صرفيها بقبول الكمبياله والوفا بها ، وهذا التوقيع يمنح الكمبياله قيمتها </a:t>
            </a: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قانونيه ويجعلها محلا لثقة الغير ، حتى يقبلها المسحوب عليه ويصبح مدين اصلي ويتحول الساحب الى ضامن للوفاء في تاريخ الاستحقاق . </a:t>
            </a: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5360" indent="-31536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ذا كان الاصل ان يقوم الساحب بإصدار الكمبيالة بنفسه ، فهل يجوز له انابة شخص اخر في سحبها ؟ أو ان يقوم شخص اخر بسحبها لحسابه ؟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1:21:50Z</dcterms:created>
  <dc:creator>a</dc:creator>
  <dc:description/>
  <dc:language>en-US</dc:language>
  <cp:lastModifiedBy>eman</cp:lastModifiedBy>
  <dcterms:modified xsi:type="dcterms:W3CDTF">2016-10-05T01:21:40Z</dcterms:modified>
  <cp:revision>75</cp:revision>
  <dc:subject/>
  <dc:title>الجزاء القانوني على تخلف أحد البيانات ال             الجزاء القانوني على تخلف أحد البيانات الإلزمية</dc:title>
</cp:coreProperties>
</file>