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D81DE-C4E7-43BD-8DA2-63B415EB4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C4AE8-5905-483B-93D1-91CDD69F8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BD7E8-1740-48A7-B168-0057CE82B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92685-C7B9-4F39-8E1F-179AC8807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1BDA7-9EF1-4151-90BF-4A7EBDD14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08D2B-3F05-44DC-83E0-B1C5F7687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5A47D-2256-46DC-8082-C367FA83A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34D27-F3CC-4F83-9753-1A9025E0E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CB3E0-B24A-4500-8B63-9F7C61161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5E6A3-C807-446A-9FC6-9CD246736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3EA0E-7607-4461-9F81-F40CFB274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88F70-3F1D-4005-8097-051469DE0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C2E27-AFFE-417F-BC42-79C8346D7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B9B02-95C1-49D8-BA9B-B35C92AA1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AA69D-0DA4-4A45-8064-987573D82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C3B69-EFF2-4084-87A3-E3F1B720F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15DAA-5F24-46D9-B231-83071B5E8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F00A77-7A27-4E0C-8169-8B5457151E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477147-544C-48B4-8D8B-8093135B1B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846589-2B83-47B1-8AD8-0AF56FFD9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E173D4-EB31-49AC-A403-B8D55658A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6CE681-3432-4703-B6CA-00DFAC1C9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BA5D2-E536-4DC8-BFF9-611EF95AD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7A8FF-BE7A-45D4-9254-B5E27B5D3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05492-CDCD-43A1-A443-3FC424727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191D76-89A9-4DD4-BAE9-2F7E25C61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1B4AE-9FBE-4B28-AD39-A60230485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DDE5A-9A20-4511-B23B-D0DE16534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C864BB-72C6-4B54-84D8-21C7DC65AF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2FF3A0-A6CF-4454-AEED-2F44AF2951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C8E0B4-F646-4BB4-90EA-5CBF37CFF6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72769-FAE5-4091-87F4-0D1BEA53D2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2E8887-2E8D-4508-928B-8AD51D180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25A2A-03C1-4B7F-8807-9FF265786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7DED03-3B66-454D-BB73-4B500B1729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873B5-D2BA-4E95-B298-42F5030B3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4F0512-B141-4170-BB31-D4D99A9270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8DA9D0-0FAF-4F20-B602-13C786E3E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1D954-0BA6-466A-A63F-C1192EF39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D4B40-62F8-41C1-9E66-10E16FF0C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342AED-F46A-4C41-8671-6E2FBC1A4B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58DADF-2C20-497B-9311-CD214B7A97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D6213C-622C-483B-BE52-D627810C6A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44C767-9359-4B5A-911E-7EEDFF1318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CC2BE-8EE7-4DA9-9597-6CBDB08F7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465008-23DC-46A9-B5A2-1A401C8088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D74619-B057-48F3-8A53-270D64769F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692E45-8D21-4BA7-BB7F-C2F382AA58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BAC4B9-17EC-4061-AE32-2563921680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66A15F-C46D-4580-8E66-B041D4A6A0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C0990-E868-41EB-84E5-3E46B964D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7A588-8E8B-407A-80EF-F8FF6C361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85A13-E2D5-457F-940F-294B17421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AB94E7-CBE1-476F-9B78-7027BBC2C6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F9C6C1-6EEE-45C5-8996-ED56108BEE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0066B-1FCC-41BC-AB05-B978D2754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8B7C48-B24C-49C8-B119-8078157A3F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17A5F-4233-47CC-ADBE-484C45BB6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2A4D9-60C0-48C8-9E3A-5CE0A81AA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22EDC-E6B4-48E9-A234-6317B68A1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lgn="r" rtl="1">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2677-5383-41B5-8E62-E5651E05327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lgn="r" rtl="1">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564E-A2EE-4571-8073-2FCEAF6D3CA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lgn="r" rtl="1">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81BB-2860-4317-9DAD-3C656270AC7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lgn="r" rtl="1">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CBCB-F72A-4B3A-8AB1-08EDE9B27A6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lgn="r" rtl="1">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B2E7-F877-4C2B-A838-C3942C8F8AD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2332080" y="2193840"/>
            <a:ext cx="6019920" cy="253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92934"/>
                </a:solidFill>
                <a:latin typeface="Arial"/>
                <a:cs typeface="Arial"/>
              </a:rPr>
              <a:t>أطراف العلاقة التأمينية</a:t>
            </a:r>
            <a:r>
              <a:rPr b="0" lang="ar-SA" sz="4000" spc="-1" strike="noStrike">
                <a:solidFill>
                  <a:srgbClr val="292934"/>
                </a:solidFill>
                <a:latin typeface="Arial"/>
                <a:ea typeface="Arial"/>
              </a:rPr>
              <a:t> </a:t>
            </a:r>
            <a:endParaRPr b="0" lang="en-US" sz="40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92934"/>
                </a:solidFill>
                <a:latin typeface="Arial"/>
                <a:cs typeface="Arial"/>
              </a:rPr>
              <a:t>أ.إيمان الشلول</a:t>
            </a:r>
            <a:r>
              <a:rPr b="0" lang="ar-SA" sz="4000" spc="-1" strike="noStrike">
                <a:solidFill>
                  <a:srgbClr val="292934"/>
                </a:solidFill>
                <a:latin typeface="Arial"/>
                <a:ea typeface="Arial"/>
              </a:rPr>
              <a:t> </a:t>
            </a:r>
            <a:endParaRPr b="0" lang="en-US" sz="4000" spc="-1" strike="noStrike">
              <a:solidFill>
                <a:srgbClr val="292934"/>
              </a:solidFill>
              <a:latin typeface="Arial"/>
            </a:endParaRPr>
          </a:p>
        </p:txBody>
      </p:sp>
      <p:pic>
        <p:nvPicPr>
          <p:cNvPr id="220" name="Picture 2" descr=""/>
          <p:cNvPicPr/>
          <p:nvPr/>
        </p:nvPicPr>
        <p:blipFill>
          <a:blip r:embed="rId1"/>
          <a:stretch/>
        </p:blipFill>
        <p:spPr>
          <a:xfrm>
            <a:off x="7164360" y="457200"/>
            <a:ext cx="1863720" cy="990720"/>
          </a:xfrm>
          <a:prstGeom prst="rect">
            <a:avLst/>
          </a:prstGeom>
          <a:ln w="0">
            <a:noFill/>
          </a:ln>
        </p:spPr>
      </p:pic>
      <p:pic>
        <p:nvPicPr>
          <p:cNvPr id="221" name="Picture 3" descr=""/>
          <p:cNvPicPr/>
          <p:nvPr/>
        </p:nvPicPr>
        <p:blipFill>
          <a:blip r:embed="rId2"/>
          <a:stretch/>
        </p:blipFill>
        <p:spPr>
          <a:xfrm>
            <a:off x="0" y="39996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76320" y="533520"/>
            <a:ext cx="891540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٣</a:t>
            </a:r>
            <a:r>
              <a:rPr b="1" lang="ar-SA" sz="2400" spc="-1" strike="noStrike">
                <a:solidFill>
                  <a:srgbClr val="a50021"/>
                </a:solidFill>
                <a:latin typeface="wf_segoe-ui_normal"/>
                <a:ea typeface="Arial"/>
              </a:rPr>
              <a:t>- اختصاصات مجلس الإدارة</a:t>
            </a:r>
            <a:r>
              <a:rPr b="1" lang="ar-SA" sz="2400" spc="-1" strike="noStrike">
                <a:solidFill>
                  <a:srgbClr val="a50021"/>
                </a:solidFill>
                <a:latin typeface="wf_segoe-ui_normal"/>
                <a:ea typeface="Arial"/>
              </a:rPr>
              <a:t> </a:t>
            </a:r>
            <a:r>
              <a:rPr b="1" lang="ar-SA" sz="2400" spc="-1" strike="noStrike">
                <a:solidFill>
                  <a:srgbClr val="a50021"/>
                </a:solidFill>
                <a:latin typeface="wf_segoe-ui_normal"/>
                <a:ea typeface="Arial"/>
              </a:rPr>
              <a:t>:</a:t>
            </a:r>
            <a:r>
              <a:rPr b="0" lang="ar-SA" sz="2400" spc="-1" strike="noStrike">
                <a:solidFill>
                  <a:srgbClr val="212121"/>
                </a:solidFill>
                <a:latin typeface="wf_segoe-ui_normal"/>
                <a:ea typeface="Arial"/>
              </a:rPr>
              <a:t> </a:t>
            </a:r>
            <a:br>
              <a:rPr sz="2400"/>
            </a:b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مجلس الإدارة هو صاحب السلطة العليا في توجيه سياسة المؤسسة و عملها وفقا لما يقرره النظام ، أما سلطة وزير العمل و الشؤون الاجتماعية هي مجرد سلطة وصائية على</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المجلس</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قد بين النظام اختصاصات مجلس الادارة و هي : اختصاصات تنظيمية ، اختصاصات مالية ، اختصاصات إدارية</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br>
              <a:rPr sz="2400"/>
            </a:br>
            <a:endParaRPr b="0" lang="en-US" sz="2400" spc="-1" strike="noStrike">
              <a:solidFill>
                <a:srgbClr val="292934"/>
              </a:solidFill>
              <a:latin typeface="Arial"/>
            </a:endParaRPr>
          </a:p>
        </p:txBody>
      </p:sp>
      <p:sp>
        <p:nvSpPr>
          <p:cNvPr id="234" name="Rectangle 2"/>
          <p:cNvSpPr/>
          <p:nvPr/>
        </p:nvSpPr>
        <p:spPr>
          <a:xfrm>
            <a:off x="76320" y="3611520"/>
            <a:ext cx="891540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أولا : الاختصاصات التنظيمية : </a:t>
            </a:r>
            <a:br>
              <a:rPr sz="2400"/>
            </a:br>
            <a:r>
              <a:rPr b="0" lang="ar-SA" sz="2400" spc="-1" strike="noStrike">
                <a:solidFill>
                  <a:srgbClr val="212121"/>
                </a:solidFill>
                <a:latin typeface="wf_segoe-ui_normal"/>
                <a:cs typeface="Arial"/>
              </a:rPr>
              <a:t>يتمتع المجلس باختصاصات تنظيمية حيث :يقر اللوائح التنظيمية و التنفيذية ثم يعرضها على الوزير المختص للتصديق عليها ، و يقوم باقتراح مراحل التطبيق الفعلي لفروع التأمينات الاجتماعية و عرضها على الوزير المختص الذي يقوم بدوره بإصدار القرارات اللازمة لوضعها موضع التنفيذ</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457200" y="380880"/>
            <a:ext cx="8534520" cy="37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ثانيا : الاختصاصات المالية : </a:t>
            </a:r>
            <a:br>
              <a:rPr sz="2400"/>
            </a:br>
            <a:r>
              <a:rPr b="0" lang="ar-SA" sz="2400" spc="-1" strike="noStrike">
                <a:solidFill>
                  <a:srgbClr val="212121"/>
                </a:solidFill>
                <a:latin typeface="wf_segoe-ui_normal"/>
                <a:cs typeface="Arial"/>
              </a:rPr>
              <a:t>يناط بالمجلس إقرار الخطة الحسابية و الميزانية و التقرير المالي و الحساب الختامي للمؤسسة مستندا في ذلك إلى رأي لجنة المراقبة المنوط بها رقابة أعمال الإدارة المالية للمؤسسة . و يتلقى المجلس التقارير  المالية من تلك اللجنة و يتولى الإفصاح عن المركز المالي السنوي للمؤسسة و عن نشاط الاستثمار بها . و يختص المجلس بوضع الخطة العامة لاستثمار أموال المؤسسة و إقرارها و تحديد المجالات التي يراها مفيدة لتوظيف هذه الأموال ضمن نطاق هذه الخطة و تنتهج المؤسسة سبلا عديدة لتنويع تلك الاستثمارات بما يعود بالنفع</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
        <p:nvSpPr>
          <p:cNvPr id="236" name="Rectangle 2"/>
          <p:cNvSpPr/>
          <p:nvPr/>
        </p:nvSpPr>
        <p:spPr>
          <a:xfrm>
            <a:off x="228600" y="3452760"/>
            <a:ext cx="8686800" cy="411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ثالثا : الاختصاصات الإدارية :</a:t>
            </a:r>
            <a:br>
              <a:rPr sz="2400"/>
            </a:br>
            <a:r>
              <a:rPr b="0" lang="ar-SA" sz="2400" spc="-1" strike="noStrike">
                <a:solidFill>
                  <a:srgbClr val="212121"/>
                </a:solidFill>
                <a:latin typeface="wf_segoe-ui_normal"/>
                <a:cs typeface="Arial"/>
              </a:rPr>
              <a:t>يقوم المجلس بالإشراف على حسن تنفيذ النظام و اللوائح النافذة و اتخاذ كل تدبير يراه ضروريا لبلوغ أهداف النظام ، و إقرار اللوائح التطبيقية لعرضها لتصديق الوزير المسؤول ، و يتولى تحديد نطاق التطبيق الأولي للنظام و تقرير إحداث المكاتب الرئيسية و الفروع المحلية للمؤسسة العامة و تحديد الجهاز الإداري للمؤسسة و المكاتب الرئيسية و الفرعية التابعة لها بناء على اقتراح من محافظ المؤسسة و يشمل أيضا عدد الموظفين و فئاتهم و درجاتهم و رواتبهم ...إلخ . و يبدي المجلس الرأي في المسائل التي يحيلها إليه رئيس المجلس أو نائبه . فضلا عن القيام بأي مهام أخرى يعهد بها إليه هذا النظام</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br>
              <a:rPr sz="2400"/>
            </a:b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152280" y="380880"/>
            <a:ext cx="8809200" cy="448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محافظ المؤسسة العامة للتأمينات الاجتماعية</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يتم تعيين محافظ المؤسسة بموجب أمر ملكي، وذلك بناء على ترشيح الوزير المختص .</a:t>
            </a:r>
            <a:br>
              <a:rPr sz="2400"/>
            </a:br>
            <a:r>
              <a:rPr b="0" lang="ar-SA" sz="2400" spc="-1" strike="noStrike">
                <a:solidFill>
                  <a:srgbClr val="000000"/>
                </a:solidFill>
                <a:latin typeface="Arial"/>
                <a:ea typeface="Arial"/>
              </a:rPr>
              <a:t> محافظ المؤسسة هو المرجع الأعلى لكافة العاملين بالمؤسسة الذي تعتمد عليه المؤسسة إدارياً وتنفيذيا . المحافظ مسؤول أمام مجلس الإدارة الذي يتولى وضع قراراته موضع تنفيذ . يتولى المحافظ إدارة كافة شؤون المؤسسة ويعمل على تطوير العمل بها .</a:t>
            </a:r>
            <a:br>
              <a:rPr sz="2400"/>
            </a:br>
            <a:r>
              <a:rPr b="0" lang="ar-SA" sz="2400" spc="-1" strike="noStrike">
                <a:solidFill>
                  <a:srgbClr val="000000"/>
                </a:solidFill>
                <a:latin typeface="Arial"/>
                <a:ea typeface="Arial"/>
              </a:rPr>
              <a:t> يقترح المحافظ على مجلس الإدارة النظام الداخلي للعاملين بالمؤسسة ، وعددهم ،وشروط التعيين والنقل والترقية والتأديب .</a:t>
            </a:r>
            <a:br>
              <a:rPr sz="2400"/>
            </a:br>
            <a:r>
              <a:rPr b="0" lang="ar-SA" sz="2400" spc="-1" strike="noStrike">
                <a:solidFill>
                  <a:srgbClr val="000000"/>
                </a:solidFill>
                <a:latin typeface="Arial"/>
                <a:cs typeface="Arial"/>
              </a:rPr>
              <a:t>يمارس المحافظ الصلاحيات التي يفوضه فيها مجلس الإدارة فيما يتصل بتنظيم العلاقات مع أصحاب العمل والعمال</a:t>
            </a:r>
            <a:r>
              <a:rPr b="0" lang="ar-SA" sz="2400" spc="-1" strike="noStrike">
                <a:solidFill>
                  <a:srgbClr val="000000"/>
                </a:solidFill>
                <a:latin typeface="Arial"/>
                <a:ea typeface="Arial"/>
              </a:rPr>
              <a:t> </a:t>
            </a:r>
            <a:r>
              <a:rPr b="0" lang="ar-SA" sz="2400" spc="-1" strike="noStrike">
                <a:solidFill>
                  <a:srgbClr val="000000"/>
                </a:solidFill>
                <a:latin typeface="Arial"/>
                <a:ea typeface="Arial"/>
              </a:rPr>
              <a:t>.</a:t>
            </a:r>
            <a:endParaRPr b="0" lang="en-US" sz="2400" spc="-1" strike="noStrike">
              <a:solidFill>
                <a:srgbClr val="292934"/>
              </a:solidFill>
              <a:latin typeface="Arial"/>
            </a:endParaRPr>
          </a:p>
        </p:txBody>
      </p:sp>
      <p:sp>
        <p:nvSpPr>
          <p:cNvPr id="238" name="Rectangle 2"/>
          <p:cNvSpPr/>
          <p:nvPr/>
        </p:nvSpPr>
        <p:spPr>
          <a:xfrm>
            <a:off x="182520" y="4114800"/>
            <a:ext cx="88092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جب على المحافظ موافاة الوزارة وباقي الأجهزة التنفيذية بالبيانات والتقارير اللازمة عن أداء المؤوسسة . المحافظ يمثل المؤسسة أمام القضاء في كافة الدعاوى التي ترفع من جانب المؤسسة أو عليها . للمحافظ الصلاحية في تفويض من يراه في ذلك . يتولى المحافظ وضع قرارات مجلس إدارة المؤسسة موضع التنفيذ . المحافظ هو المسؤول المباشر أمام المجلس عن كافة أعمال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228600" y="1295280"/>
            <a:ext cx="8732880" cy="33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مكن  للمحافظ أن يفوض بعض اختصاصاته لبعض المعاونين ؛ولذلك لتشعب أعمال المؤسسة.  تضمنت اللائحة التنفيذية للنظام أحكام تمنح المحافظ صلاحيات واسعة فيما يتعلق بالعمال وأصحاب العمل</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مكن للوزير أن يفوض المحافظ صلاحية اتخاذ القرارات في بعض الأمور المحدد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مكن الاعتراض على القرارات الصادرة من المحافظ أمام مجلس الإدار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228600" y="914400"/>
            <a:ext cx="8534520" cy="265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القواعد المنظمة للاعتراض على قرارات المؤسسة</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في بعض الأحيان قد يصدر عن المؤسسة  الاجتماعية أو أحد مكاتبها بعض القرارات الخاطئة،  وفي أحيان أخرى ، قد يشعر صاحب العمل بأن القرار الصادر من المؤسسة في غير صالحه أو مجحف بحقوقه ؛ وترتيبا لذلك أجاز النظام الاعتراض على مثل هذه القرارات بالطرق القانونية المقرر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
        <p:nvSpPr>
          <p:cNvPr id="241" name="Rectangle 2"/>
          <p:cNvSpPr/>
          <p:nvPr/>
        </p:nvSpPr>
        <p:spPr>
          <a:xfrm>
            <a:off x="228600" y="3448080"/>
            <a:ext cx="853452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المقصود بالاعتراض</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اعتراض هو أحد أهم الطرق المقررة نظاميا للتظلم على القرارات الصادرة من المؤسسة ، ولأن المؤسسة شخصية اعتبارية عامة ، فقد سمح النظام لذوي الشأن بالتظلم من القرارات الصادرة عنها،  باعتبارها من القرارات الإدارية؛  سواء كان القرار إيجابياً أو سلبياً امتنعت المؤسسة عن إصداره ، كالقرار السلبي الصادر بعدم تعيين أحد الموظفين بالمؤسسة أو تخطيه في الترق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380880" y="380880"/>
            <a:ext cx="868680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صاحب الحق في الاعتراض</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أصل العام لا يجوز لأي شخص الاعتراض على القرارات الصادرة من المؤسسة ، مالم يكن له مصلحة من الاعتراض على القرار ، ويشترط وجود الصف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حدد المنظم السعودي أصحاب الحق في الاعتراض "وفقاً لنص المادة </a:t>
            </a:r>
            <a:r>
              <a:rPr b="0" lang="ar-SA" sz="2400" spc="-1" strike="noStrike">
                <a:solidFill>
                  <a:srgbClr val="292934"/>
                </a:solidFill>
                <a:latin typeface="Arial"/>
                <a:ea typeface="Arial"/>
              </a:rPr>
              <a:t>61</a:t>
            </a:r>
            <a:r>
              <a:rPr b="0" lang="ar-SA" sz="2400" spc="-1" strike="noStrike">
                <a:solidFill>
                  <a:srgbClr val="292934"/>
                </a:solidFill>
                <a:latin typeface="Arial"/>
                <a:cs typeface="Arial"/>
              </a:rPr>
              <a:t>من النظام،ونص</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مادة </a:t>
            </a:r>
            <a:r>
              <a:rPr b="0" lang="ar-SA" sz="2400" spc="-1" strike="noStrike">
                <a:solidFill>
                  <a:srgbClr val="292934"/>
                </a:solidFill>
                <a:latin typeface="Arial"/>
                <a:ea typeface="Arial"/>
              </a:rPr>
              <a:t>59</a:t>
            </a:r>
            <a:r>
              <a:rPr b="0" lang="ar-SA" sz="2400" spc="-1" strike="noStrike">
                <a:solidFill>
                  <a:srgbClr val="292934"/>
                </a:solidFill>
                <a:latin typeface="Arial"/>
                <a:ea typeface="Arial"/>
              </a:rPr>
              <a:t> من اللائحة التنفيذية</a:t>
            </a:r>
            <a:r>
              <a:rPr b="0" lang="ar-SA" sz="2400" spc="-1" strike="noStrike">
                <a:solidFill>
                  <a:srgbClr val="292934"/>
                </a:solidFill>
                <a:latin typeface="Arial"/>
                <a:ea typeface="Arial"/>
              </a:rPr>
              <a:t>" :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 </a:t>
            </a:r>
            <a:r>
              <a:rPr b="0" lang="ar-SA" sz="2400" spc="-1" strike="noStrike">
                <a:solidFill>
                  <a:srgbClr val="292934"/>
                </a:solidFill>
                <a:latin typeface="Arial"/>
                <a:cs typeface="Arial"/>
              </a:rPr>
              <a:t>لصاحب العمل أو المشترك أو من يقوم مقامهما ، حق الاعتراض على أي قرار صادر من أي جهاز من أجهزة المؤسسة</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
        <p:nvSpPr>
          <p:cNvPr id="243" name="Rectangle 2"/>
          <p:cNvSpPr/>
          <p:nvPr/>
        </p:nvSpPr>
        <p:spPr>
          <a:xfrm>
            <a:off x="152280" y="4038480"/>
            <a:ext cx="8915400" cy="265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موضوع الاعتراض</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مادة </a:t>
            </a:r>
            <a:r>
              <a:rPr b="0" lang="ar-SA" sz="2400" spc="-1" strike="noStrike">
                <a:solidFill>
                  <a:srgbClr val="292934"/>
                </a:solidFill>
                <a:latin typeface="Arial"/>
                <a:ea typeface="Arial"/>
              </a:rPr>
              <a:t>61</a:t>
            </a:r>
            <a:r>
              <a:rPr b="0" lang="ar-SA" sz="2400" spc="-1" strike="noStrike">
                <a:solidFill>
                  <a:srgbClr val="292934"/>
                </a:solidFill>
                <a:latin typeface="Arial"/>
                <a:ea typeface="Arial"/>
              </a:rPr>
              <a:t> من نظام التأمينات الاجتماعية حددت  المسائل التي يجوز لذوي الشأن الاعتراض عليه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أ- الخضوع أو عدم الخضوع للنظا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ب- تحديد الأجر الخاضع لحسم الاشتراكات أو تحديد قيمة الاشتراكات أو غرامات التأخي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168120" y="609480"/>
            <a:ext cx="876312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إجراءات تقديم الاعتراض</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ناولت المادة </a:t>
            </a:r>
            <a:r>
              <a:rPr b="0" lang="ar-SA" sz="2400" spc="-1" strike="noStrike">
                <a:solidFill>
                  <a:srgbClr val="292934"/>
                </a:solidFill>
                <a:latin typeface="Arial"/>
                <a:ea typeface="Arial"/>
              </a:rPr>
              <a:t>60</a:t>
            </a:r>
            <a:r>
              <a:rPr b="0" lang="ar-SA" sz="2400" spc="-1" strike="noStrike">
                <a:solidFill>
                  <a:srgbClr val="292934"/>
                </a:solidFill>
                <a:latin typeface="Arial"/>
                <a:ea typeface="Arial"/>
              </a:rPr>
              <a:t> من اللائحة التنفيذية الإجراءات العملية المنظمة لموضوع الاعتراض على قرارات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 </a:t>
            </a:r>
            <a:r>
              <a:rPr b="0" lang="ar-SA" sz="2400" spc="-1" strike="noStrike">
                <a:solidFill>
                  <a:srgbClr val="292934"/>
                </a:solidFill>
                <a:latin typeface="Arial"/>
                <a:cs typeface="Arial"/>
              </a:rPr>
              <a:t>يجوز لصاحب الشأن أن يتقدم بالتماس إلى نفس الجهاز الذي أصدر القرار محل الاعتراض لإعادة النظر فيه ، ويحدد بالالتماس</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أسبابه</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ب-طلباته</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يقدم خلال شهر من تاريخ إخطاره بالقرار ، ويجب أن يقدم باعتراضه إلى المستوى الأعلى مباشرة ، على أن يقدم اعتراضه خلال شهرين من تاريخ صدور القرار المعترض علي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 </a:t>
            </a:r>
            <a:r>
              <a:rPr b="0" lang="ar-SA" sz="2400" spc="-1" strike="noStrike">
                <a:solidFill>
                  <a:srgbClr val="292934"/>
                </a:solidFill>
                <a:latin typeface="Arial"/>
                <a:cs typeface="Arial"/>
              </a:rPr>
              <a:t>إذا تقدم صاحب الشأن بالالتماس ورفض ، أو لم يبت فيه خلال خمسة عشر يوماً من تاريخ تقديمه ، جاز له التقدم باعتراضه ، على أن يكون ذلك خلال شهرين من تاريخ إخطاره برفض التماسه أو تاريخ نهاية الخمسة عشر يوماً التي مضت على تقديم الالتماس دون البت فيه حسب الحال</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
          <p:cNvSpPr/>
          <p:nvPr/>
        </p:nvSpPr>
        <p:spPr>
          <a:xfrm>
            <a:off x="533520" y="581040"/>
            <a:ext cx="8458200" cy="558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هناك أنواع للاعتراض بحسب الجهة التي يرفع إليها ، وهي</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أولاً:التظلم الولائي</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جوز للمعترض أن يتقدم باعتراضه إلى نفس الجهاز الذي أصدر القرار محل التظلم ، وذلك لإعادة النظر فيه ، يتم ذلك من خلال طلب يحدد ب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 اسمه كامل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ب-صفت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ج- مهنته ومقر عمل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د-عنوانه</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ه- الجهة مصدر القرا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تحديد الأمور التي يرى أنه ينبغي إعادة النظر فيه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ز- يبين بالطلب أسباب الاعتراض ، ويرفق المستندات المؤيدة لوجهة نظر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
        <p:nvSpPr>
          <p:cNvPr id="246" name="Rectangle 2"/>
          <p:cNvSpPr/>
          <p:nvPr/>
        </p:nvSpPr>
        <p:spPr>
          <a:xfrm>
            <a:off x="152280" y="5722920"/>
            <a:ext cx="88394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تم تقديم الالتماس خلال شهر من تاريخ إخطاره بالقرار ، فإذا تم الإخطار وانقضت مدة شهر عليه فلا يجوز له تقديم طلب بعد ذلك إلى نفس الجه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152280" y="609480"/>
            <a:ext cx="8686800" cy="265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ثانيا:التظلم الرئاسي</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في حالة رفض التظلم الولائي المقدم إلى الجهة مصدرة القرار ، أو حالات انقضاء المدة الواجب تقديمه خلالها ، أو بعد انقضاء خمسة عشر يوماً على تقديمه إلى الجهة مصدرة القرار دون أن تصدر رأيها في ذلك القرار ، فعندئد يجوز تقديم الاعتراض مباشرة إلى </a:t>
            </a:r>
            <a:r>
              <a:rPr b="0" lang="en-US" sz="2400" spc="-1" strike="noStrike">
                <a:solidFill>
                  <a:srgbClr val="292934"/>
                </a:solidFill>
                <a:latin typeface="Arial"/>
              </a:rPr>
              <a:t>.</a:t>
            </a:r>
            <a:r>
              <a:rPr b="0" lang="ar-SA" sz="2400" spc="-1" strike="noStrike">
                <a:solidFill>
                  <a:srgbClr val="292934"/>
                </a:solidFill>
                <a:latin typeface="Arial"/>
                <a:cs typeface="Arial"/>
              </a:rPr>
              <a:t>الجهة الرئاسية،  وهي المستوى الأعلى مباشرة للجهة مصدرة القرار</a:t>
            </a:r>
            <a:r>
              <a:rPr b="0" lang="ar-SA" sz="2400" spc="-1" strike="noStrike">
                <a:solidFill>
                  <a:srgbClr val="292934"/>
                </a:solidFill>
                <a:latin typeface="Arial"/>
                <a:ea typeface="Arial"/>
              </a:rPr>
              <a:t> </a:t>
            </a:r>
            <a:endParaRPr b="0" lang="en-US" sz="2400" spc="-1" strike="noStrike">
              <a:solidFill>
                <a:srgbClr val="292934"/>
              </a:solidFill>
              <a:latin typeface="Arial"/>
            </a:endParaRPr>
          </a:p>
        </p:txBody>
      </p:sp>
      <p:sp>
        <p:nvSpPr>
          <p:cNvPr id="248" name="Rectangle 2"/>
          <p:cNvSpPr/>
          <p:nvPr/>
        </p:nvSpPr>
        <p:spPr>
          <a:xfrm>
            <a:off x="304920" y="3124080"/>
            <a:ext cx="8746920" cy="411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الجهات الرئاسية التي يتم اللجوء إليها بالاعتراض هي</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مدير المكتب الرئيسي بالنسبة للقرارات الصادرة من مديري المكاتب الفرعية</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a:t>
            </a:r>
            <a:r>
              <a:rPr b="0" lang="ar-SA" sz="2400" spc="-1" strike="noStrike">
                <a:solidFill>
                  <a:srgbClr val="292934"/>
                </a:solidFill>
                <a:latin typeface="Arial"/>
                <a:cs typeface="Arial"/>
              </a:rPr>
              <a:t>المحافظ بالنسبة للقرارات الصادرة من مدير المكتب</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a:t>
            </a:r>
            <a:r>
              <a:rPr b="0" lang="ar-SA" sz="2400" spc="-1" strike="noStrike">
                <a:solidFill>
                  <a:srgbClr val="292934"/>
                </a:solidFill>
                <a:latin typeface="Arial"/>
                <a:cs typeface="Arial"/>
              </a:rPr>
              <a:t>مجلس الإدارة بالنسبة للقرارات من المحافظ</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تعين على هذه الجهات الرئاسية دراسة القرار وإصدار الرأي القانوني فيه سواء بالحفظ أو الرفض بشرط أن يكون ذلك مسبباً، مع مراعاة أن حفظ القرار محل الاعتراض يقوم مقام الرفض ، مع ضرورة إخطار المعترض رسمياً بموجب خطاب رسمي مسجل بالقرار على عنوانه الموضح في طلب الاعتراض</a:t>
            </a:r>
            <a:r>
              <a:rPr b="0" lang="ar-SA" sz="2400" spc="-1" strike="noStrike">
                <a:solidFill>
                  <a:srgbClr val="292934"/>
                </a:solidFill>
                <a:latin typeface="Arial"/>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228600" y="609480"/>
            <a:ext cx="8534520" cy="558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ثالثاً:التظلم أمام هيئات تسوية الخلافات العمالية</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لا يعد القرار الصادر من الجهاز الأعلى قرار نهائياً،  حيث يجوز الطعن عليه بالطريق الإداري أمام هيئات تسوية الخلافات العمالية ، ولصاحب الشأن الذي لم يقبل اعتراضه لأسباب موضوعية -بعد استنفاذ طريق التسلسل -  أن يتقدم بشكوى إلى الجهة المختصة بالفصل في قضايا العمل خلال ثلاثين يوماً مم تاريخ صدور قرار رفض اعتراض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منظم لم يغلق الباب أمام المعترض على القرار الإداري الصادر ، بل أجاز له اللجوء إلى هيئات تسوية الخلافات العمالية بالطعن على القرار الإداري محل الاعتراض ، على أن يتم اللجوء إلى هذه الهيئات خلال ثلاثين يوماً من تاريخ صدور القرار برفض </a:t>
            </a:r>
            <a:r>
              <a:rPr b="0" lang="en-US" sz="2400" spc="-1" strike="noStrike">
                <a:solidFill>
                  <a:srgbClr val="292934"/>
                </a:solidFill>
                <a:latin typeface="Arial"/>
              </a:rPr>
              <a:t>.</a:t>
            </a:r>
            <a:r>
              <a:rPr b="0" lang="ar-SA" sz="2400" spc="-1" strike="noStrike">
                <a:solidFill>
                  <a:srgbClr val="292934"/>
                </a:solidFill>
                <a:latin typeface="Arial"/>
                <a:cs typeface="Arial"/>
              </a:rPr>
              <a:t>الاعتراض المقدم منه للجهة الأعلى</a:t>
            </a:r>
            <a:r>
              <a:rPr b="0" lang="ar-SA" sz="2400" spc="-1" strike="noStrike">
                <a:solidFill>
                  <a:srgbClr val="292934"/>
                </a:solidFill>
                <a:latin typeface="Arial"/>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Diagram 1" descr=""/>
          <p:cNvPicPr/>
          <p:nvPr/>
        </p:nvPicPr>
        <p:blipFill>
          <a:blip r:embed="rId1"/>
          <a:stretch/>
        </p:blipFill>
        <p:spPr>
          <a:xfrm>
            <a:off x="212760" y="378000"/>
            <a:ext cx="8723160" cy="6181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533520" y="609480"/>
            <a:ext cx="8381880" cy="1922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التنظيم المالي للمؤسسة العامة للتأمينات الاجتماع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عتبر التنظيم المالي ركناً أساسياً في حسن سير أعمال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ناول المنظم السعودي التنظيم المالي وموارد المؤسسة العامة للتأمينات الاجتماعية في الفصل الرابع من النظا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pic>
        <p:nvPicPr>
          <p:cNvPr id="251" name="Diagram 2" descr=""/>
          <p:cNvPicPr/>
          <p:nvPr/>
        </p:nvPicPr>
        <p:blipFill>
          <a:blip r:embed="rId1"/>
          <a:stretch/>
        </p:blipFill>
        <p:spPr>
          <a:xfrm>
            <a:off x="476280" y="2468520"/>
            <a:ext cx="7839000" cy="417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
          <p:cNvSpPr/>
          <p:nvPr/>
        </p:nvSpPr>
        <p:spPr>
          <a:xfrm>
            <a:off x="228600" y="703440"/>
            <a:ext cx="8686800" cy="66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تمويل المؤسسة العامة للتأمينات الاجتماع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تنوع طرق تمويل الجهة القائمة على إدارة التأمينات الاجتماعية تبعا لاختلاف السياسات</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اجتماعية في الدول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t>
            </a:r>
            <a:r>
              <a:rPr b="1" lang="ar-SA" sz="2400" spc="-1" strike="noStrike">
                <a:solidFill>
                  <a:srgbClr val="a50021"/>
                </a:solidFill>
                <a:latin typeface="Arial"/>
                <a:cs typeface="Arial"/>
              </a:rPr>
              <a:t>موارد المؤسسة العامة للتأمينات الاجتماع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عتمد المؤسسة العامة على إسهام كل من العمال وأصحاب الأعمال والسلطة العامة في </a:t>
            </a:r>
            <a:r>
              <a:rPr b="0" lang="en-US" sz="2400" spc="-1" strike="noStrike">
                <a:solidFill>
                  <a:srgbClr val="292934"/>
                </a:solidFill>
                <a:latin typeface="Arial"/>
              </a:rPr>
              <a:t>.</a:t>
            </a:r>
            <a:r>
              <a:rPr b="0" lang="ar-SA" sz="2400" spc="-1" strike="noStrike">
                <a:solidFill>
                  <a:srgbClr val="292934"/>
                </a:solidFill>
                <a:latin typeface="Arial"/>
                <a:cs typeface="Arial"/>
              </a:rPr>
              <a:t>عملية التمويل وذلك حتى تستطيع المؤسسة أن توفي بالتزاماتها المال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253" name="Diagram 2" descr=""/>
          <p:cNvPicPr/>
          <p:nvPr/>
        </p:nvPicPr>
        <p:blipFill>
          <a:blip r:embed="rId1"/>
          <a:stretch/>
        </p:blipFill>
        <p:spPr>
          <a:xfrm>
            <a:off x="1352520" y="1444680"/>
            <a:ext cx="5438880" cy="34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
          <p:cNvSpPr/>
          <p:nvPr/>
        </p:nvSpPr>
        <p:spPr>
          <a:xfrm>
            <a:off x="533520" y="380880"/>
            <a:ext cx="845820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و يمكن تقسيم موارد المؤسسة العامة للتأمينات الاجتماعية كالتالي</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 </a:t>
            </a:r>
            <a:r>
              <a:rPr b="0" lang="ar-SA" sz="2400" spc="-1" strike="noStrike">
                <a:solidFill>
                  <a:srgbClr val="292934"/>
                </a:solidFill>
                <a:latin typeface="Arial"/>
                <a:cs typeface="Arial"/>
              </a:rPr>
              <a:t>الاشتراكات</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 </a:t>
            </a:r>
            <a:r>
              <a:rPr b="0" lang="ar-SA" sz="2400" spc="-1" strike="noStrike">
                <a:solidFill>
                  <a:srgbClr val="292934"/>
                </a:solidFill>
                <a:latin typeface="Arial"/>
                <a:cs typeface="Arial"/>
              </a:rPr>
              <a:t>إعانات الدول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 </a:t>
            </a:r>
            <a:r>
              <a:rPr b="0" lang="ar-SA" sz="2400" spc="-1" strike="noStrike">
                <a:solidFill>
                  <a:srgbClr val="292934"/>
                </a:solidFill>
                <a:latin typeface="Arial"/>
                <a:cs typeface="Arial"/>
              </a:rPr>
              <a:t>الغرامات</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4- </a:t>
            </a:r>
            <a:r>
              <a:rPr b="0" lang="ar-SA" sz="2400" spc="-1" strike="noStrike">
                <a:solidFill>
                  <a:srgbClr val="292934"/>
                </a:solidFill>
                <a:latin typeface="Arial"/>
                <a:cs typeface="Arial"/>
              </a:rPr>
              <a:t>الأرباح الناتجة عن استثمار أموال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5- </a:t>
            </a:r>
            <a:r>
              <a:rPr b="0" lang="ar-SA" sz="2400" spc="-1" strike="noStrike">
                <a:solidFill>
                  <a:srgbClr val="292934"/>
                </a:solidFill>
                <a:latin typeface="Arial"/>
                <a:cs typeface="Arial"/>
              </a:rPr>
              <a:t>موارد ثانوية أخرى</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
        <p:nvSpPr>
          <p:cNvPr id="255" name="Rectangle 4"/>
          <p:cNvSpPr/>
          <p:nvPr/>
        </p:nvSpPr>
        <p:spPr>
          <a:xfrm>
            <a:off x="152280" y="3071880"/>
            <a:ext cx="8839440" cy="448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أولاً : الاشتراكات</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عرف الاشتراكات بأنها مبالغ محددة بنسب معينة يسهم في أدائها العمال و أصحاب الأعمال وتغطي هذه الاشتراكات فرعي المعاشات والأخطار المهنية في الوقت الحاض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أجازت الفقرة </a:t>
            </a:r>
            <a:r>
              <a:rPr b="0" lang="ar-SA" sz="2400" spc="-1" strike="noStrike">
                <a:solidFill>
                  <a:srgbClr val="292934"/>
                </a:solidFill>
                <a:latin typeface="Arial"/>
                <a:ea typeface="Arial"/>
              </a:rPr>
              <a:t>2</a:t>
            </a:r>
            <a:r>
              <a:rPr b="0" lang="ar-SA" sz="2400" spc="-1" strike="noStrike">
                <a:solidFill>
                  <a:srgbClr val="292934"/>
                </a:solidFill>
                <a:latin typeface="Arial"/>
                <a:ea typeface="Arial"/>
              </a:rPr>
              <a:t> من المادة (</a:t>
            </a:r>
            <a:r>
              <a:rPr b="0" lang="ar-SA" sz="2400" spc="-1" strike="noStrike">
                <a:solidFill>
                  <a:srgbClr val="292934"/>
                </a:solidFill>
                <a:latin typeface="Arial"/>
                <a:ea typeface="Arial"/>
              </a:rPr>
              <a:t>1</a:t>
            </a:r>
            <a:r>
              <a:rPr b="0" lang="ar-SA" sz="2400" spc="-1" strike="noStrike">
                <a:solidFill>
                  <a:srgbClr val="292934"/>
                </a:solidFill>
                <a:latin typeface="Arial"/>
                <a:ea typeface="Arial"/>
              </a:rPr>
              <a:t>) من النظام أن يتم فرض اشتراكات أخرى إذا تقرر التوسع في أعمال فروع تأمينية إضافية وذلك عند اللزو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أجاز المنظم السعودي إمكانية التعديل في النسب المقررة للاشتراكات في المادة </a:t>
            </a:r>
            <a:r>
              <a:rPr b="0" lang="ar-SA" sz="2400" spc="-1" strike="noStrike">
                <a:solidFill>
                  <a:srgbClr val="292934"/>
                </a:solidFill>
                <a:latin typeface="Arial"/>
                <a:ea typeface="Arial"/>
              </a:rPr>
              <a:t>18</a:t>
            </a:r>
            <a:r>
              <a:rPr b="0" lang="ar-SA" sz="2400" spc="-1" strike="noStrike">
                <a:solidFill>
                  <a:srgbClr val="292934"/>
                </a:solidFill>
                <a:latin typeface="Arial"/>
                <a:ea typeface="Arial"/>
              </a:rPr>
              <a:t> , ويكون ذلك بقرار من مجلس الوزراء بناءً على اقتراح الوزير بعد ابداء مجلس الإدارة رأياُ مسبب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304920" y="838080"/>
            <a:ext cx="8610480" cy="33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ثانياً : إعانات الدول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نصت المادة </a:t>
            </a:r>
            <a:r>
              <a:rPr b="0" lang="ar-SA" sz="2400" spc="-1" strike="noStrike">
                <a:solidFill>
                  <a:srgbClr val="292934"/>
                </a:solidFill>
                <a:latin typeface="Arial"/>
                <a:ea typeface="Arial"/>
              </a:rPr>
              <a:t>17</a:t>
            </a:r>
            <a:r>
              <a:rPr b="0" lang="ar-SA" sz="2400" spc="-1" strike="noStrike">
                <a:solidFill>
                  <a:srgbClr val="292934"/>
                </a:solidFill>
                <a:latin typeface="Arial"/>
                <a:ea typeface="Arial"/>
              </a:rPr>
              <a:t> من النظام على اعتبار إعانات الدولة من الموارد المالية للمؤسسة العامة للتأمينات الاجتماع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وتعتبر مبالغ هذه الإعانات غير ثابتة في ميزانية الدولة وذلك لأنها متوقفة على الأوضاع المالية للمؤسسة فتزداد في حالة عجز مالية المؤسسة أو اضطرابها وتنخفض وحال العكس</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0" y="609480"/>
            <a:ext cx="8839080" cy="5946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ثالثاً : الغرامات</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يقصد بالغرامات بأنها هي المبالغ الإضافية التي يلتزم بها كل صاحب عمل يتأخر عن سداد ىالاشتراكات في مواعيدها المحدد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عتبر الغرامات التي يتم تحصيلها مقابل التأخير في دفع الاشتراكات من موارد المؤسسة وذلك بنص المادة </a:t>
            </a:r>
            <a:r>
              <a:rPr b="0" lang="ar-SA" sz="2400" spc="-1" strike="noStrike">
                <a:solidFill>
                  <a:srgbClr val="292934"/>
                </a:solidFill>
                <a:latin typeface="Arial"/>
                <a:ea typeface="Arial"/>
              </a:rPr>
              <a:t>17/3</a:t>
            </a:r>
            <a:r>
              <a:rPr b="0" lang="ar-SA" sz="2400" spc="-1" strike="noStrike">
                <a:solidFill>
                  <a:srgbClr val="292934"/>
                </a:solidFill>
                <a:latin typeface="Arial"/>
                <a:ea typeface="Arial"/>
              </a:rPr>
              <a:t> من النظا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نصت المادة </a:t>
            </a:r>
            <a:r>
              <a:rPr b="0" lang="ar-SA" sz="2400" spc="-1" strike="noStrike">
                <a:solidFill>
                  <a:srgbClr val="292934"/>
                </a:solidFill>
                <a:latin typeface="Arial"/>
                <a:ea typeface="Arial"/>
              </a:rPr>
              <a:t>19</a:t>
            </a:r>
            <a:r>
              <a:rPr b="0" lang="ar-SA" sz="2400" spc="-1" strike="noStrike">
                <a:solidFill>
                  <a:srgbClr val="292934"/>
                </a:solidFill>
                <a:latin typeface="Arial"/>
                <a:ea typeface="Arial"/>
              </a:rPr>
              <a:t> على أن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 </a:t>
            </a:r>
            <a:r>
              <a:rPr b="0" lang="ar-SA" sz="2400" spc="-1" strike="noStrike">
                <a:solidFill>
                  <a:srgbClr val="292934"/>
                </a:solidFill>
                <a:latin typeface="Arial"/>
                <a:cs typeface="Arial"/>
              </a:rPr>
              <a:t>يجب دفع الاشتراكات إلى المؤسسة خلال </a:t>
            </a:r>
            <a:r>
              <a:rPr b="0" lang="ar-SA" sz="2400" spc="-1" strike="noStrike">
                <a:solidFill>
                  <a:srgbClr val="292934"/>
                </a:solidFill>
                <a:latin typeface="Arial"/>
                <a:ea typeface="Arial"/>
              </a:rPr>
              <a:t>15</a:t>
            </a:r>
            <a:r>
              <a:rPr b="0" lang="ar-SA" sz="2400" spc="-1" strike="noStrike">
                <a:solidFill>
                  <a:srgbClr val="292934"/>
                </a:solidFill>
                <a:latin typeface="Arial"/>
                <a:ea typeface="Arial"/>
              </a:rPr>
              <a:t> يوم الأولى من الشهر الذي يلي الشهر المستحقة عنه الاشتراكات وفي حال لم يتم الدفع خلال هذه المدة فعلى صاحب العمل دفع غرامة تأخير بنسبة </a:t>
            </a:r>
            <a:r>
              <a:rPr b="0" lang="ar-SA" sz="2400" spc="-1" strike="noStrike">
                <a:solidFill>
                  <a:srgbClr val="292934"/>
                </a:solidFill>
                <a:latin typeface="Arial"/>
                <a:ea typeface="Arial"/>
              </a:rPr>
              <a:t>2</a:t>
            </a:r>
            <a:r>
              <a:rPr b="0" lang="ar-SA" sz="2400" spc="-1" strike="noStrike">
                <a:solidFill>
                  <a:srgbClr val="292934"/>
                </a:solidFill>
                <a:latin typeface="Arial"/>
                <a:ea typeface="Arial"/>
              </a:rPr>
              <a:t>% من الاشتراك المستحق عن كل شهر تأخير أو جزء من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 </a:t>
            </a:r>
            <a:r>
              <a:rPr b="0" lang="ar-SA" sz="2400" spc="-1" strike="noStrike">
                <a:solidFill>
                  <a:srgbClr val="292934"/>
                </a:solidFill>
                <a:latin typeface="Arial"/>
                <a:cs typeface="Arial"/>
              </a:rPr>
              <a:t>تحدد اللائحة الحد الأقصى لغرامات التأخير والحالات التي يتم فيها الإعفاء عن الغرامات كلها أو بعضه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76320" y="627120"/>
            <a:ext cx="899136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رابعاً: الأرباح الناتجة عن استثمار أموال المؤسس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عتبر الأرباح الناتجة عن استثمار أموالها من بين الموارد المالية للمؤسسة حسب المادة </a:t>
            </a:r>
            <a:r>
              <a:rPr b="0" lang="ar-SA" sz="2400" spc="-1" strike="noStrike">
                <a:solidFill>
                  <a:srgbClr val="292934"/>
                </a:solidFill>
                <a:latin typeface="Arial"/>
                <a:ea typeface="Arial"/>
              </a:rPr>
              <a:t>17/4</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لمجلس إدارة المؤسسة وضع الخطة لاستثمار أموال المؤسسة العامة وتحديد مجالات التوظيف التي يراها مفيدة ضمن نطاق هذه الخطة حسب ما تقتضي المادة </a:t>
            </a:r>
            <a:r>
              <a:rPr b="0" lang="ar-SA" sz="2400" spc="-1" strike="noStrike">
                <a:solidFill>
                  <a:srgbClr val="292934"/>
                </a:solidFill>
                <a:latin typeface="Arial"/>
                <a:ea typeface="Arial"/>
              </a:rPr>
              <a:t>12/7</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خامساً : موارد ثانوية أخرى</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أضافت المادة </a:t>
            </a:r>
            <a:r>
              <a:rPr b="0" lang="ar-SA" sz="2400" spc="-1" strike="noStrike">
                <a:solidFill>
                  <a:srgbClr val="292934"/>
                </a:solidFill>
                <a:latin typeface="Arial"/>
                <a:ea typeface="Arial"/>
              </a:rPr>
              <a:t>17/6,7</a:t>
            </a:r>
            <a:r>
              <a:rPr b="0" lang="ar-SA" sz="2400" spc="-1" strike="noStrike">
                <a:solidFill>
                  <a:srgbClr val="292934"/>
                </a:solidFill>
                <a:latin typeface="Arial"/>
                <a:ea typeface="Arial"/>
              </a:rPr>
              <a:t> موارد مالية أخرى ضمن موارد المؤسسة نصت عليها بتعبير " الهبات والوصايا المتبرع بها للمؤسسة العام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يعتبر هذا ترخيصاً بقبول مثل هذه الموارد المالية إذ أن الأصل هو عدم جواز قبول الجهات العامة لها إلا بترخيص نظامي</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بالاضافة إلى الموارد الأخرى التي تخصص للمؤسسة نص النظام أو لائحة أخرى ويعتبر النص جاء على سبيل الاحتياط، وذلك حتى يدخل في أموال المؤسسة ما يمكن تخصيصه لها تحت أي ظرف من الظروف</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228600" y="457200"/>
            <a:ext cx="868680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t>
            </a:r>
            <a:r>
              <a:rPr b="1" lang="ar-SA" sz="2400" spc="-1" strike="noStrike">
                <a:solidFill>
                  <a:srgbClr val="a50021"/>
                </a:solidFill>
                <a:latin typeface="Arial"/>
                <a:cs typeface="Arial"/>
              </a:rPr>
              <a:t>ضمانات حماية حقوق المؤسس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كرس نظام التأمينات الاجتماعية ولائحته التنفيذية حماية خاصة لمؤسسة التأمينات الاجتماعية وأحاط مستحقاتها بعدة ضمانات حتى يمنع المساس به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هذه الضمانات هي</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 </a:t>
            </a:r>
            <a:r>
              <a:rPr b="0" lang="ar-SA" sz="2400" spc="-1" strike="noStrike">
                <a:solidFill>
                  <a:srgbClr val="292934"/>
                </a:solidFill>
                <a:latin typeface="Arial"/>
                <a:cs typeface="Arial"/>
              </a:rPr>
              <a:t>صفة الأموال العام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 </a:t>
            </a:r>
            <a:r>
              <a:rPr b="0" lang="ar-SA" sz="2400" spc="-1" strike="noStrike">
                <a:solidFill>
                  <a:srgbClr val="292934"/>
                </a:solidFill>
                <a:latin typeface="Arial"/>
                <a:cs typeface="Arial"/>
              </a:rPr>
              <a:t>حق التنفيذ الجبري</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 </a:t>
            </a:r>
            <a:r>
              <a:rPr b="0" lang="ar-SA" sz="2400" spc="-1" strike="noStrike">
                <a:solidFill>
                  <a:srgbClr val="292934"/>
                </a:solidFill>
                <a:latin typeface="Arial"/>
                <a:cs typeface="Arial"/>
              </a:rPr>
              <a:t>عدم سريان التقادم على أموال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4- </a:t>
            </a:r>
            <a:r>
              <a:rPr b="0" lang="ar-SA" sz="2400" spc="-1" strike="noStrike">
                <a:solidFill>
                  <a:srgbClr val="292934"/>
                </a:solidFill>
                <a:latin typeface="Arial"/>
                <a:cs typeface="Arial"/>
              </a:rPr>
              <a:t>تضامن أصحاب العمل والورثة والخلف في المسؤول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5- </a:t>
            </a:r>
            <a:r>
              <a:rPr b="0" lang="ar-SA" sz="2400" spc="-1" strike="noStrike">
                <a:solidFill>
                  <a:srgbClr val="292934"/>
                </a:solidFill>
                <a:latin typeface="Arial"/>
                <a:cs typeface="Arial"/>
              </a:rPr>
              <a:t>مراقبة تطبيق النظا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152280" y="1219320"/>
            <a:ext cx="883944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أولاً: صفة الأموال العام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عتبر أموال المؤسسة العامة للتأمينات الاجتماعية أموال عامة وهي مصونة بالامتيازات المقررة لجباية وحماية تلك الأموال</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نصت المادة </a:t>
            </a:r>
            <a:r>
              <a:rPr b="0" lang="ar-SA" sz="2400" spc="-1" strike="noStrike">
                <a:solidFill>
                  <a:srgbClr val="292934"/>
                </a:solidFill>
                <a:latin typeface="Arial"/>
                <a:ea typeface="Arial"/>
              </a:rPr>
              <a:t>20</a:t>
            </a:r>
            <a:r>
              <a:rPr b="0" lang="ar-SA" sz="2400" spc="-1" strike="noStrike">
                <a:solidFill>
                  <a:srgbClr val="292934"/>
                </a:solidFill>
                <a:latin typeface="Arial"/>
                <a:ea typeface="Arial"/>
              </a:rPr>
              <a:t> على أن " جباية الاشتراكات و الغرامات التي تفرض على التأخير مضمونة بحق امتياز لصالح المؤسسة تأتي مباشرةً في الدرجة التي تلي امتياز استيفاء الأجو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
          <p:cNvSpPr/>
          <p:nvPr/>
        </p:nvSpPr>
        <p:spPr>
          <a:xfrm>
            <a:off x="533520" y="380880"/>
            <a:ext cx="8458200" cy="7043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ثانياً: حق التنفيذ الجبري</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أعطى المنظم للاشتراكات مرتبة امتياز تماثل المرتبة المقررة للأجر من الوجهة النظامية إذ أنها مضمونة بحق امتياز لصالح المؤسسة تأتي مباشرة في الدرجة بعد امتياز استيفاء الأجو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عتبر جداول المبالغ المستحقة للمؤسسة المصدقة رسميا من قبل الوزير المسؤول صك رسمي صالح لاجراء الحجز والتنفيذ الجبري لتحصيلها وذلك عن طريق الجهات الرسمية المختص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عتبر المبالغ المستحقة للمؤسسة واجبة الأداء فور استحقاقها ويجب على صاحب العمل أن يسددها مضافاً إليها غرامات التأخير المستحقة عن فترة التأخير حتى تاريخ السداد الفعلي و إلا فإنه يجوز للمؤسسة بعد موافقة المحافظ أن تتخذ إجراءات استصدار أمر قضائي بالحجز والتنفيذ الجبري على أموال صاحب العمل وذلك إنذاره بعزمها على اتخاذ الاجراء واعطاءه مهلة </a:t>
            </a:r>
            <a:r>
              <a:rPr b="0" lang="ar-SA" sz="2400" spc="-1" strike="noStrike">
                <a:solidFill>
                  <a:srgbClr val="292934"/>
                </a:solidFill>
                <a:latin typeface="Arial"/>
                <a:ea typeface="Arial"/>
              </a:rPr>
              <a:t>15</a:t>
            </a:r>
            <a:r>
              <a:rPr b="0" lang="ar-SA" sz="2400" spc="-1" strike="noStrike">
                <a:solidFill>
                  <a:srgbClr val="292934"/>
                </a:solidFill>
                <a:latin typeface="Arial"/>
                <a:ea typeface="Arial"/>
              </a:rPr>
              <a:t> يوم لسداد الاشتراكات وغرامات التأخير ، بعدها تبدأ باتخاذ الإجراءات أو تعطيه مهلة أخرى</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
          <p:cNvSpPr/>
          <p:nvPr/>
        </p:nvSpPr>
        <p:spPr>
          <a:xfrm>
            <a:off x="152280" y="762120"/>
            <a:ext cx="8747280" cy="7043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ثالثاً: عدم سريان التقادم على أموال المؤسس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لا تسري أحكام التقادم على أموال المؤسسة باعتبارها شخص معنوي عام تتمتع أمواله بصفة المال العا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حقوق المالية للمؤسسة لا يسري عليها سريان التقادم سواء كان للاشتراكات المستحقة للمؤسسة أو الغرامات إذ أنها لا تسقط بمرور الزمن مهما كانت الأسباب حتى لو ترتب على هذا الأمر إفلاس أو تصفية المنشأة أو أي سبب آخر</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حق للمؤسسة المطالبة بهذه الحقوق واتخاذ الإجراءات التنفيذية الجبرية لضمان حقوقها وهذا في حاله إذا طرأ على المنشأة تغيير من شأنه تعريض مستحقات المؤسسة للضياع</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كالإفلاس أو التصفية أو إنهاء النشاط أو الهجرة أو المغادرة النهائية للبلاد أو التنفبذ بالبيع ضد صاحب العمل بناء على طلب أي دائن سواء كان التنفيذ إداري أو قضائي أو وفاة صاحب العمل في المنشآت الفرد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في الحالات السابقة يحق للمؤسسة أن تطالب بقيمة الضمان واتخاذ إجراءات التنفيذ الجبري التي يسبقها مبدئياً إنذار صاحب العمل ثم الحصول على أمر قضائي بالحجز والتنقيذ الجبري على أموال صاجب العمل والمنشأ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76320" y="457200"/>
            <a:ext cx="8839080" cy="5702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wf_segoe-ui_normal"/>
                <a:cs typeface="Arial"/>
              </a:rPr>
              <a:t>أطراف العلاقة التأمينية</a:t>
            </a:r>
            <a:r>
              <a:rPr b="1" lang="ar-SA" sz="2800" spc="-1" strike="noStrike">
                <a:solidFill>
                  <a:srgbClr val="a50021"/>
                </a:solidFill>
                <a:latin typeface="wf_segoe-ui_normal"/>
                <a:ea typeface="Arial"/>
              </a:rPr>
              <a:t> </a:t>
            </a:r>
            <a:r>
              <a:rPr b="1" lang="ar-SA" sz="2800" spc="-1" strike="noStrike">
                <a:solidFill>
                  <a:srgbClr val="a50021"/>
                </a:solidFill>
                <a:latin typeface="wf_segoe-ui_normal"/>
                <a:ea typeface="Arial"/>
              </a:rPr>
              <a:t>: </a:t>
            </a:r>
            <a:br>
              <a:rPr sz="2800"/>
            </a:br>
            <a:endParaRPr b="0" lang="en-US" sz="28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يتكون نظام التأمينات الاجتماعية من مجموعة من القواعد القانونية اللازمة لحماية الشخص الطبيعي كإنسان بصفة عامة و كممتهن لنشاط أو عمل معين  بصفة خاصة و ذلك إذا ما تعرض لبعض المخاطر الاجتماعية التي تفقده القدرة على أداء هذا العمل</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يتم توفير هذه الحماية بما يكفل تحقيق الأمن الاجتماعي و الاقتصادي للمستفيدين و لأسرهم كغرض مباشر وبالتالي تتحقق سلامة المجتمع و الدولة</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تقتضي منظومة التأمينات الاجتماعية في المملكة العربية السعودية وجود أطراف ثلاثة : العامل ، صاحب العمل ، الدولة كطرف أصيل و فاعل يتمثل في المؤسسة العامة للتأمينات الاجتماعية</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تسمى هذه الأطراف الثلاثة بالنطاق الشخصي لنظام التأمينات الاجتماعية . سنتعرف عليها على النحو التالي</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
          <p:cNvSpPr/>
          <p:nvPr/>
        </p:nvSpPr>
        <p:spPr>
          <a:xfrm>
            <a:off x="168120" y="1066680"/>
            <a:ext cx="8839440" cy="5946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رابعاً: تضامن أصحاب العمل والورثة والخلف في المسؤول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قرر المنظم أن وفاة صاحب العمل لا تؤثر على مستحقات المؤسسة وتنعقد المسؤولية التضامنية بين الورثة كل في حدود ما آل إليه من التركة فيما يتعلق بسداد تلك المستحقات</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كذلك أرسى المنظم مبدأ التضامن بين صاحب العمل الأصيل ومن قام مقامه في تنفيذ الالتزامات عن أية مخالفات لأحكام نظام العمل ونظام التأمينات المقصود من ذلك أن يكون أصحاب الأعمال المتعاصرين مسؤولين عن كافة الالتزامات الملقاة على عاتقه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إن التضامن يقوم بين أصحاب العمل المتعاقبين أي بين الخلف والسلف سواء انتقلت ملكية المشروع بالبيع أو بالميراث أو بأي طريقة أخرى من طرق انتقال الملك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لا يؤثر انتقال المشروع على الالتزامات الناتجة عن عقود العمل إذ أنها تضل قائمة ونافذة تجاه صاحب العمل الجديد</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تحقق مسؤولية كل من الخلف والسلف بالتضامن بالنسبة للحقوق التي تنشأ عن المدة السابقة لهذا التغيي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
          <p:cNvSpPr/>
          <p:nvPr/>
        </p:nvSpPr>
        <p:spPr>
          <a:xfrm>
            <a:off x="304920" y="1066680"/>
            <a:ext cx="8534160" cy="33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نصت المادة </a:t>
            </a:r>
            <a:r>
              <a:rPr b="0" lang="ar-SA" sz="2400" spc="-1" strike="noStrike">
                <a:solidFill>
                  <a:srgbClr val="292934"/>
                </a:solidFill>
                <a:latin typeface="Arial"/>
                <a:ea typeface="Arial"/>
              </a:rPr>
              <a:t>39/2</a:t>
            </a:r>
            <a:r>
              <a:rPr b="0" lang="ar-SA" sz="2400" spc="-1" strike="noStrike">
                <a:solidFill>
                  <a:srgbClr val="292934"/>
                </a:solidFill>
                <a:latin typeface="Arial"/>
                <a:ea typeface="Arial"/>
              </a:rPr>
              <a:t> على أن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لا تنقضي المستحقات بحل النشأة أو تصفيتها أو إدماجها في غيرها أو انتقال ملكيتها بالوصية أو البيع أو التنازل عنها للغير أو تحويلها إلى شكل قانوني آخر وغير ذلك من التصرفات ويكون صاحب العمل السابق والجديد مسؤولين بالتضامن عن الوفاء بجميع مستحقات المؤسسة التي نشأت قبل حدوث أي من الوقائع المشار إليها أما المستحقات التي نشأت بعد ذلك فيتحملها صاحب العمل الجديد منفرد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
          <p:cNvSpPr/>
          <p:nvPr/>
        </p:nvSpPr>
        <p:spPr>
          <a:xfrm>
            <a:off x="304920" y="762120"/>
            <a:ext cx="8534160" cy="411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خامساً: مراقبة تطبيق النظام</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هدف مؤسسة التأمينات الاجتماعية بصفة دائمة الى تقديم أفضل الخدمات سواء للمشتركين او المستفيدين او لأصحاب العمل</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حرصا من المنظم على قيام المؤسسة بذلك على أكمل وجه فقد خصص الباب السادس من نظام التأمينات الاجتماعية لمراقبة تطبيق النظام</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منح النظام للمؤسسة سلطة التفتيش على مراكز العمل لحصر المخالفات، وحدد العقوبات التي توقيعها ضد المخالفين</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0" y="609480"/>
            <a:ext cx="906768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إ</a:t>
            </a:r>
            <a:r>
              <a:rPr b="0" lang="ar-SA" sz="2400" spc="-1" strike="noStrike">
                <a:solidFill>
                  <a:srgbClr val="a50021"/>
                </a:solidFill>
                <a:latin typeface="Arial"/>
                <a:cs typeface="Arial"/>
              </a:rPr>
              <a:t>جراءات تتخذها المؤسسة لمراقبة تطبيق احكام النظام</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a:t>
            </a:r>
            <a:r>
              <a:rPr b="0" lang="ar-SA" sz="2400" spc="-1" strike="noStrike">
                <a:solidFill>
                  <a:srgbClr val="292934"/>
                </a:solidFill>
                <a:latin typeface="Arial"/>
                <a:cs typeface="Arial"/>
              </a:rPr>
              <a:t>متابعة أصحاب العمل ومعاونتهم لتحقيق حسن تطبيقهم لأحكام النظام ولوائحه , وخاصة فيما يتعلق بقيامهم بالاشتراك عن جميع العاملين لديهم, وعلى أساس اجورهم الحقيقية, والوفاء بالتزاماتهم قبل المؤسسة وفقا لأحكام النظام والقرارات المنفذة ل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a:t>
            </a:r>
            <a:r>
              <a:rPr b="0" lang="ar-SA" sz="2400" spc="-1" strike="noStrike">
                <a:solidFill>
                  <a:srgbClr val="292934"/>
                </a:solidFill>
                <a:latin typeface="Arial"/>
                <a:cs typeface="Arial"/>
              </a:rPr>
              <a:t>متابعة حصر المنشآت والتأكد من تسجيلها لدى مكاتب المؤسس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a:t>
            </a:r>
            <a:r>
              <a:rPr b="0" lang="ar-SA" sz="2400" spc="-1" strike="noStrike">
                <a:solidFill>
                  <a:srgbClr val="292934"/>
                </a:solidFill>
                <a:latin typeface="Arial"/>
                <a:cs typeface="Arial"/>
              </a:rPr>
              <a:t>متابعة أصحاب العمل المختلفين عن السداد وتقديم النماذج</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4-</a:t>
            </a:r>
            <a:r>
              <a:rPr b="0" lang="ar-SA" sz="2400" spc="-1" strike="noStrike">
                <a:solidFill>
                  <a:srgbClr val="292934"/>
                </a:solidFill>
                <a:latin typeface="Arial"/>
                <a:cs typeface="Arial"/>
              </a:rPr>
              <a:t>العمل على توضيح أحكام النظام ولوائحه لأصحاب العمل المشتركين، لتلافي أخطاء التطبيق وسرعة الكشف عما يقع من مخالفات</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5-</a:t>
            </a:r>
            <a:r>
              <a:rPr b="0" lang="ar-SA" sz="2400" spc="-1" strike="noStrike">
                <a:solidFill>
                  <a:srgbClr val="292934"/>
                </a:solidFill>
                <a:latin typeface="Arial"/>
                <a:cs typeface="Arial"/>
              </a:rPr>
              <a:t>ضرورة التأكد من قيام كل منشأة خاضعة من إمساك سجلات وملفات منتظم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
          <p:cNvSpPr/>
          <p:nvPr/>
        </p:nvSpPr>
        <p:spPr>
          <a:xfrm>
            <a:off x="380880" y="797040"/>
            <a:ext cx="838224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6-</a:t>
            </a:r>
            <a:r>
              <a:rPr b="0" lang="ar-SA" sz="2400" spc="-1" strike="noStrike">
                <a:solidFill>
                  <a:srgbClr val="292934"/>
                </a:solidFill>
                <a:latin typeface="Arial"/>
                <a:cs typeface="Arial"/>
              </a:rPr>
              <a:t>إثبات مخالفات أصحاب العمل لأحكام النظام والقرارات الصادرة تطبيقا له</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7-</a:t>
            </a:r>
            <a:r>
              <a:rPr b="0" lang="ar-SA" sz="2400" spc="-1" strike="noStrike">
                <a:solidFill>
                  <a:srgbClr val="292934"/>
                </a:solidFill>
                <a:latin typeface="Arial"/>
                <a:cs typeface="Arial"/>
              </a:rPr>
              <a:t>إجراء التحقيق في مخالفات أصحاب العمل وفي شكاوى العمال بخصوص عدم الاشتراك عنهم، او الاشتراك على أساس أجور اقل من الأجور الحقيقي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8-</a:t>
            </a:r>
            <a:r>
              <a:rPr b="0" lang="ar-SA" sz="2400" spc="-1" strike="noStrike">
                <a:solidFill>
                  <a:srgbClr val="292934"/>
                </a:solidFill>
                <a:latin typeface="Arial"/>
                <a:cs typeface="Arial"/>
              </a:rPr>
              <a:t>التنسيق بين الأجهزة المختصة بالمؤسسة والأجهزة الحكومية الأخرى المعنية في سبيل حسن تطبيق النظام</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9-</a:t>
            </a:r>
            <a:r>
              <a:rPr b="0" lang="ar-SA" sz="2400" spc="-1" strike="noStrike">
                <a:solidFill>
                  <a:srgbClr val="292934"/>
                </a:solidFill>
                <a:latin typeface="Arial"/>
                <a:cs typeface="Arial"/>
              </a:rPr>
              <a:t>مراقبة مدى التزام صاحب العمل بأتباع تعليمات السلامة والصحة المهنية الصادرة عن الجهات المختصة</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
          <p:cNvSpPr/>
          <p:nvPr/>
        </p:nvSpPr>
        <p:spPr>
          <a:xfrm>
            <a:off x="533520" y="609480"/>
            <a:ext cx="8381880" cy="5214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تمتع مفتشو التأمينات الاجتماعية بصلاحيات واسعة للقيام بتنفيذ أهداف المؤسسة ومنها</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a:t>
            </a:r>
            <a:r>
              <a:rPr b="0" lang="ar-SA" sz="2400" spc="-1" strike="noStrike">
                <a:solidFill>
                  <a:srgbClr val="292934"/>
                </a:solidFill>
                <a:latin typeface="Arial"/>
                <a:cs typeface="Arial"/>
              </a:rPr>
              <a:t>صلاحية الدخول الى مقر المنشأة أثناء ساعات العمل</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a:t>
            </a:r>
            <a:r>
              <a:rPr b="0" lang="ar-SA" sz="2400" spc="-1" strike="noStrike">
                <a:solidFill>
                  <a:srgbClr val="292934"/>
                </a:solidFill>
                <a:latin typeface="Arial"/>
                <a:cs typeface="Arial"/>
              </a:rPr>
              <a:t>فحص السجلات والأوراق والملفات وأية وثائق أخرى لدى صاحب العمل لها علاقة بتطبيق النظام ولوائحه على العمال</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a:t>
            </a:r>
            <a:r>
              <a:rPr b="0" lang="ar-SA" sz="2400" spc="-1" strike="noStrike">
                <a:solidFill>
                  <a:srgbClr val="292934"/>
                </a:solidFill>
                <a:latin typeface="Arial"/>
                <a:cs typeface="Arial"/>
              </a:rPr>
              <a:t>سؤال صاحب العمل او ممثله او العمال في أي من الموضوعات المتعلقة بمهمته وله ان يحرر بها محضرا إذا اقتضى الامر ذلك</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4- </a:t>
            </a:r>
            <a:r>
              <a:rPr b="0" lang="ar-SA" sz="2400" spc="-1" strike="noStrike">
                <a:solidFill>
                  <a:srgbClr val="292934"/>
                </a:solidFill>
                <a:latin typeface="Arial"/>
                <a:cs typeface="Arial"/>
              </a:rPr>
              <a:t>مع مراعاة حكم الفقرة (</a:t>
            </a:r>
            <a:r>
              <a:rPr b="0" lang="ar-SA" sz="2400" spc="-1" strike="noStrike">
                <a:solidFill>
                  <a:srgbClr val="292934"/>
                </a:solidFill>
                <a:latin typeface="Arial"/>
                <a:ea typeface="Arial"/>
              </a:rPr>
              <a:t>2</a:t>
            </a:r>
            <a:r>
              <a:rPr b="0" lang="ar-SA" sz="2400" spc="-1" strike="noStrike">
                <a:solidFill>
                  <a:srgbClr val="292934"/>
                </a:solidFill>
                <a:latin typeface="Arial"/>
                <a:ea typeface="Arial"/>
              </a:rPr>
              <a:t>) م المادة(</a:t>
            </a:r>
            <a:r>
              <a:rPr b="0" lang="ar-SA" sz="2400" spc="-1" strike="noStrike">
                <a:solidFill>
                  <a:srgbClr val="292934"/>
                </a:solidFill>
                <a:latin typeface="Arial"/>
                <a:ea typeface="Arial"/>
              </a:rPr>
              <a:t>60</a:t>
            </a:r>
            <a:r>
              <a:rPr b="0" lang="ar-SA" sz="2400" spc="-1" strike="noStrike">
                <a:solidFill>
                  <a:srgbClr val="292934"/>
                </a:solidFill>
                <a:latin typeface="Arial"/>
                <a:ea typeface="Arial"/>
              </a:rPr>
              <a:t>) من النظام لا يجوز للمفتش طلب صلاحية الاستعانة بأي من الجهات المختصة في الدولة وذلك بعد موافقة محافظ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
          <p:cNvSpPr/>
          <p:nvPr/>
        </p:nvSpPr>
        <p:spPr>
          <a:xfrm>
            <a:off x="457200" y="762120"/>
            <a:ext cx="8458200" cy="5946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خضوع المؤسسة العامة لرقابة الدول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عترف المنظم السعودي للمؤسسة العامة للتأمينات الاجتماعية بصفة الشخص الاعتباري العام. وبناء على ذلك يكون لها استقلالا ماليا واداريا , أي ان لها ذمة مالية مستقلة وبالتالي لها الحق في قبول الهبات والوصايا, ولها الحق في التعاقد والتقاضي وغير ذلك من صور التصرفات القانون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كما نص من جانب اخر على ان تكون مضمونة من الدولة وخاضعة لإشرافها، والإشراف هذا يتمثل في الرقابة بجميع أنواعها فهناك</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a:t>
            </a:r>
            <a:r>
              <a:rPr b="0" lang="ar-SA" sz="2400" spc="-1" strike="noStrike">
                <a:solidFill>
                  <a:srgbClr val="292934"/>
                </a:solidFill>
                <a:latin typeface="Arial"/>
                <a:cs typeface="Arial"/>
              </a:rPr>
              <a:t>الرقابة الإدار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a:t>
            </a:r>
            <a:r>
              <a:rPr b="0" lang="ar-SA" sz="2400" spc="-1" strike="noStrike">
                <a:solidFill>
                  <a:srgbClr val="292934"/>
                </a:solidFill>
                <a:latin typeface="Arial"/>
                <a:cs typeface="Arial"/>
              </a:rPr>
              <a:t>الرقابة المالي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a:t>
            </a:r>
            <a:r>
              <a:rPr b="0" lang="ar-SA" sz="2400" spc="-1" strike="noStrike">
                <a:solidFill>
                  <a:srgbClr val="292934"/>
                </a:solidFill>
                <a:latin typeface="Arial"/>
                <a:cs typeface="Arial"/>
              </a:rPr>
              <a:t>الرقابة القضائية</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
          <p:cNvSpPr/>
          <p:nvPr/>
        </p:nvSpPr>
        <p:spPr>
          <a:xfrm>
            <a:off x="8380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الرقابة الإدارية على المؤسس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تمتع المؤسسة العامة للتأمينات الاجتماعية بالشخصية الاعتبارية ومن ثم فان لها الصلاحية في وضع اللوائح الإدارية وإصدار القرارات الخاصة بالمؤسسة ولا يمكن تفسير ذلك الاستقلال الإداري للمؤسسة بأنها منفصلة إداريا عن رقابة الدولة , وانما تظل خاضعة لرقابة واشراف الدول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يقصد بالوصاية الإدارية او الرقابة الإدارية السلطات الإدارية المحدودة الممنوحة بالنظام لشخص اداري اعلى لممارستها على شخص اداري أدني في مراقبة أعماله حماية للصالح العام</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تعني الرقابة الإدارية على المؤسسة خضوعها لوصاية جهة مركزية في الحدود التي ينص عليها نظامها , ولكل من جهة الرقابة والمؤسسة العامة للتأمينات الاجتماعية إدارة منفرد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152280" y="762120"/>
            <a:ext cx="861084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تولى وزير العمل الاشراف على المؤسسة العامة , وجعلت من حقه – بالإضافة لسلطانه واختصاصاته- المنصوص عليها في هذا النظام واللوائح النافذة , ان يطلب من المؤسسة العامة تزويده ما يشاء من معلومات , وان تضع تحت تصرفه الدفاتر والملفات والوثائق التي يراها ضرورية لممارسة هذا الاشراف وتحقيقا لهذا الغرض فإن المؤسسة العامة ملزمة لان تقدم للوزير المؤول في نهاية كل سنة تقريرا عن الاعمال المنجزة خلال السنه المنصرمة , ويتم عرض القرارات الصادرة من مجلس إدارة المؤسسة على الوزير المختص لاعتمادها , يجب إحالتها اليه خلال ثمانية أيام من تاريخ صدورها وذلك يؤكد الرقابة الإدارية من جانب الدولة على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152280" y="411120"/>
            <a:ext cx="8915400" cy="740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الرقابة المالية على المؤسس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تعني الرقابة المالية: مجموعة من الإجراءات التي تقوم بها أجهزة معينة بغية المحافظة على الأموال العامة للمؤسسة وضمان حسن تحصيلها وانفاقها بدقة وفعالية وفقا للخطط الموضوعة للجهات الخاضعة للرقاب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هدف هذه الرقابة الى</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a:t>
            </a:r>
            <a:r>
              <a:rPr b="0" lang="ar-SA" sz="2400" spc="-1" strike="noStrike">
                <a:solidFill>
                  <a:srgbClr val="292934"/>
                </a:solidFill>
                <a:latin typeface="Arial"/>
                <a:cs typeface="Arial"/>
              </a:rPr>
              <a:t>التحقق من ان الانفاق قد تم وفقا لما هو مقرر</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a:t>
            </a:r>
            <a:r>
              <a:rPr b="0" lang="ar-SA" sz="2400" spc="-1" strike="noStrike">
                <a:solidFill>
                  <a:srgbClr val="292934"/>
                </a:solidFill>
                <a:latin typeface="Arial"/>
                <a:cs typeface="Arial"/>
              </a:rPr>
              <a:t>التأكد من ان الموارد المتاحة قد تم استخدامها الاستخدام الأمثل الذي يحقق الأهداف المرجوة منها</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a:t>
            </a:r>
            <a:r>
              <a:rPr b="0" lang="ar-SA" sz="2400" spc="-1" strike="noStrike">
                <a:solidFill>
                  <a:srgbClr val="292934"/>
                </a:solidFill>
                <a:latin typeface="Arial"/>
                <a:cs typeface="Arial"/>
              </a:rPr>
              <a:t>تحديد الانحرافات الحاصلة نتيجة التنفيذ والتوجيه بمعالجتها</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ذلك بهدف التحقق من سلامة التصرفات والإجراءات المالية ومن اتباع النظام والقواعد العامة المقرر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خضع المؤسسة العامة للتأمينات الاجتماعية في شؤونها المالية لرقابة ديوان المراقبة العامة فضلا عن الرقابة الداخلية المتمثلة في سلطات مجلس الإدارة ولجنة المراقب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نقسم الرقابة المالية على أعمال المؤسسة الى رقابة خارجية وأخرى داخلية</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380880" y="457200"/>
            <a:ext cx="822960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المؤسسة العامة للتأمينات الاجتماعية</a:t>
            </a:r>
            <a:r>
              <a:rPr b="1" lang="ar-SA" sz="2400" spc="-1" strike="noStrike">
                <a:solidFill>
                  <a:srgbClr val="a50021"/>
                </a:solidFill>
                <a:latin typeface="wf_segoe-ui_normal"/>
                <a:ea typeface="Arial"/>
              </a:rPr>
              <a:t> </a:t>
            </a:r>
            <a:r>
              <a:rPr b="1" lang="ar-SA" sz="2400" spc="-1" strike="noStrike">
                <a:solidFill>
                  <a:srgbClr val="a50021"/>
                </a:solidFill>
                <a:latin typeface="wf_segoe-ui_normal"/>
                <a:ea typeface="Arial"/>
              </a:rPr>
              <a:t>:</a:t>
            </a:r>
            <a:r>
              <a:rPr b="0" lang="ar-SA" sz="2400" spc="-1" strike="noStrike">
                <a:solidFill>
                  <a:srgbClr val="a50021"/>
                </a:solidFill>
                <a:latin typeface="wf_segoe-ui_normal"/>
                <a:ea typeface="Arial"/>
              </a:rPr>
              <a:t> </a:t>
            </a:r>
            <a:br>
              <a:rPr sz="2400"/>
            </a:b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تقوم فكرة التأمينات الاجتماعية في المقام الأول على تجميع الاشتراكات من المؤمن عليهم المشتركين ثم توجيه تلك الأموال لتغطية المخاطر المؤمن منها ، أي أن العلاقة التأمينية تعتمد على ركيزتين أساسيتين : </a:t>
            </a:r>
            <a:r>
              <a:rPr b="1" lang="ar-SA" sz="2400" spc="-1" strike="noStrike">
                <a:solidFill>
                  <a:srgbClr val="a50021"/>
                </a:solidFill>
                <a:latin typeface="wf_segoe-ui_normal"/>
                <a:cs typeface="Arial"/>
              </a:rPr>
              <a:t>الركيزة الأولى </a:t>
            </a:r>
            <a:r>
              <a:rPr b="0" lang="ar-SA" sz="2400" spc="-1" strike="noStrike">
                <a:solidFill>
                  <a:srgbClr val="212121"/>
                </a:solidFill>
                <a:latin typeface="wf_segoe-ui_normal"/>
                <a:cs typeface="Arial"/>
              </a:rPr>
              <a:t>تتمثل في العامل و صاحب العمل ، </a:t>
            </a:r>
            <a:r>
              <a:rPr b="1" lang="ar-SA" sz="2400" spc="-1" strike="noStrike">
                <a:solidFill>
                  <a:srgbClr val="a50021"/>
                </a:solidFill>
                <a:latin typeface="wf_segoe-ui_normal"/>
                <a:cs typeface="Arial"/>
              </a:rPr>
              <a:t>الركيزة الثانية </a:t>
            </a:r>
            <a:r>
              <a:rPr b="0" lang="ar-SA" sz="2400" spc="-1" strike="noStrike">
                <a:solidFill>
                  <a:srgbClr val="212121"/>
                </a:solidFill>
                <a:latin typeface="wf_segoe-ui_normal"/>
                <a:cs typeface="Arial"/>
              </a:rPr>
              <a:t>تتمثل في مؤسسة التأمينات الاجتماعية</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تعتبر المؤسسة العامة للتأمينات الاجتماعية مرفق عام من مرافق الدولة يهدف إلى </a:t>
            </a:r>
            <a:r>
              <a:rPr b="0" lang="en-US" sz="2400" spc="-1" strike="noStrike">
                <a:solidFill>
                  <a:srgbClr val="212121"/>
                </a:solidFill>
                <a:latin typeface="wf_segoe-ui_normal"/>
              </a:rPr>
              <a:t>.</a:t>
            </a:r>
            <a:r>
              <a:rPr b="0" lang="ar-SA" sz="2400" spc="-1" strike="noStrike">
                <a:solidFill>
                  <a:srgbClr val="212121"/>
                </a:solidFill>
                <a:latin typeface="wf_segoe-ui_normal"/>
                <a:cs typeface="Arial"/>
              </a:rPr>
              <a:t>تقديم مجموعة خدمات من خلال عمل جماعي منظم تقوم عليه إدارة مرنة</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
          <p:cNvSpPr/>
          <p:nvPr/>
        </p:nvSpPr>
        <p:spPr>
          <a:xfrm>
            <a:off x="0" y="914400"/>
            <a:ext cx="9144000" cy="5946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الرقابة الخارجي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تم ممارسة الرقابة الخارجية على المؤسسة من قبل أجهزة رقابية مستقلة، ويتولى ديوان المراقبة العامة ووزارة المالية والاقتصاد الوطني تنفيذ الرقابة على حسن استخدام الأموال العامة والمحافظة على ممتلكات الدول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قد تم انشاء ديوان المراقبة العامة في المملكة العربية السعودية بموجب مرسوم ملكي وقد حدد النظام اختصاصات الديوان في الرقابة المالية اللاحقة ورقابة الالتزام بالأنظمة المرعي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يعد ديوان المراقبة العامة من اهم الأجهزة الحكومية التي تكفل توفير تأكيدات معقلة بحسن استخدام الأموال العامة والمحافظة على ممتلكات الدولة فيما يشبه دور مراجع الحسابات </a:t>
            </a:r>
            <a:r>
              <a:rPr b="0" lang="en-US" sz="2400" spc="-1" strike="noStrike">
                <a:solidFill>
                  <a:srgbClr val="292934"/>
                </a:solidFill>
                <a:latin typeface="Arial"/>
              </a:rPr>
              <a:t>.</a:t>
            </a:r>
            <a:r>
              <a:rPr b="0" lang="ar-SA" sz="2400" spc="-1" strike="noStrike">
                <a:solidFill>
                  <a:srgbClr val="292934"/>
                </a:solidFill>
                <a:latin typeface="Arial"/>
                <a:cs typeface="Arial"/>
              </a:rPr>
              <a:t>القانونية الذي يضفي الثقة على القوائم المالية للشركات</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
          <p:cNvSpPr/>
          <p:nvPr/>
        </p:nvSpPr>
        <p:spPr>
          <a:xfrm>
            <a:off x="533520" y="990720"/>
            <a:ext cx="845820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فيما يتعلق بهيئة الرقابة والتحقيق فتنص المادة الخامسة من نظام تأديب الموظفين بالمملكة العربية السعودية على انه " مع عدم الاخلال بسلطة الجهة الإدارية المعنية في الرقابة وفحص الشكاوى والتحقيق تختص هيئة الرقابة والتحقيق في حدود القواعد المنصوص عليها في هذا النظام بما يلي</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ea typeface="Arial"/>
              </a:rPr>
              <a:t>1-</a:t>
            </a:r>
            <a:r>
              <a:rPr b="0" lang="ar-SA" sz="2400" spc="-1" strike="noStrike">
                <a:solidFill>
                  <a:srgbClr val="292934"/>
                </a:solidFill>
                <a:latin typeface="Arial"/>
                <a:cs typeface="Arial"/>
              </a:rPr>
              <a:t>إجراء الرقابة اللازمة للكشف عن المخالفات المالية والإدارية وتقوم الهيئة كذلك بفحص الشكاوى التي تحال اليها من الوزراء المختصين او من أي جهة رسمية مختصة عن المخالفات المالية والإدارية , وكذلك إجراء التحقيق في المخالفات المالية والإدارية التي تكشف عنها الرقابة وفيما يحال اليها من الوزراء المختصين او من أي جهة رسمية مختص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
          <p:cNvSpPr/>
          <p:nvPr/>
        </p:nvSpPr>
        <p:spPr>
          <a:xfrm>
            <a:off x="76320" y="380880"/>
            <a:ext cx="8762760" cy="66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الرقابة الداخلي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تقوم بالرقابة الداخلية على المؤسسة العامة للتأمينات الاجتماعية –وفقا لأحكام النظام-كل من مجلس الإدارة ولجنة المراقب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منحت المادة (</a:t>
            </a:r>
            <a:r>
              <a:rPr b="0" lang="ar-SA" sz="2400" spc="-1" strike="noStrike">
                <a:solidFill>
                  <a:srgbClr val="292934"/>
                </a:solidFill>
                <a:latin typeface="Arial"/>
                <a:ea typeface="Arial"/>
              </a:rPr>
              <a:t>12</a:t>
            </a:r>
            <a:r>
              <a:rPr b="0" lang="ar-SA" sz="2400" spc="-1" strike="noStrike">
                <a:solidFill>
                  <a:srgbClr val="292934"/>
                </a:solidFill>
                <a:latin typeface="Arial"/>
                <a:ea typeface="Arial"/>
              </a:rPr>
              <a:t>) من النظام الى مجلس إدارة المؤسسة بعدة اختصاصات مالية , كالإشراف على حسن تنفيذ النظام واللوائح المنفذة له وذلك من النواحي المالية, كذلك يتولى المجلس إقرار الخطة الحسابية والميزانية والتقرير المالي والحساب الختامي للمؤسسة كذلك يناط به الإفصاح عن المركز المالي السنوي للمؤسسة وعن نشاطات الاستثما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مما لا شك فيه ان تلك الرقابة التي يمارسها مجلس الإدارة تعد من قبيل الرقابة الداخلية على اعمال المؤسس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ما فيما يتعلق برقابة لجنة المراقبة على اعمال المؤسسة فمن الثابت ان المنظم السعودي قد أحاط الاعمال المالية للمؤسسة بمجموعة من الضمانات وذلك حرصا على سلامة هذه الاعمال</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
          <p:cNvSpPr/>
          <p:nvPr/>
        </p:nvSpPr>
        <p:spPr>
          <a:xfrm>
            <a:off x="304920" y="474840"/>
            <a:ext cx="8610480" cy="66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الرقابة القضائية على اعمال المؤسس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لم يتناول نظام التأمينات هذا النوع من الرقابة. شأنه شان أنظمة باقي المؤسسات العامة والمصالح الحكومية الأخرى في المملك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لما كانت المؤسسة العامة تتمتع بالشخصية الاعتبارية، مما يجعل لها حق التعاقد مع الاخرين , ولما كان القضاء يتولى الفصل في المنازعات التي تثور بين الافراد او بين الافراد والدولة سواء هذا الشخص طبيعيا او اعتباريا فان ثمة رقابة قضائية منعقدة لديوان المظالم وفقا لنظامه الذي يخوله صلاحية النظر في جميع المنازعات التي تكون الإدارة طرفا فيه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قد فصل نظام الديوان الاختصاص حسب نص المادة الثالثة عشرة من نظامه الجديد , اذا جاء فيها ان مما تختص به المحاكم الإدارية الفصل في الدعاوي المتعلقة بالحقوق المقررة في نظم الخدمة المدنية والعسكرية والتقاعد لموظفي ومستخدمي الحكومة والأجهزة ذوي الشخصية المعنوية العامة المستقلة او رثتهم والمستحقين عنهم ويشمل ذلك مؤسسة التأمينات الاجتماعية</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
          <p:cNvSpPr/>
          <p:nvPr/>
        </p:nvSpPr>
        <p:spPr>
          <a:xfrm>
            <a:off x="1066680" y="1219320"/>
            <a:ext cx="7239240" cy="423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هذا وبفضل الله ، سبحانك اللهم وبحمدك، أشهد أن لا إله إلا أنت</a:t>
            </a:r>
            <a:r>
              <a:rPr b="1" lang="ar-SA" sz="2400" spc="-1" strike="noStrike">
                <a:solidFill>
                  <a:srgbClr val="292934"/>
                </a:solidFill>
                <a:latin typeface="Aparajita"/>
                <a:cs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أستغفرك وأتوب إليك</a:t>
            </a:r>
            <a:r>
              <a:rPr b="1" lang="ar-SA" sz="2400" spc="-1" strike="noStrike">
                <a:solidFill>
                  <a:srgbClr val="292934"/>
                </a:solidFill>
                <a:latin typeface="Aparajita"/>
                <a:ea typeface="Arial"/>
              </a:rPr>
              <a:t>..</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92934"/>
                </a:solidFill>
                <a:latin typeface="Aparajita"/>
                <a:cs typeface="Arial"/>
              </a:rPr>
              <a:t>الطالبات</a:t>
            </a:r>
            <a:r>
              <a:rPr b="1" lang="ar-SA" sz="3200" spc="-1" strike="noStrike">
                <a:solidFill>
                  <a:srgbClr val="292934"/>
                </a:solidFill>
                <a:latin typeface="Aparajita"/>
                <a:ea typeface="Arial"/>
              </a:rPr>
              <a:t> </a:t>
            </a:r>
            <a:r>
              <a:rPr b="1" lang="ar-SA" sz="3200" spc="-1" strike="noStrike">
                <a:solidFill>
                  <a:srgbClr val="292934"/>
                </a:solidFill>
                <a:latin typeface="Aparajita"/>
                <a:ea typeface="Arial"/>
              </a:rPr>
              <a:t>:</a:t>
            </a:r>
            <a:endParaRPr b="0" lang="en-US" sz="32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شيخه سلمان العميره</a:t>
            </a:r>
            <a:r>
              <a:rPr b="1" lang="ar-SA" sz="2400" spc="-1" strike="noStrike">
                <a:solidFill>
                  <a:srgbClr val="292934"/>
                </a:solidFill>
                <a:latin typeface="Aparajita"/>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شيم إبراهيم القزلان</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المها محمد الضلعان</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هديل عبدالرحمن الدبيان</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ملاك عبدالعزيز الشمري</a:t>
            </a:r>
            <a:r>
              <a:rPr b="1" lang="ar-SA" sz="2400" spc="-1" strike="noStrike">
                <a:solidFill>
                  <a:srgbClr val="292934"/>
                </a:solidFill>
                <a:latin typeface="Aparajita"/>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549360" y="838080"/>
            <a:ext cx="8229600" cy="631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12121"/>
                </a:solidFill>
                <a:latin typeface="wf_segoe-ui_normal"/>
                <a:cs typeface="Arial"/>
              </a:rPr>
              <a:t>التنظيم الإداري لمؤسسة التأمينات الاجتماعية</a:t>
            </a:r>
            <a:r>
              <a:rPr b="1" lang="ar-SA" sz="3200" spc="-1" strike="noStrike">
                <a:solidFill>
                  <a:srgbClr val="212121"/>
                </a:solidFill>
                <a:latin typeface="wf_segoe-ui_normal"/>
                <a:ea typeface="Arial"/>
              </a:rPr>
              <a:t> </a:t>
            </a:r>
            <a:r>
              <a:rPr b="1" lang="ar-SA" sz="3200" spc="-1" strike="noStrike">
                <a:solidFill>
                  <a:srgbClr val="212121"/>
                </a:solidFill>
                <a:latin typeface="wf_segoe-ui_normal"/>
                <a:ea typeface="Arial"/>
              </a:rPr>
              <a:t>:</a:t>
            </a:r>
            <a:br>
              <a:rPr sz="3200"/>
            </a:br>
            <a:endParaRPr b="0" lang="en-US" sz="32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نستطيع القول أن نجاح أو فشل أي مؤسسة أيا كان نوعها يعتمد في المقام الأول على التنظيم الإداري . وقد أناط المنظم السعودي بمؤسسة التأمينات الاجتماعية القيام على إدارة التأمينات الاجتماعية لتقوم على تطبيق أحكام نظام التأمينات الاجتماعية و متابعة تنفيذه . </a:t>
            </a:r>
            <a:r>
              <a:rPr b="0" lang="ar-SA" sz="2400" spc="-1" strike="noStrike">
                <a:solidFill>
                  <a:srgbClr val="a50021"/>
                </a:solidFill>
                <a:latin typeface="wf_segoe-ui_normal"/>
                <a:cs typeface="Arial"/>
              </a:rPr>
              <a:t>و تعتبر المؤسسة العامة للتأمينات الاجتماعية مؤسسة عامة حكومية لها استقلالها المالي و الإداري و تتمتع بالشخصية الاعتبارية و هي بضمان الدولة و تخضع لإشرافها </a:t>
            </a:r>
            <a:r>
              <a:rPr b="0" lang="ar-SA" sz="2400" spc="-1" strike="noStrike">
                <a:solidFill>
                  <a:srgbClr val="212121"/>
                </a:solidFill>
                <a:latin typeface="wf_segoe-ui_normal"/>
                <a:ea typeface="Arial"/>
              </a:rPr>
              <a:t>. يقع مقر المؤسسة بمدينة الرياض و يرأسها محافظ و يقوم على إدارتها مجلس إدارة يعد السلطة العليا فيها ، و تشمل المؤسسة دوائر إدارية لها و مكتب رئيسي في كل منطقة من مناطق المملكة و مكاتب فرعية يتم تكوينها بقرارت من مجلس الإدارة حسب الحاجة</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Diagram 1" descr=""/>
          <p:cNvPicPr/>
          <p:nvPr/>
        </p:nvPicPr>
        <p:blipFill>
          <a:blip r:embed="rId1"/>
          <a:stretch/>
        </p:blipFill>
        <p:spPr>
          <a:xfrm>
            <a:off x="49320" y="755640"/>
            <a:ext cx="8497800" cy="562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2209680" y="609480"/>
            <a:ext cx="67057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مجلس الإدارة :</a:t>
            </a:r>
            <a:r>
              <a:rPr b="0" lang="ar-SA" sz="2400" spc="-1" strike="noStrike">
                <a:solidFill>
                  <a:srgbClr val="212121"/>
                </a:solidFill>
                <a:latin typeface="wf_segoe-ui_normal"/>
                <a:ea typeface="Arial"/>
              </a:rPr>
              <a:t> </a:t>
            </a:r>
            <a:br>
              <a:rPr sz="2400"/>
            </a:br>
            <a:r>
              <a:rPr b="0" lang="ar-SA" sz="2400" spc="-1" strike="noStrike">
                <a:solidFill>
                  <a:srgbClr val="212121"/>
                </a:solidFill>
                <a:latin typeface="wf_segoe-ui_normal"/>
                <a:cs typeface="Arial"/>
              </a:rPr>
              <a:t>يعتبر مجلس الإدارة هو صاحب السلطة الأعلى في إدارة المؤسسة</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
        <p:nvSpPr>
          <p:cNvPr id="228" name="Rectangle 3"/>
          <p:cNvSpPr/>
          <p:nvPr/>
        </p:nvSpPr>
        <p:spPr>
          <a:xfrm>
            <a:off x="152280" y="1582560"/>
            <a:ext cx="8686800" cy="521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2121"/>
                </a:solidFill>
                <a:latin typeface="wf_segoe-ui_normal"/>
                <a:cs typeface="Arial"/>
              </a:rPr>
              <a:t>١</a:t>
            </a:r>
            <a:r>
              <a:rPr b="1" lang="ar-SA" sz="2400" spc="-1" strike="noStrike">
                <a:solidFill>
                  <a:srgbClr val="212121"/>
                </a:solidFill>
                <a:latin typeface="wf_segoe-ui_normal"/>
                <a:ea typeface="Arial"/>
              </a:rPr>
              <a:t>- تكوين مجلس الإدارة</a:t>
            </a:r>
            <a:r>
              <a:rPr b="1" lang="ar-SA" sz="2400" spc="-1" strike="noStrike">
                <a:solidFill>
                  <a:srgbClr val="212121"/>
                </a:solidFill>
                <a:latin typeface="wf_segoe-ui_normal"/>
                <a:ea typeface="Arial"/>
              </a:rPr>
              <a:t> </a:t>
            </a:r>
            <a:r>
              <a:rPr b="1" lang="ar-SA" sz="2400" spc="-1" strike="noStrike">
                <a:solidFill>
                  <a:srgbClr val="212121"/>
                </a:solidFill>
                <a:latin typeface="wf_segoe-ui_normal"/>
                <a:ea typeface="Arial"/>
              </a:rPr>
              <a:t>:</a:t>
            </a:r>
            <a:r>
              <a:rPr b="0" lang="ar-SA" sz="2400" spc="-1" strike="noStrike">
                <a:solidFill>
                  <a:srgbClr val="212121"/>
                </a:solidFill>
                <a:latin typeface="wf_segoe-ui_normal"/>
                <a:ea typeface="Arial"/>
              </a:rPr>
              <a:t> </a:t>
            </a:r>
            <a:br>
              <a:rPr sz="2400"/>
            </a:b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يتكون مجلس الإدارة من </a:t>
            </a:r>
            <a:r>
              <a:rPr b="0" lang="ar-SA" sz="2400" spc="-1" strike="noStrike">
                <a:solidFill>
                  <a:srgbClr val="a50021"/>
                </a:solidFill>
                <a:latin typeface="wf_segoe-ui_normal"/>
                <a:cs typeface="Arial"/>
              </a:rPr>
              <a:t>أحد عشر عضوا </a:t>
            </a:r>
            <a:r>
              <a:rPr b="0" lang="ar-SA" sz="2400" spc="-1" strike="noStrike">
                <a:solidFill>
                  <a:srgbClr val="212121"/>
                </a:solidFill>
                <a:latin typeface="wf_segoe-ui_normal"/>
                <a:cs typeface="Arial"/>
              </a:rPr>
              <a:t>هم : وزير العمل رئيسا للمجلس ، و محافظ المؤسسة نائبا للرئيس ، و ثلاثة أعضاء يمثلون وزارات العمل و المالية و الصحة ، و ثلاثة أعضاء من المشتركين في النظام من ذوي الكفاءات العليا في أعمالهم ، و ثلاثة أعضاء من أصحاب العمل</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ea typeface="Arial"/>
              </a:rPr>
              <a:t> </a:t>
            </a:r>
            <a:r>
              <a:rPr b="0" lang="ar-SA" sz="2400" spc="-1" strike="noStrike">
                <a:solidFill>
                  <a:srgbClr val="212121"/>
                </a:solidFill>
                <a:latin typeface="wf_segoe-ui_normal"/>
                <a:cs typeface="Arial"/>
              </a:rPr>
              <a:t>و يلاحظ أن هذا التقسيم يتفق مع ما نصت عليه اتفاقيات العمل الدولية و العربية . و يعين أعضاء المجلس - ما عدا الرئيس و نائبه - بقرار من مجلس الوزراء بناء على اقتراح الوزير و تكون مدة عضويتهم </a:t>
            </a:r>
            <a:r>
              <a:rPr b="0" lang="ar-SA" sz="2400" spc="-1" strike="noStrike">
                <a:solidFill>
                  <a:srgbClr val="a50021"/>
                </a:solidFill>
                <a:latin typeface="wf_segoe-ui_normal"/>
                <a:cs typeface="Arial"/>
              </a:rPr>
              <a:t>ثلاث سنوات </a:t>
            </a:r>
            <a:r>
              <a:rPr b="0" lang="ar-SA" sz="2400" spc="-1" strike="noStrike">
                <a:solidFill>
                  <a:srgbClr val="212121"/>
                </a:solidFill>
                <a:latin typeface="wf_segoe-ui_normal"/>
                <a:cs typeface="Arial"/>
              </a:rPr>
              <a:t>فقط و للمجلس الحرية في دعوة من يشاء من الخبراء أو المختصين للاشتراك في حضور اجتماعاته و إبداء الرأي الفني دون أن يكون لهم حق التصويت و ذلك وفقا لما نص عليه النظام</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152280" y="609480"/>
            <a:ext cx="876312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٢</a:t>
            </a:r>
            <a:r>
              <a:rPr b="1" lang="ar-SA" sz="2400" spc="-1" strike="noStrike">
                <a:solidFill>
                  <a:srgbClr val="a50021"/>
                </a:solidFill>
                <a:latin typeface="wf_segoe-ui_normal"/>
                <a:ea typeface="Arial"/>
              </a:rPr>
              <a:t>- جلسات المجلس و قراراته</a:t>
            </a:r>
            <a:r>
              <a:rPr b="1" lang="ar-SA" sz="2400" spc="-1" strike="noStrike">
                <a:solidFill>
                  <a:srgbClr val="a50021"/>
                </a:solidFill>
                <a:latin typeface="wf_segoe-ui_normal"/>
                <a:ea typeface="Arial"/>
              </a:rPr>
              <a:t> </a:t>
            </a:r>
            <a:r>
              <a:rPr b="1" lang="ar-SA" sz="2400" spc="-1" strike="noStrike">
                <a:solidFill>
                  <a:srgbClr val="a50021"/>
                </a:solidFill>
                <a:latin typeface="wf_segoe-ui_normal"/>
                <a:ea typeface="Arial"/>
              </a:rPr>
              <a:t>: </a:t>
            </a:r>
            <a:br>
              <a:rPr sz="2400"/>
            </a:b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حدد نظام التأمينات الاجتماعية مواعيد الجلسات العادية التي يعقدها مجلس الإدارة بحيث </a:t>
            </a:r>
            <a:r>
              <a:rPr b="0" lang="ar-SA" sz="2400" spc="-1" strike="noStrike">
                <a:solidFill>
                  <a:srgbClr val="a50021"/>
                </a:solidFill>
                <a:latin typeface="wf_segoe-ui_normal"/>
                <a:cs typeface="Arial"/>
              </a:rPr>
              <a:t>لا تقل عن مرة واحدة كل ثلاثة أشهر </a:t>
            </a:r>
            <a:r>
              <a:rPr b="0" lang="ar-SA" sz="2400" spc="-1" strike="noStrike">
                <a:solidFill>
                  <a:srgbClr val="212121"/>
                </a:solidFill>
                <a:latin typeface="wf_segoe-ui_normal"/>
                <a:cs typeface="Arial"/>
              </a:rPr>
              <a:t>بناء على دعوة من رئيس المجلس أو نائبه ، كما يعقد جلسات استثنائية بناء على طلب مقدم من سبعة أعضاء على الأقل . و يتم التبليغ بمواعيد الجلسات بدعوة من رئيس المجلس أو نائبه و يراعى أن يرفق مع الدعوة جدول أعمال الجلسة للموضوعات المزمع مناقشتها</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
        <p:nvSpPr>
          <p:cNvPr id="230" name="Rectangle 2"/>
          <p:cNvSpPr/>
          <p:nvPr/>
        </p:nvSpPr>
        <p:spPr>
          <a:xfrm>
            <a:off x="152280" y="3287880"/>
            <a:ext cx="876312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تتخذ قرارات المجلس بأغلبية الأصوات و بحضور </a:t>
            </a:r>
            <a:r>
              <a:rPr b="0" lang="ar-SA" sz="2400" spc="-1" strike="noStrike">
                <a:solidFill>
                  <a:srgbClr val="a50021"/>
                </a:solidFill>
                <a:latin typeface="wf_segoe-ui_normal"/>
                <a:cs typeface="Arial"/>
              </a:rPr>
              <a:t>سبعة أعضاء </a:t>
            </a:r>
            <a:r>
              <a:rPr b="0" lang="ar-SA" sz="2400" spc="-1" strike="noStrike">
                <a:solidFill>
                  <a:srgbClr val="212121"/>
                </a:solidFill>
                <a:latin typeface="wf_segoe-ui_normal"/>
                <a:cs typeface="Arial"/>
              </a:rPr>
              <a:t>على الأقل ، و عند الاختلاف بشأن القضايا المطروحة تعرض على التصويت و إذا تساوت الأصوات يرجح رأي الجانب الذي فيه رئيس الجلسة على أن لا يقل في جميع الأحوال عدد الأعضاء المصوتين - إلى جانب القرار- عن </a:t>
            </a:r>
            <a:r>
              <a:rPr b="0" lang="ar-SA" sz="2400" spc="-1" strike="noStrike">
                <a:solidFill>
                  <a:srgbClr val="a50021"/>
                </a:solidFill>
                <a:latin typeface="wf_segoe-ui_normal"/>
                <a:cs typeface="Arial"/>
              </a:rPr>
              <a:t>أربعة أعضاء</a:t>
            </a:r>
            <a:r>
              <a:rPr b="0" lang="ar-SA" sz="2400" spc="-1" strike="noStrike">
                <a:solidFill>
                  <a:srgbClr val="a500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p:txBody>
      </p:sp>
      <p:sp>
        <p:nvSpPr>
          <p:cNvPr id="231" name="Rectangle 3"/>
          <p:cNvSpPr/>
          <p:nvPr/>
        </p:nvSpPr>
        <p:spPr>
          <a:xfrm>
            <a:off x="228600" y="4952880"/>
            <a:ext cx="876312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تحال القرارات المتخذة من المجلس إلى الوزير المسؤول خلال ثم</a:t>
            </a:r>
            <a:r>
              <a:rPr b="0" lang="ar-SA" sz="2400" spc="-1" strike="noStrike">
                <a:solidFill>
                  <a:srgbClr val="a50021"/>
                </a:solidFill>
                <a:latin typeface="wf_segoe-ui_normal"/>
                <a:cs typeface="Arial"/>
              </a:rPr>
              <a:t>انية أيام </a:t>
            </a:r>
            <a:r>
              <a:rPr b="0" lang="ar-SA" sz="2400" spc="-1" strike="noStrike">
                <a:solidFill>
                  <a:srgbClr val="212121"/>
                </a:solidFill>
                <a:latin typeface="wf_segoe-ui_normal"/>
                <a:cs typeface="Arial"/>
              </a:rPr>
              <a:t>من تاريخ إقرارها و ذلك لإصدارها بصفة قرار وزاري . و قد يقوم الوزير بإصدار هذه القرارات و قد يعارضها و يمتنع عن إصدارها  . و تصبح هذه القرارات نافذة بقوة النظام إذا لم يتخذ الوزير ثمة تصرف تجاهها و ذلك بعد انقضاء فترة </a:t>
            </a:r>
            <a:r>
              <a:rPr b="0" lang="ar-SA" sz="2400" spc="-1" strike="noStrike">
                <a:solidFill>
                  <a:srgbClr val="a50021"/>
                </a:solidFill>
                <a:latin typeface="wf_segoe-ui_normal"/>
                <a:cs typeface="Arial"/>
              </a:rPr>
              <a:t>خمسة عشر يوما </a:t>
            </a:r>
            <a:r>
              <a:rPr b="0" lang="ar-SA" sz="2400" spc="-1" strike="noStrike">
                <a:solidFill>
                  <a:srgbClr val="212121"/>
                </a:solidFill>
                <a:latin typeface="wf_segoe-ui_normal"/>
                <a:cs typeface="Arial"/>
              </a:rPr>
              <a:t>على إحالتها إليه</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Diagram 2" descr=""/>
          <p:cNvPicPr/>
          <p:nvPr/>
        </p:nvPicPr>
        <p:blipFill>
          <a:blip r:embed="rId1"/>
          <a:stretch/>
        </p:blipFill>
        <p:spPr>
          <a:xfrm>
            <a:off x="-23760" y="530280"/>
            <a:ext cx="9118440" cy="595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_ _</dc:creator>
  <dc:description/>
  <dc:language>en-US</dc:language>
  <cp:lastModifiedBy>eman</cp:lastModifiedBy>
  <dcterms:modified xsi:type="dcterms:W3CDTF">2016-10-01T20:06:42Z</dcterms:modified>
  <cp:revision>16</cp:revision>
  <dc:subject/>
  <dc:title>PowerPoint Presentation</dc:title>
</cp:coreProperties>
</file>