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move the slide</a:t>
            </a:r>
            <a:endParaRPr b="0" lang="en-US" sz="4400" spc="-1" strike="noStrike">
              <a:solidFill>
                <a:srgbClr val="191b0e"/>
              </a:solidFill>
              <a:latin typeface="Franklin Gothic Book"/>
            </a:endParaRPr>
          </a:p>
        </p:txBody>
      </p:sp>
      <p:sp>
        <p:nvSpPr>
          <p:cNvPr id="21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2B56-BDDC-45F5-9A85-9F37E8AD8B9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85800" y="1143000"/>
            <a:ext cx="5486400" cy="3086280"/>
          </a:xfrm>
          <a:prstGeom prst="rect">
            <a:avLst/>
          </a:prstGeom>
          <a:ln w="0">
            <a:noFill/>
          </a:ln>
        </p:spPr>
      </p:sp>
      <p:sp>
        <p:nvSpPr>
          <p:cNvPr id="2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0E10-9E90-4A98-A28F-433C1F6F0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F5DD9-8B83-4FFE-B79A-B62128429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29FDF-184E-49E3-865C-83BFEB0B6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6E8A0-FCEA-426E-803A-F8BE61D74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A2BBE-8B43-452E-A842-291BCC430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C7DC7-D657-45C6-8D2F-814E47048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DE014-D7F1-4C2B-964D-C3AA3B30D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5221A-6CEC-47C4-B666-38E3268D2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FC08C-09CE-4F05-A620-52B500961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AE0A7-E215-49EC-916B-FCA92831A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4C64E-5783-4729-BA55-31A1DF5FF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61C02-AD7D-4902-B0ED-614859B05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DECA0-3B65-4FD6-A794-3AB915895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AB134-9C24-4551-B834-9088252BA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A3B3F-4BC1-412B-BAF7-3A2BE24A0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6DD2C-99C3-42E4-837E-374FA2FF0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312EB-8E8E-4E65-9E8D-CC936C479C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2DA4F-1BF6-4FB5-BE50-EE502D7EC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C6E31F-CADE-498B-8758-497B58ED4B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46CDFF-CD5F-45A2-BF73-78DD87FAAE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593BF8-4076-4C44-AC06-D0209F919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040AAC-866F-4B5D-B2F1-D36BDA0DE3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1C81C3-7C79-48C3-BC5F-16387FA6E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11E14-511A-42E6-A9D8-82626B2A2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2253A1-B124-46B7-B8AA-2939158174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03A62-6DD8-405B-BB83-08A94CEC0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19189F-D29D-48EC-8A25-E33C18D4E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A4161-3226-4065-80DE-08B756B41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1FB5ED-C658-4A84-B01F-9D1044930A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68187C-C4CA-46CC-969A-E9FB951A4C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D6A072-6B0A-4AD5-B4AC-86A07F456B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439653-5A18-4E79-A24D-90ED66BD47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3B674B-917B-41BC-B005-7D781F9598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7CC989-D8A2-42B6-AF51-341D4A0DD5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81016-E3C8-4201-B34E-C672DBCCA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38466C-AFFE-4E72-B83E-D75CB24A27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A0AC1A-7D40-4E29-B593-760BFD0788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2DE950-1CB8-4AE8-B2EA-BFF55ED54A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2B38C-8143-438E-9816-E43BC65522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8D6BEA-2594-446B-90DB-E3C8851BF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999D3-746C-430B-B9B8-A350BC77C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C36E6B-3001-4461-B6D9-4A7354B623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B1B463-6CF5-4870-8B83-0B7E1E2A98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5C2134-6BFD-49D8-B444-F96A05B8E0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3182B1-A3F8-4D89-B2B0-066816CE6E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8F7B0-88CC-41C8-A421-48C736C37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FF18A5-3B0C-48CB-91D8-3910D26B31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E4DC3B-BE7B-4E0C-B755-807EA78EB4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25043C-4E65-4A98-A38A-0A75F1549D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866F52-2DE6-490D-AC5D-E9010C7044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365057-0CF8-406D-B4A5-B3110C3285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38F529-2D0E-480F-8656-41BACFFFBF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E68E2-70B5-42E3-A229-5F66698C57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10915-1FB1-4174-8CA6-B73FEFCFA5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CF282F-A8F1-4B3A-816F-DAC6D5668D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930D0D-8581-40B8-8AB4-855600437D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A151B-EC0B-491F-B25C-7F9AD8609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0D2AD3-8B40-409C-9EF3-0E5741C340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38353-6830-439E-AB32-CB15CD4A8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429D9-9A97-4D2B-BDBA-F90473E29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C8E92-58BC-490A-9EAA-9C2D9513A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91b0e"/>
                </a:solidFill>
                <a:latin typeface="Franklin Gothic Book"/>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17C9-D496-4C32-B663-DDA00EEF6204}" type="slidenum">
              <a:rPr b="0" lang="en-US" sz="1200" spc="-1" strike="noStrike">
                <a:solidFill>
                  <a:srgbClr val="191b0e"/>
                </a:solidFill>
                <a:latin typeface="Franklin Gothic Book"/>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2" name="Group 7"/>
          <p:cNvGrpSpPr/>
          <p:nvPr/>
        </p:nvGrpSpPr>
        <p:grpSpPr>
          <a:xfrm>
            <a:off x="752040" y="744120"/>
            <a:ext cx="10674720" cy="5350320"/>
            <a:chOff x="752040" y="744120"/>
            <a:chExt cx="10674720" cy="5350320"/>
          </a:xfrm>
        </p:grpSpPr>
        <p:sp>
          <p:nvSpPr>
            <p:cNvPr id="43" name="Freeform 6"/>
            <p:cNvSpPr/>
            <p:nvPr/>
          </p:nvSpPr>
          <p:spPr>
            <a:xfrm>
              <a:off x="8151840" y="1685520"/>
              <a:ext cx="3274920" cy="4408920"/>
            </a:xfrm>
            <a:custGeom>
              <a:avLst/>
              <a:gdLst>
                <a:gd name="textAreaLeft" fmla="*/ 0 w 3274920"/>
                <a:gd name="textAreaRight" fmla="*/ 3275280 w 3274920"/>
                <a:gd name="textAreaTop" fmla="*/ 0 h 4408920"/>
                <a:gd name="textAreaBottom" fmla="*/ 4409280 h 4408920"/>
              </a:gdLst>
              <a:ahLst/>
              <a:rect l="textAreaLeft" t="textAreaTop" r="textAreaRight" b="textAreaBottom"/>
              <a:pathLst>
                <a:path w="10000" h="10000">
                  <a:moveTo>
                    <a:pt x="8761" y="0"/>
                  </a:moveTo>
                  <a:lnTo>
                    <a:pt x="10000" y="0"/>
                  </a:lnTo>
                  <a:lnTo>
                    <a:pt x="10000" y="10000"/>
                  </a:lnTo>
                  <a:lnTo>
                    <a:pt x="0" y="10000"/>
                  </a:lnTo>
                  <a:lnTo>
                    <a:pt x="0" y="9126"/>
                  </a:lnTo>
                  <a:lnTo>
                    <a:pt x="8761" y="912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6"/>
            <p:cNvSpPr/>
            <p:nvPr/>
          </p:nvSpPr>
          <p:spPr>
            <a:xfrm flipH="1" flipV="1">
              <a:off x="751320" y="743760"/>
              <a:ext cx="3275640" cy="4408920"/>
            </a:xfrm>
            <a:custGeom>
              <a:avLst/>
              <a:gdLst>
                <a:gd name="textAreaLeft" fmla="*/ -360 w 3275640"/>
                <a:gd name="textAreaRight" fmla="*/ 3275640 w 3275640"/>
                <a:gd name="textAreaTop" fmla="*/ -360 h 4408920"/>
                <a:gd name="textAreaBottom" fmla="*/ 4408920 h 4408920"/>
              </a:gdLst>
              <a:ahLst/>
              <a:rect l="textAreaLeft" t="textAreaTop" r="textAreaRight" b="textAreaBottom"/>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91b0e"/>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80EE-A4AB-49A4-ADD9-51DCC0E2B3A0}" type="slidenum">
              <a:rPr b="0" lang="en-US" sz="1200" spc="-1" strike="noStrike">
                <a:solidFill>
                  <a:srgbClr val="191b0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6" name="Freeform 7"/>
          <p:cNvSpPr/>
          <p:nvPr/>
        </p:nvSpPr>
        <p:spPr>
          <a:xfrm>
            <a:off x="8151840" y="1685880"/>
            <a:ext cx="3274920" cy="4408560"/>
          </a:xfrm>
          <a:custGeom>
            <a:avLst/>
            <a:gdLst>
              <a:gd name="textAreaLeft" fmla="*/ 0 w 3274920"/>
              <a:gd name="textAreaRight" fmla="*/ 3275280 w 3274920"/>
              <a:gd name="textAreaTop" fmla="*/ 0 h 4408560"/>
              <a:gd name="textAreaBottom" fmla="*/ 4408920 h 4408560"/>
            </a:gdLst>
            <a:ahLst/>
            <a:rect l="textAreaLeft" t="textAreaTop" r="textAreaRight" b="textAreaBottom"/>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fede3"/>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fede3"/>
                </a:solidFill>
                <a:latin typeface="Franklin Gothic Book"/>
              </a:rPr>
              <a:t>&lt;date/time&gt;</a:t>
            </a:r>
            <a:endParaRPr b="0" lang="en-US" sz="1200" spc="-1" strike="noStrike">
              <a:solidFill>
                <a:srgbClr val="ffffff"/>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fede3"/>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D689-6D72-436D-8D4B-D685EB2AD39B}" type="slidenum">
              <a:rPr b="0" lang="en-US" sz="1200" spc="-1" strike="noStrike">
                <a:solidFill>
                  <a:srgbClr val="efede3"/>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9"/>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91b0e"/>
                </a:solidFill>
                <a:latin typeface="Franklin Gothic Book"/>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8477-C32F-4CBE-8769-A22B714A49F4}" type="slidenum">
              <a:rPr b="0" lang="en-US" sz="1200" spc="-1" strike="noStrike">
                <a:solidFill>
                  <a:srgbClr val="191b0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9"/>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91b0e"/>
                </a:solidFill>
                <a:latin typeface="Franklin Gothic Book"/>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073F-57F0-4F29-AB92-69E46AB69198}" type="slidenum">
              <a:rPr b="0" lang="en-US" sz="1200" spc="-1" strike="noStrike">
                <a:solidFill>
                  <a:srgbClr val="191b0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4" descr=""/>
          <p:cNvPicPr/>
          <p:nvPr/>
        </p:nvPicPr>
        <p:blipFill>
          <a:blip r:embed="rId1"/>
          <a:stretch/>
        </p:blipFill>
        <p:spPr>
          <a:xfrm>
            <a:off x="1311120" y="1225440"/>
            <a:ext cx="1451160" cy="2840040"/>
          </a:xfrm>
          <a:prstGeom prst="rect">
            <a:avLst/>
          </a:prstGeom>
          <a:ln w="0">
            <a:noFill/>
          </a:ln>
        </p:spPr>
      </p:pic>
      <p:sp>
        <p:nvSpPr>
          <p:cNvPr id="222" name="TextBox 5"/>
          <p:cNvSpPr/>
          <p:nvPr/>
        </p:nvSpPr>
        <p:spPr>
          <a:xfrm>
            <a:off x="2085840" y="2484360"/>
            <a:ext cx="766296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المقرر </a:t>
            </a:r>
            <a:r>
              <a:rPr b="0" lang="ar-SA" sz="4000" spc="-1" strike="noStrike">
                <a:solidFill>
                  <a:srgbClr val="000000"/>
                </a:solidFill>
                <a:latin typeface="Arabic Typesetting"/>
                <a:ea typeface="Arabic Typesetting"/>
              </a:rPr>
              <a:t>: </a:t>
            </a:r>
            <a:r>
              <a:rPr b="0" lang="ar-SA" sz="4000" spc="-1" strike="noStrike">
                <a:solidFill>
                  <a:srgbClr val="ff0000"/>
                </a:solidFill>
                <a:latin typeface="Arabic Typesetting"/>
                <a:cs typeface="Arabic Typesetting"/>
              </a:rPr>
              <a:t>موجز في تاريخ القانون</a:t>
            </a:r>
            <a:r>
              <a:rPr b="1" lang="ar-SA" sz="4000" spc="-1" strike="noStrike">
                <a:solidFill>
                  <a:srgbClr val="ff0000"/>
                </a:solidFill>
                <a:latin typeface="Arabic Typesetting"/>
                <a:ea typeface="Arabic Typesetting"/>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الجزئية : </a:t>
            </a:r>
            <a:r>
              <a:rPr b="0" lang="ar-SA" sz="4000" spc="-1" strike="noStrike">
                <a:solidFill>
                  <a:srgbClr val="ff0000"/>
                </a:solidFill>
                <a:latin typeface="Arabic Typesetting"/>
                <a:cs typeface="Arabic Typesetting"/>
              </a:rPr>
              <a:t>من الصفحة </a:t>
            </a:r>
            <a:r>
              <a:rPr b="0" lang="ar-SA" sz="4000" spc="-1" strike="noStrike">
                <a:solidFill>
                  <a:srgbClr val="ff0000"/>
                </a:solidFill>
                <a:latin typeface="Arabic Typesetting"/>
                <a:ea typeface="Arabic Typesetting"/>
              </a:rPr>
              <a:t>117</a:t>
            </a:r>
            <a:r>
              <a:rPr b="0" lang="ar-SA" sz="4000" spc="-1" strike="noStrike">
                <a:solidFill>
                  <a:srgbClr val="ff0000"/>
                </a:solidFill>
                <a:latin typeface="Arabic Typesetting"/>
                <a:ea typeface="Arabic Typesetting"/>
              </a:rPr>
              <a:t> حتى الصفحة </a:t>
            </a:r>
            <a:r>
              <a:rPr b="0" lang="ar-SA" sz="4000" spc="-1" strike="noStrike">
                <a:solidFill>
                  <a:srgbClr val="ff0000"/>
                </a:solidFill>
                <a:latin typeface="Arabic Typesetting"/>
                <a:ea typeface="Arabic Typesetting"/>
              </a:rPr>
              <a:t>139</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الطالبات : </a:t>
            </a:r>
            <a:r>
              <a:rPr b="0" lang="ar-SA" sz="4000" spc="-1" strike="noStrike">
                <a:solidFill>
                  <a:srgbClr val="ff0000"/>
                </a:solidFill>
                <a:latin typeface="Arabic Typesetting"/>
                <a:cs typeface="Arabic Typesetting"/>
              </a:rPr>
              <a:t>موضي البقمي ، نوره العنزي ، يارا المطيويع ، لما الفالح</a:t>
            </a:r>
            <a:r>
              <a:rPr b="0" lang="ar-SA" sz="4000" spc="-1" strike="noStrike">
                <a:solidFill>
                  <a:srgbClr val="ff0000"/>
                </a:solidFill>
                <a:latin typeface="Arabic Typesetting"/>
                <a:ea typeface="Arabic Typesetting"/>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1"/>
          <p:cNvSpPr/>
          <p:nvPr/>
        </p:nvSpPr>
        <p:spPr>
          <a:xfrm>
            <a:off x="900000" y="465120"/>
            <a:ext cx="10854000" cy="667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جزء الثاني : النصوص القانونية</a:t>
            </a: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Times New Roman"/>
                <a:cs typeface="Times New Roman"/>
              </a:rPr>
              <a:t>يتكون هذا الجزء من مجموعة النصوص القانونية المعروضة في شكل اعمدة يبلغ عددها </a:t>
            </a:r>
            <a:r>
              <a:rPr b="1" lang="ar-SA" sz="2800" spc="-1" strike="noStrike">
                <a:solidFill>
                  <a:srgbClr val="00b050"/>
                </a:solidFill>
                <a:latin typeface="Times New Roman"/>
                <a:ea typeface="Times New Roman"/>
              </a:rPr>
              <a:t>3600</a:t>
            </a:r>
            <a:r>
              <a:rPr b="1" lang="ar-SA" sz="2800" spc="-1" strike="noStrike">
                <a:solidFill>
                  <a:srgbClr val="00b050"/>
                </a:solidFill>
                <a:latin typeface="Times New Roman"/>
                <a:ea typeface="Times New Roman"/>
              </a:rPr>
              <a:t> سطراً وهذه النصوص تقدر للرأي الراجح بحوالي </a:t>
            </a:r>
            <a:r>
              <a:rPr b="1" lang="ar-SA" sz="2800" spc="-1" strike="noStrike">
                <a:solidFill>
                  <a:srgbClr val="00b050"/>
                </a:solidFill>
                <a:latin typeface="Times New Roman"/>
                <a:ea typeface="Times New Roman"/>
              </a:rPr>
              <a:t>282</a:t>
            </a:r>
            <a:r>
              <a:rPr b="1" lang="ar-SA" sz="2800" spc="-1" strike="noStrike">
                <a:solidFill>
                  <a:srgbClr val="00b050"/>
                </a:solidFill>
                <a:latin typeface="Times New Roman"/>
                <a:ea typeface="Times New Roman"/>
              </a:rPr>
              <a:t> مادة ، وهذه المواد تعالج مسائل قانونية مختلفة ومتنوعة منها</a:t>
            </a:r>
            <a:r>
              <a:rPr b="1" lang="ar-SA" sz="2800" spc="-1" strike="noStrike">
                <a:solidFill>
                  <a:srgbClr val="00b050"/>
                </a:solidFill>
                <a:latin typeface="Times New Roman"/>
                <a:ea typeface="Times New Roman"/>
              </a:rPr>
              <a:t> </a:t>
            </a:r>
            <a:r>
              <a:rPr b="1" lang="ar-SA" sz="2800" spc="-1" strike="noStrike">
                <a:solidFill>
                  <a:srgbClr val="00b050"/>
                </a:solidFill>
                <a:latin typeface="Times New Roman"/>
                <a:ea typeface="Times New Roman"/>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a:t>
            </a:r>
            <a:r>
              <a:rPr b="1" lang="ar-SA" sz="2800" spc="-1" strike="noStrike">
                <a:solidFill>
                  <a:srgbClr val="ff0000"/>
                </a:solidFill>
                <a:latin typeface="Times New Roman"/>
                <a:cs typeface="Times New Roman"/>
              </a:rPr>
              <a:t>الجرائم الماسة بسير العدالة ، وجرائم السرقة حقوق الابناء والارامل واموال الاب أو الزوج ، واساءة الدائن لاستعمال حقه ، واخيراً شراء العبيد وعلاقة العبيد بأسيادهم.</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جزء الثالث : خاتمة مدونة حمورابي</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cs typeface="Times New Roman"/>
              </a:rPr>
              <a:t>في خاتمته كرر حمورابي الإشادة بفضائلة , ويدعو من يخلفه الى عدم تغيير أو تعديل هذه المدونة</a:t>
            </a:r>
            <a:r>
              <a:rPr b="1" lang="en-US" sz="2800" spc="-1" strike="noStrike">
                <a:solidFill>
                  <a:srgbClr val="0070c0"/>
                </a:solidFill>
                <a:latin typeface="Times New Roman"/>
                <a:ea typeface="Times New Roman"/>
              </a:rPr>
              <a:t> ,</a:t>
            </a:r>
            <a:r>
              <a:rPr b="1" lang="ar-SA" sz="2800" spc="-1" strike="noStrike">
                <a:solidFill>
                  <a:srgbClr val="0070c0"/>
                </a:solidFill>
                <a:latin typeface="Times New Roman"/>
                <a:ea typeface="Times New Roman"/>
              </a:rPr>
              <a:t> والا لحقته اللعنة من الاله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Box 1"/>
          <p:cNvSpPr/>
          <p:nvPr/>
        </p:nvSpPr>
        <p:spPr>
          <a:xfrm>
            <a:off x="874800" y="228600"/>
            <a:ext cx="11090160" cy="850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صائص مدونة حموراب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ميزت هذه المدونة بما هو إيجابي ومنها ما هو سلب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لشمولية : </a:t>
            </a:r>
            <a:r>
              <a:rPr b="1" lang="ar-SA" sz="2400" spc="-1" strike="noStrike">
                <a:solidFill>
                  <a:srgbClr val="ff0000"/>
                </a:solidFill>
                <a:latin typeface="Times New Roman"/>
                <a:cs typeface="Times New Roman"/>
              </a:rPr>
              <a:t>رغم قلة نصوص مدونة حمورابي الا انها أحاطت بكل القواعد المتعلقة بسائر فروع القانو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مدونة مستمدة من التشريعات والتقاليد العرفية السابقة عليها : </a:t>
            </a:r>
            <a:r>
              <a:rPr b="1" lang="ar-SA" sz="2400" spc="-1" strike="noStrike">
                <a:solidFill>
                  <a:srgbClr val="ff0000"/>
                </a:solidFill>
                <a:latin typeface="Times New Roman"/>
                <a:cs typeface="Times New Roman"/>
              </a:rPr>
              <a:t>تميزت مدونة حمورابي بأن جزء كبير من الأحكام الواردة فيها مستمدة من التشريعات السابقة بالإضافة لأشتمالها على نصوص وأحكام جديد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3</a:t>
            </a:r>
            <a:r>
              <a:rPr b="1" lang="ar-SA" sz="2400" spc="-1" strike="noStrike">
                <a:solidFill>
                  <a:srgbClr val="000000"/>
                </a:solidFill>
                <a:latin typeface="Times New Roman"/>
                <a:ea typeface="Times New Roman"/>
              </a:rPr>
              <a:t>/ مدونة غير جامعة : </a:t>
            </a:r>
            <a:r>
              <a:rPr b="1" lang="ar-SA" sz="2400" spc="-1" strike="noStrike">
                <a:solidFill>
                  <a:srgbClr val="ff0000"/>
                </a:solidFill>
                <a:latin typeface="Times New Roman"/>
                <a:cs typeface="Times New Roman"/>
              </a:rPr>
              <a:t>هذد المدونة لم تعالج كافة مظاهر الحياة القانونية وإنما اقتصرت فقط على معالجة المسائل الأساسية التي كانت سائدة ولم يكن حمورابي يهدف الى تجميع الأعراف السابقة كلها وإنما أراد تجميع المسائل التي كانت محل نزاع او التي كانت غامض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4</a:t>
            </a:r>
            <a:r>
              <a:rPr b="1" lang="ar-SA" sz="2400" spc="-1" strike="noStrike">
                <a:solidFill>
                  <a:srgbClr val="000000"/>
                </a:solidFill>
                <a:latin typeface="Times New Roman"/>
                <a:ea typeface="Times New Roman"/>
              </a:rPr>
              <a:t>/ مدونة عامة التطبيق على كافة ربوع البلاد </a:t>
            </a:r>
            <a:r>
              <a:rPr b="1" lang="ar-SA" sz="2400" spc="-1" strike="noStrike">
                <a:solidFill>
                  <a:srgbClr val="ff0000"/>
                </a:solidFill>
                <a:latin typeface="Times New Roman"/>
                <a:ea typeface="Times New Roman"/>
              </a:rPr>
              <a:t>. لتحقيق الوحدة القانونية في بلاد ما وراء النهرين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5</a:t>
            </a:r>
            <a:r>
              <a:rPr b="1" lang="ar-SA" sz="2400" spc="-1" strike="noStrike">
                <a:solidFill>
                  <a:srgbClr val="000000"/>
                </a:solidFill>
                <a:latin typeface="Times New Roman"/>
                <a:ea typeface="Times New Roman"/>
              </a:rPr>
              <a:t>/ مدونة تشتمل احيانا على ازدواجية أو ثنائية الحلول القانونية : </a:t>
            </a:r>
            <a:r>
              <a:rPr b="1" lang="ar-SA" sz="2400" spc="-1" strike="noStrike">
                <a:solidFill>
                  <a:srgbClr val="ff0000"/>
                </a:solidFill>
                <a:latin typeface="Times New Roman"/>
                <a:cs typeface="Times New Roman"/>
              </a:rPr>
              <a:t>وجود أكثر من حل للمسألة الواحدة وخاصة مسائل الزواج والطلاق ، يطلق عليه مبدأ ثنائية أو ازدواجية الحلول القانوينة وقد اضطر حمورابي الى اعتناق هذا المبدأ وطأة احترام مشاعر بعض الطوائف ، ولم يكن يعتنق مبدأ شخصية القوانين ولكن مبدأ إقليمية القانون هو المبدأ الذي كان مطبقا في عهد حمورابي فيطبق قانونه على كل المواطنين في ربوع باب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685800" y="58680"/>
            <a:ext cx="11312640" cy="9478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6</a:t>
            </a:r>
            <a:r>
              <a:rPr b="1" lang="ar-SA" sz="2200" spc="-1" strike="noStrike">
                <a:solidFill>
                  <a:srgbClr val="000000"/>
                </a:solidFill>
                <a:latin typeface="Times New Roman"/>
                <a:ea typeface="Times New Roman"/>
              </a:rPr>
              <a:t>/ مدونة يغلب عليها الطابع التقدمي : </a:t>
            </a:r>
            <a:r>
              <a:rPr b="1" lang="ar-SA" sz="2200" spc="-1" strike="noStrike">
                <a:solidFill>
                  <a:srgbClr val="ff0000"/>
                </a:solidFill>
                <a:latin typeface="Times New Roman"/>
                <a:cs typeface="Times New Roman"/>
              </a:rPr>
              <a:t>أكدت هذه المدونة أنها كانت متقدمة على العصر الذي صدرت فيه لاشتمالها على أحكام تعكس وصول المجتمع العراقي الى أعلى درجات الرقي اذ أن هذه المجتمع لم يعترف بنظام الانتقام الفردي واعتراف المدونة بنظام الملكية الفردية وحرية التعاقد وتقرير الأهلية القانوينة الكاملة للمرأة وتنظيم مسائل تجارية هامة .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7</a:t>
            </a:r>
            <a:r>
              <a:rPr b="1" lang="ar-SA" sz="2200" spc="-1" strike="noStrike">
                <a:solidFill>
                  <a:srgbClr val="000000"/>
                </a:solidFill>
                <a:latin typeface="Times New Roman"/>
                <a:ea typeface="Times New Roman"/>
              </a:rPr>
              <a:t>/ مدونة يغلب عليها الطابع العلماني : </a:t>
            </a:r>
            <a:r>
              <a:rPr b="1" lang="ar-SA" sz="2200" spc="-1" strike="noStrike">
                <a:solidFill>
                  <a:srgbClr val="ff0000"/>
                </a:solidFill>
                <a:latin typeface="Times New Roman"/>
                <a:cs typeface="Times New Roman"/>
              </a:rPr>
              <a:t>يتضح من مدونة حمورابي ان القانون كان من عند حمورابي وليس من عند الآلهة وكل ما هناك أنه قد تلقى من الآلهة التكليف بإقامة العدل لذلك هي ليست مدونة دينية بل مدنية علمانية بكل ماتحمله الكلمة من معان.ولم يذكر فيها العبادات ، ولم يخلط بي الجزاء الديني والدنيوي . وفصلت بين قواعد القانون وقواعد السلوك الاخرى . </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8/ </a:t>
            </a:r>
            <a:r>
              <a:rPr b="1" lang="ar-SA" sz="2200" spc="-1" strike="noStrike">
                <a:solidFill>
                  <a:srgbClr val="000000"/>
                </a:solidFill>
                <a:latin typeface="Times New Roman"/>
                <a:cs typeface="Times New Roman"/>
              </a:rPr>
              <a:t>مدونة أقرت التفرقة الطبقية : </a:t>
            </a:r>
            <a:r>
              <a:rPr b="1" lang="ar-SA" sz="2200" spc="-1" strike="noStrike">
                <a:solidFill>
                  <a:srgbClr val="ff0000"/>
                </a:solidFill>
                <a:latin typeface="Times New Roman"/>
                <a:cs typeface="Times New Roman"/>
              </a:rPr>
              <a:t>قسمت مدونة حمورابي المجتمع الى طبقات : طبقة الأحرار , طبقة المشينكو أو المساكين , طبقة الأرقاء أو العبيد ويعلو هذه الطبقات طبقة عليا كانت تضم أفراد الأسرة المالكة ورجال الدين وقد كانت حقوق الفرد تختلف باختلاف الطبقة التي ينتمي إليها والجدير بالذكر أن مركز العبد كان احسن حالا في قانون حمورابي من مركزه في القوانين الاخرى ، </a:t>
            </a:r>
            <a:r>
              <a:rPr b="1" lang="ar-SA" sz="2200" spc="-1" strike="noStrike">
                <a:solidFill>
                  <a:srgbClr val="0070c0"/>
                </a:solidFill>
                <a:latin typeface="Times New Roman"/>
                <a:cs typeface="Times New Roman"/>
              </a:rPr>
              <a:t>ولم يكن مبدأ المساواة قائما فيها الا اذا انتمى الجاني والمجني عليه لطبقة واحدة</a:t>
            </a:r>
            <a:r>
              <a:rPr b="1" lang="ar-SA" sz="2200" spc="-1" strike="noStrike">
                <a:solidFill>
                  <a:srgbClr val="0070c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9/ </a:t>
            </a:r>
            <a:r>
              <a:rPr b="1" lang="ar-SA" sz="2200" spc="-1" strike="noStrike">
                <a:solidFill>
                  <a:srgbClr val="000000"/>
                </a:solidFill>
                <a:latin typeface="Times New Roman"/>
                <a:cs typeface="Times New Roman"/>
              </a:rPr>
              <a:t>مدونة قائمة على المنهج الافتراضي : </a:t>
            </a:r>
            <a:r>
              <a:rPr b="1" lang="ar-SA" sz="2200" spc="-1" strike="noStrike">
                <a:solidFill>
                  <a:srgbClr val="ff0000"/>
                </a:solidFill>
                <a:latin typeface="Times New Roman"/>
                <a:cs typeface="Times New Roman"/>
              </a:rPr>
              <a:t>مدونة حمورابي لم تعد تقنينا بالمعنى الفني الدقيق لأنها لم تشتمل على كافة المظاهر القانونية ولأن إتباع هذا المنهج يحول دون استعمال القياس والاستنباط  فاغلب النصوص جاءت على بعبارة اذ فرض ان</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0/ </a:t>
            </a:r>
            <a:r>
              <a:rPr b="1" lang="ar-SA" sz="2200" spc="-1" strike="noStrike">
                <a:solidFill>
                  <a:srgbClr val="000000"/>
                </a:solidFill>
                <a:latin typeface="Times New Roman"/>
                <a:cs typeface="Times New Roman"/>
              </a:rPr>
              <a:t>مدونة قائمة على فلسفة تغليظ العقوبات أو قسوة الجزاء : </a:t>
            </a:r>
            <a:r>
              <a:rPr b="1" lang="ar-SA" sz="2200" spc="-1" strike="noStrike">
                <a:solidFill>
                  <a:srgbClr val="ff0000"/>
                </a:solidFill>
                <a:latin typeface="Times New Roman"/>
                <a:cs typeface="Times New Roman"/>
              </a:rPr>
              <a:t>الأحكام الجنائية في هذه المدونة قد اتسمت بطابع القسوة والشدة ومثال ذلك الحكم بالإعدام على السارق واذا اتهم رجل شخصا آخر بجريمة قتل او شهادة زور ولم يستطع إقامة الدليل عليها يحكم عليه بالاعدام واستخدام المحنة كوسيلة للاثبات</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Box 1"/>
          <p:cNvSpPr/>
          <p:nvPr/>
        </p:nvSpPr>
        <p:spPr>
          <a:xfrm>
            <a:off x="716040" y="-52560"/>
            <a:ext cx="11391840" cy="8808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1/ </a:t>
            </a:r>
            <a:r>
              <a:rPr b="1" lang="ar-SA" sz="2200" spc="-1" strike="noStrike">
                <a:solidFill>
                  <a:srgbClr val="000000"/>
                </a:solidFill>
                <a:latin typeface="Times New Roman"/>
                <a:cs typeface="Times New Roman"/>
              </a:rPr>
              <a:t>خروج المدونة احيانا على مبدأ شخصية العقوبة : </a:t>
            </a:r>
            <a:r>
              <a:rPr b="1" lang="ar-SA" sz="2200" spc="-1" strike="noStrike">
                <a:solidFill>
                  <a:srgbClr val="ff0000"/>
                </a:solidFill>
                <a:latin typeface="Times New Roman"/>
                <a:cs typeface="Times New Roman"/>
              </a:rPr>
              <a:t>العقوبة لا توقع إلا على الشخص الجاني وهذا ما يعرف بمبدأ شخصية العقوبة لكن هذا المبدأ لم يجد احتراما كاملا في مدونة حمورابي والدليل على ذلك نص المدونة على وجوب الحكم بالإعدام على البناء الذي يبني بيتا لأسره فينهدم هذا البيت ويتسبب في قتل صاحب البيت اما اذا تسبب في قتل ابن صاحب البيت فإن عقوبة الإعدام تكون من نصيب ابن البناء</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ea typeface="Times New Roman"/>
              </a:rPr>
              <a:t>12/ </a:t>
            </a:r>
            <a:r>
              <a:rPr b="1" lang="ar-SA" sz="2200" spc="-1" strike="noStrike">
                <a:solidFill>
                  <a:srgbClr val="000000"/>
                </a:solidFill>
                <a:latin typeface="Times New Roman"/>
                <a:cs typeface="Times New Roman"/>
              </a:rPr>
              <a:t>مدونة تم صياغتها بالاسلوب الشرطي الموجز :</a:t>
            </a:r>
            <a:r>
              <a:rPr b="1" lang="ar-SA" sz="2200" spc="-1" strike="noStrike">
                <a:solidFill>
                  <a:srgbClr val="ff0000"/>
                </a:solidFill>
                <a:latin typeface="Times New Roman"/>
                <a:ea typeface="Times New Roman"/>
              </a:rPr>
              <a:t> مفاد هذا الاسلوب ان كل فقرة من فقرات المدونة كانت تتكون من جمل شرطية تبدأ بأداة الشرط وتنتهي بجواب الشرط  وصياغة الاحكام جاءت باسلوب حالات فردية بعيدة عن وضع مبادئ وقواعد عامة . ولم ترتب الاحكام ترتيب منطقي بل يحكم ترتيبها الغريزة الالهية لتداعي الافكار</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3/ </a:t>
            </a:r>
            <a:r>
              <a:rPr b="1" lang="ar-SA" sz="2200" spc="-1" strike="noStrike">
                <a:solidFill>
                  <a:srgbClr val="000000"/>
                </a:solidFill>
                <a:latin typeface="Times New Roman"/>
                <a:cs typeface="Times New Roman"/>
              </a:rPr>
              <a:t>مدونة عالجت مسائل هامة في المجال التجاري : </a:t>
            </a:r>
            <a:r>
              <a:rPr b="1" lang="ar-SA" sz="2200" spc="-1" strike="noStrike">
                <a:solidFill>
                  <a:srgbClr val="ff0000"/>
                </a:solidFill>
                <a:latin typeface="Times New Roman"/>
                <a:cs typeface="Times New Roman"/>
              </a:rPr>
              <a:t>من هذه المسائل جواز دفع المديونية لحامل الصك حتى لو لم يكن هو الدائن وايضا استخدام ما يشبه الشيكات في التعامل وما يشبه الخطابات الضمان وانشاء الشركات وتحديد سعر الفائدة</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4/ </a:t>
            </a:r>
            <a:r>
              <a:rPr b="1" lang="ar-SA" sz="2200" spc="-1" strike="noStrike">
                <a:solidFill>
                  <a:srgbClr val="000000"/>
                </a:solidFill>
                <a:latin typeface="Times New Roman"/>
                <a:cs typeface="Times New Roman"/>
              </a:rPr>
              <a:t>مدونة قررت مبدأ التعويض : </a:t>
            </a:r>
            <a:r>
              <a:rPr b="1" lang="ar-SA" sz="2200" spc="-1" strike="noStrike">
                <a:solidFill>
                  <a:srgbClr val="ff0000"/>
                </a:solidFill>
                <a:latin typeface="Times New Roman"/>
                <a:cs typeface="Times New Roman"/>
              </a:rPr>
              <a:t>نص قانون حمورابي على أن كل فعل ضار يرتب التعويض للمضرور على المتسبب في الفعل الضار</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5/ </a:t>
            </a:r>
            <a:r>
              <a:rPr b="1" lang="ar-SA" sz="2200" spc="-1" strike="noStrike">
                <a:solidFill>
                  <a:srgbClr val="000000"/>
                </a:solidFill>
                <a:latin typeface="Times New Roman"/>
                <a:cs typeface="Times New Roman"/>
              </a:rPr>
              <a:t>مدونة تجمع بين القدم والشهرة : </a:t>
            </a:r>
            <a:r>
              <a:rPr b="1" lang="ar-SA" sz="2200" spc="-1" strike="noStrike">
                <a:solidFill>
                  <a:srgbClr val="ff0000"/>
                </a:solidFill>
                <a:latin typeface="Times New Roman"/>
                <a:cs typeface="Times New Roman"/>
              </a:rPr>
              <a:t>تتميز مدونة حمورابي بأنها أقدم المدونات الشرقية ومن أشهرها على الاطلاق</a:t>
            </a:r>
            <a:r>
              <a:rPr b="1" lang="ar-SA" sz="2200" spc="-1" strike="noStrike">
                <a:solidFill>
                  <a:srgbClr val="ff0000"/>
                </a:solidFill>
                <a:latin typeface="Times New Roman"/>
                <a:ea typeface="Times New Roman"/>
              </a:rPr>
              <a:t>. </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cs typeface="Times New Roman"/>
              </a:rPr>
              <a:t>اذا من ابرز مميزات خصائص مدونة حمورابي انها تتجه صوب تحقيق العدالة ومن أبرز السلبيات أو العيوب إقرارها لنظام التفرقة الطبقية وكذلك اتسامها بالشدة والقسوة في مجال العقاب والخروج احيانا على مبدأ شخصية العقوبة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1"/>
          <p:cNvSpPr/>
          <p:nvPr/>
        </p:nvSpPr>
        <p:spPr>
          <a:xfrm>
            <a:off x="677880" y="339840"/>
            <a:ext cx="11441160" cy="954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لغصن الثاني</a:t>
            </a: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مدونة بوكخوريس في مصر الفرعوني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أولاً : مفاهيم عامة عن مدونة بوكخوريس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1</a:t>
            </a:r>
            <a:r>
              <a:rPr b="1" lang="ar-SA" sz="2800" spc="-1" strike="noStrike">
                <a:solidFill>
                  <a:srgbClr val="000000"/>
                </a:solidFill>
                <a:latin typeface="Arabic Typesetting"/>
                <a:ea typeface="Arabic Typesetting"/>
              </a:rPr>
              <a:t>/ </a:t>
            </a:r>
            <a:r>
              <a:rPr b="1" lang="ar-SA" sz="2400" spc="-1" strike="noStrike" u="sng">
                <a:solidFill>
                  <a:srgbClr val="000000"/>
                </a:solidFill>
                <a:uFillTx/>
                <a:latin typeface="Arabic Typesetting"/>
                <a:cs typeface="Arabic Typesetting"/>
              </a:rPr>
              <a:t>مدونة بوكخريس ليست هي المدونة الوحيدة في مصر الفرعون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abic Typesetting"/>
                <a:cs typeface="Arabic Typesetting"/>
              </a:rPr>
              <a:t>عرفت مصر الفرعونية عدداً من المدونات القديمة حصرها المؤرخ الإغريقي وديودور الصقلي في ست مدون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abic Typesetting"/>
                <a:cs typeface="Arabic Typesetting"/>
              </a:rPr>
              <a:t>كما صدر في عهد الملك حور محب قانوناً حمل أسمه, والمعروف بتشريع حور محب وقد هدف هذا الملك من وراء إصدار قانونه هذا إلى تحقيق أهداف وه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أ/ </a:t>
            </a:r>
            <a:r>
              <a:rPr b="0" lang="ar-SA" sz="2400" spc="-1" strike="noStrike">
                <a:solidFill>
                  <a:srgbClr val="ff0000"/>
                </a:solidFill>
                <a:latin typeface="Arabic Typesetting"/>
                <a:cs typeface="Arabic Typesetting"/>
              </a:rPr>
              <a:t>القضاء على الفساد في الجهاز الحكوم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ب/ </a:t>
            </a:r>
            <a:r>
              <a:rPr b="0" lang="ar-SA" sz="2400" spc="-1" strike="noStrike">
                <a:solidFill>
                  <a:srgbClr val="ff0000"/>
                </a:solidFill>
                <a:latin typeface="Arabic Typesetting"/>
                <a:cs typeface="Arabic Typesetting"/>
              </a:rPr>
              <a:t>تحقيق الثبات القانون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ت/ </a:t>
            </a:r>
            <a:r>
              <a:rPr b="0" lang="ar-SA" sz="2400" spc="-1" strike="noStrike">
                <a:solidFill>
                  <a:srgbClr val="ff0000"/>
                </a:solidFill>
                <a:latin typeface="Arabic Typesetting"/>
                <a:cs typeface="Arabic Typesetting"/>
              </a:rPr>
              <a:t>حقيق عمومية القاعدة القانونية ونشر القانون على الشعب.</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ث/ </a:t>
            </a:r>
            <a:r>
              <a:rPr b="0" lang="ar-SA" sz="2400" spc="-1" strike="noStrike">
                <a:solidFill>
                  <a:srgbClr val="ff0000"/>
                </a:solidFill>
                <a:latin typeface="Arabic Typesetting"/>
                <a:cs typeface="Arabic Typesetting"/>
              </a:rPr>
              <a:t>إعادة ترتيب منظومة التجريم والعقاب.</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ولهذا قيل أن هذا القانون يعد قانوناً إدارياً وجنائياً. وقد تميز قانون حور محب بعدة خصائص منها أنه كان التشريع ذو صبغة مدنية ويبتعد عن الصبغة الدينية, وأنه كان قانون غير جامع, وأنه اهتم بالعقوبات البدنية, وأنه جاء معبراً عن واقع المجتمع الفرعون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abic Typesetting"/>
                <a:ea typeface="Arabic Typesetting"/>
              </a:rPr>
              <a:t> </a:t>
            </a:r>
            <a:r>
              <a:rPr b="1" lang="ar-SA" sz="2400" spc="-1" strike="noStrike">
                <a:solidFill>
                  <a:srgbClr val="000000"/>
                </a:solidFill>
                <a:latin typeface="Arabic Typesetting"/>
                <a:cs typeface="Arabic Typesetting"/>
              </a:rPr>
              <a:t>وعلى الرغم من تعدد المدونات في العصر الفرعوني إلا أن اشهرها على الإطلاق هي مدونة بوكخوريس , وهي يأتي ترتيبها الرابع في التاريخ الفرعون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abic Typesetting"/>
                <a:ea typeface="Arabic Typesetting"/>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1"/>
          <p:cNvSpPr/>
          <p:nvPr/>
        </p:nvSpPr>
        <p:spPr>
          <a:xfrm>
            <a:off x="1003320" y="81000"/>
            <a:ext cx="11082240" cy="8199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 </a:t>
            </a:r>
            <a:r>
              <a:rPr b="1" lang="ar-SA" sz="2800" spc="-1" strike="noStrike" u="sng">
                <a:solidFill>
                  <a:srgbClr val="000000"/>
                </a:solidFill>
                <a:uFillTx/>
                <a:latin typeface="Arabic Typesetting"/>
                <a:ea typeface="Arabic Typesetting"/>
              </a:rPr>
              <a:t>2</a:t>
            </a:r>
            <a:r>
              <a:rPr b="1" lang="ar-SA" sz="2800" spc="-1" strike="noStrike" u="sng">
                <a:solidFill>
                  <a:srgbClr val="000000"/>
                </a:solidFill>
                <a:uFillTx/>
                <a:latin typeface="Arabic Typesetting"/>
                <a:ea typeface="Arabic Typesetting"/>
              </a:rPr>
              <a:t>- تاريخ صدور مدونة بوكخوريس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cs typeface="Arabic Typesetting"/>
              </a:rPr>
              <a:t>صدرت مدونة بوكخوريس في عهد الملك بوكخوريس مؤسس الأسرة الرابعة والعشرين, واستمرت فترة حكمه إلى عدة سنوات لم تتجاوز الست سنو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3</a:t>
            </a:r>
            <a:r>
              <a:rPr b="1" lang="ar-SA" sz="2800" spc="-1" strike="noStrike" u="sng">
                <a:solidFill>
                  <a:srgbClr val="000000"/>
                </a:solidFill>
                <a:uFillTx/>
                <a:latin typeface="Arabic Typesetting"/>
                <a:ea typeface="Arabic Typesetting"/>
              </a:rPr>
              <a:t>- ظروف صدور مدونة بوكخوريس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cs typeface="Arabic Typesetting"/>
              </a:rPr>
              <a:t>تعرضت مصر الفرعونية لهزة إقتصادية كبيرة منذ أواخر عهد الأسرة العشرين وقد ترتب على هذا الوضع تفكك البلاد وسيادة النظام الإقطاعي وعم الخراب وانتشرت الفوضى, وقد ظل وضع البلاد على هذا النحو حتى بداية حكم الأسرة الرابعة والعشرين, وقد استطاع الملك أن يعيد البلاد إلى وحدتها حيث ألغى هذا الملك امتيازات رجال الدين وقرر إعادة مبدأ المساواة من جدي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4</a:t>
            </a:r>
            <a:r>
              <a:rPr b="1" lang="ar-SA" sz="2800" spc="-1" strike="noStrike" u="sng">
                <a:solidFill>
                  <a:srgbClr val="000000"/>
                </a:solidFill>
                <a:uFillTx/>
                <a:latin typeface="Arabic Typesetting"/>
                <a:ea typeface="Arabic Typesetting"/>
              </a:rPr>
              <a:t>- مصادر معلوماتنا عن مدونة بوكخوريس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cs typeface="Arabic Typesetting"/>
              </a:rPr>
              <a:t>لم تصل إلينا النصوص الكاملة لمدونة بوكخوريس, وتنحصر مصادر معلوماتنا عن هذه المدونة فيما رواه كلن من المؤرخين الإغريقيين هيردوت, وديودور الصقلي.</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1"/>
          <p:cNvSpPr/>
          <p:nvPr/>
        </p:nvSpPr>
        <p:spPr>
          <a:xfrm>
            <a:off x="766800" y="0"/>
            <a:ext cx="11363400" cy="1228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ثانياً : نطاق تطبيق مدونة بوكخوريس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cs typeface="Arabic Typesetting"/>
              </a:rPr>
              <a:t>قد طبقت هذه المدونة في مصر الفرعونية اعتباراً من عهد الأسرة الرابعة والعشرين أما عن المدى الزمني لتطبيق هذه المدونة فقد تعرضت المدونة تارة للتعديل وتارة أخرى للإلغاء وتارة ثالثة لإعادة العمل بها ولكن يتضح أن مدونة بوكخوريس لم تطبق في عهد الملك الذي أصدرها فحسب, بل استمرت حتى طبقت في مصر البطلمية  وفي مصر الرومانية بعد زوال الدولة الفرعون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ثالثاً : مضمون مدونة بوكخوريس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نجد أن الملك بوكخوريس قد ركز جل اهتمامه على عدة موضوعات لعل من أبرزها الآتي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أول : العقود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هتم الملك بالعقود اهتماماً كبيراً وتنصرف أبرز اهتماماته في مجال العقود الى إبعاد الشكلية عن نطاق العقو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ثاني : الأسرة</a:t>
            </a:r>
            <a:r>
              <a:rPr b="1" lang="ar-SA" sz="2800" spc="-1" strike="noStrike">
                <a:solidFill>
                  <a:srgbClr val="000000"/>
                </a:solidFill>
                <a:latin typeface="Arabic Typesetting"/>
                <a:ea typeface="Arabic Typesetting"/>
              </a:rPr>
              <a:t> : اهتم الملك بعدة أمور تهم الأسرة ومن أبرزها :-</a:t>
            </a:r>
            <a:br>
              <a:rPr sz="2800"/>
            </a:br>
            <a:r>
              <a:rPr b="1" lang="ar-SA" sz="2800" spc="-1" strike="noStrike">
                <a:solidFill>
                  <a:srgbClr val="000000"/>
                </a:solidFill>
                <a:latin typeface="Arabic Typesetting"/>
                <a:ea typeface="Arabic Typesetting"/>
              </a:rPr>
              <a:t>1</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إلغاء نظام الزواج الديني والعمل بالزواج المدني.                       </a:t>
            </a:r>
            <a:r>
              <a:rPr b="0" lang="ar-SA" sz="2800" spc="-1" strike="noStrike">
                <a:solidFill>
                  <a:srgbClr val="000000"/>
                </a:solidFill>
                <a:latin typeface="Arabic Typesetting"/>
                <a:ea typeface="Arabic Typesetting"/>
              </a:rPr>
              <a:t>2</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لاعتراف للمرأة بالأهلية القانونية الكامل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3</a:t>
            </a:r>
            <a:r>
              <a:rPr b="0" lang="ar-SA" sz="2800" spc="-1" strike="noStrike">
                <a:solidFill>
                  <a:srgbClr val="000000"/>
                </a:solidFill>
                <a:latin typeface="Arabic Typesetting"/>
                <a:ea typeface="Arabic Typesetting"/>
              </a:rPr>
              <a:t>/</a:t>
            </a:r>
            <a:r>
              <a:rPr b="0" lang="ar-SA" sz="2800" spc="-1" strike="noStrike">
                <a:solidFill>
                  <a:srgbClr val="ff0000"/>
                </a:solidFill>
                <a:latin typeface="Arabic Typesetting"/>
                <a:ea typeface="Arabic Typesetting"/>
              </a:rPr>
              <a:t> حق المرأة في قبول الزوج أو رفضه                                     </a:t>
            </a:r>
            <a:r>
              <a:rPr b="0" lang="ar-SA" sz="2800" spc="-1" strike="noStrike">
                <a:solidFill>
                  <a:srgbClr val="000000"/>
                </a:solidFill>
                <a:latin typeface="Arabic Typesetting"/>
                <a:ea typeface="Arabic Typesetting"/>
              </a:rPr>
              <a:t>4</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لاعتراف للمرأة بحق الطلاق</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5</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ستقلال الذمة المالية للزوجة                                            </a:t>
            </a:r>
            <a:r>
              <a:rPr b="0" lang="ar-SA" sz="2800" spc="-1" strike="noStrike">
                <a:solidFill>
                  <a:srgbClr val="000000"/>
                </a:solidFill>
                <a:latin typeface="Arabic Typesetting"/>
                <a:ea typeface="Arabic Typesetting"/>
              </a:rPr>
              <a:t>6</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حق المرأة في أن تشترط على زوجها عدم الزواج من امرأة أخرى.</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7</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حق المرأة في الرهن العام على أموال زوجها                              </a:t>
            </a:r>
            <a:r>
              <a:rPr b="0" lang="ar-SA" sz="2800" spc="-1" strike="noStrike">
                <a:solidFill>
                  <a:srgbClr val="000000"/>
                </a:solidFill>
                <a:latin typeface="Arabic Typesetting"/>
                <a:ea typeface="Arabic Typesetting"/>
              </a:rPr>
              <a:t>8</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لمساواة بين الذكر والأنثى</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1"/>
          <p:cNvSpPr/>
          <p:nvPr/>
        </p:nvSpPr>
        <p:spPr>
          <a:xfrm>
            <a:off x="797040" y="198360"/>
            <a:ext cx="11179080" cy="86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ثالث : نظام الفوائد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هتم بوكخوريس بنظام الفوائد اهتماماً شديداً, ويظهر اهتمامه هذا في عدة نواحي :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a:t>
            </a:r>
            <a:r>
              <a:rPr b="0" lang="ar-SA" sz="2800" spc="-1" strike="noStrike">
                <a:solidFill>
                  <a:srgbClr val="ff0000"/>
                </a:solidFill>
                <a:latin typeface="Arabic Typesetting"/>
                <a:cs typeface="Arabic Typesetting"/>
              </a:rPr>
              <a:t>وضع حد أقصى لسعر الفائدة وهذا السعر كان </a:t>
            </a:r>
            <a:r>
              <a:rPr b="0" lang="ar-SA" sz="2800" spc="-1" strike="noStrike">
                <a:solidFill>
                  <a:srgbClr val="ff0000"/>
                </a:solidFill>
                <a:latin typeface="Arabic Typesetting"/>
                <a:ea typeface="Arabic Typesetting"/>
              </a:rPr>
              <a:t>30</a:t>
            </a:r>
            <a:r>
              <a:rPr b="0" lang="ar-SA" sz="2800" spc="-1" strike="noStrike">
                <a:solidFill>
                  <a:srgbClr val="ff0000"/>
                </a:solidFill>
                <a:latin typeface="Arabic Typesetting"/>
                <a:ea typeface="Arabic Typesetting"/>
              </a:rPr>
              <a:t>% للنقود وثلثة وثلاثون وثلث بالنسبة للحاصلات الزراعي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a:t>
            </a:r>
            <a:r>
              <a:rPr b="0" lang="ar-SA" sz="2800" spc="-1" strike="noStrike">
                <a:solidFill>
                  <a:srgbClr val="ff0000"/>
                </a:solidFill>
                <a:latin typeface="Arabic Typesetting"/>
                <a:cs typeface="Arabic Typesetting"/>
              </a:rPr>
              <a:t>تحريم نظام الفائدة المركب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a:t>
            </a:r>
            <a:r>
              <a:rPr b="0" lang="ar-SA" sz="2800" spc="-1" strike="noStrike">
                <a:solidFill>
                  <a:srgbClr val="ff0000"/>
                </a:solidFill>
                <a:latin typeface="Arabic Typesetting"/>
                <a:cs typeface="Arabic Typesetting"/>
              </a:rPr>
              <a:t>عد السماح بزيادة مجموع الفوائد على أصل الدين بأي حال من الأحوا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رابع : إلغاء الإكراه الديني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كان الوضع قبل عهد بوكخوريس سارياً على أن جسم المدين يعد ضامناً للوفاء بديونه وبالتالي كان الإكراه البدني جائزاً, وقد تدخل الملك وألغى هذا النظام ولمن يستثن من ذلك سواى الديون المستحقة للدولة أو للمعاب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خامس : حصر وسائل الإثبات في الكتاب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ألغى الملك نظام الإثبات بالشهادة واليمين, وقرر جعل الكتابة الوسيلة الوحيدة للإثب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سادس : تقرير بعض الضمانات القانوني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أعطى بوكخوريس امتيازاً للمؤجر على أموال المستأجر وذلك لضمان الوفاء بالأجرة.</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1"/>
          <p:cNvSpPr/>
          <p:nvPr/>
        </p:nvSpPr>
        <p:spPr>
          <a:xfrm>
            <a:off x="671400" y="176040"/>
            <a:ext cx="11391840" cy="9905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رابعاً : خصائص مدونة بوكخوريس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تميزت مدونة بوكخوريس بمجموعة من الخصائص سنذكر منها الآت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1</a:t>
            </a:r>
            <a:r>
              <a:rPr b="1" lang="ar-SA" sz="2800" spc="-1" strike="noStrike" u="sng">
                <a:solidFill>
                  <a:srgbClr val="000000"/>
                </a:solidFill>
                <a:uFillTx/>
                <a:latin typeface="Arabic Typesetting"/>
                <a:ea typeface="Arabic Typesetting"/>
              </a:rPr>
              <a:t>/ من حيث الصياغ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م تشر الوثائق التي وصلت إلينا عن مدونة بوكخوريس إلى طريقة الصياغة التي اتبعها صاحب هذه المدونة وأمام ذلك يمكن القول أن هذه المدونة قد صيغت بأسلوب عادي لم تستخدم فيه أداة الشرط أو النسق الشعر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2</a:t>
            </a:r>
            <a:r>
              <a:rPr b="1" lang="ar-SA" sz="2800" spc="-1" strike="noStrike" u="sng">
                <a:solidFill>
                  <a:srgbClr val="000000"/>
                </a:solidFill>
                <a:uFillTx/>
                <a:latin typeface="Arabic Typesetting"/>
                <a:ea typeface="Arabic Typesetting"/>
              </a:rPr>
              <a:t>/ مدونة يغلب عليها النزعة المدني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عل من أهم الملامح التي تميز مدونة بوكخوريس فصل هذه المدونة بين القانون والدين, والدليل على ذلك قيام واضع هذه المدونة بتقليص امتيازات رجال الدين وإعلائه لمبدأ الحرية والتعاقد ومبدأ سلطان الإراده وتقريره نظام الزواج المدن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3</a:t>
            </a:r>
            <a:r>
              <a:rPr b="1" lang="ar-SA" sz="2800" spc="-1" strike="noStrike" u="sng">
                <a:solidFill>
                  <a:srgbClr val="000000"/>
                </a:solidFill>
                <a:uFillTx/>
                <a:latin typeface="Arabic Typesetting"/>
                <a:ea typeface="Arabic Typesetting"/>
              </a:rPr>
              <a:t>/ مدونة تتصف بالعمومية في التطبيق</a:t>
            </a:r>
            <a:r>
              <a:rPr b="1" lang="ar-SA" sz="2800" spc="-1" strike="noStrike">
                <a:solidFill>
                  <a:srgbClr val="000000"/>
                </a:solidFill>
                <a:latin typeface="Arabic Typesetting"/>
                <a:ea typeface="Arabic Typesetting"/>
              </a:rPr>
              <a:t> : </a:t>
            </a:r>
            <a:r>
              <a:rPr b="0" lang="ar-SA" sz="2800" spc="-1" strike="noStrike">
                <a:solidFill>
                  <a:srgbClr val="ff0000"/>
                </a:solidFill>
                <a:latin typeface="Arabic Typesetting"/>
                <a:cs typeface="Arabic Typesetting"/>
              </a:rPr>
              <a:t>كانت مدونة بوكخوريس عامة التطبيق على كافة الأشخاص لأن مصر الفرعونية لم تعرف مبدأ شخصية القوانين ويمكن القول أن هذه المدونة طبقت في مصر على أساس مبدأ إقليمية القواني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4</a:t>
            </a:r>
            <a:r>
              <a:rPr b="1" lang="ar-SA" sz="2800" spc="-1" strike="noStrike" u="sng">
                <a:solidFill>
                  <a:srgbClr val="000000"/>
                </a:solidFill>
                <a:uFillTx/>
                <a:latin typeface="Arabic Typesetting"/>
                <a:ea typeface="Arabic Typesetting"/>
              </a:rPr>
              <a:t>/مدونة عبارة عن تجميع للأعراف والتشريعات السابق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م تكن الأحكام الواردة في مدونة بوكخوريس جديدة على المجتمع المصري لأن اغلب هذه الأحكام كانت معروفة في هذا المجتمع, ومع ذلك فلم تخلو هذه المدونة من الأحكام الجديدة.</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958680" y="596880"/>
            <a:ext cx="10730160" cy="86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5</a:t>
            </a:r>
            <a:r>
              <a:rPr b="1" lang="ar-SA" sz="2800" spc="-1" strike="noStrike" u="sng">
                <a:solidFill>
                  <a:srgbClr val="000000"/>
                </a:solidFill>
                <a:uFillTx/>
                <a:latin typeface="Arabic Typesetting"/>
                <a:ea typeface="Arabic Typesetting"/>
              </a:rPr>
              <a:t>/ مدونة غير منعزل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م تنعزل مدونة بوكخوريس عما كان يجري حولها في البلاد المجاورة أو الحضارات التي كانت موجودة, ونجد أن هذه المدونة قد أثرت في بعض المدونات القديمة كما تأثرت ببعض المدونات القديمة وسنعرض لهذين الأمرين تباعا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أ/ </a:t>
            </a:r>
            <a:r>
              <a:rPr b="0" lang="ar-SA" sz="2800" spc="-1" strike="noStrike">
                <a:solidFill>
                  <a:srgbClr val="000000"/>
                </a:solidFill>
                <a:latin typeface="Arabic Typesetting"/>
                <a:cs typeface="Arabic Typesetting"/>
              </a:rPr>
              <a:t>مدونة أثرت في القوانين الأخرى : </a:t>
            </a:r>
            <a:r>
              <a:rPr b="0" lang="ar-SA" sz="2800" spc="-1" strike="noStrike">
                <a:solidFill>
                  <a:srgbClr val="ff0000"/>
                </a:solidFill>
                <a:latin typeface="Arabic Typesetting"/>
                <a:cs typeface="Arabic Typesetting"/>
              </a:rPr>
              <a:t>ذكر بعض المؤرخين مثل هيرودوت وديودور الصقلي أن صولون أثناء وضعه لتشريعه المسمى بقانون صولون قد تأثر بالقانون المصري خاصة مجموعة بوكخوريس.</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ب/ </a:t>
            </a:r>
            <a:r>
              <a:rPr b="0" lang="ar-SA" sz="2800" spc="-1" strike="noStrike">
                <a:solidFill>
                  <a:srgbClr val="000000"/>
                </a:solidFill>
                <a:latin typeface="Arabic Typesetting"/>
                <a:cs typeface="Arabic Typesetting"/>
              </a:rPr>
              <a:t>مدونة تأثرت بالقوانين العراقية القديمة : </a:t>
            </a:r>
            <a:r>
              <a:rPr b="0" lang="ar-SA" sz="2800" spc="-1" strike="noStrike">
                <a:solidFill>
                  <a:srgbClr val="ff0000"/>
                </a:solidFill>
                <a:latin typeface="Arabic Typesetting"/>
                <a:cs typeface="Arabic Typesetting"/>
              </a:rPr>
              <a:t>نجد أن بعض أحكام مدونة بوكخوريس تتشابه إلى حد كبير مع بعض الأحكام التي اشتملت عليها قوانين العراق القديمة ولاسيما قانون حمورابى.</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6</a:t>
            </a:r>
            <a:r>
              <a:rPr b="1" lang="ar-SA" sz="2800" spc="-1" strike="noStrike" u="sng">
                <a:solidFill>
                  <a:srgbClr val="000000"/>
                </a:solidFill>
                <a:uFillTx/>
                <a:latin typeface="Arabic Typesetting"/>
                <a:ea typeface="Arabic Typesetting"/>
              </a:rPr>
              <a:t>/ مدونة تعد مصدراً مادياً للتشريعات اللاحقة عليها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ما كانت مدونة بوكخوريس ذات أهمية بالغة وتعد خاتمة المطاف في تطور القانون المصري الفرعوني فإن هذه المدونة ذو قيمة كبيرة, والدليل أن المشرعين الذين ألغوها اعتمدوا عليها في تدوينهم كما أن من أعاد العمل بها لم يدخل عليها سوى تعديلات طفيف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1"/>
          <p:cNvSpPr/>
          <p:nvPr/>
        </p:nvSpPr>
        <p:spPr>
          <a:xfrm>
            <a:off x="1569960" y="552600"/>
            <a:ext cx="898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المطلب الخامس</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أهم المدونات القانونية القديمة</a:t>
            </a:r>
            <a:endParaRPr b="0" lang="en-US" sz="3200" spc="-1" strike="noStrike">
              <a:solidFill>
                <a:srgbClr val="000000"/>
              </a:solidFill>
              <a:latin typeface="Arial"/>
            </a:endParaRPr>
          </a:p>
        </p:txBody>
      </p:sp>
      <p:sp>
        <p:nvSpPr>
          <p:cNvPr id="224" name="TextBox 2"/>
          <p:cNvSpPr/>
          <p:nvPr/>
        </p:nvSpPr>
        <p:spPr>
          <a:xfrm>
            <a:off x="4276800" y="2079720"/>
            <a:ext cx="3930480" cy="1556280"/>
          </a:xfrm>
          <a:prstGeom prst="rect">
            <a:avLst/>
          </a:prstGeom>
          <a:solidFill>
            <a:srgbClr val="efede3"/>
          </a:solidFill>
          <a:ln w="349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عرفت المجتمعات القديمة بنوعين من المدونات</a:t>
            </a:r>
            <a:endParaRPr b="0" lang="en-US" sz="3200" spc="-1" strike="noStrike">
              <a:solidFill>
                <a:srgbClr val="000000"/>
              </a:solidFill>
              <a:latin typeface="Arial"/>
            </a:endParaRPr>
          </a:p>
        </p:txBody>
      </p:sp>
      <p:cxnSp>
        <p:nvCxnSpPr>
          <p:cNvPr id="225" name="Straight Arrow Connector 4"/>
          <p:cNvCxnSpPr/>
          <p:nvPr/>
        </p:nvCxnSpPr>
        <p:spPr>
          <a:xfrm>
            <a:off x="6659640" y="2641320"/>
            <a:ext cx="1643760" cy="632520"/>
          </a:xfrm>
          <a:prstGeom prst="straightConnector1">
            <a:avLst/>
          </a:prstGeom>
          <a:ln w="19080">
            <a:solidFill>
              <a:srgbClr val="000000"/>
            </a:solidFill>
            <a:miter/>
            <a:tailEnd len="med" type="triangle" w="med"/>
          </a:ln>
        </p:spPr>
      </p:cxnSp>
      <p:cxnSp>
        <p:nvCxnSpPr>
          <p:cNvPr id="226" name="Straight Arrow Connector 6"/>
          <p:cNvCxnSpPr/>
          <p:nvPr/>
        </p:nvCxnSpPr>
        <p:spPr>
          <a:xfrm flipH="1">
            <a:off x="4003200" y="2641680"/>
            <a:ext cx="1586880" cy="699120"/>
          </a:xfrm>
          <a:prstGeom prst="straightConnector1">
            <a:avLst/>
          </a:prstGeom>
          <a:ln w="19080">
            <a:solidFill>
              <a:srgbClr val="000000"/>
            </a:solidFill>
            <a:miter/>
            <a:tailEnd len="med" type="triangle" w="med"/>
          </a:ln>
        </p:spPr>
      </p:cxnSp>
      <p:sp>
        <p:nvSpPr>
          <p:cNvPr id="227" name="TextBox 10"/>
          <p:cNvSpPr/>
          <p:nvPr/>
        </p:nvSpPr>
        <p:spPr>
          <a:xfrm>
            <a:off x="6562800" y="3340080"/>
            <a:ext cx="3289320" cy="64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1/ </a:t>
            </a:r>
            <a:r>
              <a:rPr b="1" lang="ar-SA" sz="2800" spc="-1" strike="noStrike">
                <a:solidFill>
                  <a:srgbClr val="ff0000"/>
                </a:solidFill>
                <a:latin typeface="Arabic Typesetting"/>
                <a:cs typeface="Arabic Typesetting"/>
              </a:rPr>
              <a:t>المدونات الرسمية</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وهي تلك المدونات التي صدرت على شكل تشريع من السلطة الحاكمة</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مثل </a:t>
            </a:r>
            <a:r>
              <a:rPr b="1" lang="ar-SA" sz="2800" spc="-1" strike="noStrike">
                <a:solidFill>
                  <a:srgbClr val="000000"/>
                </a:solidFill>
                <a:latin typeface="Arabic Typesetting"/>
                <a:cs typeface="Arabic Typesetting"/>
              </a:rPr>
              <a:t>مدونة حمورابي،بوكخوريس، والمدونات الأغريقية،ومدونة الالواح الاثني عشر</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p:txBody>
      </p:sp>
      <p:sp>
        <p:nvSpPr>
          <p:cNvPr id="228" name="TextBox 11"/>
          <p:cNvSpPr/>
          <p:nvPr/>
        </p:nvSpPr>
        <p:spPr>
          <a:xfrm>
            <a:off x="2266920" y="3340080"/>
            <a:ext cx="347364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2/ </a:t>
            </a:r>
            <a:r>
              <a:rPr b="1" lang="ar-SA" sz="2800" spc="-1" strike="noStrike">
                <a:solidFill>
                  <a:srgbClr val="ff0000"/>
                </a:solidFill>
                <a:latin typeface="Arabic Typesetting"/>
                <a:cs typeface="Arabic Typesetting"/>
              </a:rPr>
              <a:t>المدونات العرفية أو الغير رسمية</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وهي تلك المدونات التي قام بإعدادها أفراد من المهتمين بالقانون. ولم تصدر في شكل تشريع من السلطة الحاكمة. مثل ماحدث عند الاشوريين والحيثيين</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p:txBody>
      </p:sp>
      <p:cxnSp>
        <p:nvCxnSpPr>
          <p:cNvPr id="229" name="Straight Arrow Connector 13"/>
          <p:cNvCxnSpPr/>
          <p:nvPr/>
        </p:nvCxnSpPr>
        <p:spPr>
          <a:xfrm>
            <a:off x="4003200" y="3813120"/>
            <a:ext cx="1080" cy="316800"/>
          </a:xfrm>
          <a:prstGeom prst="straightConnector1">
            <a:avLst/>
          </a:prstGeom>
          <a:ln w="19080">
            <a:solidFill>
              <a:srgbClr val="000000"/>
            </a:solidFill>
            <a:miter/>
            <a:tailEnd len="med" type="triangle" w="med"/>
          </a:ln>
        </p:spPr>
      </p:cxnSp>
      <p:cxnSp>
        <p:nvCxnSpPr>
          <p:cNvPr id="230" name="Straight Arrow Connector 15"/>
          <p:cNvCxnSpPr/>
          <p:nvPr/>
        </p:nvCxnSpPr>
        <p:spPr>
          <a:xfrm>
            <a:off x="8206920" y="3812760"/>
            <a:ext cx="1080" cy="369000"/>
          </a:xfrm>
          <a:prstGeom prst="straightConnector1">
            <a:avLst/>
          </a:prstGeom>
          <a:ln w="19080">
            <a:solidFill>
              <a:srgbClr val="000000"/>
            </a:solidFill>
            <a:miter/>
            <a:tailEnd len="med" type="triangle" w="med"/>
          </a:ln>
        </p:spPr>
      </p:cxnSp>
      <p:cxnSp>
        <p:nvCxnSpPr>
          <p:cNvPr id="231" name="Straight Arrow Connector 18"/>
          <p:cNvCxnSpPr/>
          <p:nvPr/>
        </p:nvCxnSpPr>
        <p:spPr>
          <a:xfrm>
            <a:off x="8302320" y="4925880"/>
            <a:ext cx="1080" cy="3625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4"/>
          <p:cNvSpPr/>
          <p:nvPr/>
        </p:nvSpPr>
        <p:spPr>
          <a:xfrm>
            <a:off x="855720" y="81000"/>
            <a:ext cx="1064736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لغصن الثالث</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مدونة مانو في الهند القديمة</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أولاً : مفاهيم عامة عن مدونة مانو</a:t>
            </a:r>
            <a:r>
              <a:rPr b="1" lang="ar-SA" sz="2800" spc="-1" strike="noStrike">
                <a:solidFill>
                  <a:srgbClr val="000000"/>
                </a:solidFill>
                <a:latin typeface="Arabic Typesetting"/>
                <a:ea typeface="Arabic Typesetting"/>
              </a:rPr>
              <a:t> </a:t>
            </a: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61" name=""/>
          <p:cNvGraphicFramePr/>
          <p:nvPr/>
        </p:nvGraphicFramePr>
        <p:xfrm>
          <a:off x="1519200" y="2043000"/>
          <a:ext cx="9985320" cy="1970280"/>
        </p:xfrm>
        <a:graphic>
          <a:graphicData uri="http://schemas.openxmlformats.org/drawingml/2006/table">
            <a:tbl>
              <a:tblPr/>
              <a:tblGrid>
                <a:gridCol w="3328920"/>
                <a:gridCol w="3328920"/>
                <a:gridCol w="3327480"/>
              </a:tblGrid>
              <a:tr h="420840">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غرض منها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تاريخ صدورها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سبب تسميتها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r>
              <a:tr h="3364200">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كتابة وتدوين قواعد السلوك الخاصة بالكهنة من البراهمة بعد أن كانت هذه القواعد شفهية تتناقلها الأجيال وتعتمد على ذاكرة الدين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اختلف العلماء حول تاريخ صدور المدونة ولكن الرأي الراجح بين العلماء هو عام </a:t>
                      </a:r>
                      <a:r>
                        <a:rPr b="1" lang="ar-SA" sz="2400" spc="-1" strike="noStrike">
                          <a:solidFill>
                            <a:srgbClr val="000000"/>
                          </a:solidFill>
                          <a:latin typeface="Arabic Typesetting"/>
                          <a:ea typeface="Arabic Typesetting"/>
                        </a:rPr>
                        <a:t>200</a:t>
                      </a:r>
                      <a:r>
                        <a:rPr b="1" lang="ar-SA" sz="2400" spc="-1" strike="noStrike">
                          <a:solidFill>
                            <a:srgbClr val="000000"/>
                          </a:solidFill>
                          <a:latin typeface="Arabic Typesetting"/>
                          <a:ea typeface="Arabic Typesetting"/>
                        </a:rPr>
                        <a:t> قبل الميلاد</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سم مانو كان يطلق عند الهنود على شخصية اسطورية أو على كل من الملوك المؤلهين السبعة الذين حكموا العالم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c8d8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1"/>
          <p:cNvSpPr/>
          <p:nvPr/>
        </p:nvSpPr>
        <p:spPr>
          <a:xfrm>
            <a:off x="1025640" y="139680"/>
            <a:ext cx="10477440" cy="704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ثانياً : خصائص مدونة مانو</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1/ </a:t>
            </a:r>
            <a:r>
              <a:rPr b="1" lang="ar-SA" sz="2400" spc="-1" strike="noStrike">
                <a:solidFill>
                  <a:srgbClr val="000000"/>
                </a:solidFill>
                <a:latin typeface="Arabic Typesetting"/>
                <a:cs typeface="Arabic Typesetting"/>
              </a:rPr>
              <a:t>الصياغة الشعرية : </a:t>
            </a:r>
            <a:r>
              <a:rPr b="0" lang="ar-SA" sz="2400" spc="-1" strike="noStrike">
                <a:solidFill>
                  <a:srgbClr val="ff0000"/>
                </a:solidFill>
                <a:latin typeface="Arabic Typesetting"/>
                <a:cs typeface="Arabic Typesetting"/>
              </a:rPr>
              <a:t>كتبت بشكل الاسلوب الشعري</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2/ </a:t>
            </a:r>
            <a:r>
              <a:rPr b="1" lang="ar-SA" sz="2400" spc="-1" strike="noStrike">
                <a:solidFill>
                  <a:srgbClr val="000000"/>
                </a:solidFill>
                <a:latin typeface="Arabic Typesetting"/>
                <a:cs typeface="Arabic Typesetting"/>
              </a:rPr>
              <a:t>الخلط بين القانون والدين والأخلاق : </a:t>
            </a:r>
            <a:r>
              <a:rPr b="0" lang="ar-SA" sz="2400" spc="-1" strike="noStrike">
                <a:solidFill>
                  <a:srgbClr val="ff0000"/>
                </a:solidFill>
                <a:latin typeface="Arabic Typesetting"/>
                <a:cs typeface="Arabic Typesetting"/>
              </a:rPr>
              <a:t>يصعب الفصل بين دائرة القانون ودائرة الدين والاخلاق، ولهذا كان الجزاء في هذه المدونة خليط بين الجزاءات الدينية والدنيوية. وكان يسمح للشخص بتفادي الجزاء الأخروي اذا قدم كفارة عن ذنبه حال حياته الدنيا</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3/ </a:t>
            </a:r>
            <a:r>
              <a:rPr b="1" lang="ar-SA" sz="2400" spc="-1" strike="noStrike">
                <a:solidFill>
                  <a:srgbClr val="000000"/>
                </a:solidFill>
                <a:latin typeface="Arabic Typesetting"/>
                <a:cs typeface="Arabic Typesetting"/>
              </a:rPr>
              <a:t>الاهتمام بشؤون الانسان منذ ولادته وحتى مماته : اوضحت القواعد التي ينبغي على الانسان اتباعها منذ ولادته حتى مماته. لذلك اشتملت هذه المدونة على بعض الامور منها</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أ- </a:t>
            </a:r>
            <a:r>
              <a:rPr b="0" lang="ar-SA" sz="2400" spc="-1" strike="noStrike">
                <a:solidFill>
                  <a:srgbClr val="ff0000"/>
                </a:solidFill>
                <a:latin typeface="Arabic Typesetting"/>
                <a:cs typeface="Arabic Typesetting"/>
              </a:rPr>
              <a:t>بيان الواجبات الدينية، كالصوم والصلاة ...             </a:t>
            </a:r>
            <a:r>
              <a:rPr b="0" lang="ar-SA" sz="2400" spc="-1" strike="noStrike">
                <a:solidFill>
                  <a:srgbClr val="000000"/>
                </a:solidFill>
                <a:latin typeface="Arabic Typesetting"/>
                <a:cs typeface="Arabic Typesetting"/>
              </a:rPr>
              <a:t>ب- </a:t>
            </a:r>
            <a:r>
              <a:rPr b="0" lang="ar-SA" sz="2400" spc="-1" strike="noStrike">
                <a:solidFill>
                  <a:srgbClr val="ff0000"/>
                </a:solidFill>
                <a:latin typeface="Arabic Typesetting"/>
                <a:cs typeface="Arabic Typesetting"/>
              </a:rPr>
              <a:t>بيان قواعد المجاملات مثل رد التحية</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ت- </a:t>
            </a:r>
            <a:r>
              <a:rPr b="0" lang="ar-SA" sz="2400" spc="-1" strike="noStrike">
                <a:solidFill>
                  <a:srgbClr val="ff0000"/>
                </a:solidFill>
                <a:latin typeface="Arabic Typesetting"/>
                <a:cs typeface="Arabic Typesetting"/>
              </a:rPr>
              <a:t>الوان الازياء التي يجب ارتدائها.                      </a:t>
            </a:r>
            <a:r>
              <a:rPr b="0" lang="ar-SA" sz="2400" spc="-1" strike="noStrike">
                <a:solidFill>
                  <a:srgbClr val="000000"/>
                </a:solidFill>
                <a:latin typeface="Arabic Typesetting"/>
                <a:cs typeface="Arabic Typesetting"/>
              </a:rPr>
              <a:t>د- </a:t>
            </a:r>
            <a:r>
              <a:rPr b="0" lang="ar-SA" sz="2400" spc="-1" strike="noStrike">
                <a:solidFill>
                  <a:srgbClr val="ff0000"/>
                </a:solidFill>
                <a:latin typeface="Arabic Typesetting"/>
                <a:cs typeface="Arabic Typesetting"/>
              </a:rPr>
              <a:t>كيفية تسمية المواليد</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4/ </a:t>
            </a:r>
            <a:r>
              <a:rPr b="1" lang="ar-SA" sz="2400" spc="-1" strike="noStrike">
                <a:solidFill>
                  <a:srgbClr val="000000"/>
                </a:solidFill>
                <a:latin typeface="Arabic Typesetting"/>
                <a:cs typeface="Arabic Typesetting"/>
              </a:rPr>
              <a:t>النص على التفرقة الطبقية : قسمة دولة مانو الى خمس طبقات ووزعت الحقوق العامة والحقوق الخاصة تحديداً في نطاق الاسرة تحديدا تعدد الزوجات على الشكل الاتي</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ea typeface="Arabic Typesetting"/>
              </a:rPr>
              <a:t>: </a:t>
            </a:r>
            <a:endParaRPr b="0" lang="en-US" sz="2400" spc="-1" strike="noStrike">
              <a:solidFill>
                <a:srgbClr val="000000"/>
              </a:solidFill>
              <a:latin typeface="Arial"/>
            </a:endParaRPr>
          </a:p>
        </p:txBody>
      </p:sp>
      <p:graphicFrame>
        <p:nvGraphicFramePr>
          <p:cNvPr id="263" name=""/>
          <p:cNvGraphicFramePr/>
          <p:nvPr/>
        </p:nvGraphicFramePr>
        <p:xfrm>
          <a:off x="2200320" y="4998960"/>
          <a:ext cx="8128080" cy="1494000"/>
        </p:xfrm>
        <a:graphic>
          <a:graphicData uri="http://schemas.openxmlformats.org/drawingml/2006/table">
            <a:tbl>
              <a:tblPr/>
              <a:tblGrid>
                <a:gridCol w="1353960"/>
                <a:gridCol w="1355760"/>
                <a:gridCol w="1354320"/>
                <a:gridCol w="1353960"/>
                <a:gridCol w="1355760"/>
                <a:gridCol w="135432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خامس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رابع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ثالث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ثاني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أولى</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حرمت عليهم</a:t>
                      </a:r>
                      <a:r>
                        <a:rPr b="0" lang="ar-SA" sz="2000" spc="-1" strike="noStrike">
                          <a:solidFill>
                            <a:srgbClr val="000000"/>
                          </a:solidFill>
                          <a:latin typeface="Arabic Typesetting"/>
                          <a:ea typeface="Arabic Typesetting"/>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حرمت عليهم</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حرمت عليهم</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بعض منها</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نحة كامل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وق العام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لايوجد لهم حقوق</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 في الزواج من امرأه فق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 في الزواج من امرأتين فق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 في الزواج من </a:t>
                      </a:r>
                      <a:r>
                        <a:rPr b="0" lang="ar-SA" sz="2000" spc="-1" strike="noStrike">
                          <a:solidFill>
                            <a:srgbClr val="000000"/>
                          </a:solidFill>
                          <a:latin typeface="Arabic Typesetting"/>
                          <a:ea typeface="Arabic Typesetting"/>
                        </a:rPr>
                        <a:t>3</a:t>
                      </a:r>
                      <a:r>
                        <a:rPr b="0" lang="ar-SA" sz="2000" spc="-1" strike="noStrike">
                          <a:solidFill>
                            <a:srgbClr val="000000"/>
                          </a:solidFill>
                          <a:latin typeface="Arabic Typesetting"/>
                          <a:ea typeface="Arabic Typesetting"/>
                        </a:rPr>
                        <a:t> نساء فق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 في الزواج من </a:t>
                      </a:r>
                      <a:r>
                        <a:rPr b="0" lang="ar-SA" sz="2000" spc="-1" strike="noStrike">
                          <a:solidFill>
                            <a:srgbClr val="000000"/>
                          </a:solidFill>
                          <a:latin typeface="Arabic Typesetting"/>
                          <a:ea typeface="Arabic Typesetting"/>
                        </a:rPr>
                        <a:t>4</a:t>
                      </a:r>
                      <a:r>
                        <a:rPr b="0" lang="ar-SA" sz="2000" spc="-1" strike="noStrike">
                          <a:solidFill>
                            <a:srgbClr val="000000"/>
                          </a:solidFill>
                          <a:latin typeface="Arabic Typesetting"/>
                          <a:ea typeface="Arabic Typesetting"/>
                        </a:rPr>
                        <a:t> نساء فق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وق الخاص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Box 1"/>
          <p:cNvSpPr/>
          <p:nvPr/>
        </p:nvSpPr>
        <p:spPr>
          <a:xfrm>
            <a:off x="774720" y="345960"/>
            <a:ext cx="11274480" cy="814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5/ </a:t>
            </a:r>
            <a:r>
              <a:rPr b="1" lang="ar-SA" sz="2400" spc="-1" strike="noStrike">
                <a:solidFill>
                  <a:srgbClr val="000000"/>
                </a:solidFill>
                <a:latin typeface="Arabic Typesetting"/>
                <a:cs typeface="Arabic Typesetting"/>
              </a:rPr>
              <a:t>غياب مبدأ المواساة : </a:t>
            </a:r>
            <a:r>
              <a:rPr b="0" lang="ar-SA" sz="2400" spc="-1" strike="noStrike">
                <a:solidFill>
                  <a:srgbClr val="ff0000"/>
                </a:solidFill>
                <a:latin typeface="Arabic Typesetting"/>
                <a:cs typeface="Arabic Typesetting"/>
              </a:rPr>
              <a:t>لم تعترف بالمساواة سواء في الحقوق أو الواجبات أو حتى في العقوبة ، وذلك مده الى التقسيم الطبقي فنجد اصحاب الطبقة الأولى قد تمتعت بالكثير من الامتيازات</a:t>
            </a:r>
            <a:r>
              <a:rPr b="0" lang="ar-SA" sz="2400" spc="-1" strike="noStrike">
                <a:solidFill>
                  <a:srgbClr val="ff0000"/>
                </a:solidFill>
                <a:latin typeface="Arabic Typesetting"/>
                <a:ea typeface="Arabic Typesetting"/>
              </a:rPr>
              <a:t> </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6 / </a:t>
            </a:r>
            <a:r>
              <a:rPr b="1" lang="ar-SA" sz="2400" spc="-1" strike="noStrike">
                <a:solidFill>
                  <a:srgbClr val="000000"/>
                </a:solidFill>
                <a:latin typeface="Arabic Typesetting"/>
                <a:cs typeface="Arabic Typesetting"/>
              </a:rPr>
              <a:t>قسوة الجزاء : </a:t>
            </a:r>
            <a:r>
              <a:rPr b="0" lang="ar-SA" sz="2400" spc="-1" strike="noStrike">
                <a:solidFill>
                  <a:srgbClr val="ff0000"/>
                </a:solidFill>
                <a:latin typeface="Arabic Typesetting"/>
                <a:cs typeface="Arabic Typesetting"/>
              </a:rPr>
              <a:t>فقد كان يحكم لى السارق والزاني والمتلف لاملاك الملك بالاعدام ، وبتر الايدي والاقدام والاذان وصب الرصاص في الحلق</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abic Typesetting"/>
                <a:ea typeface="Arabic Typesetting"/>
              </a:rPr>
              <a:t>7</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cs typeface="Arabic Typesetting"/>
              </a:rPr>
              <a:t>جنوح مدونة مانوالى تحقيق العدالة القانونية في بعض المواضيع : </a:t>
            </a:r>
            <a:r>
              <a:rPr b="0" lang="ar-SA" sz="2400" spc="-1" strike="noStrike">
                <a:solidFill>
                  <a:srgbClr val="ff0000"/>
                </a:solidFill>
                <a:latin typeface="Arabic Typesetting"/>
                <a:cs typeface="Arabic Typesetting"/>
              </a:rPr>
              <a:t>حرصت على تحقيق العدالة القانونية في اكثر من جانب ، اهمها</a:t>
            </a:r>
            <a:r>
              <a:rPr b="0" lang="ar-SA" sz="2400" spc="-1" strike="noStrike">
                <a:solidFill>
                  <a:srgbClr val="ff0000"/>
                </a:solidFill>
                <a:latin typeface="Arabic Typesetting"/>
                <a:ea typeface="Arabic Typesetting"/>
              </a:rPr>
              <a:t> </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أ/ في مجال العقود والالتزامات</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ea typeface="Arabic Typesetting"/>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 </a:t>
            </a:r>
            <a:r>
              <a:rPr b="0" lang="ar-SA" sz="2400" spc="-1" strike="noStrike">
                <a:solidFill>
                  <a:srgbClr val="ff0000"/>
                </a:solidFill>
                <a:latin typeface="Arabic Typesetting"/>
                <a:cs typeface="Arabic Typesetting"/>
              </a:rPr>
              <a:t>تأكيد مبدأ العقد شريعة المتعاقدين .               </a:t>
            </a:r>
            <a:r>
              <a:rPr b="0" lang="ar-SA" sz="2400" spc="-1" strike="noStrike">
                <a:solidFill>
                  <a:srgbClr val="000000"/>
                </a:solidFill>
                <a:latin typeface="Arabic Typesetting"/>
                <a:ea typeface="Arabic Typesetting"/>
              </a:rPr>
              <a:t>2</a:t>
            </a:r>
            <a:r>
              <a:rPr b="0" lang="ar-SA" sz="2400" spc="-1" strike="noStrike">
                <a:solidFill>
                  <a:srgbClr val="000000"/>
                </a:solidFill>
                <a:latin typeface="Arabic Typesetting"/>
                <a:ea typeface="Arabic Typesetting"/>
              </a:rPr>
              <a:t>/ </a:t>
            </a:r>
            <a:r>
              <a:rPr b="0" lang="ar-SA" sz="2400" spc="-1" strike="noStrike">
                <a:solidFill>
                  <a:srgbClr val="ff0000"/>
                </a:solidFill>
                <a:latin typeface="Arabic Typesetting"/>
                <a:cs typeface="Arabic Typesetting"/>
              </a:rPr>
              <a:t>اشتراط سلامة الارادة من العيوب</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a:t>
            </a:r>
            <a:r>
              <a:rPr b="0" lang="ar-SA" sz="2400" spc="-1" strike="noStrike">
                <a:solidFill>
                  <a:srgbClr val="ff0000"/>
                </a:solidFill>
                <a:latin typeface="Arabic Typesetting"/>
                <a:cs typeface="Arabic Typesetting"/>
              </a:rPr>
              <a:t>اعتبار الاكراه سبباً من اسباب بطلان العقد.     </a:t>
            </a:r>
            <a:r>
              <a:rPr b="0" lang="ar-SA" sz="2400" spc="-1" strike="noStrike">
                <a:solidFill>
                  <a:srgbClr val="000000"/>
                </a:solidFill>
                <a:latin typeface="Arabic Typesetting"/>
                <a:ea typeface="Arabic Typesetting"/>
              </a:rPr>
              <a:t>4</a:t>
            </a:r>
            <a:r>
              <a:rPr b="0" lang="ar-SA" sz="2400" spc="-1" strike="noStrike">
                <a:solidFill>
                  <a:srgbClr val="000000"/>
                </a:solidFill>
                <a:latin typeface="Arabic Typesetting"/>
                <a:ea typeface="Arabic Typesetting"/>
              </a:rPr>
              <a:t>/</a:t>
            </a:r>
            <a:r>
              <a:rPr b="0" lang="ar-SA" sz="2400" spc="-1" strike="noStrike">
                <a:solidFill>
                  <a:srgbClr val="ff0000"/>
                </a:solidFill>
                <a:latin typeface="Arabic Typesetting"/>
                <a:cs typeface="Arabic Typesetting"/>
              </a:rPr>
              <a:t>تحريم بيع ملك الغير</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a:t>
            </a:r>
            <a:r>
              <a:rPr b="0" lang="ar-SA" sz="2400" spc="-1" strike="noStrike">
                <a:solidFill>
                  <a:srgbClr val="ff0000"/>
                </a:solidFill>
                <a:latin typeface="Arabic Typesetting"/>
                <a:cs typeface="Arabic Typesetting"/>
              </a:rPr>
              <a:t>تكريس مبدأ حماية القصر.                        </a:t>
            </a:r>
            <a:r>
              <a:rPr b="0" lang="ar-SA" sz="2400" spc="-1" strike="noStrike">
                <a:solidFill>
                  <a:srgbClr val="000000"/>
                </a:solidFill>
                <a:latin typeface="Arabic Typesetting"/>
                <a:ea typeface="Arabic Typesetting"/>
              </a:rPr>
              <a:t>6</a:t>
            </a:r>
            <a:r>
              <a:rPr b="0" lang="ar-SA" sz="2400" spc="-1" strike="noStrike">
                <a:solidFill>
                  <a:srgbClr val="000000"/>
                </a:solidFill>
                <a:latin typeface="Arabic Typesetting"/>
                <a:ea typeface="Arabic Typesetting"/>
              </a:rPr>
              <a:t>/</a:t>
            </a:r>
            <a:r>
              <a:rPr b="0" lang="ar-SA" sz="2400" spc="-1" strike="noStrike">
                <a:solidFill>
                  <a:srgbClr val="ff0000"/>
                </a:solidFill>
                <a:latin typeface="Arabic Typesetting"/>
                <a:cs typeface="Arabic Typesetting"/>
              </a:rPr>
              <a:t>عدم اقرار التقادم كسبب من اسباب كسب الحقوق</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ب/في مجال تحقيق العدالة القضائية</a:t>
            </a:r>
            <a:r>
              <a:rPr b="1" lang="ar-SA" sz="2400" spc="-1" strike="noStrike">
                <a:solidFill>
                  <a:srgbClr val="00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 </a:t>
            </a:r>
            <a:r>
              <a:rPr b="0" lang="ar-SA" sz="2400" spc="-1" strike="noStrike">
                <a:solidFill>
                  <a:srgbClr val="ff0000"/>
                </a:solidFill>
                <a:latin typeface="Arabic Typesetting"/>
                <a:cs typeface="Arabic Typesetting"/>
              </a:rPr>
              <a:t>ضرورة الالتزام بأحكام القانون وعدم الحيد بها</a:t>
            </a:r>
            <a:r>
              <a:rPr b="0" lang="ar-SA" sz="2400" spc="-1" strike="noStrike">
                <a:solidFill>
                  <a:srgbClr val="ff0000"/>
                </a:solidFill>
                <a:latin typeface="Arabic Typesetting"/>
                <a:ea typeface="Arabic Typesetting"/>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2/</a:t>
            </a:r>
            <a:r>
              <a:rPr b="0" lang="ar-SA" sz="2400" spc="-1" strike="noStrike">
                <a:solidFill>
                  <a:srgbClr val="ff0000"/>
                </a:solidFill>
                <a:latin typeface="Arabic Typesetting"/>
                <a:cs typeface="Arabic Typesetting"/>
              </a:rPr>
              <a:t>اذا وجدت منازعة لايوجد بشأنها نص في المدونة فإنه ينبغي الفصل فيها وفقاً للقانون الابدي</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a:t>
            </a:r>
            <a:r>
              <a:rPr b="0" lang="ar-SA" sz="2400" spc="-1" strike="noStrike">
                <a:solidFill>
                  <a:srgbClr val="ff0000"/>
                </a:solidFill>
                <a:latin typeface="Arabic Typesetting"/>
                <a:cs typeface="Arabic Typesetting"/>
              </a:rPr>
              <a:t>الالتزام بالحكم العدل، لانه من يخرج من العدالة ستنتقم منه الآلهة ولن يقبل في مملكة السماء بعد موته</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4/ </a:t>
            </a:r>
            <a:r>
              <a:rPr b="0" lang="ar-SA" sz="2400" spc="-1" strike="noStrike">
                <a:solidFill>
                  <a:srgbClr val="ff0000"/>
                </a:solidFill>
                <a:latin typeface="Arabic Typesetting"/>
                <a:cs typeface="Arabic Typesetting"/>
              </a:rPr>
              <a:t>تطلب الشهادة الصحيحية وتغليظ العقوبة على الشهادة الزور</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1"/>
          <p:cNvSpPr/>
          <p:nvPr/>
        </p:nvSpPr>
        <p:spPr>
          <a:xfrm>
            <a:off x="3044880" y="353880"/>
            <a:ext cx="647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هم المدونات القانونية القديمة التي اكتسبت شهرة واسعة</a:t>
            </a: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سواء في بلاد الشرق أو في بلاد الغرب</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p:txBody>
      </p:sp>
      <p:sp>
        <p:nvSpPr>
          <p:cNvPr id="233" name="TextBox 3"/>
          <p:cNvSpPr/>
          <p:nvPr/>
        </p:nvSpPr>
        <p:spPr>
          <a:xfrm>
            <a:off x="3981600" y="2270160"/>
            <a:ext cx="4646520" cy="1373760"/>
          </a:xfrm>
          <a:prstGeom prst="rect">
            <a:avLst/>
          </a:prstGeom>
          <a:solidFill>
            <a:srgbClr val="efede3"/>
          </a:solidFill>
          <a:ln w="349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لفرع الأول : أهم المدونات القانونية القديمة في بلاد الشرق</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p:txBody>
      </p:sp>
      <p:cxnSp>
        <p:nvCxnSpPr>
          <p:cNvPr id="234" name="Straight Arrow Connector 5"/>
          <p:cNvCxnSpPr/>
          <p:nvPr/>
        </p:nvCxnSpPr>
        <p:spPr>
          <a:xfrm>
            <a:off x="7574040" y="2793960"/>
            <a:ext cx="1208880" cy="1262880"/>
          </a:xfrm>
          <a:prstGeom prst="straightConnector1">
            <a:avLst/>
          </a:prstGeom>
          <a:ln w="6480">
            <a:solidFill>
              <a:srgbClr val="000000"/>
            </a:solidFill>
            <a:miter/>
            <a:tailEnd len="med" type="triangle" w="med"/>
          </a:ln>
        </p:spPr>
      </p:cxnSp>
      <p:cxnSp>
        <p:nvCxnSpPr>
          <p:cNvPr id="235" name="Straight Arrow Connector 7"/>
          <p:cNvCxnSpPr/>
          <p:nvPr/>
        </p:nvCxnSpPr>
        <p:spPr>
          <a:xfrm flipH="1">
            <a:off x="3709440" y="2793600"/>
            <a:ext cx="1076760" cy="1243800"/>
          </a:xfrm>
          <a:prstGeom prst="straightConnector1">
            <a:avLst/>
          </a:prstGeom>
          <a:ln w="6480">
            <a:solidFill>
              <a:srgbClr val="000000"/>
            </a:solidFill>
            <a:miter/>
            <a:tailEnd len="med" type="triangle" w="med"/>
          </a:ln>
        </p:spPr>
      </p:cxnSp>
      <p:cxnSp>
        <p:nvCxnSpPr>
          <p:cNvPr id="236" name="Straight Arrow Connector 9"/>
          <p:cNvCxnSpPr>
            <a:stCxn id="233" idx="2"/>
          </p:cNvCxnSpPr>
          <p:nvPr/>
        </p:nvCxnSpPr>
        <p:spPr>
          <a:xfrm>
            <a:off x="6305040" y="2793600"/>
            <a:ext cx="1080" cy="1335960"/>
          </a:xfrm>
          <a:prstGeom prst="straightConnector1">
            <a:avLst/>
          </a:prstGeom>
          <a:ln w="6480">
            <a:solidFill>
              <a:srgbClr val="000000"/>
            </a:solidFill>
            <a:miter/>
            <a:tailEnd len="med" type="triangle" w="med"/>
          </a:ln>
        </p:spPr>
      </p:cxnSp>
      <p:sp>
        <p:nvSpPr>
          <p:cNvPr id="237" name="TextBox 12"/>
          <p:cNvSpPr/>
          <p:nvPr/>
        </p:nvSpPr>
        <p:spPr>
          <a:xfrm>
            <a:off x="2462040" y="4129200"/>
            <a:ext cx="854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1/ </a:t>
            </a:r>
            <a:r>
              <a:rPr b="1" lang="ar-SA" sz="2800" spc="-1" strike="noStrike">
                <a:solidFill>
                  <a:srgbClr val="ff0000"/>
                </a:solidFill>
                <a:latin typeface="Arabic Typesetting"/>
                <a:cs typeface="Arabic Typesetting"/>
              </a:rPr>
              <a:t>مدونة حورابي في بابل.    </a:t>
            </a:r>
            <a:r>
              <a:rPr b="1" lang="ar-SA" sz="2800" spc="-1" strike="noStrike">
                <a:solidFill>
                  <a:srgbClr val="000000"/>
                </a:solidFill>
                <a:latin typeface="Arabic Typesetting"/>
                <a:ea typeface="Arabic Typesetting"/>
              </a:rPr>
              <a:t>2</a:t>
            </a:r>
            <a:r>
              <a:rPr b="1" lang="ar-SA" sz="2800" spc="-1" strike="noStrike">
                <a:solidFill>
                  <a:srgbClr val="000000"/>
                </a:solidFill>
                <a:latin typeface="Arabic Typesetting"/>
                <a:ea typeface="Arabic Typesetting"/>
              </a:rPr>
              <a:t>/ </a:t>
            </a:r>
            <a:r>
              <a:rPr b="1" lang="ar-SA" sz="2800" spc="-1" strike="noStrike">
                <a:solidFill>
                  <a:srgbClr val="ff0000"/>
                </a:solidFill>
                <a:latin typeface="Arabic Typesetting"/>
                <a:cs typeface="Arabic Typesetting"/>
              </a:rPr>
              <a:t>مدونة بوكخوريس في مصر الفرعونية.    </a:t>
            </a:r>
            <a:r>
              <a:rPr b="1" lang="ar-SA" sz="2800" spc="-1" strike="noStrike">
                <a:solidFill>
                  <a:srgbClr val="000000"/>
                </a:solidFill>
                <a:latin typeface="Arabic Typesetting"/>
                <a:ea typeface="Arabic Typesetting"/>
              </a:rPr>
              <a:t>3</a:t>
            </a:r>
            <a:r>
              <a:rPr b="1" lang="ar-SA" sz="2800" spc="-1" strike="noStrike">
                <a:solidFill>
                  <a:srgbClr val="000000"/>
                </a:solidFill>
                <a:latin typeface="Arabic Typesetting"/>
                <a:ea typeface="Arabic Typesetting"/>
              </a:rPr>
              <a:t>/ </a:t>
            </a:r>
            <a:r>
              <a:rPr b="1" lang="ar-SA" sz="2800" spc="-1" strike="noStrike">
                <a:solidFill>
                  <a:srgbClr val="ff0000"/>
                </a:solidFill>
                <a:latin typeface="Arabic Typesetting"/>
                <a:cs typeface="Arabic Typesetting"/>
              </a:rPr>
              <a:t>مدونة مانو في الهند القديمة</a:t>
            </a:r>
            <a:r>
              <a:rPr b="1" lang="ar-SA" sz="2800" spc="-1" strike="noStrike">
                <a:solidFill>
                  <a:srgbClr val="ff0000"/>
                </a:solidFill>
                <a:latin typeface="Arabic Typesetting"/>
                <a:ea typeface="Arabic Typesetting"/>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1"/>
          <p:cNvSpPr/>
          <p:nvPr/>
        </p:nvSpPr>
        <p:spPr>
          <a:xfrm>
            <a:off x="700200" y="58680"/>
            <a:ext cx="11172600" cy="1033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لغصن الأو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مدونة حمورابي في بابل</a:t>
            </a: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أولاً : مفاهيم عامة عن مدونة حمورابي</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Arabic Typesetting"/>
                <a:ea typeface="Arabic Typesetting"/>
              </a:rPr>
              <a:t>1/ </a:t>
            </a:r>
            <a:r>
              <a:rPr b="1" lang="ar-SA" sz="2800" spc="-1" strike="noStrike" u="sng">
                <a:solidFill>
                  <a:srgbClr val="00b050"/>
                </a:solidFill>
                <a:uFillTx/>
                <a:latin typeface="Arabic Typesetting"/>
                <a:cs typeface="Arabic Typesetting"/>
              </a:rPr>
              <a:t>مكان وتاريخ صدور مدونة حمورابي : </a:t>
            </a:r>
            <a:r>
              <a:rPr b="1" lang="ar-SA" sz="2800" spc="-1" strike="noStrike">
                <a:solidFill>
                  <a:srgbClr val="0070c0"/>
                </a:solidFill>
                <a:latin typeface="Arabic Typesetting"/>
                <a:cs typeface="Arabic Typesetting"/>
              </a:rPr>
              <a:t>صدرت في بلاد مابين النهرين (العراق حاليًا)، </a:t>
            </a:r>
            <a:r>
              <a:rPr b="1" lang="ar-SA" sz="2800" spc="-1" strike="noStrike">
                <a:solidFill>
                  <a:srgbClr val="ff0000"/>
                </a:solidFill>
                <a:latin typeface="Arabic Typesetting"/>
                <a:cs typeface="Arabic Typesetting"/>
              </a:rPr>
              <a:t>وتحديداً في مدينة بابل، </a:t>
            </a:r>
            <a:r>
              <a:rPr b="1" lang="ar-SA" sz="2800" spc="-1" strike="noStrike">
                <a:solidFill>
                  <a:srgbClr val="0070c0"/>
                </a:solidFill>
                <a:latin typeface="Arabic Typesetting"/>
                <a:cs typeface="Arabic Typesetting"/>
              </a:rPr>
              <a:t>في عهد الملك حمورابي </a:t>
            </a:r>
            <a:r>
              <a:rPr b="1" lang="ar-SA" sz="2800" spc="-1" strike="noStrike">
                <a:solidFill>
                  <a:srgbClr val="000000"/>
                </a:solidFill>
                <a:latin typeface="Arabic Typesetting"/>
                <a:ea typeface="Arabic Typesetting"/>
              </a:rPr>
              <a:t>(</a:t>
            </a:r>
            <a:r>
              <a:rPr b="1" lang="ar-SA" sz="2800" spc="-1" strike="noStrike">
                <a:solidFill>
                  <a:srgbClr val="ff0000"/>
                </a:solidFill>
                <a:latin typeface="Arabic Typesetting"/>
                <a:cs typeface="Arabic Typesetting"/>
              </a:rPr>
              <a:t>سادس ملوك بابل واشهرهم</a:t>
            </a:r>
            <a:r>
              <a:rPr b="1" lang="ar-SA" sz="2800" spc="-1" strike="noStrike">
                <a:solidFill>
                  <a:srgbClr val="000000"/>
                </a:solidFill>
                <a:latin typeface="Arabic Typesetting"/>
                <a:ea typeface="Arabic Typesetting"/>
              </a:rPr>
              <a:t>) </a:t>
            </a:r>
            <a:r>
              <a:rPr b="1" lang="ar-SA" sz="2800" spc="-1" strike="noStrike">
                <a:solidFill>
                  <a:srgbClr val="ff0000"/>
                </a:solidFill>
                <a:latin typeface="Arabic Typesetting"/>
                <a:cs typeface="Arabic Typesetting"/>
              </a:rPr>
              <a:t>واختلف العلماء حول تاريخ صدور المدونة، فيرى البعض ان  عام صدورها </a:t>
            </a:r>
            <a:r>
              <a:rPr b="1" lang="ar-SA" sz="2800" spc="-1" strike="noStrike">
                <a:solidFill>
                  <a:srgbClr val="000000"/>
                </a:solidFill>
                <a:latin typeface="Arabic Typesetting"/>
                <a:ea typeface="Arabic Typesetting"/>
              </a:rPr>
              <a:t>2000</a:t>
            </a:r>
            <a:r>
              <a:rPr b="1" lang="ar-SA" sz="2800" spc="-1" strike="noStrike">
                <a:solidFill>
                  <a:srgbClr val="000000"/>
                </a:solidFill>
                <a:latin typeface="Arabic Typesetting"/>
                <a:ea typeface="Arabic Typesetting"/>
              </a:rPr>
              <a:t> ق.م</a:t>
            </a:r>
            <a:r>
              <a:rPr b="1" lang="ar-SA" sz="2800" spc="-1" strike="noStrike">
                <a:solidFill>
                  <a:srgbClr val="ff0000"/>
                </a:solidFill>
                <a:latin typeface="Arabic Typesetting"/>
                <a:cs typeface="Arabic Typesetting"/>
              </a:rPr>
              <a:t>، وبرى البعض انها صدرت في الفترة </a:t>
            </a:r>
            <a:r>
              <a:rPr b="1" lang="ar-SA" sz="2800" spc="-1" strike="noStrike">
                <a:solidFill>
                  <a:srgbClr val="000000"/>
                </a:solidFill>
                <a:latin typeface="Arabic Typesetting"/>
                <a:ea typeface="Arabic Typesetting"/>
              </a:rPr>
              <a:t>1728</a:t>
            </a:r>
            <a:r>
              <a:rPr b="1" lang="ar-SA" sz="2800" spc="-1" strike="noStrike">
                <a:solidFill>
                  <a:srgbClr val="000000"/>
                </a:solidFill>
                <a:latin typeface="Arabic Typesetting"/>
                <a:ea typeface="Arabic Typesetting"/>
              </a:rPr>
              <a:t>-</a:t>
            </a:r>
            <a:r>
              <a:rPr b="1" lang="ar-SA" sz="2800" spc="-1" strike="noStrike">
                <a:solidFill>
                  <a:srgbClr val="000000"/>
                </a:solidFill>
                <a:latin typeface="Arabic Typesetting"/>
                <a:ea typeface="Arabic Typesetting"/>
              </a:rPr>
              <a:t>1686</a:t>
            </a:r>
            <a:r>
              <a:rPr b="1" lang="ar-SA" sz="2800" spc="-1" strike="noStrike">
                <a:solidFill>
                  <a:srgbClr val="000000"/>
                </a:solidFill>
                <a:latin typeface="Arabic Typesetting"/>
                <a:ea typeface="Arabic Typesetting"/>
              </a:rPr>
              <a:t> ق.م</a:t>
            </a:r>
            <a:r>
              <a:rPr b="1" lang="ar-SA" sz="2800" spc="-1" strike="noStrike">
                <a:solidFill>
                  <a:srgbClr val="ff0000"/>
                </a:solidFill>
                <a:latin typeface="Arabic Typesetting"/>
                <a:cs typeface="Arabic Typesetting"/>
              </a:rPr>
              <a:t>، ويرى البعض انها صدرت في عام </a:t>
            </a:r>
            <a:r>
              <a:rPr b="1" lang="ar-SA" sz="2800" spc="-1" strike="noStrike">
                <a:solidFill>
                  <a:srgbClr val="000000"/>
                </a:solidFill>
                <a:latin typeface="Arabic Typesetting"/>
                <a:ea typeface="Arabic Typesetting"/>
              </a:rPr>
              <a:t>1699</a:t>
            </a:r>
            <a:r>
              <a:rPr b="1" lang="ar-SA" sz="2800" spc="-1" strike="noStrike">
                <a:solidFill>
                  <a:srgbClr val="000000"/>
                </a:solidFill>
                <a:latin typeface="Arabic Typesetting"/>
                <a:ea typeface="Arabic Typesetting"/>
              </a:rPr>
              <a:t> ق.م</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Arabic Typesetting"/>
                <a:ea typeface="Arabic Typesetting"/>
              </a:rPr>
              <a:t>2/ </a:t>
            </a:r>
            <a:r>
              <a:rPr b="1" lang="ar-SA" sz="2800" spc="-1" strike="noStrike" u="sng">
                <a:solidFill>
                  <a:srgbClr val="00b050"/>
                </a:solidFill>
                <a:uFillTx/>
                <a:latin typeface="Arabic Typesetting"/>
                <a:cs typeface="Arabic Typesetting"/>
              </a:rPr>
              <a:t>الغرض من صدورها</a:t>
            </a:r>
            <a:r>
              <a:rPr b="1" lang="ar-SA" sz="2800" spc="-1" strike="noStrike" u="sng">
                <a:solidFill>
                  <a:srgbClr val="00b050"/>
                </a:solidFill>
                <a:uFillTx/>
                <a:latin typeface="Arabic Typesetting"/>
                <a:ea typeface="Arabic Typesetting"/>
              </a:rPr>
              <a:t> </a:t>
            </a:r>
            <a:r>
              <a:rPr b="1" lang="ar-SA" sz="2800" spc="-1" strike="noStrike" u="sng">
                <a:solidFill>
                  <a:srgbClr val="00b050"/>
                </a:solidFill>
                <a:uFillTx/>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abic Typesetting"/>
                <a:cs typeface="Arabic Typesetting"/>
              </a:rPr>
              <a:t>رغبة الملك في توحيد القواعد القانونية في بابل، وذلك بعد أن استطاح توحيد دويلات مابين النهررين-بيما فيها اشور- سياسي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كان هناك حكومة مركزية واحدة تمتاز بالقوة التي قد مكنتها من القضاء على حكومات الامارات والدويلات التي ترتب عليه ان بلاد مابين النهرين اصبحة دولة قومية واحد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abic Typesetting"/>
                <a:cs typeface="Arabic Typesetting"/>
              </a:rPr>
              <a:t>اعلن أن اللغة الأكادية وحدها هي اللعة الرسمية للبلاد، وبالتالي اصبحت السومرية لغة ميتة لاتستعمل</a:t>
            </a:r>
            <a:r>
              <a:rPr b="1" lang="ar-SA" sz="2800" spc="-1" strike="noStrike">
                <a:solidFill>
                  <a:srgbClr val="ff0000"/>
                </a:solidFill>
                <a:latin typeface="Arabic Typesetting"/>
                <a:ea typeface="Arabic Typesetting"/>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أعلن ان هناك ديانة عامة واحدة هي ديانة مردوك إله باب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abic Typesetting"/>
                <a:cs typeface="Arabic Typesetting"/>
              </a:rPr>
              <a:t>ادرك ضرورة تحقيق الوحدة القانونية بإصدار مدونته الشهيرة التي اقترنت باسمه وذلك باللغة الأكاد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الغرض الرئيسي من اصدار تلك المدونة يظهر في مقدمة المدونة واخرها وظهر ايضا رجوع جمورابي للمدونات العراقية التي سبقت عصره </a:t>
            </a:r>
            <a:r>
              <a:rPr b="1" lang="ar-SA" sz="2800" spc="-1" strike="noStrike">
                <a:solidFill>
                  <a:srgbClr val="0070c0"/>
                </a:solidFill>
                <a:latin typeface="Arabic Typesetting"/>
                <a:cs typeface="Arabic Typesetting"/>
              </a:rPr>
              <a:t>واعتماده لمبدأ ثنائية الحلول بمعنى وضع حكمين قانونيين لمسألة واح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2"/>
          <p:cNvSpPr/>
          <p:nvPr/>
        </p:nvSpPr>
        <p:spPr>
          <a:xfrm>
            <a:off x="738360" y="125280"/>
            <a:ext cx="11244240" cy="704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3/ </a:t>
            </a:r>
            <a:r>
              <a:rPr b="1" lang="ar-SA" sz="2400" spc="-1" strike="noStrike">
                <a:solidFill>
                  <a:srgbClr val="000000"/>
                </a:solidFill>
                <a:latin typeface="Times New Roman"/>
                <a:cs typeface="Times New Roman"/>
              </a:rPr>
              <a:t>المنهج التشريعي لحمورابي</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نتهج في مدونته نهجان في آن واحد</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ول : </a:t>
            </a:r>
            <a:r>
              <a:rPr b="1" lang="ar-SA" sz="2400" spc="-1" strike="noStrike">
                <a:solidFill>
                  <a:srgbClr val="0070c0"/>
                </a:solidFill>
                <a:latin typeface="Times New Roman"/>
                <a:cs typeface="Times New Roman"/>
              </a:rPr>
              <a:t>هو تجميع التقاليد العرفية التي كانت سائدة قبل عهده</a:t>
            </a:r>
            <a:r>
              <a:rPr b="1" lang="ar-SA" sz="2400" spc="-1" strike="noStrike">
                <a:solidFill>
                  <a:srgbClr val="0070c0"/>
                </a:solidFill>
                <a:latin typeface="Times New Roman"/>
                <a:ea typeface="Times New Roman"/>
              </a:rPr>
              <a:t> </a:t>
            </a:r>
            <a:r>
              <a:rPr b="1" lang="ar-SA" sz="2400" spc="-1" strike="noStrike">
                <a:solidFill>
                  <a:srgbClr val="0070c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ثاني :</a:t>
            </a:r>
            <a:r>
              <a:rPr b="1" lang="ar-SA" sz="2400" spc="-1" strike="noStrike">
                <a:solidFill>
                  <a:srgbClr val="ff0000"/>
                </a:solidFill>
                <a:latin typeface="Times New Roman"/>
                <a:ea typeface="Times New Roman"/>
              </a:rPr>
              <a:t> </a:t>
            </a:r>
            <a:r>
              <a:rPr b="1" lang="ar-SA" sz="2400" spc="-1" strike="noStrike">
                <a:solidFill>
                  <a:srgbClr val="0070c0"/>
                </a:solidFill>
                <a:latin typeface="Times New Roman"/>
                <a:cs typeface="Times New Roman"/>
              </a:rPr>
              <a:t>القيام بدور المصلح الاجتماعي بجانب دوره كمشرع</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في </a:t>
            </a:r>
            <a:r>
              <a:rPr b="1" lang="ar-SA" sz="2400" spc="-1" strike="noStrike">
                <a:solidFill>
                  <a:srgbClr val="002060"/>
                </a:solidFill>
                <a:latin typeface="Times New Roman"/>
                <a:cs typeface="Times New Roman"/>
              </a:rPr>
              <a:t>دوره كمصلح قد ظهر في قيامه </a:t>
            </a:r>
            <a:r>
              <a:rPr b="1" lang="ar-SA" sz="2400" spc="-1" strike="noStrike">
                <a:solidFill>
                  <a:srgbClr val="000000"/>
                </a:solidFill>
                <a:latin typeface="Times New Roman"/>
                <a:ea typeface="Times New Roman"/>
              </a:rPr>
              <a:t>–</a:t>
            </a:r>
            <a:r>
              <a:rPr b="1" lang="ar-SA" sz="2400" spc="-1" strike="noStrike">
                <a:solidFill>
                  <a:srgbClr val="ff0000"/>
                </a:solidFill>
                <a:latin typeface="Times New Roman"/>
                <a:cs typeface="Times New Roman"/>
              </a:rPr>
              <a:t>عن عمد</a:t>
            </a:r>
            <a:r>
              <a:rPr b="1" lang="ar-SA" sz="2400" spc="-1" strike="noStrike">
                <a:solidFill>
                  <a:srgbClr val="000000"/>
                </a:solidFill>
                <a:latin typeface="Times New Roman"/>
                <a:ea typeface="Times New Roman"/>
              </a:rPr>
              <a:t>-</a:t>
            </a:r>
            <a:r>
              <a:rPr b="1" lang="ar-SA" sz="2400" spc="-1" strike="noStrike">
                <a:solidFill>
                  <a:srgbClr val="ff0000"/>
                </a:solidFill>
                <a:latin typeface="Times New Roman"/>
                <a:ea typeface="Times New Roman"/>
              </a:rPr>
              <a:t> في بعض الاحيان </a:t>
            </a:r>
            <a:r>
              <a:rPr b="1" lang="ar-SA" sz="2400" spc="-1" strike="noStrike">
                <a:solidFill>
                  <a:srgbClr val="002060"/>
                </a:solidFill>
                <a:latin typeface="Times New Roman"/>
                <a:cs typeface="Times New Roman"/>
              </a:rPr>
              <a:t>بوضع حكمتين مختلفتين للمسألة الواحدة، هادفًا من وراء ذلك احترام مشاعر وتقاليد بعض الدويلات</a:t>
            </a:r>
            <a:r>
              <a:rPr b="1" lang="ar-SA" sz="2400" spc="-1" strike="noStrike">
                <a:solidFill>
                  <a:srgbClr val="ff0000"/>
                </a:solidFill>
                <a:latin typeface="Times New Roman"/>
                <a:cs typeface="Times New Roman"/>
              </a:rPr>
              <a:t>، ويظهر ذلك </a:t>
            </a:r>
            <a:r>
              <a:rPr b="1" lang="ar-SA" sz="2400" spc="-1" strike="noStrike" u="sng">
                <a:solidFill>
                  <a:srgbClr val="00b050"/>
                </a:solidFill>
                <a:uFillTx/>
                <a:latin typeface="Times New Roman"/>
                <a:cs typeface="Times New Roman"/>
              </a:rPr>
              <a:t>في مسائل الزواج</a:t>
            </a:r>
            <a:r>
              <a:rPr b="1" lang="ar-SA" sz="2400" spc="-1" strike="noStrike">
                <a:solidFill>
                  <a:srgbClr val="ff0000"/>
                </a:solidFill>
                <a:latin typeface="Times New Roman"/>
                <a:cs typeface="Times New Roman"/>
              </a:rPr>
              <a:t>، حيث كان يضع اكثر من حكم احتراما لمشاعر </a:t>
            </a:r>
            <a:r>
              <a:rPr b="1" lang="ar-SA" sz="2400" spc="-1" strike="noStrike">
                <a:solidFill>
                  <a:srgbClr val="002060"/>
                </a:solidFill>
                <a:latin typeface="Times New Roman"/>
                <a:cs typeface="Times New Roman"/>
              </a:rPr>
              <a:t>السامين والسومريين</a:t>
            </a:r>
            <a:r>
              <a:rPr b="1" lang="ar-SA" sz="2400" spc="-1" strike="noStrike">
                <a:solidFill>
                  <a:srgbClr val="ff0000"/>
                </a:solidFill>
                <a:latin typeface="Times New Roman"/>
                <a:cs typeface="Times New Roman"/>
              </a:rPr>
              <a:t>، وهذا </a:t>
            </a:r>
            <a:r>
              <a:rPr b="1" lang="ar-SA" sz="2400" spc="-1" strike="noStrike">
                <a:solidFill>
                  <a:srgbClr val="00b050"/>
                </a:solidFill>
                <a:latin typeface="Times New Roman"/>
                <a:cs typeface="Times New Roman"/>
              </a:rPr>
              <a:t>مايسمى بازدواجية أو ثنائية الحلول القانونية</a:t>
            </a:r>
            <a:r>
              <a:rPr b="1" lang="ar-SA" sz="2400" spc="-1" strike="noStrike">
                <a:solidFill>
                  <a:srgbClr val="ff0000"/>
                </a:solidFill>
                <a:latin typeface="Times New Roman"/>
                <a:cs typeface="Times New Roman"/>
              </a:rPr>
              <a:t>، حيث ان </a:t>
            </a:r>
            <a:r>
              <a:rPr b="1" lang="ar-SA" sz="2400" spc="-1" strike="noStrike">
                <a:solidFill>
                  <a:srgbClr val="7030a0"/>
                </a:solidFill>
                <a:latin typeface="Times New Roman"/>
                <a:cs typeface="Times New Roman"/>
              </a:rPr>
              <a:t>للافراد. الحق في اختيار الحكم الذي يتناسب مع ظروفهم</a:t>
            </a:r>
            <a:r>
              <a:rPr b="1" lang="ar-SA" sz="2400" spc="-1" strike="noStrike">
                <a:solidFill>
                  <a:srgbClr val="ff0000"/>
                </a:solidFill>
                <a:latin typeface="Times New Roman"/>
                <a:ea typeface="Times New Roman"/>
              </a:rPr>
              <a:t>. لكن لا يعني انه اخذ بمبدأ شخصية القوانين</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4/ </a:t>
            </a:r>
            <a:r>
              <a:rPr b="1" lang="ar-SA" sz="2400" spc="-1" strike="noStrike">
                <a:solidFill>
                  <a:srgbClr val="000000"/>
                </a:solidFill>
                <a:latin typeface="Times New Roman"/>
                <a:cs typeface="Times New Roman"/>
              </a:rPr>
              <a:t>كيف وصلت الينا مدونة حمورابي</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imes New Roman"/>
                <a:cs typeface="Times New Roman"/>
              </a:rPr>
              <a:t>يرجع فضل اكتشاف تلك المدونة الى </a:t>
            </a:r>
            <a:r>
              <a:rPr b="1" lang="ar-SA" sz="2400" spc="-1" strike="noStrike" u="sng">
                <a:solidFill>
                  <a:srgbClr val="0070c0"/>
                </a:solidFill>
                <a:uFillTx/>
                <a:latin typeface="Times New Roman"/>
                <a:cs typeface="Times New Roman"/>
              </a:rPr>
              <a:t>عالم الآثار الفرنسي الشهير دي مورجان، </a:t>
            </a:r>
            <a:r>
              <a:rPr b="1" lang="ar-SA" sz="2400" spc="-1" strike="noStrike">
                <a:solidFill>
                  <a:srgbClr val="ff0000"/>
                </a:solidFill>
                <a:latin typeface="Times New Roman"/>
                <a:cs typeface="Times New Roman"/>
              </a:rPr>
              <a:t>حيث استطاع العثور عليها في حفائر </a:t>
            </a:r>
            <a:r>
              <a:rPr b="1" lang="ar-SA" sz="2400" spc="-1" strike="noStrike">
                <a:solidFill>
                  <a:srgbClr val="002060"/>
                </a:solidFill>
                <a:latin typeface="Times New Roman"/>
                <a:cs typeface="Times New Roman"/>
              </a:rPr>
              <a:t>مدينة سوس _خوزستان حاليًا- عام </a:t>
            </a:r>
            <a:r>
              <a:rPr b="1" lang="ar-SA" sz="2400" spc="-1" strike="noStrike">
                <a:solidFill>
                  <a:srgbClr val="002060"/>
                </a:solidFill>
                <a:latin typeface="Times New Roman"/>
                <a:ea typeface="Times New Roman"/>
              </a:rPr>
              <a:t>1902</a:t>
            </a:r>
            <a:r>
              <a:rPr b="1" lang="ar-SA" sz="2400" spc="-1" strike="noStrike">
                <a:solidFill>
                  <a:srgbClr val="002060"/>
                </a:solidFill>
                <a:latin typeface="Times New Roman"/>
                <a:cs typeface="Times New Roman"/>
              </a:rPr>
              <a:t>م . وسبب وجودها في هذا المكان البعيد عن العراق القديمة، قيام الملك شتروك ملك عيلام بنقلها من بابل بعد استيلائه عليها عام </a:t>
            </a:r>
            <a:r>
              <a:rPr b="1" lang="ar-SA" sz="2400" spc="-1" strike="noStrike">
                <a:solidFill>
                  <a:srgbClr val="002060"/>
                </a:solidFill>
                <a:latin typeface="Times New Roman"/>
                <a:ea typeface="Times New Roman"/>
              </a:rPr>
              <a:t>1170</a:t>
            </a:r>
            <a:r>
              <a:rPr b="1" lang="ar-SA" sz="2400" spc="-1" strike="noStrike">
                <a:solidFill>
                  <a:srgbClr val="002060"/>
                </a:solidFill>
                <a:latin typeface="Times New Roman"/>
                <a:cs typeface="Times New Roman"/>
              </a:rPr>
              <a:t>ق.م معتبراً اياها غنيمة حرب</a:t>
            </a:r>
            <a:r>
              <a:rPr b="1" lang="ar-SA" sz="2400" spc="-1" strike="noStrike">
                <a:solidFill>
                  <a:srgbClr val="ff0000"/>
                </a:solidFill>
                <a:latin typeface="Times New Roman"/>
                <a:ea typeface="Times New Roman"/>
              </a:rPr>
              <a:t>. وقد نقشت هذه المدونة على لوحة حجرية من الديوريت الأسود . في اعلاها رسم الاله شمس ممسك بقلم ويقف امامه حمورابي تقديسا للاله</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endParaRPr b="0" lang="en-US" sz="2400" spc="-1" strike="noStrike">
              <a:solidFill>
                <a:srgbClr val="000000"/>
              </a:solidFill>
              <a:latin typeface="Arial"/>
            </a:endParaRPr>
          </a:p>
        </p:txBody>
      </p:sp>
      <p:pic>
        <p:nvPicPr>
          <p:cNvPr id="240" name="Picture 4" descr=""/>
          <p:cNvPicPr/>
          <p:nvPr/>
        </p:nvPicPr>
        <p:blipFill>
          <a:blip r:embed="rId1"/>
          <a:stretch/>
        </p:blipFill>
        <p:spPr>
          <a:xfrm>
            <a:off x="768240" y="92160"/>
            <a:ext cx="1938600" cy="1560600"/>
          </a:xfrm>
          <a:prstGeom prst="rect">
            <a:avLst/>
          </a:prstGeom>
          <a:ln w="0">
            <a:noFill/>
          </a:ln>
        </p:spPr>
      </p:pic>
      <p:pic>
        <p:nvPicPr>
          <p:cNvPr id="241" name="Picture 5" descr=""/>
          <p:cNvPicPr/>
          <p:nvPr/>
        </p:nvPicPr>
        <p:blipFill>
          <a:blip r:embed="rId2"/>
          <a:stretch/>
        </p:blipFill>
        <p:spPr>
          <a:xfrm>
            <a:off x="2919240" y="66600"/>
            <a:ext cx="2347920" cy="160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2"/>
          <p:cNvSpPr/>
          <p:nvPr/>
        </p:nvSpPr>
        <p:spPr>
          <a:xfrm>
            <a:off x="738360" y="125280"/>
            <a:ext cx="11244240" cy="819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Times New Roman"/>
                <a:cs typeface="Times New Roman"/>
              </a:rPr>
              <a:t>وتوجد هذه المدونة الان في متحف اللوفر بباريس. وترجمت لللفرنسية في عام اكتشافها </a:t>
            </a:r>
            <a:r>
              <a:rPr b="1" lang="ar-SA" sz="2800" spc="-1" strike="noStrike">
                <a:solidFill>
                  <a:srgbClr val="002060"/>
                </a:solidFill>
                <a:latin typeface="Times New Roman"/>
                <a:ea typeface="Times New Roman"/>
              </a:rPr>
              <a:t>1902</a:t>
            </a:r>
            <a:r>
              <a:rPr b="1" lang="ar-SA" sz="2800" spc="-1" strike="noStrike">
                <a:solidFill>
                  <a:srgbClr val="002060"/>
                </a:solidFill>
                <a:latin typeface="Times New Roman"/>
                <a:cs typeface="Times New Roman"/>
              </a:rPr>
              <a:t>م</a:t>
            </a:r>
            <a:r>
              <a:rPr b="1" lang="ar-SA" sz="2800" spc="-1" strike="noStrike">
                <a:solidFill>
                  <a:srgbClr val="002060"/>
                </a:solidFill>
                <a:latin typeface="Times New Roman"/>
                <a:ea typeface="Times New Roman"/>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Times New Roman"/>
                <a:cs typeface="Times New Roman"/>
              </a:rPr>
              <a:t>وقد لاحظ العلماء محو الجزء الاسفل من الحجر، ويرجع ان يكون الملك شتروك هو الذي امر بمحو ها الجزء لكتابة شيء بدلاً منه وأنه قد كف عن المحو عندما وجد اللعنات المسطرة في خاتمة المدونة والتي توجه لكل من يتعمد محو القانون، وذلك خوفا من عقاب الالهة. وقد استطاع العلماء سد هذا النقص من خلال مطالعة النسخ الاخرى والتي عثر عليها في اماكن متفرقة في بابل</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وتجدر الاشارة الى ان </a:t>
            </a:r>
            <a:r>
              <a:rPr b="1" lang="ar-SA" sz="2800" spc="-1" strike="noStrike">
                <a:solidFill>
                  <a:srgbClr val="002060"/>
                </a:solidFill>
                <a:latin typeface="Times New Roman"/>
                <a:cs typeface="Times New Roman"/>
              </a:rPr>
              <a:t>النسخة الموجودة حالياً في متحف اللوفر ليست هي النسخة الوحيدة لمدونة حمورابي، لأن حمورابي قد أمر بتدوين نسختين للمدونة ويفصل بين هاهتين النسختين مدى زمني يقدر بخمس سنوات، وتعد تلك النسخة التي في متحف اللوفر هي الثانية وليست الأولى</a:t>
            </a:r>
            <a:r>
              <a:rPr b="1" lang="ar-SA" sz="2800" spc="-1" strike="noStrike">
                <a:solidFill>
                  <a:srgbClr val="002060"/>
                </a:solidFill>
                <a:latin typeface="Times New Roman"/>
                <a:ea typeface="Times New Roman"/>
              </a:rPr>
              <a:t> </a:t>
            </a:r>
            <a:r>
              <a:rPr b="1" lang="ar-SA" sz="2800" spc="-1" strike="noStrike">
                <a:solidFill>
                  <a:srgbClr val="002060"/>
                </a:solidFill>
                <a:latin typeface="Times New Roman"/>
                <a:ea typeface="Times New Roman"/>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3" name="Picture 4" descr=""/>
          <p:cNvPicPr/>
          <p:nvPr/>
        </p:nvPicPr>
        <p:blipFill>
          <a:blip r:embed="rId1"/>
          <a:stretch/>
        </p:blipFill>
        <p:spPr>
          <a:xfrm>
            <a:off x="768240" y="92160"/>
            <a:ext cx="1938600" cy="1560600"/>
          </a:xfrm>
          <a:prstGeom prst="rect">
            <a:avLst/>
          </a:prstGeom>
          <a:ln w="0">
            <a:noFill/>
          </a:ln>
        </p:spPr>
      </p:pic>
      <p:pic>
        <p:nvPicPr>
          <p:cNvPr id="244" name="Picture 5" descr=""/>
          <p:cNvPicPr/>
          <p:nvPr/>
        </p:nvPicPr>
        <p:blipFill>
          <a:blip r:embed="rId2"/>
          <a:stretch/>
        </p:blipFill>
        <p:spPr>
          <a:xfrm>
            <a:off x="2919240" y="66600"/>
            <a:ext cx="2347920" cy="160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Box 1"/>
          <p:cNvSpPr/>
          <p:nvPr/>
        </p:nvSpPr>
        <p:spPr>
          <a:xfrm>
            <a:off x="612720" y="309600"/>
            <a:ext cx="11355480" cy="680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ثانياً : أهمية مدونة حمورابي</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كتسبت مدونة حمورابي شهرة واسعة على مستوى العراق القديم وعلى مستوى العالم، ولهذا فإن لها اهمية محلية وأهمية عالمية في آن واحد</a:t>
            </a: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 </a:t>
            </a:r>
            <a:r>
              <a:rPr b="1" lang="ar-SA" sz="2000" spc="-1" strike="noStrike">
                <a:solidFill>
                  <a:srgbClr val="000000"/>
                </a:solidFill>
                <a:latin typeface="Times New Roman"/>
                <a:cs typeface="Times New Roman"/>
              </a:rPr>
              <a:t>أهمية مدونة حمورابي في بلاد مابين النهرين (الأهمية المحلية)</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 موقع مدونة حمورابي من المدونات الاخرى في العراق القديم</a:t>
            </a: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cs typeface="Times New Roman"/>
              </a:rPr>
              <a:t>عرفت بلاد مابين النهرين عددا كبيرا من المدونات القانونية قبل وبعد مدومة حمورابي</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cs typeface="Times New Roman"/>
              </a:rPr>
              <a:t>مدونة اوركاجينا، مدونة اورنامو،ومدونة ليبيث عشتار، ومدونة إشنونا       مدونة حمورابي       عرف مجموعة من القوانين الحيثية ومدونة اوجاريت، ومدونة آشور</a:t>
            </a:r>
            <a:r>
              <a:rPr b="1" lang="ar-SA" sz="2000" spc="-1" strike="noStrike">
                <a:solidFill>
                  <a:srgbClr val="0070c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 العلاقة بين مدونة حمورابي والمدونات السابقة لها</a:t>
            </a: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cs typeface="Times New Roman"/>
              </a:rPr>
              <a:t>تشترك مدونة حمورابي في الكثير من الامور مع التشريعات العراقية القديمة ويظهر ذلك في عدة وجوه</a:t>
            </a:r>
            <a:r>
              <a:rPr b="1" lang="ar-SA" sz="2000" spc="-1" strike="noStrike">
                <a:solidFill>
                  <a:srgbClr val="0070c0"/>
                </a:solidFill>
                <a:latin typeface="Times New Roman"/>
                <a:ea typeface="Times New Roman"/>
              </a:rPr>
              <a:t> </a:t>
            </a:r>
            <a:r>
              <a:rPr b="1" lang="ar-SA" sz="2000" spc="-1" strike="noStrike">
                <a:solidFill>
                  <a:srgbClr val="ff0000"/>
                </a:solidFill>
                <a:latin typeface="Times New Roman"/>
                <a:ea typeface="Times New Roman"/>
              </a:rPr>
              <a:t>:</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يث التقسيم المنهجي: </a:t>
            </a:r>
            <a:r>
              <a:rPr b="1" lang="ar-SA" sz="2000" spc="-1" strike="noStrike">
                <a:solidFill>
                  <a:srgbClr val="ff0000"/>
                </a:solidFill>
                <a:latin typeface="Times New Roman"/>
                <a:cs typeface="Times New Roman"/>
              </a:rPr>
              <a:t>اشتملت على ثلاثة أقسام وهي : المقدمة، المحتوى، والخاتمة وذلك التقسيم كان موجوداً ايضاً في اغلب المدونات السابقة.</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يث الصياغة : </a:t>
            </a:r>
            <a:r>
              <a:rPr b="1" lang="ar-SA" sz="2000" spc="-1" strike="noStrike">
                <a:solidFill>
                  <a:srgbClr val="ff0000"/>
                </a:solidFill>
                <a:latin typeface="Times New Roman"/>
                <a:cs typeface="Times New Roman"/>
              </a:rPr>
              <a:t>لقد صاغ حمورابي مدونتة بإسلوب شرطي ، وهذا الاسلوب كان موجوداً في مدونة اورنامو ومدونة ليبيث عشتار.</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يث التماثل في الأحكام : </a:t>
            </a:r>
            <a:r>
              <a:rPr b="1" lang="ar-SA" sz="2000" spc="-1" strike="noStrike">
                <a:solidFill>
                  <a:srgbClr val="ff0000"/>
                </a:solidFill>
                <a:latin typeface="Times New Roman"/>
                <a:cs typeface="Times New Roman"/>
              </a:rPr>
              <a:t>اشتملت مدونة حمورابي على كثير من الاحكام التي تعد تجميعاً للاعراف السابقة لذلك نجد تماثل لتلك الاحكام مع الاحكام التي كانت موجودة في المدونات السابقة مثل احكام الزواج والطلاق والجرائم. وقد ادخل حمورابي احكاماً جديدة لم تكن منظمة من قبل وذلك بغية مجاراة التطور الاجتماعي والاقتصادي الذي ساد في عصر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ع وجود احكام جديدة فيها لم توجد في قبلها .</a:t>
            </a:r>
            <a:endParaRPr b="0" lang="en-US" sz="2000" spc="-1" strike="noStrike">
              <a:solidFill>
                <a:srgbClr val="000000"/>
              </a:solidFill>
              <a:latin typeface="Arial"/>
            </a:endParaRPr>
          </a:p>
        </p:txBody>
      </p:sp>
      <p:cxnSp>
        <p:nvCxnSpPr>
          <p:cNvPr id="246" name="Straight Arrow Connector 3"/>
          <p:cNvCxnSpPr/>
          <p:nvPr/>
        </p:nvCxnSpPr>
        <p:spPr>
          <a:xfrm>
            <a:off x="6865560" y="3082680"/>
            <a:ext cx="376920" cy="1080"/>
          </a:xfrm>
          <a:prstGeom prst="straightConnector1">
            <a:avLst/>
          </a:prstGeom>
          <a:ln w="19080">
            <a:solidFill>
              <a:srgbClr val="000000"/>
            </a:solidFill>
            <a:miter/>
            <a:tailEnd len="med" type="triangle" w="med"/>
          </a:ln>
        </p:spPr>
      </p:cxnSp>
      <p:cxnSp>
        <p:nvCxnSpPr>
          <p:cNvPr id="247" name="Straight Arrow Connector 9"/>
          <p:cNvCxnSpPr/>
          <p:nvPr/>
        </p:nvCxnSpPr>
        <p:spPr>
          <a:xfrm flipH="1">
            <a:off x="5508000" y="3082680"/>
            <a:ext cx="354600" cy="10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Box 1"/>
          <p:cNvSpPr/>
          <p:nvPr/>
        </p:nvSpPr>
        <p:spPr>
          <a:xfrm>
            <a:off x="1135080" y="825480"/>
            <a:ext cx="10671120" cy="826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 موقع مدونة حمورابي من المدونات السابقة لها</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لم يقف التطور التشريعي في بلاد مابين النهرين عند مدونة حمورابي ، غير أن هذا التطور </a:t>
            </a:r>
            <a:r>
              <a:rPr b="1" lang="ar-SA" sz="2800" spc="-1" strike="noStrike">
                <a:solidFill>
                  <a:srgbClr val="0070c0"/>
                </a:solidFill>
                <a:latin typeface="Times New Roman"/>
                <a:cs typeface="Times New Roman"/>
              </a:rPr>
              <a:t>لم يكن تطوراً كلياً ، بل كان تطوراً جزئياً، لأنه لم يؤثر في جوهر الاحكام القانونية التي استقرت في وجدان المجتمع منذ عهد حمورابي، ف</a:t>
            </a:r>
            <a:r>
              <a:rPr b="1" lang="ar-SA" sz="2800" spc="-1" strike="noStrike">
                <a:solidFill>
                  <a:srgbClr val="ff0000"/>
                </a:solidFill>
                <a:latin typeface="Times New Roman"/>
                <a:cs typeface="Times New Roman"/>
              </a:rPr>
              <a:t>قد ظهرت عدة م</a:t>
            </a:r>
            <a:r>
              <a:rPr b="1" lang="ar-SA" sz="2800" spc="-1" strike="noStrike">
                <a:solidFill>
                  <a:srgbClr val="7030a0"/>
                </a:solidFill>
                <a:latin typeface="Times New Roman"/>
                <a:cs typeface="Times New Roman"/>
              </a:rPr>
              <a:t>دونات تالية على مدونة حمورابي، لكن ظلت مدونة حمورابي تمثل الأصل العام للقانون العراقي القديم، ومن أشهر المدونات اللاحقة على مدونة حمورابي : مجموعة القوانين الحيثية ومدونة اوجاريت ومدونة آشور</a:t>
            </a:r>
            <a:r>
              <a:rPr b="1" lang="ar-SA" sz="2800" spc="-1" strike="noStrike">
                <a:solidFill>
                  <a:srgbClr val="7030a0"/>
                </a:solidFill>
                <a:latin typeface="Times New Roman"/>
                <a:ea typeface="Times New Roman"/>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2/ </a:t>
            </a:r>
            <a:r>
              <a:rPr b="1" lang="ar-SA" sz="3200" spc="-1" strike="noStrike">
                <a:solidFill>
                  <a:srgbClr val="000000"/>
                </a:solidFill>
                <a:latin typeface="Times New Roman"/>
                <a:cs typeface="Times New Roman"/>
              </a:rPr>
              <a:t>الأهمية العالمية لمدونة حمورابي</a:t>
            </a: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لاتعتبر مدونة حمورابي من أشهر المدونات في بلاد مابين النهرين بل أنها </a:t>
            </a:r>
            <a:r>
              <a:rPr b="1" lang="ar-SA" sz="2800" spc="-1" strike="noStrike">
                <a:solidFill>
                  <a:srgbClr val="7030a0"/>
                </a:solidFill>
                <a:latin typeface="Times New Roman"/>
                <a:cs typeface="Times New Roman"/>
              </a:rPr>
              <a:t>من اشهر المدونات الشرقية القديمة، إن لم تكن أشهر مدونات العالم القديم. </a:t>
            </a:r>
            <a:r>
              <a:rPr b="1" lang="ar-SA" sz="2800" spc="-1" strike="noStrike">
                <a:solidFill>
                  <a:srgbClr val="00b050"/>
                </a:solidFill>
                <a:latin typeface="Times New Roman"/>
                <a:cs typeface="Times New Roman"/>
              </a:rPr>
              <a:t>وتميزت عن قانون الالواح الاثني عشر بالرغم من انها سابقة في صدورها على هذا القانون بقرون عدة، ونظرا لاهمية هذه المدونة على مستوى العالم فقد تأثر بها قوانين عديدة منها القانون المصري القديم</a:t>
            </a:r>
            <a:r>
              <a:rPr b="1" lang="ar-SA" sz="2800" spc="-1" strike="noStrike">
                <a:solidFill>
                  <a:srgbClr val="00b050"/>
                </a:solidFill>
                <a:latin typeface="Times New Roman"/>
                <a:ea typeface="Times New Roman"/>
              </a:rPr>
              <a:t> </a:t>
            </a:r>
            <a:r>
              <a:rPr b="1" lang="ar-SA" sz="2800" spc="-1" strike="noStrike">
                <a:solidFill>
                  <a:srgbClr val="ff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1"/>
          <p:cNvSpPr/>
          <p:nvPr/>
        </p:nvSpPr>
        <p:spPr>
          <a:xfrm>
            <a:off x="1106640" y="590400"/>
            <a:ext cx="10847160" cy="680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ثالثأ : مضمون مدونة حمورابي</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cs typeface="Times New Roman"/>
              </a:rPr>
              <a:t>تتكون مدونة حمورابي كما رأينا من ثلاثة اجزاء </a:t>
            </a:r>
            <a:r>
              <a:rPr b="0" lang="ar-SA" sz="2000" spc="-1" strike="noStrike">
                <a:solidFill>
                  <a:srgbClr val="000000"/>
                </a:solidFill>
                <a:latin typeface="Times New Roman"/>
                <a:ea typeface="Times New Roman"/>
              </a:rPr>
              <a:t>(</a:t>
            </a:r>
            <a:r>
              <a:rPr b="0" lang="ar-SA" sz="2000" spc="-1" strike="noStrike">
                <a:solidFill>
                  <a:srgbClr val="ff0000"/>
                </a:solidFill>
                <a:latin typeface="Times New Roman"/>
                <a:cs typeface="Times New Roman"/>
              </a:rPr>
              <a:t>المقدمة - مجموعة من النصوص *المحتوى* - الخاتمة</a:t>
            </a:r>
            <a:r>
              <a:rPr b="0" lang="ar-SA" sz="2000" spc="-1" strike="noStrike">
                <a:solidFill>
                  <a:srgbClr val="000000"/>
                </a:solidFill>
                <a:latin typeface="Times New Roman"/>
                <a:ea typeface="Times New Roman"/>
              </a:rPr>
              <a:t>)</a:t>
            </a:r>
            <a:r>
              <a:rPr b="0" lang="ar-SA" sz="2000" spc="-1" strike="noStrike">
                <a:solidFill>
                  <a:srgbClr val="ff0000"/>
                </a:solidFill>
                <a:latin typeface="Times New Roman"/>
                <a:ea typeface="Times New Roman"/>
              </a:rPr>
              <a:t> ولكل جزء محتوى يهدف الى تحقيق غرض معين</a:t>
            </a:r>
            <a:r>
              <a:rPr b="0" lang="ar-SA" sz="2000" spc="-1" strike="noStrike">
                <a:solidFill>
                  <a:srgbClr val="ff0000"/>
                </a:solidFill>
                <a:latin typeface="Times New Roman"/>
                <a:ea typeface="Times New Roman"/>
              </a:rPr>
              <a:t> </a:t>
            </a:r>
            <a:r>
              <a:rPr b="0" lang="ar-SA" sz="2000" spc="-1" strike="noStrike">
                <a:solidFill>
                  <a:srgbClr val="ff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جزء الأول : المقدمة</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Times New Roman"/>
                <a:cs typeface="Times New Roman"/>
              </a:rPr>
              <a:t>يبين الملك حمورابي في اصداره لهذه المدونة كان بغرض اقرار العدل والسلام وأن ذا لم يأت من محض اختياره، بل أملت عليه الإرادة الالهية، ثم يذكر بعض من صفاته الشخصية مثل حكمته وقوة وسعة حكمه، ثم يشير الى ضرورة تخليد مدونته</a:t>
            </a:r>
            <a:r>
              <a:rPr b="0" lang="ar-SA" sz="2000" spc="-1" strike="noStrike">
                <a:solidFill>
                  <a:srgbClr val="00b05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هذه بعض المقتطفات من نص مقدمة حمورابي حيث يقول : « </a:t>
            </a:r>
            <a:r>
              <a:rPr b="0" lang="ar-SA" sz="2000" spc="-1" strike="noStrike">
                <a:solidFill>
                  <a:srgbClr val="ff0000"/>
                </a:solidFill>
                <a:latin typeface="Times New Roman"/>
                <a:cs typeface="Times New Roman"/>
              </a:rPr>
              <a:t>لقد دعتني الآلهة حمورابي الأمير النبيل الذي يحترم الآلهة ويشيد العدالة.. أنا حموررابي ملك العدالة، أنا الذي اهداني الآلهة شمش هذه القوانين، لكي أقضي على الظلم وعلى الناس الشريرين.. لايجوز للأقوياء أن يعتدو على الضعفاء.. أنني قد اتيت لأنشر العدالة بين الناس كما تنشر الشمس ضيائها على الأرض .. ارسلني الآلة مردوك إله بابل لأحكم بين الناس بالعدل واحمي الارض.. لذلك فإنني وضعت القوانين والعدالة بين أيدي الناس وهيأت لهم الخير والسعادة.. لايجوز للقوي ان يعتدي على الضعيف كما أنه يجب علينا جماية الارامل والايتام.. أنا حمورابي الذي دعاه اليل سيد السماء والارض الذي يجمع اطراف الوفرة والرخاء .. انا حمورابي الصارم بين الملوك.. الخادم الوفي للآلهة الذي يواظب على تقديم القرابين الذي يقبض بشدة على الخصوم.. قاهر المدن المجاورة للفرات بالامر الموحي.. الامير التثي الذي يقيم الولائم المقدسة..والذي يجمع شمل شعبه..فليتقدم المظلوم لأنصفه.. وليقرأ ماهو مكتوب على تمثالي ويتفهمه ويعرف حقوقه ويشعر بالسعادة ليقل كل مظلوم أن حمورابي سيد وأب لعموم رعيته... حينما امرني مردوك بأن اجري العدل بين شعب البلد نشرت الحق والعدل في طول البلاد وعرضها وجعلت الشعب يزدهر ، في ذلك الوقت قررت </a:t>
            </a:r>
            <a:r>
              <a:rPr b="0" lang="ar-SA" sz="2000" spc="-1" strike="noStrike">
                <a:solidFill>
                  <a:srgbClr val="000000"/>
                </a:solidFill>
                <a:latin typeface="Times New Roman"/>
                <a:ea typeface="Times New Roman"/>
              </a:rPr>
              <a:t>»</a:t>
            </a:r>
            <a:r>
              <a:rPr b="0" lang="ar-SA" sz="2000" spc="-1" strike="noStrike">
                <a:solidFill>
                  <a:srgbClr val="ff0000"/>
                </a:solidFill>
                <a:latin typeface="Times New Roman"/>
                <a:ea typeface="Times New Roman"/>
              </a:rPr>
              <a:t> </a:t>
            </a:r>
            <a:r>
              <a:rPr b="0" lang="ar-SA" sz="2000" spc="-1" strike="noStrike">
                <a:solidFill>
                  <a:srgbClr val="000000"/>
                </a:solidFill>
                <a:latin typeface="Times New Roman"/>
                <a:cs typeface="Times New Roman"/>
              </a:rPr>
              <a:t>ويلي ذلك النصوص القانونية وهي محتوى الجزء الثاني</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3T06:41:19Z</dcterms:created>
  <dc:creator>Moudi AlBadri</dc:creator>
  <dc:description/>
  <dc:language>en-US</dc:language>
  <cp:lastModifiedBy>eman</cp:lastModifiedBy>
  <dcterms:modified xsi:type="dcterms:W3CDTF">2016-10-27T02:33:38Z</dcterms:modified>
  <cp:revision>48</cp:revision>
  <dc:subject/>
  <dc:title>PowerPoint Presentation</dc:title>
</cp:coreProperties>
</file>