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40A67-F436-4F59-96A8-0860248F8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C47F2-D8F4-47AF-BBF1-E753BF5AF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B6F50-70E4-40C7-86A7-641B298C0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43EC4-9871-4BAA-8654-E48414542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65FF3-E5C8-4643-94D2-B14097749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2064E-F0E0-472E-8B55-4BD0E2312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0EB8B-48B5-43B0-B4F6-29EEF5601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059E5-8E82-4B29-8289-EC07B9656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8DC4F-FC6A-4728-BA4B-E22F908F9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6C74F-2A40-49BD-B02A-A9FFD2682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02FD-A763-40F3-8795-BB91FD15E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AF31-98F6-48BD-8809-24F150911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E89AC-2661-483E-AC99-5207782C2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8D721-F600-4CD1-BA22-97B77A7F3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18DEE-5C15-491E-B5BC-AB65DF271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DC790-72E8-47BC-8D27-077B35D61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FDBD8-AAF6-4C9A-9C94-5B92BBF4D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BE7B3-4549-4580-84BF-7617E56BF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ABE86-2066-4EDC-A28A-024344957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4B02F2-C72F-44B1-9B4B-95801F7CC9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7932A-4E1F-46D2-B28A-85270AFB8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8A7D6-0F3D-40E5-8DE1-5B5DF8A26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8FEBF-51B7-448D-82D4-8480EAB69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967E4-225F-422E-AB89-156724A2A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2978B-A3FE-46B8-A8AD-9ECB4E3A0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93854-D5E0-472E-B091-324EEEC2C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8E984-0F7D-455E-8060-8D04CAD6C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BE3E1-82DE-474A-BF87-D10C84B62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6B518B-B50A-48CC-A018-C955419C7F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30151-1324-433C-A39C-E8DA412092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2EED4A-8BD0-426A-ACE4-FE75A3F506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D98A6-84AC-4FEF-ABB4-77F24E0B3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7CBA2-6689-405E-9B2F-843FE04E2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1BFA8-2CB9-4732-AF74-35DDC906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DFFE84-21FF-4AC5-9787-87828B1B4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909F0-7790-48B5-9DCD-F7A5ABBE2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80221D-83DE-4FDB-96DC-BF25DA2DA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6B804-60E7-4B7D-AEC1-BF947619B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D273A5-2F0F-4C19-9EF0-E93FA6C6F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CB910-C1C1-4583-B438-84F6BAD18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C44BB-90CF-4DD4-92AB-4CD55BD2E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09540C-B91E-452F-B98E-997737A8C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5E1385-85F3-4EBD-9EF0-CCDB75DE40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E416F1-551E-4096-8233-3F415585F1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0460-7166-4957-AAB5-A75D17F7B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391F3-9FBE-4402-8270-C08EAC9C5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BF2D55-A2D8-459D-A8CB-DC3E49BB6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83042-778C-4FD3-A35E-102DF9433E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6049E-1B1E-4F66-9A8C-40C83F0AE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DE640D-AD52-4F7A-8295-99F1056356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9482E-6837-496F-BDC9-278ABF7CE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014CD-014C-4E02-A146-0F845BAF7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3F64E-5EBF-4393-92FC-75B86E1DC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C68280-FAD6-441A-8436-172CEEDEA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7397E1-0E86-4830-80D5-49628C6A38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E06E6-4063-4C65-9AA3-505CDF2A3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F595ED-96EC-4C2C-8C84-EF9CB7F208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FFF938-BB9C-4A55-AB26-35EB838EF6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37423-FCA0-421D-A2E2-A009E8E81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BC55C-1659-47B4-B086-62A46BF080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C0CC2B-0C60-40A9-BCA8-14E9B2CEB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AF32C-7B20-4545-8A6D-EE6A09A520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09BDB-62BD-4CA6-8A9A-F8B12F95D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87934-753C-4A5C-B2FC-294E00542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631E8-03BC-4F6D-8DE7-935EC21456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A2365-82D5-40B6-B07B-C238AF861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BFA7-B7CD-4207-A2BF-688717992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4AF4B5-58ED-442A-9A71-2EBA0DDED5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1D8B45-BA46-4DD0-BC3A-913E7BE434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EBC1AE-8269-41E2-9EAC-D786C57A2F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DF9C-88EB-4B41-91D2-23C11F84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B190-E801-4CCB-A86E-0E81AB084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D05C-DD25-4FDC-9498-F5EBA10C75DB}"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6"/>
          <p:cNvGrpSpPr/>
          <p:nvPr/>
        </p:nvGrpSpPr>
        <p:grpSpPr>
          <a:xfrm>
            <a:off x="506520" y="1036800"/>
            <a:ext cx="8643960" cy="29880"/>
            <a:chOff x="506520" y="1036800"/>
            <a:chExt cx="8643960" cy="29880"/>
          </a:xfrm>
        </p:grpSpPr>
        <p:pic>
          <p:nvPicPr>
            <p:cNvPr id="51" name="رابط مستقيم 6"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3" name="رابط مستقيم 8"/>
          <p:cNvGrpSpPr/>
          <p:nvPr/>
        </p:nvGrpSpPr>
        <p:grpSpPr>
          <a:xfrm>
            <a:off x="506520" y="1036800"/>
            <a:ext cx="8643960" cy="29880"/>
            <a:chOff x="506520" y="1036800"/>
            <a:chExt cx="8643960" cy="29880"/>
          </a:xfrm>
        </p:grpSpPr>
        <p:pic>
          <p:nvPicPr>
            <p:cNvPr id="54" name="رابط مستقيم 8"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6" name="رابط مستقيم 11"/>
          <p:cNvGrpSpPr/>
          <p:nvPr/>
        </p:nvGrpSpPr>
        <p:grpSpPr>
          <a:xfrm>
            <a:off x="506520" y="1047600"/>
            <a:ext cx="8643960" cy="25560"/>
            <a:chOff x="506520" y="1047600"/>
            <a:chExt cx="8643960" cy="25560"/>
          </a:xfrm>
        </p:grpSpPr>
        <p:pic>
          <p:nvPicPr>
            <p:cNvPr id="57" name="رابط مستقيم 11"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رابط مستقيم 6"/>
          <p:cNvGrpSpPr/>
          <p:nvPr/>
        </p:nvGrpSpPr>
        <p:grpSpPr>
          <a:xfrm>
            <a:off x="506520" y="5340240"/>
            <a:ext cx="8643960" cy="23760"/>
            <a:chOff x="506520" y="5340240"/>
            <a:chExt cx="8643960" cy="23760"/>
          </a:xfrm>
        </p:grpSpPr>
        <p:pic>
          <p:nvPicPr>
            <p:cNvPr id="60" name="رابط مستقيم 6" descr=""/>
            <p:cNvPicPr/>
            <p:nvPr/>
          </p:nvPicPr>
          <p:blipFill>
            <a:blip r:embed="rId6"/>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5956-3DAE-44CA-BCD6-5466FBF3900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 name="رابط مستقيم 6"/>
          <p:cNvGrpSpPr/>
          <p:nvPr/>
        </p:nvGrpSpPr>
        <p:grpSpPr>
          <a:xfrm>
            <a:off x="506520" y="1036800"/>
            <a:ext cx="8643960" cy="29880"/>
            <a:chOff x="506520" y="1036800"/>
            <a:chExt cx="8643960" cy="29880"/>
          </a:xfrm>
        </p:grpSpPr>
        <p:pic>
          <p:nvPicPr>
            <p:cNvPr id="104" name="رابط مستقيم 6" descr=""/>
            <p:cNvPicPr/>
            <p:nvPr/>
          </p:nvPicPr>
          <p:blipFill>
            <a:blip r:embed="rId3"/>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6" name="رابط مستقيم 8"/>
          <p:cNvGrpSpPr/>
          <p:nvPr/>
        </p:nvGrpSpPr>
        <p:grpSpPr>
          <a:xfrm>
            <a:off x="506520" y="1036800"/>
            <a:ext cx="8643960" cy="29880"/>
            <a:chOff x="506520" y="1036800"/>
            <a:chExt cx="8643960" cy="29880"/>
          </a:xfrm>
        </p:grpSpPr>
        <p:pic>
          <p:nvPicPr>
            <p:cNvPr id="107" name="رابط مستقيم 8" descr=""/>
            <p:cNvPicPr/>
            <p:nvPr/>
          </p:nvPicPr>
          <p:blipFill>
            <a:blip r:embed="rId4"/>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9" name="رابط مستقيم 11"/>
          <p:cNvGrpSpPr/>
          <p:nvPr/>
        </p:nvGrpSpPr>
        <p:grpSpPr>
          <a:xfrm>
            <a:off x="506520" y="1047600"/>
            <a:ext cx="8643960" cy="25560"/>
            <a:chOff x="506520" y="1047600"/>
            <a:chExt cx="8643960" cy="25560"/>
          </a:xfrm>
        </p:grpSpPr>
        <p:pic>
          <p:nvPicPr>
            <p:cNvPr id="110" name="رابط مستقيم 11" descr=""/>
            <p:cNvPicPr/>
            <p:nvPr/>
          </p:nvPicPr>
          <p:blipFill>
            <a:blip r:embed="rId5"/>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24A6-9806-43A4-833A-DCC1952B50D1}"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رابط مستقيم 6"/>
          <p:cNvGrpSpPr/>
          <p:nvPr/>
        </p:nvGrpSpPr>
        <p:grpSpPr>
          <a:xfrm>
            <a:off x="506520" y="1036800"/>
            <a:ext cx="8643960" cy="29880"/>
            <a:chOff x="506520" y="1036800"/>
            <a:chExt cx="8643960" cy="29880"/>
          </a:xfrm>
        </p:grpSpPr>
        <p:pic>
          <p:nvPicPr>
            <p:cNvPr id="154" name="رابط مستقيم 6" descr=""/>
            <p:cNvPicPr/>
            <p:nvPr/>
          </p:nvPicPr>
          <p:blipFill>
            <a:blip r:embed="rId3"/>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56" name="رابط مستقيم 8"/>
          <p:cNvGrpSpPr/>
          <p:nvPr/>
        </p:nvGrpSpPr>
        <p:grpSpPr>
          <a:xfrm>
            <a:off x="506520" y="1036800"/>
            <a:ext cx="8643960" cy="29880"/>
            <a:chOff x="506520" y="1036800"/>
            <a:chExt cx="8643960" cy="29880"/>
          </a:xfrm>
        </p:grpSpPr>
        <p:pic>
          <p:nvPicPr>
            <p:cNvPr id="157" name="رابط مستقيم 8" descr=""/>
            <p:cNvPicPr/>
            <p:nvPr/>
          </p:nvPicPr>
          <p:blipFill>
            <a:blip r:embed="rId4"/>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59" name="رابط مستقيم 11"/>
          <p:cNvGrpSpPr/>
          <p:nvPr/>
        </p:nvGrpSpPr>
        <p:grpSpPr>
          <a:xfrm>
            <a:off x="506520" y="1047600"/>
            <a:ext cx="8643960" cy="25560"/>
            <a:chOff x="506520" y="1047600"/>
            <a:chExt cx="8643960" cy="25560"/>
          </a:xfrm>
        </p:grpSpPr>
        <p:pic>
          <p:nvPicPr>
            <p:cNvPr id="160" name="رابط مستقيم 11" descr=""/>
            <p:cNvPicPr/>
            <p:nvPr/>
          </p:nvPicPr>
          <p:blipFill>
            <a:blip r:embed="rId5"/>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62" name="رابط مستقيم 6"/>
          <p:cNvGrpSpPr/>
          <p:nvPr/>
        </p:nvGrpSpPr>
        <p:grpSpPr>
          <a:xfrm>
            <a:off x="506520" y="3432240"/>
            <a:ext cx="8643960" cy="23760"/>
            <a:chOff x="506520" y="3432240"/>
            <a:chExt cx="8643960" cy="23760"/>
          </a:xfrm>
        </p:grpSpPr>
        <p:pic>
          <p:nvPicPr>
            <p:cNvPr id="163" name="رابط مستقيم 6" descr=""/>
            <p:cNvPicPr/>
            <p:nvPr/>
          </p:nvPicPr>
          <p:blipFill>
            <a:blip r:embed="rId6"/>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91D2-2318-48F7-8FCF-6534DC6CB6D3}"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رابط مستقيم 6"/>
          <p:cNvGrpSpPr/>
          <p:nvPr/>
        </p:nvGrpSpPr>
        <p:grpSpPr>
          <a:xfrm>
            <a:off x="506520" y="1036800"/>
            <a:ext cx="8643960" cy="29880"/>
            <a:chOff x="506520" y="1036800"/>
            <a:chExt cx="8643960" cy="29880"/>
          </a:xfrm>
        </p:grpSpPr>
        <p:pic>
          <p:nvPicPr>
            <p:cNvPr id="207" name="رابط مستقيم 6" descr=""/>
            <p:cNvPicPr/>
            <p:nvPr/>
          </p:nvPicPr>
          <p:blipFill>
            <a:blip r:embed="rId3"/>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09" name="رابط مستقيم 8"/>
          <p:cNvGrpSpPr/>
          <p:nvPr/>
        </p:nvGrpSpPr>
        <p:grpSpPr>
          <a:xfrm>
            <a:off x="506520" y="1036800"/>
            <a:ext cx="8643960" cy="29880"/>
            <a:chOff x="506520" y="1036800"/>
            <a:chExt cx="8643960" cy="29880"/>
          </a:xfrm>
        </p:grpSpPr>
        <p:pic>
          <p:nvPicPr>
            <p:cNvPr id="210" name="رابط مستقيم 8" descr=""/>
            <p:cNvPicPr/>
            <p:nvPr/>
          </p:nvPicPr>
          <p:blipFill>
            <a:blip r:embed="rId4"/>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2" name="رابط مستقيم 11"/>
          <p:cNvGrpSpPr/>
          <p:nvPr/>
        </p:nvGrpSpPr>
        <p:grpSpPr>
          <a:xfrm>
            <a:off x="506520" y="1047600"/>
            <a:ext cx="8643960" cy="25560"/>
            <a:chOff x="506520" y="1047600"/>
            <a:chExt cx="8643960" cy="25560"/>
          </a:xfrm>
        </p:grpSpPr>
        <p:pic>
          <p:nvPicPr>
            <p:cNvPr id="213" name="رابط مستقيم 11" descr=""/>
            <p:cNvPicPr/>
            <p:nvPr/>
          </p:nvPicPr>
          <p:blipFill>
            <a:blip r:embed="rId5"/>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5" name="رابط مستقيم 10"/>
          <p:cNvGrpSpPr/>
          <p:nvPr/>
        </p:nvGrpSpPr>
        <p:grpSpPr>
          <a:xfrm>
            <a:off x="506520" y="6010200"/>
            <a:ext cx="8643960" cy="25560"/>
            <a:chOff x="506520" y="6010200"/>
            <a:chExt cx="8643960" cy="25560"/>
          </a:xfrm>
        </p:grpSpPr>
        <p:pic>
          <p:nvPicPr>
            <p:cNvPr id="216" name="رابط مستقيم 10" descr=""/>
            <p:cNvPicPr/>
            <p:nvPr/>
          </p:nvPicPr>
          <p:blipFill>
            <a:blip r:embed="rId6"/>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645B-0F46-485C-BE3D-636B6E735E4A}"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9" name="رابط مستقيم 6"/>
          <p:cNvGrpSpPr/>
          <p:nvPr/>
        </p:nvGrpSpPr>
        <p:grpSpPr>
          <a:xfrm>
            <a:off x="506520" y="1036800"/>
            <a:ext cx="8643960" cy="29880"/>
            <a:chOff x="506520" y="1036800"/>
            <a:chExt cx="8643960" cy="29880"/>
          </a:xfrm>
        </p:grpSpPr>
        <p:pic>
          <p:nvPicPr>
            <p:cNvPr id="260" name="رابط مستقيم 6" descr=""/>
            <p:cNvPicPr/>
            <p:nvPr/>
          </p:nvPicPr>
          <p:blipFill>
            <a:blip r:embed="rId3"/>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62" name="رابط مستقيم 8"/>
          <p:cNvGrpSpPr/>
          <p:nvPr/>
        </p:nvGrpSpPr>
        <p:grpSpPr>
          <a:xfrm>
            <a:off x="506520" y="1036800"/>
            <a:ext cx="8643960" cy="29880"/>
            <a:chOff x="506520" y="1036800"/>
            <a:chExt cx="8643960" cy="29880"/>
          </a:xfrm>
        </p:grpSpPr>
        <p:pic>
          <p:nvPicPr>
            <p:cNvPr id="263" name="رابط مستقيم 8" descr=""/>
            <p:cNvPicPr/>
            <p:nvPr/>
          </p:nvPicPr>
          <p:blipFill>
            <a:blip r:embed="rId4"/>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65" name="رابط مستقيم 11"/>
          <p:cNvGrpSpPr/>
          <p:nvPr/>
        </p:nvGrpSpPr>
        <p:grpSpPr>
          <a:xfrm>
            <a:off x="506520" y="1047600"/>
            <a:ext cx="8643960" cy="25560"/>
            <a:chOff x="506520" y="1047600"/>
            <a:chExt cx="8643960" cy="25560"/>
          </a:xfrm>
        </p:grpSpPr>
        <p:pic>
          <p:nvPicPr>
            <p:cNvPr id="266" name="رابط مستقيم 11" descr=""/>
            <p:cNvPicPr/>
            <p:nvPr/>
          </p:nvPicPr>
          <p:blipFill>
            <a:blip r:embed="rId5"/>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68" name="رابط مستقيم 7"/>
          <p:cNvGrpSpPr/>
          <p:nvPr/>
        </p:nvGrpSpPr>
        <p:grpSpPr>
          <a:xfrm>
            <a:off x="506520" y="5840280"/>
            <a:ext cx="8643960" cy="24120"/>
            <a:chOff x="506520" y="5840280"/>
            <a:chExt cx="8643960" cy="24120"/>
          </a:xfrm>
        </p:grpSpPr>
        <p:pic>
          <p:nvPicPr>
            <p:cNvPr id="269" name="رابط مستقيم 7" descr=""/>
            <p:cNvPicPr/>
            <p:nvPr/>
          </p:nvPicPr>
          <p:blipFill>
            <a:blip r:embed="rId6"/>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A6D9-8E7C-4318-8AC2-0217DD0764A3}"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76280"/>
            <a:ext cx="7772400" cy="1512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Medium"/>
              </a:rPr>
              <a:t>السبب الدافع الى عقد الكفالة:</a:t>
            </a:r>
            <a:endParaRPr b="0" lang="en-US" sz="3600" spc="-1" strike="noStrike">
              <a:solidFill>
                <a:srgbClr val="4e3b30"/>
              </a:solidFill>
              <a:latin typeface="Franklin Gothic Medium"/>
            </a:endParaRPr>
          </a:p>
        </p:txBody>
      </p:sp>
      <p:sp>
        <p:nvSpPr>
          <p:cNvPr id="313" name="PlaceHolder 2"/>
          <p:cNvSpPr>
            <a:spLocks noGrp="1"/>
          </p:cNvSpPr>
          <p:nvPr>
            <p:ph type="subTitle"/>
          </p:nvPr>
        </p:nvSpPr>
        <p:spPr>
          <a:xfrm>
            <a:off x="395280" y="2997360"/>
            <a:ext cx="8353440" cy="2735280"/>
          </a:xfrm>
          <a:prstGeom prst="rect">
            <a:avLst/>
          </a:prstGeom>
          <a:noFill/>
          <a:ln w="0">
            <a:noFill/>
          </a:ln>
        </p:spPr>
        <p:txBody>
          <a:bodyPr lIns="90000" rIns="90000" tIns="46800" bIns="46800" anchor="b">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تمهيد:</a:t>
            </a:r>
            <a:endParaRPr b="0" lang="en-US" sz="2400" spc="-1" strike="noStrike">
              <a:solidFill>
                <a:srgbClr val="4e3b30"/>
              </a:solidFill>
              <a:latin typeface="Franklin Gothic Book"/>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Franklin Gothic Book"/>
              </a:rPr>
              <a:t>موضوع السبب ومعناه : </a:t>
            </a:r>
            <a:r>
              <a:rPr b="0" lang="ar-SA" sz="2400" spc="-1" strike="noStrike">
                <a:solidFill>
                  <a:srgbClr val="000000"/>
                </a:solidFill>
                <a:latin typeface="Franklin Gothic Book"/>
              </a:rPr>
              <a:t>يذهب الفقه القانوني إلى التمييز بين السبب الانشائي أو الفني وهو الغرض المباشر الذي يسعى المتعاقد الى تحقيقه من وراء التزامه : كغرض البائع في الحصول على الثمن , وبين السبب الدافع ,وهو الغرض البعيد الغير مباشر : كالبائع يريد ان يستخرد الثمن في تسديد ديونه .</a:t>
            </a:r>
            <a:endParaRPr b="0" lang="en-US" sz="2400" spc="-1" strike="noStrike">
              <a:solidFill>
                <a:srgbClr val="4e3b30"/>
              </a:solidFill>
              <a:latin typeface="Franklin Gothic 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Medium"/>
              </a:rPr>
              <a:t>السبب في الفقه الإسلامي:</a:t>
            </a:r>
            <a:endParaRPr b="0" lang="en-US" sz="3600" spc="-1" strike="noStrike">
              <a:solidFill>
                <a:srgbClr val="4e3b30"/>
              </a:solidFill>
              <a:latin typeface="Franklin Gothic Medium"/>
            </a:endParaRPr>
          </a:p>
        </p:txBody>
      </p:sp>
      <p:sp>
        <p:nvSpPr>
          <p:cNvPr id="31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rPr>
              <a:t>   الفقه الاسلامي كما نعلم,هو فقه عملي استقرائي لم يهتم بتأصيل المسائل وصياغتها في نظريات عامه و يشترط في الفقه الاسلامي لقيام السبب و صحته كما في القانون أن يكون السبب الدافع الى التعاقد,مباحاً أي مشروعاً ,والا وقع العقد باطلاً.</a:t>
            </a:r>
            <a:endParaRPr b="0" lang="en-US" sz="3200" spc="-1" strike="noStrike">
              <a:solidFill>
                <a:srgbClr val="4e3b30"/>
              </a:solidFill>
              <a:latin typeface="Franklin Gothic Book"/>
            </a:endParaRPr>
          </a:p>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476280"/>
            <a:ext cx="8229600" cy="564984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تطبيق الاحكام السابقة على </a:t>
            </a:r>
            <a:r>
              <a:rPr b="1" lang="ar-SA" sz="2800" spc="-1" strike="noStrike">
                <a:solidFill>
                  <a:srgbClr val="4e3b30"/>
                </a:solidFill>
                <a:latin typeface="Franklin Gothic Book"/>
              </a:rPr>
              <a:t>الكفالة</a:t>
            </a:r>
            <a:r>
              <a:rPr b="1" lang="ar-SA" sz="3200" spc="-1" strike="noStrike">
                <a:solidFill>
                  <a:srgbClr val="4e3b30"/>
                </a:solidFill>
                <a:latin typeface="Franklin Gothic Book"/>
              </a:rPr>
              <a:t> : </a:t>
            </a:r>
            <a:endParaRPr b="0" lang="en-US" sz="3200" spc="-1" strike="noStrike">
              <a:solidFill>
                <a:srgbClr val="4e3b30"/>
              </a:solidFill>
              <a:latin typeface="Franklin Gothic Book"/>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gn="r" rtl="1">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السبب في عقد الكفالة هو الباعث الرئيسي الذي دفع الكفيل الى التعهد للدائن المكفول له بأداء الدين الاصلي </a:t>
            </a:r>
            <a:endParaRPr b="0" lang="en-US" sz="2400" spc="-1" strike="noStrike">
              <a:solidFill>
                <a:srgbClr val="4e3b30"/>
              </a:solidFill>
              <a:latin typeface="Franklin Gothic Book"/>
            </a:endParaRPr>
          </a:p>
          <a:p>
            <a:pPr marL="325800" indent="-325800" algn="r" rtl="1">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وسبب الالتزام في الكفالة ، هو نية الكفيل بتوفير الثقة والطمأنينة للدائن في الحصول على دينه في وقت الاستحقاق.</a:t>
            </a:r>
            <a:endParaRPr b="0" lang="en-US" sz="2400" spc="-1" strike="noStrike">
              <a:solidFill>
                <a:srgbClr val="4e3b30"/>
              </a:solidFill>
              <a:latin typeface="Franklin Gothic Book"/>
            </a:endParaRPr>
          </a:p>
          <a:p>
            <a:pPr marL="325800" indent="-325800" algn="r" rtl="1">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الشروط الواجب توافرها في سبب الكفالة :</a:t>
            </a:r>
            <a:endParaRPr b="0" lang="en-US" sz="3200" spc="-1" strike="noStrike">
              <a:solidFill>
                <a:srgbClr val="4e3b30"/>
              </a:solidFill>
              <a:latin typeface="Franklin Gothic Book"/>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gn="r" rtl="1">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هو ان يكون الباعث على الكفالة مشروعا ، غير مخالف للنظام او الاداب . فاذا ضمن الكفيل بغية استدامة علاقات غير مشروعة مع المدين او الدائن ، في هذه الحالة تعتبر الكفالة باطلة لعدم مشروعية السبب .</a:t>
            </a:r>
            <a:endParaRPr b="0" lang="en-US" sz="2400" spc="-1" strike="noStrike">
              <a:solidFill>
                <a:srgbClr val="4e3b30"/>
              </a:solidFill>
              <a:latin typeface="Franklin Gothic Book"/>
            </a:endParaRPr>
          </a:p>
          <a:p>
            <a:pPr marL="325800" indent="-325800" algn="r" rtl="1">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404640"/>
            <a:ext cx="8229600" cy="6048720"/>
          </a:xfrm>
          <a:prstGeom prst="rect">
            <a:avLst/>
          </a:prstGeom>
          <a:noFill/>
          <a:ln w="0">
            <a:noFill/>
          </a:ln>
        </p:spPr>
        <p:txBody>
          <a:bodyPr lIns="90000" rIns="90000" tIns="46800" bIns="46800" anchor="t">
            <a:normAutofit fontScale="98000"/>
          </a:bodyPr>
          <a:p>
            <a:pPr marL="335880" indent="-3358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بالنسبة لسبب التزام الكفيل : </a:t>
            </a:r>
            <a:endParaRPr b="0" lang="en-US" sz="3200" spc="-1" strike="noStrike">
              <a:solidFill>
                <a:srgbClr val="4e3b30"/>
              </a:solidFill>
              <a:latin typeface="Franklin Gothic Book"/>
            </a:endParaRPr>
          </a:p>
          <a:p>
            <a:pPr marL="335880" indent="-335880" algn="r" rtl="1">
              <a:lnSpc>
                <a:spcPct val="8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e3b30"/>
                </a:solidFill>
                <a:latin typeface="Franklin Gothic Book"/>
              </a:rPr>
              <a:t>يشترط فيه ان يكون موجودا ، فحسب ، دون ان يكون صحيحا او مشروعا . ويقع على عاتق المدين اثبات عدم وجوده ، فاذا تعهد الكفيل بالوفاء بدين الاصيل كان سبب الالتزام هو نية التبرع لدى الكفيل بضمان اداء دين الاصيل ولا تصح الكفالة الا بوجوده . </a:t>
            </a:r>
            <a:endParaRPr b="0" lang="en-US" sz="22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5880" indent="-335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rPr>
              <a:t>ضرورة التمييز بين محل الكفالة ومحل التزام الكفيل من ناحية والباعث الدافع الى الكفالة: </a:t>
            </a:r>
            <a:endParaRPr b="0" lang="en-US" sz="28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e3b30"/>
                </a:solidFill>
                <a:latin typeface="Franklin Gothic Book"/>
              </a:rPr>
              <a:t>قد يصعب التمييز بين حالات بطلان الكفالة لعدم مشروعية محلها وبين بطلان الكفالة لعدم مشروعية السبب الباعث . على ان هذه الصعوبة ينبغي ان لا تحملنا الى رفض فكرة سبب العقد على اساس ان العقد يبطل في بعض الحالات لعدم مشروعية الباعث رغم ان محله يكون مشروعا. </a:t>
            </a:r>
            <a:endParaRPr b="0" lang="en-US" sz="22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e3b30"/>
                </a:solidFill>
                <a:latin typeface="Franklin Gothic Book"/>
              </a:rPr>
              <a:t>مثال ذلك : لو ضمن الكفي للدائن المكفول له، تسليم العين المؤجرة للباعث استدامه علاقات غير شرعية معه .في هذه الحالة , تبطل الكفالة ليس لسبب عدم مشروعية المحل , فمحل التزام الكفيل مشروع وهو تسليم العين المؤجرة انما تبطل الكفالة لعدم مشروعية السبب </a:t>
            </a:r>
            <a:endParaRPr b="0" lang="en-US" sz="22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260280"/>
            <a:ext cx="8229600" cy="5865840"/>
          </a:xfrm>
          <a:prstGeom prst="rect">
            <a:avLst/>
          </a:prstGeom>
          <a:noFill/>
          <a:ln w="0">
            <a:noFill/>
          </a:ln>
        </p:spPr>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السبب الدافع الى عقد الكفالة في الفقه الاسلامي:</a:t>
            </a:r>
            <a:endParaRPr b="0" lang="en-US" sz="3200" spc="-1" strike="noStrike">
              <a:solidFill>
                <a:srgbClr val="4e3b30"/>
              </a:solidFill>
              <a:latin typeface="Franklin Gothic Book"/>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e3b30"/>
                </a:solidFill>
                <a:latin typeface="Franklin Gothic Book"/>
              </a:rPr>
              <a:t> </a:t>
            </a:r>
            <a:endParaRPr b="0" lang="en-US" sz="2500" spc="-1" strike="noStrike">
              <a:solidFill>
                <a:srgbClr val="4e3b30"/>
              </a:solidFill>
              <a:latin typeface="Franklin Gothic Book"/>
            </a:endParaRPr>
          </a:p>
          <a:p>
            <a:pPr marL="343080" indent="-343080" algn="r" rtl="1">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الاتجاهات الفقهية : </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اختلفت انظار الباحثين في الفقه الاسلامي والقانون في مسالة السبب الى ثلاث اتجاهات: </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 الاتجاه الاول: </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ان نظرية السبب في الفقه الاسلامي اوسع من النظرية التقليدية الفرنسية , وانها قريبة من نظرية القضاء الفرنسي الحديث الذي يعتد بالسبب بمدلوله الموضوعي و بالبواعث الشخصية البعيدة الدافعة الى التعاقد</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الاتجاه الثاني: </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يرى ان الفقه الاسلامي عرف السبب بالمفهوم الشخصي المتغير من عقد الى اخر لكنه في بعض المذاهب الفقيه , لا يعتد بالباعث على التعاقد مادام لم يذكر في العقد ولم يدخل في التعبير. </a:t>
            </a:r>
            <a:endParaRPr b="0" lang="en-US" sz="2400" spc="-1" strike="noStrike">
              <a:solidFill>
                <a:srgbClr val="4e3b30"/>
              </a:solidFill>
              <a:latin typeface="Franklin Gothic Book"/>
            </a:endParaRPr>
          </a:p>
          <a:p>
            <a:pPr marL="343080" indent="-343080" algn="r" rtl="1">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539640" y="907560"/>
            <a:ext cx="8064720" cy="4800600"/>
          </a:xfrm>
          <a:prstGeom prst="rect">
            <a:avLst/>
          </a:prstGeom>
          <a:noFill/>
          <a:ln w="0">
            <a:noFill/>
          </a:ln>
        </p:spPr>
        <p:txBody>
          <a:bodyPr lIns="90000" rIns="90000" tIns="46800" bIns="46800" anchor="t">
            <a:normAutofit/>
          </a:bodyPr>
          <a:p>
            <a:pPr marL="343080" indent="-343080" algn="r" rtl="1">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الاتجاه الثالث:</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يرى بأن الفقه الإسلامي لم يعرف فكرة السبب بمداولها الموضوعي على أساس أن التصرفات التعاقدية الشرعية هي في الأساس جعلية، وهي مستقلة تماماً عن الإرادة المشتركة للمتعاقدينن. فالشريعة الإسلامية وفقاً لهذا الاتجاه لم تدع مجالاً لتقرير مبادئ عامة تقوم بمقتضاها الالتزامات التعاقدية على أساس من السبب</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القول الراجح:</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أن الفقه الإسلامي عرف السبب بمفهومه الموضوعي و مفهومه الشخصي أيضاً.</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0"/>
            <a:ext cx="8686800" cy="1295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Medium"/>
              </a:rPr>
              <a:t>السبب بمفهومه الشخصي في الفقه الإسلامي وتطبيقاته في نطاق الكفالة:</a:t>
            </a:r>
            <a:endParaRPr b="0" lang="en-US" sz="3200" spc="-1" strike="noStrike">
              <a:solidFill>
                <a:srgbClr val="4e3b30"/>
              </a:solidFill>
              <a:latin typeface="Franklin Gothic Medium"/>
            </a:endParaRPr>
          </a:p>
        </p:txBody>
      </p:sp>
      <p:sp>
        <p:nvSpPr>
          <p:cNvPr id="321" name=""/>
          <p:cNvSpPr txBox="1"/>
          <p:nvPr/>
        </p:nvSpPr>
        <p:spPr>
          <a:xfrm>
            <a:off x="-360" y="1844280"/>
            <a:ext cx="8991720" cy="4753080"/>
          </a:xfrm>
          <a:prstGeom prst="rect">
            <a:avLst/>
          </a:prstGeom>
          <a:noFill/>
          <a:ln w="0">
            <a:noFill/>
          </a:ln>
        </p:spPr>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اشترط الفقه الإسلامي أن يكون السبب مباحاً أو مشروعاً وإلا وقع العقد باطلاً وبطل الضمان تبعاً لذلك.</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ومن أمثلة ذلك: بيع العصير والعنب لمن يتخذه خمراً، والزواج بقصد الطلاق.</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فالسبب في جميع التصرفات محرم والعقد والضمان باطل إذا كان السبب داخلاً في صيغة العقد عن الحنفية والشافعية. </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وإن لم يكن داخلاً في صيغة العقد لكن كان معلوماً من الطرق الاخر أو من الظروف والملابسات عند المالكية والحنابلة.</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Medium"/>
              </a:rPr>
              <a:t>في نطاق الكفالة:</a:t>
            </a:r>
            <a:endParaRPr b="0" lang="en-US" sz="3200" spc="-1" strike="noStrike">
              <a:solidFill>
                <a:srgbClr val="4e3b30"/>
              </a:solidFill>
              <a:latin typeface="Franklin Gothic Medium"/>
            </a:endParaRPr>
          </a:p>
        </p:txBody>
      </p:sp>
      <p:sp>
        <p:nvSpPr>
          <p:cNvPr id="32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يتعين أن يكون السبب الباعث مشروعاً لصحة الكفالة، فعند إذن تكون الكفالة صحيحة، وإن كان الباعث غير  مشروع فلا تصح الكفالة سواء ذكر الباعث في صيغة العقد أم لم يذكر، مادام يمكن استخلاصه من القرائن والظروف.</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من أمثلة ذلك:</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ما لو ضمنت ضمنت المرأة زوجها في دين عليه لمدة خمس سنوات، ثم طلقها الزوج بعد الكفالة وقبل انتهاء المدة، يكون للزوجة في هذه الحالة أن ترجع في الكفالة لزوال الباعث عليها  وهو استمالة الزوج ودوام العشرة الزوجية.</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15:20:19Z</dcterms:created>
  <dc:creator>seven</dc:creator>
  <dc:description/>
  <dc:language>en-US</dc:language>
  <cp:lastModifiedBy>eman</cp:lastModifiedBy>
  <dcterms:modified xsi:type="dcterms:W3CDTF">2016-10-01T19:57:17Z</dcterms:modified>
  <cp:revision>7</cp:revision>
  <dc:subject/>
  <dc:title>السبب الدافع الى عقد الكفاله</dc:title>
</cp:coreProperties>
</file>