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1D289-2D0C-46FB-8241-FCD53B144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8F68-590A-45CF-9DF2-AFF4B28F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C134-6199-4411-986B-21976B7FC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C651E-A79A-4E6E-BFF5-C92CFDAF3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A3F6-2E84-44B8-916A-E445BB50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49C0-1693-48ED-B5F8-AC35357BD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A8FB5-7A46-4332-9885-66DB2902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A0F8B-A575-4E87-ADCB-A4300E28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3DF5D-0E03-408A-95DC-C0AA2993D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57E1-E76D-4514-B0DB-4D08E10B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1035-E8E9-4E39-9892-05E6949EB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EBAE-EAD9-43D7-8029-B27A24F4D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0747-C37B-4CB4-88B8-5EEAE3F3813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500" spc="-1" strike="noStrike">
                <a:solidFill>
                  <a:srgbClr val="000000"/>
                </a:solidFill>
                <a:latin typeface="Arabic Typesetting"/>
                <a:cs typeface="Arabic Typesetting"/>
              </a:rPr>
              <a:t>تداول الكمبيالة بالتظهير</a:t>
            </a:r>
            <a:endParaRPr b="0" lang="en-US" sz="11500" spc="-1" strike="noStrike">
              <a:solidFill>
                <a:srgbClr val="000000"/>
              </a:solidFill>
              <a:latin typeface="Calibri"/>
            </a:endParaRPr>
          </a:p>
        </p:txBody>
      </p:sp>
      <p:sp>
        <p:nvSpPr>
          <p:cNvPr id="42" name="TextBox 2"/>
          <p:cNvSpPr/>
          <p:nvPr/>
        </p:nvSpPr>
        <p:spPr>
          <a:xfrm>
            <a:off x="2143080" y="4429080"/>
            <a:ext cx="5286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عداد الطالبة: مضاوي يحي عرجا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رقم الجامعي:</a:t>
            </a:r>
            <a:r>
              <a:rPr b="1" lang="ar-SA" sz="2400" spc="-1" strike="noStrike">
                <a:solidFill>
                  <a:srgbClr val="000000"/>
                </a:solidFill>
                <a:latin typeface="Calibri"/>
              </a:rPr>
              <a:t>43320125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حكم التظهير بعد عمل احتجاج عدم الوفاء </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ررت المادة (</a:t>
            </a:r>
            <a:r>
              <a:rPr b="0" lang="ar-SA" sz="3200" spc="-1" strike="noStrike">
                <a:solidFill>
                  <a:srgbClr val="000000"/>
                </a:solidFill>
                <a:latin typeface="Calibri"/>
              </a:rPr>
              <a:t>20</a:t>
            </a:r>
            <a:r>
              <a:rPr b="0" lang="ar-SA" sz="3200" spc="-1" strike="noStrike">
                <a:solidFill>
                  <a:srgbClr val="000000"/>
                </a:solidFill>
                <a:latin typeface="Calibri"/>
              </a:rPr>
              <a:t>) سالفة الذكر ان تظهير الكمبيالة بعد انتهاء المدة المقررة لتظهيرها – على النحو السابق – يرتب لثلر حوالة الحق؛ اي ان التظهير لا يعتبر تصرفا باطلا و لكن لا يرتب هذا التظهير التزاما صرفيا على عاتق المظهر  , و من ثم فهو لا يخضع لنظام الاوراق التجارية , ولكنه يخضع لاحكام حوالة الحق المد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ن يكون المظهر اليه ممن يجوز التظهير له</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يبدو من المنطقي ان يكون المظهر</a:t>
            </a:r>
            <a:r>
              <a:rPr b="0" lang="en-US" sz="2200" spc="-1" strike="noStrike">
                <a:solidFill>
                  <a:srgbClr val="000000"/>
                </a:solidFill>
                <a:latin typeface="Calibri"/>
              </a:rPr>
              <a:t> </a:t>
            </a:r>
            <a:r>
              <a:rPr b="0" lang="ar-SA" sz="2200" spc="-1" strike="noStrike">
                <a:solidFill>
                  <a:srgbClr val="000000"/>
                </a:solidFill>
                <a:latin typeface="Calibri"/>
              </a:rPr>
              <a:t>اليه شخصا اجنبيا عن الكمبيالة , اي لم يسبق لع التوقيع عليها بقصد الالتزام بالوفاء بها؛ ولكن هل يعتبر هذا الامر المنطقي شرطا في المظهر اليه ؟. اجابت المادة (</a:t>
            </a:r>
            <a:r>
              <a:rPr b="0" lang="ar-SA" sz="2200" spc="-1" strike="noStrike">
                <a:solidFill>
                  <a:srgbClr val="000000"/>
                </a:solidFill>
                <a:latin typeface="Calibri"/>
              </a:rPr>
              <a:t>12</a:t>
            </a:r>
            <a:r>
              <a:rPr b="0" lang="en-US" sz="2200" spc="-1" strike="noStrike">
                <a:solidFill>
                  <a:srgbClr val="000000"/>
                </a:solidFill>
                <a:latin typeface="Calibri"/>
              </a:rPr>
              <a:t>/</a:t>
            </a:r>
            <a:r>
              <a:rPr b="0" lang="ar-SA" sz="2200" spc="-1" strike="noStrike">
                <a:solidFill>
                  <a:srgbClr val="000000"/>
                </a:solidFill>
                <a:latin typeface="Calibri"/>
              </a:rPr>
              <a:t>2</a:t>
            </a:r>
            <a:r>
              <a:rPr b="0" lang="ar-SA" sz="2200" spc="-1" strike="noStrike">
                <a:solidFill>
                  <a:srgbClr val="000000"/>
                </a:solidFill>
                <a:latin typeface="Calibri"/>
              </a:rPr>
              <a:t>) من الاوراق التجارية على هذا التساؤل بالنفي, حيث نصت على انه ” ويجوز التظهير للمسحوب عليه سواء قبل الكمبيالة او لم يقبلها, طما يجوز التظهير للساحب او لاي ملتزم اخر , و يجوز لهؤلاء جميعا تظهير الكمبيالية من جديد“.  يتضح من ذلك ان هذا النص يترتب عليه زيادة مدة حياة الكمبيالة و يدعم استخدامها كاداة ائتمان , لان زيادة التظهيرات يترتب علية زيادة ضمان حامل الكمبيالية في استيفاء قيمتها. كما ان هذا النص يتضمن خروجا على كثير من القواعد العامة لاسباب انقضاء الاتزام, حيث اجاز تظهير الكمبيالة الى المسحوب عليه الذي قبل الكمبيالة , دون ان يترتب على ذلك انقضاء الالتزام الصرفي باتحاد الذمة, طالما تم هذا التظهير خلال المدة المقررة للتظهير؛وكذلك الامر بالنسبة للساحب قبل ان تقبل الكمبيالة من المسحوب عليه . اما اذا تم التظهير بعد ميعاد الاستحقاق للمسحوب عليه القابل , فان البعض يرى ان يؤدي الى انقضاء الالتزام الصرفي باتحاد الذمة ؛ ولكننا لا نؤيد هذا الرأي لان النظام (المادة</a:t>
            </a:r>
            <a:r>
              <a:rPr b="0" lang="ar-SA" sz="2200" spc="-1" strike="noStrike">
                <a:solidFill>
                  <a:srgbClr val="000000"/>
                </a:solidFill>
                <a:latin typeface="Calibri"/>
              </a:rPr>
              <a:t>20</a:t>
            </a:r>
            <a:r>
              <a:rPr b="0" lang="ar-SA" sz="2200" spc="-1" strike="noStrike">
                <a:solidFill>
                  <a:srgbClr val="000000"/>
                </a:solidFill>
                <a:latin typeface="Calibri"/>
              </a:rPr>
              <a:t>) يجيز التظهير بعد مبعاد الاستحقاق ( بصورة مطلقة ايا كان المظهر اليه ) و حتى يتم عمل احتجاج عدم الوفاء او تنقضي المدة المحددة لعمل هذا الاحتجاج</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04a7b"/>
                </a:solidFill>
                <a:latin typeface="Calibri"/>
              </a:rPr>
              <a:t>المطلب الثاني</a:t>
            </a:r>
            <a:br>
              <a:rPr sz="4000"/>
            </a:br>
            <a:r>
              <a:rPr b="1" lang="ar-SA" sz="4000" spc="-1" strike="noStrike">
                <a:solidFill>
                  <a:srgbClr val="604a7b"/>
                </a:solidFill>
                <a:latin typeface="Calibri"/>
              </a:rPr>
              <a:t>الشروط الشكلية للتظهير الناقل للملكية</a:t>
            </a:r>
            <a:br>
              <a:rPr sz="4000"/>
            </a:br>
            <a:r>
              <a:rPr b="1" lang="ar-SA" sz="4000" spc="-1" strike="noStrike">
                <a:solidFill>
                  <a:srgbClr val="604a7b"/>
                </a:solidFill>
                <a:latin typeface="Calibri"/>
              </a:rPr>
              <a:t>اولا:ان يتم التظهير كتابة عن الكمبيالة </a:t>
            </a:r>
            <a:endParaRPr b="0" lang="en-US" sz="4000" spc="-1" strike="noStrike">
              <a:solidFill>
                <a:srgbClr val="000000"/>
              </a:solidFill>
              <a:latin typeface="Calibri"/>
            </a:endParaRPr>
          </a:p>
        </p:txBody>
      </p:sp>
      <p:sp>
        <p:nvSpPr>
          <p:cNvPr id="65" name=""/>
          <p:cNvSpPr txBox="1"/>
          <p:nvPr/>
        </p:nvSpPr>
        <p:spPr>
          <a:xfrm>
            <a:off x="500040" y="1714680"/>
            <a:ext cx="8329680" cy="4697280"/>
          </a:xfrm>
          <a:prstGeom prst="rect">
            <a:avLst/>
          </a:prstGeom>
          <a:noFill/>
          <a:ln w="0">
            <a:noFill/>
          </a:ln>
        </p:spPr>
        <p:txBody>
          <a:bodyPr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يعتبر هذا الشرط تطبيقا لمبدا الشكلية الذي تتميز به الاوراق التجارية و الالتزام الصرفي ؛ و من ثم لا يصح تظهير الكمبيالة شفهيا . و الاصل ان يكتب التظهير على الكمبيالة ذاتها , سواء على ظهرها- كما يوحي اسمه – او في اي مكان يتضمن فراغ على الكمبيالة ؛ فاذا لم يوجد فراغ على الكمبيالة ذاتها , فقد اجاز النظام (م</a:t>
            </a:r>
            <a:r>
              <a:rPr b="0" lang="ar-SA" sz="3200" spc="-1" strike="noStrike">
                <a:solidFill>
                  <a:srgbClr val="000000"/>
                </a:solidFill>
                <a:latin typeface="Calibri"/>
              </a:rPr>
              <a:t>14</a:t>
            </a:r>
            <a:r>
              <a:rPr b="0" lang="ar-SA" sz="3200" spc="-1" strike="noStrike">
                <a:solidFill>
                  <a:srgbClr val="000000"/>
                </a:solidFill>
                <a:latin typeface="Calibri"/>
              </a:rPr>
              <a:t>) ان يكتب التظهير على ورقة اخرى متصلة بالكمبيالة , و هي معروفة بالوصلة. اما اذا كتب التظهير على ورقة مستقلة , فانه لا يعتبر تظهيرا خاضعا لنظام الاوراق التجارية , ولكنه يرتب اثار حوالة الحق لانه يفقد شرط الكفاية الذات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بيان التظهير(ضرورة توقيع المظهر)</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يسيرا لتداول الكمبيالة لم يحدد النظام صيغة معينة للتظهير الناقل للملكية, ومن ثم يجوز ان يكتب باي صيغة توضح ارادة المظهر في نقل ملكية الحق الثابت في الكمبيالة الى المظهر اليه؛كما انه لم يشترط ان يتضمن التظهيربيانات الزامية معينة مثل ما اشترطه عند اشاء الكمبيالة؛ولكنه اكتفى بأن يذيل التظهير بتوقيع المظهر , اما البيانات الاخرى فهي موجودة في الكمبيالة منذ انشائ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تظهير على بياض</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 اذا كان الاصل ان يتضمن التظهير اسم المظهر اليه( وهذا ما يعرف بالتظهير الاسمي )؛ الا ان النظام لم يجعل ذلك شرطا لصحة التظهير, ولكنه اجاز ان يكون التظهير على بياض . وقد ياخذ التظهير على بياض احد الصور التالية: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أولى ان يكون التظهير لحامله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حيث اجازته المادة(</a:t>
            </a:r>
            <a:r>
              <a:rPr b="0" lang="ar-SA" sz="2200" spc="-1" strike="noStrike">
                <a:solidFill>
                  <a:srgbClr val="000000"/>
                </a:solidFill>
                <a:latin typeface="Calibri"/>
              </a:rPr>
              <a:t>13</a:t>
            </a:r>
            <a:r>
              <a:rPr b="0" lang="ar-SA" sz="2200" spc="-1" strike="noStrike">
                <a:solidFill>
                  <a:srgbClr val="000000"/>
                </a:solidFill>
                <a:latin typeface="Calibri"/>
              </a:rPr>
              <a:t>) , و في هذه الحالة يعتبر تظهيرا على بياض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 الصورة الثانية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 يقتصر التظهير على توقيع المظهر</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0" lang="ar-SA" sz="2200" spc="-1" strike="noStrike">
                <a:solidFill>
                  <a:srgbClr val="000000"/>
                </a:solidFill>
                <a:latin typeface="Calibri"/>
              </a:rPr>
              <a:t>, حيث اجازت المادة (</a:t>
            </a:r>
            <a:r>
              <a:rPr b="0" lang="ar-SA" sz="2200" spc="-1" strike="noStrike">
                <a:solidFill>
                  <a:srgbClr val="000000"/>
                </a:solidFill>
                <a:latin typeface="Calibri"/>
              </a:rPr>
              <a:t>14</a:t>
            </a:r>
            <a:r>
              <a:rPr b="0" lang="ar-SA" sz="2200" spc="-1" strike="noStrike">
                <a:solidFill>
                  <a:srgbClr val="000000"/>
                </a:solidFill>
                <a:latin typeface="Calibri"/>
              </a:rPr>
              <a:t>) عدم ذكر اسم المظهر اليه في التظهير ؛ وفي هذه الحالة يكون لحامل الكمبيالة عدد من الاختيارات : الاول يجوز للحامل ان يملا البياض بكتابه اسمه او اسم شخص اخر( وبذلك يتحول الى تطهير اسمي ) و الثاني ان يظهر الكمبيالة من جديد على بياض او الى شخص اخر, و في هذه الحالة ينشأ على عاتقه التزاما صرفيا نتيجة توقيعة كمظهر؛ والثالث ان يسلم الكمبيالة الى شخص اخر دون ان يملا البياض و دون ان يظهرها, وفي هذه الحالة يكون من تسلم الكمبيالة هو حاملها الشرعي من المظهر الاول ولا ينشأ التزام صرفي على من سلم الكمبيالة لانه لم يوقع عليها, وبالتالي يضعف ضمان الحام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تاريخ التظهير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رغم اهمية بيان تاريخ تظهير الكمبيالة الا ان النظام لم يجعله شرطا لصحة التظهير, ومع ذلك اذا وضع تاريخ للتظهير فيجب ان يكون صحيحا , و هذا امر يفترض دائما ما لم يثبت العكس, و يقع عبء اثبات التاريخ الصحيح على عاتق من يدعيه , و يتم الاثبات بكافة طرق الاثبات.</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 لكي يمنع النظام التحايل على قواعد اهلية المظهر او قواعد الافلاس, بان يوضع تاريخ سابق على صدور حمك الافلاس او قرار الحجر على المظهر, حضرت الفقرة الاخيرة من المادة(</a:t>
            </a:r>
            <a:r>
              <a:rPr b="0" lang="ar-SA" sz="2700" spc="-1" strike="noStrike">
                <a:solidFill>
                  <a:srgbClr val="000000"/>
                </a:solidFill>
                <a:latin typeface="Calibri"/>
              </a:rPr>
              <a:t>20</a:t>
            </a:r>
            <a:r>
              <a:rPr b="0" lang="ar-SA" sz="2700" spc="-1" strike="noStrike">
                <a:solidFill>
                  <a:srgbClr val="000000"/>
                </a:solidFill>
                <a:latin typeface="Calibri"/>
              </a:rPr>
              <a:t>) ”تقديم تاريخ التظهير, و ان وقع اعتبره تزويرا“ولا ينطبق ذات الحكم على في حالة تاخير التاريخ, لان النصوص الجزائية لا يجوز القياس عليها او التوسع في تفسيرها, تطبيقا للمبدأ القاضي بانه لا جريمة ولا عقوبة الا بنص.</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بيانات الاختيارية للتظهير</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وز للمظهر ان يضع بيانات اختيارية عند تظهير الكمبيالة, مثل شرط حظر التظهير بعد ذلك, وشرط عدم الضما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rial"/>
              </a:rPr>
              <a:t>المقصود بالتظهير وأنواعة:</a:t>
            </a:r>
            <a:br>
              <a:rPr sz="5400"/>
            </a:br>
            <a:endParaRPr b="0" lang="en-US" sz="5400" spc="-1" strike="noStrike">
              <a:solidFill>
                <a:srgbClr val="000000"/>
              </a:solidFill>
              <a:latin typeface="Calibri"/>
            </a:endParaRPr>
          </a:p>
        </p:txBody>
      </p:sp>
      <p:sp>
        <p:nvSpPr>
          <p:cNvPr id="44" name="TextBox 3"/>
          <p:cNvSpPr/>
          <p:nvPr/>
        </p:nvSpPr>
        <p:spPr>
          <a:xfrm>
            <a:off x="357120" y="1500120"/>
            <a:ext cx="828684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تبر القابلية للتداول من خصائص الاوراق التجارية وهذه الخاصية هي التي تساعدها على القيام بوظيفتها كأداة للوفاء والائتمان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مكن لصاحب الحق فيها(الحامل ) تحويلها الى نقود في اي وقت عن طريق نقل الملكية الحق الثابت فيها الى شخص اخر</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توقف طريقة نقل الحق الثابت في الورقة التجارية على شكلها فإذا صدرت لأمر شخص معين فإنها تداول بالتظهير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جرد كتابة ذلك على ظهرها ويوقع عليها هذا الشخص وإذا صدرت لحاملها فإنها تتداول بمجرد مناولتها وتسليمها لمن انتقل إليه الحق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ظرا ان نظام الاوراق التجارية السعودي لايجيز اصدار الكمبيالة لحاملها بل يجب ان تصدر لأمر ومن ثم يتم تداولها بالتظهير والتظهير يكون غالبا لاحد البنوك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عرف التظهير بأنه بيان يكتبه حامل الكمبيالة على ظهرها لكي ينقلها إلى شخص آخر ويسمى الشخص الاول (المظهر ) الشخص الثاني ( المظهر اليه)</a:t>
            </a:r>
            <a:endParaRPr b="0" lang="en-US" sz="24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a:t>
            </a:r>
            <a:br>
              <a:rPr sz="4000"/>
            </a:br>
            <a:endParaRPr b="0" lang="en-US" sz="4000" spc="-1" strike="noStrike">
              <a:solidFill>
                <a:srgbClr val="000000"/>
              </a:solidFill>
              <a:latin typeface="Calibri"/>
            </a:endParaRPr>
          </a:p>
        </p:txBody>
      </p:sp>
      <p:pic>
        <p:nvPicPr>
          <p:cNvPr id="46" name="Content Placeholder 3" descr=""/>
          <p:cNvPicPr/>
          <p:nvPr/>
        </p:nvPicPr>
        <p:blipFill>
          <a:blip r:embed="rId1"/>
          <a:stretch/>
        </p:blipFill>
        <p:spPr>
          <a:xfrm>
            <a:off x="-42840" y="249120"/>
            <a:ext cx="9034560" cy="532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تظهير الناقل للملكية هو الأصل:</a:t>
            </a:r>
            <a:endParaRPr b="0" lang="en-US" sz="4400" spc="-1" strike="noStrike">
              <a:solidFill>
                <a:srgbClr val="000000"/>
              </a:solidFill>
              <a:latin typeface="Calibri"/>
            </a:endParaRPr>
          </a:p>
        </p:txBody>
      </p:sp>
      <p:sp>
        <p:nvSpPr>
          <p:cNvPr id="48" name="TextBox 3"/>
          <p:cNvSpPr/>
          <p:nvPr/>
        </p:nvSpPr>
        <p:spPr>
          <a:xfrm>
            <a:off x="857160" y="928800"/>
            <a:ext cx="735804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عتبر تظهير الكمبيالة تظهير ناقل للملكية هو الاصل ولذلك قررت اللجنة القانونية أن التظهير ينقل جميع الحقوق الناشئة عن الكمبيالة إلى المظهر إلية ومن ثم فإن المظهر إليه يصبح صاحب الصفة في المطالبة بقيمة الكمبيالة وإذا خلا التظهير منأية عبارة تفيد أن القيمة للتحصيل أو للضمان أو أية عبارة أخرى تفيد هذه المعاني فإنه يكون ناقلا للملكية </a:t>
            </a:r>
            <a:endParaRPr b="0" lang="en-US" sz="1800" spc="-1" strike="noStrike">
              <a:solidFill>
                <a:srgbClr val="000000"/>
              </a:solidFill>
              <a:latin typeface="Calibri"/>
            </a:endParaRPr>
          </a:p>
        </p:txBody>
      </p:sp>
      <p:sp>
        <p:nvSpPr>
          <p:cNvPr id="49" name="TextBox 4"/>
          <p:cNvSpPr/>
          <p:nvPr/>
        </p:nvSpPr>
        <p:spPr>
          <a:xfrm>
            <a:off x="857160" y="1995480"/>
            <a:ext cx="7358040" cy="6374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4a7b"/>
                </a:solidFill>
                <a:latin typeface="Calibri"/>
              </a:rPr>
              <a:t>تظهير نسخ وصور الكمبيالة :</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إذا كانت الكمبيالة محررة من عدة نسخ  فالأصل أن يتم التظهير على إحدى هذه النسخ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ما إذا ورد التظهير على أكثر من نسخة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ن المظهر الذي ظهر نسخ الكمبيالة لأشخاص مختلفين وكذلك المظهرون اللاحقون له ملتزمون بموجب النسخ التي تحمل توقيعاتهم طالما أنهم لم يستردوا هذه النسخ وذلك حماية للحامل حسن الن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جاز المادة </a:t>
            </a:r>
            <a:r>
              <a:rPr b="1" lang="ar-SA" sz="2000" spc="-1" strike="noStrike">
                <a:solidFill>
                  <a:srgbClr val="000000"/>
                </a:solidFill>
                <a:latin typeface="Calibri"/>
              </a:rPr>
              <a:t>80</a:t>
            </a:r>
            <a:r>
              <a:rPr b="1" lang="ar-SA" sz="2000" spc="-1" strike="noStrike">
                <a:solidFill>
                  <a:srgbClr val="000000"/>
                </a:solidFill>
                <a:latin typeface="Calibri"/>
              </a:rPr>
              <a:t> لحامل الكمبيالة ان يحرر منها صورا وفي هذه الحالة يجب أن تكون الصورة مطابقة تماما لأصل الكمبيالة بما تحمله ن=من تظهيرات أو أية بيانات أخرى تكون مدونة فيها وأن يكتب عليها ان النسخ عن الاصل انتهى عند هذا الحد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في هذه الحالة يجوز تظهير الصورة على الوجه الذي يجري على الأصل ويكون للصورة ما للاصل من أحكام</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اذا كتب على الاصل عقب التظهير الاخير الحاصل قبل عمل االصورة انه منذ الان لا يصلح التظهير إلا على الصورة فإنه يترتب على ذلك أن كل تظهير على الأصل بعد وضع هذا الشرط يكون باطلا</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تظهير الناقل للملكية (التظهير التام)</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ترتب على تظهير الكمبيالة نشأة التزام صرفي على عاتق المظهر فيصبح مدينا يضمن الوفاء بالكمبيالة للمظهر إلية ومن يليه من المظهر إليهم الاخرين إن وجدوا بعد أن كان دائنا للساحب </a:t>
            </a:r>
            <a:endParaRPr b="0" lang="en-US" sz="2000" spc="-1" strike="noStrike">
              <a:solidFill>
                <a:srgbClr val="000000"/>
              </a:solidFill>
              <a:latin typeface="Calibri"/>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بذلك تجتمع في المظهر صفة الدائن والمدين في ذات الوقت لأن بالتظهير يكون مضمونا (دائنا) بمن قبله من الملتزمين الصرفيين (سواء كان الساحب أو مظهر سابق)  ويكون ضامنا (مدينا) للمظهر إليه ومن يليه من المظهرين إن وجدوا </a:t>
            </a:r>
            <a:endParaRPr b="0" lang="en-US" sz="2000" spc="-1" strike="noStrike">
              <a:solidFill>
                <a:srgbClr val="000000"/>
              </a:solidFill>
              <a:latin typeface="Calibri"/>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تضح من ذلك أنه بالتظهير تتعدد الالتزامات الصرفية والعلاقات القانونية بقدر تعدد التظهيرات الواردة على الكمبيالة </a:t>
            </a:r>
            <a:endParaRPr b="0" lang="en-US" sz="2000" spc="-1" strike="noStrike">
              <a:solidFill>
                <a:srgbClr val="000000"/>
              </a:solidFill>
              <a:latin typeface="Calibri"/>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تظهير تصرف قانوني ينشأ عن التزام صرفي على عاتق المظهر وهو التزام مماثل للالتزام الذي نشأ نتيجة إنشاء الكمبيالة بتوقيع الساحب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04a7b"/>
                </a:solidFill>
                <a:latin typeface="Calibri"/>
              </a:rPr>
              <a:t>ان يتم الظهير من الحامل الشرعي للكمبيالة او نائبه</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عتبر تظهير الكمبيالة تصرفا ناقلا لملكية الحق الثابت فيها,و لذلك يجب ان يصدر التظهير من الحامل الشرعي للكمبيالة( مالكها ), او من نائبه القانوني سواء كانت نيابته من الحامل نيابة اتفاقية (الوكيل مثلا) او نظامية ( الولي الشرعي او الوصي او القيم مثلا ), و كذلك الممثل االقانوني للشخص الاعتباري سواء كان المدير او رئيس مجلس الادارة أثناء حياة الشركة , او المصفي او امين الديانة في حالة افلاس التاجر سواء كان شخصا طبيعيا او اعتباريا.</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لا يؤثر على تسلسل التظهيرات ان يوجد بينها تظهير مشطوب ,حيث اعتبرت المادة(</a:t>
            </a:r>
            <a:r>
              <a:rPr b="0" lang="ar-SA" sz="2500" spc="-1" strike="noStrike">
                <a:solidFill>
                  <a:srgbClr val="000000"/>
                </a:solidFill>
                <a:latin typeface="Calibri"/>
              </a:rPr>
              <a:t>16</a:t>
            </a:r>
            <a:r>
              <a:rPr b="0" lang="ar-SA" sz="2500" spc="-1" strike="noStrike">
                <a:solidFill>
                  <a:srgbClr val="000000"/>
                </a:solidFill>
                <a:latin typeface="Calibri"/>
              </a:rPr>
              <a:t>) ان التظهي المشطوب كأن لم يكن</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اذا فقد شخص حيازة كمبيالة نتيجة حادث ما , فلا يلزم حاملها بالتخلي عنها متى اثبت حقه وفقا للاحكام السابقة ( بموجب سلسلة تظهيرات غير منقطعة او بتظهير على بياض ), الا اذا كان الحامل قد حصل على الكمبيالة بسوء نية ( كأن يكون يعلم الحادث الذي قثدت فيه ) او ارتكب في سبيل الحصول عليها خطأ جسيم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04a7b"/>
                </a:solidFill>
                <a:latin typeface="Calibri"/>
              </a:rPr>
              <a:t>ان يكون الشروط الموضوعية لنشأة الالتزام الصرفي</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ظرا لان التظهير( باعتباره تصرفا قانونيا ) يترتب عليه نشاة التزام صرفي على عاتق المظهر , فانه يجب ان تتوافر في التظهير الاركان الموضوعية السابق دراستها عند انشاء الكمبيالة . حيث يجب ان يصدر التظهير عن شخص كامل الاهلية , و ان يعبر هذا الشخص عن ارادته بالتظهير برضا سليم خالي من العيوب ( الغلط او التدليس او الاكراه او الاستغلال ) , و ان يكون للتظهير سببا مشروعا , بالاضلفة الى محل ممكن و مشرو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ن يشمل التظير مبلغ الكمبيالة كاملا</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ررت المادة (</a:t>
            </a:r>
            <a:r>
              <a:rPr b="0" lang="ar-SA" sz="3200" spc="-1" strike="noStrike">
                <a:solidFill>
                  <a:srgbClr val="000000"/>
                </a:solidFill>
                <a:latin typeface="Calibri"/>
              </a:rPr>
              <a:t>13</a:t>
            </a:r>
            <a:r>
              <a:rPr b="0" lang="ar-SA" sz="3200" spc="-1" strike="noStrike">
                <a:solidFill>
                  <a:srgbClr val="000000"/>
                </a:solidFill>
                <a:latin typeface="Calibri"/>
              </a:rPr>
              <a:t>) سالفة الذكر بطلان التظهير الجزئي للكمبيالة؛ وعلى ذلك لا يجوز ان يرد التظهير على جزء من المبلغ الثابت في الكمبيالة لان التظهير الجزئي يعرقل تدول الكمبيالة , حيث يثور النزاع بين المظهر و المظهر اليه بشأن من يحتفظ بالكمبيالة , و بذلك يكون النظام قد فرق بين التظهير الجزئي للكمبيالة و تظهيرها المعلق على شرط , حيث قرر بطلان التظهير الجزئي , اما التظهير المعلق على شرط فهو صحيح و الشرط يعتبر كأن لم يك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04a7b"/>
                </a:solidFill>
                <a:latin typeface="Calibri"/>
              </a:rPr>
              <a:t>جواز التظهير اللاحق لميعاد الاستحقاق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عتبرت المادة ( </a:t>
            </a:r>
            <a:r>
              <a:rPr b="0" lang="ar-SA" sz="2500" spc="-1" strike="noStrike">
                <a:solidFill>
                  <a:srgbClr val="000000"/>
                </a:solidFill>
                <a:latin typeface="Calibri"/>
              </a:rPr>
              <a:t>20</a:t>
            </a:r>
            <a:r>
              <a:rPr b="0" lang="ar-SA" sz="2500" spc="-1" strike="noStrike">
                <a:solidFill>
                  <a:srgbClr val="000000"/>
                </a:solidFill>
                <a:latin typeface="Calibri"/>
              </a:rPr>
              <a:t> ) من نظام الاوراق التجارية تظهير الكمبيالة بعد ميعاد الاستحقاق تظهيرا صحيحا مرتبا لذات الاثات التي يرتبها التظهير السابق على هذا التاريخ. ولا شك ان ذلك ييسر على الحامل بالسماح له بتحويلها الى نقود خلال اكبر فترة ممكنة . ولكن متى تنتهي امكانية تظهير الكمبيالة ؟. اجابت المادة (</a:t>
            </a:r>
            <a:r>
              <a:rPr b="0" lang="ar-SA" sz="2500" spc="-1" strike="noStrike">
                <a:solidFill>
                  <a:srgbClr val="000000"/>
                </a:solidFill>
                <a:latin typeface="Calibri"/>
              </a:rPr>
              <a:t>20</a:t>
            </a:r>
            <a:r>
              <a:rPr b="0" lang="ar-SA" sz="2500" spc="-1" strike="noStrike">
                <a:solidFill>
                  <a:srgbClr val="000000"/>
                </a:solidFill>
                <a:latin typeface="Calibri"/>
              </a:rPr>
              <a:t>)سالفة الذكر بالنص على انه“ اما التظهير اللاحق لاحتجاج عدم الدفع او الحاصل بعد انقضاء الميعاد المحدد لعمل هذا الاحتجاج فيرتب اثار حوالة الحق“ يتضح من ذلك ان امكانية تظهير الكمبيالة تنتهي في احدى حالتين : الاولى اذا تم عمل احتجاج عدم الوفاء بالكمبيالة , و هذا الاحتجاج يجب عمله خلال يومي العمل التاليين ليوم الاستحقاق (المادة</a:t>
            </a:r>
            <a:r>
              <a:rPr b="0" lang="ar-SA" sz="2500" spc="-1" strike="noStrike">
                <a:solidFill>
                  <a:srgbClr val="000000"/>
                </a:solidFill>
                <a:latin typeface="Calibri"/>
              </a:rPr>
              <a:t>20</a:t>
            </a:r>
            <a:r>
              <a:rPr b="0" lang="ar-SA" sz="2500" spc="-1" strike="noStrike">
                <a:solidFill>
                  <a:srgbClr val="000000"/>
                </a:solidFill>
                <a:latin typeface="Calibri"/>
              </a:rPr>
              <a:t>\</a:t>
            </a:r>
            <a:r>
              <a:rPr b="0" lang="ar-SA" sz="2500" spc="-1" strike="noStrike">
                <a:solidFill>
                  <a:srgbClr val="000000"/>
                </a:solidFill>
                <a:latin typeface="Calibri"/>
              </a:rPr>
              <a:t>2</a:t>
            </a:r>
            <a:r>
              <a:rPr b="0" lang="ar-SA" sz="2500" spc="-1" strike="noStrike">
                <a:solidFill>
                  <a:srgbClr val="000000"/>
                </a:solidFill>
                <a:latin typeface="Calibri"/>
              </a:rPr>
              <a:t>) . و الثانية اذا انقضى الميعاد المحدد لعمل الاحتجاج , و ذلك في الحالة التي يكون حامل الكومبيالة معفى من عمل هذا الاحتجاج ( اذا كانت الكمبيالة تتضمن شرط الرجوع بلا مصاريف ) , حيث يجوز تظهير الكمبيالة حتى ينقضي الميعاد المحدد لعمله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4T15:29:00Z</dcterms:created>
  <dc:creator>atawiali@hotmail.com</dc:creator>
  <dc:description/>
  <dc:language>en-US</dc:language>
  <cp:lastModifiedBy>eman</cp:lastModifiedBy>
  <dcterms:modified xsi:type="dcterms:W3CDTF">2016-10-09T00:03:04Z</dcterms:modified>
  <cp:revision>39</cp:revision>
  <dc:subject/>
  <dc:title>تداول الكمبيالة بالتظهير</dc:title>
</cp:coreProperties>
</file>