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5A1-82A4-45E4-ACE6-6F128BA4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127-952D-42BB-BDB7-66FB0B35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944-9557-401F-935D-29CF7959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FE4-CC8E-4FB3-B568-D883C2BE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A30-BC99-4D3D-8649-89D0DC74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64EC-F8D3-484B-8DFA-FABAE773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1D36-6F5E-4EFC-A177-D8CC5608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5ABE-2087-436D-B53E-B1688CD1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98B7-8079-4BFF-84A6-E94F4A61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3C99-D472-4053-8BBD-7DB4B6C6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A203-4A17-41B8-A8ED-6ACBB71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12F-7F5E-4AD4-A2AB-C573DD61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061C-A5A3-439A-9F55-3F46DC5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3485-CDEA-4C7E-952F-A8AC9454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506D-220E-4AC1-8D52-B5D4A8E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A8E2-48E3-46AA-BDF7-7349712E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6EF-9531-4E15-AB35-205ACF32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3BA7-15FA-4AE7-8054-7277FF0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9015-D113-4FED-A6CE-9CD6AD7F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0198-8D33-47E1-B49D-D4259DF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856D-89AC-4C25-9B54-9491212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79A0-D04B-4BF6-9762-444A1A11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1D3-C50D-4D59-A19E-E5F403E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89E3-D974-4958-95C1-F70CF39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6E07-C9F5-4A9D-BD3C-D9E92BC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FF91-571A-4528-8543-8D0D307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3637-814B-40AC-9F2A-721D299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FB3F-5220-4B8C-9884-CBCB0BF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615B-C811-4A19-89D0-867804AF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2A1F-7C4D-4633-9D70-3A4CA9A4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FE8EF-236F-48F1-8F70-9C8DE44D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59DA-00A9-4D98-B05E-99E1010F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AF0A3-37A3-4054-A331-0282A199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831-C211-4FF8-9E35-14F015AC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F546-C3DA-4AF1-9725-6D22829B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2571-CA84-4B6F-B0A3-5C8DC475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8F69-7244-4484-BF7F-EE2FAA51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D7EA-EE20-42E8-B08B-670A994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4589-88EB-4627-9B56-F12E72B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E605-94B7-4F34-923A-8141AB25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CC24-0B8C-4199-AE6D-0084208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D68B-1851-4C37-B349-19C34101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CE04-91D8-4031-B3EA-A81E96FB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CE00-12F1-4556-A728-20C02B46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E39-51AA-47F9-97B4-4FEA690C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E83F-6CA4-43C0-B8F0-DC83AFE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2849-9C48-493C-983C-51DAE0A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2F27-7724-470E-9013-30D5AB73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CE0D-BA3D-42C0-8AC0-E223ACA5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E12DA-DA5F-41AA-A880-1C945E6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73F0-C309-4E63-B163-24278F64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38E3-02F0-456B-8FB2-BF2B89E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D1F6-5B5C-4D82-8ECD-9C29EAE0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6FB9-AEF9-4957-97FD-BC8DCE99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14D7-8D25-443C-95DC-7D55AF9C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58C-CB52-4B5F-BA2F-69222A41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4D8E-E16E-4AF8-9759-9B4A6C82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521C6-1214-4CA0-85FF-31F06817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C3B0-6DBC-4017-94C4-59B0E14C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A7C69-159A-4E4D-B75A-9B3D8D15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4E37-593A-45EC-8248-2C9999CF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0F530-D2A0-49A1-979A-F381EF18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490D-9861-4011-96B7-0B1A589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3190C-EA42-4FEA-844C-188829D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F8A7-C7D4-4EF3-B8A8-E1C50E6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B90E-8AEC-47C9-8FE2-A11EAB0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C29-5F70-4264-B156-B5B56CD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4EB0-8BC6-43CF-A351-2BC41CE5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AF038-F20D-4F75-A745-4CFDADF2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ED36-B3E4-45B8-9B91-5B277DA4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A59F0-4BEF-4D90-B114-6C7B4815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31D0C-6111-4192-BA8D-AB1D14E8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6072E-6F04-47A2-AD91-1858E782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2243A-BF51-4C89-8383-BF698DCE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F6F70-2E6A-442C-9EA5-F145D63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E624E-FE57-4832-8890-B1797BF9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2BB28-61D6-456D-BE3C-E4C45E5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9BA-2869-4719-ACE9-B60CB27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29F8-C347-4DCA-8DB9-10DDDFE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1754-736E-4AA8-BE12-EFEA50D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01CE-4C99-4509-A481-288D0662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B6E39-D38D-4F53-9B75-BA782B3D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3EE7-49D3-4361-ABCB-006A2E04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2AF-C37F-4916-993E-E8C4CBE2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13BE-E7E5-48CF-A958-73C0C1FC3068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9A8-5240-4310-8DB2-FFD0172BB42D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68BA-A282-48EF-B0ED-7D0F67067B5F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CAA7-6F5C-428C-A4EC-49BD38A453A7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F94-2436-490D-A2C1-2D18CD8D7502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D7E0-9EEA-4190-9B27-B830F3B65E4F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FFD-A3B7-4884-8535-F05E3935C760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188640"/>
            <a:ext cx="7407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6b8d"/>
                </a:solidFill>
                <a:latin typeface="Gill Sans MT"/>
              </a:rPr>
              <a:t>آثار البيع </a:t>
            </a:r>
            <a:endParaRPr b="0" lang="en-US" sz="4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42560" y="765000"/>
            <a:ext cx="7921800" cy="5904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لكل عقد آثار تترتب عليه بعد انعقاده وتوافر شروطه , وبما أن عقد البيع من عقود المعاوضة , وأنه عقد ملزم للجانبين , فإن آثاره تتوزع بين العاقدين : البائع و المشتري , وتعرف هذه الآثار في القانون بالالتزامات , </a:t>
            </a:r>
            <a:r>
              <a:rPr b="1" i="1" lang="ar-SA" sz="2800" spc="-1" strike="noStrike">
                <a:solidFill>
                  <a:srgbClr val="003e56"/>
                </a:solidFill>
                <a:latin typeface="Gill Sans MT"/>
              </a:rPr>
              <a:t>وتنشأ عن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عقد البيع عدة التزامات متقابلة , بعضها على البائع , و بعضها على المشتري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فإذا امتنع أحد المتعاقدين عن تنفيذ أحد التزاماته , جاز للآخر فسخ العقد , أو حبس المبيع أو حبس الثمن , و قد ينشأ لأحدهما امتياز معين يمكنه من الحصول على حقه عيناً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وفي هذا المبحث مطلبان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لأول : التزامات البائع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لثاني : التزامات المشتر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6b8d"/>
                </a:solidFill>
                <a:latin typeface="Gill Sans MT"/>
              </a:rPr>
              <a:t>التزامات البائع </a:t>
            </a:r>
            <a:endParaRPr b="0" lang="en-US" sz="4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7407360" cy="410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e56"/>
                </a:solidFill>
                <a:latin typeface="Gill Sans MT"/>
              </a:rPr>
              <a:t>نص القانون الاماراتي على التزامات البائع وهي أربعة 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نقل المُلكية إلى المشتر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تسليم المبيع إلى المشتر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الالتزام بضمان التعرض و الاستحقاق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4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الالتزام بضمان العيوب الخفية 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b8d"/>
                </a:solidFill>
                <a:latin typeface="Gill Sans MT"/>
              </a:rPr>
              <a:t>أولاً : </a:t>
            </a:r>
            <a:r>
              <a:rPr b="1" lang="ar-SA" sz="6000" spc="-1" strike="noStrike">
                <a:solidFill>
                  <a:srgbClr val="006b8d"/>
                </a:solidFill>
                <a:latin typeface="Gill Sans MT"/>
              </a:rPr>
              <a:t>نقل المُلكية </a:t>
            </a:r>
            <a:endParaRPr b="0" lang="en-US" sz="60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92180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عتبر القانون نقل مُلكية المبيع إلى المشتري أول التزامات البائع . والأدق في التعبير هو ما عليه الفقه الإسلامي </a:t>
            </a: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باتفاق مذاهبه الذي يجعل انتقال المُلكية أثراً تلقائياً بمجرد العقد , فهو الحكم الأصلي أو الأثر الجوهري المقصود للبيع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, وأنه </a:t>
            </a: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ينتج أثره مباشرة بمجرد التعاقد بحكم الشرع , وعند انتهاء الإيجاب و القبول فوراً إذا كان البيع باتاً لا خيار في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والأثر المترتب على البيع هو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1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- ثبوت الملك في المبيع للمشتر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2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- ثبوت الملك في الثمن للبائع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أي أن مُلكية المبيع تنتقل بمجرد العقد , سواء كان البيع تقديراً أو جزافاً , و سواء كان مُعيناً بنوعه أو بذاته , و سواء كان منقولاً أو عقاراً أو حقاً مالياً آخر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92180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وهنا يجب علينا الإشارة إلى التعاريف الآتية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b050"/>
                </a:solidFill>
                <a:uFillTx/>
                <a:latin typeface="Gill Sans MT"/>
              </a:rPr>
              <a:t>المبيع المعين بالذات :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هو الذي يتم تعيينه بخصائصه و صفاته المميزة له , وهو إما منقول و إما عقار</a:t>
            </a: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- فالمنقول او المال القيمي :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ما تفاوت احاده وتختلف اجزاؤه ولا يقوم بعضها مقام البعض بعض في الوفاء ؛ كالسلع و الأمتعة 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وتنتقل المُلكية فيه فور العقد مباشرة من البائع إلى المشتري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-والعقار :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هو الثابت في حيزه لا يمكن نزعه منه بلا ضرر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كالأرض و الدا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تنتقل فيه الملكية أيضاً بمجرد تمام العقد </a:t>
            </a: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ويجب على المتعاقدين تنفيذ التزاماتهما الا ما كان منها مؤجلا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ولا مانع فقهاً من قبيل السياسة الشرعية أو المصلحة العامة التي يراها الحاكم للناس أن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يتوقف نقل مُلكية العقار على التسجيل الرسمي في السجلات العقارية المنظمة حديثاً </a:t>
            </a: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لذا جاء في القانون الاماراتي :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لا تنتقل مُلكية العقار ولا الحقوق العينية العقارية الأُخرى بين المتعاقدين وفي حق الغير إلا بالتسجيل وفقاً لأحكام القوانين الخاصة به 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116000" y="189000"/>
            <a:ext cx="784872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Gill Sans MT"/>
              </a:rPr>
              <a:t>فعقد البيع رضائيا ينعقد بتوافر الايجاب مع القبول وينتج اثاره ، لكن الملكية في العقار لا تنتقل الى المشتري الا بعد تنفيذ البائع لالتزامه بتسجيل البيع في السجل العقاري والا يسأل في مواجهة المشتري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b050"/>
                </a:solidFill>
                <a:uFillTx/>
                <a:latin typeface="Gill Sans MT"/>
              </a:rPr>
              <a:t>- المبيع المنقول جزافاً : </a:t>
            </a:r>
            <a:r>
              <a:rPr b="1" lang="ar-SA" sz="2600" spc="-1" strike="noStrike">
                <a:solidFill>
                  <a:srgbClr val="003e56"/>
                </a:solidFill>
                <a:latin typeface="Gill Sans MT"/>
              </a:rPr>
              <a:t>هو بيع الأشياء المقدرة جُملة بلا تقدير , وبثمن محدد جُملة , كبيع كمية سكر جُملة بملغ إجمالي من المال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وتنتقل المُلكية فيه بمجرد تمام العقد وتمام الإيجاب والقبول كما تنتقل مُلكية المبيع المعين بذاته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b050"/>
                </a:solidFill>
                <a:uFillTx/>
                <a:latin typeface="Gill Sans MT"/>
              </a:rPr>
              <a:t>- المبيع المعين بالنوع : </a:t>
            </a:r>
            <a:r>
              <a:rPr b="1" lang="ar-SA" sz="2600" spc="-1" strike="noStrike">
                <a:solidFill>
                  <a:srgbClr val="003e56"/>
                </a:solidFill>
                <a:latin typeface="Gill Sans MT"/>
              </a:rPr>
              <a:t>فهو يكون عادةً في المثليات التي تتشابه آحادها وصفاتها , ويقوم بعضها مقام البعض بالوفاء , كالسكر و القمح و الشعير و نحوها , ويكون تعيينها ببيان نوعها ومقدار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ولا تنتقل المُلكية فيه إلا بإفرازه حتى يعرف ويتميز عن غيره بنحو مستقل فيصبح معينا بالذات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188640"/>
            <a:ext cx="7407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شرط احتفاظ البائع بمُلكية المبيع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42560" y="836280"/>
            <a:ext cx="7921800" cy="583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ستثنى القانون من حكم انتقال مُلكية المبيع بمجرد العقد </a:t>
            </a: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حالة تعليق انتقال المُلكية باتفاق الطرفين على أداء جميع الثمن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1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- </a:t>
            </a: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يجوز للبائع إذا كان الثمن مؤجلاً أو مقسطاً أن يشترط تعليق نقل المُلكية إلى المشتري حتى يؤدي جميع الثمن , ولو تم تسليم المبي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2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- </a:t>
            </a: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إذا تم استيفاء الثمن تعتبر مُلكية المشتري مستندة إلى وقت البيع باثر رجعي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وسبب استثناء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هذه الحالة : </a:t>
            </a: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مراعاة ما يلجأ إليه التجار في بيع بعض الأشياء كالسيارات والثلاجات وأجهزة الإذاعة المرئية , وغير المرئية لمتوسطي الدخل , </a:t>
            </a: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ويحتاج البائع إلى ضمان حقه في استيفاء كامل الثمن إلى اشتراط بقاء مُلكية المبيع له , حتى يسدد الثمن كله وتستوفي جميع الأقساط ,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 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فلا تنتقل المُلكية إلى المشتري إلا بعد أداء جميع الثمن أو كامل الأقساط , حتى ولو تم تسليم المبيع إلى المشتري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92180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Gill Sans MT"/>
              </a:rPr>
              <a:t>وفائدة البائع تظهر:  </a:t>
            </a: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في تمكنه من حجز المبيع واسترداده عند الإخلال بدفع الثمن أو أداء الأقساط في مواعيدها , دون أن يزاحمه دائنو المشتري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Gill Sans MT"/>
              </a:rPr>
              <a:t>فإن تم وفاء جميع الثمن , انتقلت مُلكية المبيع إلى المشتري مستندة بأثر رجعي إلى وقت البيع </a:t>
            </a:r>
            <a:r>
              <a:rPr b="1" lang="ar-SA" sz="26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030a0"/>
                </a:solidFill>
                <a:latin typeface="Gill Sans MT"/>
              </a:rPr>
              <a:t>ويترتب على عدم وفاء المشتري للثمن نتائج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Gill Sans MT"/>
              </a:rPr>
              <a:t>** للبائع الحق في طلب اعتبار العقد مفسوخاً حكماً , لعدم وفاء المشتري بالثم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** على البائع رد ما قبضه من الثمن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Gill Sans MT"/>
              </a:rPr>
              <a:t>** يحق له اشتراط عدم رد ما قبض من الثمن الى المشتري او الاقساط المدفوعة كشرط جزائي </a:t>
            </a:r>
            <a:r>
              <a:rPr b="1" lang="ar-SA" sz="2600" spc="-1" strike="noStrike">
                <a:solidFill>
                  <a:srgbClr val="7030a0"/>
                </a:solidFill>
                <a:latin typeface="Gill Sans MT"/>
              </a:rPr>
              <a:t>؛ </a:t>
            </a:r>
            <a:r>
              <a:rPr b="1" lang="ar-SA" sz="2600" spc="-1" strike="noStrike" u="sng">
                <a:solidFill>
                  <a:srgbClr val="0070c0"/>
                </a:solidFill>
                <a:uFillTx/>
                <a:latin typeface="Gill Sans MT"/>
              </a:rPr>
              <a:t>باعتبارها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00000"/>
                </a:solidFill>
                <a:latin typeface="Gill Sans MT"/>
              </a:rPr>
              <a:t>تعويضا له عن الفسخ ،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00000"/>
                </a:solidFill>
                <a:latin typeface="Gill Sans MT"/>
              </a:rPr>
              <a:t>-وفي مقابل استعمال المشتري للمبيع خلال تلك الفترة 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b050"/>
                </a:solidFill>
                <a:uFillTx/>
                <a:latin typeface="Gill Sans MT"/>
              </a:rPr>
              <a:t>و الشرط الجزائي : </a:t>
            </a:r>
            <a:r>
              <a:rPr b="1" lang="ar-SA" sz="2600" spc="-1" strike="noStrike">
                <a:solidFill>
                  <a:srgbClr val="0070c0"/>
                </a:solidFill>
                <a:latin typeface="Gill Sans MT"/>
              </a:rPr>
              <a:t>يشمل التعهد بضمان المالي جزاء للنكول أو للتأخر عن تنفيذ الالتزام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5640" y="1628640"/>
            <a:ext cx="7497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عمل الطالبات 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:</a:t>
            </a:r>
            <a:br>
              <a:rPr sz="3900"/>
            </a:b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الجازي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 الحماد </a:t>
            </a:r>
            <a:br>
              <a:rPr sz="3900"/>
            </a:b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نورة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 السياري </a:t>
            </a:r>
            <a:br>
              <a:rPr sz="3900"/>
            </a:b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طيف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 البادي 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7:51:40Z</dcterms:created>
  <dc:creator>user</dc:creator>
  <dc:description/>
  <dc:language>en-US</dc:language>
  <cp:lastModifiedBy>Eiman shloul</cp:lastModifiedBy>
  <dcterms:modified xsi:type="dcterms:W3CDTF">2016-11-03T08:02:54Z</dcterms:modified>
  <cp:revision>27</cp:revision>
  <dc:subject/>
  <dc:title>آثار البيع</dc:title>
</cp:coreProperties>
</file>