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65B-7D36-4A31-8BFE-9465F163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1D3-04F9-4B64-BBE3-44E7DCA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28C-9EF6-4EFE-B466-95378695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8D4-58E8-44F9-9168-93FC4BB8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A131-18EA-40C6-9BE5-DF37418C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8C75-12F6-49FD-A64D-0276A215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CD23-908D-45B6-9DE8-CB687CBF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0E97-85F6-4856-A375-ACC61841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5C0-1041-467E-A6C9-91EE09CD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A7B7-01E6-4100-9698-9CAD72D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2C8-B407-4143-9E9F-0491A14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911-5B2D-45F2-8FB7-4DD9F24D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727-51BA-4C1C-B573-36A2CA2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AF7A-AE1F-4C7F-B11F-DE302227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979B-735C-49BB-B62B-EDC6807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9809-2A51-42DF-A97C-967C1D2A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0824-EDA9-40E0-9102-201D9C98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CAE7-533A-424D-9E7A-A02526BD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8D32-297D-4D74-AA49-124DEFB9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ED304-C29B-4BA8-A4F7-FF1A988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632E-9A90-4751-8677-B93116F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9CFB-68E7-41E8-936E-68298E5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888-7C82-4046-AFDE-4AFFAF2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599D-1841-4F35-B10A-6489329C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31BE-448F-48DE-B7D2-7E17933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CF4E-95B1-4321-8740-52114C0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A24A-9C96-4530-B977-30DBA38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AA43-CAED-4557-BC11-18075F01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2556-C45C-49FD-9EC9-C82DE3F2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AA74-EC56-4EBB-8177-10DC72AE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6E20-C233-4221-ACE7-4F146CB3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502C-6C47-452A-9AF2-4757D4D3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B0D27-D437-4B64-8B2C-E45D983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E16-3353-431E-8BF5-0E4620B6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C0C0-4817-493D-9EA6-46F6BFE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FBB7-9189-406A-B03A-34764C61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4A73-2488-440B-A19B-A635DD32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94AA-7CB7-4ED4-AB0F-075C42F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F14CF-3C15-4C72-B365-54EC897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807F-8F55-48F0-913C-E042A40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1DCA-B315-4542-81A5-C74FD349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1CB7-69E2-4C2D-938F-E6797F2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888D-8169-4908-826C-C9E9C367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A284-864A-4CF7-8BDB-59DFB53B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8A7-612F-4815-AD58-690194A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BCA1-B1EE-42E1-A9E2-9FE519C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70C3-756A-4647-8A0B-36F0E156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065D-D814-471E-A124-A7CBF79C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F211-F2A5-4AEB-95D2-01C1AC4C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CBF6-7BE6-4F9F-BE9F-2E674AF8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35B4-EF05-4B92-A432-64D43F02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8E96-BEB3-4281-8AD7-7997F2E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77A7C-1F9C-40B2-99F5-740BF92F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5F53A-074F-41B1-8E62-BB3A141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44C5-8CB5-4C0D-8D61-67F06042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1BA-A001-4D3B-B07D-DBBA4A6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9444-E71B-4E61-A085-5ECAD77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1C339-68C2-44B1-909C-6C6709CE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CF2D-B2FA-4D86-9BD6-83C394C3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2F58-AC52-439B-8B17-2481667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F7A8C-668C-4F5E-BC01-B62EA9C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866F3-54EB-47BD-A9E9-3DE8517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936C-2FAC-49E8-BECA-F733E37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8856-DDA6-4E67-8A3C-0F917F96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4F2A3-1FF6-4D47-8AFA-BABDFA6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A287-B6D1-4A39-B715-BFEE2C43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A8-74A6-41C6-A0CB-87AC555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322C-E7B6-4FE3-9D57-9CDAC28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F6C6-C88C-47E1-9ECB-FF9A1079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7C66A-2650-4755-B71C-14D659A0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8A2D-09D7-45AC-A110-8FC3C4FA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CA07F-8979-434D-BE52-42FE5F7A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9162-05EF-4E89-960B-7C417853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DEC8-E2A3-4EAA-84BC-7033CAFF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D3645-5AC5-4704-8C9E-962ED24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E5374-22B7-43F9-AB24-C1E7E34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90C25-4BB8-4020-B1C7-A95ECA1B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9B9-8CC1-4403-A0D6-371C7F6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CB30-85E1-40C0-94CB-77CD020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2583F-2798-4464-8170-DE8025E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CF32-DE92-456C-9003-DF7CC31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C442-964C-4665-9027-BE97AF05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6480-CD54-4741-A07A-8B26AF42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CFE-C4D3-4525-8B49-2B84200B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05A7-76C4-4C0A-9E5E-F860B8921C81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شكل بيضاوي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2377-E32B-4182-B8A5-8C6BC66670CA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شكل بيضاوي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9EB-6DA0-4D9E-BB15-FD952BF9076C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BB37-E5F5-445A-A4CD-5031319A9DB9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22A-DCDB-41FA-95AC-885E8F59CEFB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CE17-6839-4AF6-9D8B-CA25D650D844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مستطيل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BF9F-BE2D-4198-B5AA-9A9F2D82BFBE}" type="slidenum">
              <a:rPr b="0" lang="ar-SA" sz="1200" spc="-1" strike="noStrike">
                <a:solidFill>
                  <a:srgbClr val="95bcc2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188640"/>
            <a:ext cx="7407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6b8d"/>
                </a:solidFill>
                <a:latin typeface="Gill Sans MT"/>
              </a:rPr>
              <a:t>آثار البيع </a:t>
            </a:r>
            <a:endParaRPr b="0" lang="en-US" sz="4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042560" y="765000"/>
            <a:ext cx="7921800" cy="590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لكل عقد آثار تترتب عليه بعد انعقاده وتوافر شروطه , وبما أن عقد البيع من عقود المعاوضة , وأنه عقد ملزم للجانبين , فإن آثاره تتوزع بين العاقدين : البائع و المشتري , وتعرف هذه الآثار في القانون بالالتزامات , </a:t>
            </a:r>
            <a:r>
              <a:rPr b="1" i="1" lang="ar-SA" sz="2800" spc="-1" strike="noStrike">
                <a:solidFill>
                  <a:srgbClr val="003e56"/>
                </a:solidFill>
                <a:latin typeface="Gill Sans MT"/>
              </a:rPr>
              <a:t>وتنشأ عن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عقد البيع عدة التزامات متقابلة , بعضها على البائع , و بعضها على المشتري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فإذا امتنع أحد المتعاقدين عن تنفيذ أحد التزاماته , جاز للآخر فسخ العقد , أو حبس المبيع أو حبس الثمن , و قد ينشأ لأحدهما امتياز معين يمكنه من الحصول على حقه عيناً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وفي هذا المبحث مطلبان 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لأول : التزامات البائع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لثاني : التزامات المشتر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006b8d"/>
                </a:solidFill>
                <a:latin typeface="Gill Sans MT"/>
              </a:rPr>
              <a:t>التزامات البائع </a:t>
            </a:r>
            <a:endParaRPr b="0" lang="en-US" sz="4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7407360" cy="410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e56"/>
                </a:solidFill>
                <a:latin typeface="Gill Sans MT"/>
              </a:rPr>
              <a:t>نص القانون الاماراتي على التزامات البائع وهي أربعة 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نقل المُلكية إلى المشتر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تسليم المبيع إلى المشتر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الالتزام بضمان التعرض و الاستحقاق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Gill Sans MT"/>
              </a:rPr>
              <a:t>- الالتزام بضمان العيوب الخفية 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b8d"/>
                </a:solidFill>
                <a:latin typeface="Gill Sans MT"/>
              </a:rPr>
              <a:t>أولاً : </a:t>
            </a:r>
            <a:r>
              <a:rPr b="1" lang="ar-SA" sz="6000" spc="-1" strike="noStrike">
                <a:solidFill>
                  <a:srgbClr val="006b8d"/>
                </a:solidFill>
                <a:latin typeface="Gill Sans MT"/>
              </a:rPr>
              <a:t>نقل المُلكية </a:t>
            </a:r>
            <a:endParaRPr b="0" lang="en-US" sz="60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عتبر القانون نقل مُلكية المبيع إلى المشتري أول التزامات البائع . والأدق في التعبير هو ما عليه الفقه الإسلامي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باتفاق مذاهبه الذي يجعل انتقال المُلكية أثراً تلقائياً بمجرد العقد , فهو الحكم الأصلي أو الأثر الجوهري المقصود للبيع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, وأنه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ينتج أثره مباشرة بمجرد التعاقد بحكم الشرع , وعند انتهاء الإيجاب و القبول فوراً إذا كان البيع باتاً لا خيار في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والأثر المترتب على البيع هو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1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 ثبوت الملك في المبيع للمشتر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2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- ثبوت الملك في الثمن للبائع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أي أن مُلكية المبيع تنتقل بمجرد العقد , سواء كان البيع تقديراً أو جزافاً , و سواء كان مُعيناً بنوعه أو بذاته , و سواء كان منقولاً أو عقاراً أو حقاً مالياً آخر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وهنا يجب علينا الإشارة إلى التعاريف الآتية 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b050"/>
                </a:solidFill>
                <a:uFillTx/>
                <a:latin typeface="Gill Sans MT"/>
              </a:rPr>
              <a:t>المبيع المعين بالذات : </a:t>
            </a: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هو الذي يتم تعيينه بخصائصه و صفاته المميزة له , وهو إما منقول و إما عقار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- فالمنقول او المال القيمي :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ما تفاوت احاده وتختلف اجزاؤه ولا يقوم بعضها مقام البعض بعض في الوفاء ؛ كالسلع و الأمتعة 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وتنتقل المُلكية فيه فور العقد مباشرة من البائع إلى المشتري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-والعقار :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هو الثابت في حيزه لا يمكن نزعه منه بلا ضرر </a:t>
            </a:r>
            <a:r>
              <a:rPr b="1" lang="ar-SA" sz="2400" spc="-1" strike="noStrike">
                <a:solidFill>
                  <a:srgbClr val="7030a0"/>
                </a:solidFill>
                <a:latin typeface="Gill Sans MT"/>
              </a:rPr>
              <a:t>كالأرض و الدا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تنتقل فيه الملكية أيضاً بمجرد تمام العقد 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ill Sans MT"/>
              </a:rPr>
              <a:t>ويجب على المتعاقدين تنفيذ التزاماتهما الا ما كان منها مؤجلا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ولا مانع فقهاً من قبيل السياسة الشرعية أو المصلحة العامة التي يراها الحاكم للناس أن </a:t>
            </a:r>
            <a:r>
              <a:rPr b="1" lang="ar-SA" sz="2400" spc="-1" strike="noStrike">
                <a:solidFill>
                  <a:srgbClr val="00b050"/>
                </a:solidFill>
                <a:latin typeface="Gill Sans MT"/>
              </a:rPr>
              <a:t>يتوقف نقل مُلكية العقار على التسجيل الرسمي في السجلات العقارية المنظمة حديثاً </a:t>
            </a: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e56"/>
                </a:solidFill>
                <a:latin typeface="Gill Sans MT"/>
              </a:rPr>
              <a:t>لذا جاء في القانون الاماراتي :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لا تنتقل مُلكية العقار ولا الحقوق العينية العقارية الأُخرى بين المتعاقدين وفي حق الغير إلا بالتسجيل وفقاً لأحكام القوانين الخاصة به 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16000" y="189000"/>
            <a:ext cx="784872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Gill Sans MT"/>
              </a:rPr>
              <a:t>فعقد البيع رضائيا ينعقد بتوافر الايجاب مع القبول وينتج اثاره ، لكن الملكية في العقار لا تنتقل الى المشتري الا بعد تنفيذ البائع لالتزامه بتسجيل البيع في السجل العقاري والا يسأل في مواجهة المشتري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b050"/>
                </a:solidFill>
                <a:uFillTx/>
                <a:latin typeface="Gill Sans MT"/>
              </a:rPr>
              <a:t>- المبيع المنقول جزافاً :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هو بيع الأشياء المقدرة جُملة بلا تقدير , وبثمن محدد جُملة , كبيع كمية سكر جُملة بملغ إجمالي من المال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وتنتقل المُلكية فيه بمجرد تمام العقد وتمام الإيجاب والقبول كما تنتقل مُلكية المبيع المعين بذاته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b050"/>
                </a:solidFill>
                <a:uFillTx/>
                <a:latin typeface="Gill Sans MT"/>
              </a:rPr>
              <a:t>- المبيع المعين بالنوع :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فهو يكون عادةً في المثليات التي تتشابه آحادها وصفاتها , ويقوم بعضها مقام البعض بالوفاء , كالسكر و القمح و الشعير و نحوها , ويكون تعيينها ببيان نوعها ومقدارها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ولا تنتقل المُلكية فيه إلا بإفرازه حتى يعرف ويتميز عن غيره بنحو مستقل فيصبح معينا بالذات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188640"/>
            <a:ext cx="7407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شرط احتفاظ البائع بمُلكية المبيع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42560" y="836280"/>
            <a:ext cx="7921800" cy="583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استثنى القانون من حكم انتقال مُلكية المبيع بمجرد العقد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حالة تعليق انتقال المُلكية باتفاق الطرفين على أداء جميع الثمن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1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-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يجوز للبائع إذا كان الثمن مؤجلاً أو مقسطاً أن يشترط تعليق نقل المُلكية إلى المشتري حتى يؤدي جميع الثمن , ولو تم تسليم المبيع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2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- </a:t>
            </a:r>
            <a:r>
              <a:rPr b="1" lang="ar-SA" sz="2800" spc="-1" strike="noStrike">
                <a:solidFill>
                  <a:srgbClr val="7030a0"/>
                </a:solidFill>
                <a:latin typeface="Gill Sans MT"/>
              </a:rPr>
              <a:t>إذا تم استيفاء الثمن تعتبر مُلكية المشتري مستندة إلى وقت البيع باثر رجعي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وسبب استثناء 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هذه الحالة : </a:t>
            </a: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مراعاة ما يلجأ إليه التجار في بيع بعض الأشياء كالسيارات والثلاجات وأجهزة الإذاعة المرئية , وغير المرئية لمتوسطي الدخل , </a:t>
            </a:r>
            <a:r>
              <a:rPr b="1" lang="ar-SA" sz="2800" spc="-1" strike="noStrike">
                <a:solidFill>
                  <a:srgbClr val="0070c0"/>
                </a:solidFill>
                <a:latin typeface="Gill Sans MT"/>
              </a:rPr>
              <a:t>ويحتاج البائع إلى ضمان حقه في استيفاء كامل الثمن إلى اشتراط بقاء مُلكية المبيع له , حتى يسدد الثمن كله وتستوفي جميع الأقساط ,</a:t>
            </a:r>
            <a:r>
              <a:rPr b="1" lang="ar-SA" sz="2800" spc="-1" strike="noStrike">
                <a:solidFill>
                  <a:srgbClr val="003e56"/>
                </a:solidFill>
                <a:latin typeface="Gill Sans MT"/>
              </a:rPr>
              <a:t> </a:t>
            </a:r>
            <a:r>
              <a:rPr b="1" lang="ar-SA" sz="2800" spc="-1" strike="noStrike">
                <a:solidFill>
                  <a:srgbClr val="00b050"/>
                </a:solidFill>
                <a:latin typeface="Gill Sans MT"/>
              </a:rPr>
              <a:t>فلا تنتقل المُلكية إلى المشتري إلا بعد أداء جميع الثمن أو كامل الأقساط , حتى ولو تم تسليم المبيع إلى المشتري 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92180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وفائدة البائع تظهر:  </a:t>
            </a: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في تمكنه من حجز المبيع واسترداده عند الإخلال بدفع الثمن أو أداء الأقساط في مواعيدها , دون أن يزاحمه دائنو المشتري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Gill Sans MT"/>
              </a:rPr>
              <a:t>فإن تم وفاء جميع الثمن , انتقلت مُلكية المبيع إلى المشتري مستندة بأثر رجعي إلى وقت البيع </a:t>
            </a:r>
            <a:r>
              <a:rPr b="1" lang="ar-SA" sz="2600" spc="-1" strike="noStrike">
                <a:solidFill>
                  <a:srgbClr val="003e56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Gill Sans MT"/>
              </a:rPr>
              <a:t>ويترتب على عدم وفاء المشتري للثمن نتائج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** للبائع الحق في طلب اعتبار العقد مفسوخاً حكماً , لعدم وفاء المشتري بالثم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Gill Sans MT"/>
              </a:rPr>
              <a:t>** على البائع رد ما قبضه من الثمن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Gill Sans MT"/>
              </a:rPr>
              <a:t>** يحق له اشتراط عدم رد ما قبض من الثمن الى المشتري او الاقساط المدفوعة كشرط جزائي </a:t>
            </a:r>
            <a:r>
              <a:rPr b="1" lang="ar-SA" sz="2600" spc="-1" strike="noStrike">
                <a:solidFill>
                  <a:srgbClr val="7030a0"/>
                </a:solidFill>
                <a:latin typeface="Gill Sans MT"/>
              </a:rPr>
              <a:t>؛ </a:t>
            </a:r>
            <a:r>
              <a:rPr b="1" lang="ar-SA" sz="2600" spc="-1" strike="noStrike" u="sng">
                <a:solidFill>
                  <a:srgbClr val="0070c0"/>
                </a:solidFill>
                <a:uFillTx/>
                <a:latin typeface="Gill Sans MT"/>
              </a:rPr>
              <a:t>باعتبارها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00000"/>
                </a:solidFill>
                <a:latin typeface="Gill Sans MT"/>
              </a:rPr>
              <a:t>تعويضا له عن الفسخ ،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00000"/>
                </a:solidFill>
                <a:latin typeface="Gill Sans MT"/>
              </a:rPr>
              <a:t>-وفي مقابل استعمال المشتري للمبيع خلال تلك الفترة 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b050"/>
                </a:solidFill>
                <a:uFillTx/>
                <a:latin typeface="Gill Sans MT"/>
              </a:rPr>
              <a:t>و الشرط الجزائي : </a:t>
            </a:r>
            <a:r>
              <a:rPr b="1" lang="ar-SA" sz="2600" spc="-1" strike="noStrike">
                <a:solidFill>
                  <a:srgbClr val="0070c0"/>
                </a:solidFill>
                <a:latin typeface="Gill Sans MT"/>
              </a:rPr>
              <a:t>يشمل التعهد بضمان المالي جزاء للنكول أو للتأخر عن تنفيذ الالتزام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1628640"/>
            <a:ext cx="7497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عمل الطالبات 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: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الجازي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حماد 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نورة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سياري </a:t>
            </a:r>
            <a:br>
              <a:rPr sz="3900"/>
            </a:br>
            <a:r>
              <a:rPr b="1" lang="ar-SA" sz="3900" spc="-1" strike="noStrike">
                <a:solidFill>
                  <a:srgbClr val="006b8d"/>
                </a:solidFill>
                <a:latin typeface="Gill Sans MT"/>
              </a:rPr>
              <a:t>طيف</a:t>
            </a:r>
            <a:r>
              <a:rPr b="0" lang="ar-SA" sz="3900" spc="-1" strike="noStrike">
                <a:solidFill>
                  <a:srgbClr val="006b8d"/>
                </a:solidFill>
                <a:latin typeface="Gill Sans MT"/>
              </a:rPr>
              <a:t> البادي </a:t>
            </a:r>
            <a:endParaRPr b="0" lang="en-US" sz="3900" spc="-1" strike="noStrike">
              <a:solidFill>
                <a:srgbClr val="006b8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7:51:40Z</dcterms:created>
  <dc:creator>user</dc:creator>
  <dc:description/>
  <dc:language>en-US</dc:language>
  <cp:lastModifiedBy>Eiman shloul</cp:lastModifiedBy>
  <dcterms:modified xsi:type="dcterms:W3CDTF">2016-11-03T08:02:54Z</dcterms:modified>
  <cp:revision>27</cp:revision>
  <dc:subject/>
  <dc:title>آثار البيع</dc:title>
</cp:coreProperties>
</file>