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53D7-098C-469E-92A0-AFBE5E12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185C-360B-40E0-8DD3-D2607933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6E38-932E-474F-B27E-6C74FAB7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18D5-594F-4136-A743-0DCAC1C3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B16C-3265-4C2D-A6E5-CF601BDF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3374-D7B1-40A9-9E4C-136AA29A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4E3E-5CF1-4931-BBD1-E934BC0C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CA8F-7012-4456-ABBA-0F8384A1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D2EA-5DCF-488A-91F4-D6E346A2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059D-557B-44A1-8096-87A3A320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11E1-BF40-42E6-997B-F1FA0F8D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FED8-A219-40CE-BA5E-FDB1A698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C555-2BA0-48F6-BF5E-890D056F603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ثار التظهير الناقل للملكية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اعداد الطالب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فيء ناصر الأحم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lang="ar-SA" sz="2700" spc="-1" strike="noStrike">
                <a:solidFill>
                  <a:srgbClr val="1f497d"/>
                </a:solidFill>
                <a:latin typeface="Calibri"/>
              </a:rPr>
              <a:t>اولا: انتقال الحق الثابت في الكمبيالة : </a:t>
            </a:r>
            <a:br>
              <a:rPr sz="2700"/>
            </a:br>
            <a:r>
              <a:rPr b="0" lang="ar-SA" sz="2700" spc="-1" strike="noStrike">
                <a:solidFill>
                  <a:srgbClr val="000000"/>
                </a:solidFill>
                <a:latin typeface="Calibri"/>
              </a:rPr>
              <a:t>يترتب على هذا النوع انتقال جميع الحقوق الناشئة عن الكمبيالة من المظهر الى المظهر إليه , وينتقل الضمانات الخاصة , يتم الانتقال بقوة النظام دون حاجة الى اي اجراء بعكس حوالة الحق المدنية </a:t>
            </a:r>
            <a:br>
              <a:rPr sz="2700"/>
            </a:br>
            <a:br>
              <a:rPr sz="2700"/>
            </a:br>
            <a:r>
              <a:rPr b="1" lang="ar-SA" sz="3100" spc="-1" strike="noStrike">
                <a:solidFill>
                  <a:srgbClr val="1f497d"/>
                </a:solidFill>
                <a:latin typeface="Calibri"/>
              </a:rPr>
              <a:t>ثانيا: التزام المظهر بضمان قبول الكمبيالة والوفاء بها </a:t>
            </a:r>
            <a:br>
              <a:rPr sz="2700"/>
            </a:br>
            <a:r>
              <a:rPr b="0" lang="ar-SA" sz="2700" spc="-1" strike="noStrike">
                <a:solidFill>
                  <a:srgbClr val="000000"/>
                </a:solidFill>
                <a:latin typeface="Calibri"/>
              </a:rPr>
              <a:t>يلتزم المظهر التزاما صرفيا جديدا ومستقلا بضمان قبول الكمبيالة والوفاء به في ميعاد الاستحقاق </a:t>
            </a:r>
            <a:br>
              <a:rPr sz="2700"/>
            </a:br>
            <a:r>
              <a:rPr b="0" lang="ar-SA" sz="2700" spc="-1" strike="noStrike">
                <a:solidFill>
                  <a:srgbClr val="000000"/>
                </a:solidFill>
                <a:latin typeface="Calibri"/>
              </a:rPr>
              <a:t>يطالب بالكمبيالة بصفته وكيل عن المظه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1f497d"/>
                </a:solidFill>
                <a:latin typeface="Calibri"/>
              </a:rPr>
              <a:t>ثالثا: التطهير من الدفو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1f497d"/>
                </a:solidFill>
                <a:latin typeface="Calibri"/>
              </a:rPr>
              <a:t>المقصود بها و أهميتها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ن الحق ثابت في الكمبيالة ينتقل من المظهر إليه مطهراً من الاسباب القانونية التي كانت تجيز لأي من الملتزمين الصرفيين السابقين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يعتبر هذا المبدأ من اهم المبادئ التي تنطبق على الالتزام الصرفي لأنه يساعد الاوراق التجارية على ادائه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f497d"/>
                </a:solidFill>
                <a:latin typeface="Calibri"/>
              </a:rPr>
              <a:t>شروط تطبيق قاعدة التطهير من الدفو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2205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أن يكون التظهير ناقلاً للملك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ان يكون حامل الكمبيالة حسن الن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ان لا يكون الحامل طرفا في العلاقة التي نشأ عنها الدف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f497d"/>
                </a:solidFill>
                <a:latin typeface="Calibri"/>
              </a:rPr>
              <a:t>نطاق تطبيق قاعدة التطهير من الدفو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- الدفوع التي يطهرها التظهير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حكمة منها تكون هذه الدفوع غير ظاهرة ولا يعلمها الحامل حسن النية , تتمثل هذه الدفوع فيما يلي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- الدفع بأحد عيوب الرض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ب- الدفوع الناشئة عن عدم مشروعية أو انعدام سبب الالتزام الصرف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ج-الدفوع الناشئة عن فسخ العلاقة الأصلية التي نشأ بسببها الالتزام الصرف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23640" y="836640"/>
            <a:ext cx="866124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- الدفوع التي لا يطهرها التظهي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جوز للمدين أن يتمسك بها لدفع مطالبة الحامل ولو كان حسن النية . وتكون هذه الدفوع كالاتي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- الدفوع الناشئة عن نقص أحد بيانات الالزامية للكمبيال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ب- الدفع الناشئ من احد البيانات الاختيارية الموجودة في الكمبيال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ج- الدفع بنقص أو انعدام أهلية المدي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د- دفع المدين بتزوير توقيعه المنشئ لالتزامه الصرف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هـ- الدفع الناشئ عن انتفاء سلطة التوقيع على الكمبيالة أو تجاوزه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- الدفوع الناشئة من العلاقة الشخصية بين الحامل و المدي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5T15:27:10Z</dcterms:created>
  <dc:creator>Ienovo</dc:creator>
  <dc:description/>
  <dc:language>en-US</dc:language>
  <cp:lastModifiedBy>eman</cp:lastModifiedBy>
  <dcterms:modified xsi:type="dcterms:W3CDTF">2016-10-08T11:29:28Z</dcterms:modified>
  <cp:revision>3</cp:revision>
  <dc:subject/>
  <dc:title>اثار التظهير الناقل للملكية</dc:title>
</cp:coreProperties>
</file>