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B11-55C6-47E2-A1D7-5A049E12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B1A-CDAC-484C-B492-E15E752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35E-D149-44DC-9D41-1DB80AAF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CFF-13DB-407B-98A3-D4D2BF30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379-70A4-4E11-9B69-8F2660CF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676-F5AA-4593-9B0E-123AF3E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67F-B6C4-48A4-86A3-9565EDA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98C-4172-4067-94A1-E4A1D324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BDE-4528-485B-86DC-E8142246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CD2-B6F3-4579-A5BD-A9EDAE7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494-6BC7-4414-8361-E6F578C1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D96-218B-4FFB-91B3-80F2D36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A5CB-0FC5-45E6-BFEE-725D2C96D6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ثار التظهير الناقل للملكية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عداد الطالب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فيء ناصر الأحم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ar-SA" sz="2700" spc="-1" strike="noStrike">
                <a:solidFill>
                  <a:srgbClr val="1f497d"/>
                </a:solidFill>
                <a:latin typeface="Calibri"/>
              </a:rPr>
              <a:t>اولا: انتقال الحق الثابت في الكمبيالة : </a:t>
            </a:r>
            <a:br>
              <a:rPr sz="2700"/>
            </a:b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ترتب على هذا النوع انتقال جميع الحقوق الناشئة عن الكمبيالة من المظهر الى المظهر إليه , وينتقل الضمانات الخاصة , يتم الانتقال بقوة النظام دون حاجة الى اي اجراء بعكس حوالة الحق المدنية </a:t>
            </a:r>
            <a:br>
              <a:rPr sz="2700"/>
            </a:br>
            <a:br>
              <a:rPr sz="2700"/>
            </a:br>
            <a:r>
              <a:rPr b="1" lang="ar-SA" sz="3100" spc="-1" strike="noStrike">
                <a:solidFill>
                  <a:srgbClr val="1f497d"/>
                </a:solidFill>
                <a:latin typeface="Calibri"/>
              </a:rPr>
              <a:t>ثانيا: التزام المظهر بضمان قبول الكمبيالة والوفاء بها </a:t>
            </a:r>
            <a:br>
              <a:rPr sz="2700"/>
            </a:b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لتزم المظهر التزاما صرفيا جديدا ومستقلا بضمان قبول الكمبيالة والوفاء به في ميعاد الاستحقاق </a:t>
            </a:r>
            <a:br>
              <a:rPr sz="2700"/>
            </a:b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طالب بالكمبيالة بصفته وكيل عن المظه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ثالثا: التطهير من الدفو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المقصود بها و أهميتها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 الحق ثابت في الكمبيالة ينتقل من المظهر إليه مطهراً من الاسباب القانونية التي كانت تجيز لأي من الملتزمين الصرفيين السابق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عتبر هذا المبدأ من اهم المبادئ التي تنطبق على الالتزام الصرفي لأنه يساعد الاوراق التجارية على ادائ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f497d"/>
                </a:solidFill>
                <a:latin typeface="Calibri"/>
              </a:rPr>
              <a:t>شروط تطبيق قاعدة التطهير من الدفو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205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 يكون التظهير ناقلاً للملك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ن يكون حامل الكمبيالة حسن الن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ن لا يكون الحامل طرفا في العلاقة التي نشأ عنها الدف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f497d"/>
                </a:solidFill>
                <a:latin typeface="Calibri"/>
              </a:rPr>
              <a:t>نطاق تطبيق قاعدة التطهير من الدفو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الدفوع التي يطهرها التظهير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كمة منها تكون هذه الدفوع غير ظاهرة ولا يعلمها الحامل حسن النية , تتمثل هذه الدفوع فيما يلي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- الدفع بأحد عيوب الرض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- الدفوع الناشئة عن عدم مشروعية أو انعدام سبب الالتزام الصر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-الدفوع الناشئة عن فسخ العلاقة الأصلية التي نشأ بسببها الالتزام الصر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23640" y="836640"/>
            <a:ext cx="86612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الدفوع التي لا يطهرها التظهي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وز للمدين أن يتمسك بها لدفع مطالبة الحامل ولو كان حسن النية . وتكون هذه الدفوع كالات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- الدفوع الناشئة عن نقص أحد بيانات الالزامية للكمبيا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- الدفع الناشئ من احد البيانات الاختيارية الموجودة في الكمبيال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- الدفع بنقص أو انعدام أهلية المدي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- دفع المدين بتزوير توقيعه المنشئ لالتزامه الصر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ـ- الدفع الناشئ عن انتفاء سلطة التوقيع على الكمبيالة أو تجاوز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- الدفوع الناشئة من العلاقة الشخصية بين الحامل و المدي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5:27:10Z</dcterms:created>
  <dc:creator>Ienovo</dc:creator>
  <dc:description/>
  <dc:language>en-US</dc:language>
  <cp:lastModifiedBy>eman</cp:lastModifiedBy>
  <dcterms:modified xsi:type="dcterms:W3CDTF">2016-10-08T11:29:28Z</dcterms:modified>
  <cp:revision>3</cp:revision>
  <dc:subject/>
  <dc:title>اثار التظهير الناقل للملكية</dc:title>
</cp:coreProperties>
</file>