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1C1-633A-4953-B62E-BE31C31F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FCF-05EF-46B4-8EB3-B53C2C00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12E-E6CA-4FBC-8A22-8EB127DD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69B-CB65-4242-92D3-7FD90C8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0A6-8D71-47AC-A5A4-F1042439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2D0-EE3F-471D-9DC0-19647EB7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3ECC-78F1-47C0-B090-9C4CD855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3EE1-26C0-49A9-B452-10A3C9F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E65-450F-4B34-8E07-CB39743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B61D-A92B-4E4A-8778-ADA3F22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596-37C8-4C5D-9FBC-5827215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180-5233-4AB8-986B-40F20E1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E025-AB2D-4217-8922-E5150C6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341-9A26-4133-85DA-BB41887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AED1-E305-4043-BEE0-33AA709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BDE8-F300-493F-9F84-54F306C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3FC-09D9-460A-BDF8-FD64130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DB9-BDD2-49A7-A0C5-98E6E2CF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A9E5-5332-43FB-B92A-0C37A343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5FA5-5AA3-4041-94B5-A4BE432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0D93-276C-4714-B844-BC1B966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3868-64BA-4935-B49A-2F9907D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A756-3131-40D6-9BB2-A66F358D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39F6-EE1F-4099-B6F1-F4999BE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8CA-0593-445D-A791-09A88D3E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EF02-5520-48E9-9BFA-E94C2F9F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3E2B-1EC1-4433-A1F2-77170CC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71BB-A0AC-415A-BB17-5B3D423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BB1E-FA8D-4DEF-B374-E41AD7D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8262-3777-4B00-A3E5-23C48BC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F5D4-BC7A-48F7-B662-BE7298F1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8F6A-4069-4F4B-A60B-8E9691FE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58FB-0278-44B4-BFBF-CCCA40E7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588C-F231-4295-A189-167A903D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3614-74A7-481D-9B97-3D0F01C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4E6-45A6-4C02-AB2C-40727EDF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53CE-8E05-4703-867B-7F7E06B0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C173-5D68-465B-A15A-CFA3C77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3F69-867A-463A-ADD5-326C465D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152B-FE04-4C18-96AC-4AC4FE8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E422-3C41-4D38-9B89-5CD977E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2FB0-5CC2-417D-9C96-EC181D5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FF22-7A06-40BE-A38F-2271DAF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C2A8-AD5F-47F0-A080-EEE6EDA3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A3F3-CAD9-44CA-B2FF-2E283912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7EFC-023D-438F-BCD8-E66F525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D54-263B-42D3-B1B0-BEC2EBB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8B661-8E34-49EE-8DCF-DD761ADD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556B-13DC-4F65-9C07-B13B7FD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EAD8-27DC-4713-AA29-A2C17D2B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8299-6509-4C66-9A55-7BA0F10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35C2-5E6C-4B12-984F-0DE547D3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427D-0EFA-49E0-BFEF-324E832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E880-F6E4-4735-ACFE-C830F1F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01FC-D3C7-4F1C-A9D1-EB4AADC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17B6-CF00-40AA-9645-E8E6558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EA78-9913-4C60-B83B-3885262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E9F-9DCA-4274-BC25-2753EFD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17B0-DF15-44E3-A48A-2B34AEA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BB9C4-34BD-45E0-9E3E-1172FD87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6D976-FA58-4886-828B-C7C5F9A1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8D745-847D-4FC1-B032-1DFF271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DEFAB-9470-45BB-A414-B9FD595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21B2A-1814-4499-A721-0CD866A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1EE8B-AFDC-4FCC-880F-539043A8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251B5-F8C7-446C-9542-BF45695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99161-1E30-44DC-B388-D9DE507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6C88E-27BA-482E-8444-00C575D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725-310E-46F0-8577-3B28C29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60085-FC71-4F0B-8150-88FE0F6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18620-9CF6-4C5D-9718-4507655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A362C-0415-424F-A1F9-6F77A4CB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7BA4-9491-464B-BEC2-D782BCD2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C62DC-7EE0-4176-B748-9C588FA8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4C2FA-914A-4DFA-A2FA-7833D4B2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7D9E-47F8-4D48-8198-A8F18AD7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E1B08-E3BA-488B-80B7-16C4F44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65C7D-F77C-4D8B-B044-58517C3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231D-69F2-4F8C-B68E-6229B23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AD9-D624-429F-A144-3A225A6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897A-0DD2-49BB-AF2F-6EADFDC3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9A768-9184-410D-9128-777AA06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E44F7-C113-4FB0-B41F-7C92DD9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7DF6-C988-46F7-8D9A-8C06CF13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DCB1-E120-48B2-BFCB-84C327C5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654-CF9B-4002-A3F6-660B1A7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26C7-6DC9-4A2C-924F-AD6D3644DEE4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47534c"/>
                </a:solidFill>
                <a:latin typeface="Century Gothic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129-62FE-42A0-AF71-985650C4810B}" type="slidenum">
              <a:rPr b="0" lang="ar-SA" sz="2800" spc="-1" strike="noStrike">
                <a:solidFill>
                  <a:srgbClr val="47534c"/>
                </a:solidFill>
                <a:latin typeface="Century Gothic"/>
                <a:ea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5DA1-8D24-4B56-86FE-D87D7FF7A3D5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56D-3D4E-45EF-B75C-E866F29CDCC9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1E6-EA2F-4274-9C50-93B9C19B87D8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D11F-9A6E-459F-BEF7-09B36F374633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2424-F14F-4528-A710-3939E345D15F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تسليم المبيع :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تضمنت المادة (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514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) اماراتي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488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م ) أردني بيان </a:t>
            </a: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التزام البائع بتسليم المبيع الى المشتري مجردا من كل حق اخر ما لم يكن هناك اتفاق أو نص يقضي بغير ذلك , كما يلتزم الملكية الى المشتري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.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و هذا مأخوذ من الذهب الحنفي . 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002060"/>
                </a:solidFill>
                <a:uFillTx/>
                <a:latin typeface="Book Antiqua"/>
              </a:rPr>
              <a:t>معنى التسليم : </a:t>
            </a:r>
            <a:r>
              <a:rPr b="1" lang="ar-SA" sz="1900" spc="-1" strike="noStrike">
                <a:solidFill>
                  <a:srgbClr val="0070c0"/>
                </a:solidFill>
                <a:latin typeface="Book Antiqua"/>
              </a:rPr>
              <a:t>التسليم أو القبض معناه : هو التخلية او التخلي , وهو ان يخلي البائع بين المبيع وبين المشتري , برفع الحائل بينهما على وجه يتمكن المشتري من التصرف فيه , فيجعل البائع مسلما للمبيع , و المشتري قابضا له .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و قد نصت المادة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525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) اماراتي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494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م ) اردني على حالتي التسليم وهما :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c00000"/>
                </a:solidFill>
                <a:uFillTx/>
                <a:latin typeface="Book Antiqua"/>
              </a:rPr>
              <a:t>التسليم بالفعل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, </a:t>
            </a:r>
            <a:r>
              <a:rPr b="1" lang="ar-SA" sz="1900" spc="-1" strike="noStrike" u="sng">
                <a:solidFill>
                  <a:srgbClr val="7030a0"/>
                </a:solidFill>
                <a:uFillTx/>
                <a:latin typeface="Book Antiqua"/>
              </a:rPr>
              <a:t>أو بالتخلية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, </a:t>
            </a:r>
            <a:br>
              <a:rPr sz="1900"/>
            </a:br>
            <a:r>
              <a:rPr b="1" lang="ar-SA" sz="1900" spc="-1" strike="noStrike">
                <a:solidFill>
                  <a:srgbClr val="00b050"/>
                </a:solidFill>
                <a:latin typeface="Book Antiqua"/>
              </a:rPr>
              <a:t>و على أن التسليم يكون في كل شيء حسب طبيعته , ووفقا لما جرى عليه الاتفاق او العرف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, 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002060"/>
                </a:solidFill>
                <a:uFillTx/>
                <a:latin typeface="Book Antiqua"/>
              </a:rPr>
              <a:t>أما التسليم الفعلي او الحقيقي للمبيع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0070c0"/>
                </a:solidFill>
                <a:latin typeface="Book Antiqua"/>
              </a:rPr>
              <a:t>فهو يتم بوضع المبيع فعلا تحت تصرف المشتري بحيث يتمكن من حيازته و الانتفاع به دون عائق , متى اعلمة البائع بذلك . </a:t>
            </a:r>
            <a:br>
              <a:rPr sz="1900"/>
            </a:b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فان كان المبيع عقارا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7030a0"/>
                </a:solidFill>
                <a:latin typeface="Book Antiqua"/>
              </a:rPr>
              <a:t>فيتم تسليمه بإخلائه  و الخروج منه , و اخراج الأثاث و الأمتعة من البيت , و تسليم مفاتيحه الى المشتري , أي أن تسليم العقار يكون بالتخلية بينه و بين المشتري الا دار السكنى فيكون بالتخلية و اخلاء امتعة البائع منها . </a:t>
            </a: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وان كان المبيع منقولا : </a:t>
            </a:r>
            <a:r>
              <a:rPr b="1" lang="ar-SA" sz="1900" spc="-1" strike="noStrike">
                <a:solidFill>
                  <a:srgbClr val="a23a28"/>
                </a:solidFill>
                <a:latin typeface="Book Antiqua"/>
              </a:rPr>
              <a:t>فيتم تسليمه بمناولته للمشتري او بوضعه امامه أو نقله من محل البائع , لتسليمة الى المشتري او نائبه . </a:t>
            </a: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و تسليم المثلي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00b0f0"/>
                </a:solidFill>
                <a:latin typeface="Book Antiqua"/>
              </a:rPr>
              <a:t>يكون بكيله او وزنه او عده , و بتسلم المشتري له بيده او بتفريغه في أوعية . </a:t>
            </a: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هذا وقد بحث فقهاؤنا في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الفقه الاسلامي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حالة نقص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المبيع بعنوان :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تفرق الصفق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وأثبتوا للمشتري ما يسمى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بخيار تفرق الصفق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وهو الحق في قبول المبيع , والحط من الثمن بمقدار النقص , أو فسخ البيع لظهور النقص فيه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لم يقيد الفقه الإسلامي حق المشتري بالفسخ بأن يكون النقص جسيماً , بل يحق له الفسخ مطلقاً , سواء كان النقص جسيماً أو غير جسيم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لكن فرق الفقه بين كون المبيع قابلاً للتبعيض أم لا :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اولا :  فإذا كان المبيع قابلاً للتبعيض ثبت الخيار للمشتري .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ثانيا : وأما إذا كان المبيع غير قابل للتبعيض:</a:t>
            </a:r>
            <a:br>
              <a:rPr sz="2000"/>
            </a:b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أ- فإن كان الثمن قدر جمله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فالمشتري مخير بين إبقاء البيع واستلام المبيع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بكل الثمن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, وبين فسخ العقد.</a:t>
            </a:r>
            <a:br>
              <a:rPr sz="2000"/>
            </a:b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ب- وإن كان الثمن قدر بسعر الوحدة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كان المشتري مخيراً بين فسخ العقد , وبين إبقاء البيع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وإنقاص الثمن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اتفق الفقه والقانون في حالتين : 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وهما إذا كان المبيع قابلاً للتبعيض ، </a:t>
            </a: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وإذا كان المبيع غير قابل للتبعيض 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، </a:t>
            </a: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وقدر الثمن بسعر الوحدة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فيخير المشتري بين الفسخ وبين إبقاء العقد مع الحط من الثمن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اختلف القانون مع الفقه في حالة 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كون المبيع غير قابل للتبعيض ، وكان الثمن مجملاً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-- ففي القانون يخير المشتري بين الفسخ وبين إبقاء العقد مع الحط من الثمن كالسابق ، 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-- وفي الفقه يخير بين الفسخ وبين إبقاء العقد بجميع الثمن.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Book Antiqua"/>
              </a:rPr>
              <a:t>حالة الزيادة :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فرق القانون في حالة ظهور زيادة في المبيع بين كون الثمن مجملاً وبين كونه مفصلاً على حساب الوحدة ، كما فرق بين كون المبيع قابلاً للتبعيض وعدم كونه قابل للتبعيض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أ- إذا كان المبيع لا يضره التبعيض: 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فالزيادة من حق البائع والنقص من حسابه </a:t>
            </a: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، سواء أكان محدداً لكل وحدة قياسية أم لمجموع المبيع ، كشراء المثليات من المكيل أو الموزون كالسكر والأرز والزيت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ب- إذا كان المبيع يضره التبعيض ،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وكان الثمن محدداً على أساس الوحدة القياسية ، فالزيادة من حق البائع يستحق ثمنها , والنقص من حسابه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.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مثل شراء قطعة قماش ثلاثة أمتار ، كل متر بمائة درهم ، ثم يتبين أن قدرها أربعة أمتار ، وهي لا تقبل القسمة  ، لضررها بالبائع أو بالمشتري ، فيلتزم المشتري بدفع ثمن الزيادة إلى البائع بسعر الوحدة المتفق عليه.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فإن بلغت الزيادة حداً جسيماً ، فلا يلزم المشتري بدفع الزيادة ، وإنما يخير بين دفعها أو فسخ العقد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ج- أما إذا كان الثمن المسمى مقدراً جملة لمجموع المبيع ،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Book Antiqua"/>
              </a:rPr>
              <a:t>فالزيادة للمشتري والنقص لا يقابله شيء من الثمن </a:t>
            </a: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, كشراء سجادة ستة أمتار ، بألف درهم , ثم يظهر أنها سبعة أمتار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د- كذلك إذا كان الثمن مقدراً جملة والمبيع لا يضره التبعيض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كشراء صندوق فيها عادة عشرون ظرفاً ، فظهر فيها أكثر من ذلك ،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تكون الزيادة للمشتري </a:t>
            </a: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، أي أن حكم الحالتين الأخيرتين واحد.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والمذكور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في المذهب الحنفي :</a:t>
            </a:r>
            <a:br>
              <a:rPr sz="1800"/>
            </a:b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-- </a:t>
            </a: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أن الزيادة للبائع ، إذا كان الثمن مقدراً بحساب الوحدة ، سواء أكان مما يضره التبعيض أم لا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وتكون الزيادة للبائع : إذا كان الثمن مجملاً والمبيع مما لا يضره التبعيض ،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وهذا حكم يخالف القانون 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، فإذا كان الثمن مجملاً والمبيع مما يضره التبعيض ، فالزيادة للمشتري , ولا خيار للبائع. 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وعند الحنابلة روايتان في حالة تقدير الثمن بالوحدة.</a:t>
            </a: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ما يترتب على تسليم المبيع وعدمه : </a:t>
            </a:r>
            <a:br>
              <a:rPr sz="2400"/>
            </a:br>
            <a:br>
              <a:rPr sz="2400"/>
            </a:br>
            <a:br>
              <a:rPr sz="16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اولا : </a:t>
            </a:r>
            <a:r>
              <a:rPr b="1" lang="ar-SA" sz="2400" spc="-1" strike="noStrike" u="sng">
                <a:solidFill>
                  <a:srgbClr val="404040"/>
                </a:solidFill>
                <a:uFillTx/>
                <a:latin typeface="Book Antiqua"/>
              </a:rPr>
              <a:t>إذا نفذ البائع التزامه بتسليم المبيع : 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**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برئت ذمته , وأدى واجبه ، </a:t>
            </a:r>
            <a:br>
              <a:rPr sz="2400"/>
            </a:br>
            <a:r>
              <a:rPr b="1" lang="ar-SA" sz="2400" spc="-1" strike="noStrike">
                <a:solidFill>
                  <a:srgbClr val="595959"/>
                </a:solidFill>
                <a:latin typeface="Book Antiqua"/>
              </a:rPr>
              <a:t>** واستقرت ملكية المبيع للمشتري ، 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وامتنع على البائع التصرف بالمبيع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إما </a:t>
            </a:r>
            <a:r>
              <a:rPr b="1" lang="ar-SA" sz="2400" spc="-1" strike="noStrike">
                <a:solidFill>
                  <a:srgbClr val="a23a28"/>
                </a:solidFill>
                <a:latin typeface="Book Antiqua"/>
              </a:rPr>
              <a:t>بسبب صحيح كالإرث أو الوصية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, أو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بسبب غير صحيح كالهبة والبيع مرة ثانية.</a:t>
            </a:r>
            <a:br>
              <a:rPr sz="2400"/>
            </a:br>
            <a:r>
              <a:rPr b="1" lang="ar-SA" sz="2400" spc="-1" strike="noStrike">
                <a:solidFill>
                  <a:srgbClr val="002060"/>
                </a:solidFill>
                <a:latin typeface="Book Antiqua"/>
              </a:rPr>
              <a:t>** وتنتقل تبعة هلاك المبيع من البائع إلى المشتري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فيصير كل ما يصيب المبيع من تلف أو هلاك أو تعيب أو نقص أو زيادة على عهدة المشتري وضمانه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896212"/>
                </a:solidFill>
                <a:latin typeface="Book Antiqua"/>
              </a:rPr>
              <a:t>دون أن يكون البائع مسؤولاً عن شيء من ذلك إلا ما يصدر عنه من أفعال مباشرة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ثانيا :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404040"/>
                </a:solidFill>
                <a:uFillTx/>
                <a:latin typeface="Book Antiqua"/>
              </a:rPr>
              <a:t>أما ما يترتب على عدم تسليم المبيع إلى المشتري :</a:t>
            </a: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فهو يختلف بحسب ما إذا كان عدم التسليم مشروعاً أم لا.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 فإن كان عدم التسليم مشروعاً  أي بحق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: كما إذا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قام البائع بحبس المبيع عنده لعدم تسلمه الثمن ، أو لعدم تسلمه القسط المعجل من الثمن أو القسط الأول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فلا مسؤولية على البائع ، كما سنفصل ؛ لأن حبس المبيع حق للبائع.</a:t>
            </a:r>
            <a:br>
              <a:rPr sz="24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** وأما إن كان عدم التسليم بسبب غير مشروع </a:t>
            </a: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فله آثار كثيرة هي محل البحث التالي:</a:t>
            </a: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أولا: حالة امتناع البائع عن التسليم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اذا امتنع البائع عن تسليم المبيع دون سبب مشروع ،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فإنه 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--  يعتبر مخلا في تنفيذ التزامه، 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-- ويبقى في هذه الحالة المبيع تحت عهدته وضمانه ، 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--ويضمن ما قد يتعرض له المبيع من تلف أو هلاك أو تعيب أو غيره.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-- ويقرر الفقه في هذه الحالة أن البائع يجبر على تنفيذ التزامه.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ثانيا: تحمل تبعة هلاك المبيع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** </a:t>
            </a: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الهلاك للمبيع كله أو بعض منه قبل التسليم على البائع إلا إذا كانت بفعل المشتري او بسبب منه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وتكون بعد التسليم على المشتري إلا إذا كانت بفعل البائع أو بسبب منه ،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وقد نصت المواد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31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-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3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إماراتي(م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00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-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20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أردني على هذه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Book Antiqua"/>
              </a:rPr>
              <a:t>الأحكام وتفصيلها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فيما يأتي: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1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كله قبل التسليم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تلف المبيع كله قضاء وقدرا أي بسبب لا علاقة لأحد المتبايعين فيه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 تبعة الهلاك تقع على البائع ، وتهلك من حسابة،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نفسخ العقد ويسترد المشتري ما أداه من الثمن؛ </a:t>
            </a:r>
            <a:r>
              <a:rPr b="1" lang="ar-SA" sz="2200" spc="-1" strike="noStrike">
                <a:solidFill>
                  <a:srgbClr val="896212"/>
                </a:solidFill>
                <a:latin typeface="Book Antiqua"/>
              </a:rPr>
              <a:t>لأن المبيع قبل التسليم في ضمان البائع ‘ وهذا يدل على ربط تبعة الهلاك بتسليمه ووضع اليد عليه ، لا بتمليكه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2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هلاك جزء من المبيع قبل التسليم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إذا تلف بعض المبيع قضاء وقدرا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 تبعة الهلاك تقع على عاتق البائع ‘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خير المشتري إما بفسخ العقد ‘أو أخذ المقدار الباقي حصته من الثمن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‘ </a:t>
            </a:r>
            <a:r>
              <a:rPr b="1" lang="ar-SA" sz="2200" spc="-1" strike="noStrike">
                <a:solidFill>
                  <a:srgbClr val="4e501f"/>
                </a:solidFill>
                <a:latin typeface="Book Antiqua"/>
              </a:rPr>
              <a:t>أي أنقص الثمن بما يتناسب مع الجزء الهالك او نقص القيمة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دون ان يكون له حق في التعويض ، وذلك بسبب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      </a:t>
            </a:r>
            <a:r>
              <a:rPr b="1" lang="ar-SA" sz="2200" spc="-1" strike="noStrike">
                <a:solidFill>
                  <a:srgbClr val="a23a28"/>
                </a:solidFill>
                <a:latin typeface="Book Antiqua"/>
              </a:rPr>
              <a:t>* لأن البائع ملزم بتسليم المبيع كاملا دون تلف او نقص ، فإذا لم يقم به كان مسؤولا عنه ، كحالة الهلاك الكلي </a:t>
            </a: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     </a:t>
            </a:r>
            <a:r>
              <a:rPr b="1" lang="ar-SA" sz="2200" spc="-1" strike="noStrike">
                <a:solidFill>
                  <a:srgbClr val="00b0f0"/>
                </a:solidFill>
                <a:latin typeface="Book Antiqua"/>
              </a:rPr>
              <a:t>* و لأن التلف  أو ا لنقص حدث بقوة قاهرة ،  فلا مجال لتعويض المشتري.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3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قبل التسليم بفعل البائع أو بفعل المشتري:</a:t>
            </a: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اولا : </a:t>
            </a: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إذا هلك المبيع كله قبل التسليم بفعل البائع أو بسببه </a:t>
            </a:r>
            <a:r>
              <a:rPr b="1" lang="ar-SA" sz="2200" spc="-1" strike="noStrike" u="sng">
                <a:solidFill>
                  <a:srgbClr val="6b7d72"/>
                </a:solidFill>
                <a:uFillTx/>
                <a:latin typeface="Book Antiqua"/>
              </a:rPr>
              <a:t>:</a:t>
            </a:r>
            <a:br>
              <a:rPr sz="2200"/>
            </a:br>
            <a:r>
              <a:rPr b="1" lang="ar-SA" sz="2200" spc="-1" strike="noStrike" u="sng">
                <a:solidFill>
                  <a:srgbClr val="002060"/>
                </a:solidFill>
                <a:uFillTx/>
                <a:latin typeface="Book Antiqua"/>
              </a:rPr>
              <a:t>** اذا هلك المبيع كله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ه يهلك على حساب البائع من باب اولى .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نفسخ العقد لعدم القدرة على التسليم ‘ وهذا مأخوذ من مذهبي الحنفية والشافعية.</a:t>
            </a:r>
            <a:br>
              <a:rPr sz="2200"/>
            </a:br>
            <a:r>
              <a:rPr b="1" lang="ar-SA" sz="2200" spc="-1" strike="noStrike" u="sng">
                <a:solidFill>
                  <a:srgbClr val="002060"/>
                </a:solidFill>
                <a:uFillTx/>
                <a:latin typeface="Book Antiqua"/>
              </a:rPr>
              <a:t>** وإذا كان التلف جزئيا :</a:t>
            </a:r>
            <a:br>
              <a:rPr sz="2200"/>
            </a:br>
            <a:r>
              <a:rPr b="1" lang="ar-SA" sz="2200" spc="-1" strike="noStrike">
                <a:solidFill>
                  <a:srgbClr val="00b0f0"/>
                </a:solidFill>
                <a:latin typeface="Book Antiqua"/>
              </a:rPr>
              <a:t>-- تحمل البائع ضمان الجزء الهالك ‘ وسقط مقابله من الثمن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ويخير المشتري في الباقي بين إبقاء البيع وبين فسخه، وإذا كان النقص جسيما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كما تقدم المادة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3/53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 إماراتي. وهذا مأخوذ من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المذهب الحنفي إلا أن هذا المذهب كغيره ويجيز الفسخ في النقص الجسيم واليسير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ثانيا : </a:t>
            </a: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وإذا هلك المبيع كله أو بعضه قبل التسليم بفعل المشتري أو بسببه 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-- فإن المشتري يتحمل تبعة الهلاك 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ويلزم البيع ويلتزم بدفع الثمن .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للبائع الخيار في هذه الحالة ، </a:t>
            </a: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فإذا اختار الفسخ ، ضمن له المشتري المبيع أو قيمته، وتملك ما بقي منه.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وهذا مأخوذ من مذهب الحنيفة أيضا. 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4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قبل التسليم بفعل أجنبي:</a:t>
            </a: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** إذا تف المبيع قبل التسليم بفعل شخص آخر غير المتعاقدين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ثبت الخيار للمشتري بين فسخ العقد وبين إجازته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مطالبة المتلف بضمان مثل المبيع إن كان مثليا ،أو قيمته إن كان قيميا.</a:t>
            </a: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** وإذا وقع الإتلاف على بعض المبيع ‘ كان المشتري مخيرا بين ثلاثة أمور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1</a:t>
            </a: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/فسخ البيع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2</a:t>
            </a: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/اخذ الباقي من حصته من الثمن، وإمضاء البيع.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3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/مطالبة المتلف بضمان ما أتلف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ويلاحظ أن هذه </a:t>
            </a: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التفرقة بين حالتي الهلاك الكلي والجزئي، بتخيير المشتري في الحالة الأولى بين الفسخ و الإجازة ، وفي الحالة الثانية بين الأمور الثلاثة.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مخالفا لما قرره مرشد الحيران من إعطاء الخيار للمشتري بين الفسخ كليا إجازته كليا، وملاحقة التلف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5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- إذا كان هلاك المبيع بعد التسليم او القبض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هنا سكت القانون عن هذه الحالة والمقرر في الفقه الحنفي ما يلي: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أ-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إذا كان هلاك المبيع كله أو بعضه بآفة سماوية او بفعل المشتري أو بفعل المبيع نفسه ، أو بفعل أجنبي :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فلا ينفسخ العقد 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ويكون الهلاك على ضمان المشتري؛ لأن خرج عن ضمان البائع بقبض المشتري، 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يرجع بالضمان على الأجنبي حال كون الاعتداء منه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ب-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إذا هلك المبيع بفعل البائع 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 فإن كان قبض المشتري قد حدث بإذن البائع او بدون اذن ،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لكنه قد نقد او اعطي  الثمن ، او كان الثمن مؤجلا </a:t>
            </a:r>
            <a:r>
              <a:rPr b="1" lang="ar-SA" sz="2400" spc="-1" strike="noStrike" u="sng">
                <a:solidFill>
                  <a:srgbClr val="6b7d72"/>
                </a:solidFill>
                <a:uFillTx/>
                <a:latin typeface="Book Antiqua"/>
              </a:rPr>
              <a:t>: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فيكون هلاكه من البائع كهلاكه من الأجنبي، فعليه ضمان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وإن قبض المشتري المبيع دون إذن البائع ،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والثمن حال وغير معطى للبائع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: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فيتوجب فسخ البيع في الهلاك الكلي وبقدر التلف في الهلاك الجزئي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ويكون البائع باعتدائه مستردا للمبيع ، وعليه ضمانه إن كان التلف كليا، وضمان الجزء التالف إن كان تالف جزئيا.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من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66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إلى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79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إعداد الطالبات: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سلطانه أبوحيمد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غيداء السياري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سارة الثويني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أمل الدباس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نورة الشقاوي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ريما المطيري </a:t>
            </a:r>
            <a:endParaRPr b="0" lang="en-US" sz="1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 اذا كان المبيع حقا من الحقوق المجردة كحق المرور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فيكون تسليمة بتسليم سنده و اوراقه الرسمية كرخصة ممارسته , و بالسماح له باستعمال الحق المبيع و ازالة ما يحول بينه و بين استعماله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و قد نصت المادة (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515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) اماراتي على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وجوب تسليم وثائق ملكية المبيع , ويجبره القاضي على تسليمها , و الا خير المشتري بين رد البيع او امضائه 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 اذا كان المبيع حقا شخصيا كحوالة الحق او حق التأليف و الاختراع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فيكون تسليمة بتسليم سند الحق , و تسليم براءة الاختراع . </a:t>
            </a: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و التخلية :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هي أن يتمكن المشتري من المبيع بلا مانع , أي ان يكون مفرزا و لا حائل , أي في حضرة البائع , مع الاذن له بالقبض .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فلو باع انسان غيره حنطة و قال : خليت بينك و بينها , أي أذنت فهو قبض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 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و التسليم نوعان : اما حقيقي , و اما اعتباري . </a:t>
            </a: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أما الحقيقي فهو ما ذكر ,</a:t>
            </a: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و أما الاعتباري فيتم باتفاق العاقدين او بحكم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اولا : التسليم الاتفاقي :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هو الذي يتم بتراضي المتبايعين على طريقة معينة , فيعتبر المشتري مستلمًا متى حصلت الصورة المتفق عليها ,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كما لو اتفق التبايعان على تعيين مكان التسليم و زمانه , وأنه إذا لم يحضر المشتري للاستلام فيعتبر مستلمًا بحسب هذا الشرط .</a:t>
            </a:r>
            <a:br>
              <a:rPr sz="2400"/>
            </a:b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ثانيا : التسليم القانوني أو الحكمي :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و </a:t>
            </a:r>
            <a:r>
              <a:rPr b="1" lang="ar-SA" sz="2400" spc="-1" strike="noStrike">
                <a:solidFill>
                  <a:srgbClr val="00b0f0"/>
                </a:solidFill>
                <a:latin typeface="Book Antiqua"/>
              </a:rPr>
              <a:t>أن ينص القانون على حالات معينة تعد بمثابة التسليم للمشتري , و هي : </a:t>
            </a:r>
            <a:br>
              <a:rPr sz="2400"/>
            </a:b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-- أن يكون المبيع في حيازة المشتري قبل البيع , سواء كانت حيازته بسبب مشروع أو غير مشروع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إذا أبقى البائع المبيع تحت يده بناء على طلب المشتري , كأن أبقاه لديه وديعه أو رهن .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-- إذا أنذر البائع المشتري ( بدفع الثمن و تسليم المبيع خلال مدة معلومة , وإلا اعتبر مسلمًا ) فلم يفعل , ففي هذه الحالة يعتبر المشتري متسلمًا حكمًا 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إذا تم تسجيل البيع باسم المشتري في السجل العقاري , و في صحيفة العقار , فيعد التسجيل تسليمًا حكمًا للعقار المبيع .</a:t>
            </a:r>
            <a:br>
              <a:rPr sz="2400"/>
            </a:b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-- إذا هلك المبيع في يد البائع قبل التسليم بفعل المشتري أو تسببه , فإنه يعتبر مستلمًا حكمًا , و يلتزم المشتري بالثمن المسمى . وهذه حالات نص عليها الفقه الحنفي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زمان التسليم :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--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قت تسليم المبيع هو وقت البيع ما لم يوجد اتفاق أو نص قانوني يقضي بغير ذلك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أي أنه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متى تم الإيجاب و القبول و أبرم العقد بين الجانبين , وجب على البائع تسليم المبيع فورًا , سواء كان الثمن حالًا أو مؤجلً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 يحق للبائع حبس المبيع عنده إذا كان الثمن حالًا حتى يقوم المشتري بدفع الثمن الحال أو القسط الحال منه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 --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إن وجد اتفاق بين العاقدين بتحديد وقت التسليم في زمن معين فيعمل بموجب اتفاقهما سواء كان الاتفاق صريحًا أو ضمنيً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--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 إن لم يوجد اتفاق في العقد لتأجيل التسليم , يعمل بالعرف إن وجد , أي أن الأصل في زمان تسليم المبيع هو اتفاق الطرفين , و إلا فالعرف , و إلا فيكون فور العقد مباشرة .</a:t>
            </a:r>
            <a:br>
              <a:rPr sz="2000"/>
            </a:br>
            <a:br>
              <a:rPr sz="20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فالاصل في زمان التسليم هو اتفاق الطرفين ، والا فبالعرف والا فيكون فور العقد .</a:t>
            </a:r>
            <a:br>
              <a:rPr sz="24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 و هذا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موافق للمقرر في الفقه الإسلامي , فإن التسليم يقع عقب العقد مباشر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و في رأي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الحنفية أن يبدأ المشتري بدفع الثمن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 في رأي الجمهور يحق للبائع أن يحبس المبيع حتى يستوفي الثمن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 قال الحنابلة : ليس للبائع حبي المبيع لقبض الثمن , و يجبر البائع على التسليم .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      فإذا كان الثمن مؤجلًا , فيجب على البائع المبادرة بتسليم المبيع فور العقد 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لكن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لم يجز الحنفية الاتفاق على تأجيل تسليم المبيع المستحق تسليمه , و مثل هذا الاتفاق شرط فاسد يفسد العقد , وأجاز الحنابلة  تأخير التسليم إذا كان العرف يقتضيه .</a:t>
            </a: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Book Antiqua"/>
              </a:rPr>
              <a:t>مكان التسليم: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١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- يلتزم البائع بتسليم المبيع في محل وجوده وقت العقد. 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٢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- واذا تضمن العقد او اقتضى العرف ارسال المبيع الى المشتري فلا يتم التسليم الا اذا وصل اليه مالم يوجد اتفاق على غير ذلك 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هذه المادة مستقاة من المذهب الحنفي،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مكان تسليم المبيع يكون في محل وجود المبيع وقت العقد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الا اذا وجد اتفاق من المتبايعين على غير ذلك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قرر الفقه الإسلامي ايضاً اعطاء المشتري الخيار اذا كان لا يعلم محل المبيع وقت العقد، ثم علم به بعده ،فله الخيار: ان شاء فسخ البيع ،وان شاء امضاه ،واستلم المبيع حيث كان موجوداً، وذلك دفعا للضرر ،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خاصة اذا وجد المبيع في مكان بعيد يحتاج نفقات لنقله ولو علم بالمكان المشتري لما ابرم العقد فوقع في غلط غير جوهري لكن اثر على رضاه .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اذا تم الاتفاق او اقتضى العرف إرسال المبيع إلى المشتري، ،فيتم التسليم بوصوله إليه في مكان وجوده.</a:t>
            </a:r>
            <a:br>
              <a:rPr sz="2000"/>
            </a:br>
            <a:br>
              <a:rPr sz="20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Book Antiqua"/>
              </a:rPr>
              <a:t>نفقات التسليم:</a:t>
            </a:r>
            <a:br>
              <a:rPr sz="2000"/>
            </a:b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أخذ القانون بالمبدأ العام في الفقه الإسلامي في النفقات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-وهذا يعني  انه بحسب الاصل فأن نفقات تسليم المبيع تكون على البائع، سواء أكان البيع جزافاً أم غيره.ما لم يوجد اتفاق يقضي بغير ذلك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النفقات هنا هي مثل نفقات الارسال والمخالصة والشيك واذن البريد </a:t>
            </a: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مشتملات المبيع: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نصت المادة(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٥١٦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إماراتي (م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٤٨٩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أردني على أنه: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يلتزم البائع بتسليم المبيع للمشتري بالحالة التي كان عليها وقت البيع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ونصت المادة(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٥١٧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إماراتي (م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٤٩٠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أردني بعدها على أنه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شمل التسليم ملحقات المبيع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،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وما اتصل به اتصال قرار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و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ما أعد لاستعماله  بصفة دائم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كل ما جرى العرف به على أنه من توابع المبيع ،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لو لم تذكر في العقد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فالنص الأول يدل على أنه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يجب تسليم المبيع على حالته التي كان عليها وقت البيع؛ لأنها الحالة التي رضي بها المشتري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والنص الثاني يدل على أن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المبيع يشمل ما يأتي: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١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ما يعتبر من أصل المبيع أو من أجزائه التي يتكون منها أو ما يعد كالجزء من المبيع ما لا يقبل الانفكاك عنه: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-- و الشيء الاصلي في المبيع والذي من اجزائه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ف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دخل في المبيع متى أطلق البيع، ما لم يتفق على خلاف ذلك.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-- والذي هو في حكم جزء من المبيع: هو ما لا يقبل الانفكاك عنه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، فيدخل في المبيع المعقود عليه، وإن لم يصرح بذلك في العقد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ففي بيع الدار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دخل الجدران والسقف والغرف والدرج والحديقة وسور الدار ن كان لها سور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في بيع الدابة الحامل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: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دخل جنينه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غنمة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دخل صوفها .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ويدخل المفتاح مع القفل ويدخل الرضيع مع البقرة الحلوب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في بيع السيارة: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تدخل مفاتيحها وعجلاتها ومقاعدها ومصابيحها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2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 الملحقات الضرورية بالمبيع :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ويدخل في المبيع :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بحسب طبيعة الاشياء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 كل ما يلحق به ويعتبر ضروري له حسب طبيعة الانتفاع به ,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بحسب قصد المتعاقدين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 ما يقصد من شرائه ,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وعرف الجهة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عرف البلد 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ففي بيع العقار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وثائق الملكية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سيارة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وثيقة الملكية وأوراقها المتعلقة بها ,وعجلتها الاحتياطية , والرافعة 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ارض الزراعية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سند الملكية 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دار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جرن الجمام والسلم الحديدي للسقيفة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3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 كل ما كان متصلا بالمبيع اتصال قرار :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هي الاشياء المنقولة في اصلها كالبئر وانابيب المياه واسلاك الكهرباء والخزائن المتصلة بالجدران , وتجهيز المطبخ والحمام ، وتزيينات الجدران والغرف .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يدخل في السيارات المثبت فيها بنحو دائم كالمسجلة والمذياع 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نصت المادة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518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إماراتي على انه يدخل في العقد على البناء او الشجرة الارض 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يدخل في بيع الارض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ما فيها من بناء وشجر </a:t>
            </a: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اذا اقتضى شرط او عرف غير ذلك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, وهذا مأخوذ من التقنين المالكي 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a23a28"/>
                </a:solidFill>
                <a:latin typeface="Book Antiqua"/>
              </a:rPr>
              <a:t>والمراد بالعقد في هذه المادة: البيع والرهن والهبة والصدقة والحبس (الوقف). 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لكن بيع الارض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لا يتناول ما عليها من زرع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اذا قضى شرط او جرى عرف خلاف ذلك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(م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519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) اماراتي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بيع الشجر اصالة او تبعا للأرض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يتناول ما عليه من ثمر لم يؤبر , او لم ينعقد كله او اكثره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العقد على الزرع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الذي يؤخذ جذا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لا يتناول الخلفة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( والخلفة هي نبت ينبت بعد النبات الذي يتهشم )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اذا قضى شرط او جرى عرف على خلاف ذلك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4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- كل ما جرى العرف والعادة ببيعة مع المبيع تبعا له :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يدخل ايضا في المبيع كل ما تعارف الناس على الحاق به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،</a:t>
            </a:r>
            <a:br>
              <a:rPr sz="1800"/>
            </a:b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-- ففي بيع الفنادق يدخل الاساس والمفروشات ,</a:t>
            </a:r>
            <a:br>
              <a:rPr sz="1800"/>
            </a:b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-- وفي بيع الدابة للركوب يدخل اللجام ؛ </a:t>
            </a:r>
            <a:br>
              <a:rPr sz="1800"/>
            </a:b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-- وفي بيع حديقة الزيتون تدخل اشجار الزيتون, </a:t>
            </a:r>
            <a:br>
              <a:rPr sz="1800"/>
            </a:br>
            <a:r>
              <a:rPr b="1" lang="ar-SA" sz="1800" spc="-1" strike="noStrike">
                <a:solidFill>
                  <a:srgbClr val="002060"/>
                </a:solidFill>
                <a:latin typeface="Book Antiqua"/>
              </a:rPr>
              <a:t>-- وفي بيع الدار يدخل المطبخ من غير ذكر له عرفا.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5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- حقوق الارتفاق: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يدخل في المبيع جميع مرافق العقارات الثابتة المجاورة دون المنقولة للانتفاع بها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,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كحق الشرب , وحق المسيل, وحق المرور,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Book Antiqua"/>
              </a:rPr>
              <a:t>ولو لم تذكر في العقد في راي الجمهور؛ لأنها تابعة له, </a:t>
            </a: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واشترط الحنفية ان تذكر في العقد , اي ان ينص عليها </a:t>
            </a:r>
            <a:br>
              <a:rPr sz="1800"/>
            </a:b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وماعدا كل ما ذكر لا يدخل في البيع مالم يذكر وقت المبيع , كالصندوق والكرسي والسرير المنفصلات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حالة ظهور النقص او الزيادة في المبيع:</a:t>
            </a:r>
            <a:br>
              <a:rPr sz="16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نصت المادة 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2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 اماراتي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على القواعد التي تطبق في حالة ظهور النقص او الزيادة , مجملها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ان البائع مسؤول عن النقص, وللمشتري حق فسخ البيع لظهور النقص , وان المشتري ملزم بما يقابل الزيادة اذا كان تحديد السعر على اساس الوحدة. </a:t>
            </a:r>
            <a:br>
              <a:rPr sz="1800"/>
            </a:br>
            <a:br>
              <a:rPr sz="1800"/>
            </a:br>
            <a:r>
              <a:rPr b="1" lang="ar-SA" sz="2800" spc="-1" strike="noStrike" u="sng">
                <a:solidFill>
                  <a:srgbClr val="c00000"/>
                </a:solidFill>
                <a:uFillTx/>
                <a:latin typeface="Book Antiqua"/>
              </a:rPr>
              <a:t>حالة النقص:</a:t>
            </a:r>
            <a:br>
              <a:rPr sz="2800"/>
            </a:br>
            <a:br>
              <a:rPr sz="16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لتزم البائع بتسليم المقدار المتفق عليه في العقد , فإن ظهر عجز في المبيع أو نقص عند التسليم , وجب على البائع تكميل النقص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يحق للمشتري في حال عدم تكميل النقص إنقاص الثمن في مقابل النقص أو فسخ البيع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إن كان الشيء مقدراً بالقياس أو الكيل أو الوزن أو الذرع أو العد , سهل حساب النقص , وقدر بنسبة ما نقص من مقدار البيع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إن أورث او تسبب النقص عيباً في المبيع , كان البائع ضامناً التعويض بقدر الضرر كله ,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فمن اشترى قماشاً لغرض معين ثم تبين عدم كفايته لنقصه متراً مثلاً , نقص من الثمن بقدره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يحق للمشتري طلب فسخ البيع لظهور النقص في المبيع , بشروط :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  أن يكون النقص جسيماً غير تافه ,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ويخل النقص في مقصود المشتري ,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 ولم يكن عالماً به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فإذا تسلم المشتري المبيع مع علمه أنه ناقص , سقط حقه في خيار الفسخ المشار إليه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14:16:03Z</dcterms:created>
  <dc:creator>sultana abuhaimed</dc:creator>
  <dc:description/>
  <dc:language>en-US</dc:language>
  <cp:lastModifiedBy>eman</cp:lastModifiedBy>
  <dcterms:modified xsi:type="dcterms:W3CDTF">2016-11-12T11:58:52Z</dcterms:modified>
  <cp:revision>64</cp:revision>
  <dc:subject/>
  <dc:title>التسليم الاتفاقي : هو الذي يتم بتراضي المتبايعين على طريقة معينة , فيعتبر المشتري مستلمًا متى حصلت الصورة المتفق عليها , كما لو اتفق التبايعان على تعيين مكان التسليم و زمانه , وأنه إذا لم يحضر المشتري للاستلام فيعتبر مستلمًا بحسب هذا الشرط . التسليم القانوني أو الحكمي : و أن ينص القانون على حالات معينة تعد بمثابة التسليم للمشتري , و هي :  أن يكون المبيع في حيازة المشتري قبل البيع , سواء كانت حيازته بسبب مشروع أو غير مشروع . إذا أبقى البائع المبيع تحت يده بناء على طلب المشتري , كأن أبقاه لديه وديعه أو رهن . إذا أنذر البائع المشتري ( بدفع الثمن و تسليم المبيع خلال مدة معلومة , وإلا اعتبر مسلمًا ) فلم يفعل , ففي هذه الحالة يعتبر المشتري متسلمًا حكمًا . إذا تم تسجيل البيع باسم المشتري في السجل العقاري , و في صحيفة العقار , فيعد التسجيل تسليمًا حكمًا للعقار المبيع . إذا هلك المبيع في يد البائع قبل التسليم بفعل المشتري أو تسببه , فإنه يعتبر مستلمًا حكمًا , و يلتزم المشتري بالثمن المسمى .</dc:title>
</cp:coreProperties>
</file>