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2900-6DFC-433F-8657-D6788A38E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1E9C-1017-4F3F-8AFB-3B9B12016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593-EF68-455D-B9A8-BCE53974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BC7-404E-4275-B1CC-D231EE93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3608-A540-427C-BA10-45A65B62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9DA7-3D7B-4DD5-9D68-4E8D52D4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D531-AFD8-4501-BB72-705E985C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9947-714A-4949-ADDF-23D788EB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B82E-7C4F-437D-9804-E59D9104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F7AA-E770-40BE-A698-C3EFDFD0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9694-D163-4688-8562-AB11D641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324E-2AB9-46EF-8CDA-C5FD0463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4D6A-707A-4854-8751-524DD20F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9F9-B828-4457-9732-53FDF7F2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1167-8632-430B-BFF5-4510129F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7022-B7D9-45A3-9657-D461C28D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BDB6-0383-4F6D-B19C-C1E25749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FFFA-31E6-4D3F-A254-C40F3B6B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D883-697E-4382-A7CD-E4FF7B1C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4FAA6-CB0B-4B32-BA70-CB759B64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0EDBC-4A27-4ABD-8C70-A82A4E0C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C879-EDB9-4914-BE5A-82278632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DAC02-42E3-4BC9-9C6C-A7BF8C53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C9E8-9BFD-4BD7-9C99-174D4FA9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70A-C15F-4D24-B29D-0E1504E2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020A-DA1C-4D4D-ADB1-735C43AD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45220-6C45-428C-82B1-D2699E9A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C473-8583-47A5-856C-9009FB98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E4962-68B5-4E61-8803-2A4405AA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CD2C3-AA69-436E-996B-EF786ACA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953CF-454B-4AE1-BA29-8F6E91AE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B7373-37F8-4C97-B3ED-F528D66F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1CC5A-4168-4B93-B87E-1CC9A090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08800-D74C-4528-B8A7-C2C99059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1C80B-D4FB-4CD1-8A56-9AE8CF7D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5D4-6402-40AF-9232-7744F861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BA4D7-A78F-4AF1-A862-075CF827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47440-A88B-4FDC-A75B-88559122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6DD1B-355A-46E5-A506-DD9C067C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AB5D0-E073-4EC4-865D-5A55B205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D4CF1-8B2F-4A29-818D-27A49BD4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173D7-F907-4F10-8806-D589ABF0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B4082-1BA7-46D3-9F4E-D5B989F7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4C501-7AC8-4DA7-B023-132CFC76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A0715-FDCD-46E9-A46A-38A5D057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41795-E4A6-4195-8BCB-ABEC6398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4B6-4AAE-46F5-9A24-6209AFB6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AB77D-254B-48CF-98B4-A6BD24C9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F0EEA-45B7-477D-8854-CC0CDC66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AAB7B-246E-4B7C-BFEA-9B19293F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23DEB-F722-4E4C-B46B-4B4A0DC6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1D080-472B-479C-965B-18AD1ED2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108B2-D445-4F05-8B0C-1CD1C3FD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1F586-BBBB-4E06-A287-709FF7D5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9DAA6-E3E9-4FD5-9048-7553CB4C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2468F-89F1-4BB9-A9BB-738BD64E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19862-985E-4107-B325-1EA62143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898-F2C1-405C-B3C6-0B6CDC88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95EE9-C33F-46A1-880E-27C0FAC6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570833-C6B3-4BB5-843D-2051CDB3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F8D5A2-BDA3-4490-9AAB-B0161E3B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A19169-D445-469A-9CBE-617C9DBB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AC4AD-B1BF-4B32-80CA-8AF6DA21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C9E442-F138-43E2-A898-58D97DB6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2F381-0488-4045-B369-C3471B95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344C35-FA63-4D18-90B4-4BF18CF6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DD7482-0B80-4A04-BA8B-25B5C383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925272-9E83-4464-A61F-DC3BBDD8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4F7-A5D6-4A70-84FE-65C7F82A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0F2B13-C072-4874-88EF-A4538974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947CA-48BD-4715-BC98-585C1711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90363B-266E-4344-A517-0F566C82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D741A-64B5-40E3-8427-1736D603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0092B-62A2-41E7-AFC7-37BC8248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61D9D-E246-42FA-8DD8-32DEE8AC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8A745-8192-41BB-806A-920AE40F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AEF33-5A2C-4697-AA14-364F7607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8B70B-FCB4-4A54-B8DF-D24E4123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7426B-4EE8-4EEA-B440-312B247F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4B8-0AA6-4674-8A70-FBC047E9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24F8C-F369-4477-873A-952BC3D1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091D3-99F5-4867-8075-9C64A32F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6B807-1483-4085-A8D3-4DEBC8B5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F58BE-44D5-428D-A9C3-3B57A10A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65C8B-FB5F-4040-A3A0-75EA4C29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039-6EB7-4485-BB5F-5B51D5E7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8320-A362-4D12-922F-AB482CBDBD2A}" type="slidenum"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68200" y="274680"/>
            <a:ext cx="8607600" cy="1334880"/>
            <a:chOff x="268200" y="274680"/>
            <a:chExt cx="860760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68200" y="274680"/>
              <a:ext cx="8607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1280" y="2938320"/>
            <a:ext cx="7156440" cy="2475000"/>
            <a:chOff x="341280" y="2938320"/>
            <a:chExt cx="7156440" cy="24750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64320" y="2938320"/>
            <a:ext cx="1208160" cy="2475000"/>
            <a:chOff x="7564320" y="2938320"/>
            <a:chExt cx="1208160" cy="24750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81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47534c"/>
                </a:solidFill>
                <a:latin typeface="Century Gothic"/>
                <a:ea typeface="Tahoma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68FB-E0C4-45D6-9F74-B333D4985C7C}" type="slidenum">
              <a:rPr b="0" lang="ar-SA" sz="2800" spc="-1" strike="noStrike">
                <a:solidFill>
                  <a:srgbClr val="47534c"/>
                </a:solidFill>
                <a:latin typeface="Century Gothic"/>
                <a:ea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44600" y="2938320"/>
            <a:ext cx="8278560" cy="2481480"/>
            <a:chOff x="444600" y="2938320"/>
            <a:chExt cx="8278560" cy="248148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856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FD42-0A7B-4B8C-A0FD-434AE6B50634}" type="slidenum"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0497-7CCA-425C-B257-58831FA77FD8}" type="slidenum"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54040" y="1500120"/>
            <a:ext cx="2732040" cy="3535560"/>
            <a:chOff x="554040" y="1500120"/>
            <a:chExt cx="2732040" cy="353556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204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FC94-2F2C-4540-8AC1-5B33DB8CAA7B}" type="slidenum"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2560" y="4950000"/>
            <a:ext cx="7785000" cy="1384200"/>
            <a:chOff x="682560" y="4950000"/>
            <a:chExt cx="7785000" cy="138420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500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D10D-C723-4D32-8C12-D26E5ABDD41E}" type="slidenum"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 algn="r" rtl="1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64b3c"/>
                </a:solidFill>
                <a:latin typeface="Century Gothic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8998-3559-48A4-B708-AC166F0A3433}" type="slidenum">
              <a:rPr b="0" lang="ar-SA" sz="1200" spc="-1" strike="noStrike">
                <a:solidFill>
                  <a:srgbClr val="564b3c"/>
                </a:solidFill>
                <a:latin typeface="Century Gothic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تسليم المبيع : </a:t>
            </a:r>
            <a:br>
              <a:rPr sz="1900"/>
            </a:b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تضمنت المادة ( 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514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) اماراتي (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488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م ) أردني بيان </a:t>
            </a:r>
            <a:r>
              <a:rPr b="1" lang="ar-SA" sz="1900" spc="-1" strike="noStrike">
                <a:solidFill>
                  <a:srgbClr val="ff0000"/>
                </a:solidFill>
                <a:latin typeface="Book Antiqua"/>
              </a:rPr>
              <a:t>التزام البائع بتسليم المبيع الى المشتري مجردا من كل حق اخر ما لم يكن هناك اتفاق أو نص يقضي بغير ذلك , كما يلتزم الملكية الى المشتري 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. </a:t>
            </a:r>
            <a:br>
              <a:rPr sz="1900"/>
            </a:b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و هذا مأخوذ من الذهب الحنفي . </a:t>
            </a:r>
            <a:br>
              <a:rPr sz="1900"/>
            </a:br>
            <a:br>
              <a:rPr sz="1900"/>
            </a:br>
            <a:r>
              <a:rPr b="1" lang="ar-SA" sz="1900" spc="-1" strike="noStrike" u="sng">
                <a:solidFill>
                  <a:srgbClr val="002060"/>
                </a:solidFill>
                <a:uFillTx/>
                <a:latin typeface="Book Antiqua"/>
              </a:rPr>
              <a:t>معنى التسليم : </a:t>
            </a:r>
            <a:r>
              <a:rPr b="1" lang="ar-SA" sz="1900" spc="-1" strike="noStrike">
                <a:solidFill>
                  <a:srgbClr val="0070c0"/>
                </a:solidFill>
                <a:latin typeface="Book Antiqua"/>
              </a:rPr>
              <a:t>التسليم أو القبض معناه : هو التخلية او التخلي , وهو ان يخلي البائع بين المبيع وبين المشتري , برفع الحائل بينهما على وجه يتمكن المشتري من التصرف فيه , فيجعل البائع مسلما للمبيع , و المشتري قابضا له . </a:t>
            </a:r>
            <a:br>
              <a:rPr sz="1900"/>
            </a:b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و قد نصت المادة (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525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) اماراتي (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494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م ) اردني على حالتي التسليم وهما :</a:t>
            </a:r>
            <a:br>
              <a:rPr sz="1900"/>
            </a:br>
            <a:br>
              <a:rPr sz="1900"/>
            </a:br>
            <a:r>
              <a:rPr b="1" lang="ar-SA" sz="1900" spc="-1" strike="noStrike" u="sng">
                <a:solidFill>
                  <a:srgbClr val="c00000"/>
                </a:solidFill>
                <a:uFillTx/>
                <a:latin typeface="Book Antiqua"/>
              </a:rPr>
              <a:t>التسليم بالفعل </a:t>
            </a:r>
            <a:r>
              <a:rPr b="1" lang="ar-SA" sz="1900" spc="-1" strike="noStrike" u="sng">
                <a:solidFill>
                  <a:srgbClr val="6b7d72"/>
                </a:solidFill>
                <a:uFillTx/>
                <a:latin typeface="Book Antiqua"/>
              </a:rPr>
              <a:t>, </a:t>
            </a:r>
            <a:r>
              <a:rPr b="1" lang="ar-SA" sz="1900" spc="-1" strike="noStrike" u="sng">
                <a:solidFill>
                  <a:srgbClr val="7030a0"/>
                </a:solidFill>
                <a:uFillTx/>
                <a:latin typeface="Book Antiqua"/>
              </a:rPr>
              <a:t>أو بالتخلية </a:t>
            </a:r>
            <a:r>
              <a:rPr b="1" lang="ar-SA" sz="1900" spc="-1" strike="noStrike" u="sng">
                <a:solidFill>
                  <a:srgbClr val="6b7d72"/>
                </a:solidFill>
                <a:uFillTx/>
                <a:latin typeface="Book Antiqua"/>
              </a:rPr>
              <a:t>, </a:t>
            </a:r>
            <a:br>
              <a:rPr sz="1900"/>
            </a:br>
            <a:r>
              <a:rPr b="1" lang="ar-SA" sz="1900" spc="-1" strike="noStrike">
                <a:solidFill>
                  <a:srgbClr val="00b050"/>
                </a:solidFill>
                <a:latin typeface="Book Antiqua"/>
              </a:rPr>
              <a:t>و على أن التسليم يكون في كل شيء حسب طبيعته , ووفقا لما جرى عليه الاتفاق او العرف 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, </a:t>
            </a:r>
            <a:br>
              <a:rPr sz="1900"/>
            </a:br>
            <a:br>
              <a:rPr sz="1900"/>
            </a:br>
            <a:r>
              <a:rPr b="1" lang="ar-SA" sz="1900" spc="-1" strike="noStrike" u="sng">
                <a:solidFill>
                  <a:srgbClr val="002060"/>
                </a:solidFill>
                <a:uFillTx/>
                <a:latin typeface="Book Antiqua"/>
              </a:rPr>
              <a:t>أما التسليم الفعلي او الحقيقي للمبيع </a:t>
            </a:r>
            <a:r>
              <a:rPr b="1" lang="ar-SA" sz="1900" spc="-1" strike="noStrike" u="sng">
                <a:solidFill>
                  <a:srgbClr val="6b7d72"/>
                </a:solidFill>
                <a:uFillTx/>
                <a:latin typeface="Book Antiqua"/>
              </a:rPr>
              <a:t>: </a:t>
            </a:r>
            <a:r>
              <a:rPr b="1" lang="ar-SA" sz="1900" spc="-1" strike="noStrike">
                <a:solidFill>
                  <a:srgbClr val="0070c0"/>
                </a:solidFill>
                <a:latin typeface="Book Antiqua"/>
              </a:rPr>
              <a:t>فهو يتم بوضع المبيع فعلا تحت تصرف المشتري بحيث يتمكن من حيازته و الانتفاع به دون عائق , متى اعلمة البائع بذلك . </a:t>
            </a:r>
            <a:br>
              <a:rPr sz="1900"/>
            </a:br>
            <a:br>
              <a:rPr sz="1900"/>
            </a:br>
            <a:r>
              <a:rPr b="1" lang="ar-SA" sz="1900" spc="-1" strike="noStrike">
                <a:solidFill>
                  <a:srgbClr val="ff0000"/>
                </a:solidFill>
                <a:latin typeface="Book Antiqua"/>
              </a:rPr>
              <a:t>-- فان كان المبيع عقارا 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: </a:t>
            </a:r>
            <a:r>
              <a:rPr b="1" lang="ar-SA" sz="1900" spc="-1" strike="noStrike">
                <a:solidFill>
                  <a:srgbClr val="7030a0"/>
                </a:solidFill>
                <a:latin typeface="Book Antiqua"/>
              </a:rPr>
              <a:t>فيتم تسليمه بإخلائه  و الخروج منه , و اخراج الأثاث و الأمتعة من البيت , و تسليم مفاتيحه الى المشتري , أي أن تسليم العقار يكون بالتخلية بينه و بين المشتري الا دار السكنى فيكون بالتخلية و اخلاء امتعة البائع منها . </a:t>
            </a:r>
            <a:br>
              <a:rPr sz="1900"/>
            </a:br>
            <a:r>
              <a:rPr b="1" lang="ar-SA" sz="1900" spc="-1" strike="noStrike">
                <a:solidFill>
                  <a:srgbClr val="ff0000"/>
                </a:solidFill>
                <a:latin typeface="Book Antiqua"/>
              </a:rPr>
              <a:t>-- وان كان المبيع منقولا : </a:t>
            </a:r>
            <a:r>
              <a:rPr b="1" lang="ar-SA" sz="1900" spc="-1" strike="noStrike">
                <a:solidFill>
                  <a:srgbClr val="a23a28"/>
                </a:solidFill>
                <a:latin typeface="Book Antiqua"/>
              </a:rPr>
              <a:t>فيتم تسليمه بمناولته للمشتري او بوضعه امامه أو نقله من محل البائع , لتسليمة الى المشتري او نائبه . </a:t>
            </a:r>
            <a:br>
              <a:rPr sz="1900"/>
            </a:br>
            <a:r>
              <a:rPr b="1" lang="ar-SA" sz="1900" spc="-1" strike="noStrike">
                <a:solidFill>
                  <a:srgbClr val="ff0000"/>
                </a:solidFill>
                <a:latin typeface="Book Antiqua"/>
              </a:rPr>
              <a:t>-- و تسليم المثلي </a:t>
            </a:r>
            <a:r>
              <a:rPr b="1" lang="ar-SA" sz="1900" spc="-1" strike="noStrike">
                <a:solidFill>
                  <a:srgbClr val="6b7d72"/>
                </a:solidFill>
                <a:latin typeface="Book Antiqua"/>
              </a:rPr>
              <a:t>: </a:t>
            </a:r>
            <a:r>
              <a:rPr b="1" lang="ar-SA" sz="1900" spc="-1" strike="noStrike">
                <a:solidFill>
                  <a:srgbClr val="00b0f0"/>
                </a:solidFill>
                <a:latin typeface="Book Antiqua"/>
              </a:rPr>
              <a:t>يكون بكيله او وزنه او عده , و بتسلم المشتري له بيده او بتفريغه في أوعية . </a:t>
            </a:r>
            <a:br>
              <a:rPr sz="1900"/>
            </a:b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** هذا وقد بحث فقهاؤنا في </a:t>
            </a: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الفقه الاسلامي </a:t>
            </a:r>
            <a:r>
              <a:rPr b="1" lang="ar-SA" sz="2000" spc="-1" strike="noStrike">
                <a:solidFill>
                  <a:srgbClr val="c00000"/>
                </a:solidFill>
                <a:latin typeface="Book Antiqua"/>
              </a:rPr>
              <a:t>حالة نقص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المبيع بعنوان : </a:t>
            </a:r>
            <a:r>
              <a:rPr b="1" lang="ar-SA" sz="2000" spc="-1" strike="noStrike">
                <a:solidFill>
                  <a:srgbClr val="c00000"/>
                </a:solidFill>
                <a:latin typeface="Book Antiqua"/>
              </a:rPr>
              <a:t>تفرق الصفقة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، </a:t>
            </a:r>
            <a:r>
              <a:rPr b="1" lang="ar-SA" sz="2000" spc="-1" strike="noStrike">
                <a:solidFill>
                  <a:srgbClr val="002060"/>
                </a:solidFill>
                <a:latin typeface="Book Antiqua"/>
              </a:rPr>
              <a:t>وأثبتوا للمشتري ما يسمى </a:t>
            </a:r>
            <a:br>
              <a:rPr sz="20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بخيار تفرق الصفقة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: </a:t>
            </a: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وهو الحق في قبول المبيع , والحط من الثمن بمقدار النقص , أو فسخ البيع لظهور النقص فيه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**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ولم يقيد الفقه الإسلامي حق المشتري بالفسخ بأن يكون النقص جسيماً , بل يحق له الفسخ مطلقاً , سواء كان النقص جسيماً أو غير جسيم. 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**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لكن فرق الفقه بين كون المبيع قابلاً للتبعيض أم لا :</a:t>
            </a:r>
            <a:br>
              <a:rPr sz="2000"/>
            </a:b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اولا :  فإذا كان المبيع قابلاً للتبعيض ثبت الخيار للمشتري .</a:t>
            </a:r>
            <a:br>
              <a:rPr sz="2000"/>
            </a:b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ثانيا : وأما إذا كان المبيع غير قابل للتبعيض:</a:t>
            </a:r>
            <a:br>
              <a:rPr sz="2000"/>
            </a:br>
            <a:r>
              <a:rPr b="1" lang="ar-SA" sz="2000" spc="-1" strike="noStrike" u="sng">
                <a:solidFill>
                  <a:srgbClr val="7030a0"/>
                </a:solidFill>
                <a:uFillTx/>
                <a:latin typeface="Book Antiqua"/>
              </a:rPr>
              <a:t>أ- فإن كان الثمن قدر جمله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,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فالمشتري مخير بين إبقاء البيع واستلام المبيع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Book Antiqua"/>
              </a:rPr>
              <a:t>بكل الثمن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, وبين فسخ العقد.</a:t>
            </a:r>
            <a:br>
              <a:rPr sz="2000"/>
            </a:br>
            <a:r>
              <a:rPr b="1" lang="ar-SA" sz="2000" spc="-1" strike="noStrike" u="sng">
                <a:solidFill>
                  <a:srgbClr val="00b050"/>
                </a:solidFill>
                <a:uFillTx/>
                <a:latin typeface="Book Antiqua"/>
              </a:rPr>
              <a:t>ب- وإن كان الثمن قدر بسعر الوحدة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,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كان المشتري مخيراً بين فسخ العقد , وبين إبقاء البيع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Book Antiqua"/>
              </a:rPr>
              <a:t>وإنقاص الثمن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** </a:t>
            </a: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واتفق الفقه والقانون في حالتين : </a:t>
            </a:r>
            <a:br>
              <a:rPr sz="2000"/>
            </a:b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وهما إذا كان المبيع قابلاً للتبعيض ، </a:t>
            </a:r>
            <a:r>
              <a:rPr b="1" lang="ar-SA" sz="2000" spc="-1" strike="noStrike" u="sng">
                <a:solidFill>
                  <a:srgbClr val="00b050"/>
                </a:solidFill>
                <a:uFillTx/>
                <a:latin typeface="Book Antiqua"/>
              </a:rPr>
              <a:t>وإذا كان المبيع غير قابل للتبعيض </a:t>
            </a: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، </a:t>
            </a:r>
            <a:r>
              <a:rPr b="1" lang="ar-SA" sz="2000" spc="-1" strike="noStrike" u="sng">
                <a:solidFill>
                  <a:srgbClr val="7030a0"/>
                </a:solidFill>
                <a:uFillTx/>
                <a:latin typeface="Book Antiqua"/>
              </a:rPr>
              <a:t>وقدر الثمن بسعر الوحدة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، </a:t>
            </a:r>
            <a:r>
              <a:rPr b="1" lang="ar-SA" sz="2000" spc="-1" strike="noStrike">
                <a:solidFill>
                  <a:srgbClr val="c00000"/>
                </a:solidFill>
                <a:latin typeface="Book Antiqua"/>
              </a:rPr>
              <a:t>فيخير المشتري بين الفسخ وبين إبقاء العقد مع الحط من الثمن.</a:t>
            </a:r>
            <a:br>
              <a:rPr sz="2000"/>
            </a:br>
            <a:br>
              <a:rPr sz="20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واختلف القانون مع الفقه في حالة </a:t>
            </a:r>
            <a:br>
              <a:rPr sz="2000"/>
            </a:b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كون المبيع غير قابل للتبعيض ، وكان الثمن مجملاً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، </a:t>
            </a:r>
            <a:br>
              <a:rPr sz="2000"/>
            </a:br>
            <a:r>
              <a:rPr b="1" lang="ar-SA" sz="2000" spc="-1" strike="noStrike">
                <a:solidFill>
                  <a:srgbClr val="c00000"/>
                </a:solidFill>
                <a:latin typeface="Book Antiqua"/>
              </a:rPr>
              <a:t>-- ففي القانون يخير المشتري بين الفسخ وبين إبقاء العقد مع الحط من الثمن كالسابق ، </a:t>
            </a:r>
            <a:br>
              <a:rPr sz="2000"/>
            </a:b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-- وفي الفقه يخير بين الفسخ وبين إبقاء العقد بجميع الثمن.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Book Antiqua"/>
              </a:rPr>
              <a:t>حالة الزيادة :</a:t>
            </a:r>
            <a:br>
              <a:rPr sz="1800"/>
            </a:br>
            <a:r>
              <a:rPr b="1" lang="ar-SA" sz="1800" spc="-1" strike="noStrike">
                <a:solidFill>
                  <a:srgbClr val="00b050"/>
                </a:solidFill>
                <a:latin typeface="Book Antiqua"/>
              </a:rPr>
              <a:t>فرق القانون في حالة ظهور زيادة في المبيع بين كون الثمن مجملاً وبين كونه مفصلاً على حساب الوحدة ، كما فرق بين كون المبيع قابلاً للتبعيض وعدم كونه قابل للتبعيض.</a:t>
            </a:r>
            <a:br>
              <a:rPr sz="20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أ- إذا كان المبيع لا يضره التبعيض: 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Book Antiqua"/>
              </a:rPr>
              <a:t>فالزيادة من حق البائع والنقص من حسابه </a:t>
            </a:r>
            <a:r>
              <a:rPr b="1" lang="ar-SA" sz="1800" spc="-1" strike="noStrike">
                <a:solidFill>
                  <a:srgbClr val="ff0000"/>
                </a:solidFill>
                <a:latin typeface="Book Antiqua"/>
              </a:rPr>
              <a:t>، سواء أكان محدداً لكل وحدة قياسية أم لمجموع المبيع ، كشراء المثليات من المكيل أو الموزون كالسكر والأرز والزيت.</a:t>
            </a:r>
            <a:br>
              <a:rPr sz="1800"/>
            </a:br>
            <a:br>
              <a:rPr sz="16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ب- إذا كان المبيع يضره التبعيض ،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1800" spc="-1" strike="noStrike" u="sng">
                <a:solidFill>
                  <a:srgbClr val="7030a0"/>
                </a:solidFill>
                <a:uFillTx/>
                <a:latin typeface="Book Antiqua"/>
              </a:rPr>
              <a:t>وكان الثمن محدداً على أساس الوحدة القياسية ، فالزيادة من حق البائع يستحق ثمنها , والنقص من حسابه</a:t>
            </a:r>
            <a:r>
              <a:rPr b="1" lang="ar-SA" sz="1800" spc="-1" strike="noStrike">
                <a:solidFill>
                  <a:srgbClr val="7030a0"/>
                </a:solidFill>
                <a:latin typeface="Book Antiqua"/>
              </a:rPr>
              <a:t>.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1800" spc="-1" strike="noStrike">
                <a:solidFill>
                  <a:srgbClr val="00b050"/>
                </a:solidFill>
                <a:latin typeface="Book Antiqua"/>
              </a:rPr>
              <a:t>مثل شراء قطعة قماش ثلاثة أمتار ، كل متر بمائة درهم ، ثم يتبين أن قدرها أربعة أمتار ، وهي لا تقبل القسمة  ، لضررها بالبائع أو بالمشتري ، فيلتزم المشتري بدفع ثمن الزيادة إلى البائع بسعر الوحدة المتفق عليه.</a:t>
            </a:r>
            <a:br>
              <a:rPr sz="1800"/>
            </a:br>
            <a:r>
              <a:rPr b="1" lang="ar-SA" sz="1800" spc="-1" strike="noStrike">
                <a:solidFill>
                  <a:srgbClr val="00b050"/>
                </a:solidFill>
                <a:latin typeface="Book Antiqua"/>
              </a:rPr>
              <a:t>فإن بلغت الزيادة حداً جسيماً ، فلا يلزم المشتري بدفع الزيادة ، وإنما يخير بين دفعها أو فسخ العقد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1800"/>
            </a:br>
            <a:br>
              <a:rPr sz="16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ج- أما إذا كان الثمن المسمى مقدراً جملة لمجموع المبيع ،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Book Antiqua"/>
              </a:rPr>
              <a:t>فالزيادة للمشتري والنقص لا يقابله شيء من الثمن </a:t>
            </a:r>
            <a:r>
              <a:rPr b="1" lang="ar-SA" sz="1800" spc="-1" strike="noStrike">
                <a:solidFill>
                  <a:srgbClr val="c00000"/>
                </a:solidFill>
                <a:latin typeface="Book Antiqua"/>
              </a:rPr>
              <a:t>, كشراء سجادة ستة أمتار ، بألف درهم , ثم يظهر أنها سبعة أمتار.</a:t>
            </a:r>
            <a:br>
              <a:rPr sz="1800"/>
            </a:br>
            <a:br>
              <a:rPr sz="16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د- كذلك إذا كان الثمن مقدراً جملة والمبيع لا يضره التبعيض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، </a:t>
            </a:r>
            <a:r>
              <a:rPr b="1" lang="ar-SA" sz="1800" spc="-1" strike="noStrike">
                <a:solidFill>
                  <a:srgbClr val="0070c0"/>
                </a:solidFill>
                <a:latin typeface="Book Antiqua"/>
              </a:rPr>
              <a:t>كشراء صندوق فيها عادة عشرون ظرفاً ، فظهر فيها أكثر من ذلك ، </a:t>
            </a: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تكون الزيادة للمشتري </a:t>
            </a:r>
            <a:r>
              <a:rPr b="1" lang="ar-SA" sz="1800" spc="-1" strike="noStrike">
                <a:solidFill>
                  <a:srgbClr val="0070c0"/>
                </a:solidFill>
                <a:latin typeface="Book Antiqua"/>
              </a:rPr>
              <a:t>، أي أن حكم الحالتين الأخيرتين واحد.</a:t>
            </a:r>
            <a:br>
              <a:rPr sz="1800"/>
            </a:b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والمذكور </a:t>
            </a:r>
            <a:r>
              <a:rPr b="1" lang="ar-SA" sz="1800" spc="-1" strike="noStrike" u="sng">
                <a:solidFill>
                  <a:srgbClr val="002060"/>
                </a:solidFill>
                <a:uFillTx/>
                <a:latin typeface="Book Antiqua"/>
              </a:rPr>
              <a:t>في المذهب الحنفي :</a:t>
            </a:r>
            <a:br>
              <a:rPr sz="1800"/>
            </a:br>
            <a:r>
              <a:rPr b="1" lang="ar-SA" sz="1800" spc="-1" strike="noStrike" u="sng">
                <a:solidFill>
                  <a:srgbClr val="002060"/>
                </a:solidFill>
                <a:uFillTx/>
                <a:latin typeface="Book Antiqua"/>
              </a:rPr>
              <a:t>-- </a:t>
            </a:r>
            <a:r>
              <a:rPr b="1" lang="ar-SA" sz="1800" spc="-1" strike="noStrike">
                <a:solidFill>
                  <a:srgbClr val="ff0000"/>
                </a:solidFill>
                <a:latin typeface="Book Antiqua"/>
              </a:rPr>
              <a:t>أن الزيادة للبائع ، إذا كان الثمن مقدراً بحساب الوحدة ، سواء أكان مما يضره التبعيض أم لا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-- </a:t>
            </a:r>
            <a:r>
              <a:rPr b="1" lang="ar-SA" sz="1800" spc="-1" strike="noStrike">
                <a:solidFill>
                  <a:srgbClr val="7030a0"/>
                </a:solidFill>
                <a:latin typeface="Book Antiqua"/>
              </a:rPr>
              <a:t>وتكون الزيادة للبائع : إذا كان الثمن مجملاً والمبيع مما لا يضره التبعيض ، </a:t>
            </a:r>
            <a:r>
              <a:rPr b="1" lang="ar-SA" sz="1800" spc="-1" strike="noStrike" u="sng">
                <a:solidFill>
                  <a:srgbClr val="7030a0"/>
                </a:solidFill>
                <a:uFillTx/>
                <a:latin typeface="Book Antiqua"/>
              </a:rPr>
              <a:t>وهذا حكم يخالف القانون </a:t>
            </a:r>
            <a:r>
              <a:rPr b="1" lang="ar-SA" sz="1800" spc="-1" strike="noStrike">
                <a:solidFill>
                  <a:srgbClr val="7030a0"/>
                </a:solidFill>
                <a:latin typeface="Book Antiqua"/>
              </a:rPr>
              <a:t>، فإذا كان الثمن مجملاً والمبيع مما يضره التبعيض ، فالزيادة للمشتري , ولا خيار للبائع. </a:t>
            </a: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وعند الحنابلة روايتان في حالة تقدير الثمن بالوحدة.</a:t>
            </a:r>
            <a:endParaRPr b="0" lang="en-US" sz="18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Book Antiqua"/>
              </a:rPr>
              <a:t>ما يترتب على تسليم المبيع وعدمه : </a:t>
            </a:r>
            <a:br>
              <a:rPr sz="2400"/>
            </a:br>
            <a:br>
              <a:rPr sz="2400"/>
            </a:br>
            <a:br>
              <a:rPr sz="1600"/>
            </a:br>
            <a:r>
              <a:rPr b="1" lang="ar-SA" sz="2400" spc="-1" strike="noStrike" u="sng">
                <a:solidFill>
                  <a:srgbClr val="002060"/>
                </a:solidFill>
                <a:uFillTx/>
                <a:latin typeface="Book Antiqua"/>
              </a:rPr>
              <a:t>اولا : </a:t>
            </a:r>
            <a:r>
              <a:rPr b="1" lang="ar-SA" sz="2400" spc="-1" strike="noStrike" u="sng">
                <a:solidFill>
                  <a:srgbClr val="404040"/>
                </a:solidFill>
                <a:uFillTx/>
                <a:latin typeface="Book Antiqua"/>
              </a:rPr>
              <a:t>إذا نفذ البائع التزامه بتسليم المبيع : </a:t>
            </a:r>
            <a:br>
              <a:rPr sz="2400"/>
            </a:b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 ** </a:t>
            </a:r>
            <a:r>
              <a:rPr b="1" lang="ar-SA" sz="2400" spc="-1" strike="noStrike">
                <a:solidFill>
                  <a:srgbClr val="0070c0"/>
                </a:solidFill>
                <a:latin typeface="Book Antiqua"/>
              </a:rPr>
              <a:t>برئت ذمته , وأدى واجبه ، </a:t>
            </a:r>
            <a:br>
              <a:rPr sz="2400"/>
            </a:br>
            <a:r>
              <a:rPr b="1" lang="ar-SA" sz="2400" spc="-1" strike="noStrike">
                <a:solidFill>
                  <a:srgbClr val="595959"/>
                </a:solidFill>
                <a:latin typeface="Book Antiqua"/>
              </a:rPr>
              <a:t>** واستقرت ملكية المبيع للمشتري ، </a:t>
            </a:r>
            <a:br>
              <a:rPr sz="2400"/>
            </a:br>
            <a:r>
              <a:rPr b="1" lang="ar-SA" sz="2400" spc="-1" strike="noStrike">
                <a:solidFill>
                  <a:srgbClr val="00b050"/>
                </a:solidFill>
                <a:latin typeface="Book Antiqua"/>
              </a:rPr>
              <a:t>** وامتنع على البائع التصرف بالمبيع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، إما </a:t>
            </a:r>
            <a:r>
              <a:rPr b="1" lang="ar-SA" sz="2400" spc="-1" strike="noStrike">
                <a:solidFill>
                  <a:srgbClr val="a23a28"/>
                </a:solidFill>
                <a:latin typeface="Book Antiqua"/>
              </a:rPr>
              <a:t>بسبب صحيح كالإرث أو الوصية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, أو </a:t>
            </a:r>
            <a:r>
              <a:rPr b="1" lang="ar-SA" sz="2400" spc="-1" strike="noStrike">
                <a:solidFill>
                  <a:srgbClr val="7030a0"/>
                </a:solidFill>
                <a:latin typeface="Book Antiqua"/>
              </a:rPr>
              <a:t>بسبب غير صحيح كالهبة والبيع مرة ثانية.</a:t>
            </a:r>
            <a:br>
              <a:rPr sz="2400"/>
            </a:br>
            <a:r>
              <a:rPr b="1" lang="ar-SA" sz="2400" spc="-1" strike="noStrike">
                <a:solidFill>
                  <a:srgbClr val="002060"/>
                </a:solidFill>
                <a:latin typeface="Book Antiqua"/>
              </a:rPr>
              <a:t>** وتنتقل تبعة هلاك المبيع من البائع إلى المشتري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، </a:t>
            </a:r>
            <a:r>
              <a:rPr b="1" lang="ar-SA" sz="2400" spc="-1" strike="noStrike">
                <a:solidFill>
                  <a:srgbClr val="c00000"/>
                </a:solidFill>
                <a:latin typeface="Book Antiqua"/>
              </a:rPr>
              <a:t>فيصير كل ما يصيب المبيع من تلف أو هلاك أو تعيب أو نقص أو زيادة على عهدة المشتري وضمانه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، </a:t>
            </a:r>
            <a:r>
              <a:rPr b="1" lang="ar-SA" sz="2400" spc="-1" strike="noStrike">
                <a:solidFill>
                  <a:srgbClr val="896212"/>
                </a:solidFill>
                <a:latin typeface="Book Antiqua"/>
              </a:rPr>
              <a:t>دون أن يكون البائع مسؤولاً عن شيء من ذلك إلا ما يصدر عنه من أفعال مباشرة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002060"/>
                </a:solidFill>
                <a:uFillTx/>
                <a:latin typeface="Book Antiqua"/>
              </a:rPr>
              <a:t>ثانيا :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400" spc="-1" strike="noStrike" u="sng">
                <a:solidFill>
                  <a:srgbClr val="404040"/>
                </a:solidFill>
                <a:uFillTx/>
                <a:latin typeface="Book Antiqua"/>
              </a:rPr>
              <a:t>أما ما يترتب على عدم تسليم المبيع إلى المشتري :</a:t>
            </a:r>
            <a:r>
              <a:rPr b="1" lang="ar-SA" sz="2400" spc="-1" strike="noStrike">
                <a:solidFill>
                  <a:srgbClr val="c00000"/>
                </a:solidFill>
                <a:latin typeface="Book Antiqua"/>
              </a:rPr>
              <a:t>فهو يختلف بحسب ما إذا كان عدم التسليم مشروعاً أم لا.</a:t>
            </a:r>
            <a:br>
              <a:rPr sz="2400"/>
            </a:b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** </a:t>
            </a:r>
            <a:r>
              <a:rPr b="1" lang="ar-SA" sz="2400" spc="-1" strike="noStrike" u="sng">
                <a:solidFill>
                  <a:srgbClr val="0070c0"/>
                </a:solidFill>
                <a:uFillTx/>
                <a:latin typeface="Book Antiqua"/>
              </a:rPr>
              <a:t> فإن كان عدم التسليم مشروعاً  أي بحق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: كما إذا </a:t>
            </a:r>
            <a:r>
              <a:rPr b="1" lang="ar-SA" sz="2400" spc="-1" strike="noStrike">
                <a:solidFill>
                  <a:srgbClr val="7030a0"/>
                </a:solidFill>
                <a:latin typeface="Book Antiqua"/>
              </a:rPr>
              <a:t>قام البائع بحبس المبيع عنده لعدم تسلمه الثمن ، أو لعدم تسلمه القسط المعجل من الثمن أو القسط الأول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، </a:t>
            </a:r>
            <a:r>
              <a:rPr b="1" lang="ar-SA" sz="2400" spc="-1" strike="noStrike">
                <a:solidFill>
                  <a:srgbClr val="00b050"/>
                </a:solidFill>
                <a:latin typeface="Book Antiqua"/>
              </a:rPr>
              <a:t>فلا مسؤولية على البائع ، كما سنفصل ؛ لأن حبس المبيع حق للبائع.</a:t>
            </a:r>
            <a:br>
              <a:rPr sz="24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** وأما إن كان عدم التسليم بسبب غير مشروع </a:t>
            </a:r>
            <a:r>
              <a:rPr b="1" lang="ar-SA" sz="2200" spc="-1" strike="noStrike">
                <a:solidFill>
                  <a:srgbClr val="ff0000"/>
                </a:solidFill>
                <a:latin typeface="Book Antiqua"/>
              </a:rPr>
              <a:t>فله آثار كثيرة هي محل البحث التالي:</a:t>
            </a:r>
            <a:br>
              <a:rPr sz="2200"/>
            </a:br>
            <a:r>
              <a:rPr b="1" lang="ar-SA" sz="2200" spc="-1" strike="noStrike" u="sng">
                <a:solidFill>
                  <a:srgbClr val="00b050"/>
                </a:solidFill>
                <a:uFillTx/>
                <a:latin typeface="Book Antiqua"/>
              </a:rPr>
              <a:t>أولا: حالة امتناع البائع عن التسليم :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اذا امتنع البائع عن تسليم المبيع دون سبب مشروع ،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فإنه :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Book Antiqua"/>
              </a:rPr>
              <a:t>--  يعتبر مخلا في تنفيذ التزامه، </a:t>
            </a:r>
            <a:br>
              <a:rPr sz="2200"/>
            </a:br>
            <a:r>
              <a:rPr b="1" lang="ar-SA" sz="2200" spc="-1" strike="noStrike">
                <a:solidFill>
                  <a:srgbClr val="002060"/>
                </a:solidFill>
                <a:latin typeface="Book Antiqua"/>
              </a:rPr>
              <a:t>-- ويبقى في هذه الحالة المبيع تحت عهدته وضمانه ، 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Book Antiqua"/>
              </a:rPr>
              <a:t>--ويضمن ما قد يتعرض له المبيع من تلف أو هلاك أو تعيب أو غيره.</a:t>
            </a:r>
            <a:br>
              <a:rPr sz="2200"/>
            </a:br>
            <a:r>
              <a:rPr b="1" lang="ar-SA" sz="2200" spc="-1" strike="noStrike">
                <a:solidFill>
                  <a:srgbClr val="002060"/>
                </a:solidFill>
                <a:latin typeface="Book Antiqua"/>
              </a:rPr>
              <a:t>-- ويقرر الفقه في هذه الحالة أن البائع يجبر على تنفيذ التزامه.</a:t>
            </a:r>
            <a:br>
              <a:rPr sz="2200"/>
            </a:br>
            <a:br>
              <a:rPr sz="2200"/>
            </a:br>
            <a:r>
              <a:rPr b="1" lang="ar-SA" sz="2200" spc="-1" strike="noStrike" u="sng">
                <a:solidFill>
                  <a:srgbClr val="00b050"/>
                </a:solidFill>
                <a:uFillTx/>
                <a:latin typeface="Book Antiqua"/>
              </a:rPr>
              <a:t>ثانيا: تحمل تبعة هلاك المبيع:</a:t>
            </a:r>
            <a:br>
              <a:rPr sz="2200"/>
            </a:br>
            <a:r>
              <a:rPr b="1" lang="ar-SA" sz="2200" spc="-1" strike="noStrike">
                <a:solidFill>
                  <a:srgbClr val="0070c0"/>
                </a:solidFill>
                <a:latin typeface="Book Antiqua"/>
              </a:rPr>
              <a:t>** </a:t>
            </a:r>
            <a:r>
              <a:rPr b="1" lang="ar-SA" sz="2200" spc="-1" strike="noStrike">
                <a:solidFill>
                  <a:srgbClr val="002060"/>
                </a:solidFill>
                <a:latin typeface="Book Antiqua"/>
              </a:rPr>
              <a:t>الهلاك للمبيع كله أو بعض منه قبل التسليم على البائع إلا إذا كانت بفعل المشتري او بسبب منه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، </a:t>
            </a:r>
            <a:br>
              <a:rPr sz="2200"/>
            </a:b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** </a:t>
            </a:r>
            <a:r>
              <a:rPr b="1" lang="ar-SA" sz="2200" spc="-1" strike="noStrike">
                <a:solidFill>
                  <a:srgbClr val="ff0000"/>
                </a:solidFill>
                <a:latin typeface="Book Antiqua"/>
              </a:rPr>
              <a:t>وتكون بعد التسليم على المشتري إلا إذا كانت بفعل البائع أو بسبب منه ،</a:t>
            </a: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وقد نصت المواد(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531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-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533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)إماراتي(م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500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-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520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)أردني على هذه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Book Antiqua"/>
              </a:rPr>
              <a:t>الأحكام وتفصيلها 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فيما يأتي:</a:t>
            </a:r>
            <a:br>
              <a:rPr sz="2200"/>
            </a:br>
            <a:br>
              <a:rPr sz="2200"/>
            </a:b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1</a:t>
            </a: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- هلاك المبيع كله قبل التسليم: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Book Antiqua"/>
              </a:rPr>
              <a:t>تلف المبيع كله قضاء وقدرا أي بسبب لا علاقة لأحد المتبايعين فيه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 :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-- فإن تبعة الهلاك تقع على البائع ، وتهلك من حسابة، </a:t>
            </a:r>
            <a:br>
              <a:rPr sz="2200"/>
            </a:b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-- وينفسخ العقد ويسترد المشتري ما أداه من الثمن؛ </a:t>
            </a:r>
            <a:r>
              <a:rPr b="1" lang="ar-SA" sz="2200" spc="-1" strike="noStrike">
                <a:solidFill>
                  <a:srgbClr val="896212"/>
                </a:solidFill>
                <a:latin typeface="Book Antiqua"/>
              </a:rPr>
              <a:t>لأن المبيع قبل التسليم في ضمان البائع ‘ وهذا يدل على ربط تبعة الهلاك بتسليمه ووضع اليد عليه ، لا بتمليكه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2</a:t>
            </a: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-هلاك جزء من المبيع قبل التسليم: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Book Antiqua"/>
              </a:rPr>
              <a:t>إذا تلف بعض المبيع قضاء وقدرا :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-- فإن تبعة الهلاك تقع على عاتق البائع ‘ </a:t>
            </a:r>
            <a:br>
              <a:rPr sz="2200"/>
            </a:b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-- ويخير المشتري إما بفسخ العقد ‘أو أخذ المقدار الباقي حصته من الثمن 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‘ </a:t>
            </a:r>
            <a:r>
              <a:rPr b="1" lang="ar-SA" sz="2200" spc="-1" strike="noStrike">
                <a:solidFill>
                  <a:srgbClr val="4e501f"/>
                </a:solidFill>
                <a:latin typeface="Book Antiqua"/>
              </a:rPr>
              <a:t>أي أنقص الثمن بما يتناسب مع الجزء الهالك او نقص القيمة 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، 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-- دون ان يكون له حق في التعويض ، وذلك بسبب: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      </a:t>
            </a:r>
            <a:r>
              <a:rPr b="1" lang="ar-SA" sz="2200" spc="-1" strike="noStrike">
                <a:solidFill>
                  <a:srgbClr val="a23a28"/>
                </a:solidFill>
                <a:latin typeface="Book Antiqua"/>
              </a:rPr>
              <a:t>* لأن البائع ملزم بتسليم المبيع كاملا دون تلف او نقص ، فإذا لم يقم به كان مسؤولا عنه ، كحالة الهلاك الكلي </a:t>
            </a:r>
            <a:br>
              <a:rPr sz="2200"/>
            </a:b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      </a:t>
            </a:r>
            <a:r>
              <a:rPr b="1" lang="ar-SA" sz="2200" spc="-1" strike="noStrike">
                <a:solidFill>
                  <a:srgbClr val="00b0f0"/>
                </a:solidFill>
                <a:latin typeface="Book Antiqua"/>
              </a:rPr>
              <a:t>* و لأن التلف  أو ا لنقص حدث بقوة قاهرة ،  فلا مجال لتعويض المشتري.</a:t>
            </a:r>
            <a:br>
              <a:rPr sz="2200"/>
            </a:br>
            <a:br>
              <a:rPr sz="2200"/>
            </a:b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3</a:t>
            </a: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- هلاك المبيع قبل التسليم بفعل البائع أو بفعل المشتري:</a:t>
            </a:r>
            <a:br>
              <a:rPr sz="2200"/>
            </a:br>
            <a:r>
              <a:rPr b="1" lang="ar-SA" sz="2200" spc="-1" strike="noStrike" u="sng">
                <a:solidFill>
                  <a:srgbClr val="00b050"/>
                </a:solidFill>
                <a:uFillTx/>
                <a:latin typeface="Book Antiqua"/>
              </a:rPr>
              <a:t>اولا : </a:t>
            </a:r>
            <a:r>
              <a:rPr b="1" lang="ar-SA" sz="2200" spc="-1" strike="noStrike" u="sng">
                <a:solidFill>
                  <a:srgbClr val="ff0000"/>
                </a:solidFill>
                <a:uFillTx/>
                <a:latin typeface="Book Antiqua"/>
              </a:rPr>
              <a:t>إذا هلك المبيع كله قبل التسليم بفعل البائع أو بسببه </a:t>
            </a:r>
            <a:r>
              <a:rPr b="1" lang="ar-SA" sz="2200" spc="-1" strike="noStrike" u="sng">
                <a:solidFill>
                  <a:srgbClr val="6b7d72"/>
                </a:solidFill>
                <a:uFillTx/>
                <a:latin typeface="Book Antiqua"/>
              </a:rPr>
              <a:t>:</a:t>
            </a:r>
            <a:br>
              <a:rPr sz="2200"/>
            </a:br>
            <a:r>
              <a:rPr b="1" lang="ar-SA" sz="2200" spc="-1" strike="noStrike" u="sng">
                <a:solidFill>
                  <a:srgbClr val="002060"/>
                </a:solidFill>
                <a:uFillTx/>
                <a:latin typeface="Book Antiqua"/>
              </a:rPr>
              <a:t>** اذا هلك المبيع كله 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-- فإنه يهلك على حساب البائع من باب اولى .</a:t>
            </a:r>
            <a:br>
              <a:rPr sz="2200"/>
            </a:b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-- وينفسخ العقد لعدم القدرة على التسليم ‘ وهذا مأخوذ من مذهبي الحنفية والشافعية.</a:t>
            </a:r>
            <a:br>
              <a:rPr sz="2200"/>
            </a:br>
            <a:r>
              <a:rPr b="1" lang="ar-SA" sz="2200" spc="-1" strike="noStrike" u="sng">
                <a:solidFill>
                  <a:srgbClr val="002060"/>
                </a:solidFill>
                <a:uFillTx/>
                <a:latin typeface="Book Antiqua"/>
              </a:rPr>
              <a:t>** وإذا كان التلف جزئيا :</a:t>
            </a:r>
            <a:br>
              <a:rPr sz="2200"/>
            </a:br>
            <a:r>
              <a:rPr b="1" lang="ar-SA" sz="2200" spc="-1" strike="noStrike">
                <a:solidFill>
                  <a:srgbClr val="00b0f0"/>
                </a:solidFill>
                <a:latin typeface="Book Antiqua"/>
              </a:rPr>
              <a:t>-- تحمل البائع ضمان الجزء الهالك ‘ وسقط مقابله من الثمن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، 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-- ويخير المشتري في الباقي بين إبقاء البيع وبين فسخه، وإذا كان النقص جسيما 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كما تقدم المادة(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3/533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) إماراتي. وهذا مأخوذ من </a:t>
            </a: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المذهب الحنفي إلا أن هذا المذهب كغيره ويجيز الفسخ في النقص الجسيم واليسير.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200" spc="-1" strike="noStrike" u="sng">
                <a:solidFill>
                  <a:srgbClr val="00b050"/>
                </a:solidFill>
                <a:uFillTx/>
                <a:latin typeface="Book Antiqua"/>
              </a:rPr>
              <a:t>ثانيا : </a:t>
            </a:r>
            <a:r>
              <a:rPr b="1" lang="ar-SA" sz="2200" spc="-1" strike="noStrike" u="sng">
                <a:solidFill>
                  <a:srgbClr val="ff0000"/>
                </a:solidFill>
                <a:uFillTx/>
                <a:latin typeface="Book Antiqua"/>
              </a:rPr>
              <a:t>وإذا هلك المبيع كله أو بعضه قبل التسليم بفعل المشتري أو بسببه :</a:t>
            </a:r>
            <a:br>
              <a:rPr sz="2200"/>
            </a:br>
            <a:r>
              <a:rPr b="1" lang="ar-SA" sz="2200" spc="-1" strike="noStrike">
                <a:solidFill>
                  <a:srgbClr val="0070c0"/>
                </a:solidFill>
                <a:latin typeface="Book Antiqua"/>
              </a:rPr>
              <a:t>-- فإن المشتري يتحمل تبعة الهلاك ، 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-- ويلزم البيع ويلتزم بدفع الثمن . </a:t>
            </a:r>
            <a:br>
              <a:rPr sz="2200"/>
            </a:b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-- وللبائع الخيار في هذه الحالة ، </a:t>
            </a:r>
            <a:r>
              <a:rPr b="1" lang="ar-SA" sz="2200" spc="-1" strike="noStrike">
                <a:solidFill>
                  <a:srgbClr val="002060"/>
                </a:solidFill>
                <a:latin typeface="Book Antiqua"/>
              </a:rPr>
              <a:t>فإذا اختار الفسخ ، ضمن له المشتري المبيع أو قيمته، وتملك ما بقي منه. </a:t>
            </a: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وهذا مأخوذ من مذهب الحنيفة أيضا. </a:t>
            </a:r>
            <a:br>
              <a:rPr sz="2200"/>
            </a:br>
            <a:br>
              <a:rPr sz="2200"/>
            </a:b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4</a:t>
            </a:r>
            <a:r>
              <a:rPr b="1" lang="ar-SA" sz="2200" spc="-1" strike="noStrike" u="sng">
                <a:solidFill>
                  <a:srgbClr val="0070c0"/>
                </a:solidFill>
                <a:uFillTx/>
                <a:latin typeface="Book Antiqua"/>
              </a:rPr>
              <a:t>- هلاك المبيع قبل التسليم بفعل أجنبي:</a:t>
            </a:r>
            <a:br>
              <a:rPr sz="2200"/>
            </a:br>
            <a:r>
              <a:rPr b="1" lang="ar-SA" sz="2200" spc="-1" strike="noStrike" u="sng">
                <a:solidFill>
                  <a:srgbClr val="ff0000"/>
                </a:solidFill>
                <a:uFillTx/>
                <a:latin typeface="Book Antiqua"/>
              </a:rPr>
              <a:t>** إذا تف المبيع قبل التسليم بفعل شخص آخر غير المتعاقدين :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-- ثبت الخيار للمشتري بين فسخ العقد وبين إجازته </a:t>
            </a:r>
            <a:br>
              <a:rPr sz="2200"/>
            </a:b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-- ومطالبة المتلف بضمان مثل المبيع إن كان مثليا ،أو قيمته إن كان قيميا.</a:t>
            </a:r>
            <a:br>
              <a:rPr sz="2200"/>
            </a:br>
            <a:r>
              <a:rPr b="1" lang="ar-SA" sz="2200" spc="-1" strike="noStrike" u="sng">
                <a:solidFill>
                  <a:srgbClr val="ff0000"/>
                </a:solidFill>
                <a:uFillTx/>
                <a:latin typeface="Book Antiqua"/>
              </a:rPr>
              <a:t>** وإذا وقع الإتلاف على بعض المبيع ‘ كان المشتري مخيرا بين ثلاثة أمور:</a:t>
            </a:r>
            <a:br>
              <a:rPr sz="2200"/>
            </a:br>
            <a:r>
              <a:rPr b="1" lang="ar-SA" sz="2200" spc="-1" strike="noStrike">
                <a:solidFill>
                  <a:srgbClr val="0070c0"/>
                </a:solidFill>
                <a:latin typeface="Book Antiqua"/>
              </a:rPr>
              <a:t>1</a:t>
            </a:r>
            <a:r>
              <a:rPr b="1" lang="ar-SA" sz="2200" spc="-1" strike="noStrike">
                <a:solidFill>
                  <a:srgbClr val="0070c0"/>
                </a:solidFill>
                <a:latin typeface="Book Antiqua"/>
              </a:rPr>
              <a:t>/فسخ البيع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200"/>
            </a:b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2</a:t>
            </a: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/اخذ الباقي من حصته من الثمن، وإمضاء البيع.</a:t>
            </a:r>
            <a:br>
              <a:rPr sz="2200"/>
            </a:b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3</a:t>
            </a: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/مطالبة المتلف بضمان ما أتلف.</a:t>
            </a: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ويلاحظ أن هذه </a:t>
            </a:r>
            <a:r>
              <a:rPr b="1" lang="ar-SA" sz="2200" spc="-1" strike="noStrike">
                <a:solidFill>
                  <a:srgbClr val="7030a0"/>
                </a:solidFill>
                <a:latin typeface="Book Antiqua"/>
              </a:rPr>
              <a:t>التفرقة بين حالتي الهلاك الكلي والجزئي، بتخيير المشتري في الحالة الأولى بين الفسخ و الإجازة ، وفي الحالة الثانية بين الأمور الثلاثة. </a:t>
            </a:r>
            <a:r>
              <a:rPr b="1" lang="ar-SA" sz="2200" spc="-1" strike="noStrike">
                <a:solidFill>
                  <a:srgbClr val="00b050"/>
                </a:solidFill>
                <a:latin typeface="Book Antiqua"/>
              </a:rPr>
              <a:t>مخالفا لما قرره مرشد الحيران من إعطاء الخيار للمشتري بين الفسخ كليا إجازته كليا، وملاحقة التلف.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 u="sng">
                <a:solidFill>
                  <a:srgbClr val="0070c0"/>
                </a:solidFill>
                <a:uFillTx/>
                <a:latin typeface="Book Antiqua"/>
              </a:rPr>
              <a:t>5</a:t>
            </a:r>
            <a:r>
              <a:rPr b="1" lang="ar-SA" sz="2400" spc="-1" strike="noStrike" u="sng">
                <a:solidFill>
                  <a:srgbClr val="0070c0"/>
                </a:solidFill>
                <a:uFillTx/>
                <a:latin typeface="Book Antiqua"/>
              </a:rPr>
              <a:t>- إذا كان هلاك المبيع بعد التسليم او القبض:</a:t>
            </a:r>
            <a:br>
              <a:rPr sz="2400"/>
            </a:br>
            <a:r>
              <a:rPr b="1" lang="ar-SA" sz="2400" spc="-1" strike="noStrike">
                <a:solidFill>
                  <a:srgbClr val="00b050"/>
                </a:solidFill>
                <a:latin typeface="Book Antiqua"/>
              </a:rPr>
              <a:t>هنا سكت القانون عن هذه الحالة والمقرر في الفقه الحنفي ما يلي: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Book Antiqua"/>
              </a:rPr>
              <a:t>أ-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400" spc="-1" strike="noStrike" u="sng">
                <a:solidFill>
                  <a:srgbClr val="002060"/>
                </a:solidFill>
                <a:uFillTx/>
                <a:latin typeface="Book Antiqua"/>
              </a:rPr>
              <a:t>إذا كان هلاك المبيع كله أو بعضه بآفة سماوية او بفعل المشتري أو بفعل المبيع نفسه ، أو بفعل أجنبي :</a:t>
            </a:r>
            <a:br>
              <a:rPr sz="2400"/>
            </a:br>
            <a:r>
              <a:rPr b="1" lang="ar-SA" sz="2400" spc="-1" strike="noStrike">
                <a:solidFill>
                  <a:srgbClr val="7030a0"/>
                </a:solidFill>
                <a:latin typeface="Book Antiqua"/>
              </a:rPr>
              <a:t>-- فلا ينفسخ العقد 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Book Antiqua"/>
              </a:rPr>
              <a:t>-- ويكون الهلاك على ضمان المشتري؛ لأن خرج عن ضمان البائع بقبض المشتري، 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Book Antiqua"/>
              </a:rPr>
              <a:t>-- ويرجع بالضمان على الأجنبي حال كون الاعتداء منه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ff0000"/>
                </a:solidFill>
                <a:uFillTx/>
                <a:latin typeface="Book Antiqua"/>
              </a:rPr>
              <a:t>ب-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400" spc="-1" strike="noStrike" u="sng">
                <a:solidFill>
                  <a:srgbClr val="002060"/>
                </a:solidFill>
                <a:uFillTx/>
                <a:latin typeface="Book Antiqua"/>
              </a:rPr>
              <a:t>إذا هلك المبيع بفعل البائع :</a:t>
            </a:r>
            <a:br>
              <a:rPr sz="2400"/>
            </a:br>
            <a:r>
              <a:rPr b="1" lang="ar-SA" sz="2400" spc="-1" strike="noStrike">
                <a:solidFill>
                  <a:srgbClr val="00b050"/>
                </a:solidFill>
                <a:latin typeface="Book Antiqua"/>
              </a:rPr>
              <a:t>**  فإن كان قبض المشتري قد حدث بإذن البائع او بدون اذن ، </a:t>
            </a:r>
            <a:r>
              <a:rPr b="1" lang="ar-SA" sz="2400" spc="-1" strike="noStrike" u="sng">
                <a:solidFill>
                  <a:srgbClr val="00b050"/>
                </a:solidFill>
                <a:uFillTx/>
                <a:latin typeface="Book Antiqua"/>
              </a:rPr>
              <a:t>لكنه قد نقد او اعطي  الثمن ، او كان الثمن مؤجلا </a:t>
            </a:r>
            <a:r>
              <a:rPr b="1" lang="ar-SA" sz="2400" spc="-1" strike="noStrike" u="sng">
                <a:solidFill>
                  <a:srgbClr val="6b7d72"/>
                </a:solidFill>
                <a:uFillTx/>
                <a:latin typeface="Book Antiqua"/>
              </a:rPr>
              <a:t>:</a:t>
            </a:r>
            <a:br>
              <a:rPr sz="2400"/>
            </a:b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Book Antiqua"/>
              </a:rPr>
              <a:t>فيكون هلاكه من البائع كهلاكه من الأجنبي، فعليه ضمانه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b050"/>
                </a:solidFill>
                <a:latin typeface="Book Antiqua"/>
              </a:rPr>
              <a:t>** وإن قبض المشتري المبيع دون إذن البائع ، </a:t>
            </a:r>
            <a:r>
              <a:rPr b="1" lang="ar-SA" sz="2400" spc="-1" strike="noStrike" u="sng">
                <a:solidFill>
                  <a:srgbClr val="00b050"/>
                </a:solidFill>
                <a:uFillTx/>
                <a:latin typeface="Book Antiqua"/>
              </a:rPr>
              <a:t>والثمن حال وغير معطى للبائع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:</a:t>
            </a:r>
            <a:br>
              <a:rPr sz="2400"/>
            </a:b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Book Antiqua"/>
              </a:rPr>
              <a:t>-- فيتوجب فسخ البيع في الهلاك الكلي وبقدر التلف في الهلاك الجزئي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، 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Book Antiqua"/>
              </a:rPr>
              <a:t>-- ويكون البائع باعتدائه مستردا للمبيع ، وعليه ضمانه إن كان التلف كليا، وضمان الجزء التالف إن كان تالف جزئيا.</a:t>
            </a:r>
            <a:br>
              <a:rPr sz="2400"/>
            </a:b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من 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66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إلى 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79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إعداد الطالبات:</a:t>
            </a: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</a:t>
            </a:r>
            <a:br>
              <a:rPr sz="1600"/>
            </a:br>
            <a:r>
              <a:rPr b="0" lang="ar-SA" sz="1600" spc="-1" strike="noStrike">
                <a:solidFill>
                  <a:srgbClr val="6b7d72"/>
                </a:solidFill>
                <a:latin typeface="Book Antiqua"/>
              </a:rPr>
              <a:t>- سلطانه أبوحيمد </a:t>
            </a:r>
            <a:br>
              <a:rPr sz="1600"/>
            </a:br>
            <a:r>
              <a:rPr b="0" lang="ar-SA" sz="1600" spc="-1" strike="noStrike">
                <a:solidFill>
                  <a:srgbClr val="6b7d72"/>
                </a:solidFill>
                <a:latin typeface="Book Antiqua"/>
              </a:rPr>
              <a:t>- غيداء السياري </a:t>
            </a:r>
            <a:br>
              <a:rPr sz="1600"/>
            </a:br>
            <a:r>
              <a:rPr b="0" lang="ar-SA" sz="1600" spc="-1" strike="noStrike">
                <a:solidFill>
                  <a:srgbClr val="6b7d72"/>
                </a:solidFill>
                <a:latin typeface="Book Antiqua"/>
              </a:rPr>
              <a:t>- سارة الثويني </a:t>
            </a:r>
            <a:br>
              <a:rPr sz="1600"/>
            </a:br>
            <a:r>
              <a:rPr b="0" lang="ar-SA" sz="1600" spc="-1" strike="noStrike">
                <a:solidFill>
                  <a:srgbClr val="6b7d72"/>
                </a:solidFill>
                <a:latin typeface="Book Antiqua"/>
              </a:rPr>
              <a:t>- أمل الدباس </a:t>
            </a:r>
            <a:br>
              <a:rPr sz="1600"/>
            </a:br>
            <a:r>
              <a:rPr b="0" lang="ar-SA" sz="1600" spc="-1" strike="noStrike">
                <a:solidFill>
                  <a:srgbClr val="6b7d72"/>
                </a:solidFill>
                <a:latin typeface="Book Antiqua"/>
              </a:rPr>
              <a:t>- نورة الشقاوي</a:t>
            </a:r>
            <a:br>
              <a:rPr sz="1600"/>
            </a:br>
            <a:r>
              <a:rPr b="0" lang="ar-SA" sz="1600" spc="-1" strike="noStrike">
                <a:solidFill>
                  <a:srgbClr val="6b7d72"/>
                </a:solidFill>
                <a:latin typeface="Book Antiqua"/>
              </a:rPr>
              <a:t>- ريما المطيري </a:t>
            </a:r>
            <a:endParaRPr b="0" lang="en-US" sz="16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Book Antiqua"/>
              </a:rPr>
              <a:t>-- و اذا كان المبيع حقا من الحقوق المجردة كحق المرور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, </a:t>
            </a:r>
            <a:r>
              <a:rPr b="1" lang="ar-SA" sz="2400" spc="-1" strike="noStrike">
                <a:solidFill>
                  <a:srgbClr val="00b050"/>
                </a:solidFill>
                <a:latin typeface="Book Antiqua"/>
              </a:rPr>
              <a:t>فيكون تسليمة بتسليم سنده و اوراقه الرسمية كرخصة ممارسته , و بالسماح له باستعمال الحق المبيع و ازالة ما يحول بينه و بين استعماله. 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و قد نصت المادة (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515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) اماراتي على </a:t>
            </a:r>
            <a:r>
              <a:rPr b="1" lang="ar-SA" sz="2400" spc="-1" strike="noStrike">
                <a:solidFill>
                  <a:srgbClr val="0070c0"/>
                </a:solidFill>
                <a:latin typeface="Book Antiqua"/>
              </a:rPr>
              <a:t>وجوب تسليم وثائق ملكية المبيع , ويجبره القاضي على تسليمها , و الا خير المشتري بين رد البيع او امضائه . 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Book Antiqua"/>
              </a:rPr>
              <a:t>-- و اذا كان المبيع حقا شخصيا كحوالة الحق او حق التأليف و الاختراع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400" spc="-1" strike="noStrike">
                <a:solidFill>
                  <a:srgbClr val="7030a0"/>
                </a:solidFill>
                <a:latin typeface="Book Antiqua"/>
              </a:rPr>
              <a:t>فيكون تسليمة بتسليم سند الحق , و تسليم براءة الاختراع . </a:t>
            </a:r>
            <a:br>
              <a:rPr sz="2400"/>
            </a:br>
            <a:r>
              <a:rPr b="1" lang="ar-SA" sz="2400" spc="-1" strike="noStrike" u="sng">
                <a:solidFill>
                  <a:srgbClr val="002060"/>
                </a:solidFill>
                <a:uFillTx/>
                <a:latin typeface="Book Antiqua"/>
              </a:rPr>
              <a:t>و التخلية : </a:t>
            </a:r>
            <a:r>
              <a:rPr b="1" lang="ar-SA" sz="2400" spc="-1" strike="noStrike">
                <a:solidFill>
                  <a:srgbClr val="0070c0"/>
                </a:solidFill>
                <a:latin typeface="Book Antiqua"/>
              </a:rPr>
              <a:t>هي أن يتمكن المشتري من المبيع بلا مانع , أي ان يكون مفرزا و لا حائل , أي في حضرة البائع , مع الاذن له بالقبض .</a:t>
            </a:r>
            <a:br>
              <a:rPr sz="2400"/>
            </a:b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Book Antiqua"/>
              </a:rPr>
              <a:t>فلو باع انسان غيره حنطة و قال : خليت بينك و بينها , أي أذنت فهو قبض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. </a:t>
            </a: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0070c0"/>
                </a:solidFill>
                <a:uFillTx/>
                <a:latin typeface="Book Antiqua"/>
              </a:rPr>
              <a:t>و التسليم نوعان : اما حقيقي , و اما اعتباري . </a:t>
            </a:r>
            <a:br>
              <a:rPr sz="2400"/>
            </a:br>
            <a:r>
              <a:rPr b="1" lang="ar-SA" sz="2400" spc="-1" strike="noStrike" u="sng">
                <a:solidFill>
                  <a:srgbClr val="00b050"/>
                </a:solidFill>
                <a:uFillTx/>
                <a:latin typeface="Book Antiqua"/>
              </a:rPr>
              <a:t>أما الحقيقي فهو ما ذكر ,</a:t>
            </a:r>
            <a:br>
              <a:rPr sz="2400"/>
            </a:br>
            <a:r>
              <a:rPr b="1" lang="ar-SA" sz="2400" spc="-1" strike="noStrike" u="sng">
                <a:solidFill>
                  <a:srgbClr val="00b050"/>
                </a:solidFill>
                <a:uFillTx/>
                <a:latin typeface="Book Antiqua"/>
              </a:rPr>
              <a:t> </a:t>
            </a:r>
            <a:r>
              <a:rPr b="1" lang="ar-SA" sz="2400" spc="-1" strike="noStrike" u="sng">
                <a:solidFill>
                  <a:srgbClr val="7030a0"/>
                </a:solidFill>
                <a:uFillTx/>
                <a:latin typeface="Book Antiqua"/>
              </a:rPr>
              <a:t>و أما الاعتباري فيتم باتفاق العاقدين او بحكم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ar-SA" sz="2400" spc="-1" strike="noStrike" u="sng">
                <a:solidFill>
                  <a:srgbClr val="7030a0"/>
                </a:solidFill>
                <a:uFillTx/>
                <a:latin typeface="Book Antiqua"/>
              </a:rPr>
              <a:t>اولا : التسليم الاتفاقي : </a:t>
            </a:r>
            <a:r>
              <a:rPr b="1" lang="ar-SA" sz="2400" spc="-1" strike="noStrike">
                <a:solidFill>
                  <a:srgbClr val="ff0000"/>
                </a:solidFill>
                <a:latin typeface="Book Antiqua"/>
              </a:rPr>
              <a:t>هو الذي يتم بتراضي المتبايعين على طريقة معينة , فيعتبر المشتري مستلمًا متى حصلت الصورة المتفق عليها , </a:t>
            </a:r>
            <a:r>
              <a:rPr b="1" lang="ar-SA" sz="2400" spc="-1" strike="noStrike">
                <a:solidFill>
                  <a:srgbClr val="00b050"/>
                </a:solidFill>
                <a:latin typeface="Book Antiqua"/>
              </a:rPr>
              <a:t>كما لو اتفق التبايعان على تعيين مكان التسليم و زمانه , وأنه إذا لم يحضر المشتري للاستلام فيعتبر مستلمًا بحسب هذا الشرط .</a:t>
            </a:r>
            <a:br>
              <a:rPr sz="2400"/>
            </a:br>
            <a:r>
              <a:rPr b="1" lang="ar-SA" sz="2400" spc="-1" strike="noStrike" u="sng">
                <a:solidFill>
                  <a:srgbClr val="7030a0"/>
                </a:solidFill>
                <a:uFillTx/>
                <a:latin typeface="Book Antiqua"/>
              </a:rPr>
              <a:t>ثانيا : التسليم القانوني أو الحكمي : </a:t>
            </a:r>
            <a:r>
              <a:rPr b="1" lang="ar-SA" sz="2400" spc="-1" strike="noStrike">
                <a:solidFill>
                  <a:srgbClr val="6b7d72"/>
                </a:solidFill>
                <a:latin typeface="Book Antiqua"/>
              </a:rPr>
              <a:t>و </a:t>
            </a:r>
            <a:r>
              <a:rPr b="1" lang="ar-SA" sz="2400" spc="-1" strike="noStrike">
                <a:solidFill>
                  <a:srgbClr val="00b0f0"/>
                </a:solidFill>
                <a:latin typeface="Book Antiqua"/>
              </a:rPr>
              <a:t>أن ينص القانون على حالات معينة تعد بمثابة التسليم للمشتري , و هي : </a:t>
            </a:r>
            <a:br>
              <a:rPr sz="2400"/>
            </a:br>
            <a:r>
              <a:rPr b="1" lang="ar-SA" sz="2400" spc="-1" strike="noStrike">
                <a:solidFill>
                  <a:srgbClr val="c00000"/>
                </a:solidFill>
                <a:latin typeface="Book Antiqua"/>
              </a:rPr>
              <a:t>-- أن يكون المبيع في حيازة المشتري قبل البيع , سواء كانت حيازته بسبب مشروع أو غير مشروع .</a:t>
            </a:r>
            <a:br>
              <a:rPr sz="2400"/>
            </a:br>
            <a:r>
              <a:rPr b="1" lang="ar-SA" sz="2400" spc="-1" strike="noStrike">
                <a:solidFill>
                  <a:srgbClr val="0070c0"/>
                </a:solidFill>
                <a:latin typeface="Book Antiqua"/>
              </a:rPr>
              <a:t>-- إذا أبقى البائع المبيع تحت يده بناء على طلب المشتري , كأن أبقاه لديه وديعه أو رهن .</a:t>
            </a:r>
            <a:br>
              <a:rPr sz="2400"/>
            </a:br>
            <a:r>
              <a:rPr b="1" lang="ar-SA" sz="2400" spc="-1" strike="noStrike">
                <a:solidFill>
                  <a:srgbClr val="00b050"/>
                </a:solidFill>
                <a:latin typeface="Book Antiqua"/>
              </a:rPr>
              <a:t>-- إذا أنذر البائع المشتري ( بدفع الثمن و تسليم المبيع خلال مدة معلومة , وإلا اعتبر مسلمًا ) فلم يفعل , ففي هذه الحالة يعتبر المشتري متسلمًا حكمًا .</a:t>
            </a:r>
            <a:br>
              <a:rPr sz="2400"/>
            </a:br>
            <a:r>
              <a:rPr b="1" lang="ar-SA" sz="2400" spc="-1" strike="noStrike">
                <a:solidFill>
                  <a:srgbClr val="7030a0"/>
                </a:solidFill>
                <a:latin typeface="Book Antiqua"/>
              </a:rPr>
              <a:t>-- إذا تم تسجيل البيع باسم المشتري في السجل العقاري , و في صحيفة العقار , فيعد التسجيل تسليمًا حكمًا للعقار المبيع .</a:t>
            </a:r>
            <a:br>
              <a:rPr sz="2400"/>
            </a:br>
            <a:r>
              <a:rPr b="1" lang="ar-SA" sz="2400" spc="-1" strike="noStrike">
                <a:solidFill>
                  <a:srgbClr val="c00000"/>
                </a:solidFill>
                <a:latin typeface="Book Antiqua"/>
              </a:rPr>
              <a:t>-- إذا هلك المبيع في يد البائع قبل التسليم بفعل المشتري أو تسببه , فإنه يعتبر مستلمًا حكمًا , و يلتزم المشتري بالثمن المسمى . وهذه حالات نص عليها الفقه الحنفي</a:t>
            </a:r>
            <a:br>
              <a:rPr sz="2400"/>
            </a:b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7030a0"/>
                </a:solidFill>
                <a:uFillTx/>
                <a:latin typeface="Book Antiqua"/>
              </a:rPr>
              <a:t>زمان التسليم :</a:t>
            </a: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    --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وقت تسليم المبيع هو وقت البيع ما لم يوجد اتفاق أو نص قانوني يقضي بغير ذلك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, أي أنه </a:t>
            </a: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متى تم الإيجاب و القبول و أبرم العقد بين الجانبين , وجب على البائع تسليم المبيع فورًا , سواء كان الثمن حالًا أو مؤجلًا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, </a:t>
            </a:r>
            <a:br>
              <a:rPr sz="2000"/>
            </a:br>
            <a:r>
              <a:rPr b="1" lang="ar-SA" sz="2000" spc="-1" strike="noStrike">
                <a:solidFill>
                  <a:srgbClr val="c00000"/>
                </a:solidFill>
                <a:latin typeface="Book Antiqua"/>
              </a:rPr>
              <a:t>و يحق للبائع حبس المبيع عنده إذا كان الثمن حالًا حتى يقوم المشتري بدفع الثمن الحال أو القسط الحال منه 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     -- </a:t>
            </a: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فإن وجد اتفاق بين العاقدين بتحديد وقت التسليم في زمن معين فيعمل بموجب اتفاقهما سواء كان الاتفاق صريحًا أو ضمنيًا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    --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و إن لم يوجد اتفاق في العقد لتأجيل التسليم , يعمل بالعرف إن وجد , أي أن الأصل في زمان تسليم المبيع هو اتفاق الطرفين , و إلا فالعرف , و إلا فيكون فور العقد مباشرة .</a:t>
            </a:r>
            <a:br>
              <a:rPr sz="2000"/>
            </a:br>
            <a:br>
              <a:rPr sz="2000"/>
            </a:br>
            <a:r>
              <a:rPr b="1" lang="ar-SA" sz="2400" spc="-1" strike="noStrike" u="sng">
                <a:solidFill>
                  <a:srgbClr val="0070c0"/>
                </a:solidFill>
                <a:uFillTx/>
                <a:latin typeface="Book Antiqua"/>
              </a:rPr>
              <a:t>فالاصل في زمان التسليم هو اتفاق الطرفين ، والا فبالعرف والا فيكون فور العقد .</a:t>
            </a:r>
            <a:br>
              <a:rPr sz="24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     و هذا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موافق للمقرر في الفقه الإسلامي , فإن التسليم يقع عقب العقد مباشرة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,و في رأي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الحنفية أن يبدأ المشتري بدفع الثمن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,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و في رأي الجمهور يحق للبائع أن يحبس المبيع حتى يستوفي الثمن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,</a:t>
            </a: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Book Antiqua"/>
              </a:rPr>
              <a:t>و قال الحنابلة : ليس للبائع حبي المبيع لقبض الثمن , و يجبر البائع على التسليم .</a:t>
            </a:r>
            <a:br>
              <a:rPr sz="2000"/>
            </a:b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      فإذا كان الثمن مؤجلًا , فيجب على البائع المبادرة بتسليم المبيع فور العقد . 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لكن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لم يجز الحنفية الاتفاق على تأجيل تسليم المبيع المستحق تسليمه , و مثل هذا الاتفاق شرط فاسد يفسد العقد , وأجاز الحنابلة  تأخير التسليم إذا كان العرف يقتضيه .</a:t>
            </a:r>
            <a:br>
              <a:rPr sz="2000"/>
            </a:b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64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SA" sz="2800" spc="-1" strike="noStrike" u="sng">
                <a:solidFill>
                  <a:srgbClr val="002060"/>
                </a:solidFill>
                <a:uFillTx/>
                <a:latin typeface="Book Antiqua"/>
              </a:rPr>
              <a:t>مكان التسليم:</a:t>
            </a:r>
            <a:br>
              <a:rPr sz="2000"/>
            </a:b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١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- يلتزم البائع بتسليم المبيع في محل وجوده وقت العقد. </a:t>
            </a:r>
            <a:br>
              <a:rPr sz="2000"/>
            </a:b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٢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- واذا تضمن العقد او اقتضى العرف ارسال المبيع الى المشتري فلا يتم التسليم الا اذا وصل اليه مالم يوجد اتفاق على غير ذلك .</a:t>
            </a: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هذه المادة مستقاة من المذهب الحنفي، </a:t>
            </a:r>
            <a:br>
              <a:rPr sz="2000"/>
            </a:b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فمكان تسليم المبيع يكون في محل وجود المبيع وقت العقد </a:t>
            </a:r>
            <a:r>
              <a:rPr b="1" lang="ar-SA" sz="2000" spc="-1" strike="noStrike">
                <a:solidFill>
                  <a:srgbClr val="002060"/>
                </a:solidFill>
                <a:latin typeface="Book Antiqua"/>
              </a:rPr>
              <a:t>الا اذا وجد اتفاق من المتبايعين على غير ذلك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000"/>
            </a:b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وقرر الفقه الإسلامي ايضاً اعطاء المشتري الخيار اذا كان لا يعلم محل المبيع وقت العقد، ثم علم به بعده ،فله الخيار: ان شاء فسخ البيع ،وان شاء امضاه ،واستلم المبيع حيث كان موجوداً، وذلك دفعا للضرر ،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خاصة اذا وجد المبيع في مكان بعيد يحتاج نفقات لنقله ولو علم بالمكان المشتري لما ابرم العقد فوقع في غلط غير جوهري لكن اثر على رضاه .</a:t>
            </a:r>
            <a:br>
              <a:rPr sz="2000"/>
            </a:b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اذا تم الاتفاق او اقتضى العرف إرسال المبيع إلى المشتري، ،فيتم التسليم بوصوله إليه في مكان وجوده.</a:t>
            </a:r>
            <a:br>
              <a:rPr sz="2000"/>
            </a:br>
            <a:br>
              <a:rPr sz="2000"/>
            </a:br>
            <a:r>
              <a:rPr b="1" lang="ar-SA" sz="2800" spc="-1" strike="noStrike" u="sng">
                <a:solidFill>
                  <a:srgbClr val="002060"/>
                </a:solidFill>
                <a:uFillTx/>
                <a:latin typeface="Book Antiqua"/>
              </a:rPr>
              <a:t>نفقات التسليم:</a:t>
            </a:r>
            <a:br>
              <a:rPr sz="2000"/>
            </a:b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أخذ القانون بالمبدأ العام في الفقه الإسلامي في النفقات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000"/>
            </a:br>
            <a:r>
              <a:rPr b="1" lang="ar-SA" sz="2000" spc="-1" strike="noStrike" u="sng">
                <a:solidFill>
                  <a:srgbClr val="00b050"/>
                </a:solidFill>
                <a:uFillTx/>
                <a:latin typeface="Book Antiqua"/>
              </a:rPr>
              <a:t>-وهذا يعني  انه بحسب الاصل فأن نفقات تسليم المبيع تكون على البائع، سواء أكان البيع جزافاً أم غيره.ما لم يوجد اتفاق يقضي بغير ذلك 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والنفقات هنا هي مثل نفقات الارسال والمخالصة والشيك واذن البريد </a:t>
            </a:r>
            <a:br>
              <a:rPr sz="2000"/>
            </a:b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مشتملات المبيع: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نصت المادة(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٥١٦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) إماراتي (م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٤٨٩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) أردني على أنه: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يلتزم البائع بتسليم المبيع للمشتري بالحالة التي كان عليها وقت البيع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ونصت المادة(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٥١٧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) إماراتي (م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٤٩٠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) أردني بعدها على أنه :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يشمل التسليم ملحقات المبيع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،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وما اتصل به اتصال قرار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، و </a:t>
            </a:r>
            <a:r>
              <a:rPr b="1" lang="ar-SA" sz="2000" spc="-1" strike="noStrike">
                <a:solidFill>
                  <a:srgbClr val="002060"/>
                </a:solidFill>
                <a:latin typeface="Book Antiqua"/>
              </a:rPr>
              <a:t>ما أعد لاستعماله  بصفة دائمة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،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وكل ما جرى العرف به على أنه من توابع المبيع ،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ولو لم تذكر في العقد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فالنص الأول يدل على أنه </a:t>
            </a: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يجب تسليم المبيع على حالته التي كان عليها وقت البيع؛ لأنها الحالة التي رضي بها المشتري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والنص الثاني يدل على أن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Book Antiqua"/>
              </a:rPr>
              <a:t>المبيع يشمل ما يأتي:</a:t>
            </a:r>
            <a:br>
              <a:rPr sz="2000"/>
            </a:br>
            <a:br>
              <a:rPr sz="2000"/>
            </a:b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١</a:t>
            </a: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-ما يعتبر من أصل المبيع أو من أجزائه التي يتكون منها أو ما يعد كالجزء من المبيع ما لا يقبل الانفكاك عنه: </a:t>
            </a:r>
            <a:br>
              <a:rPr sz="2000"/>
            </a:br>
            <a:r>
              <a:rPr b="1" lang="ar-SA" sz="2000" spc="-1" strike="noStrike" u="sng">
                <a:solidFill>
                  <a:srgbClr val="c00000"/>
                </a:solidFill>
                <a:uFillTx/>
                <a:latin typeface="Book Antiqua"/>
              </a:rPr>
              <a:t>-- و الشيء الاصلي في المبيع والذي من اجزائه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،ف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يدخل في المبيع متى أطلق البيع، ما لم يتفق على خلاف ذلك. </a:t>
            </a:r>
            <a:br>
              <a:rPr sz="2000"/>
            </a:br>
            <a:r>
              <a:rPr b="1" lang="ar-SA" sz="2000" spc="-1" strike="noStrike" u="sng">
                <a:solidFill>
                  <a:srgbClr val="c00000"/>
                </a:solidFill>
                <a:uFillTx/>
                <a:latin typeface="Book Antiqua"/>
              </a:rPr>
              <a:t>-- والذي هو في حكم جزء من المبيع: هو ما لا يقبل الانفكاك عنه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، فيدخل في المبيع المعقود عليه، وإن لم يصرح بذلك في العقد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2000" spc="-1" strike="noStrike" u="sng">
                <a:solidFill>
                  <a:srgbClr val="c00000"/>
                </a:solidFill>
                <a:uFillTx/>
                <a:latin typeface="Book Antiqua"/>
              </a:rPr>
              <a:t>ففي بيع الدار :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يدخل الجدران والسقف والغرف والدرج والحديقة وسور الدار ن كان لها سور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0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وفي بيع الدابة الحامل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: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يدخل جنينها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2000"/>
            </a:br>
            <a:r>
              <a:rPr b="1" lang="ar-SA" sz="2000" spc="-1" strike="noStrike" u="sng">
                <a:solidFill>
                  <a:srgbClr val="c00000"/>
                </a:solidFill>
                <a:uFillTx/>
                <a:latin typeface="Book Antiqua"/>
              </a:rPr>
              <a:t>وفي بيع الغنمة :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يدخل صوفها .</a:t>
            </a:r>
            <a:br>
              <a:rPr sz="2000"/>
            </a:b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ويدخل المفتاح مع القفل ويدخل الرضيع مع البقرة الحلوب.</a:t>
            </a:r>
            <a:br>
              <a:rPr sz="20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وفي بيع السيارة: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تدخل مفاتيحها وعجلاتها ومقاعدها ومصابيحها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2</a:t>
            </a: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- الملحقات الضرورية بالمبيع :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000" spc="-1" strike="noStrike" u="sng">
                <a:solidFill>
                  <a:srgbClr val="ff0000"/>
                </a:solidFill>
                <a:uFillTx/>
                <a:latin typeface="Book Antiqua"/>
              </a:rPr>
              <a:t>ويدخل في المبيع :</a:t>
            </a:r>
            <a:br>
              <a:rPr sz="20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-- بحسب طبيعة الاشياء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: وهو كل ما يلحق به ويعتبر ضروري له حسب طبيعة الانتفاع به , </a:t>
            </a:r>
            <a:br>
              <a:rPr sz="20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-- بحسب قصد المتعاقدين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: وهو ما يقصد من شرائه , </a:t>
            </a:r>
            <a:br>
              <a:rPr sz="2000"/>
            </a:br>
            <a:r>
              <a:rPr b="1" lang="ar-SA" sz="2000" spc="-1" strike="noStrike" u="sng">
                <a:solidFill>
                  <a:srgbClr val="002060"/>
                </a:solidFill>
                <a:uFillTx/>
                <a:latin typeface="Book Antiqua"/>
              </a:rPr>
              <a:t>-- وعرف الجهة </a:t>
            </a: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: وهوعرف البلد .</a:t>
            </a:r>
            <a:br>
              <a:rPr sz="2000"/>
            </a:br>
            <a:br>
              <a:rPr sz="2000"/>
            </a:br>
            <a:r>
              <a:rPr b="1" lang="ar-SA" sz="2000" spc="-1" strike="noStrike" u="sng">
                <a:solidFill>
                  <a:srgbClr val="c00000"/>
                </a:solidFill>
                <a:uFillTx/>
                <a:latin typeface="Book Antiqua"/>
              </a:rPr>
              <a:t>ففي بيع العقار :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يدخل وثائق الملكية, </a:t>
            </a:r>
            <a:br>
              <a:rPr sz="2000"/>
            </a:br>
            <a:r>
              <a:rPr b="1" lang="ar-SA" sz="2000" spc="-1" strike="noStrike" u="sng">
                <a:solidFill>
                  <a:srgbClr val="c00000"/>
                </a:solidFill>
                <a:uFillTx/>
                <a:latin typeface="Book Antiqua"/>
              </a:rPr>
              <a:t>وفي بيع السيارة :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يدخل وثيقة الملكية وأوراقها المتعلقة بها ,وعجلتها الاحتياطية , والرافعة , </a:t>
            </a:r>
            <a:br>
              <a:rPr sz="2000"/>
            </a:br>
            <a:r>
              <a:rPr b="1" lang="ar-SA" sz="2000" spc="-1" strike="noStrike" u="sng">
                <a:solidFill>
                  <a:srgbClr val="c00000"/>
                </a:solidFill>
                <a:uFillTx/>
                <a:latin typeface="Book Antiqua"/>
              </a:rPr>
              <a:t>وفي بيع الارض الزراعية :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يدخل سند الملكية , </a:t>
            </a:r>
            <a:br>
              <a:rPr sz="2000"/>
            </a:br>
            <a:r>
              <a:rPr b="1" lang="ar-SA" sz="2000" spc="-1" strike="noStrike" u="sng">
                <a:solidFill>
                  <a:srgbClr val="c00000"/>
                </a:solidFill>
                <a:uFillTx/>
                <a:latin typeface="Book Antiqua"/>
              </a:rPr>
              <a:t>وفي بيع الدار: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يدخل جرن الجمام والسلم الحديدي للسقيفة.</a:t>
            </a:r>
            <a:br>
              <a:rPr sz="2000"/>
            </a:br>
            <a:br>
              <a:rPr sz="2000"/>
            </a:b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3</a:t>
            </a:r>
            <a:r>
              <a:rPr b="1" lang="ar-SA" sz="2000" spc="-1" strike="noStrike" u="sng">
                <a:solidFill>
                  <a:srgbClr val="0070c0"/>
                </a:solidFill>
                <a:uFillTx/>
                <a:latin typeface="Book Antiqua"/>
              </a:rPr>
              <a:t>- كل ما كان متصلا بالمبيع اتصال قرار :</a:t>
            </a:r>
            <a:br>
              <a:rPr sz="2000"/>
            </a:b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وهي الاشياء المنقولة في اصلها كالبئر وانابيب المياه واسلاك الكهرباء والخزائن المتصلة بالجدران , وتجهيز المطبخ والحمام ، وتزيينات الجدران والغرف .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ويدخل في السيارات المثبت فيها بنحو دائم كالمسجلة والمذياع 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نصت المادة 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518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إماراتي على انه يدخل في العقد على البناء او الشجرة الارض .</a:t>
            </a: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--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Book Antiqua"/>
              </a:rPr>
              <a:t>ويدخل في بيع الارض </a:t>
            </a: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ما فيها من بناء وشجر </a:t>
            </a:r>
            <a:r>
              <a:rPr b="1" lang="ar-SA" sz="2000" spc="-1" strike="noStrike" u="sng">
                <a:solidFill>
                  <a:srgbClr val="00b050"/>
                </a:solidFill>
                <a:uFillTx/>
                <a:latin typeface="Book Antiqua"/>
              </a:rPr>
              <a:t>الا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1800" spc="-1" strike="noStrike" u="sng">
                <a:solidFill>
                  <a:srgbClr val="7030a0"/>
                </a:solidFill>
                <a:uFillTx/>
                <a:latin typeface="Book Antiqua"/>
              </a:rPr>
              <a:t>اذا اقتضى شرط او عرف غير ذلك 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, وهذا مأخوذ من التقنين المالكي </a:t>
            </a:r>
            <a:br>
              <a:rPr sz="1800"/>
            </a:br>
            <a:br>
              <a:rPr sz="1800"/>
            </a:br>
            <a:r>
              <a:rPr b="1" lang="ar-SA" sz="1800" spc="-1" strike="noStrike">
                <a:solidFill>
                  <a:srgbClr val="a23a28"/>
                </a:solidFill>
                <a:latin typeface="Book Antiqua"/>
              </a:rPr>
              <a:t>والمراد بالعقد في هذه المادة: البيع والرهن والهبة والصدقة والحبس (الوقف). </a:t>
            </a: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--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Book Antiqua"/>
              </a:rPr>
              <a:t>ولكن بيع الارض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لا يتناول ما عليها من زرع </a:t>
            </a:r>
            <a:r>
              <a:rPr b="1" lang="ar-SA" sz="2400" spc="-1" strike="noStrike" u="sng">
                <a:solidFill>
                  <a:srgbClr val="00b050"/>
                </a:solidFill>
                <a:uFillTx/>
                <a:latin typeface="Book Antiqua"/>
              </a:rPr>
              <a:t>الا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1800" spc="-1" strike="noStrike" u="sng">
                <a:solidFill>
                  <a:srgbClr val="7030a0"/>
                </a:solidFill>
                <a:uFillTx/>
                <a:latin typeface="Book Antiqua"/>
              </a:rPr>
              <a:t>اذا قضى شرط او جرى عرف خلاف ذلك 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(م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519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) اماراتي.</a:t>
            </a:r>
            <a:br>
              <a:rPr sz="1800"/>
            </a:b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-- </a:t>
            </a:r>
            <a:r>
              <a:rPr b="1" lang="ar-SA" sz="1800" spc="-1" strike="noStrike" u="sng">
                <a:solidFill>
                  <a:srgbClr val="ff0000"/>
                </a:solidFill>
                <a:uFillTx/>
                <a:latin typeface="Book Antiqua"/>
              </a:rPr>
              <a:t>وبيع الشجر اصالة او تبعا للأرض </a:t>
            </a: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يتناول ما عليه من ثمر لم يؤبر , او لم ينعقد كله او اكثره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.</a:t>
            </a:r>
            <a:br>
              <a:rPr sz="1800"/>
            </a:br>
            <a:br>
              <a:rPr sz="1800"/>
            </a:br>
            <a:r>
              <a:rPr b="1" lang="ar-SA" sz="1800" spc="-1" strike="noStrike" u="sng">
                <a:solidFill>
                  <a:srgbClr val="ff0000"/>
                </a:solidFill>
                <a:uFillTx/>
                <a:latin typeface="Book Antiqua"/>
              </a:rPr>
              <a:t>والعقد على الزرع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الذي يؤخذ جذا </a:t>
            </a:r>
            <a:r>
              <a:rPr b="1" lang="ar-SA" sz="1800" spc="-1" strike="noStrike" u="sng">
                <a:solidFill>
                  <a:srgbClr val="002060"/>
                </a:solidFill>
                <a:uFillTx/>
                <a:latin typeface="Book Antiqua"/>
              </a:rPr>
              <a:t>لا يتناول الخلفة </a:t>
            </a:r>
            <a:r>
              <a:rPr b="1" lang="ar-SA" sz="1800" spc="-1" strike="noStrike" u="sng">
                <a:solidFill>
                  <a:srgbClr val="7030a0"/>
                </a:solidFill>
                <a:uFillTx/>
                <a:latin typeface="Book Antiqua"/>
              </a:rPr>
              <a:t>( والخلفة هي نبت ينبت بعد النبات الذي يتهشم )</a:t>
            </a:r>
            <a:r>
              <a:rPr b="1" lang="ar-SA" sz="2400" spc="-1" strike="noStrike" u="sng">
                <a:solidFill>
                  <a:srgbClr val="00b050"/>
                </a:solidFill>
                <a:uFillTx/>
                <a:latin typeface="Book Antiqua"/>
              </a:rPr>
              <a:t>الا</a:t>
            </a:r>
            <a:r>
              <a:rPr b="1" lang="ar-SA" sz="1800" spc="-1" strike="noStrike" u="sng">
                <a:solidFill>
                  <a:srgbClr val="00b050"/>
                </a:solidFill>
                <a:uFillTx/>
                <a:latin typeface="Book Antiqua"/>
              </a:rPr>
              <a:t> </a:t>
            </a:r>
            <a:r>
              <a:rPr b="1" lang="ar-SA" sz="1800" spc="-1" strike="noStrike" u="sng">
                <a:solidFill>
                  <a:srgbClr val="002060"/>
                </a:solidFill>
                <a:uFillTx/>
                <a:latin typeface="Book Antiqua"/>
              </a:rPr>
              <a:t>اذا قضى شرط او جرى عرف على خلاف ذلك</a:t>
            </a:r>
            <a:br>
              <a:rPr sz="1800"/>
            </a:br>
            <a:br>
              <a:rPr sz="1800"/>
            </a:b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4</a:t>
            </a: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- كل ما جرى العرف والعادة ببيعة مع المبيع تبعا له :</a:t>
            </a:r>
            <a:br>
              <a:rPr sz="1800"/>
            </a:br>
            <a:r>
              <a:rPr b="1" lang="ar-SA" sz="1800" spc="-1" strike="noStrike">
                <a:solidFill>
                  <a:srgbClr val="00b050"/>
                </a:solidFill>
                <a:latin typeface="Book Antiqua"/>
              </a:rPr>
              <a:t>يدخل ايضا في المبيع كل ما تعارف الناس على الحاق به 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،</a:t>
            </a:r>
            <a:br>
              <a:rPr sz="1800"/>
            </a:br>
            <a:r>
              <a:rPr b="1" lang="ar-SA" sz="1800" spc="-1" strike="noStrike">
                <a:solidFill>
                  <a:srgbClr val="7030a0"/>
                </a:solidFill>
                <a:latin typeface="Book Antiqua"/>
              </a:rPr>
              <a:t>-- ففي بيع الفنادق يدخل الاساس والمفروشات ,</a:t>
            </a:r>
            <a:br>
              <a:rPr sz="1800"/>
            </a:br>
            <a:r>
              <a:rPr b="1" lang="ar-SA" sz="1800" spc="-1" strike="noStrike">
                <a:solidFill>
                  <a:srgbClr val="c00000"/>
                </a:solidFill>
                <a:latin typeface="Book Antiqua"/>
              </a:rPr>
              <a:t>-- وفي بيع الدابة للركوب يدخل اللجام ؛ </a:t>
            </a:r>
            <a:br>
              <a:rPr sz="1800"/>
            </a:br>
            <a:r>
              <a:rPr b="1" lang="ar-SA" sz="1800" spc="-1" strike="noStrike">
                <a:solidFill>
                  <a:srgbClr val="7030a0"/>
                </a:solidFill>
                <a:latin typeface="Book Antiqua"/>
              </a:rPr>
              <a:t>-- وفي بيع حديقة الزيتون تدخل اشجار الزيتون, </a:t>
            </a:r>
            <a:br>
              <a:rPr sz="1800"/>
            </a:br>
            <a:r>
              <a:rPr b="1" lang="ar-SA" sz="1800" spc="-1" strike="noStrike">
                <a:solidFill>
                  <a:srgbClr val="002060"/>
                </a:solidFill>
                <a:latin typeface="Book Antiqua"/>
              </a:rPr>
              <a:t>-- وفي بيع الدار يدخل المطبخ من غير ذكر له عرفا.</a:t>
            </a:r>
            <a:br>
              <a:rPr sz="1800"/>
            </a:br>
            <a:br>
              <a:rPr sz="1800"/>
            </a:b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5</a:t>
            </a: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- حقوق الارتفاق:</a:t>
            </a:r>
            <a:br>
              <a:rPr sz="1800"/>
            </a:br>
            <a:r>
              <a:rPr b="1" lang="ar-SA" sz="1800" spc="-1" strike="noStrike">
                <a:solidFill>
                  <a:srgbClr val="ff0000"/>
                </a:solidFill>
                <a:latin typeface="Book Antiqua"/>
              </a:rPr>
              <a:t>يدخل في المبيع جميع مرافق العقارات الثابتة المجاورة دون المنقولة للانتفاع بها 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,</a:t>
            </a:r>
            <a:r>
              <a:rPr b="1" lang="ar-SA" sz="1800" spc="-1" strike="noStrike" u="sng">
                <a:solidFill>
                  <a:srgbClr val="7030a0"/>
                </a:solidFill>
                <a:uFillTx/>
                <a:latin typeface="Book Antiqua"/>
              </a:rPr>
              <a:t>كحق الشرب , وحق المسيل, وحق المرور,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1" lang="ar-SA" sz="1800" spc="-1" strike="noStrike" u="sng">
                <a:solidFill>
                  <a:srgbClr val="00b050"/>
                </a:solidFill>
                <a:uFillTx/>
                <a:latin typeface="Book Antiqua"/>
              </a:rPr>
              <a:t>ولو لم تذكر في العقد في راي الجمهور؛ لأنها تابعة له, </a:t>
            </a:r>
            <a:r>
              <a:rPr b="1" lang="ar-SA" sz="1800" spc="-1" strike="noStrike">
                <a:solidFill>
                  <a:srgbClr val="c00000"/>
                </a:solidFill>
                <a:latin typeface="Book Antiqua"/>
              </a:rPr>
              <a:t>واشترط الحنفية ان تذكر في العقد , اي ان ينص عليها </a:t>
            </a:r>
            <a:br>
              <a:rPr sz="1800"/>
            </a:br>
            <a:r>
              <a:rPr b="1" lang="ar-SA" sz="1800" spc="-1" strike="noStrike">
                <a:solidFill>
                  <a:srgbClr val="0070c0"/>
                </a:solidFill>
                <a:latin typeface="Book Antiqua"/>
              </a:rPr>
              <a:t>وماعدا كل ما ذكر لا يدخل في البيع مالم يذكر وقت المبيع , كالصندوق والكرسي والسرير المنفصلات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ar-SA" sz="2200" spc="-1" strike="noStrike" u="sng">
                <a:solidFill>
                  <a:srgbClr val="ff0000"/>
                </a:solidFill>
                <a:uFillTx/>
                <a:latin typeface="Book Antiqua"/>
              </a:rPr>
              <a:t>حالة ظهور النقص او الزيادة في المبيع:</a:t>
            </a:r>
            <a:br>
              <a:rPr sz="1600"/>
            </a:b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نصت المادة (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523</a:t>
            </a:r>
            <a:r>
              <a:rPr b="1" lang="ar-SA" sz="2200" spc="-1" strike="noStrike">
                <a:solidFill>
                  <a:srgbClr val="6b7d72"/>
                </a:solidFill>
                <a:latin typeface="Book Antiqua"/>
              </a:rPr>
              <a:t>) اماراتي </a:t>
            </a:r>
            <a:r>
              <a:rPr b="1" lang="ar-SA" sz="1800" spc="-1" strike="noStrike">
                <a:solidFill>
                  <a:srgbClr val="6b7d72"/>
                </a:solidFill>
                <a:latin typeface="Book Antiqua"/>
              </a:rPr>
              <a:t>على القواعد التي تطبق في حالة ظهور النقص او الزيادة , مجملها </a:t>
            </a:r>
            <a:r>
              <a:rPr b="1" lang="ar-SA" sz="1800" spc="-1" strike="noStrike" u="sng">
                <a:solidFill>
                  <a:srgbClr val="0070c0"/>
                </a:solidFill>
                <a:uFillTx/>
                <a:latin typeface="Book Antiqua"/>
              </a:rPr>
              <a:t>ان البائع مسؤول عن النقص, وللمشتري حق فسخ البيع لظهور النقص , وان المشتري ملزم بما يقابل الزيادة اذا كان تحديد السعر على اساس الوحدة. </a:t>
            </a:r>
            <a:br>
              <a:rPr sz="1800"/>
            </a:br>
            <a:br>
              <a:rPr sz="1800"/>
            </a:br>
            <a:r>
              <a:rPr b="1" lang="ar-SA" sz="2800" spc="-1" strike="noStrike" u="sng">
                <a:solidFill>
                  <a:srgbClr val="c00000"/>
                </a:solidFill>
                <a:uFillTx/>
                <a:latin typeface="Book Antiqua"/>
              </a:rPr>
              <a:t>حالة النقص:</a:t>
            </a:r>
            <a:br>
              <a:rPr sz="2800"/>
            </a:br>
            <a:br>
              <a:rPr sz="1600"/>
            </a:b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يلتزم البائع بتسليم المقدار المتفق عليه في العقد , فإن ظهر عجز في المبيع أو نقص عند التسليم , وجب على البائع تكميل النقص </a:t>
            </a:r>
            <a:r>
              <a:rPr b="1" lang="ar-SA" sz="2000" spc="-1" strike="noStrike">
                <a:solidFill>
                  <a:srgbClr val="6b7d72"/>
                </a:solidFill>
                <a:latin typeface="Book Antiqua"/>
              </a:rPr>
              <a:t>, </a:t>
            </a:r>
            <a:r>
              <a:rPr b="1" lang="ar-SA" sz="2000" spc="-1" strike="noStrike">
                <a:solidFill>
                  <a:srgbClr val="7030a0"/>
                </a:solidFill>
                <a:latin typeface="Book Antiqua"/>
              </a:rPr>
              <a:t>ويحق للمشتري في حال عدم تكميل النقص إنقاص الثمن في مقابل النقص أو فسخ البيع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فإن كان الشيء مقدراً بالقياس أو الكيل أو الوزن أو الذرع أو العد , سهل حساب النقص , وقدر بنسبة ما نقص من مقدار البيع.</a:t>
            </a:r>
            <a:br>
              <a:rPr sz="2000"/>
            </a:br>
            <a:r>
              <a:rPr b="1" lang="ar-SA" sz="2000" spc="-1" strike="noStrike">
                <a:solidFill>
                  <a:srgbClr val="ff0000"/>
                </a:solidFill>
                <a:latin typeface="Book Antiqua"/>
              </a:rPr>
              <a:t>وإن أورث او تسبب النقص عيباً في المبيع , كان البائع ضامناً التعويض بقدر الضرر كله , </a:t>
            </a:r>
            <a:r>
              <a:rPr b="1" lang="ar-SA" sz="2000" spc="-1" strike="noStrike">
                <a:solidFill>
                  <a:srgbClr val="002060"/>
                </a:solidFill>
                <a:latin typeface="Book Antiqua"/>
              </a:rPr>
              <a:t>فمن اشترى قماشاً لغرض معين ثم تبين عدم كفايته لنقصه متراً مثلاً , نقص من الثمن بقدره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c00000"/>
                </a:solidFill>
                <a:latin typeface="Book Antiqua"/>
              </a:rPr>
              <a:t>ويحق للمشتري طلب فسخ البيع لظهور النقص في المبيع , بشروط :</a:t>
            </a:r>
            <a:br>
              <a:rPr sz="2000"/>
            </a:b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--  أن يكون النقص جسيماً غير تافه , </a:t>
            </a:r>
            <a:br>
              <a:rPr sz="2000"/>
            </a:b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--ويخل النقص في مقصود المشتري , </a:t>
            </a:r>
            <a:br>
              <a:rPr sz="2000"/>
            </a:br>
            <a:r>
              <a:rPr b="1" lang="ar-SA" sz="2000" spc="-1" strike="noStrike">
                <a:solidFill>
                  <a:srgbClr val="0070c0"/>
                </a:solidFill>
                <a:latin typeface="Book Antiqua"/>
              </a:rPr>
              <a:t>-- ولم يكن عالماً به.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00b050"/>
                </a:solidFill>
                <a:latin typeface="Book Antiqua"/>
              </a:rPr>
              <a:t>فإذا تسلم المشتري المبيع مع علمه أنه ناقص , سقط حقه في خيار الفسخ المشار إليه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8T14:16:03Z</dcterms:created>
  <dc:creator>sultana abuhaimed</dc:creator>
  <dc:description/>
  <dc:language>en-US</dc:language>
  <cp:lastModifiedBy>eman</cp:lastModifiedBy>
  <dcterms:modified xsi:type="dcterms:W3CDTF">2016-11-12T11:58:52Z</dcterms:modified>
  <cp:revision>64</cp:revision>
  <dc:subject/>
  <dc:title>التسليم الاتفاقي : هو الذي يتم بتراضي المتبايعين على طريقة معينة , فيعتبر المشتري مستلمًا متى حصلت الصورة المتفق عليها , كما لو اتفق التبايعان على تعيين مكان التسليم و زمانه , وأنه إذا لم يحضر المشتري للاستلام فيعتبر مستلمًا بحسب هذا الشرط . التسليم القانوني أو الحكمي : و أن ينص القانون على حالات معينة تعد بمثابة التسليم للمشتري , و هي :  أن يكون المبيع في حيازة المشتري قبل البيع , سواء كانت حيازته بسبب مشروع أو غير مشروع . إذا أبقى البائع المبيع تحت يده بناء على طلب المشتري , كأن أبقاه لديه وديعه أو رهن . إذا أنذر البائع المشتري ( بدفع الثمن و تسليم المبيع خلال مدة معلومة , وإلا اعتبر مسلمًا ) فلم يفعل , ففي هذه الحالة يعتبر المشتري متسلمًا حكمًا . إذا تم تسجيل البيع باسم المشتري في السجل العقاري , و في صحيفة العقار , فيعد التسجيل تسليمًا حكمًا للعقار المبيع . إذا هلك المبيع في يد البائع قبل التسليم بفعل المشتري أو تسببه , فإنه يعتبر مستلمًا حكمًا , و يلتزم المشتري بالثمن المسمى .</dc:title>
</cp:coreProperties>
</file>