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142B6-FB9B-4CB5-8137-75D76616C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6F8F8-A354-4A11-8848-999E6E0A6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B3DA8-A39C-4501-9738-526611C33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736B8-FD8C-4DB0-80AB-CE4C19D9F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4CD44-7D6A-45B0-B9DD-16B6D6A76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7AFEA-628B-40F3-95C5-7EA33C190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8C174-77F8-4A38-8D1D-0787E1C1B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D4967-918C-4AEB-8588-A2A36F407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3A99E-9A26-4375-B698-CF38DD772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5467A-2E87-41A4-85DC-4D956CCDF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A813D-DD54-4B6F-8416-5E1CB8C39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7C9CA-DC27-4D78-8249-E073888AE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CD160-5A0A-4A43-9DD4-F2A68B434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C845F-7D7B-418D-85BC-3F4691B27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2EEB3-E4A5-421F-9757-F99F1568D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CE287-9085-454E-B603-22FA2DD5A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15170-9711-4E1E-8952-13AB685C8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60EA63-4F39-473A-AB31-23C07213C6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BBE60-6701-4C55-BB46-646CF9C2E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6B25A2-4BA7-4A89-BFDF-4C3900E58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EF38B-1CCC-4D72-AA1B-3B670AFDE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DC258-E048-48A1-A586-6D90AC5062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3C09-5604-4328-A00B-812B4C5F3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749CB-8EAC-47DA-8124-A8A1EC8FC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A6784-C9AF-4BAC-85BB-0076AD8DD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67844-D89E-4B8B-8BDB-C06FC6227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7AE08-860F-4251-88AC-04F69F2B5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F2F20-0EF0-4890-B673-3A742A920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C4E57E-91E6-4F60-AD6F-E0B9E85BB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FEE935-81A7-4912-A5CB-544F1698D6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C07844-7E05-4C12-BE7F-F9464B4988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0AFB3-D771-4E42-B5D6-433F29808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58003-7C0A-47C7-8CDF-6C65713F46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D70B3-2FB5-42D9-83A6-47443825C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1D5CF-C3FF-486A-9213-05922B2F7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EA3D47-3DDF-499A-BFC4-A0875A52B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2914DA-0BD0-4C12-BA5F-CE9BEBDFD2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90841-4AFE-4B4D-971D-E04378EEB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7DB76-D8A6-4B46-BA9A-D69F2E7F3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A56B9-1779-41F0-81EC-427E40E67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ECACD-5CE2-402D-9935-D0FDE42877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6DE182-4EDF-4C8C-8E8B-C8A572D050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1D44A5-DBBC-4A47-B25E-7E713823F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57F0B-9AEA-4F74-815B-9EF4BF575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B6A96-79EB-48C4-B8A8-22B699F7E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4B2A5-E2F9-426B-881F-524F77289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67135-488D-4424-A22E-22B584EC2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57CC7-741C-439C-BC07-E878C251F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1D86-D051-45EF-9F17-BCB9041E03B3}"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CED7-A269-4C2C-A0EE-5B39AD10D22F}"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5EA4-166F-4643-9406-62E2241985A8}"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1F82-B575-40BD-AADD-1AC97B67CF83}"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682560" y="396720"/>
            <a:ext cx="8034480" cy="1071720"/>
          </a:xfrm>
          <a:prstGeom prst="rect">
            <a:avLst/>
          </a:prstGeom>
          <a:ln w="0">
            <a:noFill/>
          </a:ln>
        </p:spPr>
      </p:pic>
      <p:sp>
        <p:nvSpPr>
          <p:cNvPr id="196" name="PlaceHolder 1"/>
          <p:cNvSpPr>
            <a:spLocks noGrp="1"/>
          </p:cNvSpPr>
          <p:nvPr>
            <p:ph type="subTitle"/>
          </p:nvPr>
        </p:nvSpPr>
        <p:spPr>
          <a:xfrm>
            <a:off x="826920" y="1484280"/>
            <a:ext cx="7561440" cy="4608720"/>
          </a:xfrm>
          <a:prstGeom prst="rect">
            <a:avLst/>
          </a:prstGeom>
          <a:noFill/>
          <a:ln w="0">
            <a:noFill/>
          </a:ln>
        </p:spPr>
        <p:txBody>
          <a:bodyPr lIns="0" rIns="1836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تهتم التأمينات الاجتماعية بصفه عامه بأهم الأخطار التي يتعرض بها الإنسان بصفه عامه والعامل بصفه خاصه، والتي تتعامل معها تأمينات الأشخاص وهي ستة أخطار : الشيخوخة والعجز والوفاة وخطر إصابات العمل ، ويتم التعامل معها من خلال تأمين الشيخوخة والعجز والوفاة وخطر إصابات العمل وأمراض المهنة وخطر المرض ويتم التعامل معه من خلال تأمين إصابات المرض والأمومة أو التأمين الصحي</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تهدف التأمينات الاجتماعية إلى تعويض المؤمن عليه أو أسرته بحسب الأحوال عن الخسارة التي يتعرض لها والمتمثلة بصفه أساسية في الدخل نتيجة تحقق أحد المخاطر المؤمن ضدها كالشيخوخة والعجز والوفاة والإصابة والمرض والبطالة</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وتنقسم المخاطر التي قد تواجه المؤمن عليه إلى مخاطر فسيولوجية: كالمرض والشيخوخة ، ومخاطر مهنيه :كالبطالة وإصابات العمل ، مخاطر المتصلة بالأعباء العائلية</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تتضمن فروع التأمينات الأتية :</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 فرع الأخطار المهنية ، ويكفل تقديم التعويضات في حالات إصابات العمل</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 فرع المعاشات ، ويكفل تقديم التعويضات في حالات العجز غير المهني والشيخوخة والوفاة</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4</a:t>
            </a:r>
            <a:r>
              <a:rPr b="0" lang="ar-SA" sz="5000" spc="-1" strike="noStrike">
                <a:solidFill>
                  <a:srgbClr val="04617b"/>
                </a:solidFill>
                <a:latin typeface="Calibri"/>
              </a:rPr>
              <a:t>- أن يكون هذا الفعل عنيفا:​</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أمثلة العنف: ​</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ة الانفجار الشديد لأحد الآلات.​</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م يعد القضاء في فرنسا يتطلب صفة العنف في الحادث، وذلك على أساس أن العنف وإن كان صفة ملازمة للحادث، إلا أنها صفة ليست حتمية.​</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شروط حادث العامل:​</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1</a:t>
            </a:r>
            <a:r>
              <a:rPr b="0" lang="ar-SA" sz="2000" spc="-1" strike="noStrike">
                <a:solidFill>
                  <a:srgbClr val="000000"/>
                </a:solidFill>
                <a:latin typeface="Constantia"/>
              </a:rPr>
              <a:t>- أن يقع الحادث أثناء العمل:​</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ينبغي أن تقع الإصابة للعامل أثناء قيامه بعمله وفي الساعات والمكان المخصصين له.​</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مكان العمل: ​</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يقصد به النطاق الجغرافي الذي يباشر فيه العامل عمله.​</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ويأخذ حكم مكان العمل كل مكان يوجد فيه العامل بناء على أمر صاحب العمل أو ما تفتضيه مصلحة العمل، فيشمل جميع الأماكن التي يكون فيها العامل تحت رقابة صاحب العمل وإشرافه.​</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ب- زمان العمل:​</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يبدأ زمان العمل بابتداء ساعات العمل وينتهي بانتهاء دوامه. ​</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ويعد الحادث الذي يحيق بالعامل من قبيل حوادث العمل إذا حدثت الإصابة وقت الراحة المخصص للعمال، طالما أن العامل تحت تصرف وسلطة صاحب العمل.​</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2</a:t>
            </a:r>
            <a:r>
              <a:rPr b="0" lang="ar-SA" sz="5000" spc="-1" strike="noStrike">
                <a:solidFill>
                  <a:srgbClr val="04617b"/>
                </a:solidFill>
                <a:latin typeface="Calibri"/>
              </a:rPr>
              <a:t>- علاقة السببية بين الحادث والعمل: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متد حماية العامل إلى تغطية الحوادث التي تقع بسبب العمل، وإن لم تقع في زمان العمل، طالما توافرت علاقة السببية بين هذا الحادث والعمل. لذا ينبغي اثبات أن الحادث ما كان ليقع لولا ارتباط العامل بهذا العم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لاقة السببية غير مفترضة بين الحادث والعمل، بل يتعين إثباتها عن طريق إثبات أن العمل هو السبب في وقوع الحادث، ولا يكفي أن يكون الحادث قد وقع بمناسبة العم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إصابة الناتجة عن حادث طريق العمل​</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د المنظم السعودي مظلة الحماية التأمينية للعامل بحيث تشمل حوادث الطريق الذي يقطعه العامل من منزله إلى مقر عمله ذهابا وعودة، شريطة الالتزام بالطريق والوقت الطبيعيين. ​</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تعتبر إصابة عمل أي إصابة تقع للعامل المؤمن عليه أثناء الطريق، إلا إذا توافرت الشروط التي حددها النظام، ويرجع ذلك إلى:​</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غياب الرقابة على العامل المؤمن عليه.​</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حفاظ على حقوق الجهة المسؤولة عن تعويض العامل.​</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ولا: تعريف حوادث طريق العمل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نظام التأمينات الاجتماعية السعودي: تعد إصابة عمل كل حادث يقع للمشترك أثناء العمل او يقع له بسبب العمل.​</a:t>
            </a:r>
            <a:endParaRPr b="0" lang="en-US" sz="2600" spc="-1" strike="noStrike">
              <a:solidFill>
                <a:srgbClr val="000000"/>
              </a:solidFill>
              <a:latin typeface="Constantia"/>
            </a:endParaRPr>
          </a:p>
          <a:p>
            <a:pPr marL="248040" indent="-2480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عد في حكم ذلك ايضا كل حادث يقع للمشترك اثناء طريقه من مسكنه الى محل عمله وبالعكس او اثناء طريقه من محل عمله الى المكان الذي يتناول فيه عادة طعامه او تأدية صلاته وبالعكس وتعد بذات الوصف الحوادث التي تحدث اثناء تنقلات المشترك التي يقوم بها بقصد اداء مهمة كلفه بها صاحب العمل.​</a:t>
            </a:r>
            <a:endParaRPr b="0" lang="en-US" sz="2600" spc="-1" strike="noStrike">
              <a:solidFill>
                <a:srgbClr val="000000"/>
              </a:solidFill>
              <a:latin typeface="Constantia"/>
            </a:endParaRPr>
          </a:p>
          <a:p>
            <a:pPr marL="248040" indent="-2480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قصد بحادث الطريق بأنها الإصابة التي تحدث للعامل المؤمن عليه خلال فترة ذهابه مباشرة للعمل وعودته منه شريطة ان يكون الذهاب او العودة دون توقف او تخلف او انحراف عن الطريق الطبيعي.​</a:t>
            </a:r>
            <a:endParaRPr b="0" lang="en-US" sz="26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ريف الطريق الطبيعي: يقصد به الطريق المألوف الذي يسلكه الإنسان العادي, وغالبا ما يكون هو الطريق الأسهل والأقصر بين محل إقامة العامل المؤمن عليه ومحل عمله.​</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بر حوادث الطريق من قبيل حوادث العمل اعتبارا من وقت خروج العامل المؤمن عليه متجها الى عمله .​</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بناء على ذلك فالحادث الذي يصيبه نتيجة تزحلقه على السلم يعتبر بحكم النظام حادث عمل , واذا كان العامل يسكن في فيلا فالحادث الذي يصيبه في حديقة منزله اثناء خروجه يأخذ حكم إصابة العمل وكذلك أثناء رجوعه من العمل الى ان يصل الى منزله.​</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ثانيا: ضوابط اعتبار الإصابة الناشئة عن حوادث الطريق من قبيل إصابات العمل:​</a:t>
            </a:r>
            <a:endParaRPr b="0" lang="en-US" sz="36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lIns="90000" rIns="90000" tIns="46800" bIns="46800" anchor="t">
            <a:normAutofit fontScale="88000"/>
          </a:bodyPr>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شرط الاول: ان تنتج الإصابة بسبب حادث:                            ​</a:t>
            </a:r>
            <a:endParaRPr b="0" lang="en-US" sz="2600" spc="-1" strike="noStrike">
              <a:solidFill>
                <a:srgbClr val="000000"/>
              </a:solidFill>
              <a:latin typeface="Constantia"/>
            </a:endParaRPr>
          </a:p>
          <a:p>
            <a:pPr marL="240120" indent="-240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عين ان يتوافر في حادث طريق العمل الشروط والضوابط الواجبة في حادث العمل بصفة عامة.​</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شرط الثاني: ان يقع الحادث في طريق العمل:​</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شترط نظام التأمينات الاجتماعية السعودي لاعتبار حادث الطريق إصابة عمل , ان يقع الحادث اثناء سلوك العامل لطريق العمل ذهابا او ايابا.​</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جب ان يقع الحادث في الطريق الطبيعي للعمل فالحادث الذي يقع للعامل وهو لا يزال في منزله لم يغادره فلا يعتبر حادث طريق حتى ولو وقع اثناء الاستعداد للذهاب لمباشرة عمله.​</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907560"/>
            <a:ext cx="8229600" cy="5218200"/>
          </a:xfrm>
          <a:prstGeom prst="rect">
            <a:avLst/>
          </a:prstGeom>
          <a:noFill/>
          <a:ln w="0">
            <a:noFill/>
          </a:ln>
        </p:spPr>
        <p:txBody>
          <a:bodyPr lIns="90000" rIns="90000" tIns="46800" bIns="46800" anchor="t">
            <a:normAutofit fontScale="93000"/>
          </a:bodyPr>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شرط الثالث:</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عدم تحقق احد عوارض الطريق:​</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التوقف: ويقصد به تعديل الوقت الطبيعي الذي يستغرقه قطع الطريق ذهابا وعودة, فمعيار التوقف هو معيار زمني, أي ان العامل قد يطيل الوقت اللازم لقطع الطريق بصورة واضحة غير مبررة.​</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خلف:​</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قصد به الخروج عن الطريق الطبيعي الى مكان اخر مجاور, او ان يظل العامل في مكان العمل دون مبرر بعد انتهاء دوامه, فمعيار التخلف معيار زمني.​</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انحراف: </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جمع بين المعيار الزمني والمعيار المكاني, ويعني ان يترك العامل المشترك الطريق الطبيعي ويسلك طريقا اخر يستغرق وقتا اطول.​</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قد اشترط نظام التأمينات الاجتماعية  لاستبعاد وصف حادث طريق العمل ان يكون الانحراف قد حدث دون اسباب جوهرية ومبررة.​</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الامراض المهنية​ :</a:t>
            </a:r>
            <a:endParaRPr b="0" lang="en-US" sz="36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بر الامراض امراضا مهنية اذا لحقت بالشخص بسبب بيئة العمل والمواد المستعملة والظروف التي تحيط بأدائه.​</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عد الامراض المهنية الناجمة عن ممارسة المهنة في حكم إصابات العمل , ومن ثم ينطبق عليها  الاحكام والقواعد التي تحكم إصابات العم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عد مصدر الضرر الذي لحق العامل المصاب هو الاساس والمرجع في التفرقة بين الامراض المهنية وحوادث العمل, وعلى ذلك اذا كان سبب الضرر مباغتا وخارجا, نكون بصدد حادث عم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23640" y="1844640"/>
            <a:ext cx="5977080" cy="432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مفهوم الأمراض المهنية</a:t>
            </a:r>
            <a:br>
              <a:rPr sz="4500"/>
            </a:br>
            <a:endParaRPr b="0" lang="en-US" sz="4500" spc="-1" strike="noStrike">
              <a:solidFill>
                <a:srgbClr val="04617b"/>
              </a:solidFill>
              <a:latin typeface="Calibri"/>
            </a:endParaRPr>
          </a:p>
        </p:txBody>
      </p:sp>
      <p:sp>
        <p:nvSpPr>
          <p:cNvPr id="230" name="مستطيل 3"/>
          <p:cNvSpPr/>
          <p:nvPr/>
        </p:nvSpPr>
        <p:spPr>
          <a:xfrm>
            <a:off x="1692360" y="2550960"/>
            <a:ext cx="691200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مكن تعريف الأمراض المهنية </a:t>
            </a:r>
            <a:endParaRPr b="0" lang="en-US" sz="24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ي الأمراض التي يصاب بها الأشخاص بسبب ممارسة المهنة , ولا يصاب بها عادة الا الأشخاص الذين يعملون في مهنة معينة.​</a:t>
            </a:r>
            <a:endParaRPr b="0" lang="en-US" sz="24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التي تظهر أثناء فترة العمل , فمثلا يصاب العاملين بالمستشفيات بالأمراض الصدرية والتدرن الرئوي نتيجة احتكاكهم بالمرضى.​</a:t>
            </a:r>
            <a:endParaRPr b="0" lang="en-US" sz="24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483920"/>
            <a:ext cx="8229600" cy="289080"/>
          </a:xfrm>
          <a:prstGeom prst="rect">
            <a:avLst/>
          </a:prstGeom>
          <a:noFill/>
          <a:ln w="0">
            <a:noFill/>
          </a:ln>
        </p:spPr>
        <p:txBody>
          <a:bodyPr lIns="0" rIns="0" tIns="4680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ar-SA" sz="2400" spc="-1" strike="noStrike">
                <a:solidFill>
                  <a:srgbClr val="04617b"/>
                </a:solidFill>
                <a:latin typeface="Arial Unicode MS"/>
                <a:cs typeface="Arial Unicode MS"/>
              </a:rPr>
              <a:t>يتضح ذلك في الفروض التالية :</a:t>
            </a:r>
            <a:br>
              <a:rPr sz="2400"/>
            </a:br>
            <a:endParaRPr b="0" lang="en-US" sz="24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1</a:t>
            </a:r>
            <a:r>
              <a:rPr b="0" lang="ar-SA" sz="2400" spc="-1" strike="noStrike">
                <a:solidFill>
                  <a:srgbClr val="000000"/>
                </a:solidFill>
                <a:latin typeface="Arial Unicode MS"/>
                <a:ea typeface="Arial Unicode MS"/>
              </a:rPr>
              <a:t>- بلوغ المؤمن عليه قد سن التقاعد يعني ذلك أنه قد تحقق بالنسبة له خطر الشيخوخة ومن ثم فتصرف له مستحقاته التأمينية لبلوغه سن التقاعد</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2</a:t>
            </a:r>
            <a:r>
              <a:rPr b="0" lang="ar-SA" sz="2400" spc="-1" strike="noStrike">
                <a:solidFill>
                  <a:srgbClr val="000000"/>
                </a:solidFill>
                <a:latin typeface="Arial Unicode MS"/>
                <a:ea typeface="Arial Unicode MS"/>
              </a:rPr>
              <a:t>- عجز المؤمن عليه قبل بلوغ سن التقاعد يعني ذلك أنه قد تحقق بالنسبة له خطر العجز ومن ثم تصرف مستحقاته التأمينية في نظام التأمين الاجتماعي لثبوت العجز</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3</a:t>
            </a:r>
            <a:r>
              <a:rPr b="0" lang="ar-SA" sz="2400" spc="-1" strike="noStrike">
                <a:solidFill>
                  <a:srgbClr val="000000"/>
                </a:solidFill>
                <a:latin typeface="Arial Unicode MS"/>
                <a:ea typeface="Arial Unicode MS"/>
              </a:rPr>
              <a:t>- وفاة المؤمن عليه قبل بلوغ سن التقاعد فيعني ذلك أنه قد احقق بالنسبة له خطر الوفاة ومن ثم فيصرف للمستحقين عنه مستحقاتهم في نطام التأمين الاجتماعي لوقوع الوفاة</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وتجدر الإشارة إلى أنه بالنسبة لإصابة العمل والأمراض المهنية فلقد تم تخصيص نوع تأمين مستقل لكل منهما</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692280"/>
            <a:ext cx="5616360" cy="1224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a:t>
            </a:r>
            <a:br>
              <a:rPr sz="4500"/>
            </a:br>
            <a:r>
              <a:rPr b="1" lang="ar-SA" sz="4500" spc="-1" strike="noStrike">
                <a:solidFill>
                  <a:srgbClr val="04617b"/>
                </a:solidFill>
                <a:latin typeface="Calibri"/>
              </a:rPr>
              <a:t>طرق تحديد الأمراض المهنية </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ختلف المرض بحسب الأصل عن الإصابة الناشئة عن حادث , فالحادث يقع فجأة كما أن سببه خارجي عن جسم المصاب , أما المرض فينشأ بطريقة بطيئة تدريجيه نتيجة خلل داخلي في جسم الأنسان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وجد عدة اساليب تتعلق بتحديد الامراض المهنية تبنتها الأنظمة القانونية المقارنة ( </a:t>
            </a:r>
            <a:r>
              <a:rPr b="1" lang="ar-SA" sz="2600" spc="-1" strike="noStrike">
                <a:solidFill>
                  <a:srgbClr val="000000"/>
                </a:solidFill>
                <a:latin typeface="Constantia"/>
              </a:rPr>
              <a:t>أولاً</a:t>
            </a:r>
            <a:r>
              <a:rPr b="0" lang="ar-SA" sz="2600" spc="-1" strike="noStrike">
                <a:solidFill>
                  <a:srgbClr val="000000"/>
                </a:solidFill>
                <a:latin typeface="Constantia"/>
              </a:rPr>
              <a:t> ) وبعد عرض هذه الاساليب نوضح موقف النظم السعودي في الترجيح بينها (</a:t>
            </a:r>
            <a:r>
              <a:rPr b="1" lang="ar-SA" sz="2600" spc="-1" strike="noStrike">
                <a:solidFill>
                  <a:srgbClr val="000000"/>
                </a:solidFill>
                <a:latin typeface="Constantia"/>
              </a:rPr>
              <a:t> ثانياً </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أولاً</a:t>
            </a:r>
            <a:r>
              <a:rPr b="0" lang="ar-SA" sz="3600" spc="-1" strike="noStrike">
                <a:solidFill>
                  <a:srgbClr val="04617b"/>
                </a:solidFill>
                <a:latin typeface="Calibri"/>
              </a:rPr>
              <a:t> : </a:t>
            </a:r>
            <a:r>
              <a:rPr b="1" lang="ar-SA" sz="3600" spc="-1" strike="noStrike">
                <a:solidFill>
                  <a:srgbClr val="04617b"/>
                </a:solidFill>
                <a:latin typeface="Calibri"/>
              </a:rPr>
              <a:t>الأساليب المستخدمة في تحديد الأمراض المهنية في الأنظمة المقارنة :​</a:t>
            </a:r>
            <a:endParaRPr b="0" lang="en-US" sz="36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أسلوب التغطية العامة أو الشاملة :</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قوم هذه الطريقة على حماية العامل المؤمن عليه ضد جميع الامراض المهنية كمبدأ عام , شريطة عرض الامر في كل حالة مرضيه على حدة على لجنة متخصصة ,للبث فيما اذا كان المرض الذي قد تعرض له العامل مرضاً مهنياً ام مرضاً غير مهنياً.​</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أسلوب القائمة أو الجدول : </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هذا الاسلوب من أقدم الطرق لتغطية الأمراض المهنية.​</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عتمد هذا الاسلوب بالأعمال المختلفة والامراض المهنية التي يسببها كل نوع من انواع العمل.​</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97000"/>
            <a:ext cx="8291520" cy="5032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وتسلك الدول التي تتبنى هذا الاسلوب أحد الطريقين </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الجدول المغلق أو الجامد /​</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فقاً لهذه الطريقة يتم تحديد الأمراض المهنية والأعمال التي تسببها على سبيل الحصر في الجدول بحيث تعد الأمراض الواردة في هذا الجدول هي فقط الأمراض المهنية حتى ولو كانت هناك أمراض أخرى ثبتت علاقتها بالمهنة .​</a:t>
            </a:r>
            <a:endParaRPr b="0" lang="en-US" sz="2600" spc="-1" strike="noStrike">
              <a:solidFill>
                <a:srgbClr val="000000"/>
              </a:solidFill>
              <a:latin typeface="Constantia"/>
            </a:endParaRPr>
          </a:p>
          <a:p>
            <a:pPr marL="267120" indent="-267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جدول المفتوح أو المرن /   ​</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فقا لهذه الطريقة يتم تحديد عددا من الأمراض المهنية او الانشطة او الصناعات المسببة لها في الجدول, لكن يسمح بإضافة أمراض مهنية جديدة إلى هذا الجدول.​</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197000"/>
            <a:ext cx="8229600" cy="4929120"/>
          </a:xfrm>
          <a:prstGeom prst="rect">
            <a:avLst/>
          </a:prstGeom>
          <a:noFill/>
          <a:ln w="0">
            <a:noFill/>
          </a:ln>
        </p:spPr>
        <p:txBody>
          <a:bodyPr lIns="90000" rIns="90000" tIns="46800" bIns="46800" anchor="t">
            <a:norm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اسلوب المختلط :</a:t>
            </a:r>
            <a:r>
              <a:rPr b="0" lang="ar-SA" sz="2600" spc="-1" strike="noStrike">
                <a:solidFill>
                  <a:srgbClr val="000000"/>
                </a:solidFill>
                <a:latin typeface="Constantia"/>
              </a:rPr>
              <a:t>​</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تميز هذه الطريقة بأنها تجمع بين مزايا الطريقتين السابقتين.  من جهة أولى يحدد النظام جدولاً يشمل مجموعة الأمراض المهنية التي كشف عنها الطب وقت وضعه.​</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ما من جهة أخرى إذا اصيب بمرض غير وارد في الجدول فانه يعد مرضاً مهنياً إذا ثبتت العلاقة بين المهنة والعمل الذي يمارسه العامل.​</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ثانياً : موقف المنظم السعودي :​</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صت المادة ( </a:t>
            </a:r>
            <a:r>
              <a:rPr b="0" lang="ar-SA" sz="2600" spc="-1" strike="noStrike">
                <a:solidFill>
                  <a:srgbClr val="000000"/>
                </a:solidFill>
                <a:latin typeface="Constantia"/>
              </a:rPr>
              <a:t>27</a:t>
            </a:r>
            <a:r>
              <a:rPr b="0" lang="ar-SA" sz="2600" spc="-1" strike="noStrike">
                <a:solidFill>
                  <a:srgbClr val="000000"/>
                </a:solidFill>
                <a:latin typeface="Constantia"/>
              </a:rPr>
              <a:t> / </a:t>
            </a:r>
            <a:r>
              <a:rPr b="0" lang="ar-SA" sz="2600" spc="-1" strike="noStrike">
                <a:solidFill>
                  <a:srgbClr val="000000"/>
                </a:solidFill>
                <a:latin typeface="Constantia"/>
              </a:rPr>
              <a:t>3</a:t>
            </a:r>
            <a:r>
              <a:rPr b="0" lang="ar-SA" sz="2600" spc="-1" strike="noStrike">
                <a:solidFill>
                  <a:srgbClr val="000000"/>
                </a:solidFill>
                <a:latin typeface="Constantia"/>
              </a:rPr>
              <a:t> ) من نظام التأمينات الاجتماعية السعودي على أن ” تحدد الامراض المهنية بموجب جدول يصدره مجلس الادارة ويقوم بمراجعته كلما دعت الحاجه الى ذلك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حدد اللائحة المدد القصوى التي يجب ان تظهر خلالها اعراض المرض حتى يعد مهنياً , وذلك في الحالات التي تظهر فيها أعراض المشترك بعد توقفه عن ممارسة عمل أو مهنة مما قد حدد في الجدول وتبدا مسؤولية المؤسسة عن تقديم التعويضات المقررة بموجب هذا النظام ابتداءً من تاريخ توقف المشترك عن العمل او المهنة.​</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منطقة المكشوفة :​</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fontScale="87000"/>
          </a:bodyPr>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رتب على الأخذ بنظام الجدول الذي يضم عدة أمراض حصرية احتمالية وجود أمراض أخرى غير واردة بالجدول رغم ارتباطها بالمهنة ارتباطاً وثيقا.​</a:t>
            </a:r>
            <a:endParaRPr b="0" lang="en-US" sz="2600" spc="-1" strike="noStrike">
              <a:solidFill>
                <a:srgbClr val="000000"/>
              </a:solidFill>
              <a:latin typeface="Constantia"/>
            </a:endParaRPr>
          </a:p>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في هذه الحالات لا يستحق العامل تعويضات الاصابات المهنية حتو ولو اثبت علاقة السببية بينها وبين ممارسة العمل ويطلق على هذه الامراض &lt;المنطقة المكشوفة&gt;.​</a:t>
            </a:r>
            <a:endParaRPr b="0" lang="en-US" sz="2600" spc="-1" strike="noStrike">
              <a:solidFill>
                <a:srgbClr val="000000"/>
              </a:solidFill>
              <a:latin typeface="Constantia"/>
            </a:endParaRPr>
          </a:p>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وقف النظام السعودي من أمراض المنطقة المكشوفة :</a:t>
            </a:r>
            <a:r>
              <a:rPr b="0" lang="ar-SA" sz="2600" spc="-1" strike="noStrike">
                <a:solidFill>
                  <a:srgbClr val="000000"/>
                </a:solidFill>
                <a:latin typeface="Constantia"/>
              </a:rPr>
              <a:t>​</a:t>
            </a:r>
            <a:endParaRPr b="0" lang="en-US" sz="2600" spc="-1" strike="noStrike">
              <a:solidFill>
                <a:srgbClr val="000000"/>
              </a:solidFill>
              <a:latin typeface="Constantia"/>
            </a:endParaRPr>
          </a:p>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جد أن النظام قد نص صراحة في المادة (</a:t>
            </a:r>
            <a:r>
              <a:rPr b="0" lang="ar-SA" sz="2600" spc="-1" strike="noStrike">
                <a:solidFill>
                  <a:srgbClr val="000000"/>
                </a:solidFill>
                <a:latin typeface="Constantia"/>
              </a:rPr>
              <a:t>27</a:t>
            </a:r>
            <a:r>
              <a:rPr b="0" lang="ar-SA" sz="2600" spc="-1" strike="noStrike">
                <a:solidFill>
                  <a:srgbClr val="000000"/>
                </a:solidFill>
                <a:latin typeface="Constantia"/>
              </a:rPr>
              <a:t>/ </a:t>
            </a:r>
            <a:r>
              <a:rPr b="0" lang="ar-SA" sz="2600" spc="-1" strike="noStrike">
                <a:solidFill>
                  <a:srgbClr val="000000"/>
                </a:solidFill>
                <a:latin typeface="Constantia"/>
              </a:rPr>
              <a:t>2</a:t>
            </a:r>
            <a:r>
              <a:rPr b="0" lang="ar-SA" sz="2600" spc="-1" strike="noStrike">
                <a:solidFill>
                  <a:srgbClr val="000000"/>
                </a:solidFill>
                <a:latin typeface="Constantia"/>
              </a:rPr>
              <a:t>) على أنه تعد إصابات عمل الأمراض التي يثبت أن سببها هو العمل , متى ثبت أن المرض الذي اصاب العامل بسبب العمل حتى ولو لم يرد من ضمن جدول الأمراض المهنية.​</a:t>
            </a:r>
            <a:endParaRPr b="0" lang="en-US" sz="2600" spc="-1" strike="noStrike">
              <a:solidFill>
                <a:srgbClr val="000000"/>
              </a:solidFill>
              <a:latin typeface="Constantia"/>
            </a:endParaRPr>
          </a:p>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الفرع الثالث ​</a:t>
            </a:r>
            <a:br>
              <a:rPr sz="4500"/>
            </a:br>
            <a:r>
              <a:rPr b="0" lang="ar-SA" sz="4500" spc="-1" strike="noStrike">
                <a:solidFill>
                  <a:srgbClr val="04617b"/>
                </a:solidFill>
                <a:latin typeface="Calibri"/>
              </a:rPr>
              <a:t>شروط تغطية الأمراض المهنية :​</a:t>
            </a:r>
            <a:endParaRPr b="0" lang="en-US" sz="45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ولاً : وجود علاقة سببية بين المرض والعمل :​</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شترط ان تتوافر علاقة السببية بين المرض الذي لحق بالعامل وبين عمله بحيث يمكن القول أنه لولا العمل لما أصيب العامل فاذا ثبت أن المرض الذي لحق بالعامل المؤمن عليه قد حدث بسبب العمل فانه يمكن اعتبار هذا المرض مرضاً مهنياً.​</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ثانياً : أن يكون المرض الذي أصاب العامل من الامراض الواردة بالجدول :​</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ستلزم نظام التأمينات الاجتماعية السعودي أن يكون المرض الذي اصاب العامل المؤمن عليه من الامراض المدرجة في الجدول وذلك حتى يمكن اعتباره من قبيل الامراض المهنية.​</a:t>
            </a:r>
            <a:endParaRPr b="0" lang="en-US" sz="2600" spc="-1" strike="noStrike">
              <a:solidFill>
                <a:srgbClr val="000000"/>
              </a:solidFill>
              <a:latin typeface="Constant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268280"/>
            <a:ext cx="8229600" cy="4857840"/>
          </a:xfrm>
          <a:prstGeom prst="rect">
            <a:avLst/>
          </a:prstGeom>
          <a:noFill/>
          <a:ln w="0">
            <a:noFill/>
          </a:ln>
        </p:spPr>
        <p:txBody>
          <a:bodyPr lIns="90000" rIns="90000" tIns="46800" bIns="46800" anchor="t">
            <a:normAutofit fontScale="88000"/>
          </a:bodyPr>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ثالثاً : </a:t>
            </a:r>
            <a:r>
              <a:rPr b="0" lang="ar-SA" sz="2400" spc="-1" strike="noStrike">
                <a:solidFill>
                  <a:srgbClr val="000000"/>
                </a:solidFill>
                <a:latin typeface="Constantia"/>
              </a:rPr>
              <a:t>أن يزاول العامل إحدى المهن المرتبطة بالمرض وفقا للجدول :​</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لا يكفي ان يكون المرض مدرجا بالجدول فقط , وانما يجب ان يكون العامل مزاولا لإحدى المهن التي يمكن أن تسببه وفقا للجدول.​</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بمعنى ان يكون المرض الذي أصاب العامل المؤمن عليه لاحقا على اشتراكه في نظام التأمينات الاجتماعية , أما إذا أصيب العامل بالمرض قبل اشتراكه أساسً في نظام التأمينات الاجتماعية فانه لا يعتبر مرضاً مهنياً.​</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رابعاً : </a:t>
            </a:r>
            <a:r>
              <a:rPr b="0" lang="ar-SA" sz="2400" spc="-1" strike="noStrike">
                <a:solidFill>
                  <a:srgbClr val="000000"/>
                </a:solidFill>
                <a:latin typeface="Constantia"/>
              </a:rPr>
              <a:t>أن يظهر المرض خلال مدة معينة حتى يتم اعتباره مرضاً مهنياً :​</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جب أن تظهر أعراض المرض خلال فترة آدا العامل للمهنة المعينة الواردة بالجدول , أو خلال أقصى مدة يجب أن تظهر خلالها أعراض المرض بعد تاريخ توقف العامل عن العمل ويعني ذلك أنه اذا توقف العامل عن العمل ثم ظهرت عليه أعراض المرض بعد مرور مدة طويلة تتجاوز المدة القصوى لإمكان ظهور أعراض المرض , فلا يعد المرض مرضاً مهنياً في هذه الحالة.​</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700280"/>
            <a:ext cx="8229600" cy="4425840"/>
          </a:xfrm>
          <a:prstGeom prst="rect">
            <a:avLst/>
          </a:prstGeom>
          <a:noFill/>
          <a:ln w="0">
            <a:noFill/>
          </a:ln>
        </p:spPr>
        <p:txBody>
          <a:bodyPr lIns="90000" rIns="90000" tIns="46800" bIns="46800" anchor="t">
            <a:norm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اعداد الطالبات</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ديمه الحقان</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أسماء العبيسي</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صالحه حدادي</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مي العتيبي </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يارا الحارثي </a:t>
            </a: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704880"/>
            <a:ext cx="8218440" cy="85248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الأخطار المهنية</a:t>
            </a:r>
            <a:endParaRPr b="0" lang="en-US" sz="3600" spc="-1" strike="noStrike">
              <a:solidFill>
                <a:srgbClr val="04617b"/>
              </a:solidFill>
              <a:latin typeface="Calibri"/>
            </a:endParaRPr>
          </a:p>
        </p:txBody>
      </p:sp>
      <p:sp>
        <p:nvSpPr>
          <p:cNvPr id="200" name=""/>
          <p:cNvSpPr txBox="1"/>
          <p:nvPr/>
        </p:nvSpPr>
        <p:spPr>
          <a:xfrm>
            <a:off x="457200" y="1700280"/>
            <a:ext cx="8229600" cy="4425840"/>
          </a:xfrm>
          <a:prstGeom prst="rect">
            <a:avLst/>
          </a:prstGeom>
          <a:noFill/>
          <a:ln w="0">
            <a:noFill/>
          </a:ln>
        </p:spPr>
        <p:txBody>
          <a:bodyPr lIns="90000" rIns="90000" tIns="46800" bIns="46800" anchor="t">
            <a:normAutofit fontScale="91000"/>
          </a:bodyPr>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الأخطار المهنية : </a:t>
            </a: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تمثل الأخطار المهنية في الإصابات التي قد تحدث للعامل بسبب ممارسته لمهنته قد يتعرض العامل اثناء ممارسته لعمله لأحد حوادث العمل أو حادث من حوادث الطرق أثناء ذهابه إلى مكان العمل أو عودته منه</a:t>
            </a: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عريف إصابة العمل :</a:t>
            </a:r>
            <a:endParaRPr b="0" lang="en-US" sz="2400" spc="-1" strike="noStrike">
              <a:solidFill>
                <a:srgbClr val="000000"/>
              </a:solidFill>
              <a:latin typeface="Constantia"/>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تعد إصابة عمل كل حادث يقع للمشترك أثناء طريقه من مسكنه إلى محل عمله والعكس أو أثناء طريقة من محل عمله إلى مكان الذي يتناول فيه عادة طعامه والحوادث التي تحدث أثناء تنقلات المشترك التي يقوم بها بقصد أداء مهمة كلفه بها صاحب العمل</a:t>
            </a:r>
            <a:endParaRPr b="0" lang="en-US" sz="2400" spc="-1" strike="noStrike">
              <a:solidFill>
                <a:srgbClr val="000000"/>
              </a:solidFill>
              <a:latin typeface="Constantia"/>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تعد إصابة عمل المرض التي يثبت أن سببها العمل كما تعد بالوصف ذاته الأمراض المهنية المحددة وفق الأصول المنصوص عليها</a:t>
            </a: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80640"/>
            <a:ext cx="8229600" cy="36036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حوادث العمل</a:t>
            </a:r>
            <a:endParaRPr b="0" lang="en-US" sz="4500" spc="-1" strike="noStrike">
              <a:solidFill>
                <a:srgbClr val="04617b"/>
              </a:solidFill>
              <a:latin typeface="Calibri"/>
            </a:endParaRPr>
          </a:p>
        </p:txBody>
      </p:sp>
      <p:sp>
        <p:nvSpPr>
          <p:cNvPr id="202" name=""/>
          <p:cNvSpPr txBox="1"/>
          <p:nvPr/>
        </p:nvSpPr>
        <p:spPr>
          <a:xfrm>
            <a:off x="457200" y="1268280"/>
            <a:ext cx="8229600" cy="4857840"/>
          </a:xfrm>
          <a:prstGeom prst="rect">
            <a:avLst/>
          </a:prstGeom>
          <a:noFill/>
          <a:ln w="0">
            <a:noFill/>
          </a:ln>
        </p:spPr>
        <p:txBody>
          <a:bodyPr lIns="90000" rIns="90000" tIns="46800" bIns="46800" anchor="t">
            <a:normAutofit fontScale="86000"/>
          </a:bodyPr>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ريف حوادث العمل : بأنها كل حادث يقع اثناء تأدية العمل أو بسببه</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استنادا لنص المادة </a:t>
            </a:r>
            <a:r>
              <a:rPr b="0" lang="ar-SA" sz="2600" spc="-1" strike="noStrike">
                <a:solidFill>
                  <a:srgbClr val="000000"/>
                </a:solidFill>
                <a:latin typeface="Constantia"/>
              </a:rPr>
              <a:t>27</a:t>
            </a:r>
            <a:r>
              <a:rPr b="0" lang="ar-SA" sz="2600" spc="-1" strike="noStrike">
                <a:solidFill>
                  <a:srgbClr val="000000"/>
                </a:solidFill>
                <a:latin typeface="Constantia"/>
              </a:rPr>
              <a:t> من نظام التأمينات الاجتماعية يمكن تحديدها بأنها كل حادث يقع للمشترك أثناء العمل أو يقع له بسبب العمل ويقع بنفس الوصف كل حادث يقع أثناء طريقه الى محل عمله الى المكان الذي يتناول فيه عادة طعامه وتعد بذات الوصف الحوادث التي تحدث أثناء تنقلات المشترك التي يقوم بها بقصد اداء مهمه كلفه صاحب العمل الإصابة التي تنتج عن حادث أثناء تأدية العمل أو بسببه</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ضح مما سبق أن الإصابة التي تحدث للعامل تعتبر ناشئة عن حادث العمل في مفهوم نظام التأمينات الاجتماعية السعودي في حالتين:</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إصابة الناتجة عن حوادث العمل</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إصابة الناتجة عن حوادث عن طريق العمل</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الإصابة الناتجة عن حوادث العمل:​</a:t>
            </a:r>
            <a:endParaRPr b="0" lang="en-US" sz="4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ريف الحادث: أمر فجائي عارض يترتب عليه تغيير الأوضاع الموجودة قبل حدوثه.​</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دث العمل: هو كل ما يمس جسن الإنسان ويحدث به ضررا جسمانيا، ويكون ذو أصل خارجي ويتسم بالفاجأ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عناصر حادث العمل:​</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أن يمس بجسم الإنسا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أن تكون الإصابة نتيجة قوة خارج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يجب أن يكون الحادث مفاجئ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أن يكون هذا العمل عنيف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1</a:t>
            </a:r>
            <a:r>
              <a:rPr b="0" lang="ar-SA" sz="5000" spc="-1" strike="noStrike">
                <a:solidFill>
                  <a:srgbClr val="04617b"/>
                </a:solidFill>
                <a:latin typeface="Calibri"/>
              </a:rPr>
              <a:t>- أن يمس الحادث بجسم الإنسان: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89000"/>
          </a:bodyPr>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جب أن يمس الحادث بجسم الإنسان، ويستوي في ذلك أن يكون هذا المساس خارجيا أم داخليا، عميقا أم سطحيا، ظاهرا، أم خفيا، عضويا أم نفسيا. ​</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ذهب بعض الفقه إلى أن ما يلحق بالأجهزة التعويضية بجسم العامل، والتي تعتبر جزء لا يتجزأ من جسمه إلى أنه يعتبر من قبيل حوادث العمل.​</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عتبر حادثا ما يصيب العامل في ماله أو سمعته أو شرفه، ولا يعوض عنها العامل على أساس حوادث العمل بقانون التأمين الاجتماعي، بل على أساس القواعد العامة في المسئولية المدنية.​</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2</a:t>
            </a:r>
            <a:r>
              <a:rPr b="0" lang="ar-SA" sz="5000" spc="-1" strike="noStrike">
                <a:solidFill>
                  <a:srgbClr val="04617b"/>
                </a:solidFill>
                <a:latin typeface="Calibri"/>
              </a:rPr>
              <a:t>- أن تكون الإصابة نتيجة قوة خارجية:​</a:t>
            </a:r>
            <a:endParaRPr b="0" lang="en-US" sz="5000" spc="-1" strike="noStrike">
              <a:solidFill>
                <a:srgbClr val="04617b"/>
              </a:solidFill>
              <a:latin typeface="Calibri"/>
            </a:endParaRPr>
          </a:p>
        </p:txBody>
      </p:sp>
      <p:sp>
        <p:nvSpPr>
          <p:cNvPr id="210" name=""/>
          <p:cNvSpPr txBox="1"/>
          <p:nvPr/>
        </p:nvSpPr>
        <p:spPr>
          <a:xfrm>
            <a:off x="457200" y="2060640"/>
            <a:ext cx="8229600" cy="426384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ني ذلك بأن يكون السبب المباشر للحادث الذي افضى إلى الإصابة ناتج عن مؤثرات خارجية عن جسم الانسان وليس من داخله.​</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شترط أن تكون القوة الخارجية مادية، بل يمكن أن تكون معنوية أيض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3</a:t>
            </a:r>
            <a:r>
              <a:rPr b="0" lang="ar-SA" sz="5000" spc="-1" strike="noStrike">
                <a:solidFill>
                  <a:srgbClr val="04617b"/>
                </a:solidFill>
                <a:latin typeface="Calibri"/>
              </a:rPr>
              <a:t>- يجب أن يكون الحادث مفاجئا:​</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يتعين أن يكون الفعل الذي قد تسبب بوقوع الحادث قد حدث بشكل مفاجئ.​</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شترط في الفعل أن يكون مباغتا، أي في وقت محدد لا يفصل بين بدايته ونهايته أي فاصل زمني.​</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شترط أن يكون الفعل الفجائي ايجابيا، فقد يتحقق ذلك بالامتناع أو الترك، كعدم توصيل غاز الاكسجين لعمال المناجم.​</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6T19:28:24Z</dcterms:created>
  <dc:creator>USER11</dc:creator>
  <dc:description/>
  <dc:language>en-US</dc:language>
  <cp:lastModifiedBy>eman</cp:lastModifiedBy>
  <dcterms:modified xsi:type="dcterms:W3CDTF">2016-10-09T00:13:23Z</dcterms:modified>
  <cp:revision>11</cp:revision>
  <dc:subject/>
  <dc:title>فروع التأمينات الاجتماعية</dc:title>
</cp:coreProperties>
</file>