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A91-07B2-49F9-9E16-96D9119E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AC0-78DF-4D5F-AEF3-74A23A8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535-1A09-4AA6-8EA4-14D28C4C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54E-B444-49A8-8F5F-8DE40A7E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524-7D09-4673-A01A-8232787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60F-8444-4C66-8FE7-12F29EA4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F11-9B50-45BC-83D6-F167FB72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026-C51C-484E-A2D1-2C70FF6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E9D-0072-4B05-9305-2C7C840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CDA-8450-42D9-A30C-5F8A1EB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F83-010B-499A-AD80-F07FFDC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8BD-EC91-462B-8DB1-66E29EB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BE8-042F-4FCF-AF69-A9DD907F46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تظهير التوكي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اهية التظهير التوكي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بيان يكتب على ظهر الكمبياله يقصد به المٌظهر توكيل المظهر اليه و تبدو فائدة هذا التظهير اذا كان موطن المسحوب عليه أو الموطن المختار للوفاء بها في مكان بعيد عن موطن الحامل أو في دوله أ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شروط التظهير التوكيلي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ولاً: الشروط الموضوعي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الرضا-المحل-السبب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ثانياً: الشروط الشكلي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يكتب التظهير على الورقه المتصله بها ,و عبارة (القيمه للتحصيل)أو (القيمه للقبض) أو(بالتوكيل) أو أي عباره مماثله تفيد التوكيل في تحصييل الكمبيال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آثار التظهير التوكي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آثار في العلاقه بين المظهر و المظهر ب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حامل الكمبياله صلاحيه مباشره جميع الحقوق الناشئه عن الكمبيال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آثاره في علاقه المظهر و المظهر اليه مع الغ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عدم تظهير الكمبياله من الدفو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ظرا لأن المظهر اليه يطالب بقيمة الكمبياله بصفته وكيلا عن المظهر فإنه يجوز له القيام بكافة الاعمال و اتخاذ كافة الاجراء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تظهير التأمي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ماهية التظهير التأميني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هو بيان يكتب على ظهر الكمبياله يقصد نقل حيازتها من المظهر الى المظهر اليه ضمان لدين معي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شروط التظهير التأميني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أولاً: الشروط الموضوعيه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جب أن يكون المظهر كامل أهليه و أن يصدر التظهير عن رضا سليم من المظهر وأن يكون لهذا الالتزام سبباً مشروعاً و محلاً ومشروعاً ايضا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الشروط الشكليه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شترط أن يكتب التظهير على الكمبياله عبارة (القيمه للضمان)أو(القيمه رهن)أو أي عباره مماثله تقييد الره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كأن يكتفى بالتوقيع  فقط فإنه يعتبر تظهير ناقلاً للملكيه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آثار التظهير التأمين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آثاره في علاقة المظهر بالمظهر اليه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لايترتب على التظهير التأميني انتقال الملكيه ولذلك حظرت الماده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سالفة الذكر أن يعيد تظهير الكمبياله تظهيراً ناقلاً للملكيه ولا تظهيرىً تأمينياً ولكنها أجازت له أن يظهرها تظهيرا توكيليا فقط بغرض تحصيل قيمته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بموجب هذا التظهير تنتقل حيازة الكمبياله الى المظهر اليه وتعتبر يده يد امينه , ومن ثم يلتزم بإتخاذ كافة الاجراءات اللازمه للمحافظه على الحق الثابت في الكمبياله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آثاره في علاقة المظهر اليه بالغير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رغم ان التظهير التأميني لاينقل ملكية الكمبياله إلى المظهر اليه في علاقه بالمظهر, إلا انه في علاقة المظهر اليه مع الغير يعتبر في حكم التظهير الناقل للملكيه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07:58:18Z</dcterms:created>
  <dc:creator>seven</dc:creator>
  <dc:description/>
  <dc:language>en-US</dc:language>
  <cp:lastModifiedBy>eman</cp:lastModifiedBy>
  <dcterms:modified xsi:type="dcterms:W3CDTF">2016-10-01T20:05:44Z</dcterms:modified>
  <cp:revision>1</cp:revision>
  <dc:subject/>
  <dc:title>التظهير التوكيلي</dc:title>
</cp:coreProperties>
</file>