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2A5-B97F-4EA0-A0B8-876C3861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576-42B8-4CB1-9750-08703B4D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B5D-640A-48B4-B977-A1C55622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009-63C8-47E4-B275-FCD68F56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D12-7B0F-41B5-9AFB-97EAD1BC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CDD-77EB-47BA-BE5D-60A2F3A6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99C-134C-4103-A6BF-93D80A2E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A9D-A89F-44E5-813B-00110CE9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86E-F43F-4B24-A3F0-7088D28E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7F5-F355-4EBF-B526-0E7A173C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E9C-39C8-476B-B0A1-F61B6493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159-6420-4958-9A77-86FA40DC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7407-1BA1-4C75-BA51-03CAAAC693F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تظهير التوكيل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اهية التظهير التوكيلي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و بيان يكتب على ظهر الكمبياله يقصد به المٌظهر توكيل المظهر اليه و تبدو فائدة هذا التظهير اذا كان موطن المسحوب عليه أو الموطن المختار للوفاء بها في مكان بعيد عن موطن الحامل أو في دوله أخرى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شروط التظهير التوكيلي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أولاً: الشروط الموضوعيه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الرضا-المحل-السبب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ثانياً: الشروط الشكليه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جب أن يكتب التظهير على الورقه المتصله بها ,و عبارة (القيمه للتحصيل)أو (القيمه للقبض) أو(بالتوكيل) أو أي عباره مماثله تفيد التوكيل في تحصييل الكمبيال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آثار التظهير التوكيل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آثار في العلاقه بين المظهر و المظهر ب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حامل الكمبياله صلاحيه مباشره جميع الحقوق الناشئه عن الكمبيال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آثاره في علاقه المظهر و المظهر اليه مع الغير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عدم تظهير الكمبياله من الدفو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نظرا لأن المظهر اليه يطالب بقيمة الكمبياله بصفته وكيلا عن المظهر فإنه يجوز له القيام بكافة الاعمال و اتخاذ كافة الاجراء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تظهير التأمين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</a:rPr>
              <a:t>ماهية التظهير التأميني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</a:rPr>
              <a:t>هو بيان يكتب على ظهر الكمبياله يقصد نقل حيازتها من المظهر الى المظهر اليه ضمان لدين معين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</a:rPr>
              <a:t>شروط التظهير التأميني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</a:rPr>
              <a:t>أولاً: الشروط الموضوعيه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</a:rPr>
              <a:t>يجب أن يكون المظهر كامل أهليه و أن يصدر التظهير عن رضا سليم من المظهر وأن يكون لهذا الالتزام سبباً مشروعاً و محلاً ومشروعاً ايضا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Calibri"/>
              </a:rPr>
              <a:t>الشروط الشكليه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</a:rPr>
              <a:t>يشترط أن يكتب التظهير على الكمبياله عبارة (القيمه للضمان)أو(القيمه رهن)أو أي عباره مماثله تقييد الرهن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</a:rPr>
              <a:t>كأن يكتفى بالتوقيع  فقط فإنه يعتبر تظهير ناقلاً للملكيه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آثار التظهير التأمين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آثاره في علاقة المظهر بالمظهر اليه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لايترتب على التظهير التأميني انتقال الملكيه ولذلك حظرت الماده (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19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) سالفة الذكر أن يعيد تظهير الكمبياله تظهيراً ناقلاً للملكيه ولا تظهيرىً تأمينياً ولكنها أجازت له أن يظهرها تظهيرا توكيليا فقط بغرض تحصيل قيمتها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وبموجب هذا التظهير تنتقل حيازة الكمبياله الى المظهر اليه وتعتبر يده يد امينه , ومن ثم يلتزم بإتخاذ كافة الاجراءات اللازمه للمحافظه على الحق الثابت في الكمبياله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آثاره في علاقة المظهر اليه بالغير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رغم ان التظهير التأميني لاينقل ملكية الكمبياله إلى المظهر اليه في علاقه بالمظهر, إلا انه في علاقة المظهر اليه مع الغير يعتبر في حكم التظهير الناقل للملكيه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1T07:58:18Z</dcterms:created>
  <dc:creator>seven</dc:creator>
  <dc:description/>
  <dc:language>en-US</dc:language>
  <cp:lastModifiedBy>eman</cp:lastModifiedBy>
  <dcterms:modified xsi:type="dcterms:W3CDTF">2016-10-01T20:05:44Z</dcterms:modified>
  <cp:revision>1</cp:revision>
  <dc:subject/>
  <dc:title>التظهير التوكيلي</dc:title>
</cp:coreProperties>
</file>