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DB58-43F0-46D6-9774-03444850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4D53-519F-4CE7-982A-227A39EC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EF6-0E11-4AE3-B602-7CF1DEAB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4670-9828-48E4-8629-BC9D2EDE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986E-7BBA-4329-8E56-AB602022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A7E9-A124-4CE9-97EB-13E90BB7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A43D-37E7-412B-A80C-BDB06273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BFAE-9D25-4C06-AEA5-3ED1D96D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F3B7-317D-436D-846D-FC14133C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0F04-EBAA-4610-A6CC-90221597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D894-CC6B-4BCB-817D-FAF11075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3114-91FF-48CB-8910-97360510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7DAF-0E5B-4239-8E69-8D707C8E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A5B3-945E-45B6-BAD3-079C7631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32DF-3332-4A7E-A2A0-6C065D26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EDFA-F226-48D0-AE8D-F234790D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6ECD-BEB2-48C0-BF01-BA6D19B5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B6317C-90CB-4327-BC48-1C97E916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D9811-9E88-4A0B-BB17-992F626F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6CA86-C94C-4784-A464-587DAE50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5E95E-8E0B-4F1C-A065-BBFD6D03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F7E56-22FD-4169-9B05-C269CD81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5955-6296-4F61-8CA2-F7CB6A8B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828A2-58D8-430B-883D-AF0448E0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6FC35-3BA3-469C-9094-207B5923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6C3DE-CA3D-4C47-AC14-3B5D0E09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B0E9C-6AC3-43E1-BBA0-0A01D6D5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C22A0-33E0-4A34-ADBD-E63762AE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60E80-A33A-437F-B6E9-0F80BA75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A02AB-A705-4F22-9420-FD3235B9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65EDC-7AA9-4C7C-AF6B-1D258FD9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839F8-9BCB-42BA-8428-4D08DFA1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A060F-DF5A-4A53-A94D-FB555B3B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6E69-DB5C-465E-920B-60D7F5D4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7FCE7-3586-4243-A1EB-96280B8F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17AB0-3EE7-4EE7-9C3D-8781D7F9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5C5F5-B08C-4850-8D83-227C225C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42C75-759A-4A14-A8A8-31CF0CB3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A836E-85ED-4A71-AE7C-D79620FC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C6A7D-49A6-4E3C-A480-19394739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1C2C9-2F96-4185-8D52-F108B6EF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A6A1F-58BF-475B-9227-9AC8E34B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4EB5B-BCC0-42B2-92D8-31D149E0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D145-2E09-4829-9577-F825E38C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A35-1F88-47F9-BC6D-A7156988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12C-BB46-4F97-879B-15160883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6200-3BE8-4AB1-8500-CF96CE99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1594-D7CE-42FE-A21C-FE5362A8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B710-6993-4601-A77C-974DDB62DAB7}" type="slidenum">
              <a:rPr b="0" lang="ar-SA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ستطيل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ستطيل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ستطيل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ستطيل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ستطيل مستدير الزوايا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ستطيل مستدير الزوايا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ستطيل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مستطيل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ستطيل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ستطيل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4707-4171-4126-8028-56E3A9427081}" type="slidenum">
              <a:rPr b="0" lang="ar-SA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845F-F894-4D3B-A7B4-09751399CA86}" type="slidenum">
              <a:rPr b="0" lang="ar-SA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EAEB-3727-4E30-8AC1-F7A07E176CB9}" type="slidenum">
              <a:rPr b="0" lang="ar-SA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مستطيل 1" descr=""/>
          <p:cNvPicPr/>
          <p:nvPr/>
        </p:nvPicPr>
        <p:blipFill>
          <a:blip r:embed="rId1"/>
          <a:stretch/>
        </p:blipFill>
        <p:spPr>
          <a:xfrm>
            <a:off x="317520" y="1139760"/>
            <a:ext cx="8508960" cy="1968480"/>
          </a:xfrm>
          <a:prstGeom prst="rect">
            <a:avLst/>
          </a:prstGeom>
          <a:ln w="0">
            <a:noFill/>
          </a:ln>
        </p:spPr>
      </p:pic>
      <p:pic>
        <p:nvPicPr>
          <p:cNvPr id="215" name="مستطيل 4" descr=""/>
          <p:cNvPicPr/>
          <p:nvPr/>
        </p:nvPicPr>
        <p:blipFill>
          <a:blip r:embed="rId2"/>
          <a:stretch/>
        </p:blipFill>
        <p:spPr>
          <a:xfrm>
            <a:off x="768240" y="3906720"/>
            <a:ext cx="821052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مستطيل 1" descr=""/>
          <p:cNvPicPr/>
          <p:nvPr/>
        </p:nvPicPr>
        <p:blipFill>
          <a:blip r:embed="rId1"/>
          <a:stretch/>
        </p:blipFill>
        <p:spPr>
          <a:xfrm>
            <a:off x="79200" y="420840"/>
            <a:ext cx="8985600" cy="68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مستطيل 1" descr=""/>
          <p:cNvPicPr/>
          <p:nvPr/>
        </p:nvPicPr>
        <p:blipFill>
          <a:blip r:embed="rId1"/>
          <a:stretch/>
        </p:blipFill>
        <p:spPr>
          <a:xfrm>
            <a:off x="171360" y="822240"/>
            <a:ext cx="8985240" cy="2543400"/>
          </a:xfrm>
          <a:prstGeom prst="rect">
            <a:avLst/>
          </a:prstGeom>
          <a:ln w="0">
            <a:noFill/>
          </a:ln>
        </p:spPr>
      </p:pic>
      <p:pic>
        <p:nvPicPr>
          <p:cNvPr id="218" name="مستطيل 2" descr=""/>
          <p:cNvPicPr/>
          <p:nvPr/>
        </p:nvPicPr>
        <p:blipFill>
          <a:blip r:embed="rId2"/>
          <a:stretch/>
        </p:blipFill>
        <p:spPr>
          <a:xfrm>
            <a:off x="-55440" y="2889360"/>
            <a:ext cx="92120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مستطيل 1" descr=""/>
          <p:cNvPicPr/>
          <p:nvPr/>
        </p:nvPicPr>
        <p:blipFill>
          <a:blip r:embed="rId1"/>
          <a:stretch/>
        </p:blipFill>
        <p:spPr>
          <a:xfrm>
            <a:off x="-165240" y="450720"/>
            <a:ext cx="9296640" cy="758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مستطيل 1" descr=""/>
          <p:cNvPicPr/>
          <p:nvPr/>
        </p:nvPicPr>
        <p:blipFill>
          <a:blip r:embed="rId1"/>
          <a:stretch/>
        </p:blipFill>
        <p:spPr>
          <a:xfrm>
            <a:off x="-212760" y="444600"/>
            <a:ext cx="9369360" cy="74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مربع نص 1"/>
          <p:cNvSpPr/>
          <p:nvPr/>
        </p:nvSpPr>
        <p:spPr>
          <a:xfrm>
            <a:off x="0" y="549360"/>
            <a:ext cx="9144000" cy="8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26064"/>
                </a:solidFill>
                <a:latin typeface="Georgia"/>
              </a:rPr>
              <a:t>مشارطة الإيجار لمدة محددة</a:t>
            </a:r>
            <a:r>
              <a:rPr b="0" lang="ar-SA" sz="1800" spc="-1" strike="noStrike">
                <a:solidFill>
                  <a:srgbClr val="326064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ربع نص 2"/>
          <p:cNvSpPr/>
          <p:nvPr/>
        </p:nvSpPr>
        <p:spPr>
          <a:xfrm>
            <a:off x="0" y="1268280"/>
            <a:ext cx="9144000" cy="78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26064"/>
                </a:solidFill>
                <a:latin typeface="Georgia"/>
              </a:rPr>
              <a:t>يرد العقد على السفينة كلها مجهزة, فهو عقد ايجار اشياء مع ايجار خدمات , أهم صور نماذج هذا العقد هي مشارطة بلتايم الموضوعة عام </a:t>
            </a:r>
            <a:r>
              <a:rPr b="1" lang="ar-SA" sz="2400" spc="-1" strike="noStrike">
                <a:solidFill>
                  <a:srgbClr val="326064"/>
                </a:solidFill>
                <a:latin typeface="Georgia"/>
              </a:rPr>
              <a:t>1993</a:t>
            </a:r>
            <a:r>
              <a:rPr b="1" lang="ar-SA" sz="2400" spc="-1" strike="noStrike">
                <a:solidFill>
                  <a:srgbClr val="326064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Georgia"/>
              </a:rPr>
              <a:t>-- في هذا العقد تظل الادارة الفنيه الملاحيه للمؤجر </a:t>
            </a:r>
            <a:r>
              <a:rPr b="1" lang="ar-SA" sz="2400" spc="-1" strike="noStrike">
                <a:solidFill>
                  <a:srgbClr val="326064"/>
                </a:solidFill>
                <a:latin typeface="Georg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Georgia"/>
              </a:rPr>
              <a:t>-- أما الاستغلال التجاري فيكون للمستأج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Georgia"/>
              </a:rPr>
              <a:t>--  و من ثم يكون الربان تابعا للمستأجر فيما يتعلق بالجانب التجاري من وظيفته رغم انتقال الادارة التجاريه للسفينة الى المستأجر و تبعية ربانها له في هذه الاداره </a:t>
            </a:r>
            <a:r>
              <a:rPr b="1" lang="ar-SA" sz="2400" spc="-1" strike="noStrike">
                <a:solidFill>
                  <a:srgbClr val="326064"/>
                </a:solidFill>
                <a:latin typeface="Georg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26064"/>
                </a:solidFill>
                <a:latin typeface="Georgia"/>
              </a:rPr>
              <a:t>-- فإن مسؤولية المالك المؤجر لا تنتفي </a:t>
            </a:r>
            <a:r>
              <a:rPr b="1" lang="ar-SA" sz="2400" spc="-1" strike="noStrike" u="sng">
                <a:solidFill>
                  <a:srgbClr val="0070c0"/>
                </a:solidFill>
                <a:uFillTx/>
                <a:latin typeface="Georgia"/>
              </a:rPr>
              <a:t>الا</a:t>
            </a:r>
            <a:r>
              <a:rPr b="1" lang="ar-SA" sz="2400" spc="-1" strike="noStrike">
                <a:solidFill>
                  <a:srgbClr val="326064"/>
                </a:solidFill>
                <a:latin typeface="Georgia"/>
              </a:rPr>
              <a:t> اذا </a:t>
            </a:r>
            <a:r>
              <a:rPr b="1" lang="ar-SA" sz="2400" spc="-1" strike="noStrike">
                <a:solidFill>
                  <a:srgbClr val="00b050"/>
                </a:solidFill>
                <a:latin typeface="Georgia"/>
              </a:rPr>
              <a:t>كان المتعاقد مع الربان يعلم بهذا التأجير </a:t>
            </a:r>
            <a:r>
              <a:rPr b="1" lang="ar-SA" sz="2400" spc="-1" strike="noStrike">
                <a:solidFill>
                  <a:srgbClr val="7030a0"/>
                </a:solidFill>
                <a:latin typeface="Georgia"/>
              </a:rPr>
              <a:t>او كان عليه أن يعلم به </a:t>
            </a:r>
            <a:r>
              <a:rPr b="1" lang="ar-SA" sz="2400" spc="-1" strike="noStrike">
                <a:solidFill>
                  <a:srgbClr val="ff0000"/>
                </a:solidFill>
                <a:latin typeface="Georgia"/>
              </a:rPr>
              <a:t>أو منح انتمائه للمستأجر رغم جهله صفته</a:t>
            </a:r>
            <a:r>
              <a:rPr b="1" lang="ar-SA" sz="2400" spc="-1" strike="noStrike">
                <a:solidFill>
                  <a:srgbClr val="326064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326064"/>
                </a:solidFill>
                <a:uFillTx/>
                <a:latin typeface="Georgia"/>
              </a:rPr>
              <a:t>أولاً: التزامات المؤجر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Georgia"/>
              </a:rPr>
              <a:t>وضع السفينة تحت تصرف المستأجر في الزمان و المكان المتفق عليهم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70c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Georgia"/>
              </a:rPr>
              <a:t>أن تكون السفينة صالحة للملاحة خلال المده المحدده في العق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7030a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030a0"/>
                </a:solidFill>
                <a:latin typeface="Georgia"/>
              </a:rPr>
              <a:t>ان يقدم نفس السفينة المبنية في المشارطه فان قدم سفينة اصغر يحق للمستأجر </a:t>
            </a:r>
            <a:r>
              <a:rPr b="1" lang="ar-SA" sz="2400" spc="-1" strike="noStrike">
                <a:solidFill>
                  <a:srgbClr val="00b050"/>
                </a:solidFill>
                <a:latin typeface="Georgia"/>
              </a:rPr>
              <a:t>طلب انقاص الاجرة بنسبة نقص الحمولة والتعويض عما يلحقه من ضر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مربع نص 1"/>
          <p:cNvSpPr/>
          <p:nvPr/>
        </p:nvSpPr>
        <p:spPr>
          <a:xfrm>
            <a:off x="0" y="1052640"/>
            <a:ext cx="8820000" cy="64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326064"/>
                </a:solidFill>
                <a:uFillTx/>
                <a:latin typeface="Georgia"/>
              </a:rPr>
              <a:t>ثانياً: التزامات المستأجر</a:t>
            </a:r>
            <a:r>
              <a:rPr b="1" lang="ar-SA" sz="32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b05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Georgia"/>
              </a:rPr>
              <a:t>دفع الاجرة المحدده في المشارطة وتحمل نفقات الاستغلال التجار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Georgia"/>
              </a:rPr>
              <a:t>استعمال السفينة في الغرض المتفق علي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70c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Georgia"/>
              </a:rPr>
              <a:t>تسليمها نهاية المده بالحالة التي كانت عليها, في الميناء الذي يتفق على تسليم السفينة في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7030a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Georgia"/>
              </a:rPr>
              <a:t>دفع الاجور للبحارة عن الاعمال الاضافية التي يطلب منهم القيام ب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b05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Georgia"/>
              </a:rPr>
              <a:t>يسأل عن عقود النقل التي يبرمها اذ ان له الادارة التجاريه للسفين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b05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1T17:53:31Z</dcterms:created>
  <dc:creator>1</dc:creator>
  <dc:description/>
  <dc:language>en-US</dc:language>
  <cp:lastModifiedBy>eman</cp:lastModifiedBy>
  <dcterms:modified xsi:type="dcterms:W3CDTF">2016-11-21T20:18:44Z</dcterms:modified>
  <cp:revision>20</cp:revision>
  <dc:subject/>
  <dc:title>الشريحة 1</dc:title>
</cp:coreProperties>
</file>