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D1B-70E5-4DA1-824A-F695B17A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29F-B934-4032-A941-4E8ED51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5FC-A142-4792-B004-31DE57CE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597-D71C-41CB-8500-736FACFE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738-B2F4-4AD0-AA0E-14D75A2D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382-3B56-433C-82FF-000CE0C4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A71-8356-4499-B4AA-DA7A35EC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B49-E3C4-425C-AB19-93E4B19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962D-8CD4-45F6-97B9-D40A11A7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0FA-EE62-424D-9508-69369CB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F2A1-3FFA-40D6-9710-9DEA770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432-3C9E-43B7-A506-7A53BD0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67A-6869-4EDA-9A04-8E28F0B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63D-8325-4EC1-B6E3-732C050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3109-52F8-4406-8D72-E1CBF68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73BB-A047-46B2-A589-B5377871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336-D5A7-4BF7-9FFA-C1785124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ADCD3-D84B-47AF-8275-7355117F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94FC9-B0D6-43F3-9E00-F1FFE89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F509C-9669-4893-8A0E-2C96745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A891E-43DD-473F-8122-680D516A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3CB04-D7B4-41ED-B5A0-1303D98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BE7-F2DA-4B16-8AC3-55CB79B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BEF81-D9AA-404B-B28B-051451A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3A15B-7659-4A6D-B299-02A44B6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06CDD-8FD7-4A3D-A965-C1D3AE9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21138-5C1E-499E-AF76-B46188A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ACE35-71D1-4632-ADD9-31B3C9CF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42F0A-3EA1-4DCB-A4B6-FEDAFC3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B07A8-9482-432F-AFD0-365CD6D3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580F-CA56-4256-9052-1BAB3261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A9CD-4C89-4917-9249-7632349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608D-77FB-44E8-A3AD-7C788B16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F32-CB34-42BB-8E76-2222794D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162E-F25C-489F-A321-00D6E71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930D-6E6A-4216-8BBA-6ABEE2A3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AF49-E5C9-47E9-A2F4-CF6E0FF9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50F1-4CD8-4145-AF51-F9339CA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CABF-4623-4C1D-8C58-483ADF7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CC72-EC04-49BE-94B9-4A821BC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1F10-9FFD-4DBA-9F65-B84DF14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05ED-A306-438F-814F-6251BE0B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3DA9-8BEC-407F-B689-21B331C4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AE2-63B2-436E-B76D-0336EC4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6D9-4977-4AAC-99A0-53AD0B7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109-6FD7-4831-8D84-42EC0D4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328-A1AA-4B65-9A23-625CADDB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D50-0A64-4091-A7B0-49F4FC6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98B-6F17-490C-B5FC-9B8A97526906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2FC-97CF-4EF5-B8B0-8CBAF0FF1341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088-DE46-4578-B47D-FFCA068FFCEE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55C-5F56-4394-8CBF-9110B66365E0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مستطيل 1" descr=""/>
          <p:cNvPicPr/>
          <p:nvPr/>
        </p:nvPicPr>
        <p:blipFill>
          <a:blip r:embed="rId1"/>
          <a:stretch/>
        </p:blipFill>
        <p:spPr>
          <a:xfrm>
            <a:off x="317520" y="1139760"/>
            <a:ext cx="8508960" cy="1968480"/>
          </a:xfrm>
          <a:prstGeom prst="rect">
            <a:avLst/>
          </a:prstGeom>
          <a:ln w="0">
            <a:noFill/>
          </a:ln>
        </p:spPr>
      </p:pic>
      <p:pic>
        <p:nvPicPr>
          <p:cNvPr id="215" name="مستطيل 4" descr=""/>
          <p:cNvPicPr/>
          <p:nvPr/>
        </p:nvPicPr>
        <p:blipFill>
          <a:blip r:embed="rId2"/>
          <a:stretch/>
        </p:blipFill>
        <p:spPr>
          <a:xfrm>
            <a:off x="768240" y="3906720"/>
            <a:ext cx="82105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مستطيل 1" descr=""/>
          <p:cNvPicPr/>
          <p:nvPr/>
        </p:nvPicPr>
        <p:blipFill>
          <a:blip r:embed="rId1"/>
          <a:stretch/>
        </p:blipFill>
        <p:spPr>
          <a:xfrm>
            <a:off x="79200" y="420840"/>
            <a:ext cx="8985600" cy="68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مستطيل 1" descr=""/>
          <p:cNvPicPr/>
          <p:nvPr/>
        </p:nvPicPr>
        <p:blipFill>
          <a:blip r:embed="rId1"/>
          <a:stretch/>
        </p:blipFill>
        <p:spPr>
          <a:xfrm>
            <a:off x="171360" y="822240"/>
            <a:ext cx="8985240" cy="2543400"/>
          </a:xfrm>
          <a:prstGeom prst="rect">
            <a:avLst/>
          </a:prstGeom>
          <a:ln w="0">
            <a:noFill/>
          </a:ln>
        </p:spPr>
      </p:pic>
      <p:pic>
        <p:nvPicPr>
          <p:cNvPr id="218" name="مستطيل 2" descr=""/>
          <p:cNvPicPr/>
          <p:nvPr/>
        </p:nvPicPr>
        <p:blipFill>
          <a:blip r:embed="rId2"/>
          <a:stretch/>
        </p:blipFill>
        <p:spPr>
          <a:xfrm>
            <a:off x="-55440" y="2889360"/>
            <a:ext cx="92120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مستطيل 1" descr=""/>
          <p:cNvPicPr/>
          <p:nvPr/>
        </p:nvPicPr>
        <p:blipFill>
          <a:blip r:embed="rId1"/>
          <a:stretch/>
        </p:blipFill>
        <p:spPr>
          <a:xfrm>
            <a:off x="-165240" y="450720"/>
            <a:ext cx="9296640" cy="758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مستطيل 1" descr=""/>
          <p:cNvPicPr/>
          <p:nvPr/>
        </p:nvPicPr>
        <p:blipFill>
          <a:blip r:embed="rId1"/>
          <a:stretch/>
        </p:blipFill>
        <p:spPr>
          <a:xfrm>
            <a:off x="-212760" y="444600"/>
            <a:ext cx="9369360" cy="74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ربع نص 1"/>
          <p:cNvSpPr/>
          <p:nvPr/>
        </p:nvSpPr>
        <p:spPr>
          <a:xfrm>
            <a:off x="0" y="549360"/>
            <a:ext cx="91440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26064"/>
                </a:solidFill>
                <a:latin typeface="Georgia"/>
              </a:rPr>
              <a:t>مشارطة الإيجار لمدة محددة</a:t>
            </a:r>
            <a:r>
              <a:rPr b="0" lang="ar-SA" sz="1800" spc="-1" strike="noStrike">
                <a:solidFill>
                  <a:srgbClr val="32606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ربع نص 2"/>
          <p:cNvSpPr/>
          <p:nvPr/>
        </p:nvSpPr>
        <p:spPr>
          <a:xfrm>
            <a:off x="0" y="1268280"/>
            <a:ext cx="9144000" cy="78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يرد العقد على السفينة كلها مجهزة, فهو عقد ايجار اشياء مع ايجار خدمات , أهم صور نماذج هذا العقد هي مشارطة بلتايم الموضوعة عام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1993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eorgia"/>
              </a:rPr>
              <a:t>-- في هذا العقد تظل الادارة الفنيه الملاحيه للمؤجر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eorgia"/>
              </a:rPr>
              <a:t>-- أما الاستغلال التجاري فيكون للمستأج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eorgia"/>
              </a:rPr>
              <a:t>--  و من ثم يكون الربان تابعا للمستأجر فيما يتعلق بالجانب التجاري من وظيفته رغم انتقال الادارة التجاريه للسفينة الى المستأجر و تبعية ربانها له في هذه الاداره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-- فإن مسؤولية المالك المؤجر لا تنتفي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eorgia"/>
              </a:rPr>
              <a:t>الا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 اذا </a:t>
            </a:r>
            <a:r>
              <a:rPr b="1" lang="ar-SA" sz="2400" spc="-1" strike="noStrike">
                <a:solidFill>
                  <a:srgbClr val="00b050"/>
                </a:solidFill>
                <a:latin typeface="Georgia"/>
              </a:rPr>
              <a:t>كان المتعاقد مع الربان يعلم بهذا التأجير </a:t>
            </a:r>
            <a:r>
              <a:rPr b="1" lang="ar-SA" sz="2400" spc="-1" strike="noStrike">
                <a:solidFill>
                  <a:srgbClr val="7030a0"/>
                </a:solidFill>
                <a:latin typeface="Georgia"/>
              </a:rPr>
              <a:t>او كان عليه أن يعلم به </a:t>
            </a:r>
            <a:r>
              <a:rPr b="1" lang="ar-SA" sz="2400" spc="-1" strike="noStrike">
                <a:solidFill>
                  <a:srgbClr val="ff0000"/>
                </a:solidFill>
                <a:latin typeface="Georgia"/>
              </a:rPr>
              <a:t>أو منح انتمائه للمستأجر رغم جهله صفته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26064"/>
                </a:solidFill>
                <a:uFillTx/>
                <a:latin typeface="Georgia"/>
              </a:rPr>
              <a:t>أولاً: التزامات المؤجر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eorgia"/>
              </a:rPr>
              <a:t>وضع السفينة تحت تصرف المستأجر في الزمان و المكان المتفق علي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eorgia"/>
              </a:rPr>
              <a:t>أن تكون السفينة صالحة للملاحة خلال المده المحدده في العق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7030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Georgia"/>
              </a:rPr>
              <a:t>ان يقدم نفس السفينة المبنية في المشارطه فان قدم سفينة اصغر يحق للمستأجر </a:t>
            </a:r>
            <a:r>
              <a:rPr b="1" lang="ar-SA" sz="2400" spc="-1" strike="noStrike">
                <a:solidFill>
                  <a:srgbClr val="00b050"/>
                </a:solidFill>
                <a:latin typeface="Georgia"/>
              </a:rPr>
              <a:t>طلب انقاص الاجرة بنسبة نقص الحمولة والتعويض عما يلحقه من ضر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مربع نص 1"/>
          <p:cNvSpPr/>
          <p:nvPr/>
        </p:nvSpPr>
        <p:spPr>
          <a:xfrm>
            <a:off x="0" y="1052640"/>
            <a:ext cx="882000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26064"/>
                </a:solidFill>
                <a:uFillTx/>
                <a:latin typeface="Georgia"/>
              </a:rPr>
              <a:t>ثانياً: التزامات المستأجر</a:t>
            </a: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Georgia"/>
              </a:rPr>
              <a:t>دفع الاجرة المحدده في المشارطة وتحمل نفقات الاستغلال التجا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eorgia"/>
              </a:rPr>
              <a:t>استعمال السفينة في الغرض المتفق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Georgia"/>
              </a:rPr>
              <a:t>تسليمها نهاية المده بالحالة التي كانت عليها, في الميناء الذي يتفق على تسليم السفينة ف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7030a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Georgia"/>
              </a:rPr>
              <a:t>دفع الاجور للبحارة عن الاعمال الاضافية التي يطلب منهم القيام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Georgia"/>
              </a:rPr>
              <a:t>يسأل عن عقود النقل التي يبرمها اذ ان له الادارة التجاريه للسف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17:53:31Z</dcterms:created>
  <dc:creator>1</dc:creator>
  <dc:description/>
  <dc:language>en-US</dc:language>
  <cp:lastModifiedBy>eman</cp:lastModifiedBy>
  <dcterms:modified xsi:type="dcterms:W3CDTF">2016-11-21T20:18:44Z</dcterms:modified>
  <cp:revision>20</cp:revision>
  <dc:subject/>
  <dc:title>الشريحة 1</dc:title>
</cp:coreProperties>
</file>